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8FE-20F7-44B6-904E-AF9190E5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C12-4549-41E9-B3AF-6C8B5D39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432-DA72-4D02-B5F0-14D00337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0ED-B193-4187-B900-D8F396D7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F6D-76BB-43EF-8994-3818C0F5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B6D-17D8-4E79-819A-C3133EB2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D84-5718-455A-AA83-704203AE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ED7-7F51-4FBE-BF15-BF4566D3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327-9711-4AF3-978F-59A3BFAC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369-87FD-4BB8-BB2F-EAA7D60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FEA-32E7-4000-B3B7-438DD690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D2E-5776-437D-ADBE-580DDB4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34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AC71-2844-42B0-B34E-1C46F7E89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Open Source Code Managemen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Morten Krom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Dyalog User Conference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Version 1 October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8AA-EA1B-45D2-A79C-DECF5713C5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n Excel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How Else Can we Us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01F-8CFC-4390-89DD-2D126F9808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Web P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”Wild Web Server” is an HTTP Server written entirely in Dyalog v11 by Stefano Lanzavecc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upport for ”APLS” files was added by myself and Nicolas Delcros since 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t is perhaps the strongest testament to the value of OO and APL code in script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ther uses for Script Fi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8C9-9C70-4FFA-886D-9129919FA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ow about a C# GUI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ther uses for Script Fi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5E3-CB2B-4CDA-909C-650B5EA1E2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few more words about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PICE is an experimental command line extension to the Dyalog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t looks in ”classes\spice” and tries to load all the ”.dyalog” files in this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et’s examine a sample SPIC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intention is to make it really easy to share developm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More about SP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B32-E9C3-49B6-81E7-6F24D1DF43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toring Dyalog source code in text files has many benefits, in parti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Easy integration with many popular development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can e-mail code to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can easily share development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044-43EB-4C4A-A9CD-40CA9BEFB2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cripts are especially practical when combining APL with other tools, 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Building web 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Embedding Dyalog within Visual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A tool like SALT ensures that changes get written back to the source right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60D-3C4F-482D-8068-1E4533340B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s with the Object Oriented features themselves, I would not recommend that you immediately rewrite your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Please Experiment with it, at least look at the samples we dis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your own apps, it is most useful for (new) components used in many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... Or if a large team need to put something together from small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EC8-C0D6-4871-8AB9-400E62D5D7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ource Code Management is an important topic which we will continue to focus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aim to complete SALT &amp; SPICE by 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Even smoother integration with Visual Studio will </a:t>
            </a:r>
            <a:r>
              <a:rPr b="0" i="1" lang="da-DK" sz="3600" spc="-1" strike="noStrike">
                <a:solidFill>
                  <a:srgbClr val="000000"/>
                </a:solidFill>
                <a:latin typeface="Arial"/>
              </a:rPr>
              <a:t>probably</a:t>
            </a: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 be a goal for 1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388-C35F-4D55-9107-456FD35674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Dependencies between SALTed modules (”using” state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lasses spread across more than one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Making SALT extensible so people can easily add commands or manage special meta-data inline i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ould SALT versioning be withdrawn (people can use other Version Control tool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Problems Left to Solve inclu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42E-4E21-46A1-8FE1-70F170E7B0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Dyalog will invest in developing new libraries of modular components using an ”Open Source”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ALT, SPICE and the ”Wild Web Server” are our pilot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invite you all to help provide a new generation of tools for us, and for future generations of APL 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all to Ar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E2E-4E55-49D4-83E9-D6BE99F9BE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s you may have noticed, Version 11.0 was a little late... the BIG news about it is that it is now ”out” (for 32-bit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64-bit Windows, Windows Mobile 5, AIX, Linux and Solaris all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11.0 still has a few bugs but Dan, Nicolas and Beta Testers have done a good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e are still ramping up our QA, and the next release will be even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ue to the delay, there are few NEW ”technical news sessions”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D28-CA7A-409B-920B-387035C10E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Dyalog aims to provide a web-based repository for open-source projects (probably using SubVer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will clean up, document and publish ”recommended”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There will also be a ”less managed”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Prepare to contribu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ur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E7F-EC5E-44FF-85F9-0433F01A34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7200"/>
            </a:b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(in advance </a:t>
            </a:r>
            <a:r>
              <a:rPr b="0" lang="da-DK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BCB-594E-444F-9922-23C061A226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t 13:45 today, Geoff Streeter is doing an updated presentation on 64-bit Dyalog A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t 14:30, John Scholes is more or less repeating last years presentation on non-OO language enhancements in v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O tutorial is being run as two full-day workshops by Dan Baronet (Mon+F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(more)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5CD-4371-46C8-867B-81707495BC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 suspect John Daintree is going to show some new uses of v11.0 to us to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Nicolas Delcros is talking about his first project at Dyalog at 14:30 today: An experimental port of the Linux product to ”WineLi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 will now try to present some ideas on source code management which have resulted from working with version 1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(more)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689-8BD8-486C-8EC5-C51BF9F4BD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version 11.0, Classes and Namespaces   have a ”script” form (returned by ⎕S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is means that a group of related code (and constants) can easily be treated as a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particular, the script can be written to a Unicod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is allows a number of new ways of working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D8B-21A1-4CA1-A0A7-637C9835B0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Let’s take a look at a classical APL Appl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997-37A6-4D07-9AFF-016D38A323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inReg is a nice application, but if I want to use it as a component in my system(s), I have to copy it around th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aintaining the source in a single, easily-editable location is t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ource code management systems exist, but are proprietary, closed ”black box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e propose a new beginning based on Unicode tex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et’s examine how this might work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Developing ”Compone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93F-653D-44A5-87C8-BE72E766BA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ALT is an experimental tool, intended to provide ”bare bones” support for source in tex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ALT uses an undocumented callback on the Editor object to save changes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 Unicode MS"/>
              </a:rPr>
              <a:t>As we have seen, SALT provides rudimentary version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 Unicode MS"/>
              </a:rPr>
              <a:t>Now, imagine that we want to build a stand-alone applicati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S A L T = Simple APL Library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F26-CEE1-421F-B78E-786E6711DC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have seen that ”SALTED” files allow us ”zero footprint” use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embed our components in simple stand-alon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do simple 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use non-APL development tools like ”CompareIt!” if they support 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ow else can we use our compon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S A L T = Simple APL Library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787-1371-4D2A-A67C-AEEC2E1E7D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08:15Z</dcterms:created>
  <dc:creator>vibeke</dc:creator>
  <dc:description/>
  <dc:language>en-US</dc:language>
  <cp:lastModifiedBy>Morten Kromberg</cp:lastModifiedBy>
  <dcterms:modified xsi:type="dcterms:W3CDTF">2006-10-17T09:30:14Z</dcterms:modified>
  <cp:revision>48</cp:revision>
  <dc:subject/>
  <dc:title>Slide 1</dc:title>
</cp:coreProperties>
</file>