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C384-DF0F-497B-8B11-19AEC884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6E4C-E5BD-4690-8123-981305FD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789B-E758-44EA-B492-5569736C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D1E0-5380-497B-8062-4B65FBE0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8184-9227-4769-94AC-6F92B419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BAD4-1D01-4018-9B15-82A381DA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27A9-BB92-42F0-AD56-47FD8D19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B30B-774C-4D07-B456-F0AC361F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8A87-59D1-402F-B046-83962987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A2C3-9348-4900-9267-91A1E02D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5DFD-6ACC-4282-92A0-C3B32E55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DC6-56B1-43C2-BDEA-E793A577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BFF9-5ADD-4B70-9688-58BD9C22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4826-B78B-4113-B52E-4EA4F02D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CB18-6AC7-48A7-BDE2-F22F65F0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15AD-FC8E-4CF3-9AC7-4E9BC404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54E9-D822-4FEF-9955-6DC59D82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A9F-9AFB-46F0-9B8D-1E10A40F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5A80-38BC-43E7-9824-C557ED8D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2599-C415-4037-837A-6498797B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D34-9D9E-44C6-8540-F91D4BA6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101B-E4F0-44BF-AD49-D1D1CF68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34B0-29EC-409A-95CC-DC98E654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F58A-AB89-4B7A-A30F-29F87A2B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848720" y="457200"/>
            <a:ext cx="1295280" cy="5335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2f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3520" y="762120"/>
            <a:ext cx="8609040" cy="761760"/>
          </a:xfrm>
          <a:prstGeom prst="rect">
            <a:avLst/>
          </a:prstGeom>
          <a:gradFill rotWithShape="0">
            <a:gsLst>
              <a:gs pos="0">
                <a:srgbClr val="00101f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e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9F8F-C1F4-435F-BBEA-FEFCB043DF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05920" y="152280"/>
            <a:ext cx="457200" cy="533520"/>
          </a:xfrm>
          <a:prstGeom prst="rect">
            <a:avLst/>
          </a:prstGeom>
          <a:gradFill rotWithShape="0">
            <a:gsLst>
              <a:gs pos="0">
                <a:srgbClr val="2f0075"/>
              </a:gs>
              <a:gs pos="50000">
                <a:srgbClr val="6600ff"/>
              </a:gs>
              <a:gs pos="100000">
                <a:srgbClr val="2f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10480" y="0"/>
            <a:ext cx="533520" cy="3808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2f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localhost:8080/" TargetMode="External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localhost:8080/loan/RUN" TargetMode="External"/><Relationship Id="rId2" Type="http://schemas.openxmlformats.org/officeDocument/2006/relationships/hyperlink" Target="http://localhost:8080/loan/bullet.gif" TargetMode="External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Unicode MS"/>
              </a:rPr>
              <a:t>WildHeart.HTTPListener</a:t>
            </a:r>
            <a:br>
              <a:rPr sz="4400"/>
            </a:b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an open source Web Server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for Dyalog APL v11.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4120" y="4572000"/>
            <a:ext cx="3124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Stefa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WildHeart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Lanzavecch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F345-6D1F-47DF-AAD2-F41A2A9C3E3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yalog APL integrates quite well with Microsoft IIS+ASP.NET, and can be called from other web servers, bu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se solutions require a lot of heavy machinery from other vend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learning curve is still quite hig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yalog provide a sample SERVER workspace, bu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t leaves almost all the work of deciphering HTTP to y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t’s based on old standa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EA99-D681-4390-80D3-35DDCB945A7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author ha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keen (geek) interest in OO, web and other software development methodolo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ritten numerous tools on top of the Dyalog TCPSocket obje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CCD0-6438-4C52-8E7F-7390015F927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Enter WildHeart.HTTPListener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dvent of Object Orientation in Dyalog 11.0 makes it attractive to start aga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y goal is to create a framework which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equires a little knowledge of HTML and hardly any knowledge of HTT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llows ”ordinary” APL developers to easily write Web applications, ye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s built from reusable, replaceable components which can be extended by APL developers who learn a little more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s portable across all platforms which support TC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s run as an </a:t>
            </a:r>
            <a:r>
              <a:rPr b="1" i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open sourc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project, to be shared and extended by anyone who wishes to contribu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6103-4C72-46BE-9CE9-2E9720F43BA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To write or </a:t>
            </a:r>
            <a:r>
              <a:rPr b="1" lang="en-GB" sz="4400" spc="-1" strike="noStrike">
                <a:solidFill>
                  <a:srgbClr val="ececec"/>
                </a:solidFill>
                <a:latin typeface="Times New Roman"/>
              </a:rPr>
              <a:t>Not to write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hy NOT TO WRITE a web server in APL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is the third web server I develop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 was paid to develop the first (and it was never us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 was almost paid to the develop/steal the second (and it’s heavily us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 was NOT paid to develop the third and I had to find the time to do it at night and during weeken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 wise man once said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nly a fool would do that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F29E-607E-4BE9-A962-18EAA71BF44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Not to write, seriously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HTTP is easy but tric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o many web servers out the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9A4F-361F-4D68-97CD-A009DCDEA42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cecec"/>
                </a:solidFill>
                <a:latin typeface="Times New Roman"/>
              </a:rPr>
              <a:t>To write</a:t>
            </a: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 or not to write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hy write a web server in APL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I wrote an editorial about it in Vector a few years ago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asily embeddable in an APL app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asily understood by APL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an stay near the core of the app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ADF4-9FF9-4501-9507-BDA2E737918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cecec"/>
                </a:solidFill>
                <a:latin typeface="Times New Roman"/>
              </a:rPr>
              <a:t>To write</a:t>
            </a: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 or not to write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"One of the reasons to use Lisp in writing Web-based application is that you </a:t>
            </a: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use Lisp. When you're writing software that is only going to run on your own servers, you can use whatever language you want.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aul Grah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4DE6-CFC9-4E8B-A87D-A0D79650158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cecec"/>
                </a:solidFill>
                <a:latin typeface="Times New Roman"/>
              </a:rPr>
              <a:t>To write!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orten needs a demo. I need an HTTP/1.1 web server, written in APL. APL Italiana, the company I work for, also needs one, even if they haven’t realised this yet.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tefano Lanzavecch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9A49-B3D7-454A-BBFA-6EFE814BE08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Components of… WildServer’06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TTPListe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TTPReque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ok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equest Variab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TTP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ok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TML Uti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vent pip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r Valid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ss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tic file ser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space as filesystem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ile Handl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plx fi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pls fi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45A3-E189-4241-B4FA-637F4C578637}" type="slidenum">
              <a:t>1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Dyalog APL: an OO language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eb server: a good test bed for the OO exten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bstractions: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divide et impe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heritance: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this looks a bit like th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Keyed properties: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syntax tric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hat is missing in the languag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s the IDE good enough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62B1-3139-425C-8D1E-6FB2DEB7CA8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PL should be a popular language for developing web pages, becaus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PL has all you need to generating static and dynamic web cont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t is not used as much as it deserves, becaus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ven the best tools need good frameworks to level the learning curve a b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 frameworks are readily avail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2E55-3881-4CBA-AC13-CE58EC806BD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HTTPListener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PL385 Unicode"/>
              </a:rPr>
              <a:t>fs←⎕NEW #.WildHeart.FileSystem('c:\aplserve'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PL385 Unicode"/>
              </a:rPr>
              <a:t>listener←⎕NEW web.HTTPListener(8080 f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PL385 Unicode"/>
              </a:rPr>
              <a:t>listener.St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505320"/>
            <a:ext cx="7391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n point your web browser at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localhost:8080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t’s a kind of magic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9345-5C7E-4C39-A6C3-704BE8ACC05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The trip of an HTTP request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CPSocket gets TCPRecv ev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HTTPRequest objects collects them, and parses the request according to the HTTP spe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hen the request is complete, it gets shipped to a dispatcher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1F3D-4E5D-48FD-836B-2F8109C9259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The dispatcher: FileSystem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o me a FileSystem looks like a namespac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ts folders are sub-namespa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dea: we can inject virtual folder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virtual folder can be a folder on the HD coming from a different sub-fold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virtual folder can be… an APL namespace! Its functions would be files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6E01-9E4F-4C59-983F-972C7340E6B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APLNamespace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localhost:8080/loan/RU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ecutes #.loan.RU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localhost:8080/loan/bullet.gi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ll transmit the file c:\aplserve\loan\bullet.gi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fs←⎕NEW #.WildHeart.FileSystem('c:\aplserve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fs['loan']←⎕NEW web.APLNamespace(#.loan'c:\aplserve\loan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listener←⎕NEW web.HTTPListener(8080 f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listener.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CACD-455E-4CD1-AF60-42966E4B35B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ZipFileSystem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w the folders and files come from a zip fil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at, uh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fact this presentation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fs←⎕NEW web.</a:t>
            </a:r>
            <a:r>
              <a:rPr b="1" sz="2000" spc="-1" strike="noStrike" u="sng">
                <a:solidFill>
                  <a:srgbClr val="ffffff"/>
                </a:solidFill>
                <a:uFillTx/>
                <a:latin typeface="APL385 Unicode"/>
              </a:rPr>
              <a:t>ZipFileSystem</a:t>
            </a: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('c:\aplserve.zip?aplserve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fs['loan']←⎕NEW web.APLNamespace(#.loan'c:\aplserve\loan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listener←⎕NEW web.HTTPListener(8080 f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listener.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D17A-CEC2-4FE8-9497-78225C7A58E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FileSystem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"/>
              </a:rPr>
              <a:t>Basically one method: ProcessReque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∇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ProcessRequest ctx;html;ns;raw;apl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:Access Public Instance Overr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ctx←#.WildHeart.HTTPContext.Curr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html←_NS⍎MapFileName ctx.UR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r←ctx._Respon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r._IsBodyRaw←raw←82≠⎕DR ht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r._Body←ht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:If ''≡⊃r._Headers[⊂'Content-type'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 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r._Headers[⊂'Content-type']←u.MimeMappings['htm' 'bin'[1+raw]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:EndI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ctx.SendRespon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∇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F1E1-09EF-4915-9643-B77668E8E56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Tricks: thread local storage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PL385 Unicode"/>
              </a:rPr>
              <a:t>[…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PL385 Unicode"/>
              </a:rPr>
              <a:t>  </a:t>
            </a:r>
            <a:r>
              <a:rPr b="1" sz="2400" spc="-1" strike="noStrike">
                <a:solidFill>
                  <a:srgbClr val="ffffff"/>
                </a:solidFill>
                <a:latin typeface="APL385 Unicode"/>
              </a:rPr>
              <a:t>ctx←#.WildHeart.HTTPContext.Curr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PL385 Unicode"/>
              </a:rPr>
              <a:t>[…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Thread context: wouldn’t it be nice to have an object local to a thread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2DD1-5306-47E4-8203-634F9F34147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HTTPHandler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"/>
              </a:rPr>
              <a:t>A FileSystem delegates the handling of the requested resource to the appropriate handler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StaticFileHandler by defaul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AplxHandl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AplsHandl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more to co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1600" spc="-1" strike="noStrike">
                <a:solidFill>
                  <a:srgbClr val="ffffff"/>
                </a:solidFill>
                <a:latin typeface="APL385 Unicode"/>
              </a:rPr>
              <a:t>fs._FileHandlers[⊂'aplx']←#.WildHeart.AplxFileHandl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60B8-6515-4F07-8406-D9E803BC181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HTTPHandler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One method: ProcessReque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∇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ProcessRequest ctx;fname;tn;ext;eta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:Access Public Instance Overrid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fname←ctx._FileSystem.MapFileName ctx.UR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tn←fname ⎕NTIE 0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ctx._Response._IsBodyRaw←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ctx._Response._Body←⎕NREAD tn,83,⎕NSIZE t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 ⎕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NUNTIE t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ctx.SendRespon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∇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BFED-52C0-49D6-AE34-C7150243E1C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ececec"/>
                </a:solidFill>
                <a:latin typeface="Times New Roman"/>
              </a:rPr>
              <a:t>AplxHandler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sz="2800" spc="-1" strike="noStrike">
                <a:solidFill>
                  <a:srgbClr val="ffffff"/>
                </a:solidFill>
                <a:latin typeface="Arial"/>
              </a:rPr>
              <a:t>This is only a test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Lucida Sans Unicode"/>
              </a:rPr>
              <a:t>&lt;?@ master="../newindex.maplx" execute="" ?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Lucida Sans Unicode"/>
              </a:rPr>
              <a:t>&lt;apl:content id="title"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Lucida Sans Unicode"/>
              </a:rPr>
              <a:t>&lt;title&gt;Rain Graphics: Climate&lt;/title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Lucida Sans Unicode"/>
              </a:rPr>
              <a:t>&lt;/apl:content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Lucida Sans Unicode"/>
              </a:rPr>
              <a:t>&lt;apl:content id="cssstyle"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Lucida Sans Unicode"/>
              </a:rPr>
              <a:t>&lt;link rel="stylesheet" type="text/css" href="../styles/spiffy.css"/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Lucida Sans Unicode"/>
              </a:rPr>
              <a:t>&lt;/apl:content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Lucida Sans Unicode"/>
              </a:rPr>
              <a:t>&lt;apl:content id="main" execute="#.rain.Climate"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Lucida Sans Unicode"/>
              </a:rPr>
              <a:t>&lt;/apl:content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D830-FB35-4F66-93E6-47ABBC27705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Goal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plore the problem which needs to be solved and demonstrate a proposed solution... (obviously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o, what’s the problem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easy part is generating HTML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opefully nobody will disagree that APL is an EXCELLENT language for generating character vect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70A4-46D7-4333-A714-3E3BAE8BAD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A master page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ffff"/>
                </a:solidFill>
                <a:latin typeface="Lucida Sans Unicode"/>
              </a:rPr>
              <a:t>&lt;!DOCTYPE html PUBLIC "-//W3C//DTD XHTML 1.0 Transitional//EN" "http://www.w3.org/TR/xhtml1/DTD/xhtml1-transitional.dtd"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ffff"/>
                </a:solidFill>
                <a:latin typeface="Lucida Sans Unicode"/>
              </a:rPr>
              <a:t>&lt;html xmlns=“http://www.w3.org/1999/xhtml” xmlns:apl="http://wildheart.com/2006/10/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ffff"/>
                </a:solidFill>
                <a:latin typeface="Lucida Sans Unicode"/>
              </a:rPr>
              <a:t>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ffff"/>
                </a:solidFill>
                <a:latin typeface="Lucida Sans Unicode"/>
              </a:rPr>
              <a:t>&lt;head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3300"/>
                </a:solidFill>
                <a:latin typeface="Lucida Sans Unicode"/>
              </a:rPr>
              <a:t>&lt;apl:placeholder id="cssstyle"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3300"/>
                </a:solidFill>
                <a:latin typeface="Lucida Sans Unicode"/>
              </a:rPr>
              <a:t>&lt;link rel="stylesheet" type="text/css" href="styles/spiffy.css"/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3300"/>
                </a:solidFill>
                <a:latin typeface="Lucida Sans Unicode"/>
              </a:rPr>
              <a:t>&lt;/apl:placeholder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3300"/>
                </a:solidFill>
                <a:latin typeface="Lucida Sans Unicode"/>
              </a:rPr>
              <a:t>&lt;apl:placeholder id="title"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3300"/>
                </a:solidFill>
                <a:latin typeface="Lucida Sans Unicode"/>
              </a:rPr>
              <a:t>&lt;title/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3300"/>
                </a:solidFill>
                <a:latin typeface="Lucida Sans Unicode"/>
              </a:rPr>
              <a:t>&lt;/apl:placeholder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ffff"/>
                </a:solidFill>
                <a:latin typeface="Lucida Sans Unicode"/>
              </a:rPr>
              <a:t>&lt;/head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ffff"/>
                </a:solidFill>
                <a:latin typeface="Lucida Sans Unicode"/>
              </a:rPr>
              <a:t>&lt;body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ffff"/>
                </a:solidFill>
                <a:latin typeface="Lucida Sans Unicode"/>
              </a:rPr>
              <a:t>&lt;div id="header"&gt;&lt;h1 class="banner"&gt;WildHeart.HTTPListener&lt;/h1&gt;&lt;/div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ffff"/>
                </a:solidFill>
                <a:latin typeface="Lucida Sans Unicode"/>
              </a:rPr>
              <a:t>&lt;div id="subheader"&gt; </a:t>
            </a:r>
            <a:r>
              <a:rPr b="1" sz="1600" spc="-1" strike="noStrike">
                <a:solidFill>
                  <a:srgbClr val="ff3300"/>
                </a:solidFill>
                <a:latin typeface="Lucida Sans Unicode"/>
              </a:rPr>
              <a:t>&lt;apl:placeholder id="bcrumb" execute="#.WildHeart.WebDemos.BreadCrumb" /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ffff"/>
                </a:solidFill>
                <a:latin typeface="Lucida Sans Unicode"/>
              </a:rPr>
              <a:t>&lt;/div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ffff"/>
                </a:solidFill>
                <a:latin typeface="Lucida Sans Unicode"/>
              </a:rPr>
              <a:t>&lt;div id="toc"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3300"/>
                </a:solidFill>
                <a:latin typeface="Lucida Sans Unicode"/>
              </a:rPr>
              <a:t>&lt;apl:placeholder id="apltoc"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ffff"/>
                </a:solidFill>
                <a:latin typeface="Lucida Sans Unicode"/>
              </a:rPr>
              <a:t>&lt;div class="toc"&gt;&lt;h2&gt;APL Web Server&lt;/h2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ffff"/>
                </a:solidFill>
                <a:latin typeface="Lucida Sans Unicode"/>
              </a:rPr>
              <a:t>&lt;ul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ffff"/>
                </a:solidFill>
                <a:latin typeface="Lucida Sans Unicode"/>
              </a:rPr>
              <a:t>&lt;li&gt;&lt;a href="/intro.aplx"&gt;Introduction&lt;/a&gt;&lt;/li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ffff"/>
                </a:solidFill>
                <a:latin typeface="Lucida Sans Unicode"/>
              </a:rPr>
              <a:t>&lt;li&gt;&lt;a href="/cv/Index.aplx"&gt;View Code&lt;/a&gt;&lt;/li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AFAA-1093-496F-9898-7B85182AFBEC}" type="slidenum">
              <a:t>3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The event pipeline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As a request goes through the FileSystem hierarchy, events are raised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"/>
              </a:rPr>
              <a:t>OnEn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"/>
              </a:rPr>
              <a:t>OnAuthentic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"/>
              </a:rPr>
              <a:t>OnAuthoriz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2AE3-62FA-4AD6-B54B-D846BC48888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Tricks: the observer pattern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:Class Even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:field _Observer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∇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make nam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:Access Public Instanc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:Implements Constructo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_Observers←⍬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⎕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DF'Event: ',nam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∇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∇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Raise(sender arg);obj;fnnam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:Access Public Instanc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:For obj fnname :In _Observer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 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(obj⍎fnname)(sender arg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:EndFo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∇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∇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Add(obj fnname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:Access Public Instanc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_Observers,←⊂obj fnnam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∇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∇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Del(obj fnname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:Access Public Instanc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_Observers←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 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_Observers~⊂obj fnnam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∇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:End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28E7-DEEA-490A-B63A-DB02926B994A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The observed shows what it’s got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PL385 Unicode"/>
              </a:rPr>
              <a:t>onAuthenticate←⎕NEW </a:t>
            </a:r>
            <a:br>
              <a:rPr sz="2400"/>
            </a:br>
            <a:r>
              <a:rPr b="1" sz="2400" spc="-1" strike="noStrike">
                <a:solidFill>
                  <a:srgbClr val="ffffff"/>
                </a:solidFill>
                <a:latin typeface="APL385 Unicode"/>
              </a:rPr>
              <a:t>     #.WildHeart.Event('Authenticate'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PL385 Unicode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APL385 Unicode"/>
              </a:rPr>
              <a:t>auth←⎕NEW web.WebDemos.FormsAu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PL385 Unicode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APL385 Unicode"/>
              </a:rPr>
              <a:t>fs.onAuthenticate.Add</a:t>
            </a:r>
            <a:br>
              <a:rPr sz="2400"/>
            </a:br>
            <a:r>
              <a:rPr b="1" sz="2400" spc="-1" strike="noStrike">
                <a:solidFill>
                  <a:srgbClr val="ffffff"/>
                </a:solidFill>
                <a:latin typeface="APL385 Unicode"/>
              </a:rPr>
              <a:t>             auth'OnAuthenticate'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PL385 Unicode"/>
              </a:rPr>
              <a:t>onAuthenticate.Raise ⎕THIS lur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E78F-5C0B-406F-880C-979D20117CD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cecec"/>
                </a:solidFill>
                <a:latin typeface="Times New Roman"/>
              </a:rPr>
              <a:t>Two simple authentication modules</a:t>
            </a:r>
            <a:endParaRPr b="0" lang="en-US" sz="40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SimpleAuth: based on HTTP challenge respons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"/>
              </a:rPr>
              <a:t>Quick and dir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FormsAuth: based on cook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"/>
              </a:rPr>
              <a:t>More flexi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"/>
              </a:rPr>
              <a:t>More w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8DB6-F1BC-4684-A6C8-32A798A1DAB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Sessions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HTTP is a stateless protoco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eople want to have conversations with peers who don’t forget instantly what they just sai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Have a cookie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EB5E-4D86-4308-9515-4514D7ED53F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Sessions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"/>
              </a:rPr>
              <a:t>As easy a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 </a:t>
            </a: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fs.EnableSession ⎕NU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 </a:t>
            </a: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fs.onSessionStart.Add #’DoSomething'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 </a:t>
            </a: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fs.onSessionEnd.Add #’UndoSomething'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"/>
              </a:rPr>
              <a:t>In the applicatio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 </a:t>
            </a: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:If ⎕NULL≡ns←ctx._Session[⊂'footer'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     </a:t>
            </a: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ns←⎕NS''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     </a:t>
            </a: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ns.count←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     </a:t>
            </a: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ctx._Session[⊂'footer']←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 </a:t>
            </a: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:EndI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 </a:t>
            </a: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ns.count+←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A685-A36B-4C2A-B7F9-6C651AC1C65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Extensibility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"/>
              </a:rPr>
              <a:t>Some of the features (ZipFileSystem, session module, authentication, aplx handler) were hacked together to prove that the server could support th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"/>
              </a:rPr>
              <a:t>Even before its completion, the WildServer ha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Had a file handler written (by Nic &amp; Mort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Been used to run a course in writing Web Applications using Dyalog AP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2209-11F6-43D0-87CF-44B137AFA2C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Open Source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pen Source means: “</a:t>
            </a: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free as in free beer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except: is there such a thing as free beer?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 strings attached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You get the source code and whatever documentations exists with it at the 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You get the right to do whatever you want with it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even sell it! But only a bad boy would do that…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ou get from me all the support I can give you when I can if I can (alas, I am very busy and maybe one day I’ll get a lif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A9B4-D6DC-46C9-A0B6-74369F85596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Why Open Source?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Have you looked at Ruby on Rail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ons of contributors do a lot of wor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ons of clever contributors do a lot of good work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K, maybe that’s a good produc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B2A3-0023-483F-87F2-851A1CC8E10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5068800" cy="115416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1219320" y="2838600"/>
            <a:ext cx="6526080" cy="3262320"/>
            <a:chOff x="1219320" y="2838600"/>
            <a:chExt cx="6526080" cy="326232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2668680" y="2838600"/>
              <a:ext cx="506880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4956120" y="3770280"/>
              <a:ext cx="2789280" cy="233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1219320" y="3770280"/>
              <a:ext cx="2789280" cy="233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175280" y="5033880"/>
              <a:ext cx="614160" cy="382680"/>
            </a:xfrm>
            <a:prstGeom prst="leftRightArrow">
              <a:avLst>
                <a:gd name="adj1" fmla="val 50000"/>
                <a:gd name="adj2" fmla="val 31949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64680" y="55627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A ”web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Some very simple HTML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B323-FACA-4506-A1D0-F5C9FD386DF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TODO list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t’s long, it’s scary, but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L Prototypes seem to acquire a life of their ow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“ducks” have started contribu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7687-9255-4251-904D-EF24D18FD6E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Thanks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eter Michael Haager: I have adapted his XML parser to produce trees of objects instead of nested array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9C1C-49D9-41E1-B882-390B1AE53EE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itial feedback from users (Nic, Morten and Mondays course participants) is promi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WildServer is still very much ”work in progress”, and the author wants to keep control of it until about Christm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owever, you are all welcome to try it now and suggest or code enhanc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94E3-42FB-49AB-8442-A71BFF0694F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f not… now I need some sleep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705720" y="3352680"/>
            <a:ext cx="1455480" cy="1800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5334120"/>
            <a:ext cx="2133720" cy="3682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輝く空と君の声を感じた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3370-B4A3-456C-9805-9EB6F2FBF72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What is missing in the language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o public operators! C# has them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o protected members! C# has them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o object serialization! C# has it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# is a statically typed language. OK, substitute in the slide “C#” with “Ruby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CA0C-70EC-42BE-8F71-E9A455306DE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The hard part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f we have a form like this and the user hits the submit button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5181480" cy="358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E8E4-DAA7-46A7-81D3-F2086C9EF1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Before we look at the response…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2666880"/>
            <a:ext cx="464328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rm action="RUN" method="post" name="FrontPage_Form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div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able border="0" cellpadding="3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d&gt;Purchase Amount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d&gt;&lt;input type="text" size="9" name="LoanAmt"/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d&gt;Percent Down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d&gt;&lt;input type="text" size="6" maxlength="6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="PercentDown"/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d&gt;Maximum Years in Loan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d&gt;&lt;input type="text" size="2" maxlength="2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="LenMax"/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d&gt;Minimum Years in Loan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d&gt;&lt;input type="text" size="2" maxlength="2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="LenMin"/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/tr&gt;</a:t>
            </a: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… continued on the right 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1700280"/>
            <a:ext cx="35622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d&gt;Maximum Interest Rate (%)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d&gt;&lt;select name="IntrMax" size="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option&gt;15.0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option&gt;14.5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..etc down to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option&gt;1.0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/select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d&gt;Minimum Interest Rate (%)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d&gt;&lt;select name="IntrMin" size="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option&gt;15.0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option&gt;14.5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option&gt;14.0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option&gt;13.5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option selected="selected"&gt;13.0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option&gt;12.5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option&gt;12.0&lt;/option&gt;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…etc…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&lt;option&gt;1.5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option&gt;1.0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/select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/tab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p&gt;&lt;input type="submit" value="Calculate Repayments"/&gt;&lt;/p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/div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3400" y="1905120"/>
            <a:ext cx="36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Some of you will want to know</a:t>
            </a:r>
            <a:br>
              <a:rPr sz="1800"/>
            </a:b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how the HTML looks for the for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5247-3EF4-4565-9206-A2CC1CD6606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When the user hits the button…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POST /loan/RUN HTTP/1.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Accept: image/gif, image/x-xbitmap, image/jpeg, image/pjpeg,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application/x-shockwave-flash, application/vnd.ms-excel,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application/vnd.ms-powerpoint, application/msword, */*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Referer: http://localhost:8080/loan/loan.ht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Accept-Language: i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Content-Type: application/x-www-form-urlencod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Accept-Encoding: gzip, deflat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User-Agent: Mozilla/4.0 (compatible; MSIE 6.0; Windows NT 5.1; SV1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.NET CLR 1.1.4322; .NET CLR 2.0.50727; WinFX RunTime 3.0.50727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Host: localhost:808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Content-Length: 7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Connection: Keep-Aliv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Cache-Control: no-cach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LoanAmt=10000&amp;PercentDown=50&amp;LenMax=10&amp;LenMin=15&amp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IntrMax=15.0&amp;IntrMin=13.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E6D6-87EF-491E-ACCD-5F1C25848A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The hard part…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PL is not a bad tool for taking character vectors apart, either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ut: Some knowledge about the HTTP protocol is required to decipher 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 rule for calling the code to deal with the request (in this case </a:t>
            </a:r>
            <a:r>
              <a:rPr b="1" lang="en-GB" sz="2800" spc="-1" strike="noStrike">
                <a:solidFill>
                  <a:srgbClr val="ffffff"/>
                </a:solidFill>
                <a:latin typeface="APL385 Unicode"/>
              </a:rPr>
              <a:t>#.loan.RU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) is need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ome way to decode the body of the reque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is is what Web Server frameworks like Microsoft IIS coupled with ASP.NET do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6B54-FB1C-4408-9B41-C833A979D2D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What is a web application?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collection of functions that take an HTTP Request as input and produce an HTTP response as output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C858-2C78-4DFB-AFEB-AE12209FCA4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2:15:26Z</dcterms:created>
  <dc:creator>Stefano Lanzavecchia</dc:creator>
  <dc:description/>
  <dc:language>en-US</dc:language>
  <cp:lastModifiedBy>WildHeart</cp:lastModifiedBy>
  <cp:lastPrinted>2006-10-14T21:50:25Z</cp:lastPrinted>
  <dcterms:modified xsi:type="dcterms:W3CDTF">2006-10-16T10:27:57Z</dcterms:modified>
  <cp:revision>19</cp:revision>
  <dc:subject/>
  <dc:title>WildHeart.HTTPListen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3141033</vt:lpwstr>
  </property>
</Properties>
</file>