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DBC9-FBA8-4024-A3D3-4F7182E8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B46B-F744-4C8B-AF11-1A5D7C35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5BE5-8C4A-439F-A665-F6218364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11C2-8094-451F-A7C9-EF253C40E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F4C9-FD0C-4327-8057-339B1200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A2F5-0F16-4F6C-86D6-DD49F924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7A4D-3C7B-43FA-9162-9F5215EE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1977-FEB0-4D31-B0D7-A96BE36B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ACFB-6ECD-486A-8515-E1306670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16E5-AE8E-4872-A331-6B4FCF01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E594-68E4-4538-BA28-C50D684C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6BF7-24A0-4A63-B705-D5B734FC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0320" y="6324480"/>
            <a:ext cx="258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FBB8-5A8D-41AD-992E-0FD5BF2581F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Dyalog Road Map ’06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Helsingør, October 18th 2006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11.1 Core – Less Likel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Rationals / Infinite Precision Integ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Complex 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Rank Operat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We may do research and preliminary work but are unlikely to release anyth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... Unless we get ”pushed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V11.1 Performance, Deployment, Stability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5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Faster / Simpler ⎕NA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lgorithm review with focus on Indexing and Searching (idioms &amp; core algorithms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DotNet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Improved Autocompletion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Data Marshalling” Performan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Load Balancing” issues (starting multiple Dyalog processes for one class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Remove 64-bit Array Size Restri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Installability Issues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Even more Quality Assurance tools and procedures in place for next releas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Web Presence”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Open Source Library (SALT, SPICE, WildServer, etc...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anuals On Line in Searchable for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New training materials for ”modern young users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utorials on OO, .Net, Office Automation, making Web Pages, etc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Canned demos (Video, screen capture), Blogs, Wiki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Cultivate Agile Community Membership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Agile 2007 (Como, Italy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We SHOULD do a presentation on arrays and objects at OOPSLA’07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Continuously look to what the Python &amp; Ruby folks are do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Please join us in this adventu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Professional” Produc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o be released on a separate timeframe and sold separately from the core product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Remote Procedure Call mechanis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File Server for Component and Native Fil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Running APL as a ”Windows Service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ecure Socket suppor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Remote Procedure Cal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25760" y="1565280"/>
            <a:ext cx="6924600" cy="50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RPC Tool Advanta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ignificantly simpler programming model than TCPSocket, especially for multi-threaded client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FAST, as events handled in C. APL is only called when there is ”something to do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NB: Independent of underlying technology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Could provide some protection against ”denial of service” attack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333333"/>
                </a:solidFill>
                <a:latin typeface="Geneva"/>
              </a:rPr>
              <a:t>Dyalog File Acceleration Server</a:t>
            </a:r>
            <a:endParaRPr b="1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 process which runs on a server machine using the RPC tool to provide servic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No client-side code changes required, support will be built-in to ⎕N and ⎕F-system functions (TIE functions may be extended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imilar to ”SHAREFILES” product and SHARP APL file system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Initially targeting current users of shared files on Windows LA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Version aimed at Unix environments to follow..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Dyalog FAS Advanta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Workstations do not need access to mapped drives or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implified 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pplication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 configuration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uch higher and more granular security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Better perform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erver ties files exclusively and caches directory and other information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Higher reliabilit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uch less risk of file damage as all disk I/O is happening locally on the serv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800" spc="-1" strike="noStrike">
                <a:solidFill>
                  <a:srgbClr val="333333"/>
                </a:solidFill>
                <a:latin typeface="Geneva"/>
              </a:rPr>
              <a:t>Dyalog FAS Advantages</a:t>
            </a:r>
            <a:endParaRPr b="1" lang="en-US" sz="4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Operabilit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erver architecture allows instrumentation and monitorin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Extreme Reliability (not all in v1.0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24x7x365 Operations: On-line full and incremental backup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Automated recovery from transient network failure (or even a server restart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irroring and distributed data bas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3360" y="903240"/>
            <a:ext cx="835668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(Rerun from 2005)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-998640"/>
            <a:ext cx="9144000" cy="3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86000" y="1805040"/>
            <a:ext cx="60292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Running APL as a ”Service”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We will provide recommendations for tried and tested mechanisms for running Dyalog-based applications as Windows Servic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Additional components if require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Dyalog APL will recognise that it is running as a service and not try to interact with a user under any circumstanc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Etc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Secure Socket Support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Secure Sockets provide encrypted communications between ”identified” partn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We will look at providing support for secure socke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In the RPC tool (definitely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For TCPSocket objects (possibly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Research: Microsoft.Ne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3000" y="1625400"/>
            <a:ext cx="835812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anaged Microsoft Office is still 5 years away, so no immediate ”panic” to provide managed APL(?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We believe there are enhancements in the .Net pipeline, which will make it a better foundation for array languag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We are doing research and lobbying Microsoft (participating in regular ”CLR language labs” in Redmond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We are monitoring the situation closely and will keep you informe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Research: Multi-Core Processo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3000" y="2166840"/>
            <a:ext cx="8116920" cy="35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Modern processor CPU speeds are flattening off around 3-4 MHz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This is already so fast that a cache miss requires 100 wait states before data arrives from RAM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oon, chips with 8 or 16 processors will be comm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It is time to look at how an APL interpreter should adapt to new architectur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Other Possible Project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Interface to math and statistics packages: NAG, IMSL, R/SPLUS, perhaps Matlab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he Road Ahead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This was a quick overview of the possible paths we see ahea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We are always happy to hear from you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Please participate in pathfindin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Thank You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Dyalog Road Map ’06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Subject to change without notice due t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Having a Good Think following 11.0 comple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Input and project funding from custom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What Microsoft throws at u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Our ability to recruit the right develop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Cosmic Ray Collisions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Completing Work in Progres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Version 11.0 Port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32-bit Windows on CD w/Release Not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64-bit Windows (final testing &amp; packaging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indows Mobile 5, AIX (32&amp;64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Linux (Wine), Solari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Open Source on the Web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Dyalog’06 Presenta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ALT, SPICE, Wild Web Serve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upport the Consultants Network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ersion 11.1 (”late 2007”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 Few OO things we left ou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Unicode, possibly a few other core language extens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ource Code Management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Tighter support for SALT &amp; SubVersion etc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Visual Studio Integration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Make it possible to ”dynamically embed” APL code in popular development tool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Consolidati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Integrate new team members (Nicolas, Philip, ”X”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Remove size restrictions, bugs &amp; limitation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Focus on Performance, Deployment, Stability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11.1: OO Things we Forgo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We have used C# as a design guide for OO functionalit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We did leave some things out – are they important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Stefano alerted us to one or two  towards the end of v11 test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:Access Overridable (done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hread Local Storage”?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11.1: OO Things we Forgo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960480" y="0"/>
            <a:ext cx="11364840" cy="710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11.1 Core Langu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3480" y="174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High Probability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Unicode (The Defining Feature of 11.1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Primary Design goal: No application changes REQUIRED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APL385 Unicode"/>
              </a:rPr>
              <a:t>  </a:t>
            </a:r>
            <a:br>
              <a:rPr sz="2400"/>
            </a:br>
            <a:r>
              <a:rPr b="0" lang="da-DK" sz="2400" spc="-1" strike="noStrike">
                <a:solidFill>
                  <a:srgbClr val="333333"/>
                </a:solidFill>
                <a:latin typeface="APL385 Unicode"/>
              </a:rPr>
              <a:t>    </a:t>
            </a:r>
            <a:r>
              <a:rPr b="0" lang="da-DK" sz="2400" spc="-1" strike="noStrike">
                <a:solidFill>
                  <a:srgbClr val="333333"/>
                </a:solidFill>
                <a:latin typeface="APL385 Unicode"/>
              </a:rPr>
              <a:t>82=⎕DR string←'ABC'</a:t>
            </a:r>
            <a:br>
              <a:rPr sz="2400"/>
            </a:br>
            <a:r>
              <a:rPr b="0" lang="da-DK" sz="2400" spc="-1" strike="noStrike">
                <a:solidFill>
                  <a:srgbClr val="333333"/>
                </a:solidFill>
                <a:latin typeface="APL385 Unicode"/>
              </a:rPr>
              <a:t>1</a:t>
            </a:r>
            <a:br>
              <a:rPr sz="2400"/>
            </a:br>
            <a:r>
              <a:rPr b="0" lang="da-DK" sz="2400" spc="-1" strike="noStrike">
                <a:solidFill>
                  <a:srgbClr val="333333"/>
                </a:solidFill>
                <a:latin typeface="APL385 Unicode"/>
              </a:rPr>
              <a:t>    string[2]←'</a:t>
            </a:r>
            <a:r>
              <a:rPr b="0" lang="da-DK" sz="2800" spc="-1" strike="noStrike">
                <a:solidFill>
                  <a:srgbClr val="333333"/>
                </a:solidFill>
                <a:latin typeface="APL385 Unicode"/>
                <a:ea typeface="Arial Unicode MS"/>
              </a:rPr>
              <a:t>ᄎ</a:t>
            </a:r>
            <a:r>
              <a:rPr b="0" lang="da-DK" sz="2400" spc="-1" strike="noStrike">
                <a:solidFill>
                  <a:srgbClr val="333333"/>
                </a:solidFill>
                <a:latin typeface="APL385 Unicode"/>
              </a:rPr>
              <a:t>'</a:t>
            </a:r>
            <a:br>
              <a:rPr sz="2400"/>
            </a:br>
            <a:r>
              <a:rPr b="0" lang="da-DK" sz="2400" spc="-1" strike="noStrike">
                <a:solidFill>
                  <a:srgbClr val="333333"/>
                </a:solidFill>
                <a:latin typeface="APL385 Unicode"/>
              </a:rPr>
              <a:t>    </a:t>
            </a:r>
            <a:r>
              <a:rPr b="0" lang="da-DK" sz="2400" spc="-1" strike="noStrike">
                <a:solidFill>
                  <a:srgbClr val="333333"/>
                </a:solidFill>
                <a:latin typeface="APL385 Unicode"/>
                <a:ea typeface="Arial Unicode MS"/>
              </a:rPr>
              <a:t>82=</a:t>
            </a:r>
            <a:r>
              <a:rPr b="0" lang="da-DK" sz="24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da-DK" sz="2400" spc="-1" strike="noStrike">
                <a:solidFill>
                  <a:srgbClr val="333333"/>
                </a:solidFill>
                <a:latin typeface="APL385 Unicode"/>
                <a:ea typeface="Arial Unicode MS"/>
              </a:rPr>
              <a:t>DR string</a:t>
            </a:r>
            <a:br>
              <a:rPr sz="2400"/>
            </a:br>
            <a:r>
              <a:rPr b="0" lang="da-DK" sz="2400" spc="-1" strike="noStrike">
                <a:solidFill>
                  <a:srgbClr val="333333"/>
                </a:solidFill>
                <a:latin typeface="APL385 Unicode"/>
                <a:ea typeface="Arial Unicode MS"/>
              </a:rPr>
              <a:t>0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11.1 Core Langu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Possib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Closures (dfns returning functions with local state – ”function objects”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NB: John would like to point out that installing ”9.0 FRE” uses a separate registry section and is ”safe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5T15:26:23Z</dcterms:created>
  <dc:creator>Morten Kromberg</dc:creator>
  <dc:description/>
  <dc:language>en-US</dc:language>
  <cp:lastModifiedBy>Morten Kromberg</cp:lastModifiedBy>
  <dcterms:modified xsi:type="dcterms:W3CDTF">2006-10-19T05:27:39Z</dcterms:modified>
  <cp:revision>74</cp:revision>
  <dc:subject/>
  <dc:title>Introduction to OO for APLers</dc:title>
</cp:coreProperties>
</file>