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95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72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61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91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41.png" ContentType="image/png"/>
  <Override PartName="/ppt/media/image39.png" ContentType="image/png"/>
  <Override PartName="/ppt/media/image45.png" ContentType="image/png"/>
  <Override PartName="/ppt/media/image46.png" ContentType="image/png"/>
  <Override PartName="/ppt/media/image47.png" ContentType="image/png"/>
  <Override PartName="/ppt/media/image7.wmf" ContentType="image/x-wmf"/>
  <Override PartName="/ppt/media/image50.png" ContentType="image/png"/>
  <Override PartName="/ppt/media/image51.png" ContentType="image/png"/>
  <Override PartName="/ppt/media/image12.png" ContentType="image/png"/>
  <Override PartName="/ppt/media/image49.png" ContentType="image/png"/>
  <Override PartName="/ppt/media/image52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48.png" ContentType="image/png"/>
  <Override PartName="/ppt/media/image9.jpeg" ContentType="image/jpeg"/>
  <Override PartName="/ppt/media/image37.png" ContentType="image/png"/>
  <Override PartName="/ppt/media/image30.png" ContentType="image/png"/>
  <Override PartName="/ppt/media/image38.png" ContentType="image/png"/>
  <Override PartName="/ppt/media/image8.jpeg" ContentType="image/jpeg"/>
  <Override PartName="/ppt/media/image28.png" ContentType="image/png"/>
  <Override PartName="/ppt/media/image5.png" ContentType="image/png"/>
  <Override PartName="/ppt/media/image35.png" ContentType="image/png"/>
  <Override PartName="/ppt/media/image13.png" ContentType="image/png"/>
  <Override PartName="/ppt/media/image53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53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70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6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83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41.xml.rels" ContentType="application/vnd.openxmlformats-package.relationships+xml"/>
  <Override PartName="/ppt/slides/_rels/slide169.xml.rels" ContentType="application/vnd.openxmlformats-package.relationships+xml"/>
  <Override PartName="/ppt/slides/_rels/slide120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7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  <p:sldId id="359" r:id="rId109"/>
    <p:sldId id="360" r:id="rId110"/>
    <p:sldId id="361" r:id="rId111"/>
    <p:sldId id="362" r:id="rId112"/>
    <p:sldId id="363" r:id="rId113"/>
    <p:sldId id="364" r:id="rId114"/>
    <p:sldId id="365" r:id="rId115"/>
    <p:sldId id="366" r:id="rId116"/>
    <p:sldId id="367" r:id="rId117"/>
    <p:sldId id="368" r:id="rId118"/>
    <p:sldId id="369" r:id="rId119"/>
    <p:sldId id="370" r:id="rId120"/>
    <p:sldId id="371" r:id="rId121"/>
    <p:sldId id="372" r:id="rId122"/>
    <p:sldId id="373" r:id="rId123"/>
    <p:sldId id="374" r:id="rId124"/>
    <p:sldId id="375" r:id="rId125"/>
    <p:sldId id="376" r:id="rId126"/>
    <p:sldId id="377" r:id="rId127"/>
    <p:sldId id="378" r:id="rId128"/>
    <p:sldId id="379" r:id="rId129"/>
    <p:sldId id="380" r:id="rId130"/>
    <p:sldId id="381" r:id="rId131"/>
    <p:sldId id="382" r:id="rId132"/>
    <p:sldId id="383" r:id="rId133"/>
    <p:sldId id="384" r:id="rId134"/>
    <p:sldId id="385" r:id="rId135"/>
    <p:sldId id="386" r:id="rId136"/>
    <p:sldId id="387" r:id="rId137"/>
    <p:sldId id="388" r:id="rId138"/>
    <p:sldId id="389" r:id="rId139"/>
    <p:sldId id="390" r:id="rId140"/>
    <p:sldId id="391" r:id="rId141"/>
    <p:sldId id="392" r:id="rId142"/>
    <p:sldId id="393" r:id="rId143"/>
    <p:sldId id="394" r:id="rId144"/>
    <p:sldId id="395" r:id="rId145"/>
    <p:sldId id="396" r:id="rId146"/>
    <p:sldId id="397" r:id="rId147"/>
    <p:sldId id="398" r:id="rId148"/>
    <p:sldId id="399" r:id="rId149"/>
    <p:sldId id="400" r:id="rId150"/>
    <p:sldId id="401" r:id="rId151"/>
    <p:sldId id="402" r:id="rId152"/>
    <p:sldId id="403" r:id="rId153"/>
    <p:sldId id="404" r:id="rId154"/>
    <p:sldId id="405" r:id="rId155"/>
    <p:sldId id="406" r:id="rId156"/>
    <p:sldId id="407" r:id="rId157"/>
    <p:sldId id="408" r:id="rId158"/>
    <p:sldId id="409" r:id="rId159"/>
    <p:sldId id="410" r:id="rId160"/>
    <p:sldId id="411" r:id="rId161"/>
    <p:sldId id="412" r:id="rId162"/>
    <p:sldId id="413" r:id="rId163"/>
    <p:sldId id="414" r:id="rId164"/>
    <p:sldId id="415" r:id="rId165"/>
    <p:sldId id="416" r:id="rId166"/>
    <p:sldId id="417" r:id="rId167"/>
    <p:sldId id="418" r:id="rId168"/>
    <p:sldId id="419" r:id="rId169"/>
    <p:sldId id="420" r:id="rId170"/>
    <p:sldId id="421" r:id="rId171"/>
    <p:sldId id="422" r:id="rId172"/>
    <p:sldId id="423" r:id="rId173"/>
    <p:sldId id="424" r:id="rId174"/>
    <p:sldId id="425" r:id="rId1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slide" Target="slides/slide104.xml"/><Relationship Id="rId110" Type="http://schemas.openxmlformats.org/officeDocument/2006/relationships/slide" Target="slides/slide105.xml"/><Relationship Id="rId111" Type="http://schemas.openxmlformats.org/officeDocument/2006/relationships/slide" Target="slides/slide106.xml"/><Relationship Id="rId112" Type="http://schemas.openxmlformats.org/officeDocument/2006/relationships/slide" Target="slides/slide107.xml"/><Relationship Id="rId113" Type="http://schemas.openxmlformats.org/officeDocument/2006/relationships/slide" Target="slides/slide108.xml"/><Relationship Id="rId114" Type="http://schemas.openxmlformats.org/officeDocument/2006/relationships/slide" Target="slides/slide109.xml"/><Relationship Id="rId115" Type="http://schemas.openxmlformats.org/officeDocument/2006/relationships/slide" Target="slides/slide110.xml"/><Relationship Id="rId116" Type="http://schemas.openxmlformats.org/officeDocument/2006/relationships/slide" Target="slides/slide111.xml"/><Relationship Id="rId117" Type="http://schemas.openxmlformats.org/officeDocument/2006/relationships/slide" Target="slides/slide112.xml"/><Relationship Id="rId118" Type="http://schemas.openxmlformats.org/officeDocument/2006/relationships/slide" Target="slides/slide113.xml"/><Relationship Id="rId119" Type="http://schemas.openxmlformats.org/officeDocument/2006/relationships/slide" Target="slides/slide114.xml"/><Relationship Id="rId120" Type="http://schemas.openxmlformats.org/officeDocument/2006/relationships/slide" Target="slides/slide115.xml"/><Relationship Id="rId121" Type="http://schemas.openxmlformats.org/officeDocument/2006/relationships/slide" Target="slides/slide116.xml"/><Relationship Id="rId122" Type="http://schemas.openxmlformats.org/officeDocument/2006/relationships/slide" Target="slides/slide117.xml"/><Relationship Id="rId123" Type="http://schemas.openxmlformats.org/officeDocument/2006/relationships/slide" Target="slides/slide118.xml"/><Relationship Id="rId124" Type="http://schemas.openxmlformats.org/officeDocument/2006/relationships/slide" Target="slides/slide119.xml"/><Relationship Id="rId125" Type="http://schemas.openxmlformats.org/officeDocument/2006/relationships/slide" Target="slides/slide120.xml"/><Relationship Id="rId126" Type="http://schemas.openxmlformats.org/officeDocument/2006/relationships/slide" Target="slides/slide121.xml"/><Relationship Id="rId127" Type="http://schemas.openxmlformats.org/officeDocument/2006/relationships/slide" Target="slides/slide122.xml"/><Relationship Id="rId128" Type="http://schemas.openxmlformats.org/officeDocument/2006/relationships/slide" Target="slides/slide123.xml"/><Relationship Id="rId129" Type="http://schemas.openxmlformats.org/officeDocument/2006/relationships/slide" Target="slides/slide124.xml"/><Relationship Id="rId130" Type="http://schemas.openxmlformats.org/officeDocument/2006/relationships/slide" Target="slides/slide125.xml"/><Relationship Id="rId131" Type="http://schemas.openxmlformats.org/officeDocument/2006/relationships/slide" Target="slides/slide126.xml"/><Relationship Id="rId132" Type="http://schemas.openxmlformats.org/officeDocument/2006/relationships/slide" Target="slides/slide127.xml"/><Relationship Id="rId133" Type="http://schemas.openxmlformats.org/officeDocument/2006/relationships/slide" Target="slides/slide128.xml"/><Relationship Id="rId134" Type="http://schemas.openxmlformats.org/officeDocument/2006/relationships/slide" Target="slides/slide129.xml"/><Relationship Id="rId135" Type="http://schemas.openxmlformats.org/officeDocument/2006/relationships/slide" Target="slides/slide130.xml"/><Relationship Id="rId136" Type="http://schemas.openxmlformats.org/officeDocument/2006/relationships/slide" Target="slides/slide131.xml"/><Relationship Id="rId137" Type="http://schemas.openxmlformats.org/officeDocument/2006/relationships/slide" Target="slides/slide132.xml"/><Relationship Id="rId138" Type="http://schemas.openxmlformats.org/officeDocument/2006/relationships/slide" Target="slides/slide133.xml"/><Relationship Id="rId139" Type="http://schemas.openxmlformats.org/officeDocument/2006/relationships/slide" Target="slides/slide134.xml"/><Relationship Id="rId140" Type="http://schemas.openxmlformats.org/officeDocument/2006/relationships/slide" Target="slides/slide135.xml"/><Relationship Id="rId141" Type="http://schemas.openxmlformats.org/officeDocument/2006/relationships/slide" Target="slides/slide136.xml"/><Relationship Id="rId142" Type="http://schemas.openxmlformats.org/officeDocument/2006/relationships/slide" Target="slides/slide137.xml"/><Relationship Id="rId143" Type="http://schemas.openxmlformats.org/officeDocument/2006/relationships/slide" Target="slides/slide138.xml"/><Relationship Id="rId144" Type="http://schemas.openxmlformats.org/officeDocument/2006/relationships/slide" Target="slides/slide139.xml"/><Relationship Id="rId145" Type="http://schemas.openxmlformats.org/officeDocument/2006/relationships/slide" Target="slides/slide140.xml"/><Relationship Id="rId146" Type="http://schemas.openxmlformats.org/officeDocument/2006/relationships/slide" Target="slides/slide141.xml"/><Relationship Id="rId147" Type="http://schemas.openxmlformats.org/officeDocument/2006/relationships/slide" Target="slides/slide142.xml"/><Relationship Id="rId148" Type="http://schemas.openxmlformats.org/officeDocument/2006/relationships/slide" Target="slides/slide143.xml"/><Relationship Id="rId149" Type="http://schemas.openxmlformats.org/officeDocument/2006/relationships/slide" Target="slides/slide144.xml"/><Relationship Id="rId150" Type="http://schemas.openxmlformats.org/officeDocument/2006/relationships/slide" Target="slides/slide145.xml"/><Relationship Id="rId151" Type="http://schemas.openxmlformats.org/officeDocument/2006/relationships/slide" Target="slides/slide146.xml"/><Relationship Id="rId152" Type="http://schemas.openxmlformats.org/officeDocument/2006/relationships/slide" Target="slides/slide147.xml"/><Relationship Id="rId153" Type="http://schemas.openxmlformats.org/officeDocument/2006/relationships/slide" Target="slides/slide148.xml"/><Relationship Id="rId154" Type="http://schemas.openxmlformats.org/officeDocument/2006/relationships/slide" Target="slides/slide149.xml"/><Relationship Id="rId155" Type="http://schemas.openxmlformats.org/officeDocument/2006/relationships/slide" Target="slides/slide150.xml"/><Relationship Id="rId156" Type="http://schemas.openxmlformats.org/officeDocument/2006/relationships/slide" Target="slides/slide151.xml"/><Relationship Id="rId157" Type="http://schemas.openxmlformats.org/officeDocument/2006/relationships/slide" Target="slides/slide152.xml"/><Relationship Id="rId158" Type="http://schemas.openxmlformats.org/officeDocument/2006/relationships/slide" Target="slides/slide153.xml"/><Relationship Id="rId159" Type="http://schemas.openxmlformats.org/officeDocument/2006/relationships/slide" Target="slides/slide154.xml"/><Relationship Id="rId160" Type="http://schemas.openxmlformats.org/officeDocument/2006/relationships/slide" Target="slides/slide155.xml"/><Relationship Id="rId161" Type="http://schemas.openxmlformats.org/officeDocument/2006/relationships/slide" Target="slides/slide156.xml"/><Relationship Id="rId162" Type="http://schemas.openxmlformats.org/officeDocument/2006/relationships/slide" Target="slides/slide157.xml"/><Relationship Id="rId163" Type="http://schemas.openxmlformats.org/officeDocument/2006/relationships/slide" Target="slides/slide158.xml"/><Relationship Id="rId164" Type="http://schemas.openxmlformats.org/officeDocument/2006/relationships/slide" Target="slides/slide159.xml"/><Relationship Id="rId165" Type="http://schemas.openxmlformats.org/officeDocument/2006/relationships/slide" Target="slides/slide160.xml"/><Relationship Id="rId166" Type="http://schemas.openxmlformats.org/officeDocument/2006/relationships/slide" Target="slides/slide161.xml"/><Relationship Id="rId167" Type="http://schemas.openxmlformats.org/officeDocument/2006/relationships/slide" Target="slides/slide162.xml"/><Relationship Id="rId168" Type="http://schemas.openxmlformats.org/officeDocument/2006/relationships/slide" Target="slides/slide163.xml"/><Relationship Id="rId169" Type="http://schemas.openxmlformats.org/officeDocument/2006/relationships/slide" Target="slides/slide164.xml"/><Relationship Id="rId170" Type="http://schemas.openxmlformats.org/officeDocument/2006/relationships/slide" Target="slides/slide165.xml"/><Relationship Id="rId171" Type="http://schemas.openxmlformats.org/officeDocument/2006/relationships/slide" Target="slides/slide166.xml"/><Relationship Id="rId172" Type="http://schemas.openxmlformats.org/officeDocument/2006/relationships/slide" Target="slides/slide167.xml"/><Relationship Id="rId173" Type="http://schemas.openxmlformats.org/officeDocument/2006/relationships/slide" Target="slides/slide168.xml"/><Relationship Id="rId174" Type="http://schemas.openxmlformats.org/officeDocument/2006/relationships/slide" Target="slides/slide169.xml"/><Relationship Id="rId175" Type="http://schemas.openxmlformats.org/officeDocument/2006/relationships/slide" Target="slides/slide170.xml"/><Relationship Id="rId1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-36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388584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6CA9B-E8B6-469F-BF51-4227C95E4D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bcd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bcd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2 is not seen from 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’s M2 is still not seen from M1 as it has not been overridden. B’s M2 is only accessible directly by doing inst_B.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2 is only accessible directly by doing inst_B.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 ex: 2.2 is a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better understand why this is, we need to go back a bit a review some notion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gular ns come in 2 flavours: with and without ⎕SR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]DF returns the previous display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gain, nothing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can list the contents of ABC. RED is something WE have ad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not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otion of passing messages is omni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c is replaced comple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ho the Caption is in the form we cannot see it di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ding items is of dubious value (since they are subject to being destroyed upon re-definition) but perfectly le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the 2 forms of []NL usage: F1.[]NC and []NC ‘F1...’. They are 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ption is not something WE have brought in. There are also some INVISIBLE members INSIDE the form but we don’t have access to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regular namespace has NO internal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VERY import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internal members are (have to be) t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art from []DF, all this stuff is not new, it was already in V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 items: field/method x public/private x shared/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S0 &amp; FS0 are invi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y WILL disappear if the class is redefined (e.g. with []FI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ou can also have other NSs within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gain we can add external objects to this instance and they will disappear ASA the class is redefin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behaviour should not be relied up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ed {jot} does the tr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 usual names can be added extern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amples here? Complex, Keyed files, S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could be done via a namespace but the []NS []OR ‘Complex’ + R I&lt;- would be cumber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yntax is more restrictive too: strings MUST be enclosed and named arguments MUST be properly enclosed in V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not a single, widely-agreed upon definition of object-oriented programming. However, a survey of nearly 40 years of computing literature identified a number of fundamental concepts, identified in the strong majority of definitions of OOP. Reliable research supporting or dismissing OOP has been difficult to come b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 the only possible values are 0, 1 and 3. 3 is new, 0 &amp; 1 were in V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yntax is more restrictive too: strings MUST be enclosed and named arguments MUST be properly enclosed in V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Dialo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class creates instances with standard buttons attached to the bott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ou don’t HAVE to but it is a good idea to create your classes in separate namespa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e C# and other languages will be able to use fn &lt;GenIndices&gt; which takes an Int and returns a list of 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is compulsory, GREEN is op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THAT easy! Let’s assume it is in ns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APLClass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ice the name used is the name declared, not the original APL name u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gain, this is not new, it existed in V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is like a “struct” defin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code goes in an ASMX file. </a:t>
            </a:r>
            <a:r>
              <a:rPr b="0" lang="en-GB" sz="1200" spc="-1" strike="noStrike">
                <a:solidFill>
                  <a:srgbClr val="009999"/>
                </a:solidFill>
                <a:latin typeface="Arial"/>
              </a:rPr>
              <a:t>System.Web.Services.WebService is an inte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ML is generated from the ASMX file that looks like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code goes in an ASMX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not new, you could already edit APL code in text files outside the interpreter in V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th V11 this can now be done INSIDE the se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L has always used overloading internally when dealing with primitives like + and 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not if coders end up doing simple things in complex ways just because they c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: 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aneuverin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nterface could require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teerin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powe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mplementation and 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a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class could implement it via a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teering whee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and an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ped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 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la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class could implement it via a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tic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for steering and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ro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for power and 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oa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class via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rudde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ail movem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ws releases memory when unused. New prim are squash, power, enhancements are to LCM &amp; G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rfaces allow to map some names (from the class) onto another set of names (of the instanc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: a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Volvo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could be an instance of 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a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Cessn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an instance of 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la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 In OO there are many types of objects, they are not listed here (e.g. singleton, immutable, prototyp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 all OO languages support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destructor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(or even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constructor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.  Instances are also called ‘actors’ in some liter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ured works in italic are found in DYW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. of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destructo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file to be unt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y can also be prot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har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also called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as in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method). Shared code can be called directly via the class, no instance requi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languages use the term FINAL instead of READONLY; the terms vary from one language to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har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also called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as in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method). Ex: VISIBLE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hing to do with money </a:t>
            </a: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  Not all languages support it, e.g. VB, it is an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bject-bas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ue is a class, green is an instance. Fido is an instance of a Collie. It also has all the characteristics of a Dog and an Ani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will be interactive, stop and ask questions any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are many ways to do this and not all languages do it in a consistent manner. There is a lot is disagreement in that fie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and B are independant. &lt;M2&gt; is a subroutine of &lt;M1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 is based on A. When it calls M1, M2 is not seen from M1. M2 could be called by other f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 wants to override M2 but A does not allow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OO languages do NOT offer encaps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quares are classes. It’s akin to localized vars in APL (except that they can be seen in subfns. SHARED is also called STATIC someti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ter on, Stephen Taylor will present a real lif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akin to localized vars in APL. Protected is not supported yet in DY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are also other possibilities. Not all languages support these concepts. DYW does not.  This one is, among others, seen in C++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upled with nesting the complexity of a system can become overwhelm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can do that in APL using :case on []DR of the arg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Foo is called with an integer the left fn is used. If it is called with a string the right one is used. Else an error occu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common example is the primitive ‘+’ which is overloaded in most languages. Its args have to be often coerced (e.g. 1+0.5+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 because everyone else is doing it or MS$ (or anyone else) sets the trend or... Explain in more detail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will now go over each one of these, not necessarily in the same or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the circle to denote editing a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od is a fn, op or Dfn/op. Only regular fns can be public. Properties are like variables whose assignment (or reading) is caught via a fn BEFORE being done.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’ll see this in more details in the Encapsulation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may be more than 1 constru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erties can be shared too; ra contains Name (their can be many!), NewValue &amp; maybe Ind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fns are not really cop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ou had to use the Properties windows on fns and to export the 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fancy naming (“message passing”) scheme does not apply here – its use is kept to stay synchronized with the fundamental concepts s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ember this? Rex is a Collie, a Dog, an Ani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e’s a simpler examp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arrot  calls Bird’s constructor to create Desc, then, upon return, Desc is mod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time constructors will take arg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[]NL -2 and the format returned. ‘minus’ means ‘Public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 of called constructors. Before setting it Name, Collie calls the Dog ctor which, before setting its Type, calls the Animal 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New discipline, paradigm, technology, methodology. The acceptance was due a lot to C-&gt;C++ by not having programmers to learn a new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these statements are not used the default is </a:t>
            </a:r>
            <a:r>
              <a:rPr b="0" i="1" lang="en-GB" sz="1200" spc="-1" strike="noStrike">
                <a:solidFill>
                  <a:srgbClr val="99cc00"/>
                </a:solidFill>
                <a:latin typeface="Arial"/>
              </a:rPr>
              <a:t>priv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AST word in the :FIELD statements is the var n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is a slight difference between a variable and a private instance field: their []N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order is unimportant; if &lt;general&gt; is not there and there is no match on the length a LENGTH error will be repo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es can include pointers to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Ss can have a source too – to be seen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 interface is a way to achieve MULTIPLE inheritance, which is not offered in all languages and not in DY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the jot to denote “edit an interface”. This is a way to standardize naming conven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S cannot be defined in classes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ose will now be explained. The usual APL rules apply when dealing with properties where it makes sense (e.g. (3 take rotate prop)&lt;-v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apitalization of the S/GET fns is unimportant. The name is supplied as many names can share the property and the code may react differently to ea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eyed is often used in M$ soft like Excel (e.g. Sheet[‘sheet1’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et/get fns are called ONCE per index (until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ra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available). This type of property is the only one that requires a SHAPE f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ndexer value will be a vector of the same length as SHA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can only happen for simple &amp; numbered props as keyed props need indexers to be suppl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ghtweight properties; simplifies code. The call is made AFTER the assig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tails fo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Base is used to pass arguments to the base class’ 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⎕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se is used to call the base class’ fn if public of cou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A33F-D586-4D93-B63E-EBD9072A9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998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5C9C-8CE5-4168-94BD-B78136C26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998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998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CBA4-BB5E-46F0-B425-DDC6ECBA2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998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998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998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13AA-804D-486F-B03F-237E21ED9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D4A1D-7F9D-4EE0-A1D9-9703E7A81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9F684-DB68-49A0-A1C4-07AE6F466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A1F94-6C47-4BF9-8AB8-B0BB641A5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D851E-BDDC-4C78-9940-326F2F41B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7F0D8-A82B-48FF-8F08-7F7FC7342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2F9C9-FBA5-4C30-9922-7624189EA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7998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A5D4B-5735-403F-BA81-00B99573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0A08-D4B3-466E-BEB0-20C07B0F4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7998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5A2FC-6ADA-47F6-A38A-34999E31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7998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58E91-C4A7-47D3-AE40-781E44BB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7998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66214-9B89-4E99-B4FD-A7523BE2A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7998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7998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C85D0-3509-46E0-9007-F8D169486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7998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7998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7998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C9E1C-BA48-4B51-B9A2-FB1FD2849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4E8A5-3C50-493F-80A4-8C5E98404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98A97-CA1C-49FC-8DD7-F2ACD0722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F08AD-B4BA-4328-A245-E3B56044C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7B5A8-D8C4-40F2-B08B-8ABC7322B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AFF24-7BD4-4377-A2EC-9B193E1D6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B508-3D07-4FC5-B30D-6A9AC8F08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89863-02A8-4159-A55A-3E087964F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7998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2C9AC-66E7-47B4-80E5-2EC8D234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37998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897B2-BA08-47F2-8277-A505908F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37998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BEEF1-AA67-4BAF-ADD2-AB3ED7FF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37998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F4E7B-1EDC-4E18-A1E8-AACDC8BF0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37998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37998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5F091-7BBA-4B01-A158-71F290F8B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37998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37998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37998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A09A6-813F-452B-BDA5-E6F45BA19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F6AB-59B7-4A0B-A236-252FE1C75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F60D-713A-4F07-97F0-E013A3FEF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5BA3-D3F7-4B57-9CDC-C3C30E44C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998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F004-4825-4BEA-99CB-21FF9B90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998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554A-2630-4F7B-9A47-15055FC8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998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1A2B-2E15-43F6-82C1-948A7576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cd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826CE-B1EA-4387-915E-59AB94934FB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bcd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97BF5-ABE4-4112-B192-317B6D147E2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A1AD7-A618-4C63-818C-8578D600D2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4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4600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90082"/>
                </a:solidFill>
                <a:latin typeface="Arial Black"/>
              </a:rPr>
              <a:t>Object Oriented Programming in APL</a:t>
            </a:r>
            <a:endParaRPr b="0" lang="en-US" sz="44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050920" y="2133720"/>
            <a:ext cx="511344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A New Sense of Direction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(Oh, Oh!)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Dan Baronet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2006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80808"/>
                </a:solidFill>
                <a:latin typeface="Arial"/>
              </a:rPr>
              <a:t>V1.01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The evolution of data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827856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n traditional (procedural) systems, data is separated from code: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16000" y="2637000"/>
            <a:ext cx="720720" cy="1081080"/>
          </a:xfrm>
          <a:prstGeom prst="flowChartInputOutput">
            <a:avLst/>
          </a:prstGeom>
          <a:solidFill>
            <a:srgbClr val="fbcd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16000" y="3789360"/>
            <a:ext cx="720720" cy="1081080"/>
          </a:xfrm>
          <a:prstGeom prst="flowChartInputOutput">
            <a:avLst/>
          </a:prstGeom>
          <a:solidFill>
            <a:srgbClr val="fbcd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484360" y="4797360"/>
            <a:ext cx="720720" cy="1081080"/>
          </a:xfrm>
          <a:prstGeom prst="flowChartInputOutput">
            <a:avLst/>
          </a:prstGeom>
          <a:solidFill>
            <a:srgbClr val="fbcd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020000" y="2637000"/>
            <a:ext cx="720720" cy="1081080"/>
          </a:xfrm>
          <a:prstGeom prst="flowChartInputOutput">
            <a:avLst/>
          </a:prstGeom>
          <a:solidFill>
            <a:srgbClr val="fbcd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780000" y="2781360"/>
            <a:ext cx="1081080" cy="720720"/>
          </a:xfrm>
          <a:prstGeom prst="flowChartProcess">
            <a:avLst/>
          </a:prstGeom>
          <a:solidFill>
            <a:srgbClr val="cc99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778200" y="3789360"/>
            <a:ext cx="1081080" cy="720720"/>
          </a:xfrm>
          <a:prstGeom prst="flowChartProcess">
            <a:avLst/>
          </a:prstGeom>
          <a:solidFill>
            <a:srgbClr val="cc99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780000" y="4797360"/>
            <a:ext cx="1081080" cy="720720"/>
          </a:xfrm>
          <a:prstGeom prst="flowChartProcess">
            <a:avLst/>
          </a:prstGeom>
          <a:solidFill>
            <a:srgbClr val="cc99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322880" y="2276640"/>
            <a:ext cx="0" cy="50472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327560" y="5516640"/>
            <a:ext cx="0" cy="50472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27560" y="3500280"/>
            <a:ext cx="0" cy="28908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313160" y="4508640"/>
            <a:ext cx="0" cy="28872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cxnSp>
        <p:nvCxnSpPr>
          <p:cNvPr id="166" name=""/>
          <p:cNvCxnSpPr>
            <a:stCxn id="155" idx="5"/>
            <a:endCxn id="159" idx="1"/>
          </p:cNvCxnSpPr>
          <p:nvPr/>
        </p:nvCxnSpPr>
        <p:spPr>
          <a:xfrm flipV="1">
            <a:off x="1763280" y="3141000"/>
            <a:ext cx="2017080" cy="37080"/>
          </a:xfrm>
          <a:prstGeom prst="straightConnector1">
            <a:avLst/>
          </a:prstGeom>
          <a:ln w="9360">
            <a:solidFill>
              <a:srgbClr val="080808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7" name=""/>
          <p:cNvCxnSpPr>
            <a:stCxn id="159" idx="3"/>
            <a:endCxn id="158" idx="2"/>
          </p:cNvCxnSpPr>
          <p:nvPr/>
        </p:nvCxnSpPr>
        <p:spPr>
          <a:xfrm>
            <a:off x="4860720" y="3141360"/>
            <a:ext cx="2230920" cy="37080"/>
          </a:xfrm>
          <a:prstGeom prst="straightConnector1">
            <a:avLst/>
          </a:prstGeom>
          <a:ln w="9360">
            <a:solidFill>
              <a:srgbClr val="080808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8" name=""/>
          <p:cNvCxnSpPr>
            <a:stCxn id="156" idx="5"/>
            <a:endCxn id="159" idx="1"/>
          </p:cNvCxnSpPr>
          <p:nvPr/>
        </p:nvCxnSpPr>
        <p:spPr>
          <a:xfrm flipV="1">
            <a:off x="1763280" y="3141000"/>
            <a:ext cx="2017080" cy="1189800"/>
          </a:xfrm>
          <a:prstGeom prst="straightConnector1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56" idx="5"/>
            <a:endCxn id="160" idx="1"/>
          </p:cNvCxnSpPr>
          <p:nvPr/>
        </p:nvCxnSpPr>
        <p:spPr>
          <a:xfrm flipV="1">
            <a:off x="1763640" y="4149000"/>
            <a:ext cx="2015280" cy="181800"/>
          </a:xfrm>
          <a:prstGeom prst="straightConnector1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0" idx="3"/>
            <a:endCxn id="158" idx="2"/>
          </p:cNvCxnSpPr>
          <p:nvPr/>
        </p:nvCxnSpPr>
        <p:spPr>
          <a:xfrm flipV="1">
            <a:off x="4859280" y="3177360"/>
            <a:ext cx="2232720" cy="972360"/>
          </a:xfrm>
          <a:prstGeom prst="straightConnector1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57" idx="5"/>
            <a:endCxn id="161" idx="1"/>
          </p:cNvCxnSpPr>
          <p:nvPr/>
        </p:nvCxnSpPr>
        <p:spPr>
          <a:xfrm flipV="1">
            <a:off x="3132000" y="5157000"/>
            <a:ext cx="648360" cy="181800"/>
          </a:xfrm>
          <a:prstGeom prst="straightConnector1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12F9-7FD2-4A1E-BFB5-45B1707B795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Non-Based class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667" name=""/>
          <p:cNvSpPr/>
          <p:nvPr/>
        </p:nvSpPr>
        <p:spPr>
          <a:xfrm>
            <a:off x="1087560" y="5300640"/>
            <a:ext cx="25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 calls its own M2: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(⎕NEW A).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335560" y="5276880"/>
            <a:ext cx="25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 calls its own M2: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(⎕NEW B).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B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900000" y="2205000"/>
            <a:ext cx="129708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411280" y="292572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A’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835280" y="3141720"/>
            <a:ext cx="79200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547640" y="2781360"/>
            <a:ext cx="0" cy="28728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1619280" y="3502080"/>
            <a:ext cx="9367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547640" y="3502080"/>
            <a:ext cx="0" cy="43164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788000" y="2181240"/>
            <a:ext cx="129672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6299280" y="290196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B’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722920" y="3117960"/>
            <a:ext cx="79236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5435640" y="2757600"/>
            <a:ext cx="0" cy="28728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flipH="1">
            <a:off x="5506920" y="3478320"/>
            <a:ext cx="9367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435640" y="3478320"/>
            <a:ext cx="0" cy="43164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1890360" y="14320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Class A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5870160" y="141120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Class B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0706-43CB-4F13-8933-2ED4113EB050}" type="slidenum">
              <a:t>10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Based class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pic>
        <p:nvPicPr>
          <p:cNvPr id="684" name="" descr=""/>
          <p:cNvPicPr/>
          <p:nvPr/>
        </p:nvPicPr>
        <p:blipFill>
          <a:blip r:embed="rId2"/>
          <a:stretch/>
        </p:blipFill>
        <p:spPr>
          <a:xfrm>
            <a:off x="1058760" y="1628640"/>
            <a:ext cx="2803680" cy="3529080"/>
          </a:xfrm>
          <a:prstGeom prst="rect">
            <a:avLst/>
          </a:prstGeom>
          <a:ln w="0">
            <a:noFill/>
          </a:ln>
        </p:spPr>
      </p:pic>
      <p:sp>
        <p:nvSpPr>
          <p:cNvPr id="685" name=""/>
          <p:cNvSpPr/>
          <p:nvPr/>
        </p:nvSpPr>
        <p:spPr>
          <a:xfrm>
            <a:off x="1126800" y="5445000"/>
            <a:ext cx="263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 calls its own M2: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(⎕NEW A).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5191200" y="5373720"/>
            <a:ext cx="25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 calls its own M2: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(⎕NEW B).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687" name="" descr=""/>
          <p:cNvPicPr/>
          <p:nvPr/>
        </p:nvPicPr>
        <p:blipFill>
          <a:blip r:embed="rId3"/>
          <a:stretch/>
        </p:blipFill>
        <p:spPr>
          <a:xfrm>
            <a:off x="5219640" y="1628640"/>
            <a:ext cx="2603520" cy="349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3263-A243-4114-8055-D0DBC5979D2D}" type="slidenum">
              <a:t>10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Based class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689" name=""/>
          <p:cNvSpPr/>
          <p:nvPr/>
        </p:nvSpPr>
        <p:spPr>
          <a:xfrm>
            <a:off x="1087560" y="5300640"/>
            <a:ext cx="25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 calls its own M2: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(⎕NEW A).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335560" y="5276880"/>
            <a:ext cx="25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 calls its own M2: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(⎕NEW B).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900000" y="2205000"/>
            <a:ext cx="129708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2411280" y="292572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A’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835280" y="3141720"/>
            <a:ext cx="79200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1547640" y="2781360"/>
            <a:ext cx="0" cy="28728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1619280" y="3502080"/>
            <a:ext cx="9367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1547640" y="3502080"/>
            <a:ext cx="0" cy="43164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1547640" y="2060640"/>
            <a:ext cx="48247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547640" y="2060640"/>
            <a:ext cx="0" cy="36036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1547640" y="3933720"/>
            <a:ext cx="48247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292720" y="2027160"/>
            <a:ext cx="232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There is no M1 in B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so A’s (on which B is based) M1 is used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651640" y="2962440"/>
            <a:ext cx="129672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B’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1890360" y="14320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Class A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5510520" y="141300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Class B: A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8203-C2AF-496E-83AE-2DED5B193265}" type="slidenum">
              <a:t>10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verridden class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705" name=""/>
          <p:cNvSpPr/>
          <p:nvPr/>
        </p:nvSpPr>
        <p:spPr>
          <a:xfrm>
            <a:off x="1126800" y="5445000"/>
            <a:ext cx="263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 calls its own M2: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(⎕NEW A).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154120" y="5373720"/>
            <a:ext cx="343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 calls its own M2 becaus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t has 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not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 been overridden: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(⎕NEW B).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2"/>
          <a:stretch/>
        </p:blipFill>
        <p:spPr>
          <a:xfrm>
            <a:off x="684360" y="1628640"/>
            <a:ext cx="3960720" cy="3459240"/>
          </a:xfrm>
          <a:prstGeom prst="rect">
            <a:avLst/>
          </a:prstGeom>
          <a:ln w="0">
            <a:noFill/>
          </a:ln>
        </p:spPr>
      </p:pic>
      <p:sp>
        <p:nvSpPr>
          <p:cNvPr id="708" name=""/>
          <p:cNvSpPr/>
          <p:nvPr/>
        </p:nvSpPr>
        <p:spPr>
          <a:xfrm>
            <a:off x="3059280" y="3645000"/>
            <a:ext cx="1368360" cy="28872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3"/>
          <a:stretch/>
        </p:blipFill>
        <p:spPr>
          <a:xfrm>
            <a:off x="5148360" y="1628640"/>
            <a:ext cx="2604960" cy="3424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7601-DA5C-4AFA-A08F-0BC3FEC5396E}" type="slidenum">
              <a:t>10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Based class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711" name=""/>
          <p:cNvSpPr/>
          <p:nvPr/>
        </p:nvSpPr>
        <p:spPr>
          <a:xfrm>
            <a:off x="1087560" y="5300640"/>
            <a:ext cx="25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 calls its own M2: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(⎕NEW A).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335560" y="5276880"/>
            <a:ext cx="25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 calls its own M2: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(⎕NEW B).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900000" y="2205000"/>
            <a:ext cx="129708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2411280" y="292572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A’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835280" y="3141720"/>
            <a:ext cx="79200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547640" y="2781360"/>
            <a:ext cx="0" cy="28728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619280" y="3502080"/>
            <a:ext cx="9367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1547640" y="3502080"/>
            <a:ext cx="0" cy="43164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H="1">
            <a:off x="1547640" y="2060640"/>
            <a:ext cx="48247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547640" y="2060640"/>
            <a:ext cx="0" cy="36036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1547640" y="3933720"/>
            <a:ext cx="48247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292720" y="2008080"/>
            <a:ext cx="232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There is no M1 in B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so A’s (on which B is based) M1 is used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724360" y="292428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B’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890360" y="14320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Class A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5510520" y="141300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Class B: A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C2B6-3330-4529-BAFA-53FD58740B09}" type="slidenum">
              <a:t>10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" descr=""/>
          <p:cNvPicPr/>
          <p:nvPr/>
        </p:nvPicPr>
        <p:blipFill>
          <a:blip r:embed="rId2"/>
          <a:stretch/>
        </p:blipFill>
        <p:spPr>
          <a:xfrm>
            <a:off x="4788000" y="1628640"/>
            <a:ext cx="3568680" cy="3419640"/>
          </a:xfrm>
          <a:prstGeom prst="rect">
            <a:avLst/>
          </a:prstGeom>
          <a:ln w="0">
            <a:noFill/>
          </a:ln>
        </p:spPr>
      </p:pic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verridden class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728" name=""/>
          <p:cNvSpPr/>
          <p:nvPr/>
        </p:nvSpPr>
        <p:spPr>
          <a:xfrm>
            <a:off x="1126800" y="5445000"/>
            <a:ext cx="263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 calls its own M2: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(⎕NEW A).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154120" y="5373720"/>
            <a:ext cx="304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 calls B’s M2 becaus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t 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has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 been overridden: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(⎕NEW B).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3"/>
          <a:stretch/>
        </p:blipFill>
        <p:spPr>
          <a:xfrm>
            <a:off x="684360" y="1628640"/>
            <a:ext cx="3960720" cy="3459240"/>
          </a:xfrm>
          <a:prstGeom prst="rect">
            <a:avLst/>
          </a:prstGeom>
          <a:ln w="0">
            <a:noFill/>
          </a:ln>
        </p:spPr>
      </p:pic>
      <p:sp>
        <p:nvSpPr>
          <p:cNvPr id="731" name=""/>
          <p:cNvSpPr/>
          <p:nvPr/>
        </p:nvSpPr>
        <p:spPr>
          <a:xfrm>
            <a:off x="3059280" y="3645000"/>
            <a:ext cx="1368360" cy="28872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7085160" y="3602160"/>
            <a:ext cx="996840" cy="28872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1899-8311-43AF-9DA5-D2F24CE25CEE}" type="slidenum">
              <a:t>10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5680080" y="292428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B’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Based class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735" name=""/>
          <p:cNvSpPr/>
          <p:nvPr/>
        </p:nvSpPr>
        <p:spPr>
          <a:xfrm>
            <a:off x="1087560" y="5300640"/>
            <a:ext cx="25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 calls its own M2: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(⎕NEW A).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65080" y="5276880"/>
            <a:ext cx="251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 calls B’s M2: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(⎕NEW B).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B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900000" y="2205000"/>
            <a:ext cx="129708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2411280" y="2925720"/>
            <a:ext cx="1297080" cy="720720"/>
          </a:xfrm>
          <a:prstGeom prst="flowChartProcess">
            <a:avLst/>
          </a:prstGeom>
          <a:solidFill>
            <a:srgbClr val="bbe0e3">
              <a:alpha val="36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I am A’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1835280" y="3141720"/>
            <a:ext cx="39607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547640" y="2781360"/>
            <a:ext cx="0" cy="28728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1547640" y="3502080"/>
            <a:ext cx="0" cy="43164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1890360" y="14320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Class A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flipH="1">
            <a:off x="1547640" y="2060640"/>
            <a:ext cx="48247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547640" y="2060640"/>
            <a:ext cx="0" cy="36036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547640" y="3933720"/>
            <a:ext cx="48247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5272200" y="2027160"/>
            <a:ext cx="232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There is no M1 in B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so A’s (on which B is based) M1 is used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H="1">
            <a:off x="1547280" y="3500280"/>
            <a:ext cx="424836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5510520" y="141300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Class B: A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002E-4073-4A37-AE39-CA1E0A224BAE}" type="slidenum">
              <a:t>10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 detail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468000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Destructor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They are used to clean-up after an instance is destroyed: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KingLear←⎕new life 'Lear'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King  Lear  is born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)erase KingLear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Lear  is dead, long live the king.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751" name="" descr=""/>
          <p:cNvPicPr/>
          <p:nvPr/>
        </p:nvPicPr>
        <p:blipFill>
          <a:blip r:embed="rId2"/>
          <a:stretch/>
        </p:blipFill>
        <p:spPr>
          <a:xfrm>
            <a:off x="5292720" y="1557360"/>
            <a:ext cx="3625920" cy="301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29DE-F882-4A65-B509-801530C50258}" type="slidenum">
              <a:t>10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11280" y="152280"/>
            <a:ext cx="820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bcdff"/>
                </a:solidFill>
                <a:latin typeface="Arial Black"/>
              </a:rPr>
              <a:t>Implementation details: </a:t>
            </a:r>
            <a:r>
              <a:rPr b="0" lang="en-US" sz="2800" spc="-1" strike="noStrike">
                <a:solidFill>
                  <a:srgbClr val="fbcdff"/>
                </a:solidFill>
                <a:latin typeface="Arial Black"/>
              </a:rPr>
              <a:t>⎕NC/⎕NL </a:t>
            </a:r>
            <a:endParaRPr b="0" lang="en-US" sz="28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1" lang="en-US" sz="3200" spc="-1" strike="noStrike">
                <a:solidFill>
                  <a:srgbClr val="080808"/>
                </a:solidFill>
                <a:latin typeface="Arial"/>
              </a:rPr>
              <a:t>NC/⎕NL extension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Those 2 system functions have been extended to deal with the new objects.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Since classes and instances are a </a:t>
            </a:r>
            <a:r>
              <a:rPr b="0" i="1" lang="en-GB" sz="2400" spc="-1" strike="noStrike">
                <a:solidFill>
                  <a:srgbClr val="080808"/>
                </a:solidFill>
                <a:latin typeface="Arial"/>
              </a:rPr>
              <a:t>type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 of namespace their </a:t>
            </a:r>
            <a:r>
              <a:rPr b="0" i="1" lang="en-GB" sz="2400" spc="-1" strike="noStrike">
                <a:solidFill>
                  <a:srgbClr val="080808"/>
                </a:solidFill>
                <a:latin typeface="Arial"/>
              </a:rPr>
              <a:t>basic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 classification is 9: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NC ‘myClass’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To find their </a:t>
            </a:r>
            <a:r>
              <a:rPr b="0" i="1" lang="en-GB" sz="2400" spc="-1" strike="noStrike">
                <a:solidFill>
                  <a:srgbClr val="080808"/>
                </a:solidFill>
                <a:latin typeface="Arial"/>
              </a:rPr>
              <a:t>sub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-class they need to be enclosed: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NC </a:t>
            </a:r>
            <a:r>
              <a:rPr b="0" lang="en-GB" sz="2400" spc="-1" strike="noStrike">
                <a:solidFill>
                  <a:srgbClr val="080808"/>
                </a:solidFill>
                <a:latin typeface="APL385 Unicode"/>
              </a:rPr>
              <a:t>⊂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‘myClass’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9.4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0569-7B04-4E5C-9839-57F184A5FD42}" type="slidenum">
              <a:t>10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11280" y="152280"/>
            <a:ext cx="820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bcdff"/>
                </a:solidFill>
                <a:latin typeface="Arial Black"/>
              </a:rPr>
              <a:t>Implementation details: </a:t>
            </a:r>
            <a:r>
              <a:rPr b="0" lang="en-US" sz="2800" spc="-1" strike="noStrike">
                <a:solidFill>
                  <a:srgbClr val="fbcdff"/>
                </a:solidFill>
                <a:latin typeface="Arial Black"/>
              </a:rPr>
              <a:t>⎕NC/⎕NL </a:t>
            </a:r>
            <a:endParaRPr b="0" lang="en-US" sz="28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NC/⎕NL extension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NL has also been extended to report all objects of a given sub-class: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⍴⍴⎕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NL 9.4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Furthermore, if one of the argument to ⎕NL is negative the result is returned in vector format: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⍴⍴⎕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NL -9.4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5261-E499-4F39-A373-7C24293FA558}" type="slidenum">
              <a:t>10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The evolution of data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827856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is is the same in traditional APL systems, data is separated from code: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590840" y="2708280"/>
            <a:ext cx="5933880" cy="2897280"/>
            <a:chOff x="1590840" y="2708280"/>
            <a:chExt cx="5933880" cy="2897280"/>
          </a:xfrm>
        </p:grpSpPr>
        <p:pic>
          <p:nvPicPr>
            <p:cNvPr id="175" name="" descr=""/>
            <p:cNvPicPr/>
            <p:nvPr/>
          </p:nvPicPr>
          <p:blipFill>
            <a:blip r:embed="rId2"/>
            <a:stretch/>
          </p:blipFill>
          <p:spPr>
            <a:xfrm>
              <a:off x="1590840" y="2708280"/>
              <a:ext cx="5933880" cy="289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1656720" y="4181040"/>
              <a:ext cx="1038600" cy="491040"/>
            </a:xfrm>
            <a:prstGeom prst="rect">
              <a:avLst/>
            </a:prstGeom>
            <a:solidFill>
              <a:srgbClr val="fbcdff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499560" y="4708440"/>
              <a:ext cx="1038960" cy="491040"/>
            </a:xfrm>
            <a:prstGeom prst="rect">
              <a:avLst/>
            </a:prstGeom>
            <a:solidFill>
              <a:srgbClr val="fbcdff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56720" y="3657600"/>
              <a:ext cx="1038600" cy="491040"/>
            </a:xfrm>
            <a:prstGeom prst="rect">
              <a:avLst/>
            </a:prstGeom>
            <a:solidFill>
              <a:srgbClr val="fbcdff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707280" y="3665520"/>
              <a:ext cx="1038600" cy="491040"/>
            </a:xfrm>
            <a:prstGeom prst="rect">
              <a:avLst/>
            </a:prstGeom>
            <a:solidFill>
              <a:srgbClr val="fbcdff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950000" y="3661560"/>
              <a:ext cx="1038600" cy="491040"/>
            </a:xfrm>
            <a:prstGeom prst="rect">
              <a:avLst/>
            </a:prstGeom>
            <a:solidFill>
              <a:srgbClr val="fbcdff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56080" y="4181040"/>
              <a:ext cx="1038600" cy="491040"/>
            </a:xfrm>
            <a:prstGeom prst="rect">
              <a:avLst/>
            </a:prstGeom>
            <a:solidFill>
              <a:srgbClr val="fbcdff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183360" y="3653640"/>
              <a:ext cx="1038600" cy="490680"/>
            </a:xfrm>
            <a:prstGeom prst="rect">
              <a:avLst/>
            </a:prstGeom>
            <a:solidFill>
              <a:srgbClr val="fbcdff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22F3-642B-4826-90C9-FF43468C859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11280" y="152280"/>
            <a:ext cx="820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bcdff"/>
                </a:solidFill>
                <a:latin typeface="Arial Black"/>
              </a:rPr>
              <a:t>Implementation details: </a:t>
            </a:r>
            <a:r>
              <a:rPr b="0" lang="en-US" sz="2800" spc="-1" strike="noStrike">
                <a:solidFill>
                  <a:srgbClr val="fbcdff"/>
                </a:solidFill>
                <a:latin typeface="Arial Black"/>
              </a:rPr>
              <a:t>⎕NC/⎕NL </a:t>
            </a:r>
            <a:endParaRPr b="0" lang="en-US" sz="28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NC/⎕NL extension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NL and 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⎕NC are symmetric such that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n∊⎕NC ⎕NL |n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vn∊⎕NL-⎕NC¨vn  ⍝ vn is a list of name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72BC-3868-4302-A71D-45C20B0A1184}" type="slidenum">
              <a:t>1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11280" y="152280"/>
            <a:ext cx="820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bcdff"/>
                </a:solidFill>
                <a:latin typeface="Arial Black"/>
              </a:rPr>
              <a:t>Implementation details: </a:t>
            </a:r>
            <a:r>
              <a:rPr b="0" lang="en-US" sz="2800" spc="-1" strike="noStrike">
                <a:solidFill>
                  <a:srgbClr val="fbcdff"/>
                </a:solidFill>
                <a:latin typeface="Arial Black"/>
              </a:rPr>
              <a:t>⎕NC/⎕NL </a:t>
            </a:r>
            <a:endParaRPr b="0" lang="en-US" sz="28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324000" y="141300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NC/⎕NL extension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NL and 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⎕NC also apply to variables and functions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The complete list is: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2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3/4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n.1  Variable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Traditional fn/op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NS created by ⎕NS               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n.2  Field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D-fns or –op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Instance (could be form)        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n.3  Property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Derived/Primitive            -                     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n.4  -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Class                           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n.5  -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Interface                       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n.6  External/shared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External          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External Class                  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n.7  -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External Interface              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0CAA-DB60-4471-A470-FE8BC9074C26}" type="slidenum">
              <a:t>1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11280" y="152280"/>
            <a:ext cx="820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bcdff"/>
                </a:solidFill>
                <a:latin typeface="Arial Black"/>
              </a:rPr>
              <a:t>Implementation details: </a:t>
            </a:r>
            <a:r>
              <a:rPr b="0" lang="en-US" sz="2800" spc="-1" strike="noStrike">
                <a:solidFill>
                  <a:srgbClr val="fbcdff"/>
                </a:solidFill>
                <a:latin typeface="Arial Black"/>
              </a:rPr>
              <a:t>⎕NC/⎕NL </a:t>
            </a:r>
            <a:endParaRPr b="0" lang="en-US" sz="28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324000" y="141300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NC/⎕NL extension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NL also reports instance members when used with a negative argument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instance.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⎕NL -2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.1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⍝ report all field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ADF1-54A7-41AF-B7D6-5ABCBB2B48C5}" type="slidenum">
              <a:t>1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80808"/>
                </a:solidFill>
                <a:latin typeface="Arial"/>
              </a:rPr>
              <a:t>Types</a:t>
            </a: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 of Namespaces and their ⎕NC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 1</a:t>
            </a:r>
            <a:r>
              <a:rPr b="0" lang="en-GB" sz="3200" spc="-1" strike="noStrike" baseline="30000">
                <a:solidFill>
                  <a:srgbClr val="080808"/>
                </a:solidFill>
                <a:latin typeface="Arial"/>
              </a:rPr>
              <a:t>st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two already existed in V10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Regular NS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9.1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Forms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9.2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nstances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9.2 (NOT 9.3!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Classes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9.4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nterfaces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9.5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title"/>
          </p:nvPr>
        </p:nvSpPr>
        <p:spPr>
          <a:xfrm>
            <a:off x="611280" y="152280"/>
            <a:ext cx="820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bcdff"/>
                </a:solidFill>
                <a:latin typeface="Arial Black"/>
              </a:rPr>
              <a:t>Implementation details</a:t>
            </a:r>
            <a:endParaRPr b="0" lang="en-US" sz="44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8666-7283-46B1-BB9C-5723519CAA7D}" type="slidenum">
              <a:t>1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8278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 details: ⎕DF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68000" y="1411200"/>
            <a:ext cx="849636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 default display form of a namespace is its path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+‘t1.s1’ ⎕NS ‘’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#.t1.s1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We can change this using ⎕DF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1.s1.⎕df  ‘(S1: son of t1)’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1.s1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(S1: son of t1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F0F7-F53E-401B-B91C-D05A3370E2EE}" type="slidenum">
              <a:t>1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Display form of namespac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91760" y="1484280"/>
            <a:ext cx="83278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abc</a:t>
            </a:r>
            <a:r>
              <a:rPr b="0" lang="en-GB" sz="2800" spc="-1" strike="noStrike">
                <a:solidFill>
                  <a:srgbClr val="080808"/>
                </a:solidFill>
                <a:latin typeface="APL385 Unicode"/>
              </a:rPr>
              <a:t>←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1.s1   ⍝ even if assigned a new name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abc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⍝ what does this look like?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(S1: son of t1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abc≡t1.s1   ⍝ it “remembers” its reference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⍬≡⍴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abc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⍝ it is still just a ref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⍴⍕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abc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⍝ its display has a length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BDB6-E608-4741-89A4-8EE853CE379E}" type="slidenum">
              <a:t>1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ontents of namespac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1.s1.v11←’var’ ⍝ If we change the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1.s1.⎕fx ‘f1’ ‘...’ ⍝ contents of s1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,t1.s1.⎕nl 2 3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f1 v11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,abc.⎕nl 2 3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⍝ abc will “see” it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f1 v11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NC ’abc’  ‘t1’  ‘t1.s1’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9.1  9.1  9.1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3276720" y="4508640"/>
            <a:ext cx="1008000" cy="360360"/>
          </a:xfrm>
          <a:prstGeom prst="rect">
            <a:avLst/>
          </a:prstGeom>
          <a:solidFill>
            <a:srgbClr val="be9dcb">
              <a:alpha val="50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1908000" y="5013360"/>
            <a:ext cx="503280" cy="360360"/>
          </a:xfrm>
          <a:prstGeom prst="rect">
            <a:avLst/>
          </a:prstGeom>
          <a:solidFill>
            <a:srgbClr val="be9dcb">
              <a:alpha val="50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539640" y="5013360"/>
            <a:ext cx="503280" cy="360360"/>
          </a:xfrm>
          <a:prstGeom prst="rect">
            <a:avLst/>
          </a:prstGeom>
          <a:solidFill>
            <a:srgbClr val="ddfc20">
              <a:alpha val="50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1692360" y="4508640"/>
            <a:ext cx="792000" cy="360360"/>
          </a:xfrm>
          <a:prstGeom prst="rect">
            <a:avLst/>
          </a:prstGeom>
          <a:solidFill>
            <a:srgbClr val="ddfc20">
              <a:alpha val="50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1235160" y="5013360"/>
            <a:ext cx="503280" cy="360360"/>
          </a:xfrm>
          <a:prstGeom prst="rect">
            <a:avLst/>
          </a:prstGeom>
          <a:solidFill>
            <a:srgbClr val="6bfd87">
              <a:alpha val="50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627280" y="4508640"/>
            <a:ext cx="503280" cy="360360"/>
          </a:xfrm>
          <a:prstGeom prst="rect">
            <a:avLst/>
          </a:prstGeom>
          <a:solidFill>
            <a:srgbClr val="6bfd87">
              <a:alpha val="50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B48C-B7C6-49F8-8016-F9DC104B3E85}" type="slidenum">
              <a:t>1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ontents of namespac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63480" y="14569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o get a 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distinct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copy of t1.s1 we need to do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abc←⎕NS ⎕OR ‘t1.s1’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,abc.⎕NL  2  3    ⍝ everything is </a:t>
            </a:r>
            <a:r>
              <a:rPr b="0" i="1" lang="en-GB" sz="2800" spc="-1" strike="noStrike">
                <a:solidFill>
                  <a:srgbClr val="080808"/>
                </a:solidFill>
                <a:latin typeface="Arial"/>
              </a:rPr>
              <a:t>copied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f1 v11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abc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⍝ even its name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(S1: son of t1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abc≡t1.s1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⍝ but they’re different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abc.⎕fd ‘I am ABC’    ⋄   abc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I am ABC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3931-5518-4F9B-91C5-03FB5BD140D0}" type="slidenum">
              <a:t>1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8" name=""/>
          <p:cNvGrpSpPr/>
          <p:nvPr/>
        </p:nvGrpSpPr>
        <p:grpSpPr>
          <a:xfrm>
            <a:off x="4716360" y="1916280"/>
            <a:ext cx="3527640" cy="3671640"/>
            <a:chOff x="4716360" y="1916280"/>
            <a:chExt cx="3527640" cy="3671640"/>
          </a:xfrm>
        </p:grpSpPr>
        <p:sp>
          <p:nvSpPr>
            <p:cNvPr id="779" name=""/>
            <p:cNvSpPr/>
            <p:nvPr/>
          </p:nvSpPr>
          <p:spPr>
            <a:xfrm>
              <a:off x="4716360" y="1916280"/>
              <a:ext cx="3527640" cy="367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716360" y="2563560"/>
              <a:ext cx="3527640" cy="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ontents of namespac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782" name=""/>
          <p:cNvSpPr/>
          <p:nvPr/>
        </p:nvSpPr>
        <p:spPr>
          <a:xfrm>
            <a:off x="325800" y="1268280"/>
            <a:ext cx="39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Outside world (e.g. WS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086520" y="126828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abc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5868720" y="2060640"/>
            <a:ext cx="11592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ABC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013080" y="2852640"/>
            <a:ext cx="72936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f1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...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5727960" y="4508640"/>
            <a:ext cx="153396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v11←’var’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116720" y="2492280"/>
            <a:ext cx="200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abc.⎕NL  2  3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50000" y="3016080"/>
            <a:ext cx="67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f1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v11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flipH="1">
            <a:off x="971280" y="3068640"/>
            <a:ext cx="5040360" cy="14436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 flipH="1" flipV="1">
            <a:off x="971640" y="3716280"/>
            <a:ext cx="4680000" cy="100800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FBBD-E358-45DD-9F88-8DBDBC1E36DF}" type="slidenum">
              <a:t>1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1" name=""/>
          <p:cNvGrpSpPr/>
          <p:nvPr/>
        </p:nvGrpSpPr>
        <p:grpSpPr>
          <a:xfrm>
            <a:off x="4716360" y="1916280"/>
            <a:ext cx="3527640" cy="3671640"/>
            <a:chOff x="4716360" y="1916280"/>
            <a:chExt cx="3527640" cy="3671640"/>
          </a:xfrm>
        </p:grpSpPr>
        <p:sp>
          <p:nvSpPr>
            <p:cNvPr id="792" name=""/>
            <p:cNvSpPr/>
            <p:nvPr/>
          </p:nvSpPr>
          <p:spPr>
            <a:xfrm>
              <a:off x="4716360" y="1916280"/>
              <a:ext cx="3527640" cy="367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716360" y="2563560"/>
              <a:ext cx="3527640" cy="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ontents of namespac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795" name=""/>
          <p:cNvSpPr/>
          <p:nvPr/>
        </p:nvSpPr>
        <p:spPr>
          <a:xfrm>
            <a:off x="6086520" y="126828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abc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5868720" y="2060640"/>
            <a:ext cx="11592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ABC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6013080" y="2602080"/>
            <a:ext cx="72936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f1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...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5651640" y="3963960"/>
            <a:ext cx="2089080" cy="1922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v11←’var’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  ∇</a:t>
            </a: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tx←{,⍵}      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  ∇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326160" y="1461960"/>
            <a:ext cx="3367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You can add</a:t>
            </a:r>
            <a:br>
              <a:rPr sz="2800"/>
            </a:b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o a namespace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x←{,⍵}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‘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abc’ ⎕ns ‘tx’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and &lt;tx&gt; appear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without ‘v11’ or &lt;f1&gt;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going away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025D-CBEA-433B-B2D1-70C5D3742B37}" type="slidenum">
              <a:t>1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The evolution of data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827856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n OO systems, data is more tightly coupled with code: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042920" y="2349360"/>
            <a:ext cx="3024000" cy="1656000"/>
            <a:chOff x="1042920" y="2349360"/>
            <a:chExt cx="3024000" cy="1656000"/>
          </a:xfrm>
        </p:grpSpPr>
        <p:sp>
          <p:nvSpPr>
            <p:cNvPr id="186" name=""/>
            <p:cNvSpPr/>
            <p:nvPr/>
          </p:nvSpPr>
          <p:spPr>
            <a:xfrm>
              <a:off x="1042920" y="2349360"/>
              <a:ext cx="3024000" cy="1656000"/>
            </a:xfrm>
            <a:prstGeom prst="flowChartProcess">
              <a:avLst/>
            </a:prstGeom>
            <a:solidFill>
              <a:srgbClr val="cc9900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private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code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258920" y="2637000"/>
              <a:ext cx="720720" cy="108108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132000" y="2637000"/>
              <a:ext cx="720720" cy="108108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6804000" y="2781360"/>
            <a:ext cx="1081080" cy="720720"/>
          </a:xfrm>
          <a:prstGeom prst="flowChartProcess">
            <a:avLst/>
          </a:prstGeom>
          <a:solidFill>
            <a:srgbClr val="cc99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042920" y="4221000"/>
            <a:ext cx="3024000" cy="1656000"/>
            <a:chOff x="1042920" y="4221000"/>
            <a:chExt cx="3024000" cy="1656000"/>
          </a:xfrm>
        </p:grpSpPr>
        <p:sp>
          <p:nvSpPr>
            <p:cNvPr id="191" name=""/>
            <p:cNvSpPr/>
            <p:nvPr/>
          </p:nvSpPr>
          <p:spPr>
            <a:xfrm>
              <a:off x="1042920" y="4221000"/>
              <a:ext cx="3024000" cy="1656000"/>
            </a:xfrm>
            <a:prstGeom prst="flowChartProcess">
              <a:avLst/>
            </a:prstGeom>
            <a:solidFill>
              <a:srgbClr val="cc9900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private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code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258920" y="4508640"/>
              <a:ext cx="720720" cy="108108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132000" y="4508640"/>
              <a:ext cx="720720" cy="108108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6804000" y="3683160"/>
            <a:ext cx="1081080" cy="720720"/>
          </a:xfrm>
          <a:prstGeom prst="flowChartProcess">
            <a:avLst/>
          </a:prstGeom>
          <a:solidFill>
            <a:srgbClr val="cc99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04000" y="4610160"/>
            <a:ext cx="1081080" cy="720720"/>
          </a:xfrm>
          <a:prstGeom prst="flowChartProcess">
            <a:avLst/>
          </a:prstGeom>
          <a:solidFill>
            <a:srgbClr val="cc99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307280" y="3530520"/>
            <a:ext cx="0" cy="14292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307280" y="4429080"/>
            <a:ext cx="0" cy="14292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307280" y="5330880"/>
            <a:ext cx="0" cy="36036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307280" y="2397240"/>
            <a:ext cx="0" cy="36036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11640" y="2924280"/>
            <a:ext cx="1081080" cy="576000"/>
          </a:xfrm>
          <a:prstGeom prst="flowChartPunchedCard">
            <a:avLst/>
          </a:prstGeom>
          <a:solidFill>
            <a:srgbClr val="ffff3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80808"/>
                </a:solidFill>
                <a:latin typeface="Arial"/>
              </a:rPr>
              <a:t>Do this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284720" y="4653000"/>
            <a:ext cx="1081080" cy="576360"/>
          </a:xfrm>
          <a:prstGeom prst="flowChartPunchedCard">
            <a:avLst/>
          </a:prstGeom>
          <a:solidFill>
            <a:srgbClr val="ffff3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80808"/>
                </a:solidFill>
                <a:latin typeface="Arial"/>
              </a:rPr>
              <a:t>Do tha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780000" y="2924280"/>
            <a:ext cx="3313080" cy="215640"/>
          </a:xfrm>
          <a:prstGeom prst="leftRightArrow">
            <a:avLst>
              <a:gd name="adj1" fmla="val 50000"/>
              <a:gd name="adj2" fmla="val 305856"/>
            </a:avLst>
          </a:prstGeom>
          <a:solidFill>
            <a:srgbClr val="790082">
              <a:alpha val="59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5373720" y="2924280"/>
            <a:ext cx="998640" cy="7347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5508720" y="4581360"/>
            <a:ext cx="998280" cy="7351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780000" y="4797360"/>
            <a:ext cx="3168360" cy="216000"/>
          </a:xfrm>
          <a:prstGeom prst="leftArrow">
            <a:avLst>
              <a:gd name="adj1" fmla="val 50000"/>
              <a:gd name="adj2" fmla="val 366708"/>
            </a:avLst>
          </a:prstGeom>
          <a:solidFill>
            <a:srgbClr val="790082">
              <a:alpha val="58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5DB6-C0DD-49B2-B6E3-6490005EAFB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0" name=""/>
          <p:cNvGrpSpPr/>
          <p:nvPr/>
        </p:nvGrpSpPr>
        <p:grpSpPr>
          <a:xfrm>
            <a:off x="4716360" y="1916280"/>
            <a:ext cx="3527640" cy="3097080"/>
            <a:chOff x="4716360" y="1916280"/>
            <a:chExt cx="3527640" cy="3097080"/>
          </a:xfrm>
        </p:grpSpPr>
        <p:sp>
          <p:nvSpPr>
            <p:cNvPr id="801" name=""/>
            <p:cNvSpPr/>
            <p:nvPr/>
          </p:nvSpPr>
          <p:spPr>
            <a:xfrm>
              <a:off x="4716360" y="1916280"/>
              <a:ext cx="3527640" cy="309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716360" y="2462400"/>
              <a:ext cx="3527640" cy="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ontents of namespac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804" name=""/>
          <p:cNvSpPr/>
          <p:nvPr/>
        </p:nvSpPr>
        <p:spPr>
          <a:xfrm>
            <a:off x="6086520" y="126828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abc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5507280" y="1989000"/>
            <a:ext cx="189360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#.[Namespace]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5435640" y="3500280"/>
            <a:ext cx="208908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  ∇</a:t>
            </a: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tx←{,⍵}      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  ∇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324000" y="1461960"/>
            <a:ext cx="4176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But if you use 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←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instead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x←{,⍵}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abc←⎕ns ‘tx’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&lt;tx&gt; appears in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abc’ alone and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 display form is reset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C1D6-38AE-47F1-B624-72FB071CC6FE}" type="slidenum">
              <a:t>1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Display form of a Form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 default display form of a Form is its path, just like a namespace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+‘F1’ ⎕WC ‘form’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#.F1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We can change this using ⎕DF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F1.⎕df ‘&lt;F1 is in great form&gt;’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F1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&lt;F1 is in great form&gt;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E904-0272-49B9-B5E0-27EFC4900E96}" type="slidenum">
              <a:t>1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Display form of a form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⍝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we can add items to it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F1.b1’ ⎕wc ‘button’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e2’ F1.⎕wc ‘edit’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nc ‘F1’  ‘F1.b1’  ‘F1.e2’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9.2  9.2  9.2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⍝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we have 3 </a:t>
            </a:r>
            <a:r>
              <a:rPr b="0" i="1" lang="en-GB" sz="2800" spc="-1" strike="noStrike">
                <a:solidFill>
                  <a:srgbClr val="080808"/>
                </a:solidFill>
                <a:latin typeface="Arial"/>
              </a:rPr>
              <a:t>instances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of built-in APL form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F1.e2   F1  ⍝ each with its own name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#.F1.e2   &lt;F1 is in great form&gt;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900000" y="4724280"/>
            <a:ext cx="1008000" cy="360360"/>
          </a:xfrm>
          <a:prstGeom prst="rect">
            <a:avLst/>
          </a:prstGeom>
          <a:solidFill>
            <a:srgbClr val="ddfc20">
              <a:alpha val="50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539640" y="5229360"/>
            <a:ext cx="1368360" cy="360360"/>
          </a:xfrm>
          <a:prstGeom prst="rect">
            <a:avLst/>
          </a:prstGeom>
          <a:solidFill>
            <a:srgbClr val="ddfc20">
              <a:alpha val="50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2050920" y="5229360"/>
            <a:ext cx="3384720" cy="360360"/>
          </a:xfrm>
          <a:prstGeom prst="rect">
            <a:avLst/>
          </a:prstGeom>
          <a:solidFill>
            <a:srgbClr val="be9dcb">
              <a:alpha val="50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124000" y="4724280"/>
            <a:ext cx="505080" cy="360360"/>
          </a:xfrm>
          <a:prstGeom prst="rect">
            <a:avLst/>
          </a:prstGeom>
          <a:solidFill>
            <a:srgbClr val="be9dcb">
              <a:alpha val="50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658880" y="3181320"/>
            <a:ext cx="609480" cy="360360"/>
          </a:xfrm>
          <a:prstGeom prst="rect">
            <a:avLst/>
          </a:prstGeom>
          <a:solidFill>
            <a:srgbClr val="be9dcb">
              <a:alpha val="50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595440" y="3716280"/>
            <a:ext cx="576000" cy="360360"/>
          </a:xfrm>
          <a:prstGeom prst="rect">
            <a:avLst/>
          </a:prstGeom>
          <a:solidFill>
            <a:srgbClr val="be9dcb">
              <a:alpha val="50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08360" y="3189240"/>
            <a:ext cx="1079640" cy="360360"/>
          </a:xfrm>
          <a:prstGeom prst="rect">
            <a:avLst/>
          </a:prstGeom>
          <a:solidFill>
            <a:srgbClr val="ddfc20">
              <a:alpha val="50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979640" y="3716280"/>
            <a:ext cx="576360" cy="360360"/>
          </a:xfrm>
          <a:prstGeom prst="rect">
            <a:avLst/>
          </a:prstGeom>
          <a:solidFill>
            <a:srgbClr val="ddfc20">
              <a:alpha val="50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427120" y="3189240"/>
            <a:ext cx="1081080" cy="360360"/>
          </a:xfrm>
          <a:prstGeom prst="rect">
            <a:avLst/>
          </a:prstGeom>
          <a:solidFill>
            <a:srgbClr val="6bfd87">
              <a:alpha val="50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292400" y="3716280"/>
            <a:ext cx="576000" cy="360360"/>
          </a:xfrm>
          <a:prstGeom prst="rect">
            <a:avLst/>
          </a:prstGeom>
          <a:solidFill>
            <a:srgbClr val="6bfd87">
              <a:alpha val="50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F768-3016-499C-828E-3303F647ECC4}" type="slidenum">
              <a:t>1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"/>
          <p:cNvGrpSpPr/>
          <p:nvPr/>
        </p:nvGrpSpPr>
        <p:grpSpPr>
          <a:xfrm>
            <a:off x="4932360" y="2131920"/>
            <a:ext cx="3527280" cy="3672000"/>
            <a:chOff x="4932360" y="2131920"/>
            <a:chExt cx="3527280" cy="3672000"/>
          </a:xfrm>
        </p:grpSpPr>
        <p:sp>
          <p:nvSpPr>
            <p:cNvPr id="823" name=""/>
            <p:cNvSpPr/>
            <p:nvPr/>
          </p:nvSpPr>
          <p:spPr>
            <a:xfrm>
              <a:off x="4932360" y="2131920"/>
              <a:ext cx="3527280" cy="367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932360" y="2779560"/>
              <a:ext cx="3527280" cy="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ontents of a form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29920" y="1484280"/>
            <a:ext cx="497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 form contains 2 objects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⍴⎕←⎕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nl  2 3 9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b1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e2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2 2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nc ‘b1’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nc ‘Caption’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547960" y="2276640"/>
            <a:ext cx="228996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&lt;F1 is in great form&gt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2"/>
          <a:stretch/>
        </p:blipFill>
        <p:spPr>
          <a:xfrm>
            <a:off x="5724360" y="3068640"/>
            <a:ext cx="571680" cy="390600"/>
          </a:xfrm>
          <a:prstGeom prst="rect">
            <a:avLst/>
          </a:prstGeom>
          <a:ln w="0">
            <a:noFill/>
          </a:ln>
        </p:spPr>
      </p:pic>
      <p:pic>
        <p:nvPicPr>
          <p:cNvPr id="829" name="" descr=""/>
          <p:cNvPicPr/>
          <p:nvPr/>
        </p:nvPicPr>
        <p:blipFill>
          <a:blip r:embed="rId3"/>
          <a:stretch/>
        </p:blipFill>
        <p:spPr>
          <a:xfrm>
            <a:off x="6588000" y="3141720"/>
            <a:ext cx="1285920" cy="266760"/>
          </a:xfrm>
          <a:prstGeom prst="rect">
            <a:avLst/>
          </a:prstGeom>
          <a:ln w="0">
            <a:noFill/>
          </a:ln>
        </p:spPr>
      </p:pic>
      <p:sp>
        <p:nvSpPr>
          <p:cNvPr id="830" name=""/>
          <p:cNvSpPr/>
          <p:nvPr/>
        </p:nvSpPr>
        <p:spPr>
          <a:xfrm>
            <a:off x="6950520" y="3068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e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651640" y="2997360"/>
            <a:ext cx="720720" cy="502920"/>
          </a:xfrm>
          <a:prstGeom prst="rect">
            <a:avLst/>
          </a:prstGeom>
          <a:solidFill>
            <a:srgbClr val="ff0000">
              <a:alpha val="41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516720" y="3068640"/>
            <a:ext cx="1440000" cy="360360"/>
          </a:xfrm>
          <a:prstGeom prst="rect">
            <a:avLst/>
          </a:prstGeom>
          <a:solidFill>
            <a:srgbClr val="ff0000">
              <a:alpha val="41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822D-D169-488A-BC4B-6E8CEEE02684}" type="slidenum">
              <a:t>1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ontents of a form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539280" y="1555920"/>
            <a:ext cx="770436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A form is pretty much like a namespace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It can contain variables and functions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F1.v1←’some var’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F1.⎕fx ‘f1’ ‘whatever’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F1.⎕nl 2 3   ⍝ these are POSITIVE number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f1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v1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ose are the items WE have added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724C-AA3C-4020-97B4-8CD27CDD3FDE}" type="slidenum">
              <a:t>1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5" name=""/>
          <p:cNvGrpSpPr/>
          <p:nvPr/>
        </p:nvGrpSpPr>
        <p:grpSpPr>
          <a:xfrm>
            <a:off x="4932360" y="2131920"/>
            <a:ext cx="3527280" cy="3672000"/>
            <a:chOff x="4932360" y="2131920"/>
            <a:chExt cx="3527280" cy="3672000"/>
          </a:xfrm>
        </p:grpSpPr>
        <p:sp>
          <p:nvSpPr>
            <p:cNvPr id="836" name=""/>
            <p:cNvSpPr/>
            <p:nvPr/>
          </p:nvSpPr>
          <p:spPr>
            <a:xfrm>
              <a:off x="4932360" y="2131920"/>
              <a:ext cx="3527280" cy="367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932360" y="2779560"/>
              <a:ext cx="3527280" cy="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ontents of a form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29920" y="1484280"/>
            <a:ext cx="60577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 form now contains 4 objects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⍴⎕←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F1.⎕nl  2 3 9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PL385 Unicode"/>
              </a:rPr>
              <a:t>b1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PL385 Unicode"/>
              </a:rPr>
              <a:t>e2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PL385 Unicode"/>
              </a:rPr>
              <a:t>f1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PL385 Unicode"/>
              </a:rPr>
              <a:t>v1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4 2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nc ‘F1.b1’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5547960" y="2276640"/>
            <a:ext cx="228996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&lt;F1 is in great form&gt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841" name="" descr=""/>
          <p:cNvPicPr/>
          <p:nvPr/>
        </p:nvPicPr>
        <p:blipFill>
          <a:blip r:embed="rId2"/>
          <a:stretch/>
        </p:blipFill>
        <p:spPr>
          <a:xfrm>
            <a:off x="5724360" y="3068640"/>
            <a:ext cx="571680" cy="390600"/>
          </a:xfrm>
          <a:prstGeom prst="rect">
            <a:avLst/>
          </a:prstGeom>
          <a:ln w="0">
            <a:noFill/>
          </a:ln>
        </p:spPr>
      </p:pic>
      <p:pic>
        <p:nvPicPr>
          <p:cNvPr id="842" name="" descr=""/>
          <p:cNvPicPr/>
          <p:nvPr/>
        </p:nvPicPr>
        <p:blipFill>
          <a:blip r:embed="rId3"/>
          <a:stretch/>
        </p:blipFill>
        <p:spPr>
          <a:xfrm>
            <a:off x="6588000" y="3141720"/>
            <a:ext cx="1285920" cy="266760"/>
          </a:xfrm>
          <a:prstGeom prst="rect">
            <a:avLst/>
          </a:prstGeom>
          <a:ln w="0">
            <a:noFill/>
          </a:ln>
        </p:spPr>
      </p:pic>
      <p:sp>
        <p:nvSpPr>
          <p:cNvPr id="843" name=""/>
          <p:cNvSpPr/>
          <p:nvPr/>
        </p:nvSpPr>
        <p:spPr>
          <a:xfrm>
            <a:off x="6950520" y="3068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e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5867640" y="3573360"/>
            <a:ext cx="164376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 </a:t>
            </a: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f1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whatever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5613480" y="4941720"/>
            <a:ext cx="21952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v1←’some var’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5651640" y="2997360"/>
            <a:ext cx="720720" cy="502920"/>
          </a:xfrm>
          <a:prstGeom prst="rect">
            <a:avLst/>
          </a:prstGeom>
          <a:solidFill>
            <a:srgbClr val="ff0000">
              <a:alpha val="41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6516720" y="3068640"/>
            <a:ext cx="1440000" cy="360360"/>
          </a:xfrm>
          <a:prstGeom prst="rect">
            <a:avLst/>
          </a:prstGeom>
          <a:solidFill>
            <a:srgbClr val="ff0000">
              <a:alpha val="41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B0AE-9A34-4A8B-A01F-8B09545D993B}" type="slidenum">
              <a:t>1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ontents of a form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362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BUT a form also has </a:t>
            </a:r>
            <a:r>
              <a:rPr b="0" i="1" lang="en-GB" sz="2800" spc="-1" strike="noStrike">
                <a:solidFill>
                  <a:srgbClr val="080808"/>
                </a:solidFill>
                <a:latin typeface="Arial"/>
              </a:rPr>
              <a:t>properties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and </a:t>
            </a:r>
            <a:r>
              <a:rPr b="0" i="1" lang="en-GB" sz="2800" spc="-1" strike="noStrike">
                <a:solidFill>
                  <a:srgbClr val="080808"/>
                </a:solidFill>
                <a:latin typeface="Arial"/>
              </a:rPr>
              <a:t>methods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F1.⎕wx←1  ⍝ to be able to see them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⍴⎕←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F1.⎕nl -2 3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Accelerator  ... Caption ...  YRange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65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F1.⎕nc </a:t>
            </a:r>
            <a:r>
              <a:rPr b="0" lang="en-GB" sz="2800" spc="-1" strike="noStrike">
                <a:solidFill>
                  <a:srgbClr val="080808"/>
                </a:solidFill>
                <a:latin typeface="APL385 Unicode"/>
              </a:rPr>
              <a:t>⊂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’Caption’   ⍝ Caption is externa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¯2.6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ose are the only visible </a:t>
            </a:r>
            <a:r>
              <a:rPr b="0" i="1" lang="en-GB" sz="2800" spc="-1" strike="noStrike">
                <a:solidFill>
                  <a:srgbClr val="080808"/>
                </a:solidFill>
                <a:latin typeface="Arial"/>
              </a:rPr>
              <a:t>members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GB" sz="2800" spc="-1" strike="noStrike" u="sng">
                <a:solidFill>
                  <a:srgbClr val="080808"/>
                </a:solidFill>
                <a:uFillTx/>
                <a:latin typeface="Arial"/>
              </a:rPr>
              <a:t>inside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the form. They do NOT appear in ⎕nl +2 3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57DF-62C8-405E-9400-0F6187BB990E}" type="slidenum">
              <a:t>1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ontents of a form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6840" y="1555920"/>
            <a:ext cx="814716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 form has 2 types of functions and variables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749"/>
              </a:spcBef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ose </a:t>
            </a:r>
            <a:r>
              <a:rPr b="0" i="1" lang="en-GB" sz="2800" spc="-1" strike="noStrike">
                <a:solidFill>
                  <a:srgbClr val="080808"/>
                </a:solidFill>
                <a:latin typeface="Arial"/>
              </a:rPr>
              <a:t>internal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and specific to its type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ose 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</a:rPr>
              <a:t>external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, those we add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 1</a:t>
            </a:r>
            <a:r>
              <a:rPr b="0" lang="en-GB" sz="2800" spc="-1" strike="noStrike" baseline="30000">
                <a:solidFill>
                  <a:srgbClr val="080808"/>
                </a:solidFill>
                <a:latin typeface="Arial"/>
              </a:rPr>
              <a:t>st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ones can be listed with a NEGATIVE ⎕NL argument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 2</a:t>
            </a:r>
            <a:r>
              <a:rPr b="0" lang="en-GB" sz="2800" spc="-1" strike="noStrike" baseline="30000">
                <a:solidFill>
                  <a:srgbClr val="080808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ones can be listed with a POSITIVE ⎕NL argument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F913-ECAC-4351-B484-09CD3B47AACE}" type="slidenum">
              <a:t>1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ontents of namespac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853" name=""/>
          <p:cNvSpPr/>
          <p:nvPr/>
        </p:nvSpPr>
        <p:spPr>
          <a:xfrm>
            <a:off x="684360" y="1916280"/>
            <a:ext cx="77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All namespaces have a common structure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684360" y="3068640"/>
            <a:ext cx="7219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y inherit system variable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 system variables exist both internally AND externally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279A-CA88-4DF1-99DC-5FEEF5DD3A38}" type="slidenum">
              <a:t>1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ontents of a form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868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If we redefine the form all </a:t>
            </a:r>
            <a:r>
              <a:rPr b="0" lang="en-GB" sz="2800" spc="-1" strike="noStrike" u="sng">
                <a:solidFill>
                  <a:srgbClr val="080808"/>
                </a:solidFill>
                <a:uFillTx/>
                <a:latin typeface="Arial"/>
              </a:rPr>
              <a:t>external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objects disappear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+‘F1’⎕wc’form’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#.F1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⍴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F1.⎕nl 2 3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0 0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⍴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F1.⎕nl-2 3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65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857" name=""/>
          <p:cNvGrpSpPr/>
          <p:nvPr/>
        </p:nvGrpSpPr>
        <p:grpSpPr>
          <a:xfrm>
            <a:off x="4932360" y="2131920"/>
            <a:ext cx="3527280" cy="3672000"/>
            <a:chOff x="4932360" y="2131920"/>
            <a:chExt cx="3527280" cy="3672000"/>
          </a:xfrm>
        </p:grpSpPr>
        <p:sp>
          <p:nvSpPr>
            <p:cNvPr id="858" name=""/>
            <p:cNvSpPr/>
            <p:nvPr/>
          </p:nvSpPr>
          <p:spPr>
            <a:xfrm>
              <a:off x="4932360" y="2131920"/>
              <a:ext cx="3527280" cy="367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932360" y="2779560"/>
              <a:ext cx="3527280" cy="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860" name=""/>
          <p:cNvSpPr/>
          <p:nvPr/>
        </p:nvSpPr>
        <p:spPr>
          <a:xfrm>
            <a:off x="6373800" y="2276640"/>
            <a:ext cx="63792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#.F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F162-24E6-4538-8DA4-1ED52448214D}" type="slidenum">
              <a:t>1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The evolution of data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827856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In OO APL systems, data is also tightly coupled with code but in a more procedural manner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1042920" y="2349360"/>
            <a:ext cx="3024000" cy="1656000"/>
            <a:chOff x="1042920" y="2349360"/>
            <a:chExt cx="3024000" cy="1656000"/>
          </a:xfrm>
        </p:grpSpPr>
        <p:sp>
          <p:nvSpPr>
            <p:cNvPr id="209" name=""/>
            <p:cNvSpPr/>
            <p:nvPr/>
          </p:nvSpPr>
          <p:spPr>
            <a:xfrm>
              <a:off x="1042920" y="2349360"/>
              <a:ext cx="3024000" cy="1656000"/>
            </a:xfrm>
            <a:prstGeom prst="flowChartProcess">
              <a:avLst/>
            </a:prstGeom>
            <a:solidFill>
              <a:srgbClr val="cc9900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private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code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258920" y="2637000"/>
              <a:ext cx="720720" cy="108108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132000" y="2637000"/>
              <a:ext cx="720720" cy="108108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076720" y="2824200"/>
            <a:ext cx="1081080" cy="720720"/>
          </a:xfrm>
          <a:prstGeom prst="flowChartProcess">
            <a:avLst/>
          </a:prstGeom>
          <a:solidFill>
            <a:srgbClr val="cc99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042920" y="4221000"/>
            <a:ext cx="3024000" cy="1656000"/>
            <a:chOff x="1042920" y="4221000"/>
            <a:chExt cx="3024000" cy="1656000"/>
          </a:xfrm>
        </p:grpSpPr>
        <p:sp>
          <p:nvSpPr>
            <p:cNvPr id="214" name=""/>
            <p:cNvSpPr/>
            <p:nvPr/>
          </p:nvSpPr>
          <p:spPr>
            <a:xfrm>
              <a:off x="1042920" y="4221000"/>
              <a:ext cx="3024000" cy="1656000"/>
            </a:xfrm>
            <a:prstGeom prst="flowChartProcess">
              <a:avLst/>
            </a:prstGeom>
            <a:solidFill>
              <a:srgbClr val="cc9900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private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code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258920" y="4508640"/>
              <a:ext cx="720720" cy="108108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32000" y="4508640"/>
              <a:ext cx="720720" cy="108108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5076720" y="3726000"/>
            <a:ext cx="1081080" cy="720720"/>
          </a:xfrm>
          <a:prstGeom prst="flowChartProcess">
            <a:avLst/>
          </a:prstGeom>
          <a:solidFill>
            <a:srgbClr val="cc99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76720" y="4653000"/>
            <a:ext cx="1081080" cy="720720"/>
          </a:xfrm>
          <a:prstGeom prst="flowChartProcess">
            <a:avLst/>
          </a:prstGeom>
          <a:solidFill>
            <a:srgbClr val="cc99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580000" y="3573360"/>
            <a:ext cx="0" cy="14292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580000" y="4471920"/>
            <a:ext cx="0" cy="14292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580000" y="5373720"/>
            <a:ext cx="0" cy="36036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580000" y="2440080"/>
            <a:ext cx="0" cy="36036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cxnSp>
        <p:nvCxnSpPr>
          <p:cNvPr id="223" name=""/>
          <p:cNvCxnSpPr/>
          <p:nvPr/>
        </p:nvCxnSpPr>
        <p:spPr>
          <a:xfrm flipH="1" flipV="1" rot="10800000">
            <a:off x="5362920" y="2996280"/>
            <a:ext cx="2520" cy="361080"/>
          </a:xfrm>
          <a:prstGeom prst="curvedConnector5">
            <a:avLst>
              <a:gd name="adj1" fmla="val -249100000"/>
              <a:gd name="adj2" fmla="val 50000"/>
              <a:gd name="adj3" fmla="val -249100000"/>
            </a:avLst>
          </a:prstGeom>
          <a:ln w="9360">
            <a:solidFill>
              <a:srgbClr val="080808"/>
            </a:solidFill>
            <a:prstDash val="dash"/>
            <a:miter/>
            <a:headEnd len="med" type="diamond" w="med"/>
            <a:tailEnd len="med" type="triangle" w="med"/>
          </a:ln>
        </p:spPr>
      </p:cxnSp>
      <p:cxnSp>
        <p:nvCxnSpPr>
          <p:cNvPr id="224" name=""/>
          <p:cNvCxnSpPr/>
          <p:nvPr/>
        </p:nvCxnSpPr>
        <p:spPr>
          <a:xfrm flipH="1" flipV="1" rot="10800000">
            <a:off x="5292360" y="4867920"/>
            <a:ext cx="2160" cy="361080"/>
          </a:xfrm>
          <a:prstGeom prst="curvedConnector5">
            <a:avLst>
              <a:gd name="adj1" fmla="val -249100000"/>
              <a:gd name="adj2" fmla="val 50000"/>
              <a:gd name="adj3" fmla="val -249100000"/>
            </a:avLst>
          </a:prstGeom>
          <a:ln w="9360">
            <a:solidFill>
              <a:srgbClr val="080808"/>
            </a:solidFill>
            <a:prstDash val="dash"/>
            <a:miter/>
            <a:headEnd len="med" type="diamond" w="med"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D6B3-8929-4AD8-903A-F38AE195BC2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ontents of a clas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862" name=""/>
          <p:cNvSpPr/>
          <p:nvPr/>
        </p:nvSpPr>
        <p:spPr>
          <a:xfrm>
            <a:off x="325800" y="1268280"/>
            <a:ext cx="39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Outside world (e.g. WS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6086160" y="134136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ShrIn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250920" y="2492280"/>
            <a:ext cx="4249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Classes are a different kind of namespace but they behave identically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⍝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NO external object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⍴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ShrIns.⎕NL  2  3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0 0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865" name="" descr=""/>
          <p:cNvPicPr/>
          <p:nvPr/>
        </p:nvPicPr>
        <p:blipFill>
          <a:blip r:embed="rId2"/>
          <a:stretch/>
        </p:blipFill>
        <p:spPr>
          <a:xfrm>
            <a:off x="4471920" y="1916280"/>
            <a:ext cx="4276800" cy="403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3305-FBF1-4235-8A7A-E366FE1175AC}" type="slidenum">
              <a:t>1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6" name=""/>
          <p:cNvGrpSpPr/>
          <p:nvPr/>
        </p:nvGrpSpPr>
        <p:grpSpPr>
          <a:xfrm>
            <a:off x="4716360" y="1916280"/>
            <a:ext cx="3527640" cy="3671640"/>
            <a:chOff x="4716360" y="1916280"/>
            <a:chExt cx="3527640" cy="3671640"/>
          </a:xfrm>
        </p:grpSpPr>
        <p:sp>
          <p:nvSpPr>
            <p:cNvPr id="867" name=""/>
            <p:cNvSpPr/>
            <p:nvPr/>
          </p:nvSpPr>
          <p:spPr>
            <a:xfrm>
              <a:off x="4716360" y="1916280"/>
              <a:ext cx="3527640" cy="367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716360" y="2563560"/>
              <a:ext cx="3527640" cy="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ontents of a clas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870" name=""/>
          <p:cNvSpPr/>
          <p:nvPr/>
        </p:nvSpPr>
        <p:spPr>
          <a:xfrm>
            <a:off x="325800" y="1268280"/>
            <a:ext cx="39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Outside world (e.g. WS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5941800" y="134136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ShrIn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5222880" y="2060640"/>
            <a:ext cx="24638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aster Share/instanc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293800" y="2781360"/>
            <a:ext cx="91224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080808"/>
                </a:solidFill>
                <a:latin typeface="APL385 Unicode"/>
              </a:rPr>
              <a:t>MS1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4935240" y="3933720"/>
            <a:ext cx="21787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FS1 (no value)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H="1" flipV="1">
            <a:off x="1979280" y="2781360"/>
            <a:ext cx="3313080" cy="28728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 flipH="1" flipV="1">
            <a:off x="971280" y="2924280"/>
            <a:ext cx="3816360" cy="122544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250920" y="2133720"/>
            <a:ext cx="410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ShrIns.⎕NL -2  3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FS1  MS1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 private members cannot be seen or accessed from </a:t>
            </a:r>
            <a:r>
              <a:rPr b="0" i="1" lang="en-GB" sz="2800" spc="-1" strike="noStrike">
                <a:solidFill>
                  <a:srgbClr val="080808"/>
                </a:solidFill>
                <a:latin typeface="Arial"/>
              </a:rPr>
              <a:t>outside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6660720" y="2781360"/>
            <a:ext cx="91224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b2b2b2"/>
                </a:solidFill>
                <a:latin typeface="APL385 Unicode"/>
              </a:rPr>
              <a:t>MS0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5006520" y="4653000"/>
            <a:ext cx="21787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Arial"/>
              </a:rPr>
              <a:t>FS0 (no value)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F372-E48B-423D-BBD9-D08CA49F34CC}" type="slidenum">
              <a:t>1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0" name=""/>
          <p:cNvGrpSpPr/>
          <p:nvPr/>
        </p:nvGrpSpPr>
        <p:grpSpPr>
          <a:xfrm>
            <a:off x="4716360" y="1916280"/>
            <a:ext cx="3527640" cy="3671640"/>
            <a:chOff x="4716360" y="1916280"/>
            <a:chExt cx="3527640" cy="3671640"/>
          </a:xfrm>
        </p:grpSpPr>
        <p:sp>
          <p:nvSpPr>
            <p:cNvPr id="881" name=""/>
            <p:cNvSpPr/>
            <p:nvPr/>
          </p:nvSpPr>
          <p:spPr>
            <a:xfrm>
              <a:off x="4716360" y="1916280"/>
              <a:ext cx="3527640" cy="367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716360" y="2563560"/>
              <a:ext cx="3527640" cy="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ontents of a clas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884" name=""/>
          <p:cNvSpPr/>
          <p:nvPr/>
        </p:nvSpPr>
        <p:spPr>
          <a:xfrm>
            <a:off x="325800" y="1268280"/>
            <a:ext cx="39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Outside world (e.g. WS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5941800" y="134136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ShrIn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5222880" y="2060640"/>
            <a:ext cx="24638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aster Share/instanc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5293800" y="2606760"/>
            <a:ext cx="91224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080808"/>
                </a:solidFill>
                <a:latin typeface="APL385 Unicode"/>
              </a:rPr>
              <a:t>MS1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5295600" y="3429000"/>
            <a:ext cx="21787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FS1 (no value)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412920" y="1941480"/>
            <a:ext cx="4230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You can add items “outside” a class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x←{,⍵}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‘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ShrIns’ ⎕ns ‘tx’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ShrIns.v11←32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and they appear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without anything else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going away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5292720" y="4005360"/>
            <a:ext cx="208908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v11←32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tx←{,⍵}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9C41-ED7A-403A-A441-61D5A5BF4B66}" type="slidenum">
              <a:t>1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1" name=""/>
          <p:cNvGrpSpPr/>
          <p:nvPr/>
        </p:nvGrpSpPr>
        <p:grpSpPr>
          <a:xfrm>
            <a:off x="4716360" y="1916280"/>
            <a:ext cx="3527640" cy="3671640"/>
            <a:chOff x="4716360" y="1916280"/>
            <a:chExt cx="3527640" cy="3671640"/>
          </a:xfrm>
        </p:grpSpPr>
        <p:sp>
          <p:nvSpPr>
            <p:cNvPr id="892" name=""/>
            <p:cNvSpPr/>
            <p:nvPr/>
          </p:nvSpPr>
          <p:spPr>
            <a:xfrm>
              <a:off x="4716360" y="1916280"/>
              <a:ext cx="3527640" cy="367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716360" y="2563560"/>
              <a:ext cx="3527640" cy="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ontents of a clas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895" name=""/>
          <p:cNvSpPr/>
          <p:nvPr/>
        </p:nvSpPr>
        <p:spPr>
          <a:xfrm>
            <a:off x="325800" y="1268280"/>
            <a:ext cx="39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Outside world (e.g. WS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5941800" y="134136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ShrIn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5222880" y="2060640"/>
            <a:ext cx="24638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aster Share/instanc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5293800" y="2606760"/>
            <a:ext cx="91224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080808"/>
                </a:solidFill>
                <a:latin typeface="APL385 Unicode"/>
              </a:rPr>
              <a:t>MS1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5295600" y="3429000"/>
            <a:ext cx="21787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FS1 (no value)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413280" y="1941480"/>
            <a:ext cx="3205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ShrIns.⎕NC 2 3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x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v11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ShrIns.⎕nc-2 3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x  v11  FS1  MS1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5292720" y="4005360"/>
            <a:ext cx="208908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v11←32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tx←{,⍵}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011E-5A23-4507-B342-5A98C93C3D8F}" type="slidenum">
              <a:t>1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2" name=""/>
          <p:cNvGrpSpPr/>
          <p:nvPr/>
        </p:nvGrpSpPr>
        <p:grpSpPr>
          <a:xfrm>
            <a:off x="4716360" y="1916280"/>
            <a:ext cx="3527640" cy="3097080"/>
            <a:chOff x="4716360" y="1916280"/>
            <a:chExt cx="3527640" cy="3097080"/>
          </a:xfrm>
        </p:grpSpPr>
        <p:sp>
          <p:nvSpPr>
            <p:cNvPr id="903" name=""/>
            <p:cNvSpPr/>
            <p:nvPr/>
          </p:nvSpPr>
          <p:spPr>
            <a:xfrm>
              <a:off x="4716360" y="1916280"/>
              <a:ext cx="3527640" cy="309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716360" y="2462400"/>
              <a:ext cx="3527640" cy="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ontents of an instance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06" name=""/>
          <p:cNvSpPr/>
          <p:nvPr/>
        </p:nvSpPr>
        <p:spPr>
          <a:xfrm>
            <a:off x="325800" y="1268280"/>
            <a:ext cx="39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Outside world (e.g. WS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6157800" y="134136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SI1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5724720" y="1989000"/>
            <a:ext cx="148680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#.[ShrIns]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6949440" y="2708280"/>
            <a:ext cx="91224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080808"/>
                </a:solidFill>
                <a:latin typeface="APL385 Unicode"/>
              </a:rPr>
              <a:t>MS1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6662520" y="3716280"/>
            <a:ext cx="153540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FS1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(no value)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412920" y="1941480"/>
            <a:ext cx="3943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SI1←⎕new ShrIn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⍴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SI1.⎕NL 3 2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0 0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SI1.⎕NL -3 2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FI1  FS1  MI1  MS1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 shared members are visible through the instance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 flipV="1">
            <a:off x="6516720" y="2491920"/>
            <a:ext cx="0" cy="252108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5149440" y="2708280"/>
            <a:ext cx="91224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080808"/>
                </a:solidFill>
                <a:latin typeface="APL385 Unicode"/>
              </a:rPr>
              <a:t>MI1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4862160" y="3719520"/>
            <a:ext cx="153540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80808"/>
                </a:solidFill>
                <a:latin typeface="APL385 Unicode"/>
              </a:rPr>
              <a:t>FI1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(no value)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4934160" y="5013360"/>
            <a:ext cx="145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Instance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member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6589800" y="5013360"/>
            <a:ext cx="145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Clas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member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6D50-19C3-461C-A0F0-0B96F0F13954}" type="slidenum">
              <a:t>1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ontents of an interface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18" name=""/>
          <p:cNvSpPr/>
          <p:nvPr/>
        </p:nvSpPr>
        <p:spPr>
          <a:xfrm>
            <a:off x="325800" y="1268280"/>
            <a:ext cx="39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Outside world (e.g. WS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408960" y="1941480"/>
            <a:ext cx="4399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)ed ∘ maneuvering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⍴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maneuvering.⎕NC -2 3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maneuvering.v11←12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maneuvering.⎕NC -2 3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v11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920" name="" descr=""/>
          <p:cNvPicPr/>
          <p:nvPr/>
        </p:nvPicPr>
        <p:blipFill>
          <a:blip r:embed="rId2"/>
          <a:stretch/>
        </p:blipFill>
        <p:spPr>
          <a:xfrm>
            <a:off x="5292720" y="1628640"/>
            <a:ext cx="3352680" cy="3200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BAF1-9411-48AE-AFF9-4C72498414A4}" type="slidenum">
              <a:t>1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ontents of an interface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22" name=""/>
          <p:cNvSpPr/>
          <p:nvPr/>
        </p:nvSpPr>
        <p:spPr>
          <a:xfrm>
            <a:off x="325800" y="1268280"/>
            <a:ext cx="39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Outside world (e.g. WS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79280" y="1989000"/>
            <a:ext cx="4897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The methods in the interface can only be seen when exposed through the dyadic ⎕CLASS system function: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VW←⎕new Car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(VW ⎕class maneuvering).⎕nl -3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Accellerate SlowDown Steer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924" name="" descr=""/>
          <p:cNvPicPr/>
          <p:nvPr/>
        </p:nvPicPr>
        <p:blipFill>
          <a:blip r:embed="rId2"/>
          <a:stretch/>
        </p:blipFill>
        <p:spPr>
          <a:xfrm>
            <a:off x="5003640" y="1700280"/>
            <a:ext cx="4077000" cy="3905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F999-3763-4476-BD7A-17FD9AEC905B}" type="slidenum">
              <a:t>1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:Include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3598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is statement is used when wanting to include CODE (not data) into a class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is may be because the code to include is common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927" name="" descr=""/>
          <p:cNvPicPr/>
          <p:nvPr/>
        </p:nvPicPr>
        <p:blipFill>
          <a:blip r:embed="rId2"/>
          <a:stretch/>
        </p:blipFill>
        <p:spPr>
          <a:xfrm>
            <a:off x="4859280" y="1557360"/>
            <a:ext cx="3127320" cy="3743280"/>
          </a:xfrm>
          <a:prstGeom prst="rect">
            <a:avLst/>
          </a:prstGeom>
          <a:ln w="0">
            <a:noFill/>
          </a:ln>
        </p:spPr>
      </p:pic>
      <p:sp>
        <p:nvSpPr>
          <p:cNvPr id="928" name=""/>
          <p:cNvSpPr/>
          <p:nvPr/>
        </p:nvSpPr>
        <p:spPr>
          <a:xfrm>
            <a:off x="5364000" y="2781360"/>
            <a:ext cx="1872000" cy="360360"/>
          </a:xfrm>
          <a:prstGeom prst="rect">
            <a:avLst/>
          </a:prstGeom>
          <a:solidFill>
            <a:srgbClr val="ff0000">
              <a:alpha val="41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F0AE-0158-40EA-93AB-C404648799A3}" type="slidenum">
              <a:t>1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bcdff"/>
                </a:solidFill>
                <a:latin typeface="Arial Black"/>
              </a:rPr>
              <a:t>Implementation details summary</a:t>
            </a:r>
            <a:endParaRPr b="0" lang="en-US" sz="36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542520" y="1484280"/>
            <a:ext cx="8061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Many new system commands &amp; fn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Interfaces show how it is done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Numbered Properties are implemented in a special manner in AP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riggers offer lightweight propertie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NL/⎕NC have been extended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 notion of </a:t>
            </a:r>
            <a:r>
              <a:rPr b="0" i="1" lang="en-GB" sz="2800" spc="-1" strike="noStrike">
                <a:solidFill>
                  <a:srgbClr val="080808"/>
                </a:solidFill>
                <a:latin typeface="Arial"/>
              </a:rPr>
              <a:t>external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names is important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Inclusion of common code is possible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1AF5-3DBA-43AB-8CC3-9B2646161D4B}" type="slidenum">
              <a:t>1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324000" y="152280"/>
            <a:ext cx="8712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End of implementation detail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3131640" y="2205000"/>
            <a:ext cx="2590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QUESTION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ctr"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200" spc="-1" strike="noStrike">
                <a:solidFill>
                  <a:srgbClr val="080808"/>
                </a:solidFill>
                <a:latin typeface="Arial"/>
              </a:rPr>
              <a:t>?</a:t>
            </a:r>
            <a:endParaRPr b="0" lang="en-US" sz="1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3938-4812-48D5-8AD7-492DE25DD1DA}" type="slidenum">
              <a:t>1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826920" y="2708280"/>
            <a:ext cx="763272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e9dcb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Times New Roman"/>
              </a:rPr>
              <a:t>Defini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e9dcb"/>
                  </a:gs>
                  <a:gs pos="100000">
                    <a:srgbClr val="0000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08200" y="281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108000"/>
            <a:ext cx="8712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The Object Oriented paradigm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3C14-B9DC-4F8B-ADF6-7B74699665B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"/>
          <p:cNvSpPr txBox="1"/>
          <p:nvPr/>
        </p:nvSpPr>
        <p:spPr>
          <a:xfrm>
            <a:off x="395280" y="2205000"/>
            <a:ext cx="828036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33">
                    <a:alpha val="86000"/>
                  </a:srgbClr>
                </a:solidFill>
                <a:latin typeface="Times New Roman"/>
              </a:rPr>
              <a:t>Exampl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33">
                  <a:alpha val="86000"/>
                </a:srgbClr>
              </a:solidFill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0286-81D5-4992-AED3-EF257FCF1D3D}" type="slidenum">
              <a:t>1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omplex Clas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395280" y="1371600"/>
            <a:ext cx="4032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This class is used to create complex numbers.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It can perform most simple math operations on them.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This class has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2 public instance field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1 public shared field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2 private field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5 instance function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936" name="" descr=""/>
          <p:cNvPicPr/>
          <p:nvPr/>
        </p:nvPicPr>
        <p:blipFill>
          <a:blip r:embed="rId2"/>
          <a:stretch/>
        </p:blipFill>
        <p:spPr>
          <a:xfrm>
            <a:off x="4800600" y="0"/>
            <a:ext cx="4343400" cy="702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07E6-7909-483D-83DA-6C8C9C0BAD2A}" type="slidenum">
              <a:t>1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omplex Clas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38" name=""/>
          <p:cNvSpPr txBox="1"/>
          <p:nvPr/>
        </p:nvSpPr>
        <p:spPr>
          <a:xfrm>
            <a:off x="395280" y="1371600"/>
            <a:ext cx="4032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This class also has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5 shared function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These perform the basic operations: + × ÷ *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939" name="" descr=""/>
          <p:cNvPicPr/>
          <p:nvPr/>
        </p:nvPicPr>
        <p:blipFill>
          <a:blip r:embed="rId2"/>
          <a:stretch/>
        </p:blipFill>
        <p:spPr>
          <a:xfrm>
            <a:off x="5364000" y="1268280"/>
            <a:ext cx="3691080" cy="546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F168-C896-4937-A94D-BA03578A7ACD}" type="slidenum">
              <a:t>1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omplex Clas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41" name=""/>
          <p:cNvSpPr txBox="1"/>
          <p:nvPr/>
        </p:nvSpPr>
        <p:spPr>
          <a:xfrm>
            <a:off x="395280" y="1371600"/>
            <a:ext cx="3456000" cy="36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This class also has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2 constructors and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2 private function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one of which is a trigger for when one of the fields is modified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942" name="" descr=""/>
          <p:cNvPicPr/>
          <p:nvPr/>
        </p:nvPicPr>
        <p:blipFill>
          <a:blip r:embed="rId2"/>
          <a:stretch/>
        </p:blipFill>
        <p:spPr>
          <a:xfrm>
            <a:off x="3851280" y="1268280"/>
            <a:ext cx="5181480" cy="507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6304-B01A-42D2-AE94-8A13BCAF1097}" type="slidenum">
              <a:t>1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Keyed component file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 idea is to have a file whose components are accessed  by key instead of a number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Sort of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file.Read ‘key’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911E-3A85-423B-AA12-5ADC7D992E69}" type="slidenum">
              <a:t>1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bcdff"/>
                </a:solidFill>
                <a:latin typeface="Arial Black"/>
              </a:rPr>
              <a:t>Keyed </a:t>
            </a:r>
            <a:br>
              <a:rPr sz="3600"/>
            </a:br>
            <a:r>
              <a:rPr b="0" lang="en-GB" sz="3600" spc="-1" strike="noStrike">
                <a:solidFill>
                  <a:srgbClr val="fbcdff"/>
                </a:solidFill>
                <a:latin typeface="Arial Black"/>
              </a:rPr>
              <a:t>component file</a:t>
            </a:r>
            <a:endParaRPr b="0" lang="en-US" sz="36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46800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Since it is made from a component file it might be better to define a component file class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Like this →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is class ties a file, creating it if necessary, and unties it (and destroys it if it was temporary) upon deleting the instance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947" name="" descr=""/>
          <p:cNvPicPr/>
          <p:nvPr/>
        </p:nvPicPr>
        <p:blipFill>
          <a:blip r:embed="rId2"/>
          <a:stretch/>
        </p:blipFill>
        <p:spPr>
          <a:xfrm>
            <a:off x="4884840" y="0"/>
            <a:ext cx="4259160" cy="702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A05C-9E84-4613-8AAA-65CF87E79BF5}" type="slidenum">
              <a:t>1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"/>
          <p:cNvSpPr txBox="1"/>
          <p:nvPr/>
        </p:nvSpPr>
        <p:spPr>
          <a:xfrm>
            <a:off x="395280" y="1484280"/>
            <a:ext cx="856944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33">
                    <a:alpha val="86000"/>
                  </a:srgbClr>
                </a:solidFill>
                <a:latin typeface="Times New Roman"/>
              </a:rPr>
              <a:t>.Net and oth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33">
                  <a:alpha val="86000"/>
                </a:srgbClr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33">
                    <a:alpha val="86000"/>
                  </a:srgbClr>
                </a:solidFill>
                <a:latin typeface="Times New Roman"/>
              </a:rPr>
              <a:t>goodi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33">
                  <a:alpha val="86000"/>
                </a:srgbClr>
              </a:solidFill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D78C-FDF0-4DBC-B4C1-5923BCC465CF}" type="slidenum">
              <a:t>14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.Net and other goodi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In addition to the classes which you can write in APL, version 11.0 allows you to work with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Dyalog GUI classes, including OLE Servers and and OLE Controls (ActiveX components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Microsoft.Net classe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4C89-76AF-4718-9C7B-43E7DBF11B05}" type="slidenum">
              <a:t>1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.Net and other goodi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In version 11.0, these classes can be used in exactly the same way as instances of classes which have been implemented in APL.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You create instances of them with ⎕NEW, and you can manipulate the public properties, methods and events which they expose (but unlike APL classes, you cannot see or modify the implementation)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7D1F-0A84-46B7-B41B-03F85F4F69C3}" type="slidenum">
              <a:t>1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Forms and more via ⎕NEW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712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It is possible to create forms using ⎕new: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f1←⎕NEW 'form‘ ((‘caption’ ‘MyForm’)('size' (12 16))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Note that the class </a:t>
            </a:r>
            <a:r>
              <a:rPr b="0" i="1" lang="en-GB" sz="2400" spc="-1" strike="noStrike">
                <a:solidFill>
                  <a:srgbClr val="080808"/>
                </a:solidFill>
                <a:latin typeface="Arial"/>
              </a:rPr>
              <a:t>name 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for built-in GUI objects is provided as a string rather than as a reference to a name in the workspace.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You can create OLE controls with ⎕new too: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xl←⎕NEW 'OleClient‘ (</a:t>
            </a:r>
            <a:r>
              <a:rPr b="0" lang="en-GB" sz="2400" spc="-1" strike="noStrike">
                <a:solidFill>
                  <a:srgbClr val="080808"/>
                </a:solidFill>
                <a:latin typeface="APL385 Unicode"/>
              </a:rPr>
              <a:t>⊂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'ClassName‘ 'Excel.Application')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8AC6-6467-4A9F-A25E-45C85EEABE6B}" type="slidenum">
              <a:t>1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O fundamental concept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8360" y="1371600"/>
            <a:ext cx="798984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 Object Oriented paradigm is based on: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627280" y="2133720"/>
            <a:ext cx="4032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asse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nstances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Member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Message passing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nheritance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Encapsulation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Polymorphism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9D68-3620-4499-92F7-4C1A89DF776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⎕</a:t>
            </a: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WX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is system function eXposes Window’s interface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0= do NOT expose anything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+1= expose names and report in ⎕NL with negative argument, use V10 syntax where properties are treated as functions (e.g. Sheet.(Item 3)...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+2= use new V11 syntax (e.g. Sheet[3]...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5C78-6432-4032-8CA9-EA1665C95FC9}" type="slidenum">
              <a:t>1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712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xl←⎕NEW 'OleClient‘ (</a:t>
            </a:r>
            <a:r>
              <a:rPr b="0" lang="en-GB" sz="2400" spc="-1" strike="noStrike">
                <a:solidFill>
                  <a:srgbClr val="080808"/>
                </a:solidFill>
                <a:latin typeface="APL385 Unicode"/>
              </a:rPr>
              <a:t>⊂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'ClassName‘ 'Excel.Application')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wx allows to use V10 syntax of the new V11 syntax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xl.⎕wx←1 ⍝ use V10 form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xl. ActiveWorkbook.Sheets.(Item 1).Name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xl.⎕wx←3 ⍝ use V11 form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xl.ActiveWorkbook.Sheets[</a:t>
            </a:r>
            <a:r>
              <a:rPr b="0" lang="en-GB" sz="2800" spc="-1" strike="noStrike">
                <a:solidFill>
                  <a:srgbClr val="080808"/>
                </a:solidFill>
                <a:latin typeface="APL385 Unicode"/>
              </a:rPr>
              <a:t>⊂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’Sheet2'].Index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⎕</a:t>
            </a: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WX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BBF4-41AC-40C4-82E9-D3876AE25BDB}" type="slidenum">
              <a:t>1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.Net and other goodi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108000" y="1268280"/>
            <a:ext cx="3456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standardize dialog boxe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f1←⎕NEW Dialog ('Hello World' (50 250) ⍬)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Note how the class is based on ‘Form’ (a string) and not </a:t>
            </a:r>
            <a:r>
              <a:rPr b="0" i="1" lang="en-GB" sz="2000" spc="-1" strike="noStrike">
                <a:solidFill>
                  <a:srgbClr val="080808"/>
                </a:solidFill>
                <a:latin typeface="Arial"/>
              </a:rPr>
              <a:t>Form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(a name)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You can do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fm←⎕NEW ‘form’ ..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961" name="" descr=""/>
          <p:cNvPicPr/>
          <p:nvPr/>
        </p:nvPicPr>
        <p:blipFill>
          <a:blip r:embed="rId2"/>
          <a:stretch/>
        </p:blipFill>
        <p:spPr>
          <a:xfrm>
            <a:off x="3564000" y="1247760"/>
            <a:ext cx="5508720" cy="4917960"/>
          </a:xfrm>
          <a:prstGeom prst="rect">
            <a:avLst/>
          </a:prstGeom>
          <a:ln w="0">
            <a:noFill/>
          </a:ln>
        </p:spPr>
      </p:pic>
      <p:pic>
        <p:nvPicPr>
          <p:cNvPr id="962" name="" descr=""/>
          <p:cNvPicPr/>
          <p:nvPr/>
        </p:nvPicPr>
        <p:blipFill>
          <a:blip r:embed="rId3"/>
          <a:stretch/>
        </p:blipFill>
        <p:spPr>
          <a:xfrm>
            <a:off x="5724360" y="4941720"/>
            <a:ext cx="2448000" cy="781200"/>
          </a:xfrm>
          <a:prstGeom prst="rect">
            <a:avLst/>
          </a:prstGeom>
          <a:ln w="0">
            <a:noFill/>
          </a:ln>
        </p:spPr>
      </p:pic>
      <p:sp>
        <p:nvSpPr>
          <p:cNvPr id="963" name=""/>
          <p:cNvSpPr/>
          <p:nvPr/>
        </p:nvSpPr>
        <p:spPr>
          <a:xfrm>
            <a:off x="3995640" y="3500280"/>
            <a:ext cx="4105440" cy="46512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4764240" y="1700280"/>
            <a:ext cx="576000" cy="21600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A41F-E3EB-4B36-820A-25ACC2D565C2}" type="slidenum">
              <a:t>1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.Net and other goodi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8209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.Net utilitie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There is a lot of utilities out there that can be used in APL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For example, the Date/Time utilities found in the .Net </a:t>
            </a:r>
            <a:r>
              <a:rPr b="0" i="1" lang="en-GB" sz="2000" spc="-1" strike="noStrike">
                <a:solidFill>
                  <a:srgbClr val="080808"/>
                </a:solidFill>
                <a:latin typeface="Arial"/>
              </a:rPr>
              <a:t>DateTime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class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They are found in the </a:t>
            </a:r>
            <a:r>
              <a:rPr b="0" i="1" lang="en-GB" sz="2000" spc="-1" strike="noStrike">
                <a:solidFill>
                  <a:srgbClr val="080808"/>
                </a:solidFill>
                <a:latin typeface="Arial"/>
              </a:rPr>
              <a:t>System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namespace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To be able to use the </a:t>
            </a:r>
            <a:r>
              <a:rPr b="0" i="1" lang="en-GB" sz="2000" spc="-1" strike="noStrike">
                <a:solidFill>
                  <a:srgbClr val="080808"/>
                </a:solidFill>
                <a:latin typeface="Arial"/>
              </a:rPr>
              <a:t>DateTime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class you must indicate to APL that it resides in the </a:t>
            </a:r>
            <a:r>
              <a:rPr b="0" i="1" lang="en-GB" sz="2000" spc="-1" strike="noStrike">
                <a:solidFill>
                  <a:srgbClr val="080808"/>
                </a:solidFill>
                <a:latin typeface="Arial"/>
              </a:rPr>
              <a:t>System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namespace with ⎕USING: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USING←’System’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now←⎕new DateTime ⎕ts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now ⍝ let’s see its display form: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2006/10/15 21:47:08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nc ‘now’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2195640" y="3843360"/>
            <a:ext cx="936360" cy="28908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2340000" y="4148280"/>
            <a:ext cx="1150920" cy="28872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B1A2-AD93-4E4B-B6EF-321F8E48F074}" type="slidenum">
              <a:t>1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.Net and other goodi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8280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.Net for other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o allow other languages to use your code you should organize your classes in namespaces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755640" y="3068640"/>
            <a:ext cx="7201080" cy="3024360"/>
          </a:xfrm>
          <a:prstGeom prst="rect">
            <a:avLst/>
          </a:prstGeom>
          <a:noFill/>
          <a:ln w="284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810000" y="4140360"/>
            <a:ext cx="83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W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1835280" y="3284640"/>
            <a:ext cx="5832360" cy="1224000"/>
          </a:xfrm>
          <a:prstGeom prst="rect">
            <a:avLst/>
          </a:prstGeom>
          <a:noFill/>
          <a:ln w="284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1835280" y="4581360"/>
            <a:ext cx="5832360" cy="1295640"/>
          </a:xfrm>
          <a:prstGeom prst="rect">
            <a:avLst/>
          </a:prstGeom>
          <a:noFill/>
          <a:ln w="284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1910880" y="364500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0808"/>
                </a:solidFill>
                <a:latin typeface="Arial"/>
              </a:rPr>
              <a:t>NS1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1910880" y="501336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0808"/>
                </a:solidFill>
                <a:latin typeface="Arial"/>
              </a:rPr>
              <a:t>NS2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6156360" y="3429000"/>
            <a:ext cx="1224000" cy="863640"/>
          </a:xfrm>
          <a:prstGeom prst="flowChartPredefinedProcess">
            <a:avLst/>
          </a:prstGeom>
          <a:noFill/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3206160" y="371628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Class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4572000" y="3429000"/>
            <a:ext cx="1224000" cy="863640"/>
          </a:xfrm>
          <a:prstGeom prst="flowChartPredefinedProcess">
            <a:avLst/>
          </a:prstGeom>
          <a:noFill/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3059280" y="3429000"/>
            <a:ext cx="1223640" cy="863640"/>
          </a:xfrm>
          <a:prstGeom prst="flowChartPredefinedProcess">
            <a:avLst/>
          </a:prstGeom>
          <a:noFill/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2987640" y="4724280"/>
            <a:ext cx="1224000" cy="863640"/>
          </a:xfrm>
          <a:prstGeom prst="flowChartPredefinedProcess">
            <a:avLst/>
          </a:prstGeom>
          <a:noFill/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4427640" y="4724280"/>
            <a:ext cx="1224000" cy="863640"/>
          </a:xfrm>
          <a:prstGeom prst="flowChartPredefinedProcess">
            <a:avLst/>
          </a:prstGeom>
          <a:noFill/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4719240" y="371628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ClassB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303600" y="371628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ClassC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3134520" y="494172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ClassX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4574520" y="494172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ClassY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2CFD-2A1A-41F1-97EC-77DCF4E1DB9F}" type="slidenum">
              <a:t>1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.Net and other goodi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77043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.Net for other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o allow other languages to use your code you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declare how it works </a:t>
            </a:r>
            <a:br>
              <a:rPr sz="2800"/>
            </a:b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using the :Signature</a:t>
            </a:r>
            <a:br>
              <a:rPr sz="2800"/>
            </a:b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statement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export it through the</a:t>
            </a:r>
            <a:br>
              <a:rPr sz="2800"/>
            </a:b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File/Export/.Net DLL</a:t>
            </a:r>
            <a:br>
              <a:rPr sz="2800"/>
            </a:b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menu item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2"/>
          <a:stretch/>
        </p:blipFill>
        <p:spPr>
          <a:xfrm>
            <a:off x="4788000" y="2637000"/>
            <a:ext cx="3467160" cy="205740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/>
          <p:nvPr/>
        </p:nvSpPr>
        <p:spPr>
          <a:xfrm>
            <a:off x="5292720" y="3716280"/>
            <a:ext cx="2879640" cy="21744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6738840" y="3645000"/>
            <a:ext cx="800280" cy="36036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ADAE-D2EB-49CD-911C-7E5395FBC994}" type="slidenum">
              <a:t>1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:Signature statement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This statement is used for the outside world where type is important.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It is made up of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9900"/>
                </a:solidFill>
                <a:latin typeface="Arial"/>
              </a:rPr>
              <a:t>:Signature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3eb2f"/>
                </a:solidFill>
                <a:latin typeface="Arial"/>
              </a:rPr>
              <a:t>[rt←]</a:t>
            </a:r>
            <a:r>
              <a:rPr b="0" lang="en-GB" sz="2400" spc="-1" strike="noStrike">
                <a:solidFill>
                  <a:srgbClr val="ddfc2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fnname</a:t>
            </a:r>
            <a:r>
              <a:rPr b="0" lang="en-GB" sz="2400" spc="-1" strike="noStrike">
                <a:solidFill>
                  <a:srgbClr val="ddfc2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3eb2f"/>
                </a:solidFill>
                <a:latin typeface="Arial"/>
              </a:rPr>
              <a:t>[at1 [name1]   [</a:t>
            </a:r>
            <a:r>
              <a:rPr b="1" lang="en-GB" sz="2400" spc="-1" strike="noStrike">
                <a:solidFill>
                  <a:srgbClr val="03eb2f"/>
                </a:solidFill>
                <a:latin typeface="Arial"/>
              </a:rPr>
              <a:t>,</a:t>
            </a:r>
            <a:r>
              <a:rPr b="0" lang="en-GB" sz="2400" spc="-1" strike="noStrike">
                <a:solidFill>
                  <a:srgbClr val="03eb2f"/>
                </a:solidFill>
                <a:latin typeface="Arial"/>
              </a:rPr>
              <a:t>ng2   [</a:t>
            </a:r>
            <a:r>
              <a:rPr b="1" lang="en-GB" sz="2400" spc="-1" strike="noStrike">
                <a:solidFill>
                  <a:srgbClr val="03eb2f"/>
                </a:solidFill>
                <a:latin typeface="Arial"/>
              </a:rPr>
              <a:t>,</a:t>
            </a:r>
            <a:r>
              <a:rPr b="0" lang="en-GB" sz="2400" spc="-1" strike="noStrike">
                <a:solidFill>
                  <a:srgbClr val="03eb2f"/>
                </a:solidFill>
                <a:latin typeface="Arial"/>
              </a:rPr>
              <a:t>...] ] ]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3eb2f"/>
                </a:solidFill>
                <a:latin typeface="Arial"/>
              </a:rPr>
              <a:t>rt←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is the return type. If present it MUST be followed by ←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Arial"/>
              </a:rPr>
              <a:t>fnname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is the name of the function as seen from outside. It does not have to match the function name. This MUST be there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3eb2f"/>
                </a:solidFill>
                <a:latin typeface="Arial"/>
              </a:rPr>
              <a:t>at1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is the 1</a:t>
            </a:r>
            <a:r>
              <a:rPr b="0" lang="en-GB" sz="2000" spc="-1" strike="noStrike" baseline="30000">
                <a:solidFill>
                  <a:srgbClr val="080808"/>
                </a:solidFill>
                <a:latin typeface="Arial"/>
              </a:rPr>
              <a:t>st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argument type, if present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3eb2f"/>
                </a:solidFill>
                <a:latin typeface="Arial"/>
              </a:rPr>
              <a:t>name1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is the name of the 1</a:t>
            </a:r>
            <a:r>
              <a:rPr b="0" lang="en-GB" sz="2000" spc="-1" strike="noStrike" baseline="30000">
                <a:solidFill>
                  <a:srgbClr val="080808"/>
                </a:solidFill>
                <a:latin typeface="Arial"/>
              </a:rPr>
              <a:t>st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argument as seen from outside. If elided the DLL documentation will skip it and only show the type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cc9900"/>
                </a:solidFill>
                <a:latin typeface="Arial"/>
              </a:rPr>
              <a:t>,</a:t>
            </a:r>
            <a:r>
              <a:rPr b="0" i="1" lang="en-GB" sz="2000" spc="-1" strike="noStrike">
                <a:solidFill>
                  <a:srgbClr val="03eb2f"/>
                </a:solidFill>
                <a:latin typeface="Arial"/>
              </a:rPr>
              <a:t>ng2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is the same at/name group for the 2</a:t>
            </a:r>
            <a:r>
              <a:rPr b="0" lang="en-GB" sz="2000" spc="-1" strike="noStrike" baseline="30000">
                <a:solidFill>
                  <a:srgbClr val="080808"/>
                </a:solidFill>
                <a:latin typeface="Arial"/>
              </a:rPr>
              <a:t>nd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argument. If present, the comma MUST be there as it delimits groups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cc9900"/>
                </a:solidFill>
                <a:latin typeface="Arial"/>
              </a:rPr>
              <a:t>,</a:t>
            </a:r>
            <a:r>
              <a:rPr b="1" lang="en-GB" sz="2400" spc="-1" strike="noStrike">
                <a:solidFill>
                  <a:srgbClr val="03eb2f"/>
                </a:solidFill>
                <a:latin typeface="Arial"/>
              </a:rPr>
              <a:t>...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same for the other arguments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37FD-9EBF-4879-BDE7-F7991E685470}" type="slidenum">
              <a:t>1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.Net and other goodi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8425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.Net for other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Here’s how a C# program would use this program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using System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using APLClasses;</a:t>
            </a: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     // the namespace in which our clas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469ff"/>
                </a:solidFill>
                <a:latin typeface="Arial"/>
              </a:rPr>
              <a:t>public class MainClass {</a:t>
            </a:r>
            <a:r>
              <a:rPr b="0" lang="en-GB" sz="2400" spc="-1" strike="noStrike">
                <a:solidFill>
                  <a:srgbClr val="b469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b469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b469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// is found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469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b469ff"/>
                </a:solidFill>
                <a:latin typeface="Arial"/>
              </a:rPr>
              <a:t>public static void Main() {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469ff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b469ff"/>
                </a:solidFill>
                <a:latin typeface="Arial"/>
              </a:rPr>
              <a:t>Primitives apl = new</a:t>
            </a: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 Primitives();  </a:t>
            </a: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// the APL clas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int[] rslt = apl.GenIndices(10);</a:t>
            </a: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// THE call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b469ff"/>
                </a:solidFill>
                <a:latin typeface="Arial"/>
              </a:rPr>
              <a:t>for (int i=0;i&lt;rslt.Length;i++) Console.WriteLine(rslt[i])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469ff"/>
                </a:solidFill>
                <a:latin typeface="Arial"/>
              </a:rPr>
              <a:t>} }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2676600" y="4581360"/>
            <a:ext cx="1584360" cy="28764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1973-9563-46FE-ADF0-60223422F873}" type="slidenum">
              <a:t>1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.Net and other goodi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8209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.Net for other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Here’s how another APL program would use this program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⎕</a:t>
            </a: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using←'APLclasses,c:\...\apl.dll'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pr←⎕NEW Primitive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pr.GenIndices 10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1 2 3 4 5 6 7 8 9 10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1316160" y="4005360"/>
            <a:ext cx="1584360" cy="36036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FEF9-D3AF-4C50-B690-A72DA19D6DD8}" type="slidenum">
              <a:t>1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.Net and other goodi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396360" y="1517400"/>
            <a:ext cx="8496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Web services can be written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using APLScript, the scripting version of Dyalog APL, where logic is separated from page layou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n ASMX files and ASPX file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n workspaces “behind”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8381-EDDC-47C9-8979-49767B3CE237}" type="slidenum">
              <a:t>1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O fundamental concept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000" y="1371600"/>
            <a:ext cx="8351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1. Classes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A class defines the abstract characteristics of a </a:t>
            </a:r>
            <a:r>
              <a:rPr b="0" i="1" lang="en-US" sz="3200" spc="-1" strike="noStrike">
                <a:solidFill>
                  <a:srgbClr val="080808"/>
                </a:solidFill>
                <a:latin typeface="Arial"/>
              </a:rPr>
              <a:t>thing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, akin to a blueprint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It describes a collection of </a:t>
            </a:r>
            <a:r>
              <a:rPr b="0" i="1" lang="en-US" sz="3200" spc="-1" strike="noStrike">
                <a:solidFill>
                  <a:srgbClr val="080808"/>
                </a:solidFill>
                <a:latin typeface="Arial"/>
              </a:rPr>
              <a:t>variables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80808"/>
                </a:solidFill>
                <a:latin typeface="Arial"/>
              </a:rPr>
              <a:t>methods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(functions), possibly with a </a:t>
            </a:r>
            <a:r>
              <a:rPr b="0" i="1" lang="en-US" sz="3200" spc="-1" strike="noStrike">
                <a:solidFill>
                  <a:srgbClr val="080808"/>
                </a:solidFill>
                <a:latin typeface="Arial"/>
              </a:rPr>
              <a:t>constructor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method that can be used to create objects of the class and a </a:t>
            </a:r>
            <a:r>
              <a:rPr b="0" i="1" lang="en-US" sz="3200" spc="-1" strike="noStrike">
                <a:solidFill>
                  <a:srgbClr val="080808"/>
                </a:solidFill>
                <a:latin typeface="Arial"/>
              </a:rPr>
              <a:t>destructor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to remove the objects thus created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CEA7-A979-462B-B335-2BE8F3C40FD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.Net and other goodi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396360" y="1517400"/>
            <a:ext cx="8496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Example of Web services written in APLScript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PLPLUS"/>
                <a:ea typeface="APLPLUS"/>
              </a:rPr>
              <a:t>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PLPLUS"/>
                <a:ea typeface="APLPLUS"/>
              </a:rPr>
              <a:t></a:t>
            </a:r>
            <a:r>
              <a:rPr b="0" lang="en-GB" sz="2000" spc="-1" strike="noStrike">
                <a:solidFill>
                  <a:srgbClr val="9933ff"/>
                </a:solidFill>
                <a:latin typeface="APLPLUS"/>
                <a:ea typeface="APLPLUS"/>
              </a:rPr>
              <a:t></a:t>
            </a:r>
            <a:r>
              <a:rPr b="0" lang="en-GB" sz="2000" spc="-1" strike="noStrike">
                <a:solidFill>
                  <a:srgbClr val="080808"/>
                </a:solidFill>
                <a:latin typeface="APLPLUS"/>
                <a:ea typeface="APLPLUS"/>
              </a:rPr>
              <a:t>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PLPLUS"/>
                <a:ea typeface="APLPLUS"/>
              </a:rPr>
              <a:t>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PLPLUS"/>
                <a:ea typeface="APLPLUS"/>
              </a:rPr>
              <a:t>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PLPLUS"/>
                <a:ea typeface="APLPLUS"/>
              </a:rPr>
              <a:t>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PLPLUS"/>
                <a:ea typeface="APLPLUS"/>
              </a:rPr>
              <a:t>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PLPLUS"/>
                <a:ea typeface="APLPLUS"/>
              </a:rPr>
              <a:t></a:t>
            </a:r>
            <a:r>
              <a:rPr b="0" i="1" lang="en-GB" sz="2000" spc="-1" strike="noStrike">
                <a:solidFill>
                  <a:srgbClr val="080808"/>
                </a:solidFill>
                <a:latin typeface="APLPLUS"/>
                <a:ea typeface="APLPLUS"/>
              </a:rPr>
              <a:t></a:t>
            </a:r>
            <a:r>
              <a:rPr b="0" lang="en-GB" sz="2000" spc="-1" strike="noStrike">
                <a:solidFill>
                  <a:srgbClr val="080808"/>
                </a:solidFill>
                <a:latin typeface="APLPLUS"/>
                <a:ea typeface="APLPLUS"/>
              </a:rPr>
              <a:t>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PLPLUS"/>
                <a:ea typeface="APLPLUS"/>
              </a:rPr>
              <a:t>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PLPLUS"/>
                <a:ea typeface="APLPLUS"/>
              </a:rPr>
              <a:t>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PLPLUS"/>
                <a:ea typeface="APLPLUS"/>
              </a:rPr>
              <a:t>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PLPLUS"/>
                <a:ea typeface="APLPLUS"/>
              </a:rPr>
              <a:t>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971640" y="3740040"/>
            <a:ext cx="2736720" cy="36036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E732-A213-458A-8C7F-6E2EE4BFCCCD}" type="slidenum">
              <a:t>1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.Net and other goodi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1258560" y="1268280"/>
            <a:ext cx="698508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Example of Web services written in APLScript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007" name="" descr=""/>
          <p:cNvPicPr/>
          <p:nvPr/>
        </p:nvPicPr>
        <p:blipFill>
          <a:blip r:embed="rId2"/>
          <a:stretch/>
        </p:blipFill>
        <p:spPr>
          <a:xfrm>
            <a:off x="2449440" y="2133720"/>
            <a:ext cx="4210200" cy="406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476E-20E5-4634-946C-D9CC2BB27142}" type="slidenum">
              <a:t>1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.Net and other goodi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3635280" y="1484280"/>
            <a:ext cx="5112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0808"/>
                </a:solidFill>
                <a:latin typeface="APLPLUS"/>
                <a:ea typeface="APLPLUS"/>
              </a:rPr>
              <a:t>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0808"/>
                </a:solidFill>
                <a:latin typeface="APLPLUS"/>
                <a:ea typeface="APLPLUS"/>
              </a:rPr>
              <a:t>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0808"/>
                </a:solidFill>
                <a:latin typeface="APLPLUS"/>
                <a:ea typeface="APLPLUS"/>
              </a:rPr>
              <a:t>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0808"/>
                </a:solidFill>
                <a:latin typeface="APLPLUS"/>
                <a:ea typeface="APLPLUS"/>
              </a:rPr>
              <a:t>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0808"/>
                </a:solidFill>
                <a:latin typeface="APLPLUS"/>
                <a:ea typeface="APLPLUS"/>
              </a:rPr>
              <a:t>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0808"/>
                </a:solidFill>
                <a:latin typeface="APLPLUS"/>
                <a:ea typeface="APLPLUS"/>
              </a:rPr>
              <a:t>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0808"/>
                </a:solidFill>
                <a:latin typeface="APLPLUS"/>
                <a:ea typeface="APLPLUS"/>
              </a:rPr>
              <a:t>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0808"/>
                </a:solidFill>
                <a:latin typeface="APLPLUS"/>
                <a:ea typeface="APLPLUS"/>
              </a:rPr>
              <a:t>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0808"/>
                </a:solidFill>
                <a:latin typeface="APLPLUS"/>
                <a:ea typeface="APLPLUS"/>
              </a:rPr>
              <a:t>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0808"/>
                </a:solidFill>
                <a:latin typeface="APLPLUS"/>
                <a:ea typeface="APLPLUS"/>
              </a:rPr>
              <a:t>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0808"/>
                </a:solidFill>
                <a:latin typeface="APLPLUS"/>
                <a:ea typeface="APLPLUS"/>
              </a:rPr>
              <a:t>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0808"/>
                </a:solidFill>
                <a:latin typeface="APLPLUS"/>
                <a:ea typeface="APLPLUS"/>
              </a:rPr>
              <a:t>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0808"/>
                </a:solidFill>
                <a:latin typeface="APLPLUS"/>
                <a:ea typeface="APLPLUS"/>
              </a:rPr>
              <a:t>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0808"/>
                </a:solidFill>
                <a:latin typeface="APLPLUS"/>
                <a:ea typeface="APLPLUS"/>
              </a:rPr>
              <a:t>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0808"/>
                </a:solidFill>
                <a:latin typeface="APLPLUS"/>
                <a:ea typeface="APLPLUS"/>
              </a:rPr>
              <a:t>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0808"/>
                </a:solidFill>
                <a:latin typeface="APLPLUS"/>
                <a:ea typeface="APLPLUS"/>
              </a:rPr>
              <a:t>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0808"/>
                </a:solidFill>
                <a:latin typeface="APLPLUS"/>
                <a:ea typeface="APLPLUS"/>
              </a:rPr>
              <a:t>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0808"/>
                </a:solidFill>
                <a:latin typeface="APLPLUS"/>
                <a:ea typeface="APLPLUS"/>
              </a:rPr>
              <a:t>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0808"/>
                </a:solidFill>
                <a:latin typeface="APLPLUS"/>
                <a:ea typeface="APLPLUS"/>
              </a:rPr>
              <a:t>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0808"/>
                </a:solidFill>
                <a:latin typeface="APLPLUS"/>
                <a:ea typeface="APLPLUS"/>
              </a:rPr>
              <a:t>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0808"/>
                </a:solidFill>
                <a:latin typeface="APLPLUS"/>
                <a:ea typeface="APLPLUS"/>
              </a:rPr>
              <a:t>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5316480" y="4869000"/>
            <a:ext cx="934920" cy="28872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3780000" y="1900080"/>
            <a:ext cx="863280" cy="28908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447840" y="154764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376920" y="166860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With ASPX files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4932360" y="4292640"/>
            <a:ext cx="1079640" cy="431640"/>
          </a:xfrm>
          <a:prstGeom prst="rect">
            <a:avLst/>
          </a:prstGeom>
          <a:solidFill>
            <a:srgbClr val="fbcdff">
              <a:alpha val="43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1015" name=""/>
          <p:cNvGrpSpPr/>
          <p:nvPr/>
        </p:nvGrpSpPr>
        <p:grpSpPr>
          <a:xfrm>
            <a:off x="179280" y="2492280"/>
            <a:ext cx="3355920" cy="1482840"/>
            <a:chOff x="179280" y="2492280"/>
            <a:chExt cx="3355920" cy="1482840"/>
          </a:xfrm>
        </p:grpSpPr>
        <p:pic>
          <p:nvPicPr>
            <p:cNvPr id="1016" name="" descr=""/>
            <p:cNvPicPr/>
            <p:nvPr/>
          </p:nvPicPr>
          <p:blipFill>
            <a:blip r:embed="rId2"/>
            <a:stretch/>
          </p:blipFill>
          <p:spPr>
            <a:xfrm>
              <a:off x="179280" y="2492280"/>
              <a:ext cx="3355920" cy="148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7" name=""/>
            <p:cNvSpPr/>
            <p:nvPr/>
          </p:nvSpPr>
          <p:spPr>
            <a:xfrm>
              <a:off x="250920" y="3421080"/>
              <a:ext cx="792000" cy="287280"/>
            </a:xfrm>
            <a:prstGeom prst="rect">
              <a:avLst/>
            </a:prstGeom>
            <a:solidFill>
              <a:srgbClr val="fbcdff">
                <a:alpha val="43000"/>
              </a:srgbClr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grpSp>
        <p:nvGrpSpPr>
          <p:cNvPr id="1018" name=""/>
          <p:cNvGrpSpPr/>
          <p:nvPr/>
        </p:nvGrpSpPr>
        <p:grpSpPr>
          <a:xfrm>
            <a:off x="179280" y="4149720"/>
            <a:ext cx="3355920" cy="1482840"/>
            <a:chOff x="179280" y="4149720"/>
            <a:chExt cx="3355920" cy="1482840"/>
          </a:xfrm>
        </p:grpSpPr>
        <p:pic>
          <p:nvPicPr>
            <p:cNvPr id="1019" name="" descr=""/>
            <p:cNvPicPr/>
            <p:nvPr/>
          </p:nvPicPr>
          <p:blipFill>
            <a:blip r:embed="rId3"/>
            <a:stretch/>
          </p:blipFill>
          <p:spPr>
            <a:xfrm>
              <a:off x="179280" y="4149720"/>
              <a:ext cx="3355920" cy="148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0" name=""/>
            <p:cNvSpPr/>
            <p:nvPr/>
          </p:nvSpPr>
          <p:spPr>
            <a:xfrm>
              <a:off x="250920" y="5076720"/>
              <a:ext cx="792000" cy="289080"/>
            </a:xfrm>
            <a:prstGeom prst="rect">
              <a:avLst/>
            </a:prstGeom>
            <a:solidFill>
              <a:srgbClr val="fbcdff">
                <a:alpha val="43000"/>
              </a:srgbClr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C0DB-5574-494B-A96D-E0D80D031F2B}" type="slidenum">
              <a:t>1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:Using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:</a:t>
            </a: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Using vs ⎕USING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:</a:t>
            </a:r>
            <a:r>
              <a:rPr b="0" i="1" lang="en-GB" sz="3200" spc="-1" strike="noStrike">
                <a:solidFill>
                  <a:srgbClr val="080808"/>
                </a:solidFill>
                <a:latin typeface="Arial"/>
              </a:rPr>
              <a:t>Using X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is akin to ⎕USING,←X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t appends X to ⎕USING except when no argument is supplied where it means “</a:t>
            </a:r>
            <a:r>
              <a:rPr b="0" lang="en-GB" sz="3200" spc="-1" strike="noStrike">
                <a:solidFill>
                  <a:srgbClr val="080808"/>
                </a:solidFill>
                <a:latin typeface="APL385 Unicode"/>
              </a:rPr>
              <a:t>←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0⍴⊂⍬”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n a script/class it is necessary to determine the base class/interface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8757-5FEC-44C7-ABBF-A0EA57724A2A}" type="slidenum">
              <a:t>1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Namespaces in script form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024" name=""/>
          <p:cNvSpPr/>
          <p:nvPr/>
        </p:nvSpPr>
        <p:spPr>
          <a:xfrm>
            <a:off x="324000" y="1989000"/>
            <a:ext cx="4555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)ed ⍟</a:t>
            </a:r>
            <a:r>
              <a:rPr b="0" i="1" lang="en-GB" sz="2800" spc="-1" strike="noStrike">
                <a:solidFill>
                  <a:srgbClr val="080808"/>
                </a:solidFill>
                <a:latin typeface="Arial"/>
              </a:rPr>
              <a:t>name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will edit a new </a:t>
            </a:r>
            <a:r>
              <a:rPr b="0" i="1" lang="en-GB" sz="2800" spc="-1" strike="noStrike">
                <a:solidFill>
                  <a:srgbClr val="080808"/>
                </a:solidFill>
                <a:latin typeface="Arial"/>
              </a:rPr>
              <a:t>name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using the same source format as classes and interfaces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 source can then be retrieved using ⎕SRC and fixed using ⎕FIX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025" name="" descr=""/>
          <p:cNvPicPr/>
          <p:nvPr/>
        </p:nvPicPr>
        <p:blipFill>
          <a:blip r:embed="rId2"/>
          <a:stretch/>
        </p:blipFill>
        <p:spPr>
          <a:xfrm>
            <a:off x="4859280" y="2565360"/>
            <a:ext cx="3960720" cy="2852640"/>
          </a:xfrm>
          <a:prstGeom prst="rect">
            <a:avLst/>
          </a:prstGeom>
          <a:ln w="0">
            <a:noFill/>
          </a:ln>
        </p:spPr>
      </p:pic>
      <p:sp>
        <p:nvSpPr>
          <p:cNvPr id="1026" name=""/>
          <p:cNvSpPr/>
          <p:nvPr/>
        </p:nvSpPr>
        <p:spPr>
          <a:xfrm>
            <a:off x="322920" y="1341360"/>
            <a:ext cx="629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Namespaces can have a source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54B0-1942-4DB1-8907-CCC893E954F4}" type="slidenum">
              <a:t>1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verloading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Primitives cannot be overloaded by APL classes but some .Net classes are.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Ex: DateTime objects can be compared using =, &gt;, etc. sorted using ‘grade up’ or added to TimeSpans using +.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using←'System'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d1←⎕new DateTime ⎕ts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d2←⎕new DateTime (2006 10 16)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t1←⎕new TimeSpan (7 2 0 0) ⍝ 7 days, 2 hours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+d3←d1-t1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2006/10/03 17:12:01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d1&lt;d2,d3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1 0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643E-E352-4D53-B261-7F0B03E73291}" type="slidenum">
              <a:t>1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/>
          </p:nvPr>
        </p:nvSpPr>
        <p:spPr>
          <a:xfrm>
            <a:off x="395280" y="1371600"/>
            <a:ext cx="856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re are many advantages to using OO languages over procedural languages: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ease of modification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reduced maintenance cost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easier to mod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can speed up development time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onclusion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192A-E2ED-4B58-B430-2C06A69C6864}" type="slidenum">
              <a:t>1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/>
          </p:nvPr>
        </p:nvSpPr>
        <p:spPr>
          <a:xfrm>
            <a:off x="395280" y="1371600"/>
            <a:ext cx="856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OO languages make abstraction easy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ey encourage architectures with elaborate layers.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ey can be good when the problem domain is truly complex and demands a lot of abstraction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onclusion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6B13-1072-4195-B92B-066EDB8FA916}" type="slidenum">
              <a:t>1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250560" y="1341360"/>
            <a:ext cx="84582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All OO languages show some tendency to suck programmers into the trap of excessive layering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Object frameworks and object browsers are not a substitute for good design or documentation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areful!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54D8-4652-47DA-9251-31D0B0942DB0}" type="slidenum">
              <a:t>1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/>
          </p:nvPr>
        </p:nvSpPr>
        <p:spPr>
          <a:xfrm>
            <a:off x="250560" y="1341360"/>
            <a:ext cx="84582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oo many layers destroy transparency: It becomes too difficult to see down through them and mentally model what the code is actually doing.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e Rules of Simplicity, Clarity, and Transparency can get violated wholesale, and the result is code full of obscure bugs and continuing maintenance problems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areful!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B662-F416-4E0A-A6C3-3DFDCAAEFADA}" type="slidenum">
              <a:t>1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O fundamental concept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68000" y="1371600"/>
            <a:ext cx="8351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A </a:t>
            </a:r>
            <a:r>
              <a:rPr b="0" i="1" lang="en-US" sz="3200" spc="-1" strike="noStrike">
                <a:solidFill>
                  <a:srgbClr val="080808"/>
                </a:solidFill>
                <a:latin typeface="Arial"/>
              </a:rPr>
              <a:t>class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80808"/>
                </a:solidFill>
                <a:uFillTx/>
                <a:latin typeface="Arial"/>
              </a:rPr>
              <a:t>can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implement one or more </a:t>
            </a:r>
            <a:r>
              <a:rPr b="0" i="1" lang="en-US" sz="3200" spc="-1" strike="noStrike">
                <a:solidFill>
                  <a:srgbClr val="cc9900"/>
                </a:solidFill>
                <a:latin typeface="Arial"/>
              </a:rPr>
              <a:t>interfaces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An </a:t>
            </a:r>
            <a:r>
              <a:rPr b="0" i="1" lang="en-US" sz="3200" spc="-1" strike="noStrike">
                <a:solidFill>
                  <a:srgbClr val="080808"/>
                </a:solidFill>
                <a:latin typeface="Arial"/>
              </a:rPr>
              <a:t>interface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describes </a:t>
            </a:r>
            <a:r>
              <a:rPr b="1" lang="en-US" sz="3200" spc="-1" strike="noStrike">
                <a:solidFill>
                  <a:srgbClr val="080808"/>
                </a:solidFill>
                <a:latin typeface="Arial"/>
              </a:rPr>
              <a:t>what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it should do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 </a:t>
            </a:r>
            <a:r>
              <a:rPr b="0" i="1" lang="en-GB" sz="3200" spc="-1" strike="noStrike">
                <a:solidFill>
                  <a:srgbClr val="080808"/>
                </a:solidFill>
                <a:latin typeface="Arial"/>
              </a:rPr>
              <a:t>class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describes </a:t>
            </a: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how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it should be done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f a class implements an interface it should do it completely, no partial implementation is allowed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BF7E-CA1F-45DB-B6D3-064B1D03A00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/>
          </p:nvPr>
        </p:nvSpPr>
        <p:spPr>
          <a:xfrm>
            <a:off x="3059280" y="3213000"/>
            <a:ext cx="3457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Buyer beware!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areful!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D624-D148-4E31-86CE-A7C5C5C0A0D8}" type="slidenum">
              <a:t>1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nterfaces - example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79280" y="1373040"/>
            <a:ext cx="8785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 following </a:t>
            </a: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maneuvering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interface describes what </a:t>
            </a:r>
            <a:r>
              <a:rPr b="0" lang="en-GB" sz="3200" spc="-1" strike="noStrike" u="sng">
                <a:solidFill>
                  <a:srgbClr val="080808"/>
                </a:solidFill>
                <a:uFillTx/>
                <a:latin typeface="Arial"/>
              </a:rPr>
              <a:t>has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to be done with a machine: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Method Steer (direction); // where to go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Method Accellerate (power); // go faster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Method SlowDown (strength); // go slower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t does NOT specify </a:t>
            </a: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how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it should be done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BF0C-7158-431D-A1C6-CD915624EC5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5943600" y="1557360"/>
            <a:ext cx="3205080" cy="424980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nterfaces - example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8000" y="1196640"/>
            <a:ext cx="820728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is </a:t>
            </a: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car 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object implements</a:t>
            </a: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 maneuvering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79280" y="1874880"/>
            <a:ext cx="6264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Class </a:t>
            </a:r>
            <a:r>
              <a:rPr b="0" i="1" lang="en-GB" sz="2800" spc="-1" strike="noStrike">
                <a:solidFill>
                  <a:srgbClr val="080808"/>
                </a:solidFill>
                <a:latin typeface="Arial"/>
              </a:rPr>
              <a:t>car : maneuvering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Method SteeringWheel: implement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maneuvering.Steer (turn);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Method GasPedal: implement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maneuvering.Accellerate (push);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Method BreakPedal: implement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maneuvering.SlowDown (hit);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615C-2226-452F-B114-835D2017635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ntroduction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000" y="2997000"/>
            <a:ext cx="8134200" cy="31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nteroperability &amp; 64 bit O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New WS managemen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New primitives &amp; enhancements to other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Object Orientation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47640" y="1557360"/>
            <a:ext cx="525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V11 has been released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Here are the major features: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CA37-D88D-4E05-BD8E-E24AEB1C4C3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5722920" y="1773360"/>
            <a:ext cx="3421080" cy="403200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nterfaces - example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78920" y="1196640"/>
            <a:ext cx="853308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is </a:t>
            </a: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plane 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object implements</a:t>
            </a: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 maneuvering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0920" y="1892160"/>
            <a:ext cx="7867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Class </a:t>
            </a:r>
            <a:r>
              <a:rPr b="0" i="1" lang="en-GB" sz="2800" spc="-1" strike="noStrike">
                <a:solidFill>
                  <a:srgbClr val="080808"/>
                </a:solidFill>
                <a:latin typeface="Arial"/>
              </a:rPr>
              <a:t>plane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: </a:t>
            </a:r>
            <a:r>
              <a:rPr b="0" i="1" lang="en-GB" sz="2800" spc="-1" strike="noStrike">
                <a:solidFill>
                  <a:srgbClr val="080808"/>
                </a:solidFill>
                <a:latin typeface="Arial"/>
              </a:rPr>
              <a:t>maneuvering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Method Stick: implements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maneuvering.Steer (move);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Method Handle: implements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maneuvering.Accellerate (pushpull);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Method Flaps: implements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maneuvering.SlowDown (degree);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E1D9-3B81-43B2-8E65-6CEE6230137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O fundamental concept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8360" y="1371600"/>
            <a:ext cx="7989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2. Instances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ose are tangible objects created from a specific class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Upon creation any specific action is carried out by the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constructor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of the class if need be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Upon destruction, the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destructor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is responsible for cleaning up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0BD5-9684-481F-858B-3ADBC178D3F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O fundamental concept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24000" y="1371600"/>
            <a:ext cx="8640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3. Members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s is the code and the data of a class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 code is divided into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Methods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(functions) and data is divided into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Fields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(variables)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re are also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Properties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which are Fields implemented via functions to read/set them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All these are visible from outside when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Public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or invisible from outside if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Private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1511-9F9B-400C-B02F-4F5BDB017DA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O fundamental concept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68360" y="1371600"/>
            <a:ext cx="7989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Members: Methods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ose can either reside in the class (</a:t>
            </a:r>
            <a:r>
              <a:rPr b="0" i="1" lang="en-US" sz="3200" spc="-1" strike="noStrike">
                <a:solidFill>
                  <a:srgbClr val="cc9900"/>
                </a:solidFill>
                <a:latin typeface="Arial"/>
              </a:rPr>
              <a:t>shared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method) or in the instance (</a:t>
            </a:r>
            <a:r>
              <a:rPr b="0" i="1" lang="en-US" sz="3200" spc="-1" strike="noStrike">
                <a:solidFill>
                  <a:srgbClr val="cc9900"/>
                </a:solidFill>
                <a:latin typeface="Arial"/>
              </a:rPr>
              <a:t>instance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method)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re are also </a:t>
            </a:r>
            <a:r>
              <a:rPr b="0" i="1" lang="en-GB" sz="3200" spc="-1" strike="noStrike">
                <a:solidFill>
                  <a:srgbClr val="080808"/>
                </a:solidFill>
                <a:latin typeface="Arial"/>
              </a:rPr>
              <a:t>abstract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methods (e.g. in interfaces) with no code, only calling syntax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80808"/>
                </a:solidFill>
                <a:latin typeface="Arial"/>
              </a:rPr>
              <a:t>Constructors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and </a:t>
            </a:r>
            <a:r>
              <a:rPr b="0" i="1" lang="en-GB" sz="3200" spc="-1" strike="noStrike">
                <a:solidFill>
                  <a:srgbClr val="080808"/>
                </a:solidFill>
                <a:latin typeface="Arial"/>
              </a:rPr>
              <a:t>destructors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are methods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FAC8-EA06-41BE-B039-113A714A3C6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O fundamental concept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68360" y="1371600"/>
            <a:ext cx="7989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Members: Fields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ose can either reside in the class (</a:t>
            </a:r>
            <a:r>
              <a:rPr b="0" i="1" lang="en-US" sz="3200" spc="-1" strike="noStrike">
                <a:solidFill>
                  <a:srgbClr val="080808"/>
                </a:solidFill>
                <a:latin typeface="Arial"/>
              </a:rPr>
              <a:t>shared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field) or in the instance (</a:t>
            </a:r>
            <a:r>
              <a:rPr b="0" i="1" lang="en-US" sz="3200" spc="-1" strike="noStrike">
                <a:solidFill>
                  <a:srgbClr val="080808"/>
                </a:solidFill>
                <a:latin typeface="Arial"/>
              </a:rPr>
              <a:t>instance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field)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y can also be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read only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B8A2-4BB8-4473-A448-D2BC87D9F14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O fundamental concept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68360" y="1371600"/>
            <a:ext cx="7989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Members: Properties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ose are </a:t>
            </a:r>
            <a:r>
              <a:rPr b="0" i="1" lang="en-US" sz="3200" spc="-1" strike="noStrike">
                <a:solidFill>
                  <a:srgbClr val="080808"/>
                </a:solidFill>
                <a:latin typeface="Arial"/>
              </a:rPr>
              <a:t>Fields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mplemented by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access</a:t>
            </a:r>
            <a:r>
              <a:rPr b="0" i="1" lang="en-GB" sz="3200" spc="-1" strike="noStrike">
                <a:solidFill>
                  <a:srgbClr val="080808"/>
                </a:solidFill>
                <a:latin typeface="Arial"/>
              </a:rPr>
              <a:t>ing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methods, i.e.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PL385 Unicode"/>
              </a:rPr>
              <a:t> </a:t>
            </a:r>
            <a:r>
              <a:rPr b="0" lang="en-GB" sz="3200" spc="-1" strike="noStrike">
                <a:solidFill>
                  <a:srgbClr val="080808"/>
                </a:solidFill>
                <a:latin typeface="APL385 Unicode"/>
              </a:rPr>
              <a:t>PropX</a:t>
            </a:r>
            <a:r>
              <a:rPr b="0" lang="en-GB" sz="2800" spc="-1" strike="noStrike">
                <a:solidFill>
                  <a:srgbClr val="080808"/>
                </a:solidFill>
                <a:latin typeface="APL385 Unicode"/>
              </a:rPr>
              <a:t>←</a:t>
            </a:r>
            <a:r>
              <a:rPr b="0" lang="fr-CA" sz="2800" spc="-1" strike="noStrike">
                <a:solidFill>
                  <a:srgbClr val="080808"/>
                </a:solidFill>
                <a:latin typeface="APL385 Unicode"/>
              </a:rPr>
              <a:t>value </a:t>
            </a:r>
            <a:r>
              <a:rPr b="0" lang="fr-CA" sz="2800" spc="-1" strike="noStrike">
                <a:solidFill>
                  <a:srgbClr val="080808"/>
                </a:solidFill>
                <a:latin typeface="APL385 Unicode"/>
              </a:rPr>
              <a:t>	</a:t>
            </a:r>
            <a:r>
              <a:rPr b="0" lang="fr-CA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080808"/>
                </a:solidFill>
                <a:latin typeface="Arial"/>
              </a:rPr>
              <a:t>is implemented by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80808"/>
                </a:solidFill>
                <a:latin typeface="APL385 Unicode"/>
              </a:rPr>
              <a:t> </a:t>
            </a:r>
            <a:r>
              <a:rPr b="0" lang="fr-CA" sz="2800" spc="-1" strike="noStrike">
                <a:solidFill>
                  <a:srgbClr val="080808"/>
                </a:solidFill>
                <a:latin typeface="APL385 Unicode"/>
              </a:rPr>
              <a:t>SET value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ey can either reside in the class (</a:t>
            </a:r>
            <a:r>
              <a:rPr b="0" i="1" lang="en-US" sz="3200" spc="-1" strike="noStrike">
                <a:solidFill>
                  <a:srgbClr val="080808"/>
                </a:solidFill>
                <a:latin typeface="Arial"/>
              </a:rPr>
              <a:t>shared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property) or in the instance (</a:t>
            </a:r>
            <a:r>
              <a:rPr b="0" i="1" lang="en-US" sz="3200" spc="-1" strike="noStrike">
                <a:solidFill>
                  <a:srgbClr val="080808"/>
                </a:solidFill>
                <a:latin typeface="Arial"/>
              </a:rPr>
              <a:t>instance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property)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1F56-7067-4A3E-B81D-30ED5ABA785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O fundamental concept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24000" y="1371600"/>
            <a:ext cx="8640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4. Message passing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s is the (usually asynchronous) sending (often by copy) of a data item to a communication endpoint (process, thread, socket, </a:t>
            </a:r>
            <a:r>
              <a:rPr b="0" i="1" lang="en-US" sz="3200" spc="-1" strike="noStrike">
                <a:solidFill>
                  <a:srgbClr val="080808"/>
                </a:solidFill>
                <a:latin typeface="Arial"/>
              </a:rPr>
              <a:t>etc.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).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n procedural languages it corresponds to a call made to a routine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505B-F0A8-4118-B704-70041EE63A2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O fundamental concept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24000" y="1371600"/>
            <a:ext cx="8640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5. Inheritance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80808"/>
                </a:solidFill>
                <a:latin typeface="Arial"/>
              </a:rPr>
              <a:t>This is a way to avoid rewriting code by writing general classes and classes that </a:t>
            </a:r>
            <a:r>
              <a:rPr b="0" i="1" lang="fr-CA" sz="3200" spc="-1" strike="noStrike">
                <a:solidFill>
                  <a:srgbClr val="080808"/>
                </a:solidFill>
                <a:latin typeface="Arial"/>
              </a:rPr>
              <a:t>derive</a:t>
            </a:r>
            <a:r>
              <a:rPr b="0" lang="fr-CA" sz="3200" spc="-1" strike="noStrike">
                <a:solidFill>
                  <a:srgbClr val="080808"/>
                </a:solidFill>
                <a:latin typeface="Arial"/>
              </a:rPr>
              <a:t> from them and </a:t>
            </a:r>
            <a:r>
              <a:rPr b="0" i="1" lang="fr-CA" sz="3200" spc="-1" strike="noStrike">
                <a:solidFill>
                  <a:srgbClr val="080808"/>
                </a:solidFill>
                <a:latin typeface="Arial"/>
              </a:rPr>
              <a:t>inherit</a:t>
            </a:r>
            <a:r>
              <a:rPr b="0" lang="fr-CA" sz="3200" spc="-1" strike="noStrike">
                <a:solidFill>
                  <a:srgbClr val="080808"/>
                </a:solidFill>
                <a:latin typeface="Arial"/>
              </a:rPr>
              <a:t> their </a:t>
            </a:r>
            <a:r>
              <a:rPr b="0" i="1" lang="fr-CA" sz="3200" spc="-1" strike="noStrike">
                <a:solidFill>
                  <a:srgbClr val="080808"/>
                </a:solidFill>
                <a:latin typeface="Arial"/>
              </a:rPr>
              <a:t>members</a:t>
            </a:r>
            <a:r>
              <a:rPr b="0" lang="fr-CA" sz="3200" spc="-1" strike="noStrike">
                <a:solidFill>
                  <a:srgbClr val="080808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80808"/>
                </a:solidFill>
                <a:latin typeface="Arial"/>
              </a:rPr>
              <a:t>This helps achieve </a:t>
            </a:r>
            <a:r>
              <a:rPr b="0" i="1" lang="fr-CA" sz="3200" spc="-1" strike="noStrike">
                <a:solidFill>
                  <a:srgbClr val="080808"/>
                </a:solidFill>
                <a:latin typeface="Arial"/>
              </a:rPr>
              <a:t>reusability, </a:t>
            </a:r>
            <a:r>
              <a:rPr b="0" lang="fr-CA" sz="3200" spc="-1" strike="noStrike">
                <a:solidFill>
                  <a:srgbClr val="080808"/>
                </a:solidFill>
                <a:latin typeface="Arial"/>
              </a:rPr>
              <a:t>a cornerstone of OO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2BBA-DFBD-4504-8DAC-F1CE39D77B1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O fundamental concept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24000" y="1371600"/>
            <a:ext cx="8640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Inheritance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80808"/>
                </a:solidFill>
                <a:latin typeface="Arial"/>
              </a:rPr>
              <a:t>We say that a (</a:t>
            </a:r>
            <a:r>
              <a:rPr b="0" i="1" lang="fr-CA" sz="3200" spc="-1" strike="noStrike">
                <a:solidFill>
                  <a:srgbClr val="080808"/>
                </a:solidFill>
                <a:latin typeface="Arial"/>
              </a:rPr>
              <a:t>derived)</a:t>
            </a:r>
            <a:r>
              <a:rPr b="0" lang="fr-CA" sz="3200" spc="-1" strike="noStrike">
                <a:solidFill>
                  <a:srgbClr val="080808"/>
                </a:solidFill>
                <a:latin typeface="Arial"/>
              </a:rPr>
              <a:t> class is </a:t>
            </a:r>
            <a:r>
              <a:rPr b="0" i="1" lang="fr-CA" sz="3200" spc="-1" strike="noStrike">
                <a:solidFill>
                  <a:srgbClr val="cc9900"/>
                </a:solidFill>
                <a:latin typeface="Arial"/>
              </a:rPr>
              <a:t>based</a:t>
            </a:r>
            <a:r>
              <a:rPr b="0" lang="fr-CA" sz="3200" spc="-1" strike="noStrike">
                <a:solidFill>
                  <a:srgbClr val="080808"/>
                </a:solidFill>
                <a:latin typeface="Arial"/>
              </a:rPr>
              <a:t> on another one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80808"/>
                </a:solidFill>
                <a:latin typeface="Arial"/>
              </a:rPr>
              <a:t>All</a:t>
            </a:r>
            <a:r>
              <a:rPr b="0" lang="fr-CA" sz="3200" spc="-1" strike="noStrike">
                <a:solidFill>
                  <a:srgbClr val="080808"/>
                </a:solidFill>
                <a:latin typeface="Arial"/>
              </a:rPr>
              <a:t> classes (but one) are derived from another one or by </a:t>
            </a:r>
            <a:r>
              <a:rPr b="0" i="1" lang="fr-CA" sz="3200" spc="-1" strike="noStrike">
                <a:solidFill>
                  <a:srgbClr val="080808"/>
                </a:solidFill>
                <a:latin typeface="Arial"/>
              </a:rPr>
              <a:t>System.Object</a:t>
            </a:r>
            <a:r>
              <a:rPr b="0" lang="fr-CA" sz="3200" spc="-1" strike="noStrike">
                <a:solidFill>
                  <a:srgbClr val="080808"/>
                </a:solidFill>
                <a:latin typeface="Arial"/>
              </a:rPr>
              <a:t> (the default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4E6D-4F92-4C5A-A727-B460BD651BD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O fundamental concept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820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Inheritance: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Based classes (</a:t>
            </a:r>
            <a:r>
              <a:rPr b="0" i="1" lang="en-GB" sz="2800" spc="-1" strike="noStrike">
                <a:solidFill>
                  <a:srgbClr val="080808"/>
                </a:solidFill>
                <a:latin typeface="Arial"/>
              </a:rPr>
              <a:t>reusability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A </a:t>
            </a:r>
            <a:r>
              <a:rPr b="0" lang="en-GB" sz="2800" spc="-1" strike="noStrike">
                <a:solidFill>
                  <a:srgbClr val="00ccff"/>
                </a:solidFill>
                <a:latin typeface="Arial"/>
              </a:rPr>
              <a:t>class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can be based on another based class. See </a:t>
            </a:r>
            <a:r>
              <a:rPr b="0" lang="en-GB" sz="2800" spc="-1" strike="noStrike">
                <a:solidFill>
                  <a:srgbClr val="00ccff"/>
                </a:solidFill>
                <a:latin typeface="Arial"/>
              </a:rPr>
              <a:t>class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Collie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based on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 Dog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based on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 Anima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4360" y="4221000"/>
            <a:ext cx="1584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Anima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771640" y="342900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Dog: Anima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948360" y="5011560"/>
            <a:ext cx="1584360" cy="1008360"/>
          </a:xfrm>
          <a:prstGeom prst="rect">
            <a:avLst/>
          </a:prstGeom>
          <a:solidFill>
            <a:srgbClr val="6bfd87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Rex (Collie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771640" y="479736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Fish: Anima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948360" y="3860640"/>
            <a:ext cx="1584360" cy="1008360"/>
          </a:xfrm>
          <a:prstGeom prst="rect">
            <a:avLst/>
          </a:prstGeom>
          <a:solidFill>
            <a:srgbClr val="6bfd87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Fido (Collie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9280" y="314172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Big Dane: Dog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59280" y="450864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Collie: Dog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cxnSp>
        <p:nvCxnSpPr>
          <p:cNvPr id="270" name=""/>
          <p:cNvCxnSpPr>
            <a:stCxn id="263" idx="3"/>
            <a:endCxn id="264" idx="1"/>
          </p:cNvCxnSpPr>
          <p:nvPr/>
        </p:nvCxnSpPr>
        <p:spPr>
          <a:xfrm flipV="1">
            <a:off x="2268360" y="3933000"/>
            <a:ext cx="504000" cy="793080"/>
          </a:xfrm>
          <a:prstGeom prst="straightConnector1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271" name=""/>
          <p:cNvCxnSpPr>
            <a:stCxn id="263" idx="3"/>
            <a:endCxn id="266" idx="1"/>
          </p:cNvCxnSpPr>
          <p:nvPr/>
        </p:nvCxnSpPr>
        <p:spPr>
          <a:xfrm>
            <a:off x="2268360" y="4726080"/>
            <a:ext cx="504000" cy="576360"/>
          </a:xfrm>
          <a:prstGeom prst="straightConnector1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272" name=""/>
          <p:cNvCxnSpPr>
            <a:stCxn id="264" idx="3"/>
            <a:endCxn id="268" idx="1"/>
          </p:cNvCxnSpPr>
          <p:nvPr/>
        </p:nvCxnSpPr>
        <p:spPr>
          <a:xfrm flipV="1">
            <a:off x="4356000" y="3646080"/>
            <a:ext cx="504000" cy="288000"/>
          </a:xfrm>
          <a:prstGeom prst="straightConnector1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273" name=""/>
          <p:cNvCxnSpPr>
            <a:stCxn id="264" idx="3"/>
            <a:endCxn id="269" idx="1"/>
          </p:cNvCxnSpPr>
          <p:nvPr/>
        </p:nvCxnSpPr>
        <p:spPr>
          <a:xfrm>
            <a:off x="4356000" y="3933360"/>
            <a:ext cx="504000" cy="1080360"/>
          </a:xfrm>
          <a:prstGeom prst="straightConnector1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274" name=""/>
          <p:cNvCxnSpPr>
            <a:stCxn id="269" idx="3"/>
            <a:endCxn id="267" idx="1"/>
          </p:cNvCxnSpPr>
          <p:nvPr/>
        </p:nvCxnSpPr>
        <p:spPr>
          <a:xfrm flipV="1">
            <a:off x="6443640" y="4365000"/>
            <a:ext cx="505440" cy="648360"/>
          </a:xfrm>
          <a:prstGeom prst="straightConnector1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275" name=""/>
          <p:cNvCxnSpPr>
            <a:stCxn id="269" idx="3"/>
            <a:endCxn id="265" idx="1"/>
          </p:cNvCxnSpPr>
          <p:nvPr/>
        </p:nvCxnSpPr>
        <p:spPr>
          <a:xfrm>
            <a:off x="6443640" y="5013360"/>
            <a:ext cx="505440" cy="504000"/>
          </a:xfrm>
          <a:prstGeom prst="straightConnector1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sp>
        <p:nvSpPr>
          <p:cNvPr id="276" name=""/>
          <p:cNvSpPr/>
          <p:nvPr/>
        </p:nvSpPr>
        <p:spPr>
          <a:xfrm>
            <a:off x="7021800" y="340344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bfd87"/>
                </a:solidFill>
                <a:latin typeface="Arial"/>
              </a:rPr>
              <a:t>Instance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051000" y="440064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ccff"/>
                </a:solidFill>
                <a:latin typeface="Arial"/>
              </a:rPr>
              <a:t>Classes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79280" y="4724280"/>
            <a:ext cx="505080" cy="0"/>
          </a:xfrm>
          <a:prstGeom prst="line">
            <a:avLst/>
          </a:prstGeom>
          <a:ln w="9360">
            <a:solidFill>
              <a:srgbClr val="080808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9AE2-BF45-4C87-8895-DC595586801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1484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790082"/>
                </a:solidFill>
                <a:latin typeface="Arial Black"/>
              </a:rPr>
              <a:t>This talk is based on 2 things:</a:t>
            </a:r>
            <a:endParaRPr b="0" lang="en-US" sz="36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99640" y="2852640"/>
            <a:ext cx="777564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00"/>
              </a:spcBef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80808"/>
                </a:solidFill>
                <a:latin typeface="Arial"/>
              </a:rPr>
              <a:t>Why? Why should I know about this? Why am I here?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80808"/>
                </a:solidFill>
                <a:latin typeface="Arial"/>
              </a:rPr>
              <a:t>OK, I’m still here, how do I use it?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1557360"/>
            <a:ext cx="8136000" cy="934920"/>
          </a:xfrm>
          <a:prstGeom prst="rect">
            <a:avLst/>
          </a:prstGeom>
          <a:noFill/>
          <a:ln w="572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3D94-058D-4E69-B352-D524489E626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O fundamental concept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4000" y="1371600"/>
            <a:ext cx="8640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Inheritance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80808"/>
                </a:solidFill>
                <a:latin typeface="Arial"/>
              </a:rPr>
              <a:t>When an </a:t>
            </a:r>
            <a:r>
              <a:rPr b="0" i="1" lang="fr-CA" sz="3200" spc="-1" strike="noStrike">
                <a:solidFill>
                  <a:srgbClr val="cc9900"/>
                </a:solidFill>
                <a:latin typeface="Arial"/>
              </a:rPr>
              <a:t>instance</a:t>
            </a:r>
            <a:r>
              <a:rPr b="0" lang="fr-CA" sz="3200" spc="-1" strike="noStrike">
                <a:solidFill>
                  <a:srgbClr val="080808"/>
                </a:solidFill>
                <a:latin typeface="Arial"/>
              </a:rPr>
              <a:t> is created from a class </a:t>
            </a:r>
            <a:r>
              <a:rPr b="0" i="1" lang="fr-CA" sz="3200" spc="-1" strike="noStrike">
                <a:solidFill>
                  <a:srgbClr val="cc9900"/>
                </a:solidFill>
                <a:latin typeface="Arial"/>
              </a:rPr>
              <a:t>based</a:t>
            </a:r>
            <a:r>
              <a:rPr b="0" lang="fr-CA" sz="3200" spc="-1" strike="noStrike">
                <a:solidFill>
                  <a:srgbClr val="080808"/>
                </a:solidFill>
                <a:latin typeface="Arial"/>
              </a:rPr>
              <a:t> on another one it inherits all its members automatically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80808"/>
                </a:solidFill>
                <a:latin typeface="Arial"/>
              </a:rPr>
              <a:t>Members can be redefined but subroutines must be specifically set to </a:t>
            </a:r>
            <a:r>
              <a:rPr b="0" i="1" lang="fr-CA" sz="3200" spc="-1" strike="noStrike">
                <a:solidFill>
                  <a:srgbClr val="cc9900"/>
                </a:solidFill>
                <a:latin typeface="Arial"/>
              </a:rPr>
              <a:t>override</a:t>
            </a:r>
            <a:r>
              <a:rPr b="0" lang="fr-CA" sz="3200" spc="-1" strike="noStrike">
                <a:solidFill>
                  <a:srgbClr val="080808"/>
                </a:solidFill>
                <a:latin typeface="Arial"/>
              </a:rPr>
              <a:t> base class subroutines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C467-FF66-4038-8B5F-48C1986743E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O fundamental concept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820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Arial"/>
              </a:rPr>
              <a:t>Inheritance: </a:t>
            </a: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multiple inheritance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A </a:t>
            </a:r>
            <a:r>
              <a:rPr b="0" lang="en-GB" sz="3200" spc="-1" strike="noStrike">
                <a:solidFill>
                  <a:srgbClr val="00ccff"/>
                </a:solidFill>
                <a:latin typeface="Arial"/>
              </a:rPr>
              <a:t>class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can be based on several other classes. See </a:t>
            </a:r>
            <a:r>
              <a:rPr b="0" lang="en-GB" sz="3200" spc="-1" strike="noStrike">
                <a:solidFill>
                  <a:srgbClr val="00ccff"/>
                </a:solidFill>
                <a:latin typeface="Arial"/>
              </a:rPr>
              <a:t>class 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Mule made out of 2 different classes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1640" y="314172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Hors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771640" y="450864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Donkey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cxnSp>
        <p:nvCxnSpPr>
          <p:cNvPr id="285" name=""/>
          <p:cNvCxnSpPr>
            <a:stCxn id="284" idx="3"/>
            <a:endCxn id="286" idx="1"/>
          </p:cNvCxnSpPr>
          <p:nvPr/>
        </p:nvCxnSpPr>
        <p:spPr>
          <a:xfrm flipV="1">
            <a:off x="4356000" y="4438440"/>
            <a:ext cx="721440" cy="575280"/>
          </a:xfrm>
          <a:prstGeom prst="straightConnector1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287" name=""/>
          <p:cNvCxnSpPr>
            <a:stCxn id="283" idx="3"/>
            <a:endCxn id="286" idx="1"/>
          </p:cNvCxnSpPr>
          <p:nvPr/>
        </p:nvCxnSpPr>
        <p:spPr>
          <a:xfrm>
            <a:off x="4356000" y="3646080"/>
            <a:ext cx="721440" cy="793080"/>
          </a:xfrm>
          <a:prstGeom prst="straightConnector1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sp>
        <p:nvSpPr>
          <p:cNvPr id="286" name=""/>
          <p:cNvSpPr/>
          <p:nvPr/>
        </p:nvSpPr>
        <p:spPr>
          <a:xfrm>
            <a:off x="5076720" y="393372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ul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69F0-A25E-4E38-85B9-B249E8E72D4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verride concept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289" name=""/>
          <p:cNvSpPr/>
          <p:nvPr/>
        </p:nvSpPr>
        <p:spPr>
          <a:xfrm>
            <a:off x="1117800" y="4460760"/>
            <a:ext cx="242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// M1 calls its own M2: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(NEW A).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365800" y="4437000"/>
            <a:ext cx="242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// M1 calls its own M2: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(NEW B).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B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900000" y="2205000"/>
            <a:ext cx="129708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11280" y="292572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A’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835280" y="3141720"/>
            <a:ext cx="79200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547640" y="2781360"/>
            <a:ext cx="0" cy="28728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1619280" y="3502080"/>
            <a:ext cx="9367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547640" y="3502080"/>
            <a:ext cx="0" cy="43164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788000" y="2181240"/>
            <a:ext cx="129672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299280" y="290196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B’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722920" y="3117960"/>
            <a:ext cx="79236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435640" y="2757600"/>
            <a:ext cx="0" cy="28728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5506920" y="3478320"/>
            <a:ext cx="9367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435640" y="3478320"/>
            <a:ext cx="0" cy="43164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890360" y="14320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Class A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870160" y="141120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Class B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042920" y="5013360"/>
            <a:ext cx="935280" cy="360360"/>
          </a:xfrm>
          <a:prstGeom prst="rect">
            <a:avLst/>
          </a:prstGeom>
          <a:solidFill>
            <a:srgbClr val="ffff33">
              <a:alpha val="52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292720" y="5013360"/>
            <a:ext cx="934920" cy="360360"/>
          </a:xfrm>
          <a:prstGeom prst="rect">
            <a:avLst/>
          </a:prstGeom>
          <a:solidFill>
            <a:srgbClr val="ffff33">
              <a:alpha val="52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4EE5-FBFC-4126-BC80-E3D34B0D4C4F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Based class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308" name=""/>
          <p:cNvSpPr/>
          <p:nvPr/>
        </p:nvSpPr>
        <p:spPr>
          <a:xfrm>
            <a:off x="1117800" y="4460760"/>
            <a:ext cx="242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// M1 calls its own M2: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(NEW A).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365800" y="4437000"/>
            <a:ext cx="242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// M1 calls its own M2: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(NEW B).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900000" y="2205000"/>
            <a:ext cx="129708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411280" y="292572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A’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835280" y="3141720"/>
            <a:ext cx="79200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547640" y="2781360"/>
            <a:ext cx="0" cy="28728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1619280" y="3502080"/>
            <a:ext cx="9367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547640" y="3502080"/>
            <a:ext cx="0" cy="43164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1547640" y="2060640"/>
            <a:ext cx="48247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547640" y="2060640"/>
            <a:ext cx="0" cy="36036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547640" y="3933720"/>
            <a:ext cx="48247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292720" y="2027160"/>
            <a:ext cx="232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There is no M1 in B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so A’s (on which B is based) M1 is used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651640" y="2962440"/>
            <a:ext cx="129672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B’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890360" y="14320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Class A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510520" y="141300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Class B: A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042920" y="5013360"/>
            <a:ext cx="935280" cy="360360"/>
          </a:xfrm>
          <a:prstGeom prst="rect">
            <a:avLst/>
          </a:prstGeom>
          <a:solidFill>
            <a:srgbClr val="ffff33">
              <a:alpha val="52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292720" y="5013360"/>
            <a:ext cx="934920" cy="360360"/>
          </a:xfrm>
          <a:prstGeom prst="rect">
            <a:avLst/>
          </a:prstGeom>
          <a:solidFill>
            <a:srgbClr val="ffff33">
              <a:alpha val="52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80DD-216A-48C2-9C16-B7179AB5A668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Based class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326" name=""/>
          <p:cNvSpPr/>
          <p:nvPr/>
        </p:nvSpPr>
        <p:spPr>
          <a:xfrm>
            <a:off x="900000" y="2205000"/>
            <a:ext cx="129708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411280" y="292572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A’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835280" y="3141720"/>
            <a:ext cx="79200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547640" y="2781360"/>
            <a:ext cx="0" cy="28728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1619280" y="3502080"/>
            <a:ext cx="9367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547640" y="3502080"/>
            <a:ext cx="0" cy="43164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1547640" y="2060640"/>
            <a:ext cx="48247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547640" y="2060640"/>
            <a:ext cx="0" cy="36036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547640" y="3933720"/>
            <a:ext cx="48247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292720" y="2008080"/>
            <a:ext cx="232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There is no M1 in B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so A’s (on which B is based) M1 is used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580000" y="2924280"/>
            <a:ext cx="15112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2: 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Overrid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B’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890360" y="14320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Class A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510520" y="141300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Class B: A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117800" y="4460760"/>
            <a:ext cx="242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// M1 calls its own M2: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(NEW A).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365800" y="4437000"/>
            <a:ext cx="242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// M1 calls its own M2: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(NEW B).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042920" y="5013360"/>
            <a:ext cx="935280" cy="360360"/>
          </a:xfrm>
          <a:prstGeom prst="rect">
            <a:avLst/>
          </a:prstGeom>
          <a:solidFill>
            <a:srgbClr val="ffff33">
              <a:alpha val="52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292720" y="5013360"/>
            <a:ext cx="934920" cy="360360"/>
          </a:xfrm>
          <a:prstGeom prst="rect">
            <a:avLst/>
          </a:prstGeom>
          <a:solidFill>
            <a:srgbClr val="ffff33">
              <a:alpha val="52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055600" y="5589720"/>
            <a:ext cx="381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A:M2 does not allow to be overriden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FD18-73C7-4EB5-9F88-2DB79E690DC7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5580000" y="2924280"/>
            <a:ext cx="15112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2: 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Overrid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B’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Based class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346" name=""/>
          <p:cNvSpPr/>
          <p:nvPr/>
        </p:nvSpPr>
        <p:spPr>
          <a:xfrm>
            <a:off x="900000" y="2205000"/>
            <a:ext cx="129708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2: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Overridabl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411280" y="2925720"/>
            <a:ext cx="1297080" cy="720720"/>
          </a:xfrm>
          <a:prstGeom prst="flowChartProcess">
            <a:avLst/>
          </a:prstGeom>
          <a:solidFill>
            <a:srgbClr val="bbe0e3">
              <a:alpha val="36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I am A’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835280" y="3141720"/>
            <a:ext cx="37447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547640" y="2637000"/>
            <a:ext cx="0" cy="28728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547640" y="3502080"/>
            <a:ext cx="0" cy="43164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890360" y="14320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Class A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510520" y="141300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Class B: A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1547640" y="2060640"/>
            <a:ext cx="48247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547640" y="2060640"/>
            <a:ext cx="0" cy="21600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547640" y="3933720"/>
            <a:ext cx="48247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272200" y="2027160"/>
            <a:ext cx="232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There is no M1 in B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so A’s (on which B is based) M1 is used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547280" y="3500280"/>
            <a:ext cx="424836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117800" y="4460760"/>
            <a:ext cx="242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// M1 calls its own M2: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(NEW A).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365800" y="4437000"/>
            <a:ext cx="242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// M1 calls its own M2: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(NEW B).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042920" y="5013360"/>
            <a:ext cx="935280" cy="360360"/>
          </a:xfrm>
          <a:prstGeom prst="rect">
            <a:avLst/>
          </a:prstGeom>
          <a:solidFill>
            <a:srgbClr val="ffff33">
              <a:alpha val="52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292720" y="5013360"/>
            <a:ext cx="934920" cy="360360"/>
          </a:xfrm>
          <a:prstGeom prst="rect">
            <a:avLst/>
          </a:prstGeom>
          <a:solidFill>
            <a:srgbClr val="ffff33">
              <a:alpha val="52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481400" y="5589720"/>
            <a:ext cx="618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A:M2 does allow to be overriden AND B wants to override i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6463-FC42-4541-9263-E2C59958A2B0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O fundamental concept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55640" y="1341360"/>
            <a:ext cx="7632720" cy="45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6. Encapsulation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Hides the underlying functionality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It conceals the exact details of how a particular class works from objects (external or internal) that use its code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is allows to modify 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e internal implementation of a class without requiring changes to its services (i.e. methods).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05E6-F8C7-4880-AE6A-C20A2D14F4D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Example: a car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Consider a car: the functionality is hidden, it is encapsulated, you don’t see all the wiring inside, you’re only given specific controls to manipulate the car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2195640" y="3284640"/>
            <a:ext cx="4608360" cy="307332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3"/>
          <a:stretch/>
        </p:blipFill>
        <p:spPr>
          <a:xfrm>
            <a:off x="2077920" y="3068640"/>
            <a:ext cx="4799160" cy="3513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9685-787C-45CB-96E4-71A5DDB99BD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Encapsulation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o allow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access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to a member there are various level definitions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For example, to expose a member you must use some syntax that will declare it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public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By default,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private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is the norm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5AEF-BACC-44AD-862A-B62723869EB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908000" y="4221000"/>
            <a:ext cx="4969080" cy="1872000"/>
          </a:xfrm>
          <a:prstGeom prst="ellipse">
            <a:avLst/>
          </a:prstGeom>
          <a:solidFill>
            <a:srgbClr val="790082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O fundamental concept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24000" y="1371600"/>
            <a:ext cx="8640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Encapsulation: private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A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private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member cannot be seen from anywhere. Only other Methods can access it from inside the class if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private shared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or from within the instance if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private instance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348000" y="4581360"/>
            <a:ext cx="2016000" cy="1079640"/>
          </a:xfrm>
          <a:prstGeom prst="rect">
            <a:avLst/>
          </a:prstGeom>
          <a:solidFill>
            <a:srgbClr val="dddddd"/>
          </a:solidFill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 is only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seen in th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pale are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572000" y="4724280"/>
            <a:ext cx="647640" cy="287280"/>
          </a:xfrm>
          <a:prstGeom prst="rect">
            <a:avLst/>
          </a:prstGeom>
          <a:solidFill>
            <a:srgbClr val="790082"/>
          </a:solidFill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sub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572000" y="5229360"/>
            <a:ext cx="647640" cy="287280"/>
          </a:xfrm>
          <a:prstGeom prst="rect">
            <a:avLst/>
          </a:prstGeom>
          <a:solidFill>
            <a:srgbClr val="790082"/>
          </a:solidFill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sub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209A-3017-4FA1-82C8-93E603ACA7A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Synopsi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32000" y="1413000"/>
            <a:ext cx="64087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654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Why should I be here?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654120" indent="-654120">
              <a:lnSpc>
                <a:spcPct val="90000"/>
              </a:lnSpc>
              <a:spcBef>
                <a:spcPts val="799"/>
              </a:spcBef>
              <a:buClr>
                <a:srgbClr val="080808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Reason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654120"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How do I use this?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654120" indent="-654120">
              <a:lnSpc>
                <a:spcPct val="90000"/>
              </a:lnSpc>
              <a:spcBef>
                <a:spcPts val="799"/>
              </a:spcBef>
              <a:buClr>
                <a:srgbClr val="080808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History of OO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654120" indent="-654120">
              <a:lnSpc>
                <a:spcPct val="90000"/>
              </a:lnSpc>
              <a:spcBef>
                <a:spcPts val="799"/>
              </a:spcBef>
              <a:buClr>
                <a:srgbClr val="080808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Definition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654120" indent="-654120">
              <a:lnSpc>
                <a:spcPct val="90000"/>
              </a:lnSpc>
              <a:spcBef>
                <a:spcPts val="799"/>
              </a:spcBef>
              <a:buClr>
                <a:srgbClr val="080808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 APL way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654120" indent="-654120">
              <a:lnSpc>
                <a:spcPct val="90000"/>
              </a:lnSpc>
              <a:spcBef>
                <a:spcPts val="799"/>
              </a:spcBef>
              <a:buClr>
                <a:srgbClr val="080808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mplementation detail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654120"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Real Life Example (SJT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DAC7-E5E3-4EEA-AE49-5BBAE2A2E5E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O fundamental concept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24000" y="1371600"/>
            <a:ext cx="8640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Encapsulation: protected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A </a:t>
            </a:r>
            <a:r>
              <a:rPr b="0" i="1" lang="en-GB" sz="3200" spc="-1" strike="noStrike">
                <a:solidFill>
                  <a:srgbClr val="080808"/>
                </a:solidFill>
                <a:latin typeface="Arial"/>
              </a:rPr>
              <a:t>protected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member can only be seen from within the instance of from within instances within it.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908000" y="4221000"/>
            <a:ext cx="4969080" cy="1872000"/>
          </a:xfrm>
          <a:prstGeom prst="ellipse">
            <a:avLst/>
          </a:prstGeom>
          <a:solidFill>
            <a:srgbClr val="790082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348000" y="4581360"/>
            <a:ext cx="2016000" cy="1079640"/>
          </a:xfrm>
          <a:prstGeom prst="rect">
            <a:avLst/>
          </a:prstGeom>
          <a:solidFill>
            <a:srgbClr val="dddddd"/>
          </a:solidFill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 is only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seen in th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pale are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572000" y="4724280"/>
            <a:ext cx="647640" cy="287280"/>
          </a:xfrm>
          <a:prstGeom prst="rect">
            <a:avLst/>
          </a:prstGeom>
          <a:solidFill>
            <a:srgbClr val="dddddd"/>
          </a:solidFill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sub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572000" y="5229360"/>
            <a:ext cx="647640" cy="287280"/>
          </a:xfrm>
          <a:prstGeom prst="rect">
            <a:avLst/>
          </a:prstGeom>
          <a:solidFill>
            <a:srgbClr val="dddddd"/>
          </a:solidFill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sub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A8C8-C7DD-48BC-9BD2-0873B90C0FD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O fundamental concept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24000" y="1371600"/>
            <a:ext cx="8640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Encapsulation: public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A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public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member can be seen from anywhere. All Methods can access it from anywhere whether it is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public shared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or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public instance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908000" y="4221000"/>
            <a:ext cx="4969080" cy="18720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348000" y="4581360"/>
            <a:ext cx="2016000" cy="1079640"/>
          </a:xfrm>
          <a:prstGeom prst="rect">
            <a:avLst/>
          </a:prstGeom>
          <a:solidFill>
            <a:srgbClr val="dddddd"/>
          </a:solidFill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 is seen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n all th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pale are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572000" y="4724280"/>
            <a:ext cx="647640" cy="287280"/>
          </a:xfrm>
          <a:prstGeom prst="rect">
            <a:avLst/>
          </a:prstGeom>
          <a:solidFill>
            <a:srgbClr val="dddddd"/>
          </a:solidFill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sub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572000" y="5229360"/>
            <a:ext cx="647640" cy="287280"/>
          </a:xfrm>
          <a:prstGeom prst="rect">
            <a:avLst/>
          </a:prstGeom>
          <a:solidFill>
            <a:srgbClr val="dddddd"/>
          </a:solidFill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sub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8331-12DF-4394-A142-1888B375DC6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O fundamental concept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24000" y="1371600"/>
            <a:ext cx="8640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Encapsulation: friend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A class declared </a:t>
            </a:r>
            <a:r>
              <a:rPr b="0" i="1" lang="en-GB" sz="3200" spc="-1" strike="noStrike">
                <a:solidFill>
                  <a:srgbClr val="080808"/>
                </a:solidFill>
                <a:latin typeface="Arial"/>
              </a:rPr>
              <a:t>friend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can see the offerer’s private and public members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508720" y="3718080"/>
            <a:ext cx="2160360" cy="1726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Private Pv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Public Pu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Friend 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890360" y="30891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Class A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870160" y="306864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Class B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547640" y="3716280"/>
            <a:ext cx="2160720" cy="936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Private Av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Public Au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08720" y="4292640"/>
            <a:ext cx="2158920" cy="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595680" y="4076640"/>
            <a:ext cx="22003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 flipV="1">
            <a:off x="3564000" y="4292640"/>
            <a:ext cx="2233440" cy="21600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919800" y="4838760"/>
            <a:ext cx="372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Here A sees B’s member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as its own member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03CD-E561-427A-B8A8-08C35BF73EA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O fundamental concept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24000" y="1371600"/>
            <a:ext cx="8640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7. Polymorphism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It is behavior that allows a single definition to be used with different </a:t>
            </a:r>
            <a:r>
              <a:rPr b="0" i="1" lang="en-US" sz="3200" spc="-1" strike="noStrike">
                <a:solidFill>
                  <a:srgbClr val="080808"/>
                </a:solidFill>
                <a:latin typeface="Arial"/>
              </a:rPr>
              <a:t>types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of data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is is a way to call various sections of code using the same name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yped languages can tell the difference by looking at the “signature” of the functions (their number of arguments and their types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11B2-C849-4842-B771-5CCEA86FC19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O fundamental concept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4072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Polymorphism example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39640" y="1989000"/>
            <a:ext cx="3600720" cy="3018600"/>
          </a:xfrm>
          <a:prstGeom prst="rect">
            <a:avLst/>
          </a:prstGeom>
          <a:solidFill>
            <a:srgbClr val="fbc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Foo (integer arg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{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// fn called with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// an integer arg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Print “Int arg”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788000" y="1989000"/>
            <a:ext cx="3600360" cy="3018600"/>
          </a:xfrm>
          <a:prstGeom prst="rect">
            <a:avLst/>
          </a:prstGeom>
          <a:solidFill>
            <a:srgbClr val="fbc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Foo (string arg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{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// fn called with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// a string arg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Print “String arg”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621440" y="5229360"/>
            <a:ext cx="580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Same function name, different code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DC03-92B4-4126-892C-6A57006C761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O fundamental concept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24000" y="1371240"/>
            <a:ext cx="864072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Polymorphism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3120" y="2133720"/>
            <a:ext cx="8170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A program that accepts multiple definition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s said to be </a:t>
            </a:r>
            <a:r>
              <a:rPr b="0" i="1" lang="en-GB" sz="3200" spc="-1" strike="noStrike">
                <a:solidFill>
                  <a:srgbClr val="080808"/>
                </a:solidFill>
                <a:latin typeface="Arial"/>
              </a:rPr>
              <a:t>overloaded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Sometimes arguments have to be</a:t>
            </a:r>
            <a:r>
              <a:rPr b="0" i="1" lang="en-GB" sz="3200" spc="-1" strike="noStrike">
                <a:solidFill>
                  <a:srgbClr val="080808"/>
                </a:solidFill>
                <a:latin typeface="Arial"/>
              </a:rPr>
              <a:t> coerced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nto a new type to achieve proper behaviour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EA18-B8DF-4569-8B8C-4D33025DCAE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cdff"/>
                </a:solidFill>
                <a:latin typeface="Arial Black"/>
              </a:rPr>
              <a:t>OO C</a:t>
            </a: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ncepts</a:t>
            </a:r>
            <a:r>
              <a:rPr b="0" lang="en-US" sz="4000" spc="-1" strike="noStrike">
                <a:solidFill>
                  <a:srgbClr val="fbcdff"/>
                </a:solidFill>
                <a:latin typeface="Arial Black"/>
              </a:rPr>
              <a:t> Summary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80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OO is based on +-7 key concept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Classes are blueprint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nstances are objects created from classe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y contain members (data &amp; code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ir access is restricted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 relation between classes is based on inheritance or specific acces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60E5-E2D6-4957-A8C4-C9072A02E7B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End of OO basic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131640" y="2205000"/>
            <a:ext cx="2590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QUESTION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ctr"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200" spc="-1" strike="noStrike">
                <a:solidFill>
                  <a:srgbClr val="080808"/>
                </a:solidFill>
                <a:latin typeface="Arial"/>
              </a:rPr>
              <a:t>?</a:t>
            </a:r>
            <a:endParaRPr b="0" lang="en-US" sz="1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2D3A-1878-4E3B-843F-5AAD6863C61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900000" y="1844640"/>
            <a:ext cx="727236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33">
                    <a:alpha val="86000"/>
                  </a:srgbClr>
                </a:solidFill>
                <a:latin typeface="Times New Roman"/>
              </a:rPr>
              <a:t>T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33">
                  <a:alpha val="86000"/>
                </a:srgbClr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33">
                    <a:alpha val="86000"/>
                  </a:srgbClr>
                </a:solidFill>
                <a:latin typeface="Times New Roman"/>
              </a:rPr>
              <a:t>Dyalog AP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33">
                  <a:alpha val="86000"/>
                </a:srgbClr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33">
                    <a:alpha val="86000"/>
                  </a:srgbClr>
                </a:solidFill>
                <a:latin typeface="Times New Roman"/>
              </a:rPr>
              <a:t>wa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33">
                  <a:alpha val="86000"/>
                </a:srgbClr>
              </a:solidFill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1587-E3FE-4E25-AE5E-32BD0196D241}" type="slidenum">
              <a:t>4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061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Dyalog follows C# rules closely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 extensions to the language have been made in following with the :Keywords scheme introduced in the 90s (All new keywords start with ‘:’ 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Some new system functions have been added and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Some new system commands also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CEF5-7F6E-43B3-9F26-85E255E71E1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Reasons: why do this?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80808"/>
                </a:solidFill>
                <a:latin typeface="Arial"/>
              </a:rPr>
              <a:t>Because Object Orientation is a Valuable Tool of Thought!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80808"/>
                </a:solidFill>
                <a:latin typeface="Arial"/>
              </a:rPr>
              <a:t>To be able to Share Tools and Components more Easily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80808"/>
                </a:solidFill>
                <a:latin typeface="Arial"/>
              </a:rPr>
              <a:t>To help us Manage Complexity in all Project Phase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o use .Net more easily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B11C-C9EF-404C-843B-19765D63BA0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68360" y="1371600"/>
            <a:ext cx="798984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Let’s see how Dyalog APL does this: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627280" y="2133720"/>
            <a:ext cx="4032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asse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nstances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Member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Message passing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nheritance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Encapsulation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Polymorphism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B2F7-1E0E-4F7E-BE7D-E3461C55C3C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: class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A class can be defined using the )EDitor as in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)ED ○ MyClas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Upon exiting, MyClass will be defined in the current namespace (e.g. #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2"/>
          <a:stretch/>
        </p:blipFill>
        <p:spPr>
          <a:xfrm>
            <a:off x="4067280" y="1989000"/>
            <a:ext cx="3313080" cy="28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65BF-0391-43C4-8BD1-0BC80BC51A2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: class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n the workspace </a:t>
            </a:r>
            <a:r>
              <a:rPr b="0" i="1" lang="en-GB" sz="3200" spc="-1" strike="noStrike">
                <a:solidFill>
                  <a:srgbClr val="080808"/>
                </a:solidFill>
                <a:latin typeface="Arial"/>
              </a:rPr>
              <a:t>MyClass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appears as a namespace: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NC ‘MyClass’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)CLASSE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MyClas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BD0E-F7F9-40CB-BE10-7CB27ADF105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: member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 members in a class are: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9900"/>
                </a:solidFill>
                <a:latin typeface="Arial"/>
              </a:rPr>
              <a:t>Field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: same as a variable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Method: same as a function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9900"/>
                </a:solidFill>
                <a:latin typeface="Arial"/>
              </a:rPr>
              <a:t>Property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: looks and feels like a variable but implemented as a pair of function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All can be either </a:t>
            </a:r>
            <a:r>
              <a:rPr b="0" lang="en-GB" sz="3200" spc="-1" strike="noStrike">
                <a:solidFill>
                  <a:srgbClr val="cc9900"/>
                </a:solidFill>
                <a:latin typeface="Arial"/>
              </a:rPr>
              <a:t>public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or </a:t>
            </a:r>
            <a:r>
              <a:rPr b="0" lang="en-GB" sz="3200" spc="-1" strike="noStrike">
                <a:solidFill>
                  <a:srgbClr val="cc9900"/>
                </a:solidFill>
                <a:latin typeface="Arial"/>
              </a:rPr>
              <a:t>private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(the default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2E96-C8AF-4FF6-8858-8B3A0E39BD0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: member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33130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 class to the right shows a few fields (vars) and their access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 access is the same for methods (fns) and properties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3695760" y="1413000"/>
            <a:ext cx="5268960" cy="4232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8E84-9C36-419A-BAEF-622B199ACBF1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: member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3168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 class to the right shows a few methods (fns) and their access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 &lt;mon1&gt; is also used as a constructor. It MUST be public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4440240" y="1341360"/>
            <a:ext cx="4289400" cy="460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C2B6-E9A3-4EFE-B7C4-E4F4968832A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: member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3168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 class to the right shows 2 properties and their access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 1</a:t>
            </a:r>
            <a:r>
              <a:rPr b="0" lang="en-GB" sz="2800" spc="-1" strike="noStrike" baseline="30000">
                <a:solidFill>
                  <a:srgbClr val="080808"/>
                </a:solidFill>
                <a:latin typeface="Arial"/>
              </a:rPr>
              <a:t>st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one is private and readonly (it has no </a:t>
            </a:r>
            <a:r>
              <a:rPr b="0" i="1" lang="en-GB" sz="2800" spc="-1" strike="noStrike">
                <a:solidFill>
                  <a:srgbClr val="080808"/>
                </a:solidFill>
                <a:latin typeface="Arial"/>
              </a:rPr>
              <a:t>set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fn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 2</a:t>
            </a:r>
            <a:r>
              <a:rPr b="0" lang="en-GB" sz="2800" spc="-1" strike="noStrike" baseline="30000">
                <a:solidFill>
                  <a:srgbClr val="080808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one is public read/write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2"/>
          <a:stretch/>
        </p:blipFill>
        <p:spPr>
          <a:xfrm>
            <a:off x="4572000" y="1413000"/>
            <a:ext cx="3683160" cy="460836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5435640" y="2276640"/>
            <a:ext cx="2521080" cy="865080"/>
          </a:xfrm>
          <a:prstGeom prst="rect">
            <a:avLst/>
          </a:prstGeom>
          <a:solidFill>
            <a:srgbClr val="ff0000">
              <a:alpha val="32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435640" y="3284640"/>
            <a:ext cx="2521080" cy="2160360"/>
          </a:xfrm>
          <a:prstGeom prst="rect">
            <a:avLst/>
          </a:prstGeom>
          <a:solidFill>
            <a:srgbClr val="ff0000">
              <a:alpha val="32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316B-5B40-4DFE-9947-4474D3F9DFBE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323640" y="1371600"/>
            <a:ext cx="8134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Classes are like blueprints: they define how things should be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NEW  is a new system function that creates an object using a class as an instance.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Whatever is in the class will appear in the instance as a copy, not a reference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: instanc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774B-8436-4561-908E-14B3E02B43CE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323640" y="1371600"/>
            <a:ext cx="8134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NEW accepts a one or two elements argument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 1</a:t>
            </a:r>
            <a:r>
              <a:rPr b="0" lang="en-GB" sz="3200" spc="-1" strike="noStrike" baseline="30000">
                <a:solidFill>
                  <a:srgbClr val="080808"/>
                </a:solidFill>
                <a:latin typeface="Arial"/>
              </a:rPr>
              <a:t>st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one is the class (not its name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 2</a:t>
            </a:r>
            <a:r>
              <a:rPr b="0" lang="en-GB" sz="3200" spc="-1" strike="noStrike" baseline="30000">
                <a:solidFill>
                  <a:srgbClr val="080808"/>
                </a:solidFill>
                <a:latin typeface="Arial"/>
              </a:rPr>
              <a:t>nd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, if present, is what to start/initialize it with. It can only be supplied if the class accepts a value as initializer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: ⎕NEW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AED4-A94F-4A0E-83FE-6D265D96A7E2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323640" y="1371600"/>
            <a:ext cx="8134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myInstance←⎕NEW   MyClas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 display form includes [brackets] by default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myInstance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#.[MyClass]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It is another type of namespace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NC ‘myInstance’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: ⎕NEW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FEEC-3817-4A6F-BCE0-E894BE7D2B7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.Net was already in V10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8000" y="1371600"/>
            <a:ext cx="8820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 ability to use </a:t>
            </a: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.Net 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with classes was already there in V10 but it was more difficult to use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250920" y="2852640"/>
            <a:ext cx="2914560" cy="30243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3316320" y="2852640"/>
            <a:ext cx="2192400" cy="30276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5707080" y="2852640"/>
            <a:ext cx="3257640" cy="3036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DA38-C40E-4109-80CA-173415F151D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323640" y="1371240"/>
            <a:ext cx="8134200" cy="17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Classes may require </a:t>
            </a:r>
            <a:r>
              <a:rPr b="0" i="1" lang="en-GB" sz="2800" spc="-1" strike="noStrike">
                <a:solidFill>
                  <a:srgbClr val="080808"/>
                </a:solidFill>
                <a:latin typeface="Arial"/>
              </a:rPr>
              <a:t>something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to initialize the instance. Ex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)ED ○ Anima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title"/>
          </p:nvPr>
        </p:nvSpPr>
        <p:spPr>
          <a:xfrm>
            <a:off x="3236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: constructor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2"/>
          <a:stretch/>
        </p:blipFill>
        <p:spPr>
          <a:xfrm>
            <a:off x="4211640" y="1989000"/>
            <a:ext cx="4248000" cy="365292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290520" y="3108240"/>
            <a:ext cx="4151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Here an </a:t>
            </a:r>
            <a:r>
              <a:rPr b="0" i="1" lang="en-GB" sz="2800" spc="-1" strike="noStrike">
                <a:solidFill>
                  <a:srgbClr val="080808"/>
                </a:solidFill>
                <a:latin typeface="Arial"/>
              </a:rPr>
              <a:t>animal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must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be have at least two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characteristics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# of leg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 sounds it make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FEEA-2C37-4C61-A4C9-F6DE42B7CCF4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323640" y="1371240"/>
            <a:ext cx="8134200" cy="17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Several instances can be made up of the same Animal class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title"/>
          </p:nvPr>
        </p:nvSpPr>
        <p:spPr>
          <a:xfrm>
            <a:off x="3236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: constructor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3562200" y="1916280"/>
            <a:ext cx="4681800" cy="207468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363960" y="2655720"/>
            <a:ext cx="8567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After running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this function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we have: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)ob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fish monkey myInstance snake tiger Animal MyClas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NC ‘animals’   ⍝ this is a variable holding 4 instance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animals.Nlegs   ⍝ how many legs for each animal?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4 0 0 2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C4AF-E0FF-4E75-9C85-0A5203EB65F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79280" y="152280"/>
            <a:ext cx="8856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bcdff"/>
                </a:solidFill>
                <a:latin typeface="Arial Black"/>
              </a:rPr>
              <a:t>Implementation: message passing</a:t>
            </a:r>
            <a:endParaRPr b="0" lang="en-US" sz="36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n APL this merely consists in calling the methods directly either from the instance or from the class if shared, e.g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Myclass.sharedFn arg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myInstance.Fn args ⍝ if any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CFB3-EB3D-4CF1-9FFB-0EB7745F5BE7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95280" y="152280"/>
            <a:ext cx="8569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: inheritance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820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Inheritance: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Based classe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A </a:t>
            </a:r>
            <a:r>
              <a:rPr b="0" lang="en-GB" sz="2800" spc="-1" strike="noStrike">
                <a:solidFill>
                  <a:srgbClr val="00ccff"/>
                </a:solidFill>
                <a:latin typeface="Arial"/>
              </a:rPr>
              <a:t>class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can be based on another based class. See </a:t>
            </a:r>
            <a:r>
              <a:rPr b="0" lang="en-GB" sz="2800" spc="-1" strike="noStrike">
                <a:solidFill>
                  <a:srgbClr val="00ccff"/>
                </a:solidFill>
                <a:latin typeface="Arial"/>
              </a:rPr>
              <a:t>class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Collie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based on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 Dog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based on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 Anima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4360" y="4221000"/>
            <a:ext cx="1584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Anima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771640" y="342900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Dog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: Anima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948360" y="5011560"/>
            <a:ext cx="1584360" cy="1008360"/>
          </a:xfrm>
          <a:prstGeom prst="rect">
            <a:avLst/>
          </a:prstGeom>
          <a:solidFill>
            <a:srgbClr val="6bfd87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Rex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 (Collie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771640" y="479736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Fish: Anima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948360" y="3860640"/>
            <a:ext cx="1584360" cy="1008360"/>
          </a:xfrm>
          <a:prstGeom prst="rect">
            <a:avLst/>
          </a:prstGeom>
          <a:solidFill>
            <a:srgbClr val="6bfd87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Fido (Collie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859280" y="314172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Big Dane: Dog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859280" y="450864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Collie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: Dog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cxnSp>
        <p:nvCxnSpPr>
          <p:cNvPr id="462" name=""/>
          <p:cNvCxnSpPr>
            <a:stCxn id="455" idx="3"/>
            <a:endCxn id="456" idx="1"/>
          </p:cNvCxnSpPr>
          <p:nvPr/>
        </p:nvCxnSpPr>
        <p:spPr>
          <a:xfrm flipV="1">
            <a:off x="2268360" y="3933000"/>
            <a:ext cx="504000" cy="793080"/>
          </a:xfrm>
          <a:prstGeom prst="straightConnector1">
            <a:avLst/>
          </a:prstGeom>
          <a:ln w="2844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463" name=""/>
          <p:cNvCxnSpPr>
            <a:stCxn id="455" idx="3"/>
            <a:endCxn id="458" idx="1"/>
          </p:cNvCxnSpPr>
          <p:nvPr/>
        </p:nvCxnSpPr>
        <p:spPr>
          <a:xfrm>
            <a:off x="2268360" y="4726080"/>
            <a:ext cx="504000" cy="576360"/>
          </a:xfrm>
          <a:prstGeom prst="straightConnector1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464" name=""/>
          <p:cNvCxnSpPr>
            <a:stCxn id="456" idx="3"/>
            <a:endCxn id="460" idx="1"/>
          </p:cNvCxnSpPr>
          <p:nvPr/>
        </p:nvCxnSpPr>
        <p:spPr>
          <a:xfrm flipV="1">
            <a:off x="4356000" y="3646080"/>
            <a:ext cx="504000" cy="288000"/>
          </a:xfrm>
          <a:prstGeom prst="straightConnector1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465" name=""/>
          <p:cNvCxnSpPr>
            <a:stCxn id="456" idx="3"/>
            <a:endCxn id="461" idx="1"/>
          </p:cNvCxnSpPr>
          <p:nvPr/>
        </p:nvCxnSpPr>
        <p:spPr>
          <a:xfrm>
            <a:off x="4356000" y="3933360"/>
            <a:ext cx="504000" cy="1080360"/>
          </a:xfrm>
          <a:prstGeom prst="straightConnector1">
            <a:avLst/>
          </a:prstGeom>
          <a:ln w="2844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466" name=""/>
          <p:cNvCxnSpPr>
            <a:stCxn id="461" idx="3"/>
            <a:endCxn id="459" idx="1"/>
          </p:cNvCxnSpPr>
          <p:nvPr/>
        </p:nvCxnSpPr>
        <p:spPr>
          <a:xfrm flipV="1">
            <a:off x="6443640" y="4365000"/>
            <a:ext cx="505440" cy="648360"/>
          </a:xfrm>
          <a:prstGeom prst="straightConnector1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1" idx="3"/>
            <a:endCxn id="457" idx="1"/>
          </p:cNvCxnSpPr>
          <p:nvPr/>
        </p:nvCxnSpPr>
        <p:spPr>
          <a:xfrm>
            <a:off x="6443640" y="5013360"/>
            <a:ext cx="505440" cy="504000"/>
          </a:xfrm>
          <a:prstGeom prst="straightConnector1">
            <a:avLst/>
          </a:prstGeom>
          <a:ln w="28440">
            <a:solidFill>
              <a:srgbClr val="080808"/>
            </a:solidFill>
            <a:miter/>
            <a:tailEnd len="med" type="triangle" w="med"/>
          </a:ln>
        </p:spPr>
      </p:cxnSp>
      <p:sp>
        <p:nvSpPr>
          <p:cNvPr id="468" name=""/>
          <p:cNvSpPr/>
          <p:nvPr/>
        </p:nvSpPr>
        <p:spPr>
          <a:xfrm>
            <a:off x="7021800" y="340344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bfd87"/>
                </a:solidFill>
                <a:latin typeface="Arial"/>
              </a:rPr>
              <a:t>Instance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051000" y="440064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ccff"/>
                </a:solidFill>
                <a:latin typeface="Arial"/>
              </a:rPr>
              <a:t>Classes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79280" y="4724280"/>
            <a:ext cx="505080" cy="0"/>
          </a:xfrm>
          <a:prstGeom prst="line">
            <a:avLst/>
          </a:prstGeom>
          <a:ln w="9360">
            <a:solidFill>
              <a:srgbClr val="080808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58E7-0984-4CA6-95ED-765BC177CB7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323640" y="1341000"/>
            <a:ext cx="81342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marL="11664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Example: a bird’s generic description is ‘plain Bird’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116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Birdy←⎕NEW Bird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116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Birdy.Desc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116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plain Bird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title"/>
          </p:nvPr>
        </p:nvSpPr>
        <p:spPr>
          <a:xfrm>
            <a:off x="468360" y="152280"/>
            <a:ext cx="8207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: inheritance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73" name=""/>
          <p:cNvSpPr/>
          <p:nvPr/>
        </p:nvSpPr>
        <p:spPr>
          <a:xfrm>
            <a:off x="971640" y="3860640"/>
            <a:ext cx="158436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Bird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3" idx="3"/>
            <a:endCxn id="475" idx="1"/>
          </p:cNvCxnSpPr>
          <p:nvPr/>
        </p:nvCxnSpPr>
        <p:spPr>
          <a:xfrm>
            <a:off x="2555640" y="4365360"/>
            <a:ext cx="361080" cy="1080"/>
          </a:xfrm>
          <a:prstGeom prst="straightConnector1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916360" y="3860640"/>
            <a:ext cx="1584360" cy="1008360"/>
          </a:xfrm>
          <a:prstGeom prst="rect">
            <a:avLst/>
          </a:prstGeom>
          <a:solidFill>
            <a:srgbClr val="6bfd87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Birdy (Bird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11280" y="4365720"/>
            <a:ext cx="360360" cy="0"/>
          </a:xfrm>
          <a:prstGeom prst="line">
            <a:avLst/>
          </a:prstGeom>
          <a:ln w="9360">
            <a:solidFill>
              <a:srgbClr val="080808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4788000" y="2060640"/>
            <a:ext cx="3887640" cy="276696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324000" y="3141720"/>
            <a:ext cx="1511280" cy="50328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516720" y="3625920"/>
            <a:ext cx="1224000" cy="28872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91840" y="5124600"/>
            <a:ext cx="800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When Birdy is created, Bird’s </a:t>
            </a:r>
            <a:r>
              <a:rPr b="0" i="1" lang="en-GB" sz="2800" spc="-1" strike="noStrike">
                <a:solidFill>
                  <a:srgbClr val="080808"/>
                </a:solidFill>
                <a:latin typeface="Arial"/>
              </a:rPr>
              <a:t>constructor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is called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0343-F890-48BE-B70F-5A08BF3C4CB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5076720" y="1197000"/>
            <a:ext cx="3888000" cy="276696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3"/>
          <a:stretch/>
        </p:blipFill>
        <p:spPr>
          <a:xfrm>
            <a:off x="5364000" y="3068640"/>
            <a:ext cx="3637080" cy="3449520"/>
          </a:xfrm>
          <a:prstGeom prst="rect">
            <a:avLst/>
          </a:prstGeom>
          <a:ln w="0">
            <a:noFill/>
          </a:ln>
        </p:spPr>
      </p:pic>
      <p:sp>
        <p:nvSpPr>
          <p:cNvPr id="483" name="PlaceHolder 1"/>
          <p:cNvSpPr>
            <a:spLocks noGrp="1"/>
          </p:cNvSpPr>
          <p:nvPr>
            <p:ph/>
          </p:nvPr>
        </p:nvSpPr>
        <p:spPr>
          <a:xfrm>
            <a:off x="323640" y="1341000"/>
            <a:ext cx="43923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Example: 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a parrot is a bird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Coco←⎕NEW Parrot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Coco.Desc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Not a plain Bird, a Parrot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468360" y="152280"/>
            <a:ext cx="8207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: inheritance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395280" y="3933720"/>
            <a:ext cx="5256000" cy="1942920"/>
            <a:chOff x="395280" y="3933720"/>
            <a:chExt cx="5256000" cy="1942920"/>
          </a:xfrm>
        </p:grpSpPr>
        <p:sp>
          <p:nvSpPr>
            <p:cNvPr id="486" name=""/>
            <p:cNvSpPr/>
            <p:nvPr/>
          </p:nvSpPr>
          <p:spPr>
            <a:xfrm>
              <a:off x="715680" y="4733640"/>
              <a:ext cx="1410120" cy="799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Bird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cxnSp>
          <p:nvCxnSpPr>
            <p:cNvPr id="487" name=""/>
            <p:cNvCxnSpPr>
              <a:stCxn id="486" idx="3"/>
              <a:endCxn id="488" idx="1"/>
            </p:cNvCxnSpPr>
            <p:nvPr/>
          </p:nvCxnSpPr>
          <p:spPr>
            <a:xfrm flipV="1">
              <a:off x="2126160" y="4333680"/>
              <a:ext cx="321120" cy="800640"/>
            </a:xfrm>
            <a:prstGeom prst="straightConnector1">
              <a:avLst/>
            </a:prstGeom>
            <a:ln w="9360">
              <a:solidFill>
                <a:srgbClr val="080808"/>
              </a:solidFill>
              <a:miter/>
              <a:tailEnd len="med" type="triangle" w="med"/>
            </a:ln>
          </p:spPr>
        </p:cxnSp>
        <p:sp>
          <p:nvSpPr>
            <p:cNvPr id="488" name=""/>
            <p:cNvSpPr/>
            <p:nvPr/>
          </p:nvSpPr>
          <p:spPr>
            <a:xfrm>
              <a:off x="2446920" y="3933720"/>
              <a:ext cx="1410120" cy="799920"/>
            </a:xfrm>
            <a:prstGeom prst="rect">
              <a:avLst/>
            </a:prstGeom>
            <a:solidFill>
              <a:srgbClr val="6bfd87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Birdy (Bird)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95280" y="5134320"/>
              <a:ext cx="320400" cy="0"/>
            </a:xfrm>
            <a:prstGeom prst="line">
              <a:avLst/>
            </a:prstGeom>
            <a:ln w="9360">
              <a:solidFill>
                <a:srgbClr val="080808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446920" y="5076720"/>
              <a:ext cx="1410120" cy="799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Parrot: Bird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cxnSp>
          <p:nvCxnSpPr>
            <p:cNvPr id="491" name=""/>
            <p:cNvCxnSpPr>
              <a:stCxn id="486" idx="3"/>
              <a:endCxn id="490" idx="1"/>
            </p:cNvCxnSpPr>
            <p:nvPr/>
          </p:nvCxnSpPr>
          <p:spPr>
            <a:xfrm>
              <a:off x="2126160" y="5134320"/>
              <a:ext cx="321120" cy="343440"/>
            </a:xfrm>
            <a:prstGeom prst="straightConnector1">
              <a:avLst/>
            </a:prstGeom>
            <a:ln w="9360">
              <a:solidFill>
                <a:srgbClr val="080808"/>
              </a:solidFill>
              <a:miter/>
              <a:tailEnd len="med" type="triangle" w="med"/>
            </a:ln>
          </p:spPr>
        </p:cxnSp>
        <p:sp>
          <p:nvSpPr>
            <p:cNvPr id="492" name=""/>
            <p:cNvSpPr/>
            <p:nvPr/>
          </p:nvSpPr>
          <p:spPr>
            <a:xfrm>
              <a:off x="4241160" y="5076720"/>
              <a:ext cx="1410120" cy="799920"/>
            </a:xfrm>
            <a:prstGeom prst="rect">
              <a:avLst/>
            </a:prstGeom>
            <a:solidFill>
              <a:srgbClr val="6bfd87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Coco (Parrot)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cxnSp>
          <p:nvCxnSpPr>
            <p:cNvPr id="493" name=""/>
            <p:cNvCxnSpPr>
              <a:stCxn id="490" idx="3"/>
              <a:endCxn id="492" idx="1"/>
            </p:cNvCxnSpPr>
            <p:nvPr/>
          </p:nvCxnSpPr>
          <p:spPr>
            <a:xfrm>
              <a:off x="3856680" y="5477040"/>
              <a:ext cx="384840" cy="1080"/>
            </a:xfrm>
            <a:prstGeom prst="straightConnector1">
              <a:avLst/>
            </a:prstGeom>
            <a:ln w="9360">
              <a:solidFill>
                <a:srgbClr val="080808"/>
              </a:solidFill>
              <a:miter/>
              <a:tailEnd len="med" type="triangle" w="med"/>
            </a:ln>
          </p:spPr>
        </p:cxnSp>
      </p:grpSp>
      <p:sp>
        <p:nvSpPr>
          <p:cNvPr id="494" name=""/>
          <p:cNvSpPr/>
          <p:nvPr/>
        </p:nvSpPr>
        <p:spPr>
          <a:xfrm>
            <a:off x="6804000" y="2781360"/>
            <a:ext cx="1224000" cy="25380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408720" y="5380200"/>
            <a:ext cx="2340000" cy="21744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55680" y="2852640"/>
            <a:ext cx="3456000" cy="36036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708360" y="2133720"/>
            <a:ext cx="7164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118200" y="4005360"/>
            <a:ext cx="7164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8028000" y="4797360"/>
            <a:ext cx="7128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443640" y="2276640"/>
            <a:ext cx="7164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cxnSp>
        <p:nvCxnSpPr>
          <p:cNvPr id="501" name=""/>
          <p:cNvCxnSpPr>
            <a:stCxn id="497" idx="5"/>
            <a:endCxn id="498" idx="7"/>
          </p:cNvCxnSpPr>
          <p:nvPr/>
        </p:nvCxnSpPr>
        <p:spPr>
          <a:xfrm flipH="1" rot="16200000">
            <a:off x="4062240" y="1899720"/>
            <a:ext cx="1823400" cy="2410560"/>
          </a:xfrm>
          <a:prstGeom prst="curvedConnector5">
            <a:avLst>
              <a:gd name="adj1" fmla="val 49901"/>
              <a:gd name="adj2" fmla="val 49992"/>
              <a:gd name="adj3" fmla="val 49901"/>
            </a:avLst>
          </a:prstGeom>
          <a:ln w="3816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502" name=""/>
          <p:cNvCxnSpPr>
            <a:stCxn id="499" idx="1"/>
            <a:endCxn id="500" idx="1"/>
          </p:cNvCxnSpPr>
          <p:nvPr/>
        </p:nvCxnSpPr>
        <p:spPr>
          <a:xfrm flipV="1" rot="16200000">
            <a:off x="5985720" y="2755080"/>
            <a:ext cx="2521800" cy="1585080"/>
          </a:xfrm>
          <a:prstGeom prst="curvedConnector5">
            <a:avLst>
              <a:gd name="adj1" fmla="val 129711"/>
              <a:gd name="adj2" fmla="val 50000"/>
              <a:gd name="adj3" fmla="val 129711"/>
            </a:avLst>
          </a:prstGeom>
          <a:ln w="28440">
            <a:solidFill>
              <a:srgbClr val="080808"/>
            </a:solidFill>
            <a:miter/>
            <a:tailEnd len="med" type="triangle" w="med"/>
          </a:ln>
        </p:spPr>
      </p:cxnSp>
      <p:sp>
        <p:nvSpPr>
          <p:cNvPr id="503" name=""/>
          <p:cNvSpPr/>
          <p:nvPr/>
        </p:nvSpPr>
        <p:spPr>
          <a:xfrm>
            <a:off x="6443640" y="2637000"/>
            <a:ext cx="2089080" cy="2879640"/>
          </a:xfrm>
          <a:custGeom>
            <a:avLst/>
            <a:gdLst/>
            <a:ahLst/>
            <a:rect l="l" t="t" r="r" b="b"/>
            <a:pathLst>
              <a:path w="1316" h="2087">
                <a:moveTo>
                  <a:pt x="0" y="0"/>
                </a:moveTo>
                <a:cubicBezTo>
                  <a:pt x="26" y="128"/>
                  <a:pt x="53" y="257"/>
                  <a:pt x="227" y="317"/>
                </a:cubicBezTo>
                <a:cubicBezTo>
                  <a:pt x="401" y="377"/>
                  <a:pt x="885" y="159"/>
                  <a:pt x="1044" y="363"/>
                </a:cubicBezTo>
                <a:cubicBezTo>
                  <a:pt x="1203" y="567"/>
                  <a:pt x="1316" y="1338"/>
                  <a:pt x="1180" y="1542"/>
                </a:cubicBezTo>
                <a:cubicBezTo>
                  <a:pt x="1044" y="1746"/>
                  <a:pt x="424" y="1497"/>
                  <a:pt x="227" y="1588"/>
                </a:cubicBezTo>
                <a:cubicBezTo>
                  <a:pt x="30" y="1679"/>
                  <a:pt x="15" y="1883"/>
                  <a:pt x="0" y="2087"/>
                </a:cubicBezTo>
              </a:path>
            </a:pathLst>
          </a:custGeom>
          <a:noFill/>
          <a:ln w="9360">
            <a:solidFill>
              <a:srgbClr val="080808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227640" y="4149720"/>
            <a:ext cx="71640" cy="574560"/>
          </a:xfrm>
          <a:prstGeom prst="line">
            <a:avLst/>
          </a:prstGeom>
          <a:ln w="2844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459480" y="5157720"/>
            <a:ext cx="0" cy="503280"/>
          </a:xfrm>
          <a:prstGeom prst="line">
            <a:avLst/>
          </a:prstGeom>
          <a:ln w="2844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DE9F-C46C-46B4-B11B-7F40665CD84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323640" y="1341000"/>
            <a:ext cx="83516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We can create classes and instances at all level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title"/>
          </p:nvPr>
        </p:nvSpPr>
        <p:spPr>
          <a:xfrm>
            <a:off x="468360" y="152280"/>
            <a:ext cx="8207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: inheritance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508" name=""/>
          <p:cNvSpPr/>
          <p:nvPr/>
        </p:nvSpPr>
        <p:spPr>
          <a:xfrm>
            <a:off x="611280" y="342900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Bird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556000" y="433080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Parrot: Bird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877080" y="4724280"/>
            <a:ext cx="1800360" cy="936720"/>
          </a:xfrm>
          <a:prstGeom prst="rect">
            <a:avLst/>
          </a:prstGeom>
          <a:solidFill>
            <a:srgbClr val="6bfd87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Tweety (Macaw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643280" y="501336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acaw: Parro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08" idx="3"/>
            <a:endCxn id="509" idx="1"/>
          </p:cNvCxnSpPr>
          <p:nvPr/>
        </p:nvCxnSpPr>
        <p:spPr>
          <a:xfrm>
            <a:off x="2195280" y="3933360"/>
            <a:ext cx="361080" cy="902520"/>
          </a:xfrm>
          <a:prstGeom prst="straightConnector1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513" name=""/>
          <p:cNvCxnSpPr>
            <a:stCxn id="508" idx="3"/>
            <a:endCxn id="514" idx="1"/>
          </p:cNvCxnSpPr>
          <p:nvPr/>
        </p:nvCxnSpPr>
        <p:spPr>
          <a:xfrm flipV="1">
            <a:off x="2195280" y="3069360"/>
            <a:ext cx="361080" cy="864360"/>
          </a:xfrm>
          <a:prstGeom prst="straightConnector1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515" name=""/>
          <p:cNvCxnSpPr>
            <a:stCxn id="509" idx="3"/>
            <a:endCxn id="511" idx="1"/>
          </p:cNvCxnSpPr>
          <p:nvPr/>
        </p:nvCxnSpPr>
        <p:spPr>
          <a:xfrm>
            <a:off x="4140000" y="4835520"/>
            <a:ext cx="503640" cy="682920"/>
          </a:xfrm>
          <a:prstGeom prst="straightConnector1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516" name=""/>
          <p:cNvCxnSpPr>
            <a:stCxn id="511" idx="3"/>
            <a:endCxn id="510" idx="1"/>
          </p:cNvCxnSpPr>
          <p:nvPr/>
        </p:nvCxnSpPr>
        <p:spPr>
          <a:xfrm flipV="1">
            <a:off x="6227640" y="5192280"/>
            <a:ext cx="650160" cy="326160"/>
          </a:xfrm>
          <a:prstGeom prst="straightConnector1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sp>
        <p:nvSpPr>
          <p:cNvPr id="517" name=""/>
          <p:cNvSpPr/>
          <p:nvPr/>
        </p:nvSpPr>
        <p:spPr>
          <a:xfrm>
            <a:off x="7021800" y="426708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bfd87"/>
                </a:solidFill>
                <a:latin typeface="Arial"/>
              </a:rPr>
              <a:t>Instance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762280" y="393372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ccff"/>
                </a:solidFill>
                <a:latin typeface="Arial"/>
              </a:rPr>
              <a:t>Classes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556000" y="2565360"/>
            <a:ext cx="1584360" cy="1008000"/>
          </a:xfrm>
          <a:prstGeom prst="rect">
            <a:avLst/>
          </a:prstGeom>
          <a:solidFill>
            <a:srgbClr val="6bfd87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Birdy (Bird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50920" y="3933720"/>
            <a:ext cx="360360" cy="0"/>
          </a:xfrm>
          <a:prstGeom prst="line">
            <a:avLst/>
          </a:prstGeom>
          <a:ln w="9360">
            <a:solidFill>
              <a:srgbClr val="080808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788000" y="3500280"/>
            <a:ext cx="1584360" cy="1008360"/>
          </a:xfrm>
          <a:prstGeom prst="rect">
            <a:avLst/>
          </a:prstGeom>
          <a:solidFill>
            <a:srgbClr val="6bfd87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Coco (Parrot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cxnSp>
        <p:nvCxnSpPr>
          <p:cNvPr id="521" name=""/>
          <p:cNvCxnSpPr>
            <a:stCxn id="509" idx="3"/>
            <a:endCxn id="520" idx="1"/>
          </p:cNvCxnSpPr>
          <p:nvPr/>
        </p:nvCxnSpPr>
        <p:spPr>
          <a:xfrm flipV="1">
            <a:off x="4140000" y="4005000"/>
            <a:ext cx="648360" cy="830880"/>
          </a:xfrm>
          <a:prstGeom prst="straightConnector1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86CC-59F0-4AA6-97C6-DB0E646B29B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95280" y="152280"/>
            <a:ext cx="8569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: inheritance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820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Inheritance: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constructors with argument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Using the animal kingdom as example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84360" y="4221000"/>
            <a:ext cx="1584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Anima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771640" y="342900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Dog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: Anima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948360" y="5011560"/>
            <a:ext cx="1584360" cy="1008360"/>
          </a:xfrm>
          <a:prstGeom prst="rect">
            <a:avLst/>
          </a:prstGeom>
          <a:solidFill>
            <a:srgbClr val="6bfd87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Rex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 (Collie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771640" y="479736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Fish: Anima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948360" y="3860640"/>
            <a:ext cx="1584360" cy="1008360"/>
          </a:xfrm>
          <a:prstGeom prst="rect">
            <a:avLst/>
          </a:prstGeom>
          <a:solidFill>
            <a:srgbClr val="6bfd87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Fido (Collie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859280" y="314172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Big Dane: Dog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859280" y="450864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Collie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: Dog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cxnSp>
        <p:nvCxnSpPr>
          <p:cNvPr id="531" name=""/>
          <p:cNvCxnSpPr>
            <a:stCxn id="524" idx="3"/>
            <a:endCxn id="525" idx="1"/>
          </p:cNvCxnSpPr>
          <p:nvPr/>
        </p:nvCxnSpPr>
        <p:spPr>
          <a:xfrm flipV="1">
            <a:off x="2268360" y="3933000"/>
            <a:ext cx="504000" cy="793080"/>
          </a:xfrm>
          <a:prstGeom prst="straightConnector1">
            <a:avLst/>
          </a:prstGeom>
          <a:ln w="2844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532" name=""/>
          <p:cNvCxnSpPr>
            <a:stCxn id="524" idx="3"/>
            <a:endCxn id="527" idx="1"/>
          </p:cNvCxnSpPr>
          <p:nvPr/>
        </p:nvCxnSpPr>
        <p:spPr>
          <a:xfrm>
            <a:off x="2268360" y="4726080"/>
            <a:ext cx="504000" cy="576360"/>
          </a:xfrm>
          <a:prstGeom prst="straightConnector1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533" name=""/>
          <p:cNvCxnSpPr>
            <a:stCxn id="525" idx="3"/>
            <a:endCxn id="529" idx="1"/>
          </p:cNvCxnSpPr>
          <p:nvPr/>
        </p:nvCxnSpPr>
        <p:spPr>
          <a:xfrm flipV="1">
            <a:off x="4356000" y="3646080"/>
            <a:ext cx="504000" cy="288000"/>
          </a:xfrm>
          <a:prstGeom prst="straightConnector1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534" name=""/>
          <p:cNvCxnSpPr>
            <a:stCxn id="525" idx="3"/>
            <a:endCxn id="530" idx="1"/>
          </p:cNvCxnSpPr>
          <p:nvPr/>
        </p:nvCxnSpPr>
        <p:spPr>
          <a:xfrm>
            <a:off x="4356000" y="3933360"/>
            <a:ext cx="504000" cy="1080360"/>
          </a:xfrm>
          <a:prstGeom prst="straightConnector1">
            <a:avLst/>
          </a:prstGeom>
          <a:ln w="2844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535" name=""/>
          <p:cNvCxnSpPr>
            <a:stCxn id="530" idx="3"/>
            <a:endCxn id="528" idx="1"/>
          </p:cNvCxnSpPr>
          <p:nvPr/>
        </p:nvCxnSpPr>
        <p:spPr>
          <a:xfrm flipV="1">
            <a:off x="6443640" y="4365000"/>
            <a:ext cx="505440" cy="648360"/>
          </a:xfrm>
          <a:prstGeom prst="straightConnector1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536" name=""/>
          <p:cNvCxnSpPr>
            <a:stCxn id="530" idx="3"/>
            <a:endCxn id="526" idx="1"/>
          </p:cNvCxnSpPr>
          <p:nvPr/>
        </p:nvCxnSpPr>
        <p:spPr>
          <a:xfrm>
            <a:off x="6443640" y="5013360"/>
            <a:ext cx="505440" cy="504000"/>
          </a:xfrm>
          <a:prstGeom prst="straightConnector1">
            <a:avLst/>
          </a:prstGeom>
          <a:ln w="28440">
            <a:solidFill>
              <a:srgbClr val="080808"/>
            </a:solidFill>
            <a:miter/>
            <a:tailEnd len="med" type="triangle" w="med"/>
          </a:ln>
        </p:spPr>
      </p:cxnSp>
      <p:sp>
        <p:nvSpPr>
          <p:cNvPr id="537" name=""/>
          <p:cNvSpPr/>
          <p:nvPr/>
        </p:nvSpPr>
        <p:spPr>
          <a:xfrm>
            <a:off x="7021800" y="340344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bfd87"/>
                </a:solidFill>
                <a:latin typeface="Arial"/>
              </a:rPr>
              <a:t>Instance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051000" y="440064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ccff"/>
                </a:solidFill>
                <a:latin typeface="Arial"/>
              </a:rPr>
              <a:t>Classes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79280" y="4724280"/>
            <a:ext cx="505080" cy="0"/>
          </a:xfrm>
          <a:prstGeom prst="line">
            <a:avLst/>
          </a:prstGeom>
          <a:ln w="9360">
            <a:solidFill>
              <a:srgbClr val="080808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74E0-152D-44E4-937D-771A01A7F5B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bcdff"/>
                </a:solidFill>
                <a:latin typeface="Arial Black"/>
              </a:rPr>
              <a:t>Implementation: inheritance</a:t>
            </a:r>
            <a:endParaRPr b="0" lang="en-US" sz="3600" spc="-1" strike="noStrike">
              <a:solidFill>
                <a:srgbClr val="fbcdff"/>
              </a:solidFill>
              <a:latin typeface="Arial Black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2"/>
          <a:stretch/>
        </p:blipFill>
        <p:spPr>
          <a:xfrm>
            <a:off x="4067280" y="1341360"/>
            <a:ext cx="3400200" cy="251460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3"/>
          <a:stretch/>
        </p:blipFill>
        <p:spPr>
          <a:xfrm>
            <a:off x="826920" y="1341360"/>
            <a:ext cx="2791080" cy="282888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324000" y="429264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57040" y="4221000"/>
            <a:ext cx="43214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pet←⎕NEW Collie ‘Rex’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pet.⎕nl -2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Name  Nlegs  Sounds  Type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pet.(Name Type)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Rex  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canis familiaris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4"/>
          <a:stretch/>
        </p:blipFill>
        <p:spPr>
          <a:xfrm>
            <a:off x="5580000" y="3068640"/>
            <a:ext cx="3191040" cy="270504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/>
          <p:nvPr/>
        </p:nvSpPr>
        <p:spPr>
          <a:xfrm>
            <a:off x="2195640" y="3220920"/>
            <a:ext cx="576000" cy="28728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435640" y="2109960"/>
            <a:ext cx="431640" cy="21564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948360" y="3844800"/>
            <a:ext cx="432000" cy="21600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24000" y="5084640"/>
            <a:ext cx="4103640" cy="36036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411280" y="1708200"/>
            <a:ext cx="2089440" cy="384120"/>
          </a:xfrm>
          <a:prstGeom prst="leftArrow">
            <a:avLst>
              <a:gd name="adj1" fmla="val 50000"/>
              <a:gd name="adj2" fmla="val 135989"/>
            </a:avLst>
          </a:prstGeom>
          <a:solidFill>
            <a:srgbClr val="790082">
              <a:alpha val="30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rot="3022200">
            <a:off x="4621680" y="2540520"/>
            <a:ext cx="1871640" cy="384120"/>
          </a:xfrm>
          <a:prstGeom prst="leftArrow">
            <a:avLst>
              <a:gd name="adj1" fmla="val 50000"/>
              <a:gd name="adj2" fmla="val 121813"/>
            </a:avLst>
          </a:prstGeom>
          <a:solidFill>
            <a:srgbClr val="790082">
              <a:alpha val="30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H="1" rot="20800200">
            <a:off x="3634920" y="3860280"/>
            <a:ext cx="2376720" cy="384480"/>
          </a:xfrm>
          <a:prstGeom prst="leftArrow">
            <a:avLst>
              <a:gd name="adj1" fmla="val 50000"/>
              <a:gd name="adj2" fmla="val 154541"/>
            </a:avLst>
          </a:prstGeom>
          <a:solidFill>
            <a:srgbClr val="790082">
              <a:alpha val="30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06B1-9759-4C50-A113-B901592800AE}" type="slidenum">
              <a:t>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bcdff"/>
                </a:solidFill>
                <a:latin typeface="Arial Black"/>
              </a:rPr>
              <a:t>Implementation: inheritance</a:t>
            </a:r>
            <a:endParaRPr b="0" lang="en-US" sz="3600" spc="-1" strike="noStrike">
              <a:solidFill>
                <a:srgbClr val="fbcdff"/>
              </a:solidFill>
              <a:latin typeface="Arial Black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2"/>
          <a:stretch/>
        </p:blipFill>
        <p:spPr>
          <a:xfrm>
            <a:off x="4067280" y="1341360"/>
            <a:ext cx="3400200" cy="2514600"/>
          </a:xfrm>
          <a:prstGeom prst="rect">
            <a:avLst/>
          </a:prstGeom>
          <a:ln w="0">
            <a:noFill/>
          </a:ln>
        </p:spPr>
      </p:pic>
      <p:pic>
        <p:nvPicPr>
          <p:cNvPr id="555" name="" descr=""/>
          <p:cNvPicPr/>
          <p:nvPr/>
        </p:nvPicPr>
        <p:blipFill>
          <a:blip r:embed="rId3"/>
          <a:stretch/>
        </p:blipFill>
        <p:spPr>
          <a:xfrm>
            <a:off x="826920" y="1341360"/>
            <a:ext cx="2791080" cy="282888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>
            <a:off x="324000" y="429264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57040" y="4221000"/>
            <a:ext cx="43214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pet←⎕NEW Collie ‘Rex’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pet.⎕nl -2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Name  Nlegs  Sounds  Type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pet.(Name Type)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Rex  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canis familiaris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4"/>
          <a:stretch/>
        </p:blipFill>
        <p:spPr>
          <a:xfrm>
            <a:off x="5580000" y="3068640"/>
            <a:ext cx="3191040" cy="270504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/>
          <p:nvPr/>
        </p:nvSpPr>
        <p:spPr>
          <a:xfrm>
            <a:off x="6012000" y="4437000"/>
            <a:ext cx="2663640" cy="36036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500720" y="2421000"/>
            <a:ext cx="2879640" cy="36036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332000" y="2276640"/>
            <a:ext cx="1800000" cy="21564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8317080" y="4572000"/>
            <a:ext cx="35856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951440" y="2233440"/>
            <a:ext cx="431640" cy="289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804000" y="2492280"/>
            <a:ext cx="576360" cy="358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590840" y="2070000"/>
            <a:ext cx="100800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497640" y="4105440"/>
            <a:ext cx="35892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708360" y="4221000"/>
            <a:ext cx="93672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cxnSp>
        <p:nvCxnSpPr>
          <p:cNvPr id="568" name=""/>
          <p:cNvCxnSpPr>
            <a:stCxn id="567" idx="7"/>
            <a:endCxn id="566" idx="1"/>
          </p:cNvCxnSpPr>
          <p:nvPr/>
        </p:nvCxnSpPr>
        <p:spPr>
          <a:xfrm flipH="1" flipV="1" rot="5400000">
            <a:off x="5452920" y="3193200"/>
            <a:ext cx="153000" cy="2042280"/>
          </a:xfrm>
          <a:prstGeom prst="curvedConnector5">
            <a:avLst>
              <a:gd name="adj1" fmla="val 271698"/>
              <a:gd name="adj2" fmla="val 50000"/>
              <a:gd name="adj3" fmla="val 271698"/>
            </a:avLst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569" name=""/>
          <p:cNvCxnSpPr>
            <a:stCxn id="562" idx="1"/>
            <a:endCxn id="563" idx="5"/>
          </p:cNvCxnSpPr>
          <p:nvPr/>
        </p:nvCxnSpPr>
        <p:spPr>
          <a:xfrm flipV="1" rot="16200000">
            <a:off x="5785920" y="2021760"/>
            <a:ext cx="2116800" cy="3050280"/>
          </a:xfrm>
          <a:prstGeom prst="curvedConnector5">
            <a:avLst>
              <a:gd name="adj1" fmla="val 49957"/>
              <a:gd name="adj2" fmla="val 50000"/>
              <a:gd name="adj3" fmla="val 49957"/>
            </a:avLst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570" name=""/>
          <p:cNvCxnSpPr>
            <a:stCxn id="564" idx="3"/>
            <a:endCxn id="565" idx="4"/>
          </p:cNvCxnSpPr>
          <p:nvPr/>
        </p:nvCxnSpPr>
        <p:spPr>
          <a:xfrm flipV="1" rot="16200000">
            <a:off x="4270680" y="190800"/>
            <a:ext cx="442080" cy="4793400"/>
          </a:xfrm>
          <a:prstGeom prst="curvedConnector5">
            <a:avLst>
              <a:gd name="adj1" fmla="val -61450"/>
              <a:gd name="adj2" fmla="val 50000"/>
              <a:gd name="adj3" fmla="val -61450"/>
            </a:avLst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F75F-FFE4-4AC0-942D-CF6D4E9F88B4}" type="slidenum">
              <a:t>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History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07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OO is not new, it’s been around for a while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Pretty much the same story as AP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50s: conception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60s: 1</a:t>
            </a:r>
            <a:r>
              <a:rPr b="0" lang="en-GB" sz="3200" spc="-1" strike="noStrike" baseline="30000">
                <a:solidFill>
                  <a:srgbClr val="080808"/>
                </a:solidFill>
                <a:latin typeface="Arial"/>
              </a:rPr>
              <a:t>st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implementation (SIMULA compiler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70s: 1</a:t>
            </a:r>
            <a:r>
              <a:rPr b="0" lang="en-GB" sz="3200" spc="-1" strike="noStrike" baseline="30000">
                <a:solidFill>
                  <a:srgbClr val="080808"/>
                </a:solidFill>
                <a:latin typeface="Arial"/>
              </a:rPr>
              <a:t>st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user base, Smalltalk compiler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80s: into Eiffel to bridge the “gap”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90s: popularity grows (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≠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APL) thanks to C++ and Java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3534-CBC8-4FE6-97F3-E234BF636B0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94920" y="115920"/>
            <a:ext cx="8350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bcdff"/>
                </a:solidFill>
                <a:latin typeface="Arial Black"/>
              </a:rPr>
              <a:t>Implementation: </a:t>
            </a:r>
            <a:r>
              <a:rPr b="0" lang="en-US" sz="3600" spc="-1" strike="noStrike">
                <a:solidFill>
                  <a:srgbClr val="fbcdff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900000" y="1587240"/>
            <a:ext cx="734400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onceals the exact details of how a particular class works from objects that use its code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o allow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access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to a member there are various access level definitions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49EA-1667-4C61-95B3-FAEC22E67A1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107640" y="1557360"/>
            <a:ext cx="8713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o expose a member you </a:t>
            </a: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must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make it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public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For a </a:t>
            </a:r>
            <a:r>
              <a:rPr b="0" lang="en-GB" sz="3200" spc="-1" strike="noStrike">
                <a:solidFill>
                  <a:srgbClr val="cc9900"/>
                </a:solidFill>
                <a:latin typeface="Arial"/>
              </a:rPr>
              <a:t>property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or a method (fn) you must use the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:Access public 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Statemen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For a </a:t>
            </a:r>
            <a:r>
              <a:rPr b="0" lang="en-GB" sz="3200" spc="-1" strike="noStrike">
                <a:solidFill>
                  <a:srgbClr val="cc9900"/>
                </a:solidFill>
                <a:latin typeface="Arial"/>
              </a:rPr>
              <a:t>field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(var) you must use this statement: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:Field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public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MyField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394920" y="115920"/>
            <a:ext cx="8350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bcdff"/>
                </a:solidFill>
                <a:latin typeface="Arial Black"/>
              </a:rPr>
              <a:t>Implementation: </a:t>
            </a:r>
            <a:r>
              <a:rPr b="0" lang="en-US" sz="3600" spc="-1" strike="noStrike">
                <a:solidFill>
                  <a:srgbClr val="fbcdff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635D-C94F-45BD-810E-1D5BF8473A6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250560" y="1341360"/>
            <a:ext cx="33130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 class to the right shows a few fields (vars) and their access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 access is the same for methods (fns) and properties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2"/>
          <a:stretch/>
        </p:blipFill>
        <p:spPr>
          <a:xfrm>
            <a:off x="3695760" y="1413000"/>
            <a:ext cx="5268960" cy="4232160"/>
          </a:xfrm>
          <a:prstGeom prst="rect">
            <a:avLst/>
          </a:prstGeom>
          <a:ln w="0">
            <a:noFill/>
          </a:ln>
        </p:spPr>
      </p:pic>
      <p:sp>
        <p:nvSpPr>
          <p:cNvPr id="577" name="PlaceHolder 2"/>
          <p:cNvSpPr>
            <a:spLocks noGrp="1"/>
          </p:cNvSpPr>
          <p:nvPr>
            <p:ph type="title"/>
          </p:nvPr>
        </p:nvSpPr>
        <p:spPr>
          <a:xfrm>
            <a:off x="394920" y="115920"/>
            <a:ext cx="8350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bcdff"/>
                </a:solidFill>
                <a:latin typeface="Arial Black"/>
              </a:rPr>
              <a:t>Implementation: </a:t>
            </a:r>
            <a:r>
              <a:rPr b="0" lang="en-US" sz="3600" spc="-1" strike="noStrike">
                <a:solidFill>
                  <a:srgbClr val="fbcdff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4E0D-22A9-4CA2-960C-25142DF7B39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/>
          </p:nvPr>
        </p:nvSpPr>
        <p:spPr>
          <a:xfrm>
            <a:off x="899640" y="1341000"/>
            <a:ext cx="74898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Shared vs instance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Each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instance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gets a copy of each member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f a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Field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is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shared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it is kept in the class for all instances to see (and used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title"/>
          </p:nvPr>
        </p:nvSpPr>
        <p:spPr>
          <a:xfrm>
            <a:off x="394920" y="115920"/>
            <a:ext cx="8350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bcdff"/>
                </a:solidFill>
                <a:latin typeface="Arial Black"/>
              </a:rPr>
              <a:t>Implementation: </a:t>
            </a:r>
            <a:r>
              <a:rPr b="0" lang="en-US" sz="3600" spc="-1" strike="noStrike">
                <a:solidFill>
                  <a:srgbClr val="fbcdff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7E32-CB95-427A-A8C6-B440D361D15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609120" y="1557000"/>
            <a:ext cx="82105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Shared vs instance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Example: keepCoun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Here each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instance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has its own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private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ID and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public 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name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 class keeps track of the number of instances created privately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title"/>
          </p:nvPr>
        </p:nvSpPr>
        <p:spPr>
          <a:xfrm>
            <a:off x="394920" y="115920"/>
            <a:ext cx="8350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bcdff"/>
                </a:solidFill>
                <a:latin typeface="Arial Black"/>
              </a:rPr>
              <a:t>Implementation: </a:t>
            </a:r>
            <a:r>
              <a:rPr b="0" lang="en-US" sz="3600" spc="-1" strike="noStrike">
                <a:solidFill>
                  <a:srgbClr val="fbcdff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8751-690E-46B3-A2A5-2316F8C23D1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/>
          </p:nvPr>
        </p:nvSpPr>
        <p:spPr>
          <a:xfrm>
            <a:off x="178920" y="1341360"/>
            <a:ext cx="821052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Shared vs instance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in1←⎕new keepCount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I am XYZ1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in2←⎕new keepCount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I am XYZ2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in3←⎕new keepCount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I am XYZ3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keepCount.Count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keepCount.⎕nl-2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Count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in2.⎕nl-2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Count  MyName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in1.Count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title"/>
          </p:nvPr>
        </p:nvSpPr>
        <p:spPr>
          <a:xfrm>
            <a:off x="394920" y="115920"/>
            <a:ext cx="8350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bcdff"/>
                </a:solidFill>
                <a:latin typeface="Arial Black"/>
              </a:rPr>
              <a:t>Implementation: </a:t>
            </a:r>
            <a:r>
              <a:rPr b="0" lang="en-US" sz="3600" spc="-1" strike="noStrike">
                <a:solidFill>
                  <a:srgbClr val="fbcdff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fbcdff"/>
              </a:solidFill>
              <a:latin typeface="Arial Black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2"/>
          <a:stretch/>
        </p:blipFill>
        <p:spPr>
          <a:xfrm>
            <a:off x="4932360" y="1341360"/>
            <a:ext cx="3929040" cy="475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8FC9-BAE9-4C9C-AD0B-7464F99EDC20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23640" y="1483920"/>
            <a:ext cx="806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n APL a function CANNOT have different definitions using a single name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OTOH, a constructor MAY have several definitions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Since APL is typeless the only way to tell which function to use is by the NUMBER of arguments, from 0 (niladic) to any number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144360" y="115920"/>
            <a:ext cx="9036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: </a:t>
            </a:r>
            <a:r>
              <a:rPr b="0" lang="en-US" sz="4000" spc="-1" strike="noStrike">
                <a:solidFill>
                  <a:srgbClr val="fbcdff"/>
                </a:solidFill>
                <a:latin typeface="Arial Black"/>
              </a:rPr>
              <a:t>Polymorphism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85FF-16FA-4B73-A2C6-CFF945BB2A20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5363640" y="1268280"/>
            <a:ext cx="30258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:Class manyCtors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    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    ∇ </a:t>
            </a: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general x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    ⍝ </a:t>
            </a: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This ctor any arg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    ⍝ </a:t>
            </a: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It can be anything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      </a:t>
            </a: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:Implements constructor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      </a:t>
            </a: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:Access public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    ∇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    ∇ </a:t>
            </a: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nil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    ⍝ </a:t>
            </a: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This ctor takes no arg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      </a:t>
            </a: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:Implements constructor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      </a:t>
            </a: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:Access public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    ∇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    ∇ </a:t>
            </a: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mon1(a1)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    ⍝ </a:t>
            </a: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This ctor takes 1 arg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    ⍝ </a:t>
            </a: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It MUST be a vector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      </a:t>
            </a: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:Implements constructor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      </a:t>
            </a: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:Access public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    ∇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    ∇ </a:t>
            </a: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mon5(a1 a2 a3 a4 a5)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    ⍝ </a:t>
            </a: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This ctor takes 5 arg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    ⍝ </a:t>
            </a: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It MUST be exactly 5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      </a:t>
            </a: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:Implements constructor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      </a:t>
            </a: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:Access public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    ∇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:EndClass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144360" y="115920"/>
            <a:ext cx="9036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: </a:t>
            </a:r>
            <a:r>
              <a:rPr b="0" lang="en-US" sz="4000" spc="-1" strike="noStrike">
                <a:solidFill>
                  <a:srgbClr val="fbcdff"/>
                </a:solidFill>
                <a:latin typeface="Arial Black"/>
              </a:rPr>
              <a:t>Polymorphism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589" name=""/>
          <p:cNvSpPr/>
          <p:nvPr/>
        </p:nvSpPr>
        <p:spPr>
          <a:xfrm>
            <a:off x="395280" y="1390680"/>
            <a:ext cx="48974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Depending on the number of arguments, the proper fn will be used.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D627-B319-4ADA-93AB-A9D7BD3E022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 summary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061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Dyalog follows C# rules closely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)ED to edit classe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classes are much like namespace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ir members (vars &amp; fns) cannot all be accessed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[]NEW makes an instance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classes can be based on another one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y use constructors to initialize them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9DCA-0774-4866-8559-569486CE3A26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971280" y="152280"/>
            <a:ext cx="6838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End of implementation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131640" y="2205000"/>
            <a:ext cx="2590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QUESTION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ctr"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200" spc="-1" strike="noStrike">
                <a:solidFill>
                  <a:srgbClr val="080808"/>
                </a:solidFill>
                <a:latin typeface="Arial"/>
              </a:rPr>
              <a:t>?</a:t>
            </a:r>
            <a:endParaRPr b="0" lang="en-US" sz="1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0C97-61B7-4438-80A6-D410AC6282C8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The evolution of data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845820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Elementary data elements (like int) and arrays of them (all the same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Structures (like {i: int; d: date}), many elementary elements or structures (recurs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Namespaces (structures whose elements are referred to by name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Classes (namespaces with initializers &amp; cleaners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F1EB-85A3-47E8-AE8B-D55B5734215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395280" y="1484280"/>
            <a:ext cx="856944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33">
                    <a:alpha val="86000"/>
                  </a:srgbClr>
                </a:solidFill>
                <a:latin typeface="Times New Roman"/>
              </a:rPr>
              <a:t>Implement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33">
                  <a:alpha val="86000"/>
                </a:srgbClr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33">
                    <a:alpha val="86000"/>
                  </a:srgbClr>
                </a:solidFill>
                <a:latin typeface="Times New Roman"/>
              </a:rPr>
              <a:t>Detail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33">
                  <a:alpha val="86000"/>
                </a:srgbClr>
              </a:solidFill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E7CC-4746-4255-84C6-AE62BE828D40}" type="slidenum">
              <a:t>8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 detail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re is a lot more that has been implemented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Dyalog APL uncovered new territory when venturing into OO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n keeping with the dynamic nature of APL a lot of questions were raised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And many were answered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5D9F-565D-4AB9-B633-C7D1A022F0BE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 detail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24000" y="1371600"/>
            <a:ext cx="8640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Classes: new system functions/command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Aft>
                <a:spcPts val="2001"/>
              </a:spcAft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)ED ○name (</a:t>
            </a:r>
            <a:r>
              <a:rPr b="0" i="1" lang="en-GB" sz="3200" spc="-1" strike="noStrike">
                <a:solidFill>
                  <a:srgbClr val="080808"/>
                </a:solidFill>
                <a:latin typeface="Arial"/>
              </a:rPr>
              <a:t>circle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to edit a new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class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Aft>
                <a:spcPts val="2001"/>
              </a:spcAft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SRC: Just like ⎕NR returns a function in nested form, ⎕SRC will return the representation of a class in nested form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Aft>
                <a:spcPts val="2001"/>
              </a:spcAft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FIX: Just like ⎕FX creates a function, ⎕FIX creates a class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6FF1-1D77-4462-878D-3497843701C5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 detail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42560" y="1371600"/>
            <a:ext cx="8893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Classes: new system functions/command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CLASSES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returns the tree of reference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)CLASSES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lists all classes in the namespace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)ED ⍟ns/○cl/∘interf;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ns can contain classe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DF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allows to alter the display of a class (any namespace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A class can implement an </a:t>
            </a:r>
            <a:r>
              <a:rPr b="0" i="1" lang="en-GB" sz="2800" spc="-1" strike="noStrike">
                <a:solidFill>
                  <a:srgbClr val="cc9900"/>
                </a:solidFill>
                <a:latin typeface="Arial"/>
              </a:rPr>
              <a:t>Interface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)INTERFACES  lists all interfaces in the namespace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6324-6F28-49FC-9DE4-D3A8C3E78196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/>
          </p:nvPr>
        </p:nvSpPr>
        <p:spPr>
          <a:xfrm>
            <a:off x="684000" y="1371600"/>
            <a:ext cx="8351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Classes: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A </a:t>
            </a:r>
            <a:r>
              <a:rPr b="0" i="1" lang="en-US" sz="3200" spc="-1" strike="noStrike">
                <a:solidFill>
                  <a:srgbClr val="080808"/>
                </a:solidFill>
                <a:latin typeface="Arial"/>
              </a:rPr>
              <a:t>class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80808"/>
                </a:solidFill>
                <a:uFillTx/>
                <a:latin typeface="Arial"/>
              </a:rPr>
              <a:t>can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implement one or more </a:t>
            </a:r>
            <a:r>
              <a:rPr b="0" i="1" lang="en-US" sz="3200" spc="-1" strike="noStrike">
                <a:solidFill>
                  <a:srgbClr val="cc9900"/>
                </a:solidFill>
                <a:latin typeface="Arial"/>
              </a:rPr>
              <a:t>interfaces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An </a:t>
            </a:r>
            <a:r>
              <a:rPr b="0" i="1" lang="en-US" sz="3200" spc="-1" strike="noStrike">
                <a:solidFill>
                  <a:srgbClr val="080808"/>
                </a:solidFill>
                <a:latin typeface="Arial"/>
              </a:rPr>
              <a:t>interface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describes </a:t>
            </a:r>
            <a:r>
              <a:rPr b="1" lang="en-US" sz="3200" spc="-1" strike="noStrike">
                <a:solidFill>
                  <a:srgbClr val="080808"/>
                </a:solidFill>
                <a:latin typeface="Arial"/>
              </a:rPr>
              <a:t>what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it should do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 </a:t>
            </a:r>
            <a:r>
              <a:rPr b="0" i="1" lang="en-GB" sz="3200" spc="-1" strike="noStrike">
                <a:solidFill>
                  <a:srgbClr val="080808"/>
                </a:solidFill>
                <a:latin typeface="Arial"/>
              </a:rPr>
              <a:t>class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describes </a:t>
            </a: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how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it should be done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 detail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8092-C7B0-451D-B6D7-36A24F29D2B1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8640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is </a:t>
            </a: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maneuvering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interface describes what </a:t>
            </a:r>
            <a:r>
              <a:rPr b="0" lang="en-GB" sz="3200" spc="-1" strike="noStrike" u="sng">
                <a:solidFill>
                  <a:srgbClr val="080808"/>
                </a:solidFill>
                <a:uFillTx/>
                <a:latin typeface="Arial"/>
              </a:rPr>
              <a:t>has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to be done with a machine: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)ed ∘maneuvering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It does NOT specify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how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it should be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done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 detail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pic>
        <p:nvPicPr>
          <p:cNvPr id="605" name="" descr=""/>
          <p:cNvPicPr/>
          <p:nvPr/>
        </p:nvPicPr>
        <p:blipFill>
          <a:blip r:embed="rId2"/>
          <a:stretch/>
        </p:blipFill>
        <p:spPr>
          <a:xfrm>
            <a:off x="4427640" y="2365200"/>
            <a:ext cx="4066920" cy="372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AF74-61BC-4F49-A2CD-6633C9A82D3C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" descr=""/>
          <p:cNvPicPr/>
          <p:nvPr/>
        </p:nvPicPr>
        <p:blipFill>
          <a:blip r:embed="rId2"/>
          <a:stretch/>
        </p:blipFill>
        <p:spPr>
          <a:xfrm>
            <a:off x="4859280" y="1844640"/>
            <a:ext cx="4048200" cy="402912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/>
          </p:nvPr>
        </p:nvSpPr>
        <p:spPr>
          <a:xfrm>
            <a:off x="756720" y="1196640"/>
            <a:ext cx="82076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is </a:t>
            </a: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car 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class implements</a:t>
            </a: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 maneuvering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 detail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609" name=""/>
          <p:cNvSpPr/>
          <p:nvPr/>
        </p:nvSpPr>
        <p:spPr>
          <a:xfrm>
            <a:off x="243720" y="2332080"/>
            <a:ext cx="5356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VW←⎕new Car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VW.GasPedal 60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Going   up   to  60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(maneuvering ⎕class VW).Steer 140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Heading   NW 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(maneuvering ⎕class VW).Accellerate 120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Going   up   to  120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VW.GasPedal 100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Going   down   to  100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VW.BreakPedal 1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Breaking..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B258-669B-461B-9AEC-B1312272D46B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" descr=""/>
          <p:cNvPicPr/>
          <p:nvPr/>
        </p:nvPicPr>
        <p:blipFill>
          <a:blip r:embed="rId2"/>
          <a:stretch/>
        </p:blipFill>
        <p:spPr>
          <a:xfrm>
            <a:off x="4572000" y="1773360"/>
            <a:ext cx="4276800" cy="437184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/>
          </p:nvPr>
        </p:nvSpPr>
        <p:spPr>
          <a:xfrm>
            <a:off x="647640" y="1196640"/>
            <a:ext cx="82454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is </a:t>
            </a: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plane 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class implements</a:t>
            </a: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 maneuvering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 detail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613" name=""/>
          <p:cNvSpPr/>
          <p:nvPr/>
        </p:nvSpPr>
        <p:spPr>
          <a:xfrm>
            <a:off x="-6120" y="2133720"/>
            <a:ext cx="53575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C172←⎕new Plane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C172.Stick 23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Heading 20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C172.Handle 200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Going   up   to  200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C172.Stick 23 11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Climbing,  Heading 20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(maneuvering ⎕class C172).Steer 210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Heading 210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(maneuvering ⎕class C172).SlowDown 20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Flaps   20  degrees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94C1-F9BB-466A-A908-4639CCC0E916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 detail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16000" y="1371600"/>
            <a:ext cx="8820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Members: new system functions/command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Can be another nested class (but not a ns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NSTANCES lists the instances of a clas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NEW creates an instance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rigger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Special Property case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F7C5-37B8-41F8-9C14-66962E827A74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 detail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216000" y="1371600"/>
            <a:ext cx="88200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Propertie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In other languages they are implemented as a pair of functions.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In APL this simple case is handled naturally. It is called the SIMPLE case and is the default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A 2</a:t>
            </a:r>
            <a:r>
              <a:rPr b="0" lang="en-GB" sz="2800" spc="-1" strike="noStrike" baseline="30000">
                <a:solidFill>
                  <a:srgbClr val="080808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case where indexing is made using any object (as opposed to numbers) is also handled easily. This is the KEYED case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 array nature of APL introduced a notion of NUMBERED property. This is the 3</a:t>
            </a:r>
            <a:r>
              <a:rPr b="0" lang="en-GB" sz="2800" spc="-1" strike="noStrike" baseline="30000">
                <a:solidFill>
                  <a:srgbClr val="080808"/>
                </a:solidFill>
                <a:latin typeface="Arial"/>
              </a:rPr>
              <a:t>rd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case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6BA1-8CCD-4B58-BCBF-0D663A512EB8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Data in Dyalog APL (DYW)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n DYW all these objects exist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You can often simulate one by another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For ex: a table of names &amp; values can represent a namespace of variables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DYW can also store the ⎕OR of a namespace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C26C-66C1-41EB-A166-AA933A86774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 detail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16000" y="1371600"/>
            <a:ext cx="88200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Properties: SIMPLE case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When a property is set,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its SET function is called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When retrieved, its GET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function is called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pa’ is a namespace containing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 name of the property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(Name) and its value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(NewValue)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2"/>
          <a:stretch/>
        </p:blipFill>
        <p:spPr>
          <a:xfrm>
            <a:off x="5435640" y="1557360"/>
            <a:ext cx="3384360" cy="439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C7F7-3FC5-4DA2-9272-CBA37F4DA153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 detail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08000" y="1371600"/>
            <a:ext cx="550872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Properties: KEYED case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 set/get function call is made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pa’ is a namespace also containing the indices of the property (Indexers)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Pk MUST be used with [brackets] and their contents cannot be elided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ir shape must conform to APL rules for assignment and result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623" name="" descr=""/>
          <p:cNvPicPr/>
          <p:nvPr/>
        </p:nvPicPr>
        <p:blipFill>
          <a:blip r:embed="rId2"/>
          <a:stretch/>
        </p:blipFill>
        <p:spPr>
          <a:xfrm>
            <a:off x="5560920" y="1484280"/>
            <a:ext cx="3328920" cy="439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1E57-D87F-458B-9613-75C4BDFBD8AA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 detail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08000" y="1371600"/>
            <a:ext cx="59040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Properties: NUMBERED case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 set/get function call is made, ONCE per index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pa’ is a namespace also containing the index to deal with (Indexers)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Pn may be used with indices. The SHAPE fn is used to check and generate indices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ir shape must conform to APL rules for assignment and result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2"/>
          <a:stretch/>
        </p:blipFill>
        <p:spPr>
          <a:xfrm>
            <a:off x="6224760" y="1484280"/>
            <a:ext cx="2701800" cy="41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C888-8071-4061-BF4E-EDE3E883A357}" type="slidenum">
              <a:t>9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 detail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08000" y="1371600"/>
            <a:ext cx="81360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Default Propertie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re can be only one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If a default property exist, [indexing] can be done directly on the instance. Doing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inst[index]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is the same as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inst.defProp[index]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If a property is the default then using “squad indexing” applies to the whole property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A04C-4440-4BFA-B689-A9B7B785F4B0}" type="slidenum">
              <a:t>9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250920" y="10699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Triggers</a:t>
            </a:r>
            <a:endParaRPr b="0" lang="en-US" sz="32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250560" y="1989000"/>
            <a:ext cx="5832360" cy="26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t←⎕NEW trigger1 ('Daniel' 'Baronet')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Full name is Daniel Baronet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Full name is Daniel Baronet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t.FirstName←'Dan'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Full name is Dan Baronet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2"/>
          <a:stretch/>
        </p:blipFill>
        <p:spPr>
          <a:xfrm>
            <a:off x="4500720" y="2492280"/>
            <a:ext cx="4176720" cy="360864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 details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9DEF-B42A-4D4D-AE86-D40AF879B38A}" type="slidenum">
              <a:t>9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 detail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39280" y="1371600"/>
            <a:ext cx="8280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Inheritance: new system functions/command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:</a:t>
            </a:r>
            <a:r>
              <a:rPr b="0" i="1" lang="en-GB" sz="2400" spc="-1" strike="noStrike">
                <a:solidFill>
                  <a:srgbClr val="cc9900"/>
                </a:solidFill>
                <a:latin typeface="Arial"/>
              </a:rPr>
              <a:t>Based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 used to call base class constructor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BASE used to call base class function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cc9900"/>
                </a:solidFill>
                <a:latin typeface="Arial"/>
              </a:rPr>
              <a:t>override/able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Destructors are called when the instance is destroyed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NC/⎕NL have been extended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THIS is the same as (⎕NS’’).##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cc9900"/>
                </a:solidFill>
                <a:latin typeface="Arial"/>
              </a:rPr>
              <a:t>:implements, :acces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can be GUI based (ex: :Class F: ‘form’)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cc9900"/>
                </a:solidFill>
                <a:latin typeface="Arial"/>
              </a:rPr>
              <a:t>:include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E428-32C0-4C27-9BEA-07E1A7C767F0}" type="slidenum">
              <a:t>9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" descr=""/>
          <p:cNvPicPr/>
          <p:nvPr/>
        </p:nvPicPr>
        <p:blipFill>
          <a:blip r:embed="rId2"/>
          <a:stretch/>
        </p:blipFill>
        <p:spPr>
          <a:xfrm>
            <a:off x="4067280" y="1341360"/>
            <a:ext cx="3400200" cy="2514600"/>
          </a:xfrm>
          <a:prstGeom prst="rect">
            <a:avLst/>
          </a:prstGeom>
          <a:ln w="0">
            <a:noFill/>
          </a:ln>
        </p:spPr>
      </p:pic>
      <p:pic>
        <p:nvPicPr>
          <p:cNvPr id="636" name="" descr=""/>
          <p:cNvPicPr/>
          <p:nvPr/>
        </p:nvPicPr>
        <p:blipFill>
          <a:blip r:embed="rId3"/>
          <a:stretch/>
        </p:blipFill>
        <p:spPr>
          <a:xfrm>
            <a:off x="826920" y="1341360"/>
            <a:ext cx="2791080" cy="282888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324000" y="429264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257040" y="4221000"/>
            <a:ext cx="43214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pet←⎕NEW Collie ‘Rex’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pet.⎕nl -2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Name  Nlegs  Sounds  Type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pet.(Name Type)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Rex  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canis familiaris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4"/>
          <a:stretch/>
        </p:blipFill>
        <p:spPr>
          <a:xfrm>
            <a:off x="5580000" y="3068640"/>
            <a:ext cx="3191040" cy="270504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6012000" y="4437000"/>
            <a:ext cx="2663640" cy="36036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500720" y="2421000"/>
            <a:ext cx="2879640" cy="36036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332000" y="2276640"/>
            <a:ext cx="1800000" cy="21564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8317080" y="4572000"/>
            <a:ext cx="35856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951440" y="2233440"/>
            <a:ext cx="431640" cy="289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804000" y="2492280"/>
            <a:ext cx="576360" cy="358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590840" y="2070000"/>
            <a:ext cx="100800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6497640" y="4105440"/>
            <a:ext cx="35892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708360" y="4221000"/>
            <a:ext cx="93672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cxnSp>
        <p:nvCxnSpPr>
          <p:cNvPr id="649" name=""/>
          <p:cNvCxnSpPr>
            <a:stCxn id="648" idx="7"/>
            <a:endCxn id="647" idx="1"/>
          </p:cNvCxnSpPr>
          <p:nvPr/>
        </p:nvCxnSpPr>
        <p:spPr>
          <a:xfrm flipH="1" flipV="1" rot="5400000">
            <a:off x="5452920" y="3193200"/>
            <a:ext cx="153000" cy="2042280"/>
          </a:xfrm>
          <a:prstGeom prst="curvedConnector5">
            <a:avLst>
              <a:gd name="adj1" fmla="val 271698"/>
              <a:gd name="adj2" fmla="val 50000"/>
              <a:gd name="adj3" fmla="val 271698"/>
            </a:avLst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650" name=""/>
          <p:cNvCxnSpPr>
            <a:stCxn id="643" idx="1"/>
            <a:endCxn id="644" idx="5"/>
          </p:cNvCxnSpPr>
          <p:nvPr/>
        </p:nvCxnSpPr>
        <p:spPr>
          <a:xfrm flipV="1" rot="16200000">
            <a:off x="5785920" y="2021760"/>
            <a:ext cx="2116800" cy="3050280"/>
          </a:xfrm>
          <a:prstGeom prst="curvedConnector5">
            <a:avLst>
              <a:gd name="adj1" fmla="val 49957"/>
              <a:gd name="adj2" fmla="val 50000"/>
              <a:gd name="adj3" fmla="val 49957"/>
            </a:avLst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651" name=""/>
          <p:cNvCxnSpPr>
            <a:stCxn id="645" idx="3"/>
            <a:endCxn id="646" idx="4"/>
          </p:cNvCxnSpPr>
          <p:nvPr/>
        </p:nvCxnSpPr>
        <p:spPr>
          <a:xfrm flipV="1" rot="16200000">
            <a:off x="4270680" y="190800"/>
            <a:ext cx="442080" cy="4793400"/>
          </a:xfrm>
          <a:prstGeom prst="curvedConnector5">
            <a:avLst>
              <a:gd name="adj1" fmla="val -61450"/>
              <a:gd name="adj2" fmla="val 50000"/>
              <a:gd name="adj3" fmla="val -61450"/>
            </a:avLst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40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 details: :Base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1E76-5A96-4D56-8768-17414CD565A3}" type="slidenum">
              <a:t>9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324000" y="429264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68360" y="1700280"/>
            <a:ext cx="532764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Base is used to call base function like :base is used to call the constructor with an argument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is is used when the base function is shadowed by a class member. As in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in1←⎕new derivedClas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in1.sqr 20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40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 details: ⎕Base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2"/>
          <a:stretch/>
        </p:blipFill>
        <p:spPr>
          <a:xfrm>
            <a:off x="6156360" y="1557360"/>
            <a:ext cx="1866960" cy="2133720"/>
          </a:xfrm>
          <a:prstGeom prst="rect">
            <a:avLst/>
          </a:prstGeom>
          <a:ln w="0">
            <a:noFill/>
          </a:ln>
        </p:spPr>
      </p:pic>
      <p:pic>
        <p:nvPicPr>
          <p:cNvPr id="657" name="" descr=""/>
          <p:cNvPicPr/>
          <p:nvPr/>
        </p:nvPicPr>
        <p:blipFill>
          <a:blip r:embed="rId3"/>
          <a:stretch/>
        </p:blipFill>
        <p:spPr>
          <a:xfrm>
            <a:off x="5651640" y="3789360"/>
            <a:ext cx="2952720" cy="233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DB98-4FF9-4C16-8646-7478C5EE1FC9}" type="slidenum">
              <a:t>9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324000" y="429264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68360" y="1700280"/>
            <a:ext cx="532764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Override and overridable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se concepts allow a base class code to be overridden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 following slides will attempt to explain this in more details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40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 detail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E45F-1FD6-4E14-A346-6F1CEA56DAE4}" type="slidenum">
              <a:t>9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Non-Based class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pic>
        <p:nvPicPr>
          <p:cNvPr id="662" name="" descr=""/>
          <p:cNvPicPr/>
          <p:nvPr/>
        </p:nvPicPr>
        <p:blipFill>
          <a:blip r:embed="rId2"/>
          <a:stretch/>
        </p:blipFill>
        <p:spPr>
          <a:xfrm>
            <a:off x="1023840" y="1628640"/>
            <a:ext cx="2746440" cy="3456000"/>
          </a:xfrm>
          <a:prstGeom prst="rect">
            <a:avLst/>
          </a:prstGeom>
          <a:ln w="0">
            <a:noFill/>
          </a:ln>
        </p:spPr>
      </p:pic>
      <p:pic>
        <p:nvPicPr>
          <p:cNvPr id="663" name="" descr=""/>
          <p:cNvPicPr/>
          <p:nvPr/>
        </p:nvPicPr>
        <p:blipFill>
          <a:blip r:embed="rId3"/>
          <a:stretch/>
        </p:blipFill>
        <p:spPr>
          <a:xfrm>
            <a:off x="5219640" y="1628640"/>
            <a:ext cx="2737080" cy="3456000"/>
          </a:xfrm>
          <a:prstGeom prst="rect">
            <a:avLst/>
          </a:prstGeom>
          <a:ln w="0">
            <a:noFill/>
          </a:ln>
        </p:spPr>
      </p:pic>
      <p:sp>
        <p:nvSpPr>
          <p:cNvPr id="664" name=""/>
          <p:cNvSpPr/>
          <p:nvPr/>
        </p:nvSpPr>
        <p:spPr>
          <a:xfrm>
            <a:off x="1087560" y="5300640"/>
            <a:ext cx="25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 calls its own M2: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(⎕NEW A).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335560" y="5276880"/>
            <a:ext cx="25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 calls its own M2: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(⎕NEW B).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B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DD04-DAF5-46F5-A000-9A0E37CDA18B}" type="slidenum">
              <a:t>9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6T02:30:52Z</dcterms:created>
  <dc:creator>DanB</dc:creator>
  <dc:description/>
  <dc:language>en-US</dc:language>
  <cp:lastModifiedBy>DanB</cp:lastModifiedBy>
  <dcterms:modified xsi:type="dcterms:W3CDTF">2006-10-18T07:19:36Z</dcterms:modified>
  <cp:revision>87</cp:revision>
  <dc:subject/>
  <dc:title>OO Obj OR pgm</dc:title>
</cp:coreProperties>
</file>