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6.wmf" ContentType="image/x-wmf"/>
  <Override PartName="/ppt/media/image18.wmf" ContentType="image/x-wmf"/>
  <Override PartName="/ppt/media/image83.wmf" ContentType="image/x-wmf"/>
  <Override PartName="/ppt/media/image48.png" ContentType="image/png"/>
  <Override PartName="/ppt/media/image63.png" ContentType="image/png"/>
  <Override PartName="/ppt/media/image64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73.png" ContentType="image/png"/>
  <Override PartName="/ppt/media/image61.png" ContentType="image/png"/>
  <Override PartName="/ppt/media/image96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5.wmf" ContentType="image/x-wmf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0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80.png" ContentType="image/png"/>
  <Override PartName="/ppt/media/image15.png" ContentType="image/png"/>
  <Override PartName="/ppt/media/image29.png" ContentType="image/png"/>
  <Override PartName="/ppt/media/image94.png" ContentType="image/png"/>
  <Override PartName="/ppt/media/image2.wmf" ContentType="image/x-wmf"/>
  <Override PartName="/ppt/media/image57.png" ContentType="image/png"/>
  <Override PartName="/ppt/media/image14.wmf" ContentType="image/x-wmf"/>
  <Override PartName="/ppt/media/image24.png" ContentType="image/png"/>
  <Override PartName="/ppt/media/image11.png" ContentType="image/png"/>
  <Override PartName="/ppt/media/image90.png" ContentType="image/png"/>
  <Override PartName="/ppt/media/image25.png" ContentType="image/png"/>
  <Override PartName="/ppt/media/image53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EDFA-644A-42E5-BA75-671568DED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itself written in A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we don't resave the work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reated an "empty" directory – notice how / is used instead of \ , svn understand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need to use specific utilities we can include them separated by a semi-colon. The –permanent switch is to make it …permanent!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)SAVE the workspace it will remember we won't have to do it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 them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body interfering with anybody else (unless they work on the same scr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subversio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requires subversion to be 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B6D3-4F16-461E-8849-DDFC4E4A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DA4-A5C9-4175-B7B5-FD6819D9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D48-2B7A-4017-8ADF-B859205B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8EA-C092-4E95-ADF5-2F785C8F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CB27-C0D6-469D-91DE-FCAA528A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27D1-A397-412C-91BD-16B06156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1817-FA18-4E3A-A9B2-EE7EF638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6B56-C7D1-4A83-BF4B-7414E2CF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62DE-B8BC-47DD-A6C2-3834273E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B6C7-EDB3-4CCB-9C07-E0A62EA7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1CDF-9F8A-46DC-9372-F2A2DC51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57D-2025-4C07-B5FD-5434B1C2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88E8-E3C1-4B60-8F84-1563B205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4383-6B97-40AF-A4DC-1D580CAA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A035-74A5-4FA9-8224-00937E0C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4681-C895-4456-B986-36CD650A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3901-5917-457C-A72E-3C7C0734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FF6-01D1-4275-932E-FCF4B38F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53E-9091-4224-A24F-387FDF81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E16-6761-4E2E-97C5-42AB81DE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B16-D460-4004-84B7-A34C30B8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9C3-9A1E-44F2-950A-BFA647DD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3E9-BF8D-429A-98E0-702625C5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9D4-717C-4473-BA13-FD581441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4144-485A-47A8-89B7-FC85D701536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C742-0283-4EAD-AE90-546AE7F6C0A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914400" algn="ctr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Genev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and 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handle projects using version controlled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4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a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5560" y="1557360"/>
            <a:ext cx="8507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nsists in a series of functions stored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to manipulate the source (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RC) of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ource code for each object (class or namespace) is stored in a single Unicode text file with a file extension of “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r>
              <a:rPr b="1" i="1" lang="en-US" sz="3200" spc="-1" strike="noStrike">
                <a:solidFill>
                  <a:srgbClr val="333333"/>
                </a:solidFill>
                <a:latin typeface="Geneva"/>
              </a:rPr>
              <a:t>dyalog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functions take 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o their 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completely 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rgumen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r th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671480" y="2658960"/>
            <a:ext cx="5801040" cy="40100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53324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ome of those utilities relate to Version Contro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y are grouped under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690560" y="5761080"/>
            <a:ext cx="6494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ntax is similar to the command line 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ly the names have been changed (slight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4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project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2114640" y="2728800"/>
            <a:ext cx="46814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30351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suppose we have a repository he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5454360" cy="34736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3708360" y="2997360"/>
            <a:ext cx="18716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6923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2557440" y="2060640"/>
            <a:ext cx="5399280" cy="399744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3456000" cy="3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1" name=""/>
          <p:cNvSpPr/>
          <p:nvPr/>
        </p:nvSpPr>
        <p:spPr>
          <a:xfrm>
            <a:off x="4213080" y="3500280"/>
            <a:ext cx="1079640" cy="12002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rot="19881000">
            <a:off x="2770560" y="4714920"/>
            <a:ext cx="1424160" cy="442800"/>
          </a:xfrm>
          <a:custGeom>
            <a:avLst/>
            <a:gdLst>
              <a:gd name="textAreaLeft" fmla="*/ 222480 w 1424160"/>
              <a:gd name="textAreaRight" fmla="*/ 1246320 w 1424160"/>
              <a:gd name="textAreaTop" fmla="*/ 110520 h 442800"/>
              <a:gd name="textAreaBottom" fmla="*/ 332280 h 44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92360" y="357336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2494800">
            <a:off x="5246280" y="4797000"/>
            <a:ext cx="1413000" cy="441360"/>
          </a:xfrm>
          <a:custGeom>
            <a:avLst/>
            <a:gdLst>
              <a:gd name="textAreaLeft" fmla="*/ 220680 w 1413000"/>
              <a:gd name="textAreaRight" fmla="*/ 1236600 w 141300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835280" y="522936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093080" y="306864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516720" y="544500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20552400">
            <a:off x="5535360" y="3573360"/>
            <a:ext cx="1412640" cy="441360"/>
          </a:xfrm>
          <a:custGeom>
            <a:avLst/>
            <a:gdLst>
              <a:gd name="textAreaLeft" fmla="*/ 220680 w 1412640"/>
              <a:gd name="textAreaRight" fmla="*/ 1236240 w 141264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 rot="163800">
            <a:off x="2699280" y="3716280"/>
            <a:ext cx="1423800" cy="442440"/>
          </a:xfrm>
          <a:custGeom>
            <a:avLst/>
            <a:gdLst>
              <a:gd name="textAreaLeft" fmla="*/ 222480 w 1423800"/>
              <a:gd name="textAreaRight" fmla="*/ 1245960 w 1423800"/>
              <a:gd name="textAreaTop" fmla="*/ 110520 h 442440"/>
              <a:gd name="textAreaBottom" fmla="*/ 331920 h 442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3979800" y="1515960"/>
            <a:ext cx="4824360" cy="363384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31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3995640" y="1515960"/>
            <a:ext cx="32403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746280" y="1424160"/>
            <a:ext cx="29620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already sets up our working directory for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6" name=""/>
          <p:cNvSpPr/>
          <p:nvPr/>
        </p:nvSpPr>
        <p:spPr>
          <a:xfrm>
            <a:off x="663480" y="4313160"/>
            <a:ext cx="32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rm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c4a46"/>
                </a:solidFill>
                <a:latin typeface="Arial"/>
              </a:rPr>
              <a:t>sett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922560" y="1577880"/>
            <a:ext cx="4753080" cy="35798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755880" y="3716280"/>
            <a:ext cx="1368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3924360" y="1573200"/>
            <a:ext cx="3168720" cy="29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3" name=""/>
          <p:cNvSpPr/>
          <p:nvPr/>
        </p:nvSpPr>
        <p:spPr>
          <a:xfrm>
            <a:off x="3546360" y="4316400"/>
            <a:ext cx="122580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3384360" cy="3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968720" cy="374364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1692360" y="2471760"/>
            <a:ext cx="547200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a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functions are monadic. The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lasses in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i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xpl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rot="232800">
            <a:off x="6587640" y="1483920"/>
            <a:ext cx="237672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968720" cy="374364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692360" y="2482920"/>
            <a:ext cx="5545080" cy="3610080"/>
            <a:chOff x="1692360" y="2482920"/>
            <a:chExt cx="5545080" cy="3610080"/>
          </a:xfrm>
        </p:grpSpPr>
        <p:pic>
          <p:nvPicPr>
            <p:cNvPr id="663" name="" descr=""/>
            <p:cNvPicPr/>
            <p:nvPr/>
          </p:nvPicPr>
          <p:blipFill>
            <a:blip r:embed="rId2"/>
            <a:stretch/>
          </p:blipFill>
          <p:spPr>
            <a:xfrm>
              <a:off x="1692360" y="248292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3295800" y="336564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76920" y="434016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1692360" y="2489040"/>
            <a:ext cx="5472000" cy="350712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316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967280" cy="356724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3502080" y="1557360"/>
            <a:ext cx="3384360" cy="3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l life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international APL code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Proj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 of svn under Spice is just another possibilit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hoice to use the shell commands, TortoiseSVN or Spice is a personal mat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 is important is to ensure proper synchronisation between team members and subversion provides just th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ait, how do I use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should have been supplied with a memory stick containing all the necessary code: subversion, TortoiseSVN, the new SALT/SPICE files and work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should be found under folder "SALT &amp; Subversion"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will also find there a presentation on how to convert a V10 app into V11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85160" y="44280"/>
            <a:ext cx="1973160" cy="2016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stores source in Unicod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UCS-2) files whose extension i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Window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V11 instal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ecause of compatibility with Unix, the naming of the files is case sensi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5080" y="1484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NO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pecial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requirements (not even .Ne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11 is the minimum version SALT will run und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needs to be enabled to us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packaged and comes in already available with V1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ucked away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, this means you can )LOAD and run any workspace any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 namespace use Save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myns   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bring in a namespace use Load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ing a scri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716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a script with a stac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happen if you modify a function of a class on the sta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530280"/>
            <a:ext cx="87138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and KEEP several versions of a scrip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using 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–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odifier you tell SALT to start using version number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763640" y="3933720"/>
            <a:ext cx="5760720" cy="2303280"/>
            <a:chOff x="1763640" y="3933720"/>
            <a:chExt cx="5760720" cy="230328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1763640" y="3933720"/>
              <a:ext cx="57607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205240" y="4906440"/>
              <a:ext cx="128124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84560" y="4712760"/>
              <a:ext cx="96156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04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time you modify a script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s the definition in a new f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042920" y="3395520"/>
            <a:ext cx="3387960" cy="2787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62908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252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4292640"/>
            <a:ext cx="143964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167" name="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280" y="2216160"/>
            <a:ext cx="777708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how the difference between 2 versions of a script, either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tively, using APL, 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Unicode comparison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7622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lications have to be maintained whether they are written in APL or no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have to keep track of changes to know who's done what and wh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must be able to undo chang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ly cope with (large) system related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175" name="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2400" y="2000160"/>
            <a:ext cx="75103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‘APL’ is the method chosen to compare,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output will appear in the session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470880" y="2922480"/>
            <a:ext cx="8009640" cy="3314880"/>
            <a:chOff x="470880" y="2922480"/>
            <a:chExt cx="8009640" cy="3314880"/>
          </a:xfrm>
        </p:grpSpPr>
        <p:grpSp>
          <p:nvGrpSpPr>
            <p:cNvPr id="183" name=""/>
            <p:cNvGrpSpPr/>
            <p:nvPr/>
          </p:nvGrpSpPr>
          <p:grpSpPr>
            <a:xfrm>
              <a:off x="3203640" y="2922480"/>
              <a:ext cx="5276880" cy="3314880"/>
              <a:chOff x="3203640" y="2922480"/>
              <a:chExt cx="5276880" cy="3314880"/>
            </a:xfrm>
          </p:grpSpPr>
          <p:pic>
            <p:nvPicPr>
              <p:cNvPr id="1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922480"/>
                <a:ext cx="527688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3203640" y="436248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03640" y="497376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75600" y="436248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inser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356880" y="4960800"/>
                <a:ext cx="15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modifi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5940360" y="51544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940360" y="45594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70880" y="4217760"/>
              <a:ext cx="2210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ser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←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e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00360" y="443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00360" y="44337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00360" y="4433760"/>
              <a:ext cx="503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00360" y="52261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324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any more featur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UNIX read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mes with tools of its ow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extended easily by adding your own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limit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small applications it may be sufficient to keep all code on file managed by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arger apps this is clearly inadequat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What is Version Control (VC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8272440" cy="40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C is a good way to ensure team members of a project don't step over each others' to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 a large project it is imperative to use V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, time (and money) will be lost trying to recover from coordination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usually start by importing an existing system (a set of files) into a version control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205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35280" y="378936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files can then be forgo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3429000"/>
            <a:ext cx="151164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76360" y="3429000"/>
            <a:ext cx="1800360" cy="129528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403280" y="2997360"/>
            <a:ext cx="1944720" cy="1944360"/>
            <a:chOff x="1403280" y="2997360"/>
            <a:chExt cx="1944720" cy="1944360"/>
          </a:xfrm>
        </p:grpSpPr>
        <p:sp>
          <p:nvSpPr>
            <p:cNvPr id="213" name=""/>
            <p:cNvSpPr/>
            <p:nvPr/>
          </p:nvSpPr>
          <p:spPr>
            <a:xfrm>
              <a:off x="1403280" y="2997360"/>
              <a:ext cx="1944720" cy="194436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76160" y="3305520"/>
              <a:ext cx="1388880" cy="138852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737000" y="3256920"/>
              <a:ext cx="1333800" cy="14432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checkout a subset to work wi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219" name="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b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rot="19881000">
              <a:off x="4066560" y="4220640"/>
              <a:ext cx="1800000" cy="576360"/>
            </a:xfrm>
            <a:custGeom>
              <a:avLst/>
              <a:gdLst>
                <a:gd name="textAreaLeft" fmla="*/ 281160 w 1800000"/>
                <a:gd name="textAreaRight" fmla="*/ 1575000 w 180000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731960" y="2781360"/>
            <a:ext cx="1728720" cy="1728720"/>
            <a:chOff x="1731960" y="2781360"/>
            <a:chExt cx="1728720" cy="1728720"/>
          </a:xfrm>
        </p:grpSpPr>
        <p:sp>
          <p:nvSpPr>
            <p:cNvPr id="224" name=""/>
            <p:cNvSpPr/>
            <p:nvPr/>
          </p:nvSpPr>
          <p:spPr>
            <a:xfrm>
              <a:off x="1731960" y="2781360"/>
              <a:ext cx="1728720" cy="172872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74600" y="3055320"/>
              <a:ext cx="1234440" cy="12344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028960" y="3012120"/>
              <a:ext cx="1185840" cy="128340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work on the subset for a wh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4508640"/>
            <a:ext cx="1698480" cy="167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are using SALT you maintain the files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508464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5280" y="2708280"/>
            <a:ext cx="2376360" cy="1368360"/>
          </a:xfrm>
          <a:prstGeom prst="flowChartPredefinedProcess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alog 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8835800">
            <a:off x="4032000" y="4365000"/>
            <a:ext cx="1079640" cy="432000"/>
          </a:xfrm>
          <a:prstGeom prst="leftRightArrow">
            <a:avLst>
              <a:gd name="adj1" fmla="val 50000"/>
              <a:gd name="adj2" fmla="val 497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once in a while you update the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9466200">
            <a:off x="4104720" y="4365360"/>
            <a:ext cx="1800000" cy="57600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s have been maintained using a combination of workspace and external datab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5280" y="3787920"/>
            <a:ext cx="5471640" cy="1585440"/>
            <a:chOff x="1835280" y="3787920"/>
            <a:chExt cx="5471640" cy="1585440"/>
          </a:xfrm>
        </p:grpSpPr>
        <p:sp>
          <p:nvSpPr>
            <p:cNvPr id="98" name=""/>
            <p:cNvSpPr/>
            <p:nvPr/>
          </p:nvSpPr>
          <p:spPr>
            <a:xfrm>
              <a:off x="1835280" y="3900600"/>
              <a:ext cx="1293840" cy="14727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18120" y="3787920"/>
              <a:ext cx="2188800" cy="158544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29120" y="4694400"/>
              <a:ext cx="19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the repository is in a stable state you may produce a new releas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245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9b7ba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ew rel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3634920" y="386028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VC systems ou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mention a few: PerForce, ClearCase, Visual SourceSafe, CVS and 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ll have qualities and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following slides we'll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an examp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popular open source program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well documented, has a large user base 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bver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version control system for Unix and Window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independent of any file system or file types to man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98984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es in command line (shell) m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Mo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mands involve program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or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m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o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in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ex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are many more commands in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 subversion.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handle updates, conflicts, allow to see differences between vers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mplete list is extensive but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lso a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front-end is completely separate but closely integrated to the GUI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's name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ortoiseSVN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MUST be installed for it to ru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fferent people prefer different thing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ndows users may choose the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ix users may prefer the shell environ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users might prefer to stay in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the results will be the same: better coordination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workspace named 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ritten in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top level namespaces in which there are 5 (nested)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Master: 2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Troopers: 3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kes porting code or even sharing snippets of it difficu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7280" y="2565360"/>
            <a:ext cx="6913800" cy="3240000"/>
            <a:chOff x="1187280" y="2565360"/>
            <a:chExt cx="6913800" cy="3240000"/>
          </a:xfrm>
        </p:grpSpPr>
        <p:sp>
          <p:nvSpPr>
            <p:cNvPr id="268" name=""/>
            <p:cNvSpPr/>
            <p:nvPr/>
          </p:nvSpPr>
          <p:spPr>
            <a:xfrm>
              <a:off x="1187280" y="2565360"/>
              <a:ext cx="6913800" cy="324000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66480" y="287712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6480" y="430956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69520" y="3562200"/>
              <a:ext cx="10173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90640" y="3562200"/>
              <a:ext cx="9471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48560" y="4995000"/>
              <a:ext cx="74556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1032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7944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82240" y="4309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oo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58920" y="284004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13800" y="152388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7 namespaces, 5 of which are n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ext files for the namespaces has several benefi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visualize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aintai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sha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need to have the interpret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create the following folder named </a:t>
            </a:r>
            <a:r>
              <a:rPr b="1" lang="en-GB" sz="3200" spc="-1" strike="noStrike">
                <a:solidFill>
                  <a:srgbClr val="ff6600"/>
                </a:solidFill>
                <a:latin typeface="Geneva"/>
              </a:rPr>
              <a:t>\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folders and 5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Master: 2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Troopers: 3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 we will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conversion tools to transform the non-scripted namespaces into scripted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&lt;Save&gt; function to store the scripted namespaces to the \ROBOTS subfold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we wi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Code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PL385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  \ROBOTS\Troopers\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is the final result in Explorer view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6814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here is what 'Pound' looks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779480" y="2284560"/>
            <a:ext cx="554508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256360" cy="37098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692360" y="2959200"/>
            <a:ext cx="374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then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system (ROBOTS)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84360" y="2432160"/>
            <a:ext cx="7632720" cy="3012840"/>
            <a:chOff x="684360" y="2432160"/>
            <a:chExt cx="7632720" cy="301284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684360" y="2432160"/>
              <a:ext cx="7632720" cy="30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826920" y="2884320"/>
              <a:ext cx="496728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303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35280" y="378936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the wider acceptance of Unicode it has become easier to shar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code can now be cut &amp; pasted and viewed in Notepad or other Unicode compliant edi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t can be shar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source is no longer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get rid of it (or back it up) </a:t>
            </a:r>
            <a:r>
              <a:rPr b="0" lang="en-GB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465800" cy="3139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 rot="5400000">
            <a:off x="3598560" y="3536640"/>
            <a:ext cx="172908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0904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0904"/>
              </a:solidFill>
              <a:latin typeface="Arial Black"/>
              <a:ea typeface="Arial Black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826920" y="2692440"/>
            <a:ext cx="6840720" cy="3017880"/>
            <a:chOff x="826920" y="2692440"/>
            <a:chExt cx="6840720" cy="301788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1187280" y="2692440"/>
              <a:ext cx="6480360" cy="30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26920" y="3189240"/>
              <a:ext cx="655344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318" name="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rot="19881000">
              <a:off x="4066560" y="4220640"/>
              <a:ext cx="1800000" cy="576360"/>
            </a:xfrm>
            <a:custGeom>
              <a:avLst/>
              <a:gdLst>
                <a:gd name="textAreaLeft" fmla="*/ 281160 w 1800000"/>
                <a:gd name="textAreaRight" fmla="*/ 1575000 w 180000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r>
                <a:rPr b="0" lang="en-GB" sz="6000" spc="-1" strike="noStrike">
                  <a:solidFill>
                    <a:srgbClr val="de0904"/>
                  </a:solidFill>
                  <a:latin typeface="Arial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46040" y="20080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84072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also state where the working folder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we specify to use ou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84072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wards, when we 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87280" y="2928960"/>
            <a:ext cx="6985080" cy="2805120"/>
            <a:chOff x="1187280" y="2928960"/>
            <a:chExt cx="6985080" cy="280512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187280" y="2928960"/>
              <a:ext cx="698508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1476360" y="4437000"/>
              <a:ext cx="64944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763640" y="2424240"/>
            <a:ext cx="5545080" cy="36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763640" y="2421000"/>
            <a:ext cx="5545080" cy="3610080"/>
            <a:chOff x="1763640" y="2421000"/>
            <a:chExt cx="5545080" cy="3610080"/>
          </a:xfrm>
        </p:grpSpPr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>
              <a:off x="1763640" y="242100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367080" y="330372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48200" y="427824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introduced the OO concept of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(and similar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namesp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can be edited in script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definitions, including functions in them, can be edi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626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048720" cy="31831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932280" y="4192560"/>
            <a:ext cx="1000080" cy="216000"/>
          </a:xfrm>
          <a:prstGeom prst="rect">
            <a:avLst/>
          </a:prstGeom>
          <a:gradFill rotWithShape="0">
            <a:gsLst>
              <a:gs pos="0">
                <a:srgbClr val="3333cc">
                  <a:alpha val="54117"/>
                </a:srgbClr>
              </a:gs>
              <a:gs pos="100000">
                <a:srgbClr val="3333cc">
                  <a:alpha val="5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908000" y="2133720"/>
            <a:ext cx="5328000" cy="3738600"/>
            <a:chOff x="1908000" y="2133720"/>
            <a:chExt cx="5328000" cy="373860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1908000" y="213372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798720" y="420228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59280" y="314208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go back to the original workspace to work from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CS  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.SALT.Load 'Troopers/Pound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in updated script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3" name=""/>
          <p:cNvSpPr/>
          <p:nvPr/>
        </p:nvSpPr>
        <p:spPr>
          <a:xfrm>
            <a:off x="611280" y="2492280"/>
            <a:ext cx="4824360" cy="31687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27280" y="3933720"/>
            <a:ext cx="205740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92680" y="4005360"/>
            <a:ext cx="6793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92680" y="4941720"/>
            <a:ext cx="671400" cy="370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92680" y="4456080"/>
            <a:ext cx="671400" cy="371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43920" y="4437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27280" y="2709720"/>
            <a:ext cx="2067120" cy="94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82880" y="2819520"/>
            <a:ext cx="72072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770280" y="3259080"/>
            <a:ext cx="73044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76680" y="29638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72360" y="1989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51640" y="2637000"/>
            <a:ext cx="1008000" cy="86328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372360" y="3645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4437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72360" y="515772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>
            <a:stCxn id="390" idx="3"/>
            <a:endCxn id="393" idx="1"/>
          </p:cNvCxnSpPr>
          <p:nvPr/>
        </p:nvCxnSpPr>
        <p:spPr>
          <a:xfrm flipV="1">
            <a:off x="4503240" y="2420640"/>
            <a:ext cx="18694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"/>
          <p:cNvCxnSpPr>
            <a:stCxn id="391" idx="3"/>
            <a:endCxn id="394" idx="1"/>
          </p:cNvCxnSpPr>
          <p:nvPr/>
        </p:nvCxnSpPr>
        <p:spPr>
          <a:xfrm flipV="1">
            <a:off x="4500360" y="3068280"/>
            <a:ext cx="29516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0" name=""/>
          <p:cNvCxnSpPr>
            <a:stCxn id="386" idx="3"/>
            <a:endCxn id="397" idx="1"/>
          </p:cNvCxnSpPr>
          <p:nvPr/>
        </p:nvCxnSpPr>
        <p:spPr>
          <a:xfrm>
            <a:off x="4563720" y="5127480"/>
            <a:ext cx="180900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1" name=""/>
          <p:cNvCxnSpPr>
            <a:stCxn id="387" idx="3"/>
            <a:endCxn id="396" idx="1"/>
          </p:cNvCxnSpPr>
          <p:nvPr/>
        </p:nvCxnSpPr>
        <p:spPr>
          <a:xfrm>
            <a:off x="4563720" y="4641480"/>
            <a:ext cx="28882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2" name=""/>
          <p:cNvCxnSpPr>
            <a:stCxn id="385" idx="3"/>
            <a:endCxn id="395" idx="1"/>
          </p:cNvCxnSpPr>
          <p:nvPr/>
        </p:nvCxnSpPr>
        <p:spPr>
          <a:xfrm flipV="1">
            <a:off x="4571640" y="4076280"/>
            <a:ext cx="1801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6546240" y="1287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\apl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84720" y="1268280"/>
            <a:ext cx="259092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708360" y="2708280"/>
            <a:ext cx="1727280" cy="3457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y users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912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8" name=""/>
          <p:cNvSpPr/>
          <p:nvPr/>
        </p:nvSpPr>
        <p:spPr>
          <a:xfrm>
            <a:off x="903960" y="278136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working on 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60320" y="278136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working on Robo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5280" y="3583080"/>
            <a:ext cx="3098880" cy="226224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90560" y="461160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502000" y="4662360"/>
            <a:ext cx="436320" cy="2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2000" y="533088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2000" y="498492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05800" y="49068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90560" y="3736800"/>
            <a:ext cx="132732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32160" y="381636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24240" y="4129200"/>
            <a:ext cx="468360" cy="25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549440" y="3919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24360" y="3068640"/>
            <a:ext cx="6462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16280" y="3530520"/>
            <a:ext cx="648000" cy="61776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24360" y="4251240"/>
            <a:ext cx="646200" cy="615960"/>
          </a:xfrm>
          <a:prstGeom prst="flowChartDocument">
            <a:avLst/>
          </a:prstGeom>
          <a:solidFill>
            <a:srgbClr val="82c7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16280" y="4816440"/>
            <a:ext cx="6480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24360" y="5330880"/>
            <a:ext cx="646200" cy="617400"/>
          </a:xfrm>
          <a:prstGeom prst="flowChartDocument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"/>
          <p:cNvCxnSpPr>
            <a:stCxn id="417" idx="3"/>
            <a:endCxn id="420" idx="1"/>
          </p:cNvCxnSpPr>
          <p:nvPr/>
        </p:nvCxnSpPr>
        <p:spPr>
          <a:xfrm flipV="1">
            <a:off x="2895480" y="3377520"/>
            <a:ext cx="1029600" cy="564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21" idx="1"/>
          </p:cNvCxnSpPr>
          <p:nvPr/>
        </p:nvCxnSpPr>
        <p:spPr>
          <a:xfrm flipV="1">
            <a:off x="2892600" y="3839400"/>
            <a:ext cx="1724400" cy="415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7" name=""/>
          <p:cNvCxnSpPr>
            <a:stCxn id="413" idx="3"/>
            <a:endCxn id="424" idx="1"/>
          </p:cNvCxnSpPr>
          <p:nvPr/>
        </p:nvCxnSpPr>
        <p:spPr>
          <a:xfrm>
            <a:off x="2933640" y="5464080"/>
            <a:ext cx="991440" cy="177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8" name=""/>
          <p:cNvCxnSpPr>
            <a:stCxn id="414" idx="3"/>
            <a:endCxn id="423" idx="1"/>
          </p:cNvCxnSpPr>
          <p:nvPr/>
        </p:nvCxnSpPr>
        <p:spPr>
          <a:xfrm>
            <a:off x="2933640" y="5118120"/>
            <a:ext cx="1683360" cy="8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9" name=""/>
          <p:cNvCxnSpPr>
            <a:stCxn id="412" idx="3"/>
            <a:endCxn id="422" idx="1"/>
          </p:cNvCxnSpPr>
          <p:nvPr/>
        </p:nvCxnSpPr>
        <p:spPr>
          <a:xfrm flipV="1">
            <a:off x="2937960" y="4559040"/>
            <a:ext cx="9867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5651640" y="3573360"/>
            <a:ext cx="3098520" cy="2262240"/>
          </a:xfrm>
          <a:prstGeom prst="flowChartPredefinedProcess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48360" y="458136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97760" y="4653000"/>
            <a:ext cx="436680" cy="25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97760" y="5321160"/>
            <a:ext cx="431640" cy="265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97760" y="497520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79440" y="4862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46920" y="3727440"/>
            <a:ext cx="132696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27920" y="380700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20000" y="4119480"/>
            <a:ext cx="468360" cy="25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3440" y="3860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"/>
          <p:cNvCxnSpPr>
            <a:stCxn id="424" idx="3"/>
            <a:endCxn id="433" idx="1"/>
          </p:cNvCxnSpPr>
          <p:nvPr/>
        </p:nvCxnSpPr>
        <p:spPr>
          <a:xfrm flipV="1">
            <a:off x="4570560" y="5454360"/>
            <a:ext cx="25279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1" name=""/>
          <p:cNvCxnSpPr>
            <a:stCxn id="423" idx="3"/>
            <a:endCxn id="434" idx="1"/>
          </p:cNvCxnSpPr>
          <p:nvPr/>
        </p:nvCxnSpPr>
        <p:spPr>
          <a:xfrm flipV="1">
            <a:off x="5263920" y="5107680"/>
            <a:ext cx="1834200" cy="1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42" name=""/>
          <p:cNvCxnSpPr>
            <a:stCxn id="422" idx="3"/>
            <a:endCxn id="432" idx="1"/>
          </p:cNvCxnSpPr>
          <p:nvPr/>
        </p:nvCxnSpPr>
        <p:spPr>
          <a:xfrm>
            <a:off x="4570560" y="4559040"/>
            <a:ext cx="2527920" cy="22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43" name=""/>
          <p:cNvCxnSpPr>
            <a:stCxn id="421" idx="3"/>
            <a:endCxn id="438" idx="1"/>
          </p:cNvCxnSpPr>
          <p:nvPr/>
        </p:nvCxnSpPr>
        <p:spPr>
          <a:xfrm>
            <a:off x="5263920" y="3839760"/>
            <a:ext cx="1756440" cy="405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44" name=""/>
          <p:cNvCxnSpPr>
            <a:stCxn id="420" idx="3"/>
            <a:endCxn id="437" idx="1"/>
          </p:cNvCxnSpPr>
          <p:nvPr/>
        </p:nvCxnSpPr>
        <p:spPr>
          <a:xfrm>
            <a:off x="4570560" y="3377880"/>
            <a:ext cx="2458080" cy="554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900000" y="3068640"/>
            <a:ext cx="7201080" cy="2487600"/>
            <a:chOff x="900000" y="3068640"/>
            <a:chExt cx="7201080" cy="248760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900000" y="3068640"/>
              <a:ext cx="72010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1403280" y="3673440"/>
              <a:ext cx="266400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95800" y="427356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843280" y="3068640"/>
            <a:ext cx="4608360" cy="2735280"/>
            <a:chOff x="2843280" y="3068640"/>
            <a:chExt cx="4608360" cy="2735280"/>
          </a:xfrm>
        </p:grpSpPr>
        <p:sp>
          <p:nvSpPr>
            <p:cNvPr id="452" name="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rot="9466200">
              <a:off x="4104720" y="4365360"/>
              <a:ext cx="1800000" cy="576000"/>
            </a:xfrm>
            <a:custGeom>
              <a:avLst/>
              <a:gdLst>
                <a:gd name="textAreaLeft" fmla="*/ 281160 w 1800000"/>
                <a:gd name="textAreaRight" fmla="*/ 1575000 w 1800000"/>
                <a:gd name="textAreaTop" fmla="*/ 144000 h 576000"/>
                <a:gd name="textAreaBottom" fmla="*/ 432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329440" cy="33908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"/>
          <p:cNvSpPr/>
          <p:nvPr/>
        </p:nvSpPr>
        <p:spPr>
          <a:xfrm>
            <a:off x="3238560" y="3284640"/>
            <a:ext cx="43164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03640" y="3687840"/>
            <a:ext cx="360360" cy="36036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898560" y="2820960"/>
            <a:ext cx="7273800" cy="2664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..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4024440"/>
            <a:ext cx="50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inition of objects like classes can be retrieved and manipulated like the definition of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, like the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 of a function, it can be stored outside the workspace, e.g. in a text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28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116000" y="2637000"/>
            <a:ext cx="6905520" cy="3216240"/>
            <a:chOff x="1116000" y="2637000"/>
            <a:chExt cx="6905520" cy="3216240"/>
          </a:xfrm>
        </p:grpSpPr>
        <p:pic>
          <p:nvPicPr>
            <p:cNvPr id="467" name="" descr=""/>
            <p:cNvPicPr/>
            <p:nvPr/>
          </p:nvPicPr>
          <p:blipFill>
            <a:blip r:embed="rId1"/>
            <a:stretch/>
          </p:blipFill>
          <p:spPr>
            <a:xfrm>
              <a:off x="1116000" y="2637000"/>
              <a:ext cx="6905520" cy="32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187280" y="3179880"/>
              <a:ext cx="6337440" cy="43164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470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9b7ba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0800000">
              <a:off x="3634920" y="386028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RobotGame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836720" y="2708280"/>
            <a:ext cx="5183280" cy="33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26920" y="3860280"/>
            <a:ext cx="7629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An integrated disk Explorer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GUI front-end for subversion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3132000" y="1989000"/>
            <a:ext cx="2908440" cy="12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he same ROBOTS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6814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3898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 empty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ight click on the folder wan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repository here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124080" cy="24670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862520" cy="4896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5076720" y="2421000"/>
            <a:ext cx="3529080" cy="22035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3600720" cy="137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176720" cy="25797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562280" cy="42958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4362480" cy="32670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33228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3171600" cy="24480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3892680" y="1249200"/>
            <a:ext cx="3219480" cy="52470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2808360" cy="15224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527688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55640" y="2349360"/>
            <a:ext cx="7632720" cy="3065760"/>
            <a:chOff x="755640" y="2349360"/>
            <a:chExt cx="7632720" cy="306576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tretch/>
          </p:blipFill>
          <p:spPr>
            <a:xfrm>
              <a:off x="755640" y="2349360"/>
              <a:ext cx="763272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1096920" y="4024440"/>
              <a:ext cx="6494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3640" y="3222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OK, so, what is SALT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1692360" y="2471760"/>
            <a:ext cx="547200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692360" y="2482920"/>
            <a:ext cx="5545080" cy="3610080"/>
            <a:chOff x="1692360" y="2482920"/>
            <a:chExt cx="5545080" cy="3610080"/>
          </a:xfrm>
        </p:grpSpPr>
        <p:pic>
          <p:nvPicPr>
            <p:cNvPr id="526" name="" descr=""/>
            <p:cNvPicPr/>
            <p:nvPr/>
          </p:nvPicPr>
          <p:blipFill>
            <a:blip r:embed="rId2"/>
            <a:stretch/>
          </p:blipFill>
          <p:spPr>
            <a:xfrm>
              <a:off x="1692360" y="248292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3295800" y="336564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976920" y="434016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619280" y="2411280"/>
            <a:ext cx="6121440" cy="33940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grpSp>
        <p:nvGrpSpPr>
          <p:cNvPr id="549" name=""/>
          <p:cNvGrpSpPr/>
          <p:nvPr/>
        </p:nvGrpSpPr>
        <p:grpSpPr>
          <a:xfrm>
            <a:off x="1908000" y="2211480"/>
            <a:ext cx="5328000" cy="3738600"/>
            <a:chOff x="1908000" y="2211480"/>
            <a:chExt cx="5328000" cy="3738600"/>
          </a:xfrm>
        </p:grpSpPr>
        <p:pic>
          <p:nvPicPr>
            <p:cNvPr id="550" name="" descr=""/>
            <p:cNvPicPr/>
            <p:nvPr/>
          </p:nvPicPr>
          <p:blipFill>
            <a:blip r:embed="rId4"/>
            <a:stretch/>
          </p:blipFill>
          <p:spPr>
            <a:xfrm>
              <a:off x="1908000" y="221148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3798720" y="428004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59280" y="321984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files modified are marked using a special ic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39272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e can also ask to see the differen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4324320" cy="238140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3056040" y="1619280"/>
            <a:ext cx="435276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51640" y="62064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at is SAL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AL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A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PL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L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oolkit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s 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source cod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management system for Classes and script-based Namespaces in Dyalog APL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24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Here we are using a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party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44360" y="2266920"/>
            <a:ext cx="887256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hen happy we commit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4324320" cy="23810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3233880" y="1679400"/>
            <a:ext cx="4362480" cy="44578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320364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320040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3059280" y="2492280"/>
            <a:ext cx="5276520" cy="28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547640" y="2658960"/>
            <a:ext cx="5904000" cy="32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284720" y="1374840"/>
            <a:ext cx="4552920" cy="302904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394920" y="147492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4284720" y="1363680"/>
            <a:ext cx="4724280" cy="53053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4405320" y="1905120"/>
            <a:ext cx="4343400" cy="30477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168720" cy="1719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5"/>
          <a:stretch/>
        </p:blipFill>
        <p:spPr>
          <a:xfrm>
            <a:off x="3759120" y="2276640"/>
            <a:ext cx="527688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94920" y="1546200"/>
            <a:ext cx="84978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Army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1620720" y="2492280"/>
            <a:ext cx="5688000" cy="2906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689440" cy="290664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1908000" y="2211480"/>
            <a:ext cx="5328000" cy="3738600"/>
            <a:chOff x="1908000" y="2211480"/>
            <a:chExt cx="5328000" cy="3738600"/>
          </a:xfrm>
        </p:grpSpPr>
        <p:pic>
          <p:nvPicPr>
            <p:cNvPr id="585" name="" descr=""/>
            <p:cNvPicPr/>
            <p:nvPr/>
          </p:nvPicPr>
          <p:blipFill>
            <a:blip r:embed="rId3"/>
            <a:stretch/>
          </p:blipFill>
          <p:spPr>
            <a:xfrm>
              <a:off x="1908000" y="221148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798720" y="428004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59280" y="321984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Control Version environm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environment suits best your needs there is another alterna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PL alternative: drive svn from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sume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installed of cours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3492360" y="2924280"/>
            <a:ext cx="2089440" cy="146844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5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be initialized directly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608200" y="7650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is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535040" y="3232080"/>
            <a:ext cx="606132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906560" y="3051000"/>
            <a:ext cx="6121440" cy="30420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5992920" y="4278240"/>
            <a:ext cx="395280" cy="403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3529080" y="1484280"/>
            <a:ext cx="5435640" cy="466092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Geneva"/>
              </a:rPr>
              <a:t>Spice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68000" y="1782360"/>
            <a:ext cx="309564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get a list of all available commands you enter ‘?’ in the input are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511440" y="5425920"/>
            <a:ext cx="376200" cy="432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6:46:11Z</dcterms:created>
  <dc:creator>DanB</dc:creator>
  <dc:description/>
  <dc:language>en-US</dc:language>
  <cp:lastModifiedBy>DanB</cp:lastModifiedBy>
  <dcterms:modified xsi:type="dcterms:W3CDTF">2007-09-27T22:04:33Z</dcterms:modified>
  <cp:revision>60</cp:revision>
  <dc:subject/>
  <dc:title>SALT and subversion</dc:title>
</cp:coreProperties>
</file>