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7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86.png" ContentType="image/png"/>
  <Override PartName="/ppt/media/image42.png" ContentType="image/png"/>
  <Override PartName="/ppt/media/image39.png" ContentType="image/png"/>
  <Override PartName="/ppt/media/image61.wmf" ContentType="image/x-wmf"/>
  <Override PartName="/ppt/media/image38.png" ContentType="image/png"/>
  <Override PartName="/ppt/media/image37.png" ContentType="image/png"/>
  <Override PartName="/ppt/media/image36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85.wmf" ContentType="image/x-wmf"/>
  <Override PartName="/ppt/media/image13.png" ContentType="image/png"/>
  <Override PartName="/ppt/media/image1.png" ContentType="image/png"/>
  <Override PartName="/ppt/media/image7.wmf" ContentType="image/x-wmf"/>
  <Override PartName="/ppt/media/image19.wmf" ContentType="image/x-wmf"/>
  <Override PartName="/ppt/media/image49.png" ContentType="image/png"/>
  <Override PartName="/ppt/media/image12.png" ContentType="image/png"/>
  <Override PartName="/ppt/media/image50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8.wmf" ContentType="image/x-wmf"/>
  <Override PartName="/ppt/media/image70.png" ContentType="image/png"/>
  <Override PartName="/ppt/media/image65.png" ContentType="image/png"/>
  <Override PartName="/ppt/media/image66.png" ContentType="image/png"/>
  <Override PartName="/ppt/media/image89.png" ContentType="image/png"/>
  <Override PartName="/ppt/media/image28.png" ContentType="image/png"/>
  <Override PartName="/ppt/media/image93.png" ContentType="image/png"/>
  <Override PartName="/ppt/media/image76.wmf" ContentType="image/x-wmf"/>
  <Override PartName="/ppt/media/image25.png" ContentType="image/png"/>
  <Override PartName="/ppt/media/image90.png" ContentType="image/png"/>
  <Override PartName="/ppt/media/image88.png" ContentType="image/png"/>
  <Override PartName="/ppt/media/image67.png" ContentType="image/png"/>
  <Override PartName="/ppt/media/image87.wmf" ContentType="image/x-wmf"/>
  <Override PartName="/ppt/media/image10.png" ContentType="image/png"/>
  <Override PartName="/ppt/media/image47.png" ContentType="image/png"/>
  <Override PartName="/ppt/media/image84.png" ContentType="image/png"/>
  <Override PartName="/ppt/media/image79.wmf" ContentType="image/x-wmf"/>
  <Override PartName="/ppt/media/image77.wmf" ContentType="image/x-wmf"/>
  <Override PartName="/ppt/media/image75.png" ContentType="image/png"/>
  <Override PartName="/ppt/media/image6.wmf" ContentType="image/x-wmf"/>
  <Override PartName="/ppt/media/image74.png" ContentType="image/png"/>
  <Override PartName="/ppt/media/image5.wmf" ContentType="image/x-wmf"/>
  <Override PartName="/ppt/media/image73.png" ContentType="image/png"/>
  <Override PartName="/ppt/media/image4.wmf" ContentType="image/x-wmf"/>
  <Override PartName="/ppt/media/image72.wmf" ContentType="image/x-wmf"/>
  <Override PartName="/ppt/media/image69.png" ContentType="image/png"/>
  <Override PartName="/ppt/media/image71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83.png" ContentType="image/png"/>
  <Override PartName="/ppt/media/image82.png" ContentType="image/png"/>
  <Override PartName="/ppt/media/image17.png" ContentType="image/png"/>
  <Override PartName="/ppt/media/image81.png" ContentType="image/png"/>
  <Override PartName="/ppt/media/image16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2.jpeg" ContentType="image/jpeg"/>
  <Override PartName="/ppt/media/image31.png" ContentType="image/png"/>
  <Override PartName="/ppt/media/image58.png" ContentType="image/png"/>
  <Override PartName="/ppt/media/image3.wmf" ContentType="image/x-wmf"/>
  <Override PartName="/ppt/media/image35.wmf" ContentType="image/x-wmf"/>
  <Override PartName="/ppt/media/image78.png" ContentType="image/png"/>
  <Override PartName="/ppt/media/image91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CA88-370C-47F1-ADB6-FB2E7D602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E48-222C-4FC5-94DB-3206D139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2EF-5BF8-45BB-B96A-3443C5B0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3C9-7B3E-457F-8E8F-7CE712B9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2F3-88AE-4237-A1A9-23B33391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825-BE9C-4297-A32A-58C90DF5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2DE-20FC-490E-A94A-8B8E77F4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61B-39DB-4F65-924A-8D43F073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7BF-589F-4459-815A-1020E100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93E-0B7B-43E0-B604-B1762A22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623-15B4-41EB-B944-7ECA0528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2E6-8FF7-49FE-8F63-68F0567D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E76-62D9-4D50-8668-EC5F14E2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39CA-8165-4A4B-93B6-1547BBCEE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1.wmf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7A1-B459-49C2-9500-AE0CBA2238A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4B7-2387-492E-843B-F6D864F746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3238560" cy="1762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C20-CE35-413F-9978-F8B79649379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re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s. This is the only function to do so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713412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33400" y="4121280"/>
            <a:ext cx="1254240" cy="161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6680" y="4130640"/>
            <a:ext cx="358920" cy="142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3879720"/>
            <a:ext cx="358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E41-0095-4D95-A0B2-360C98F9DD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34120" cy="361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4105440"/>
            <a:ext cx="403380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3943440"/>
            <a:ext cx="934920" cy="14292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9280" y="3943440"/>
            <a:ext cx="358920" cy="142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BEF-261C-4676-8A5B-084F425965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is the value found initially in th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urce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BC1-0828-49FB-A943-ADD21267CA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1 and the registry key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Clas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1\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1\Classes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760" y="3860640"/>
            <a:ext cx="69850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3080" y="2814480"/>
            <a:ext cx="31672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5464080"/>
            <a:ext cx="87850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57A-DA86-4AFA-BD0C-8A5E918B8F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urce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970-4AD5-4427-87C1-5E0BC922F7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180-5B76-4A25-A9AF-90EC35B918C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258320" cy="3038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FDD-6F6A-45E2-84D3-F08A495F563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4200" y="1628640"/>
            <a:ext cx="79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5629320" cy="2838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1D9-FDE2-4BFD-8528-36D25F52662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Classes and script-based Namespaces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BE0-734D-4D15-B836-91ABE9228D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897520" cy="4378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94040" y="2608200"/>
            <a:ext cx="82548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603-2C4E-4DF6-BB90-725C486E710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E39-61EB-4005-8B3E-5C880D62FB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7DC-9640-4D86-9CE8-EE9B414FA1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8B4-E797-4285-A149-0D549B58060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9E0-832E-4DCD-BFAE-E5B0E9DD06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change the SALT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CM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 the modifi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06E-E050-4749-A510-98D421E69E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33A-6B9D-40B6-8F75-DE144F39E2B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current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912-0CE9-428F-B811-B6451DF2440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setting comes from the registry and is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ttings can be modified for the session and even saved back into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562-8CB8-4F51-887C-0CAE19DA5E5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 be a string. It may be 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398680" y="3068640"/>
            <a:ext cx="4334040" cy="362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6EA-FE54-46BD-9BF2-8806DB36B27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class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1B4-7494-4072-B25B-4D9E8CAB56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, 1 name or 1 name  followed by a value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27644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D51-1EE7-4B6F-AF21-759E3316965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1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070-F30C-44FA-869C-618BF4E2E5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500-6543-4736-9319-01A056238C9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203" name="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4305240" cy="2276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356000" y="4743360"/>
            <a:ext cx="9367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DEA-08BE-4397-A73D-2F1606490B95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213" name="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305240" cy="2276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56000" y="46720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AE9-8346-4C76-A360-AFBA2F78C9F7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another editor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D1B-6860-4EA6-8A2E-63F8E1A7F449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94480" y="184788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693-A561-4916-9289-6911D9C66EE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CCC-1702-4831-A5CC-A574F5BD7E9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83A-A29F-47A2-A612-16F88F2F653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124000" y="4076640"/>
            <a:ext cx="5181840" cy="19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219640" y="4897440"/>
            <a:ext cx="115272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4734000"/>
            <a:ext cx="8650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311-E4B3-42C5-BA72-C5AE47C998E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classe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575-7FA7-466A-B8CE-0BD1A535F9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3171960" cy="2610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7BB-AA1E-4D1F-B486-CC67677F270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4333680" cy="2190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33680" cy="1752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" y="3635280"/>
            <a:ext cx="73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you need to supply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4759200"/>
            <a:ext cx="71892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50562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17000" y="544500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tarted withou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ing the original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763640" y="5618160"/>
            <a:ext cx="367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8640" y="5516640"/>
            <a:ext cx="287640" cy="217440"/>
          </a:xfrm>
          <a:prstGeom prst="ellips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13040" y="429264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vers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211280" y="3141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356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A22-90C1-44E2-8976-021578C943A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79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BD8-4435-419F-A623-FEEA92581E0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ll use its own com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de to perform the compa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 or be set permanently in the reg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gistry key to use is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mpare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85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ED1-2992-481C-80B2-35297F8EF17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iece of software available from the net, you can set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mpare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91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63560" y="4660920"/>
            <a:ext cx="6077160" cy="150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211640" y="5373720"/>
            <a:ext cx="3240000" cy="144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64D-553B-4E41-ADCA-A9EBC5188AC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99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FD5-3EE0-4643-A83D-ED7AD94B88DB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304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A81-3A0A-4504-81C7-10CCA487553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4B1-E7C9-4EE9-84A3-5BD19A5D390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8C8-F150-4C9E-9698-D94CD6F9952F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CB0-F08C-4D46-AB85-1DE8054C5660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CS-2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V11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D93-CC03-48DD-BAEA-2A309E79BB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script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y become objects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script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0CF-9B90-430F-87C9-14246E227E3F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B1E-EB69-48C3-AF23-E25ED5369D9E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and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1E4-A303-4FAB-A92B-5BF3AE90263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4B5-35A7-4A06-97EC-C0080C39F45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A0D-77B8-4E21-BA58-6860C06A3CA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ADA-7F58-4ADF-875F-1302246C4ECD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list them in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ourceFol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Classes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90840" y="539280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943-E3FA-473E-AAE8-A852BC862E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32000" y="4332240"/>
            <a:ext cx="6985080" cy="1957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specify the directories via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 make it permane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6480" y="511668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508968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BCE-21DF-411F-B0EC-CA5359104AF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2E3-B705-469E-B34C-3DC682E323B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152-1408-425C-A999-0D3EC121E644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peci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V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313-E2A2-48D5-827B-577C4CF1CC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Uti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763640" y="2690640"/>
            <a:ext cx="6048360" cy="3475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700360" y="525780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40360" y="364500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F6B-0E1F-4BC1-BE1D-6720A92EA74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Calls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View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Xref  ⍝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995640" y="407664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154-BF96-48C5-B431-D6B966FCCD1D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the moment this file contains a namespace with fns to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624-3B0F-4884-903E-95519E799A9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⍺←⍵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01E-58B0-4EE8-BDC8-E1629FA53F4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([]NR ‘Fa’) compecv 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4B6-D1DB-41EF-B5FE-92AA66ADAB05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nv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yalog\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Code.Convert ‘mynamespac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90D-67C9-44B3-9B82-F7F9DFA20620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712-4857-41D3-A47A-D2920952CE2A}" type="slidenum">
              <a:t>6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2861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3C6-2941-48DE-99F3-0151B17F240B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BA6-E194-4440-95D2-8AAF01B76B56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E56-9507-45FD-89A0-6869F5A60DE7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NOT enabled when V11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it effective you must manually modify th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e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1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59280" y="4653000"/>
            <a:ext cx="302400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733-220B-4FCC-8AE2-A9096B3A4E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‘\[‘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‘[‘ is catenated to the left (remember to add the ‘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\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to prevent ‘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 from being interpreted as a regex symb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5F6-015B-4850-9C01-CDA6B69B0644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E12-2A5A-482A-9C49-EC313B0DEC71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fil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ist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ad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emoveversions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9FD-A3C6-4AFD-9AA4-08D35992AC77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E8D-CE1A-4168-B294-DAFBB0E42565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alls file f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E37-A0EA-4D97-A929-5A9F00387C2F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31C-1F13-4636-897C-57C7EE5CA6CF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C99-4C59-4ADB-97B6-BF05DFF3F77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s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02A-979D-441C-B310-29BCC92B6B2E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A34-822A-45BC-8AB8-9748365E6149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63000 w 287280"/>
              <a:gd name="textAreaRight" fmla="*/ 224280 w 287280"/>
              <a:gd name="textAreaTop" fmla="*/ 110520 h 503280"/>
              <a:gd name="textAreaBottom" fmla="*/ 3927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B60-BD9C-4B0E-8196-A08E07A6E88D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1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39640" y="3357720"/>
          <a:ext cx="8146800" cy="2768040"/>
        </p:xfrm>
        <a:graphic>
          <a:graphicData uri="http://schemas.openxmlformats.org/drawingml/2006/table">
            <a:tbl>
              <a:tblPr/>
              <a:tblGrid>
                <a:gridCol w="1752480"/>
                <a:gridCol w="2321280"/>
                <a:gridCol w="407304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Cla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0DA-961B-4160-A4F1-C4A7E6776B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89720 w 863280"/>
              <a:gd name="textAreaRight" fmla="*/ 673560 w 8632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790-E0A8-45D6-8110-1B847E0E92A3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340-6392-48D9-A86F-951154161D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7-05-14T21:15:20Z</dcterms:modified>
  <cp:revision>40</cp:revision>
  <dc:subject/>
  <dc:title>SALT in Dyalog</dc:title>
</cp:coreProperties>
</file>