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9A7-1836-48FE-A64A-241581D5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E2D-2FF3-4CA1-97BA-B663725C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C8F-B448-4933-B954-805B93FD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4F0-409D-4D1C-B48C-F01FD254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0F8-6467-461A-B3F4-AD77571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4FC-97CF-455B-8599-322A622B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FEF-5973-4D94-BF53-FAAC5CC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A39-E9CC-43C5-A44A-32D8A820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A35-7052-4730-9925-CB530C74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94D-446B-4B32-8992-2521C28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4EC-7B5F-44F8-AA42-FD86C521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01B-8D16-408B-A25A-7ED0613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2E7C-5D25-4500-9271-BFBCBF4D7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ing Microsoft DirectX .NET interface with Dyalog APL 11.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x Bala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s of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anorama head, tripod or monopod   and digital camera make a series of pictures capturing 360 degree from left to right and 180 degree from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titching software (PTGui), stitch series of pictures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67080" y="68580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8600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267080" y="373392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72200" y="1143000"/>
            <a:ext cx="266688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172200" y="4114800"/>
            <a:ext cx="2666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502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190188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6483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705720" y="2438280"/>
            <a:ext cx="1901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rinceton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en Kromberg for last minute acceptance of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Brown for helping me with VR tour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for suppor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rect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is a set of low-level APIs for creating games and other high-performance multimedia applications. It includes support for high-performance 2D and 3D graphics, sound, and in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DirectX for Managed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9 Active namespaces and 4 which are considered obso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.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PrivateImplementation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icrosoft.DirectX.Direct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L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ound during explor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 class object delegated to external environment from APL application is not “callable” (external environment can not call methods of that obj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s are not “correctly” described inside DirectX .NET interface so Dyalog APL is “confused” and rejects trying to run methods (Device creation method is 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not find a way to generate System.Type class from APL. C# uses “typeof” system function and alternative solution in APL is not obvi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the class can not be callback function for objects created insid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for all thos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# Class library, which will serve as alternative way of communication between APL and DirectX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utorials were repeated in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Video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Panorama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1 – Device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2 – Build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3 – Rotat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4 – 3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5 – Using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 Video play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directly with Dyalog APL and does not requir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ly plays a lot of 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 does not allow Class Methods to be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be placed on APL Form object and requiring .NET Form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s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3D cube inside Direct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8:27:34Z</dcterms:created>
  <dc:creator>Administrator</dc:creator>
  <dc:description/>
  <dc:language>en-US</dc:language>
  <cp:lastModifiedBy>Administrator</cp:lastModifiedBy>
  <dcterms:modified xsi:type="dcterms:W3CDTF">2007-11-21T18:43:00Z</dcterms:modified>
  <cp:revision>15</cp:revision>
  <dc:subject/>
  <dc:title>Exploring Microsoft DirectX .NET interface with Dyalog APL 11.0 </dc:title>
</cp:coreProperties>
</file>