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12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37.png" ContentType="image/png"/>
  <Override PartName="/ppt/media/image7.png" ContentType="image/png"/>
  <Override PartName="/ppt/media/image2.png" ContentType="image/png"/>
  <Override PartName="/ppt/media/image32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11EE-C6DC-43C0-91A8-6792544E2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2D1A-33CA-4B1B-98F3-58FCC1563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2260-F00A-463C-9059-36C24CC3A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3702-0CAC-479E-A3F7-983F25524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D254-3CEF-4441-8B92-A590351B4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E43F-0531-4484-A45F-2E99B5B43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753E-896D-4DEA-BABE-0025203C5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EB28-522D-41B9-9F1D-D397509A1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9B93-EF0A-4128-AFE8-7E8F8ACA0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469E-B17B-4C55-B512-05F5004F1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BF86-9F67-4CE7-97FB-85F1B5175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A498-887E-4663-8F68-51FBADC0B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a9aff"/>
                </a:solidFill>
                <a:latin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CAA17-0D80-4F74-AF8D-3570C4C00988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slideLayout" Target="../slideLayouts/slideLayout4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744560"/>
            <a:ext cx="777240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onverting workspaces  and using SALT &amp; </a:t>
            </a:r>
            <a:r>
              <a:rPr b="1" i="1" lang="en-US" sz="4400" spc="-1" strike="noStrike">
                <a:solidFill>
                  <a:srgbClr val="333333"/>
                </a:solidFill>
                <a:latin typeface="Geneva"/>
              </a:rPr>
              <a:t>subversion</a:t>
            </a: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 to maintain them.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5229000"/>
            <a:ext cx="6400800" cy="4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Geneva"/>
              </a:rPr>
              <a:t>V1.00</a:t>
            </a:r>
            <a:endParaRPr b="0" lang="en-US" sz="1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CAAC-C873-43EE-8AF1-4774EE5BEF4C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The simulator's structur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e workspace is divided into namespac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One namespace contains all the units' logic, here its name is 'R' (for Robots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ach unit's logic is also contained in a namespace whose name is the name of the unit (like CARLA or AI2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42E9-6FDD-42F4-BBAB-85160BF4BC6F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The simulator's structur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584360" y="1773360"/>
            <a:ext cx="5940360" cy="33192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008000" y="5300640"/>
            <a:ext cx="71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ere, namespa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s where all the Units' logic resi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C6DA-19DD-44D1-BBA4-BA91DF8A78F7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Updating the workspace 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s involves modifying individual units' code in their respective namespac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2640" indent="-33264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and resaving the entire workspace when finished with the chang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2640" indent="-33264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is prevents other users from updating the workspace at the same tim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01A7-E4FD-4FEA-96D0-CE2F08C195EC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Acceptable updating timeline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4" name=""/>
          <p:cNvSpPr/>
          <p:nvPr/>
        </p:nvSpPr>
        <p:spPr>
          <a:xfrm>
            <a:off x="1079640" y="3537000"/>
            <a:ext cx="612144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55600" y="327024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7960" y="1927080"/>
            <a:ext cx="123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ster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92640" y="4592520"/>
            <a:ext cx="122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ster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195640" y="2673360"/>
            <a:ext cx="0" cy="82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527280" y="2673360"/>
            <a:ext cx="0" cy="82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959280" y="3573360"/>
            <a:ext cx="0" cy="82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88000" y="3573360"/>
            <a:ext cx="0" cy="82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195640" y="2673360"/>
            <a:ext cx="13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959280" y="440064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rot="16200000">
            <a:off x="1686240" y="288180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rot="16200000">
            <a:off x="3451680" y="370836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3321720" y="28728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5400000">
            <a:off x="5482440" y="370008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374200" y="228744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283640" y="430380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D083-673A-4F41-B3D4-B34AB082FD55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099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Unacceptable updating timeline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1" name=""/>
          <p:cNvSpPr/>
          <p:nvPr/>
        </p:nvSpPr>
        <p:spPr>
          <a:xfrm>
            <a:off x="1079640" y="3537000"/>
            <a:ext cx="612144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455600" y="327024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85080" y="1927080"/>
            <a:ext cx="123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ster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92640" y="4592520"/>
            <a:ext cx="122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ster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709720" y="2673360"/>
            <a:ext cx="0" cy="82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041720" y="2673360"/>
            <a:ext cx="0" cy="82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16480" y="3573360"/>
            <a:ext cx="0" cy="82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245200" y="3573360"/>
            <a:ext cx="0" cy="82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709720" y="2673360"/>
            <a:ext cx="13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516480" y="440064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6200000">
            <a:off x="2200680" y="288180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rot="16200000">
            <a:off x="3008520" y="370836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400000">
            <a:off x="3836160" y="28728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s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5400000">
            <a:off x="5039280" y="370008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888280" y="228744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40840" y="430380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049640" y="3537000"/>
            <a:ext cx="118764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918880" y="5035680"/>
            <a:ext cx="590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ster A's changes are overwritten by Tester B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ven if the namespace changed is diffe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888D-0702-443B-BD0B-DFCF996987E1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racking chang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nother problem with this model is that changes are irreversibl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ven tracking changes is difficult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inding differences in code is hard to document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7F8A-3A08-49AF-A74C-78D5C5C80F01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Dyalog V11.0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2400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is version allows namespaces to exist in script format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nstead of having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780000" y="2733840"/>
            <a:ext cx="5148000" cy="3259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208F-7D1F-4766-9A8B-F4F90E6C1E8E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Dyalog V11.0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23640" y="1736640"/>
            <a:ext cx="2841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You can have everything in script form, including the definition of variabl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743280" y="1622520"/>
            <a:ext cx="5067360" cy="45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21C4-53FE-4100-8D22-5385D3D11B45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cripts fil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8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Keeping namespaces in scripted form allows to save them in (Unicode) text files outside the workspac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1511280" y="3933720"/>
            <a:ext cx="5832360" cy="1656000"/>
            <a:chOff x="1511280" y="3933720"/>
            <a:chExt cx="5832360" cy="1656000"/>
          </a:xfrm>
        </p:grpSpPr>
        <p:sp>
          <p:nvSpPr>
            <p:cNvPr id="130" name=""/>
            <p:cNvSpPr/>
            <p:nvPr/>
          </p:nvSpPr>
          <p:spPr>
            <a:xfrm>
              <a:off x="1511280" y="4329000"/>
              <a:ext cx="2700360" cy="1152720"/>
            </a:xfrm>
            <a:prstGeom prst="flowChartPredefined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workspa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419640" y="4437000"/>
              <a:ext cx="323640" cy="2523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419640" y="4780080"/>
              <a:ext cx="323640" cy="2523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419640" y="5121360"/>
              <a:ext cx="323640" cy="2523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003640" y="3933720"/>
              <a:ext cx="755640" cy="503280"/>
            </a:xfrm>
            <a:prstGeom prst="flowChartDocumen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796000" y="4510080"/>
              <a:ext cx="755640" cy="503280"/>
            </a:xfrm>
            <a:prstGeom prst="flowChartDocumen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588000" y="5086440"/>
              <a:ext cx="755640" cy="503280"/>
            </a:xfrm>
            <a:prstGeom prst="flowChartDocumen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V="1">
              <a:off x="3743280" y="4149360"/>
              <a:ext cx="126036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3743280" y="4723920"/>
              <a:ext cx="2052720" cy="1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743280" y="5230800"/>
              <a:ext cx="284472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5A9C-09C5-4E5D-BF6E-5377E545BAF2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099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Updating can now be done in parallel for different namespaces </a:t>
            </a:r>
            <a:endParaRPr b="1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1" name=""/>
          <p:cNvSpPr/>
          <p:nvPr/>
        </p:nvSpPr>
        <p:spPr>
          <a:xfrm>
            <a:off x="685080" y="2216160"/>
            <a:ext cx="123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ster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92640" y="4329000"/>
            <a:ext cx="122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ster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332000" y="3130560"/>
            <a:ext cx="612144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962440" y="2266920"/>
            <a:ext cx="0" cy="82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294080" y="2266920"/>
            <a:ext cx="0" cy="82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962440" y="2266920"/>
            <a:ext cx="13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rot="16200000">
            <a:off x="2453040" y="247500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rot="5400000">
            <a:off x="4088520" y="246636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140640" y="188136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046960" y="5564160"/>
            <a:ext cx="660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ster A's changes are NOT overwritten by Tester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332000" y="3948120"/>
            <a:ext cx="612144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155640" y="328464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768840" y="3984480"/>
            <a:ext cx="0" cy="82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497560" y="3984480"/>
            <a:ext cx="0" cy="82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768840" y="481176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rot="16200000">
            <a:off x="3261240" y="411948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rot="5400000">
            <a:off x="5291640" y="411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093200" y="471492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852520" y="2406600"/>
            <a:ext cx="181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amespace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896440" y="4159080"/>
            <a:ext cx="179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amespace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71CA-F65F-41D8-B685-5156833F8BA1}" type="slidenum">
              <a:t>1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917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Introduction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2312640"/>
            <a:ext cx="7486560" cy="29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s is an example of converting an existing application to SALT and using a version control system afterwards to maintain it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901A-D4F7-491D-99B1-286228D2DA4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racking chang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is easier to track changes now that files are in human readable format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omparing files can be done easily in APL or by any 3</a:t>
            </a:r>
            <a:r>
              <a:rPr b="0" lang="en-GB" sz="3200" spc="-1" strike="noStrike" baseline="30000">
                <a:solidFill>
                  <a:srgbClr val="333333"/>
                </a:solidFill>
                <a:latin typeface="Geneva"/>
              </a:rPr>
              <a:t>rd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party program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2FAE-98E3-4E68-82EC-D4E278E6235F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Doing i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first step is to convert the workspace to the new form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55F1-735C-4AF4-A63F-EA76B39C75D0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684360" y="1699920"/>
            <a:ext cx="77724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have to make sure SALT is enabled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512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verting the workspac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258920" y="2475000"/>
            <a:ext cx="6481800" cy="3510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0612-86CA-42A5-A9B6-0840880BF6CC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971280" y="1736280"/>
            <a:ext cx="7412040" cy="37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tart Dyalog, SALT should be ther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1079640" y="2784600"/>
            <a:ext cx="6984720" cy="2805120"/>
            <a:chOff x="1079640" y="2784600"/>
            <a:chExt cx="6984720" cy="2805120"/>
          </a:xfrm>
        </p:grpSpPr>
        <p:pic>
          <p:nvPicPr>
            <p:cNvPr id="170" name="" descr=""/>
            <p:cNvPicPr/>
            <p:nvPr/>
          </p:nvPicPr>
          <p:blipFill>
            <a:blip r:embed="rId1"/>
            <a:stretch/>
          </p:blipFill>
          <p:spPr>
            <a:xfrm>
              <a:off x="1079640" y="2784600"/>
              <a:ext cx="6984720" cy="28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>
              <a:off x="1366560" y="4289760"/>
              <a:ext cx="649080" cy="431640"/>
            </a:xfrm>
            <a:prstGeom prst="ellipse">
              <a:avLst/>
            </a:prstGeom>
            <a:noFill/>
            <a:ln w="3816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685800" y="512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verting the workspac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B6F3-69C7-4BE1-9998-A1B36DCD044E}" type="slidenum">
              <a:t>2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971640" y="1521000"/>
            <a:ext cx="7377120" cy="37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)LOAD the workspac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74" name=""/>
          <p:cNvSpPr/>
          <p:nvPr/>
        </p:nvSpPr>
        <p:spPr>
          <a:xfrm>
            <a:off x="685800" y="512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verting the workspac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973080" y="2301840"/>
            <a:ext cx="7128000" cy="3827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92C3-2203-42B8-B77F-64AEFC4C0255}" type="slidenum">
              <a:t>2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934920" y="1521000"/>
            <a:ext cx="7413840" cy="37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Make sure the workdir includes Dyalog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77" name=""/>
          <p:cNvSpPr/>
          <p:nvPr/>
        </p:nvSpPr>
        <p:spPr>
          <a:xfrm>
            <a:off x="685800" y="512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verting the workspac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973080" y="2301840"/>
            <a:ext cx="7128000" cy="3827520"/>
          </a:xfrm>
          <a:prstGeom prst="rect">
            <a:avLst/>
          </a:prstGeom>
          <a:ln w="0">
            <a:noFill/>
          </a:ln>
        </p:spPr>
      </p:pic>
      <p:grpSp>
        <p:nvGrpSpPr>
          <p:cNvPr id="179" name=""/>
          <p:cNvGrpSpPr/>
          <p:nvPr/>
        </p:nvGrpSpPr>
        <p:grpSpPr>
          <a:xfrm>
            <a:off x="684360" y="2313000"/>
            <a:ext cx="7416720" cy="3827520"/>
            <a:chOff x="684360" y="2313000"/>
            <a:chExt cx="7416720" cy="3827520"/>
          </a:xfrm>
        </p:grpSpPr>
        <p:pic>
          <p:nvPicPr>
            <p:cNvPr id="180" name="" descr=""/>
            <p:cNvPicPr/>
            <p:nvPr/>
          </p:nvPicPr>
          <p:blipFill>
            <a:blip r:embed="rId2"/>
            <a:stretch/>
          </p:blipFill>
          <p:spPr>
            <a:xfrm>
              <a:off x="971640" y="2313000"/>
              <a:ext cx="7129440" cy="382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684360" y="4597560"/>
              <a:ext cx="3600360" cy="5760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A9AD-34B7-4233-883C-2A443FC47A28}" type="slidenum">
              <a:t>2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1007640" y="1521000"/>
            <a:ext cx="7340760" cy="37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Bring in the conversion tool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83" name=""/>
          <p:cNvSpPr/>
          <p:nvPr/>
        </p:nvSpPr>
        <p:spPr>
          <a:xfrm>
            <a:off x="685800" y="512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verting the workspac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973080" y="2301840"/>
            <a:ext cx="7128000" cy="382752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971640" y="2303640"/>
            <a:ext cx="7129440" cy="382716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2519280" y="4924440"/>
            <a:ext cx="2557440" cy="431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10DE-274C-4F7E-8540-4E6F1F7A45F3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576000" y="1725120"/>
            <a:ext cx="7775640" cy="37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onvertCode is a namespace containing code to perform conversion of regular (non sourced) namespace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function to use in it is &lt;Convert&gt;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88" name=""/>
          <p:cNvSpPr/>
          <p:nvPr/>
        </p:nvSpPr>
        <p:spPr>
          <a:xfrm>
            <a:off x="685800" y="512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verting the workspac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0CB2-DBEB-426E-95A9-F8A65AFA1006}" type="slidenum">
              <a:t>2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1368360" y="2349360"/>
            <a:ext cx="6410520" cy="360072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576000" y="1592280"/>
            <a:ext cx="8388360" cy="37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or example, to convert namespace 'UTIL'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91" name=""/>
          <p:cNvSpPr/>
          <p:nvPr/>
        </p:nvSpPr>
        <p:spPr>
          <a:xfrm>
            <a:off x="685800" y="512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verting the workspac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727280" y="4238640"/>
            <a:ext cx="3168720" cy="287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1368360" y="2349360"/>
            <a:ext cx="6407280" cy="359892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1943280" y="2205000"/>
            <a:ext cx="5314680" cy="4505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0C7E-026B-4E85-ADFF-4E6DFDCCA408}" type="slidenum">
              <a:t>2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576000" y="1483920"/>
            <a:ext cx="8388360" cy="37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o convert several namespaces first )CS where the namespaces ar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96" name=""/>
          <p:cNvSpPr/>
          <p:nvPr/>
        </p:nvSpPr>
        <p:spPr>
          <a:xfrm>
            <a:off x="685800" y="512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verting the workspac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1511280" y="2708280"/>
            <a:ext cx="6172200" cy="3448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6F7C-E6D7-415C-BAAD-05BA6423D716}" type="slidenum">
              <a:t>2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Topics of Discussion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We'll see the conversion process and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how to use </a:t>
            </a:r>
            <a:r>
              <a:rPr b="0" i="1" lang="en-GB" sz="3200" spc="-1" strike="noStrike">
                <a:solidFill>
                  <a:srgbClr val="009999"/>
                </a:solidFill>
                <a:latin typeface="Geneva"/>
              </a:rPr>
              <a:t>subversion,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 third party product, to control its versioning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34E4-F82A-4D42-8E49-19CE38B6D694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576000" y="1483920"/>
            <a:ext cx="8388360" cy="37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n use an expression lik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99" name=""/>
          <p:cNvSpPr/>
          <p:nvPr/>
        </p:nvSpPr>
        <p:spPr>
          <a:xfrm>
            <a:off x="685800" y="512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verting the workspac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1474920" y="2133720"/>
            <a:ext cx="6192720" cy="376848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1871640" y="2914560"/>
            <a:ext cx="3205080" cy="432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1912-7126-425F-848E-827C2779F7E1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576000" y="1557360"/>
            <a:ext cx="8388360" cy="37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xplorer now shows us the namespaces with the new icon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3" name=""/>
          <p:cNvSpPr/>
          <p:nvPr/>
        </p:nvSpPr>
        <p:spPr>
          <a:xfrm>
            <a:off x="685800" y="512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verting the workspac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2303640" y="2708280"/>
            <a:ext cx="4267080" cy="38480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2303640" y="2708280"/>
            <a:ext cx="4267080" cy="38480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3"/>
          <a:stretch/>
        </p:blipFill>
        <p:spPr>
          <a:xfrm>
            <a:off x="2303640" y="2708280"/>
            <a:ext cx="4267080" cy="3848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F3A0-B16F-410D-A21E-ABBF7506D7A3}" type="slidenum">
              <a:t>3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5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Doing i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47640" y="2097000"/>
            <a:ext cx="7772400" cy="28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next step is to store those namespaces in Unicode file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gain, SALT comes in handy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AF0B-4A43-4101-BB76-5958D59D8E63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5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Saving the scripts as text files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189080" y="2701800"/>
            <a:ext cx="6478560" cy="17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800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decide where to put them</a:t>
            </a:r>
            <a:br>
              <a:rPr sz="3200"/>
            </a:b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609480" indent="-609480">
              <a:spcBef>
                <a:spcPts val="799"/>
              </a:spcBef>
              <a:buClr>
                <a:srgbClr val="ff800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use the SALT Save function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C61B-C5E8-420B-97F2-31D38B5E5158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5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Saving the scripts as text files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755640" y="1808280"/>
            <a:ext cx="7166160" cy="23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Save function takes a string argument of: 'namespace location'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511280" y="3068640"/>
            <a:ext cx="5834160" cy="2494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32ED-FE24-4FF8-BE07-0776661E72CB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5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Saving the scripts as text files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719280" y="1700280"/>
            <a:ext cx="7524720" cy="23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o save all the namespaces at once do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258920" y="2529000"/>
            <a:ext cx="6589800" cy="348120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1800360" y="3409920"/>
            <a:ext cx="4464000" cy="432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E2FD-9134-4123-B22C-A9F0210A1358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Making chang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ALT 'remembers' where each script was saved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hanging one of them now means SALT will change the file as soon as the script is modified through the editor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AE58-321B-4D23-A07B-B04FED8B03BF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Making chang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2268360" y="2241720"/>
            <a:ext cx="4753080" cy="380988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261000" y="1589040"/>
            <a:ext cx="653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neva"/>
              </a:rPr>
              <a:t>Here's what one of the units' logic looks lik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7FB5-600B-4171-8363-44FE84738BF9}" type="slidenum">
              <a:t>3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Making chang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2268360" y="2241720"/>
            <a:ext cx="4753080" cy="380988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15080" y="1589040"/>
            <a:ext cx="431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neva"/>
              </a:rPr>
              <a:t>And here we make a ch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2268360" y="2241720"/>
            <a:ext cx="4751640" cy="380988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2916360" y="3205080"/>
            <a:ext cx="2232000" cy="324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5A71-226D-4ADF-ACC6-EEF81F938C77}" type="slidenum">
              <a:t>3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Making chang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29" name=""/>
          <p:cNvSpPr/>
          <p:nvPr/>
        </p:nvSpPr>
        <p:spPr>
          <a:xfrm>
            <a:off x="71280" y="1673280"/>
            <a:ext cx="89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neva"/>
              </a:rPr>
              <a:t>SALT detected the change and offers to change the script fi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2340000" y="2705040"/>
            <a:ext cx="4356000" cy="230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FF60-708E-411C-9C14-5C55996B7B5F}" type="slidenum">
              <a:t>3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The situation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BAAD is a military weapons manufacturing company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One of its best sellers is the SD2, a device used to search and destroy specific target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988A-2F0D-4F5D-ACE8-04FE2266B503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Making chang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32" name=""/>
          <p:cNvSpPr/>
          <p:nvPr/>
        </p:nvSpPr>
        <p:spPr>
          <a:xfrm>
            <a:off x="503280" y="1944720"/>
            <a:ext cx="83008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You should )SAVE the workspace here. </a:t>
            </a:r>
            <a:br>
              <a:rPr sz="3200"/>
            </a:b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SALT will remember where the edited namespaces are stored and detect if changes have been made outside APL (e.g. with Notepa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F656-1E23-4DC4-88A5-AEAF6B8D7D2E}" type="slidenum">
              <a:t>4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Version Control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is is the 2</a:t>
            </a:r>
            <a:r>
              <a:rPr b="0" lang="en-GB" sz="3200" spc="-1" strike="noStrike" baseline="30000">
                <a:solidFill>
                  <a:srgbClr val="333333"/>
                </a:solidFill>
                <a:latin typeface="Geneva"/>
              </a:rPr>
              <a:t>nd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part of the work to do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ALT comes with its own versioning of files and comparison functions but it is primitive compared to state of the art version control systems like </a:t>
            </a: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subversion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41C6-AA23-4A7A-BA0E-D5548CDE2339}" type="slidenum">
              <a:t>4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Version Control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or a company like BAAD it is preferable to use existing software like </a:t>
            </a: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subversion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o use </a:t>
            </a: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subversion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we first need somewhere to put the scripts file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890A-8C14-4874-B6DD-F450547E1337}" type="slidenum">
              <a:t>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Version Control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picked folder 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\weapon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as repository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2268360" y="2168640"/>
            <a:ext cx="4695840" cy="426708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2987640" y="2816280"/>
            <a:ext cx="3600360" cy="224928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2879640" y="2781360"/>
            <a:ext cx="3853080" cy="146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0288-42AB-4FE6-9728-64A7DD374E0C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Version Control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09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We now import the scripts into the repository: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(we put our code in 'Troops') 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3887640" y="1557360"/>
            <a:ext cx="4600800" cy="461016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3635280" y="1557360"/>
            <a:ext cx="5040360" cy="377496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3600360" y="1449360"/>
            <a:ext cx="5276880" cy="47530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123C-DEAC-425C-A59E-CFCE5BF818B5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Version Control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87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One of the testers now checks out a copy: 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3851280" y="1665360"/>
            <a:ext cx="3198960" cy="450036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3527280" y="1700280"/>
            <a:ext cx="5148360" cy="361296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3"/>
          <a:stretch/>
        </p:blipFill>
        <p:spPr>
          <a:xfrm>
            <a:off x="3816360" y="2384280"/>
            <a:ext cx="3780000" cy="204948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4"/>
          <a:stretch/>
        </p:blipFill>
        <p:spPr>
          <a:xfrm>
            <a:off x="3564000" y="1484280"/>
            <a:ext cx="5276880" cy="47530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EEE5-312B-4079-B0E3-A09E2161EDE3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Version Control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ny other tester can do the same thing and update it independently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57" name=""/>
          <p:cNvSpPr/>
          <p:nvPr/>
        </p:nvSpPr>
        <p:spPr>
          <a:xfrm>
            <a:off x="4213080" y="3173400"/>
            <a:ext cx="1244880" cy="152712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posi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 rot="20261400">
            <a:off x="2446920" y="4581000"/>
            <a:ext cx="1758960" cy="630360"/>
          </a:xfrm>
          <a:custGeom>
            <a:avLst/>
            <a:gdLst>
              <a:gd name="textAreaLeft" fmla="*/ 275040 w 1758960"/>
              <a:gd name="textAreaRight" fmla="*/ 1539720 w 1758960"/>
              <a:gd name="textAreaTop" fmla="*/ 157680 h 630360"/>
              <a:gd name="textAreaBottom" fmla="*/ 473040 h 630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hecko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332000" y="3357720"/>
            <a:ext cx="1079280" cy="1008000"/>
          </a:xfrm>
          <a:prstGeom prst="flowChartMultidocument">
            <a:avLst/>
          </a:prstGeom>
          <a:solidFill>
            <a:srgbClr val="fc4a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ster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rot="2095200">
            <a:off x="5364000" y="4701960"/>
            <a:ext cx="1773360" cy="682560"/>
          </a:xfrm>
          <a:custGeom>
            <a:avLst/>
            <a:gdLst>
              <a:gd name="textAreaLeft" fmla="*/ 276840 w 1773360"/>
              <a:gd name="textAreaRight" fmla="*/ 1551960 w 1773360"/>
              <a:gd name="textAreaTop" fmla="*/ 170640 h 682560"/>
              <a:gd name="textAreaBottom" fmla="*/ 511920 h 682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hecko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368360" y="5013360"/>
            <a:ext cx="1079640" cy="1008000"/>
          </a:xfrm>
          <a:prstGeom prst="flowChartMultidocument">
            <a:avLst/>
          </a:prstGeom>
          <a:solidFill>
            <a:srgbClr val="fc4a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ster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345440" y="2852640"/>
            <a:ext cx="1079280" cy="1008000"/>
          </a:xfrm>
          <a:prstGeom prst="flowChartMultidocument">
            <a:avLst/>
          </a:prstGeom>
          <a:solidFill>
            <a:srgbClr val="fc4a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ester 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056360" y="5229360"/>
            <a:ext cx="1079640" cy="1008000"/>
          </a:xfrm>
          <a:prstGeom prst="flowChartMultidocument">
            <a:avLst/>
          </a:prstGeom>
          <a:solidFill>
            <a:srgbClr val="fc4a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ster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rot="20552400">
            <a:off x="5564160" y="3358800"/>
            <a:ext cx="1671840" cy="617400"/>
          </a:xfrm>
          <a:custGeom>
            <a:avLst/>
            <a:gdLst>
              <a:gd name="textAreaLeft" fmla="*/ 261000 w 1671840"/>
              <a:gd name="textAreaRight" fmla="*/ 1463040 w 1671840"/>
              <a:gd name="textAreaTop" fmla="*/ 154440 h 617400"/>
              <a:gd name="textAreaBottom" fmla="*/ 463320 h 617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hecko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H="1" rot="163800">
            <a:off x="2484360" y="3600000"/>
            <a:ext cx="1638360" cy="560520"/>
          </a:xfrm>
          <a:custGeom>
            <a:avLst/>
            <a:gdLst>
              <a:gd name="textAreaLeft" fmla="*/ 255960 w 1638360"/>
              <a:gd name="textAreaRight" fmla="*/ 1433520 w 1638360"/>
              <a:gd name="textAreaTop" fmla="*/ 140040 h 560520"/>
              <a:gd name="textAreaBottom" fmla="*/ 420480 h 560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hecko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28AF-A7AB-49D9-A305-83CA275C39AA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3959280" y="1665360"/>
            <a:ext cx="4714920" cy="437184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Version Control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86920" y="1980720"/>
            <a:ext cx="3132360" cy="20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He can check what's in his folder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7012-2080-475C-BE28-124C0729F621}" type="slidenum">
              <a:t>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Version Control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70" name=""/>
          <p:cNvSpPr/>
          <p:nvPr/>
        </p:nvSpPr>
        <p:spPr>
          <a:xfrm>
            <a:off x="395280" y="2023920"/>
            <a:ext cx="30607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neva"/>
              </a:rPr>
              <a:t>Then grab the 2</a:t>
            </a:r>
            <a:r>
              <a:rPr b="0" lang="en-GB" sz="2400" spc="-1" strike="noStrike" baseline="30000">
                <a:solidFill>
                  <a:srgbClr val="000000"/>
                </a:solidFill>
                <a:latin typeface="Geneva"/>
              </a:rPr>
              <a:t>nd</a:t>
            </a:r>
            <a:r>
              <a:rPr b="0" lang="en-GB" sz="2400" spc="-1" strike="noStrike">
                <a:solidFill>
                  <a:srgbClr val="000000"/>
                </a:solidFill>
                <a:latin typeface="Geneva"/>
              </a:rPr>
              <a:t> column (the 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names</a:t>
            </a:r>
            <a:r>
              <a:rPr b="0" lang="en-GB" sz="2400" spc="-1" strike="noStrike">
                <a:solidFill>
                  <a:srgbClr val="000000"/>
                </a:solidFill>
                <a:latin typeface="Genev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3600360" y="1700280"/>
            <a:ext cx="5004000" cy="2687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4300-8D14-4BAC-A93B-FB9383FA697E}" type="slidenum">
              <a:t>4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Version Control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09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Make sure his own folder is in the </a:t>
            </a:r>
            <a:r>
              <a:rPr b="0" i="1" lang="en-GB" sz="2800" spc="-1" strike="noStrike">
                <a:solidFill>
                  <a:srgbClr val="333333"/>
                </a:solidFill>
                <a:latin typeface="Geneva"/>
              </a:rPr>
              <a:t>workdir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list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3679920" y="1693800"/>
            <a:ext cx="4932360" cy="2649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8116-0A74-45ED-8931-0D0D17237ED2}" type="slidenum">
              <a:t>4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BAAD's SD2 produc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s unit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s self contained: its behaviour is set once and does not require external input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re are several (possibly 1000s) models, each with a different code name. The logic (code) of each is uniqu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FCD5-673A-410D-AF32-DC5E205AE920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3672000" y="1700280"/>
            <a:ext cx="4932360" cy="2639880"/>
          </a:xfrm>
          <a:prstGeom prst="rect">
            <a:avLst/>
          </a:prstGeom>
          <a:ln w="0">
            <a:noFill/>
          </a:ln>
        </p:spPr>
      </p:pic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Version Control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09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And bring in his files in the 'R' namespace 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2"/>
          <a:stretch/>
        </p:blipFill>
        <p:spPr>
          <a:xfrm>
            <a:off x="1908000" y="4165560"/>
            <a:ext cx="5543640" cy="1044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264F-03B2-494F-8670-CB292F4FDCEE}" type="slidenum">
              <a:t>5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0.15198 L 4.44444E-006 0.00023 E">
                                      <p:cBhvr>
                                        <p:cTn id="113" dur="2000" fill="hold"/>
                                        <p:tgtEl>
                                          <p:spTgt spid="2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5" dur="2000" fill="hold"/>
                                        <p:tgtEl>
                                          <p:spTgt spid="27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Version Control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He can now repeat this procedure each time he )LOADs the workspace or )SAVE his own copy (e.g. 'tester1robots') which will be )loaded instead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5742-0F4E-4516-B572-E6763F35D81D}" type="slidenum">
              <a:t>5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Version Control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He, and any other tester that has done the same thing, can now test the system and update it independently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3" name=""/>
          <p:cNvSpPr/>
          <p:nvPr/>
        </p:nvSpPr>
        <p:spPr>
          <a:xfrm>
            <a:off x="3851280" y="3681360"/>
            <a:ext cx="1260360" cy="1332000"/>
          </a:xfrm>
          <a:prstGeom prst="flowChartMagneticDisk">
            <a:avLst/>
          </a:prstGeom>
          <a:solidFill>
            <a:srgbClr val="bbe0e3">
              <a:alpha val="2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posi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332000" y="3357720"/>
            <a:ext cx="1079280" cy="1008000"/>
          </a:xfrm>
          <a:prstGeom prst="flowChartMultidocument">
            <a:avLst/>
          </a:prstGeom>
          <a:solidFill>
            <a:srgbClr val="fc4a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ster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368360" y="5013360"/>
            <a:ext cx="1079640" cy="1008000"/>
          </a:xfrm>
          <a:prstGeom prst="flowChartMultidocument">
            <a:avLst/>
          </a:prstGeom>
          <a:solidFill>
            <a:srgbClr val="fc4a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ster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345440" y="2852640"/>
            <a:ext cx="1079280" cy="1008000"/>
          </a:xfrm>
          <a:prstGeom prst="flowChartMultidocument">
            <a:avLst/>
          </a:prstGeom>
          <a:solidFill>
            <a:srgbClr val="fc4a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ester 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056360" y="5229360"/>
            <a:ext cx="1079640" cy="1008000"/>
          </a:xfrm>
          <a:prstGeom prst="flowChartMultidocument">
            <a:avLst/>
          </a:prstGeom>
          <a:solidFill>
            <a:srgbClr val="fc4a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ster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6691-8441-450C-9C72-6BBE363A4898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Version Control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23640" y="1981080"/>
            <a:ext cx="3384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When changes are ready to be checked in you do (here DANIMAL has been changed)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4788000" y="1736640"/>
            <a:ext cx="3971880" cy="240048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2"/>
          <a:stretch/>
        </p:blipFill>
        <p:spPr>
          <a:xfrm>
            <a:off x="4795920" y="1727280"/>
            <a:ext cx="3971880" cy="404820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3"/>
          <a:stretch/>
        </p:blipFill>
        <p:spPr>
          <a:xfrm>
            <a:off x="4535640" y="1557360"/>
            <a:ext cx="4362120" cy="465768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4"/>
          <a:stretch/>
        </p:blipFill>
        <p:spPr>
          <a:xfrm>
            <a:off x="4535640" y="1563840"/>
            <a:ext cx="4362120" cy="465768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5"/>
          <a:stretch/>
        </p:blipFill>
        <p:spPr>
          <a:xfrm>
            <a:off x="3672000" y="2529000"/>
            <a:ext cx="5276880" cy="2876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347E-ADDB-4AA7-8ACC-0785ABE0247D}" type="slidenum">
              <a:t>5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Version Control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He, and any other tester that has done the same thing, can now test the system and update it independently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7" name=""/>
          <p:cNvSpPr/>
          <p:nvPr/>
        </p:nvSpPr>
        <p:spPr>
          <a:xfrm>
            <a:off x="3959280" y="3681360"/>
            <a:ext cx="1260360" cy="133200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posi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332000" y="3357720"/>
            <a:ext cx="1079280" cy="1008000"/>
          </a:xfrm>
          <a:prstGeom prst="flowChartMultidocument">
            <a:avLst/>
          </a:prstGeom>
          <a:solidFill>
            <a:srgbClr val="fc4a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ster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368360" y="5013360"/>
            <a:ext cx="1079640" cy="1008000"/>
          </a:xfrm>
          <a:prstGeom prst="flowChartMultidocument">
            <a:avLst/>
          </a:prstGeom>
          <a:solidFill>
            <a:srgbClr val="fc4a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ster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345440" y="2852640"/>
            <a:ext cx="1079280" cy="1008000"/>
          </a:xfrm>
          <a:prstGeom prst="flowChartMultidocument">
            <a:avLst/>
          </a:prstGeom>
          <a:solidFill>
            <a:srgbClr val="fc4a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ester 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056360" y="5229360"/>
            <a:ext cx="1079640" cy="1008000"/>
          </a:xfrm>
          <a:prstGeom prst="flowChartMultidocument">
            <a:avLst/>
          </a:prstGeom>
          <a:solidFill>
            <a:srgbClr val="fc4a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ster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rot="559800">
            <a:off x="2555640" y="3715920"/>
            <a:ext cx="1187280" cy="468360"/>
          </a:xfrm>
          <a:custGeom>
            <a:avLst/>
            <a:gdLst>
              <a:gd name="textAreaLeft" fmla="*/ 185400 w 1187280"/>
              <a:gd name="textAreaRight" fmla="*/ 1038960 w 1187280"/>
              <a:gd name="textAreaTop" fmla="*/ 117000 h 468360"/>
              <a:gd name="textAreaBottom" fmla="*/ 351360 h 468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comm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rot="20589000">
            <a:off x="2592000" y="4868640"/>
            <a:ext cx="1187640" cy="468000"/>
          </a:xfrm>
          <a:custGeom>
            <a:avLst/>
            <a:gdLst>
              <a:gd name="textAreaLeft" fmla="*/ 185400 w 1187640"/>
              <a:gd name="textAreaRight" fmla="*/ 1039320 w 1187640"/>
              <a:gd name="textAreaTop" fmla="*/ 117000 h 468000"/>
              <a:gd name="textAreaBottom" fmla="*/ 351000 h 468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comm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 rot="20640600">
            <a:off x="5472000" y="3573360"/>
            <a:ext cx="1261080" cy="468360"/>
          </a:xfrm>
          <a:custGeom>
            <a:avLst/>
            <a:gdLst>
              <a:gd name="textAreaLeft" fmla="*/ 196920 w 1261080"/>
              <a:gd name="textAreaRight" fmla="*/ 1103760 w 1261080"/>
              <a:gd name="textAreaTop" fmla="*/ 117000 h 468360"/>
              <a:gd name="textAreaBottom" fmla="*/ 351360 h 468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comm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H="1" rot="978000">
            <a:off x="5434920" y="4939920"/>
            <a:ext cx="1260360" cy="468360"/>
          </a:xfrm>
          <a:custGeom>
            <a:avLst/>
            <a:gdLst>
              <a:gd name="textAreaLeft" fmla="*/ 196920 w 1260360"/>
              <a:gd name="textAreaRight" fmla="*/ 1103040 w 1260360"/>
              <a:gd name="textAreaTop" fmla="*/ 117000 h 468360"/>
              <a:gd name="textAreaBottom" fmla="*/ 351360 h 468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comm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F2F3-7B64-44CA-B471-BA8504A0B32F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Version Control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VC should be able to handle conflicts, report on differences and generate complete new systems from the current repository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BA96-F197-4B65-92BF-128136196F9C}" type="slidenum">
              <a:t>5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clusion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or local or smaller systems you may choose to use SALT's limited versioning and comparing abilities but a solid Version Control system is a must for large system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17BE-688B-4CA0-81A3-D180477C42F2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clusion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ny version control will probably do but </a:t>
            </a: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subversion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well supported and well documented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nd it's fre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DF3B-BDA6-47BE-A4D2-8E169D3C2736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BAAD's SD2 produc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Unit is made of 2 main component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 driving componen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 weapons componen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4" name=""/>
          <p:cNvSpPr/>
          <p:nvPr/>
        </p:nvSpPr>
        <p:spPr>
          <a:xfrm>
            <a:off x="3562200" y="4869000"/>
            <a:ext cx="1801800" cy="612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4140360" y="4113360"/>
            <a:ext cx="1522440" cy="792000"/>
            <a:chOff x="4140360" y="4113360"/>
            <a:chExt cx="1522440" cy="792000"/>
          </a:xfrm>
        </p:grpSpPr>
        <p:sp>
          <p:nvSpPr>
            <p:cNvPr id="56" name=""/>
            <p:cNvSpPr/>
            <p:nvPr/>
          </p:nvSpPr>
          <p:spPr>
            <a:xfrm>
              <a:off x="4140360" y="4113360"/>
              <a:ext cx="1041480" cy="792000"/>
            </a:xfrm>
            <a:prstGeom prst="can">
              <a:avLst>
                <a:gd name="adj" fmla="val 33481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rot="4489200">
              <a:off x="5263560" y="4102560"/>
              <a:ext cx="169920" cy="604440"/>
            </a:xfrm>
            <a:prstGeom prst="can">
              <a:avLst>
                <a:gd name="adj" fmla="val 2500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F7AD-7ECC-443E-B86A-71B5C1E899A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Testing the produc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Obviously, testing these devices in real life presents a problem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In its infinite wisdom the company has decided to use a simulator written in Dyalog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 single workspace holds all the system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EB17-5F1A-42F6-928C-D8E15BAB8284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512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The simulator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762200" y="1654200"/>
            <a:ext cx="5257800" cy="4538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406160" y="4746600"/>
            <a:ext cx="18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attling un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8000" y="3573360"/>
            <a:ext cx="395640" cy="12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843280" y="2707920"/>
            <a:ext cx="1152360" cy="20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951280" y="2815920"/>
            <a:ext cx="1225440" cy="19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203640" y="5192640"/>
            <a:ext cx="9730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25800" y="3327480"/>
            <a:ext cx="129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nits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so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 flipV="1">
            <a:off x="6948360" y="2600280"/>
            <a:ext cx="611280" cy="104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 flipV="1">
            <a:off x="6948360" y="3105000"/>
            <a:ext cx="611280" cy="61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 flipV="1">
            <a:off x="6948360" y="3573000"/>
            <a:ext cx="611280" cy="1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948360" y="3860640"/>
            <a:ext cx="611280" cy="3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6948360" y="3968640"/>
            <a:ext cx="611280" cy="90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210840" y="1844640"/>
            <a:ext cx="147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attlefi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EE37-986C-40DE-8D1A-6D5BFFD405EE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The simulator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943280" y="1676520"/>
            <a:ext cx="5524200" cy="4419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54C8-B676-4C19-B14A-8CB48CF3264C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26160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26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9" dur="1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anB</cp:lastModifiedBy>
  <dcterms:modified xsi:type="dcterms:W3CDTF">2007-09-27T16:04:58Z</dcterms:modified>
  <cp:revision>2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