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5040" y="518760"/>
            <a:ext cx="51177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E7D3-0FFC-4007-9323-65B7A5A32F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1D3E-D0A8-461B-84C5-874BBCBEB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0A28-9421-4D53-B573-118ACB16B4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55E-32FC-4708-ADB6-FBAA9C4BB0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D4E-ED61-4EEC-9E4D-30C7F28B41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FF05-034F-4AC6-9F26-FD707246D9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8B95-ECED-4CBD-A515-0D31E8377A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6C9-9C50-4A74-8510-7474A0268C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0353-0556-4DFD-BCD3-A3F15A0C91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3A68-6890-40FB-827A-14E518D153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DDCD-7272-4553-90AA-8943179195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EC29-8143-41A3-8556-EDB55548FF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8B91-D148-45DA-BBBA-58E7CE4D7E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90B-A053-4427-BAA9-493027A239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085-FF89-40A0-A9A3-4DD25EF114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56C5-239E-4406-83A0-D7F77A7332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88480" y="6377040"/>
            <a:ext cx="489132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2BE5-E4F9-4423-8AFD-85BCFB065C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9184-E2EA-4D10-8BBD-4B3594AD9B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B3E-F31B-46D4-9117-7E8C37FAFF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4371-F8DD-4DA7-8B68-666611E9AE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136-3A2E-4289-95AD-21B3E06315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D4F6-2154-4E3A-99D5-3E02BDB6C3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F3AB-6D1B-4A4C-9C7C-9951FC5551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A9AF-009A-479C-BA82-5035014F93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072B-963C-4BDC-AC46-ACEF3B3696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  <p:sp>
        <p:nvSpPr>
          <p:cNvPr id="525" name="Notes Placeholder 5"/>
          <p:cNvSpPr/>
          <p:nvPr/>
        </p:nvSpPr>
        <p:spPr>
          <a:xfrm>
            <a:off x="888840" y="2590920"/>
            <a:ext cx="4891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4A9C-2AD6-477D-A0CE-6FB04A8A9B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2A7F-C088-4ABE-9461-A50AE72AD1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A8B4-B8F7-48ED-9EAA-5CB57B75F0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074A-0FD5-411B-9A63-A092C0CCBE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12F5-0E3B-4542-A5B3-2CD725E1EF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872-D93A-494F-AD03-9A9E19B5BF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05040" y="519120"/>
            <a:ext cx="511776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110-E7C7-4083-9DA8-8931D785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BDE-305F-4994-8152-4FC14443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FA6-C29E-413C-AEE5-9C909843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8DC-98FA-4F0A-B346-5D1E4C74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E1A-B9A4-4AAF-B64E-415F5449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349-168F-4DB6-BC1A-8ADF123B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85F-5A6E-422A-A384-66A0A5C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9CD-DF13-4CAC-9AB7-5783B2B4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546-9E8B-4180-9CE9-2F3434F2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8FC-3504-4BD0-B749-BC11FDF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A41-CDFD-4EB9-8DC8-F366116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DAF-6BEC-448C-9741-D0EA7577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13F5-754D-424B-A3FC-785438583F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0012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Component Files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1428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John Scholes and 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3 October, 2008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0" y="2428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2626"/>
                </a:solidFill>
                <a:latin typeface="Geneva"/>
              </a:rPr>
              <a:t>Or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2626"/>
                </a:solidFill>
                <a:latin typeface="Geneva"/>
              </a:rPr>
              <a:t>How to never see FILE DAMAGED agai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ree space can be upd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put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ost of the component i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The free space node was left inta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ll remaining updates are journa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activ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2160-01CE-4935-8EA5-EE7F07ACBF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- journal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ight Arrow 34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7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8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9" dur="25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nly free space updated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ntire update recorded i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012C-DC05-4BD1-82A8-D9ED1D694E1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- journal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ight Arrow 34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66B8-6533-4B37-960D-F195A7B6FD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- journal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 i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ight Arrow 34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4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9" dur="25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3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4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rmal case - there is no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thing needs to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7FFF-4196-4C83-8445-18F3A06815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cessing the file – example 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rocess killed before journal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s were all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ile has been safely rolled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B43C-834A-4C28-8E3A-9BC2511E42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cessing the file – examp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rocess killed after journal complete but before update fi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(re-)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journal is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 has been completed and damage repa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5797-DF2E-44BA-8888-8587C2B1F4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cessing the file – example 3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ight Arrow 29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25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5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1" dur="25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2" dur="250" autoRev="1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7" dur="25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709A-C4C5-4E28-9719-D2176F9D41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re supported now in 12.0.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Have very little impact on performance and file siz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y be enabled on a per-file bas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APL385 Unicode"/>
              </a:rPr>
              <a:t>⎕</a:t>
            </a:r>
            <a:r>
              <a:rPr b="1" lang="da-DK" sz="3200" spc="-1" strike="noStrike">
                <a:solidFill>
                  <a:srgbClr val="262626"/>
                </a:solidFill>
                <a:latin typeface="APL385 Unicode"/>
              </a:rPr>
              <a:t>FPROPS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 converts a file to/from journa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8994-AEAE-470B-8407-0994E02B7F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82868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an only be accessed by 12.0.3 or later (but journaling can be switched off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re not enabled by defa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Protect from file damage if APL is kil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o not currently always protect from file damage if the OS is kil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lowchart: Magnetic Disk 21"/>
          <p:cNvSpPr/>
          <p:nvPr/>
        </p:nvSpPr>
        <p:spPr>
          <a:xfrm>
            <a:off x="7143840" y="1571760"/>
            <a:ext cx="1342800" cy="16430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71680" y="3357720"/>
            <a:ext cx="78152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isk writes are held in memory and flushed efficiently (out of sequ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Data still flushed if APL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But if the O/S is killed, out of sequence data may be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1706-4371-4720-9F40-FE9FE6D7740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isk cach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Flowchart: Data 24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lowchart: Data 25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lowchart: Data 27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Data 32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lowchart: Data 33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lowchart: Data 3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lowchart: Data 35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lowchart: Data 36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lowchart: Data 37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lowchart: Data 38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lowchart: Data 39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lowchart: Data 40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lowchart: Data 41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lowchart: Data 42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lowchart: Data 43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lowchart: Data 4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lowchart: Data 46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714240" y="1857240"/>
            <a:ext cx="1357560" cy="100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Cloud 19"/>
          <p:cNvSpPr/>
          <p:nvPr/>
        </p:nvSpPr>
        <p:spPr>
          <a:xfrm>
            <a:off x="3643200" y="1643040"/>
            <a:ext cx="2143080" cy="157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53"/>
          <p:cNvSpPr/>
          <p:nvPr/>
        </p:nvSpPr>
        <p:spPr>
          <a:xfrm>
            <a:off x="7358040" y="1571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08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11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14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723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726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31181 0.00416 E">
                                      <p:cBhvr>
                                        <p:cTn id="729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3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49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758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765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7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31181 0.00416 E">
                                      <p:cBhvr>
                                        <p:cTn id="768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0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6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805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808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1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o free space (inc jou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update 1 in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xecuting this broken journal would corrupt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re are 4 such points in 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2DB8-A88A-440A-8A6F-9AC21104D2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Why this matter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4CC4-EA5B-410E-8417-B4CCD48FA6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omponent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" name="Picture 2" descr="C:\Documents and Settings\Richard\Local Settings\Temporary Internet Files\Content.IE5\B93I2H6R\MCj03512350000[1].wmf"/>
          <p:cNvPicPr/>
          <p:nvPr/>
        </p:nvPicPr>
        <p:blipFill>
          <a:blip r:embed="rId1"/>
          <a:stretch/>
        </p:blipFill>
        <p:spPr>
          <a:xfrm>
            <a:off x="857160" y="1928880"/>
            <a:ext cx="7202520" cy="371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se must be done atomical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1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Write to free space (inc jou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3.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Execut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4.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Times New Roman"/>
              </a:rPr>
              <a:t>Remov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F6D-8857-4168-89DF-545FC87F45B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Critical update sequ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500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25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6" dur="25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7" dur="250" autoRev="1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4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5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8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9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2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3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4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lowchart: Magnetic Disk 21"/>
          <p:cNvSpPr/>
          <p:nvPr/>
        </p:nvSpPr>
        <p:spPr>
          <a:xfrm>
            <a:off x="7143840" y="1571760"/>
            <a:ext cx="1342800" cy="16430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571680" y="3357720"/>
            <a:ext cx="78152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fsync causes APL to wait for the data to be committed to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Could issue 4 fsyncs per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E9A-FBCC-4D6F-8715-6953FE7CD3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sync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Flowchart: Data 24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lowchart: Data 25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lowchart: Data 27"/>
          <p:cNvSpPr/>
          <p:nvPr/>
        </p:nvSpPr>
        <p:spPr>
          <a:xfrm>
            <a:off x="142884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lowchart: Data 32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lowchart: Data 33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lowchart: Data 3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lowchart: Data 44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lowchart: Data 46"/>
          <p:cNvSpPr/>
          <p:nvPr/>
        </p:nvSpPr>
        <p:spPr>
          <a:xfrm>
            <a:off x="4929120" y="2143080"/>
            <a:ext cx="642960" cy="5000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714240" y="1857240"/>
            <a:ext cx="1357560" cy="100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Cloud 19"/>
          <p:cNvSpPr/>
          <p:nvPr/>
        </p:nvSpPr>
        <p:spPr>
          <a:xfrm>
            <a:off x="3643200" y="1643040"/>
            <a:ext cx="2143080" cy="1571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53"/>
          <p:cNvSpPr/>
          <p:nvPr/>
        </p:nvSpPr>
        <p:spPr>
          <a:xfrm>
            <a:off x="7358040" y="1571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&quot;No&quot; Symbol 29"/>
          <p:cNvSpPr/>
          <p:nvPr/>
        </p:nvSpPr>
        <p:spPr>
          <a:xfrm>
            <a:off x="785880" y="1785960"/>
            <a:ext cx="1214280" cy="1143000"/>
          </a:xfrm>
          <a:prstGeom prst="pie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45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4879 0.00416 E">
                                      <p:cBhvr>
                                        <p:cTn id="1054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xit" presetID="53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3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31181 0.00416 E">
                                      <p:cBhvr>
                                        <p:cTn id="1072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81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08906E-007 L 0.28021 0.07749 E">
                                      <p:cBhvr>
                                        <p:cTn id="1090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6FEA-712D-4F10-9927-B620C95A11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fsync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lows the application considerab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o we should reduce the number of fsyncs if possi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Good news is that we ca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1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o free space (inc jou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update 1 in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xecuting this broken journal would corrupt the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olution: add checksums to det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C0B4-B3C2-4155-A6F1-C2F45DA237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First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2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Mark journal a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3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tart executing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journal no longer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 journal for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Solution: use the checksumming and redundancy to rebuil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C543-443D-425D-A536-DF72AD120B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Second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2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3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4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31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2" dur="250" autoRev="1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319E-2FCC-4E1A-A3B1-5F35A62D3B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Second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te: omitting this fsync does not prevent dam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But we are able to fix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3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Execut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4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mov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earlier update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No journal for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buil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6B5E-ECB3-4043-BBC4-129C2FCD4E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Third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0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1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2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9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0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5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93" dur="25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4" dur="25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98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9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7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57168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4.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move the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/S dies; update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If the journal is still present we may re-execute it on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therwise it will fail its checksum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B9E6-EC7B-46A9-AA21-1CDE018849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Fourth fsync elimin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6572160" y="1785960"/>
            <a:ext cx="1428840" cy="5713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6572160" y="1857240"/>
            <a:ext cx="285840" cy="42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4"/>
          <p:cNvSpPr/>
          <p:nvPr/>
        </p:nvSpPr>
        <p:spPr>
          <a:xfrm>
            <a:off x="6858000" y="1857240"/>
            <a:ext cx="285840" cy="4287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7143840" y="1857240"/>
            <a:ext cx="28584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6"/>
          <p:cNvSpPr/>
          <p:nvPr/>
        </p:nvSpPr>
        <p:spPr>
          <a:xfrm>
            <a:off x="7429680" y="1857240"/>
            <a:ext cx="285480" cy="428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27"/>
          <p:cNvSpPr/>
          <p:nvPr/>
        </p:nvSpPr>
        <p:spPr>
          <a:xfrm>
            <a:off x="7715160" y="1857240"/>
            <a:ext cx="285840" cy="42876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8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1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ight Arrow 43"/>
          <p:cNvSpPr/>
          <p:nvPr/>
        </p:nvSpPr>
        <p:spPr>
          <a:xfrm>
            <a:off x="1428840" y="21430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6286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4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4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C5D1-7DAA-4DE8-8618-945254589A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tional 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wo fsyncs eliminated by checksumm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One further fsync eliminated if recovery tool us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Last fsync eliminated if recovery tool used 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... potential loss of more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3E36-6C33-4F28-B5E2-31EDF5BDED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tional journaling op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Are planned for a future rele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ill have a greater impact on performance and file siz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ill offer a variety of options so that security and performance may be balanc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ill be configured on a per-file bas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4286160" y="1785960"/>
            <a:ext cx="2000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8370-9409-443F-A542-DFBED43396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Purely linear file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142884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2960" y="2643120"/>
            <a:ext cx="78152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2bfc5"/>
                </a:solidFill>
                <a:latin typeface="Geneva"/>
              </a:rPr>
              <a:t>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92d050"/>
                </a:solidFill>
                <a:latin typeface="Geneva"/>
              </a:rPr>
              <a:t>Component data (APL arra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c00000"/>
                </a:solidFill>
                <a:latin typeface="Times New Roman"/>
              </a:rPr>
              <a:t>Global file information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14316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207180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Journaled Component Files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0" y="37857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John Scholes and Richard Smit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262626"/>
                </a:solidFill>
                <a:latin typeface="Geneva"/>
              </a:rPr>
              <a:t>13 October, 2008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314316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4286160" y="1785960"/>
            <a:ext cx="2000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2C04-4C66-44F8-AA2A-96706AF0C8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Updating a linear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42884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42960" y="2643120"/>
            <a:ext cx="78152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6"/>
          <p:cNvSpPr/>
          <p:nvPr/>
        </p:nvSpPr>
        <p:spPr>
          <a:xfrm>
            <a:off x="3143160" y="1785960"/>
            <a:ext cx="5716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95240" y="2795760"/>
            <a:ext cx="7815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placing a component with a smaller one wastes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Replacing a component with a larger one is not possibl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... unless you move potentially large amounts of data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4286160" y="1785960"/>
            <a:ext cx="20005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143160" y="1785960"/>
            <a:ext cx="19288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9"/>
          <p:cNvSpPr/>
          <p:nvPr/>
        </p:nvSpPr>
        <p:spPr>
          <a:xfrm>
            <a:off x="5072040" y="1785960"/>
            <a:ext cx="200016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7.98057E-007 L 0.0007 0.05158 E">
                                      <p:cBhvr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FC75-42B3-48EB-B5B9-88145E078C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ctual file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42960" y="2643120"/>
            <a:ext cx="78152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2bfc5"/>
                </a:solidFill>
                <a:latin typeface="Geneva"/>
              </a:rPr>
              <a:t>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c00000"/>
                </a:solidFill>
                <a:latin typeface="Geneva"/>
              </a:rPr>
              <a:t>Global file information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2060"/>
                </a:solidFill>
                <a:latin typeface="Geneva"/>
              </a:rPr>
              <a:t>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92d050"/>
                </a:solidFill>
                <a:latin typeface="Geneva"/>
              </a:rPr>
              <a:t>Component data (APL arra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7030a0"/>
                </a:solidFill>
                <a:latin typeface="Geneva"/>
              </a:rPr>
              <a:t>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entagon 18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714680" y="1785960"/>
            <a:ext cx="17143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429000" y="1785960"/>
            <a:ext cx="221472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5643720" y="1785960"/>
            <a:ext cx="200016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7643880" y="1785960"/>
            <a:ext cx="28584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81DA-C94A-4B10-8A16-65F6FDBD2F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Updating a compon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714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he new data to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Note that the free space node is overwr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3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C9A-8AE7-4D3E-9A99-CACA4C9C28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a compon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entagon 11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2857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he new data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Note that a free space node is overwr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component index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free spac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1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5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6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5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6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entagon 25"/>
          <p:cNvSpPr/>
          <p:nvPr/>
        </p:nvSpPr>
        <p:spPr>
          <a:xfrm>
            <a:off x="785880" y="1785960"/>
            <a:ext cx="7500960" cy="5713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77" y="0"/>
                </a:lnTo>
                <a:lnTo>
                  <a:pt x="21600" y="10800"/>
                </a:lnTo>
                <a:lnTo>
                  <a:pt x="20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1714680" y="1785960"/>
            <a:ext cx="1143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2852-86D2-45E6-8AF3-607A0123E2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Adding – and causing dam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85880" y="1785960"/>
            <a:ext cx="642960" cy="571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1428840" y="1785960"/>
            <a:ext cx="285840" cy="57132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4000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4000680" y="1785960"/>
            <a:ext cx="228600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1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6286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4"/>
          <p:cNvSpPr/>
          <p:nvPr/>
        </p:nvSpPr>
        <p:spPr>
          <a:xfrm>
            <a:off x="1714680" y="1785960"/>
            <a:ext cx="285480" cy="57132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enev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42960" y="2643120"/>
            <a:ext cx="78152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Write the new data in fre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	</a:t>
            </a: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(Note that a free space node is overwr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** APL process is killed 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ree space node is still referenced but has been corru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5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6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7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A81A-493D-4668-9FDE-3699DAF870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262626"/>
                </a:solidFill>
                <a:latin typeface="Geneva"/>
              </a:rPr>
              <a:t>The solution - journal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2600" y="1999800"/>
            <a:ext cx="7815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free space in a file can be safely upda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majority of an update occurs in this free 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Updates to existing data are first written to a journ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262626"/>
                </a:solidFill>
                <a:latin typeface="Geneva"/>
              </a:rPr>
              <a:t>The update is then comple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ransition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51:48Z</dcterms:created>
  <dc:creator/>
  <dc:description/>
  <dc:language>en-US</dc:language>
  <cp:lastModifiedBy/>
  <dcterms:modified xsi:type="dcterms:W3CDTF">2008-10-11T07:28:11Z</dcterms:modified>
  <cp:revision>1</cp:revision>
  <dc:subject/>
  <dc:title/>
</cp:coreProperties>
</file>