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254240" y="5072040"/>
            <a:ext cx="52257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e've been building applications with APL for many years without having object-orientation as part of the language – so what do we gain now that APL does have O-O syntax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Cynics might just say “more complexit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Looking at “traditional O-O languages” in the past the hardcore APLer is inclined to define a class called “APL Array” and adorn it with the familiar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O-O comes with its own proseletysing baggage – claiming that “only O-O allows you to make reusable components” or that “O-O makes your application robust” or that “O-O components can just be used, with no effort”  Frankly, this stuff is just tedious, so you won't be hearing any of it here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 focus here is on showing how Dyalog's O-O features can be used, not on teaching or explaining or justifying the synt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e've all used ⎕WC (and its relatives for years) – what's not to lik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Programming by side-effect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All those qu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⎕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NEW gives us a new way to define and use for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Illu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hat have we gain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 syntax is clea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Cause-and-effact has come back into our lives (making a form with ⎕NEW feels more like creating a variable always did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 quotes have begun to go a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Are there downside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Not all of ⎕WC-functionality is available to us (tabbed subforms, for example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Defining controls on-the-fly is a bit clunky (because we're creating executable expressions, the quotes are holding a defiant last stan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Ambiguity of syntax – do we discipline ourselves to return modified forms as results when functions modify form definition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So why isn't everybody doing it this wa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riting GUI code is tedious and repeti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But having the GUI definition in code is flex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Shorthand controls” which incorporate defaults help reduce the amount of application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Show DogForm and DogBut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y also make it that bit easier to adhere to corporat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hen controls are used together it's easy to define compound contr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Show Dog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hich makes consistency even easier, and code even short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 big question is when to stop adding complex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Real-world GUIs use a combination of “native” and “defined” contr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e all “know all about Component File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But we've forgotten the artificiality of tie numb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But a component file is a “thing”, that has characteristics and which we can operate on in a number of way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Dyalog's supplied ComponentFile workspace lets us look at component files with fresh ey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Show it in 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e're dealing much more directly with the file when we use this synta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re's a consistency of syntax beginning to emerge – we can make a new component file using pretty much the same syntax that we use to make a new button in a form – the overall syntax of APL is becoming a little simpl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We can't use ComponentFile without having a poke around in its insides – the chimera of “O-O automatically making components easy to us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Programmers who define classes need to put effort into telling people how to use th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It's not clear whether ComponentFile is an officially-sanctioned part of Dyalog APL or “just something I found” - maybe it won't be there in future vers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If you don't like Dyalog's design decisions, define your own alternative (there ought to be enough clues ther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Commercially-available personal accounts software seems pretty crummy, so I decided to write something (for personal us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Easy enough to write it “the way I always had”, but it seemed like an opportunity to try out some of Dyalog's new stuf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Payees is really simple, the only issue is keeping track of the unique identifiers already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Forex is a bit more complex, what we're wanting to do is manipulate values through a k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Not sure whether I've given up with Transactions and fallen back to “traditional APL”, but it seems to show that the old array-handling techniques still have their pl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Contrast how Payees and Forex are variables containing namespaces, while Transactions is a namespace containing vari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Again, see how we're creating objects and accessing them with a syntax that's just the same as we saw for GUI controls and component files – we're winning on consistenc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Getting class data out of the workspace can be a bit of  a pain – more tedium than diffic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Choosing not to use SALT – the core read/write for scripts is simp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Object-oriented syntax has expanded the expressibility of A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re's a consistency that can make application code sim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There are remaining issues, which ought to be thrashed out by extensive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DogMoney was probably harder to write this way than it would have been without – that's largely down to learning new stuff (been doing forms this way so long that they're much easier now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mincho"/>
              </a:rPr>
              <a:t>Internalising the O-O concepts should make it easier to transfer to future applica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O For The Elderl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mincho"/>
              </a:rPr>
              <a:t>Dick Bow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O-O Techn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xploration of O-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n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ions not 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placing </a:t>
            </a:r>
            <a:r>
              <a:rPr b="1" lang="en-US" sz="4400" spc="-1" strike="noStrike">
                <a:solidFill>
                  <a:srgbClr val="333333"/>
                </a:solidFill>
                <a:latin typeface="APL385 Unicode"/>
              </a:rPr>
              <a:t>⎕W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W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been around a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W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ing by side-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</a:t>
            </a: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⎕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uilding GUI Control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Controls for Shorte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Controls for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mponent Files as Objec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alog-supplied workspace/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omponent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lternative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bjects for Dat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rite Dog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rite DogMoney Lik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ng Class Data 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s Withou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nd Finally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US" sz="3200" spc="-1" strike="noStrike">
                <a:solidFill>
                  <a:srgbClr val="000000"/>
                </a:solidFill>
                <a:latin typeface="APL385 Unicode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dot-syntax have expanded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also made APL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o Objects,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Bowman</dc:creator>
  <dc:description/>
  <dc:language>en-US</dc:language>
  <cp:lastModifiedBy>Dick Bowman</cp:lastModifiedBy>
  <cp:revision>0</cp:revision>
  <dc:subject/>
  <dc:title>OO For The Elderly</dc:title>
</cp:coreProperties>
</file>