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56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050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77960" y="766800"/>
            <a:ext cx="55450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9886-42CD-4066-B04A-245317DC2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C46A-99FE-4DF7-82C2-AB3C07912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D964-3013-4278-A07E-5E953A2BD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66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17432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66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446640"/>
            <a:ext cx="23792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B7B3-9387-4153-AFC6-47C2A69E0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96A2-DBEA-4310-95CC-1002B9AD6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32DF-F024-4F7D-98D9-00F1D585A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878-2A2A-4BDF-B779-5F49352A8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BE21-B217-425A-AE25-2C7A66262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9600" y="412560"/>
            <a:ext cx="67770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786B-9042-4F3E-BF3E-9CC9760E4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B36A-0661-4BC3-99E1-9CF89DFC5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4680" y="344664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0E2D-A293-4450-93F5-6E8DA5EC2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4680" y="1174320"/>
            <a:ext cx="36061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3446640"/>
            <a:ext cx="738972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6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E3B7-EAFD-41FD-9552-2BBA2BF9D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70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7840" y="1174320"/>
            <a:ext cx="7389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1" marL="190440" indent="-1890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2" marL="387360" indent="-1951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3" marL="598320" indent="-20772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4" marL="806400" indent="-208080">
              <a:lnSpc>
                <a:spcPct val="126000"/>
              </a:lnSpc>
              <a:spcBef>
                <a:spcPts val="1137"/>
              </a:spcBef>
              <a:buClr>
                <a:srgbClr val="c0c0c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5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lvl="6" marL="806400" indent="-208080">
              <a:lnSpc>
                <a:spcPct val="126000"/>
              </a:lnSpc>
              <a:spcBef>
                <a:spcPts val="1137"/>
              </a:spcBef>
              <a:buClr>
                <a:srgbClr val="000000"/>
              </a:buClr>
              <a:buFont typeface="Trebuchet MS"/>
              <a:buChar char="—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Line 6"/>
          <p:cNvSpPr/>
          <p:nvPr/>
        </p:nvSpPr>
        <p:spPr>
          <a:xfrm>
            <a:off x="949320" y="1111320"/>
            <a:ext cx="1440" cy="54147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Line 7"/>
          <p:cNvSpPr/>
          <p:nvPr/>
        </p:nvSpPr>
        <p:spPr>
          <a:xfrm>
            <a:off x="8913960" y="352440"/>
            <a:ext cx="1440" cy="5415120"/>
          </a:xfrm>
          <a:prstGeom prst="line">
            <a:avLst/>
          </a:prstGeom>
          <a:ln w="4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Line 8"/>
          <p:cNvSpPr/>
          <p:nvPr/>
        </p:nvSpPr>
        <p:spPr>
          <a:xfrm>
            <a:off x="5773680" y="1174680"/>
            <a:ext cx="3719520" cy="180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96572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a-DK" sz="900" spc="-1" strike="noStrike">
                <a:solidFill>
                  <a:srgbClr val="264e84"/>
                </a:solidFill>
                <a:latin typeface="Trebuchet MS"/>
                <a:ea typeface="Arial"/>
              </a:defRPr>
            </a:lvl1pPr>
          </a:lstStyle>
          <a:p>
            <a:pPr indent="0" algn="r">
              <a:lnSpc>
                <a:spcPct val="1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DD3EF5-9236-4093-8C6C-64B2BDD9E80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464600" y="547560"/>
            <a:ext cx="1358640" cy="4874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1650960" y="1274760"/>
            <a:ext cx="66024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t-practice.dk/" TargetMode="External"/><Relationship Id="rId2" Type="http://schemas.openxmlformats.org/officeDocument/2006/relationships/hyperlink" Target="http://www.six.dk/" TargetMode="External"/><Relationship Id="rId3" Type="http://schemas.openxmlformats.org/officeDocument/2006/relationships/hyperlink" Target="http://www.techila.f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6394320" y="476280"/>
            <a:ext cx="2541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a-DK" sz="1200" spc="-1" strike="noStrike">
                <a:solidFill>
                  <a:srgbClr val="264e84"/>
                </a:solidFill>
                <a:latin typeface="Trebuchet MS"/>
              </a:rPr>
              <a:t>October 2008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Line 2"/>
          <p:cNvSpPr/>
          <p:nvPr/>
        </p:nvSpPr>
        <p:spPr>
          <a:xfrm>
            <a:off x="939960" y="2652840"/>
            <a:ext cx="1440" cy="3881160"/>
          </a:xfrm>
          <a:prstGeom prst="line">
            <a:avLst/>
          </a:prstGeom>
          <a:ln w="432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52560" y="2652840"/>
            <a:ext cx="5514840" cy="55548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FinE and Grid-Computing</a:t>
            </a:r>
            <a:r>
              <a:rPr b="1" lang="da-DK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875120" y="3871800"/>
            <a:ext cx="4184640" cy="555840"/>
          </a:xfrm>
          <a:prstGeom prst="rect">
            <a:avLst/>
          </a:prstGeom>
          <a:solidFill>
            <a:srgbClr val="000000"/>
          </a:solidFill>
          <a:ln w="2844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9880" rIns="1889640" tIns="0" bIns="0" anchor="ctr">
            <a:noAutofit/>
          </a:bodyPr>
          <a:p>
            <a:pPr marL="6480">
              <a:lnSpc>
                <a:spcPct val="114000"/>
              </a:lnSpc>
              <a:tabLst>
                <a:tab algn="l" pos="0"/>
                <a:tab algn="l" pos="6480"/>
                <a:tab algn="l" pos="920880"/>
                <a:tab algn="l" pos="1835280"/>
                <a:tab algn="l" pos="2749680"/>
                <a:tab algn="l" pos="3664080"/>
                <a:tab algn="l" pos="4578480"/>
                <a:tab algn="l" pos="5492880"/>
                <a:tab algn="l" pos="6407280"/>
                <a:tab algn="l" pos="7321680"/>
                <a:tab algn="l" pos="8236080"/>
                <a:tab algn="l" pos="9150480"/>
                <a:tab algn="l" pos="10064880"/>
                <a:tab algn="l" pos="10333080"/>
                <a:tab algn="l" pos="10782360"/>
              </a:tabLst>
            </a:pPr>
            <a:r>
              <a:rPr b="1" lang="da-DK" sz="1500" spc="-1" strike="noStrike">
                <a:solidFill>
                  <a:srgbClr val="ffffff"/>
                </a:solidFill>
                <a:latin typeface="Trebuchet MS"/>
              </a:rPr>
              <a:t>Presentation by Claus Madsen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75EE6-656A-4E47-9465-8888380CCA2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Jurisdictional specific models (27 countries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-bil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Zero-coupon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mortizing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ond Forwards and Fu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and Accrued Interest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 Imp. Yield Spread, Modified Duration and WA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and Japanese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st-Of-Carry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arbell Strateg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8E3526-07F2-4E5E-B229-0473F6905DBF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, Quadrati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model parameters using Caps/Floor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default probabilities using a variety of methods, for exampl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market prices of credi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ing the Transition Matri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ansition Matrix too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ng the Transition Matrix for any time-perio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1EA913-3562-48D1-B11C-CBF5A289161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Credit Bond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using either the Credit Curve or using the default probabilit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, keyfigur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S, 1st to default, nth to defaul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DO’s – incl. STCDO and mor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676F9-3ECB-4AB5-9579-88577DEF5B0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211400" y="1371600"/>
            <a:ext cx="7699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Linear Correlation, Rank Correlation, Correlation assuming a GBM process and EWMA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on of the Correlation Matrix given a Target Correlation Matrix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Know the Market rules f0r CTD-Futures, for example: CBOT, EURONEXT, EUREX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eapest-To-Deliver calculations and determination of Conversion-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CTD-Futures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Risk-Measures and 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inking to internal database with Danish/Swedish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data queri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generic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and manage yieldcurves/swap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ng pool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50610F-BCFB-4AFA-9F78-6B2F7CCF74E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211400" y="1268280"/>
            <a:ext cx="76993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round 30 Functions to handle anything in connection with day-calculation and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19 Calendar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uilt-in Holiday Calendars + The ability to Customize Holiday Calendars</a:t>
            </a: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dvanced payment structures – including for example Step-Up Coupon structures and variable amortization sched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Pricing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lack 76, Black-Scholes, 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558760-C34D-4139-A87B-796D956465C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pecify you own extended Flex MBB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ighly flexible pricing engine for Flex MBB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4FBB96-7CB3-49F6-B133-9F1718529F3B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Floating-Rate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ully flexible methods for specifying how to calculate the coupon, this includes for example: Super Coup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C58422-5D2E-4E70-A61A-FC2DC6B1EB5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RA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X Forward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quity and Commodity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rest-Rate Futures – pricing and 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Europe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arman-Kohlhagen, Displaced Diffusion, CEV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 American options using a variety of  model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rone-Adesi, Ju-Zhong and CR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ful and flexible CRR implementatio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 of sensitivity numbers, like for example: Delta and Gam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9863B1-B6ED-41D6-8171-C16515C5FC7A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143000" y="1295280"/>
            <a:ext cx="76993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PR: “The return over a pre-defined period, given assumptions about the primo values of the assets, the removed cash flows, the refinancing of the removed cash flows and the ultimo values”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powerful generic HPR module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BB prepayment model forecast in the calcu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prepayment schedul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Work with multiple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trol OAS/NPV evolu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ly CPI-Curve from IR-Changes and spill-over effec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orecast missing CPI-Data using standard ISDA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timating CPI-Curves using Inflation Swaps-or Index Bond Data – taken into account seasona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witching between Inflation-Rate curves and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00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nstructing CPI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ED6A94-ED37-402F-9EB3-B07B433E1839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ype of Index Bonds include OATs, UK Index-Linked Gilts (IGs), Swedish Index Bonds, TIIS and Danish Index Bonds or similar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de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CPI-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B6BE78-D8E3-4B24-A45F-3C5F2B461DB1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26D0F5-109A-4C52-AADA-C223CD7846B5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11400" y="1295280"/>
            <a:ext cx="76993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Inflation Swaps using tailor-made functions – including YoY Inflation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-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Spreads and Fixed Inflation 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ate models belonging to the MCEV cla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echniques for matching the initial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everal ways to generate the random numbers - for example Box-Muelle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ultiple variance reduction techniques available, like for example Brownia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Bridge and Measure Transform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AA94E1-94B2-4CFB-8C95-BE889EB9618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reat MBBs as straight bond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Highly flexible pricing engine for MBB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CK93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PR/SQ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User defined CK9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ny Yield-Curve model from One-Factor Lattice can be use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r own MBB using Taylor 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fine your own prepayment mod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. OAS Spread and OAS adjust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lculation of refinancing profi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526F51-713C-49FA-B471-BB09E69A860D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Hull-White, Black-Karisinski, BDT, Quadratic, CIR deterministic Shif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uropean, American or Bermudan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strument coverage: Bond-Options, Swaptions and Cap-Flo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ing and Risk-meas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lculations on portfolio lev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Grid Calculation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ncipal component analysi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stimating principal fa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imultaneously work with 5 different PCA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F931B3-1BCE-4222-AA07-A822AA3BEA3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Text Box 1027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asis Swaps, Amortizing Swaps and Rollercoaster Swaps, Compounding Swaps, Libor-In-Arrears  and CMS/CM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ower Swaps, Average Rate Swaps and General mismatch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terest Rate Swaps and Cross Currenc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quity and Commodity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ar Swap Analysis and calculation of Libor-Spreads and Swap-Rat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ash flow generato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odels: Black76, CIR Deterministic Shifts, Ho-Lee, Hull-Whi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Price,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mplicit Strike and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ing model parameters using Swaptions Market 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E141D-AD04-4D04-AF03-6DECEA0D926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Bond/MBB/Credit Yield-Curv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Estimate the Swap Yield-Curve – includ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Deposits, FRA’s, Futures, Swap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hift the Yield-Curve using Key-Rate Shifts, Bucket Shifts or Twis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ools for Yield-Curve interpol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Build the Yield-Curve using your favorite Yield-Curve model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Hull-White, Ho-Lee, CIR, CIR Extended, Quadratic, CIR Deterministic Shift, Vasicek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onstruct Forward Yield-Cur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N-period Historic Volat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6 Univariate Garch Mode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olatility assuming a GBM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EWM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Garch Volatility forecast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dsholder til diasnummer 3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022EB-915B-4BC1-8FD0-06D003575CFF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Dyalog APL in 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3BF299-8FB8-44D7-B9B9-05C03C799AE0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Dyalog APL is used as an in-process OLE-Server – 99.9% af all APL is embedded in a Com-Object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Other Software used in FinE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.NET packages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ChilkatDotNet2.dll – used for FTP, ZIP, XML and Crypt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sPose.Cells.dll (.NET 2.0) – used for communicating with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LaPack – for some math (eigenvalue calculation etc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MatLab Com-Object – is in the process of being replaced with Extreme.Numerics.dll (.NET 2.0) – for optimization etc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C++ are used for connecting FinE-Core to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VBA for building the interface in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eneric Database Interface uses SQAPL 5.0, most widely use is with SQL-Server 200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Most importantly – for the presentation here – we use Techila Grid for performing Grid-Computation! (Java + C++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179049-8796-4D33-B349-BC9ABE92FAC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Grid Computing…. Why is that of interest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Some type of Instruments are fairly complex, and to price them (even more importantly to obtain risk-measures) is therefore a relative slow proces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Risk-Management – at least if we do not wish to rely on a Gaussian Distribution Assumption – we need to perform a lot of calculations in order to derive the return distribution for the portfolio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This is even more pronounced when perform “What-If” calculations!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In ALM (Asset-Liability-Management) we in general also need to perform many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Remark: All-in-All we need to do a huge amount of calculations, and even on a moderate complex portfolio that is time-cosuming!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19C25-5B85-4463-AD98-47C2CB2903B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yalog APL in 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113040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mplementing Grid Computing in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FL_Init initializes the Grid (incl. loading in methods from the Grid-dll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PortCalculat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not available (or PortSetInGrid = “NO”), then all calculations are performed locall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If Grid is available (and PortSetInGrid = “YES”), then calculations are done in the 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The Main function is: RUN_PORTFOLIO_IN_GRI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20B2F9-9417-43FB-B91B-6DF7FEDDAC3F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o is FinE Analytics 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inE Analytics was founded by Claus Madsen in 2001 on the idea of developing a framework system consisting of a central container of financial components, which can be used by all of the companys financial application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s the interest for FinE increased, the need for more manpower increased. In 2002 Søren Andersen joined FinE Analytics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6 FinE made a partnership with IT-Practice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www.it-practice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urthermore, we have a partnership with Six Finansinformation A/S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www.six.dk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. (Danish and Swedish financial 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 2008 FinE made a partnership with Techila Technologies Ltd (</a:t>
            </a:r>
            <a:r>
              <a:rPr b="0" lang="da-DK" sz="13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techila.fi</a:t>
            </a: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A80DA0-45DD-4BFB-B2E7-2B0015D93994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9600" y="693720"/>
            <a:ext cx="677844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hat do we have?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cial framework system, which covers all kinds of analysis, keyfigure calculations, pricing and risk management of a wide range of financial instruments and derivativ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which offers efficient, centralised and robust financial calcula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inansial system which is independent of the customers choice of database (for marketdata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A framework system that can be used directly from MS Excel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 call the framework system: </a:t>
            </a:r>
            <a:r>
              <a:rPr b="1" lang="da-DK" sz="13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FE7469-054F-4D66-9A28-E582EE7F38B3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9600" y="693000"/>
            <a:ext cx="6778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da-DK" sz="19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2760" y="350676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Dyalog APL in </a:t>
            </a:r>
            <a:r>
              <a:rPr b="1" i="1" lang="da-DK" sz="1300" spc="-1" strike="noStrike">
                <a:solidFill>
                  <a:srgbClr val="000000"/>
                </a:solidFill>
                <a:latin typeface="Trebuchet MS"/>
              </a:rPr>
              <a:t>FinE..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2760" y="2951280"/>
            <a:ext cx="5508720" cy="272880"/>
          </a:xfrm>
          <a:prstGeom prst="rect">
            <a:avLst/>
          </a:prstGeom>
          <a:solidFill>
            <a:srgbClr val="264e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About Fin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82760" y="2395440"/>
            <a:ext cx="5508720" cy="273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293760" tIns="42120" bIns="4212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About FinE Analytic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494480" y="239544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494480" y="2951280"/>
            <a:ext cx="297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13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494480" y="3506760"/>
            <a:ext cx="29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120" tIns="0" bIns="0" anchor="ctr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a-DK" sz="1300" spc="-1" strike="noStrike">
                <a:solidFill>
                  <a:srgbClr val="000000"/>
                </a:solidFill>
                <a:latin typeface="Trebuchet MS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7D440-B2A2-4296-92D4-8A6C229DCC9E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The core of FinE is a set of advanced financial components which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re built on 18 years of experience from similar development projects,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nclude methods and calculations for a wide range of financial products – probably the largest range compared to any similar system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Offers 1200+ financial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Very flexible and easy to integrate with other IT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COM (.NET) interface with all the integration possibilities that these offer (VB, VBA, C++, C#, etc.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Web Services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Database indepencend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Use FinE with or without marketdat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Integrates with all common databases (Oracle, Sybase, MS SQL Server)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Generic database interfa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tabLst>
                <a:tab algn="l" pos="0"/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EE245-7FF6-4394-BF19-9D9B1A2F85B8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QA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Automated tests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ocus on new and relevant financial scienc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Up-to-date with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market conven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Focus on operational optimization of financial problems =&gt; some of the fastest calculations in the market on e.g. motgage backed-bonds, RenteMax, etc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Flexibility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atabase independence and integration possibilities gives higher fiexibility towards the customers existing system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rebuchet MS"/>
              </a:rPr>
              <a:t>We keep a close contact with our customers and a very anxious to hear about specific methods and wishes for new component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da-DK" sz="1300" spc="-1" strike="noStrike">
                <a:solidFill>
                  <a:srgbClr val="000000"/>
                </a:solidFill>
                <a:latin typeface="Trebuchet MS"/>
              </a:rPr>
              <a:t>Extremely fast Time-To-Marke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1338120" y="1255680"/>
            <a:ext cx="3351240" cy="505296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Bond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apsFloor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redit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orre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CT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abas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atefunc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Debt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Equity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ex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loatingRate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5281560" y="1255680"/>
            <a:ext cx="3392640" cy="5068800"/>
          </a:xfrm>
          <a:prstGeom prst="rect">
            <a:avLst/>
          </a:prstGeom>
          <a:noFill/>
          <a:ln w="9360">
            <a:solidFill>
              <a:srgbClr val="264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orwar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FXO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HP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dexBond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InflationDerivativ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onteCarl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MBB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OneFactorLattic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ortfolio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PCA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waption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System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Termstructures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lvl="1" marL="157320" indent="-155880">
              <a:lnSpc>
                <a:spcPct val="126000"/>
              </a:lnSpc>
              <a:spcBef>
                <a:spcPts val="964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FinE_Volatility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797D-8914-4838-831B-76CA90DB4F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dsholder til diasnummer 2"/>
          <p:cNvSpPr/>
          <p:nvPr/>
        </p:nvSpPr>
        <p:spPr>
          <a:xfrm>
            <a:off x="7966080" y="6119640"/>
            <a:ext cx="9795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9AE8D-DEAB-4504-8D15-4D41BD22D87B}" type="slidenum"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&lt;number&gt;</a:t>
            </a:fld>
            <a:r>
              <a:rPr b="0" lang="da-DK" sz="900" spc="-1" strike="noStrike">
                <a:solidFill>
                  <a:srgbClr val="264e84"/>
                </a:solidFill>
                <a:latin typeface="Trebuchet MS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9600" y="412560"/>
            <a:ext cx="67784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288"/>
              </a:lnSpc>
              <a:buNone/>
              <a:tabLst>
                <a:tab algn="l" pos="0"/>
                <a:tab algn="l" pos="934920"/>
                <a:tab algn="l" pos="1871640"/>
                <a:tab algn="l" pos="2808360"/>
                <a:tab algn="l" pos="3745080"/>
                <a:tab algn="l" pos="4681440"/>
                <a:tab algn="l" pos="5618160"/>
                <a:tab algn="l" pos="6554880"/>
                <a:tab algn="l" pos="7491240"/>
                <a:tab algn="l" pos="8427960"/>
                <a:tab algn="l" pos="9364680"/>
                <a:tab algn="l" pos="103014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FinE</a:t>
            </a:r>
            <a:endParaRPr b="1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93920" y="1109520"/>
            <a:ext cx="6810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1400" y="1552680"/>
            <a:ext cx="769932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33480" tIns="33480" bIns="33480" anchor="t">
            <a:noAutofit/>
          </a:bodyPr>
          <a:p>
            <a:pPr lvl="1" marL="157320" indent="-155880">
              <a:lnSpc>
                <a:spcPct val="126000"/>
              </a:lnSpc>
              <a:spcBef>
                <a:spcPts val="1137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rebuchet MS"/>
              </a:rPr>
              <a:t>FinE_BoligX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Flexible and fast MC pricing engine with user control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Specify you own extended BoligX Bond using tailor-made function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omplete control over the fixing rule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ash flow generator with optional convexity adjustment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Yield calculations –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edemption Yield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Risk Measures - including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3" marL="7840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Imp OAS Spread and Modified Duration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lvl="2" marL="326880" indent="-164880">
              <a:lnSpc>
                <a:spcPct val="126000"/>
              </a:lnSpc>
              <a:spcBef>
                <a:spcPts val="326"/>
              </a:spcBef>
              <a:buClr>
                <a:srgbClr val="264e84"/>
              </a:buClr>
              <a:buFont typeface="Wingdings" charset="2"/>
              <a:buChar char=""/>
              <a:tabLst>
                <a:tab algn="l" pos="157320"/>
                <a:tab algn="l" pos="1071720"/>
                <a:tab algn="l" pos="1986120"/>
                <a:tab algn="l" pos="2900520"/>
                <a:tab algn="l" pos="3814920"/>
                <a:tab algn="l" pos="4729320"/>
                <a:tab algn="l" pos="5643720"/>
                <a:tab algn="l" pos="6558120"/>
                <a:tab algn="l" pos="7472520"/>
                <a:tab algn="l" pos="8386920"/>
                <a:tab algn="l" pos="9301320"/>
                <a:tab algn="l" pos="1021572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elta-Vectors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nE Analytics</dc:creator>
  <dc:description/>
  <dc:language>en-US</dc:language>
  <cp:lastModifiedBy>Claus Madsen</cp:lastModifiedBy>
  <dcterms:modified xsi:type="dcterms:W3CDTF">2008-10-10T13:10:49Z</dcterms:modified>
  <cp:revision>78</cp:revision>
  <dc:subject/>
  <dc:title>PowerPoint Presentation</dc:title>
</cp:coreProperties>
</file>