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04EC-3CF4-4134-87BB-7A8F75F4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9FCE-CBDE-42D6-9B99-A6731191B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E022-887E-4254-AB38-109FA89EE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37ED-287C-44FF-8214-A604C839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32B9-587C-403B-8EBD-648653CF0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F22D-45A3-46F0-BF72-7E2394BD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0D72-A480-43A7-BB64-B5B5DC07A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A14-73CC-4011-A7B0-B664E9C3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492-60B7-4B23-B11E-65C498DB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596-0CF1-465D-A24E-BB6B456F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B83-AAD3-4AB6-8DD8-92ECB19C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C88-3FD4-43CD-B624-93C6D85F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786-0FEF-4108-9259-0683FE4C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277-AF55-4EF3-A61B-D172A9DA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E47-D129-4843-925D-DDF69370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231-E193-49A3-BACB-7903298D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928-D90F-4409-88EA-3CA5917D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BB4-D80C-4236-985C-A603381E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944-5445-4617-B3EF-94D3B9A1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34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1667-ACED-47D3-AC1E-C69617BEA2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FC23-F229-40BB-8E00-605E8507AF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14200" y="64296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Zip + Unz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using APL and 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4597a0"/>
                </a:solidFill>
                <a:latin typeface="Arial"/>
              </a:rPr>
              <a:t>Gianluigi Q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Dyalog User Conferenc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4F9E-E6A1-4458-8624-FC730C1C75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4920" y="642960"/>
            <a:ext cx="4214880" cy="585792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NET 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&gt;= </a:t>
            </a: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System.IO.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7120" y="642960"/>
            <a:ext cx="4357800" cy="585792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NET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System.IO.Co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ICSharp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SharpZip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nettore 1 12"/>
          <p:cNvSpPr/>
          <p:nvPr/>
        </p:nvSpPr>
        <p:spPr>
          <a:xfrm>
            <a:off x="928800" y="2286000"/>
            <a:ext cx="3143160" cy="500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nettore 1 14"/>
          <p:cNvSpPr/>
          <p:nvPr/>
        </p:nvSpPr>
        <p:spPr>
          <a:xfrm flipV="1">
            <a:off x="1000080" y="2214360"/>
            <a:ext cx="3071880" cy="57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ccia in giù 17"/>
          <p:cNvSpPr/>
          <p:nvPr/>
        </p:nvSpPr>
        <p:spPr>
          <a:xfrm>
            <a:off x="2357280" y="300024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nettore 1 21"/>
          <p:cNvSpPr/>
          <p:nvPr/>
        </p:nvSpPr>
        <p:spPr>
          <a:xfrm>
            <a:off x="5072040" y="2214720"/>
            <a:ext cx="3143160" cy="500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ttore 1 22"/>
          <p:cNvSpPr/>
          <p:nvPr/>
        </p:nvSpPr>
        <p:spPr>
          <a:xfrm flipV="1">
            <a:off x="5143680" y="2143080"/>
            <a:ext cx="3071520" cy="5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262673"/>
                </a:solidFill>
                <a:latin typeface="Arial"/>
              </a:rPr>
              <a:t>Primary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3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rchive fil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tect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udit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original zip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ressor compliant with popula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348C-F9A1-4A21-92CF-5DB8F20F13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75" name="Titolo 10"/>
          <p:cNvSpPr/>
          <p:nvPr/>
        </p:nvSpPr>
        <p:spPr>
          <a:xfrm>
            <a:off x="571680" y="3643200"/>
            <a:ext cx="82296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262673"/>
                </a:solidFill>
                <a:latin typeface="Arial"/>
              </a:rPr>
              <a:t>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contenuto 24"/>
          <p:cNvSpPr/>
          <p:nvPr/>
        </p:nvSpPr>
        <p:spPr>
          <a:xfrm>
            <a:off x="642960" y="4500720"/>
            <a:ext cx="8229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TP, Emai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ave disk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262673"/>
                </a:solidFill>
                <a:latin typeface="Arial"/>
              </a:rPr>
              <a:t>Neglec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ther format of archiv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UI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curse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litting zip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ile filter for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rgery inside a zip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6D1C-3D74-4AB3-892C-978A287E4F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7136-192B-4A89-8DE8-D948DF6844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28760" y="642960"/>
            <a:ext cx="8429400" cy="585792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NET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System.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ICSharpCode.SharpZipLib</a:t>
            </a: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ZipNet.D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roce 16"/>
          <p:cNvSpPr/>
          <p:nvPr/>
        </p:nvSpPr>
        <p:spPr>
          <a:xfrm>
            <a:off x="4214880" y="2357280"/>
            <a:ext cx="71424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roce 18"/>
          <p:cNvSpPr/>
          <p:nvPr/>
        </p:nvSpPr>
        <p:spPr>
          <a:xfrm>
            <a:off x="4357800" y="3714840"/>
            <a:ext cx="71424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3635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AB99-B001-47CB-ACDA-4D17AA17D9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pdfgreyline"/>
          <p:cNvPicPr/>
          <p:nvPr/>
        </p:nvPicPr>
        <p:blipFill>
          <a:blip r:embed="rId1"/>
          <a:stretch/>
        </p:blipFill>
        <p:spPr>
          <a:xfrm>
            <a:off x="785880" y="357120"/>
            <a:ext cx="7032600" cy="142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0" y="6642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Elsinore  Octobe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magine 8" descr="mgr2.gif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654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28760" y="642960"/>
            <a:ext cx="8429400" cy="585792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ZipNetIsZip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&lt;file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ZipNetZip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&lt;zip output file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filename(s) to be compressed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password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ZipNetUnzip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&lt;zip input file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output directoryname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[&lt;password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08:15Z</dcterms:created>
  <dc:creator>vibeke</dc:creator>
  <dc:description/>
  <dc:language>en-US</dc:language>
  <cp:lastModifiedBy>Gianluigi Quario</cp:lastModifiedBy>
  <dcterms:modified xsi:type="dcterms:W3CDTF">2008-10-03T12:27:40Z</dcterms:modified>
  <cp:revision>45</cp:revision>
  <dc:subject/>
  <dc:title>Slide 1</dc:title>
</cp:coreProperties>
</file>