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2115-C2AD-4543-992A-6204390613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7B8D-5D4E-4D90-BA91-6EA31A9827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8896-44B4-4A15-9437-7662B72722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FA2A-CCCE-40FC-8C05-58B63498E9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984D-A0AA-4C5E-B010-FAF1ED0985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811D-0B63-408E-8EA0-2C8DF7EE43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D1AC-5288-4178-BC84-ECF0F12E34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5220-1B28-4BDB-9631-5A5CA05E8F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67A5-346A-46FF-B3C0-61DF794D34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D2D9-2F5D-4AB5-B565-D45CF08E9D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68E5-7085-40C0-AB1B-14F21B3D02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1A0A-185D-4E90-A161-F62B8C113F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4747-4756-4C8C-9549-59F4EA21E8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37F8-9912-4215-A752-C8CB598681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30FC-82D6-448C-8666-9AADBB8C15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DEB7-F28E-4171-B3ED-4485B99BE8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964A-0D7A-4507-BFB0-4C1F2F3C3F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B527-CCEC-4791-8538-AB3E4EBCA5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119B-28FC-4871-AAAD-9A93FD4322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C9F7-7071-402D-A334-1E513FF45D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50A4-46EC-449B-BE5F-F2667A8317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3E91-3005-445A-BC7B-A29713B81B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FECA-217A-429D-A1F3-A7B84EA5A7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DBCD-B509-4CD7-B47D-3F547C7F67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E8D0-849C-4738-B983-77090E1BF6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8914-75CF-4257-9CB7-83EAC0780D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63C7-6193-464D-BFA9-49C4CDF47B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5603-D00D-4A84-ADE2-C9F3D68D02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1438-F4F0-4003-9610-259946BB96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B429-4621-41ED-BFF2-F2993EB665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20B7-5485-4B29-82CB-BCA48F737D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0D65-9BA2-44F7-B0FB-4AE5F5D6C6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2F27-F1D8-4628-88FB-8F30E97DB6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90D8-8CD6-434F-9CA8-49E40AA607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1183-025B-4577-B8B4-713FC99561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771-345E-4D6E-9886-059BD006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F0AE-9342-4D82-9BEF-2E73E5DD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7E70A1-421E-44EE-BE2D-A075DEED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278A66-B5CB-4224-BCBD-73E974ED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F60507-A66B-422F-A891-16CE9AF6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798DB6-DD9E-4B19-A8C8-9A7E1066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F789EF-9628-432C-8E15-BFB4D771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9D8F43-C48B-4DC9-B1FA-7DBFF95D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E4A0D7-27B1-4716-A528-BE7FD592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405E3D-A215-4632-A322-60D5EC9A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0469F9-F19A-49F5-A5DF-FDD0C5E5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52E9D-EE70-473B-BAF1-2C5CD959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DE7-B7D0-42CE-B94B-80BFF438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B6F90-3E96-4EBC-80E5-A48694BE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23664-2B4C-41B0-B7DD-A21CFEDA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DAAFA-9A3B-4682-B628-89605469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15480-4F62-40FF-9B77-A1C9716E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7A378-E3F3-46F1-971A-93A36906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76F91-BA19-4C18-99AF-1CF5F6D3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440A2-3382-4B31-9CF7-68006BD5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CBD62-4D36-41C3-B44D-137F81FD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69B41-9EFA-495F-A761-4AE3EC8F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C205A-3978-4F62-B74A-28C1E125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E58-0BD8-4E9C-9921-CE757E43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13913-0138-4A43-86EF-4C8E6987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927F2-DBB6-4229-A373-B1224FB7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5B24A-D8EC-4F16-A434-98446653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47371-545C-4C16-8A0C-09599289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9C3F9-F99A-47BB-BBDD-CDBB6C05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FB890-71F7-45E4-944C-CDCF629E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92D79-647E-49DA-BE22-E2B04AB7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8A9ED-7267-4224-A341-AF7C7C10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5D48F-44CC-41B7-BA2A-9D34930C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BEC01-D061-46C9-94A5-CAA6E4A1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20C0-9CB0-4866-B98A-4CD5674C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F4771-B979-454F-8F31-11791EC5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90D1C-63A9-44F6-811F-3FC0224E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7AD6F-29A5-46D7-8031-500C300D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41564-8457-4C94-9F76-535291D2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B8459-3065-49E8-84B6-A54FCFE7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BF84F-A55F-4FA6-87D6-BE1367B4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646D5-FD33-41AC-88FB-1B5F80C0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257AA-6068-485E-9875-DCDC47F1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CD8A9-9902-4879-8F0F-37BCDD86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DF484-0363-452F-BEAC-3EA2362E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CE2E-DEBE-48A3-9E87-A48453F6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8FAB6-37BF-4F92-BD12-FEEEB62E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7B4F8-2ED1-43BA-AB12-8DA4CA07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A58AF-62A4-4563-9657-A358E013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957A6-0296-4F12-938C-7E603F1C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A11DE-C3F5-4906-9E31-53870B90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3A290-1121-4B93-B4E0-C96691AD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4BA7F-6206-4278-8EE8-8A58F26E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A24BF-4ADD-4A0F-86C8-D6F47F4E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14CCC-F069-458D-B2A1-B37CE639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203BDB-B537-4233-AC29-94674E86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CBC3-3581-4B04-A781-A898DFBE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81AC77-3087-4149-97EE-493BB726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5ED56D-7F6D-42AF-BB14-8A974C93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F1BE40-5A05-4EC9-93A6-FE300AAF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1E2E6-24F9-48E2-9B7C-D50A05AC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1FA04-60F2-47FC-A829-BD837F67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0E4AE-7B09-4031-9199-F90AC0FE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72A5C-C2C0-4C68-9FEC-1D8758C7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3594D-6493-467C-B337-ED472EBC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3CF41D-AFA6-4FFF-BB26-9D994A3F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A0552B-EF9F-44C1-826D-AF58857C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DE56-DF57-4E65-A5C0-5A3BD27A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1EB1F8-ECA7-4877-AC75-1E4C01CA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10CEA-4073-432B-A026-FDA3E210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FA60DD-1968-4613-B3FF-D5AFB0DA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CF0074-8DA3-4CE5-824F-A765F4F3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98EDD2-556F-4DC4-8E9B-13D232A8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24B283-D59E-4A48-BC89-B1CE8766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30C93A-6B0A-43BF-B936-58650F5A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89C678-0E62-4793-B196-8AD0D547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805C14-E4B4-4975-9992-4EDF0E25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D6D6-62A9-47EE-B1E7-BB9AD4B4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FF86-596D-4A12-8580-385CF01E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3C12-9A74-46DB-B58F-2049CEE5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FF8-EED8-4895-A38E-77E40ABD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A3FB-D753-44A0-B9D0-0AFE8137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AC45-59EE-4117-BDE4-72151F94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0978-6A79-4B32-9E0B-5A13D8FE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8505-A6B2-4570-93BB-E446A8F1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850E-3968-4E7E-954C-E9E8B725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CF7DD-8F56-4AB6-BA70-83A3ACF7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8A10A-1FA0-47F2-AB4C-92527103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85551-6957-48D4-A464-34E8FAAC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D47D1-6999-4DEA-A7CB-42D5B401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148FE-D481-4AF0-8E05-054679CA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5BF5-33BA-49EA-B362-C127160D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ABC6A-3E5A-4F3F-92BD-97E13E91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93DA4-556D-47F9-BB3C-27BED402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82D4B-B8F9-41DC-9C06-DF504308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FE86D-5E89-4CD9-A9BF-914EC240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40EC5-64B7-4A53-814E-7B92F944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D8686-15D3-4356-8066-D38F1476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3BFD3-EF6A-4E87-93A2-7AF081F1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638E2-283F-4031-9028-93FDE3E4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140A4-9DA9-4E19-8CD2-408AFE30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F9991-D4AB-41BC-A2EA-450B2C2F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8DB1-9891-4780-8004-A97A24EB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4FA9C-48B5-4164-BFE7-A30F7DD5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C8978-D722-4161-AFFB-8EEF1F2A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0A181-5C04-4ADA-B848-F573290F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C7589-B38A-4579-8ADC-529EF8D1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9491D-7DD6-48C5-B470-D71B5FB2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20D36-9D0A-4D0E-A37C-522741C7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F5623-F52D-4500-8B1C-8C05DE85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8A9D2-DB17-4F20-9FBF-56B47CDD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3E50B-FF19-4B4C-ADF6-BFB18726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8F2D4-F57B-40B0-B9AC-67D80131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6B4-2EBE-44E3-920A-5112DC44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9D76A-8DC3-472C-9148-C9D3B6F8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F5823-128D-4A90-BCA2-53149525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625DA-DB40-4885-98A4-A56E6966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B4AC1-4C8C-4273-9AE1-3B0E647C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29E70-E253-42C0-A5CD-CCE44F19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29534-B3A7-4FC1-AB90-6258ACEC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10923-D4C1-4C8F-B325-C7AF2131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730FA-B79A-4B43-909C-0C6E952B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D9752-DF6E-4485-97C7-92A70073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B1250-53F6-4437-A726-64295545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78E-C921-41A2-BFE7-3B471D9C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5736C-FE13-4046-B530-D39E4AB3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E29F5-6037-4A19-89D8-A5A7F2A1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31CE7-81CC-4498-AD2C-D206A51E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485DA-CDC2-48DC-803A-E812AD3E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2E517-D794-4B31-883E-ECB7E223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3FD62-43D0-4E29-9277-7EE5B7A0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48529-DEDB-4822-A94E-7CFDD712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D0AD2-1FFF-4EC6-BD95-A2E460CB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E1B39-A256-4514-AB06-89C0A41B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562FA-DEE8-427D-9311-12E0F376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9A51-CFBD-4174-8A41-25B5F9F3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A0F85-09FB-403C-B799-A088AD88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43EB8-73D7-47CB-B0ED-BAE4385C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2045C-5D53-4BB9-A6E5-30163CD3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B90C3-C5A3-4957-AC23-DCE48975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E1060-9BB3-40B7-AC32-DA05B397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43EEE-33A9-4EB7-B3AC-E8E7EF39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8E7DF-1A3B-440B-8234-C0741F2F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6D8C3-57E1-498F-8A46-69E6CC93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16631-7AA0-4938-BB3A-98B04B5F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1EE51-A010-465A-BDCA-31ACA7A1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4C5-A5F3-4210-A308-BAB5CF8D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B9870-41C6-448A-9DC6-2AACB122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7AC15-C1D7-4BB7-94CA-EA12DF24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D0B98-54DA-4E1D-B0F3-A221780E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CFAEB-0A15-4912-A665-4C9F17F7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651F0-D993-4797-9C86-E48B7826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0B276-195A-4149-B864-6A9D4744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F52E4-57E3-4834-9E29-49AB7266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20457-6D06-4AB5-B206-FC8C2EF2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07480-4E63-4621-8A09-B6A808DC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872D8-3D3B-414D-AF6F-C31B2EAD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AA4F-2A8B-4919-B9B7-E8E5B2D8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985E8-EE6F-4803-9A06-26FC625D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4559D-30DC-4A8D-86D1-B1581DFE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772E8-8428-4EEA-9127-D18F1581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F34DF-9C35-436B-BC25-768AEEAE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9FDA5-A2A9-44A3-8494-7F9FE52D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17E41-820F-4A4B-8624-303E130C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5A57C-6ADB-4BC3-9830-F04F534B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A36AA4-6B5B-494C-9F93-2D2DF779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FDD573-1A81-42CC-A198-F6216978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41EDB2-7654-4DFF-8A4C-8A4E0E78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3F2C-F75A-4D9B-B42B-D7A4F791345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1677-6051-4FB6-ABE0-3E9DCCB6932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A938-491C-4B59-82ED-68E7D1FCE9D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2494-BAF7-458F-8F7C-4FD60622A4C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282A-8A55-4FA9-BB36-D193B2D0DA2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0EC6-08F5-4F8B-BCB3-975756D3335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22B3-3709-4C8B-AFD3-8B549D117E7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01C4-A95C-4861-820A-26A30F47B13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243D-2C85-492E-9299-7773E5837D5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0A90-D5F2-456E-9D1B-1B81385F82C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87C8-0EA2-4521-95F6-39052457CCB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31CA-8ED6-426A-A437-86C1D4068BC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F483-B21F-40D7-84AC-DC3FD94CDFC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60C3-A1A2-4314-BA0E-17151BDCD3E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3" descr="wyrm2008.jpg"/>
          <p:cNvPicPr/>
          <p:nvPr/>
        </p:nvPicPr>
        <p:blipFill>
          <a:blip r:embed="rId1"/>
          <a:stretch/>
        </p:blipFill>
        <p:spPr>
          <a:xfrm>
            <a:off x="1643040" y="714240"/>
            <a:ext cx="5318280" cy="49294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542916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’08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plication” Trend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42600" y="185724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icrosoft.Net is a strong unifying for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Open Source .Net (”Mono”) is now embedded with many Linux distribu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differences between platforms are shrinking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ortability is as important as ever – and should be getting easier to achiev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ervice Buses”, and open standards like WebServices, are supported on all platform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llows easy and secure integration of tools </a:t>
            </a:r>
            <a:r>
              <a:rPr b="1" i="1" lang="da-DK" sz="2400" spc="-1" strike="noStrike">
                <a:solidFill>
                  <a:srgbClr val="333333"/>
                </a:solidFill>
                <a:latin typeface="Geneva"/>
              </a:rPr>
              <a:t>inside and outside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of the .Net Framework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8622-EAE6-47CB-99F7-6639D08480A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latform Philosoph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Many of the most successful APL coders are very ”problem oriented”. They have no wish to recode to adapt to the ”IT flavour of the month”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Rapid development... But also ULTRA long-term maintainability &amp; portability is very important to us and to many of our customers. </a:t>
            </a:r>
            <a:r>
              <a:rPr b="0" i="1" lang="da-DK" sz="2400" spc="-1" strike="noStrike">
                <a:solidFill>
                  <a:srgbClr val="333333"/>
                </a:solidFill>
                <a:latin typeface="Geneva"/>
              </a:rPr>
              <a:t>NO ”big bang” migration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PL code &amp; data are binary compatible across platform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espite these constraints, good design has allowed better integration with modern platforms than competitor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Current trends (.Net/Mono) provide more, and better ways for us to achieve all of these goal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4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E286-ADFE-4135-981E-B16AA171A8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urrent Research Projects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42600" y="185724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Exploiting multi-core architectur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ithin the interpreter: For example, use several cores to execute a primitive func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Under control of the user (fork the application at suitable points, decided by the APL developer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upport for writing Web Services in APL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rototype is available, will be bundled with v12.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ool to run a Dyalog app as a ”Windows Service” too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2ACF-D983-46D3-A5CC-F863C59B606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3" descr="wyrm2008.jpg"/>
          <p:cNvPicPr/>
          <p:nvPr/>
        </p:nvPicPr>
        <p:blipFill>
          <a:blip r:embed="rId1"/>
          <a:stretch/>
        </p:blipFill>
        <p:spPr>
          <a:xfrm>
            <a:off x="6643800" y="5429160"/>
            <a:ext cx="14284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ikely Research Projects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Implement new Development Environment based on .Net/Mono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Would be easily portable to any platform where .Net or Mono is available (almost everywhere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Can be connected to APL on a different machine / platform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55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Geneva"/>
              </a:rPr>
              <a:t>Extend .Net bridge to allow APL developers to use Mono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Related to, but independant of the IDE project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Design and Implement Prototype of a </a:t>
            </a:r>
            <a:r>
              <a:rPr b="0" i="1" lang="da-DK" sz="2000" spc="-1" strike="noStrike">
                <a:solidFill>
                  <a:srgbClr val="333333"/>
                </a:solidFill>
                <a:latin typeface="Geneva"/>
              </a:rPr>
              <a:t>Managed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APL Interpreter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Based on the Microsoft.Net runtim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Would allow Dyalog components to run inside web browsers, etc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Language / interpreter research into using multiple cor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For example fuse trains of primitives into a single unit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55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Geneva"/>
              </a:rPr>
              <a:t>File Acceleration Server (on the Back Burner)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Secure, Fast Component File System as a Service via TCP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5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7706-1075-4DDE-A752-5523FD76732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New IDE and Managed APL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Managed interpreter would NOT be a replacement for the current Dyalog system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76080" indent="-259920">
              <a:spcBef>
                <a:spcPts val="55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Geneva"/>
              </a:rPr>
              <a:t>Unlikely to be 100% upwards compatible, even at the core language level – due to framework constraints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676080" indent="-259920">
              <a:spcBef>
                <a:spcPts val="55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333333"/>
                </a:solidFill>
                <a:latin typeface="Geneva"/>
              </a:rPr>
              <a:t>Initially aimed at writing </a:t>
            </a:r>
            <a:r>
              <a:rPr b="0" i="1" lang="da-DK" sz="2200" spc="-1" strike="noStrike">
                <a:solidFill>
                  <a:srgbClr val="333333"/>
                </a:solidFill>
                <a:latin typeface="Geneva"/>
              </a:rPr>
              <a:t>components</a:t>
            </a:r>
            <a:r>
              <a:rPr b="0" lang="da-DK" sz="2200" spc="-1" strike="noStrike">
                <a:solidFill>
                  <a:srgbClr val="333333"/>
                </a:solidFill>
                <a:latin typeface="Geneva"/>
              </a:rPr>
              <a:t> to be embedded in web servers or other ”frameworks”, where </a:t>
            </a:r>
            <a:r>
              <a:rPr b="0" i="1" lang="da-DK" sz="2200" spc="-1" strike="noStrike">
                <a:solidFill>
                  <a:srgbClr val="333333"/>
                </a:solidFill>
                <a:latin typeface="Geneva"/>
              </a:rPr>
              <a:t>managed code</a:t>
            </a:r>
            <a:r>
              <a:rPr b="0" lang="da-DK" sz="2200" spc="-1" strike="noStrike">
                <a:solidFill>
                  <a:srgbClr val="333333"/>
                </a:solidFill>
                <a:latin typeface="Geneva"/>
              </a:rPr>
              <a:t> is a requirement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New IDE would work with both the current and the .Net interpret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76080" indent="-2599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Interpreters would inter-operate as ”seamlessly” as possib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76080" indent="-2599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It should be easy to write and maintain systems composed of components based on both system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0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0026-9938-4333-856E-48914C2D504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wo Prongs - Alway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42600" y="2071800"/>
            <a:ext cx="817236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must make it easy to write components that can be embedded in enterprise development framework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333333"/>
                </a:solidFill>
                <a:latin typeface="Geneva"/>
              </a:rPr>
              <a:t>BUT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must also constantly strive to make it easier for the lone entrepreneur or ”domain expert” to build a complete application without learning how to operate heavy machinery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5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2032-3F01-4B0C-933C-39D7BB38216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evt Too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will look at providing ”simpler” ways to use modern GUI and Web framework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Likely to be prototyped in APL, like the WebService framework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hould we invest in CausewayPro as a GUI design tool for ”simple” applications?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will work on building (and collecting) general developer tools. For example, a tool for test-driven developmen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0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9004-A6C7-4075-9240-6EC88A35F82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2.1 IDE Enhanc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42960" y="1785960"/>
            <a:ext cx="850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Better support for editing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ake it easier to work with individual functions in a 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ome ideas prototyped - see John Daintree’s presentation right after lunch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Better access to .Net metadat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Evaluate and Autocomplete, and other idea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(Also look at performance of .Net marshalling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5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8D9D-181F-4291-895B-9E7511E0EEE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2.1 Perform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Boolean Scans and Redu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See Roger Hui at 14:15 to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ndexing and Indexed Assignmen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Rewritten, primarily to reduce space consumption, but speed also improved for some cas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See Nic Delcros and John Scholes at 15:3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et membership and lookup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Will revisit algorithms for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∊ ⍳ ∩ ∪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Have ideas for transpose and inner produc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Experiments with using multiple cores to execute primitives on large array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0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5FEC-2886-46C8-9EC6-4EECB680BA7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Boolean Speedups </a:t>
            </a:r>
            <a:r>
              <a:rPr b="1" lang="da-DK" sz="1800" spc="-1" strike="noStrike">
                <a:solidFill>
                  <a:srgbClr val="333333"/>
                </a:solidFill>
                <a:latin typeface="Geneva"/>
              </a:rPr>
              <a:t>(by Roger Hui)</a:t>
            </a:r>
            <a:endParaRPr b="1" lang="en-US" sz="1800" spc="-1" strike="noStrike">
              <a:solidFill>
                <a:srgbClr val="333333"/>
              </a:solidFill>
              <a:latin typeface="Geneva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500040" y="1928880"/>
          <a:ext cx="7786800" cy="2786040"/>
        </p:xfrm>
        <a:graphic>
          <a:graphicData uri="http://schemas.openxmlformats.org/drawingml/2006/table">
            <a:tbl>
              <a:tblPr/>
              <a:tblGrid>
                <a:gridCol w="341280"/>
                <a:gridCol w="744480"/>
                <a:gridCol w="744480"/>
                <a:gridCol w="744840"/>
                <a:gridCol w="744480"/>
                <a:gridCol w="744480"/>
                <a:gridCol w="744480"/>
                <a:gridCol w="744480"/>
                <a:gridCol w="744480"/>
                <a:gridCol w="744840"/>
                <a:gridCol w="744480"/>
              </a:tblGrid>
              <a:tr h="2318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29160" rIns="29160" tIns="14760" bIns="14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atios in Execution 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 v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 x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 x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 c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 c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 od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[0]x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[0]x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[0]c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f[0]o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≠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76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3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5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5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6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5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9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=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48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3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7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4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6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2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2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9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∧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x 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x 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x 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8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4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∨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x 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x 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x 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6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4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1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+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x 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7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6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3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6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≠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\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8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64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64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0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5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5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05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73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2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=\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3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4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5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0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9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7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82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37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∧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\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3.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2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1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6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2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8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02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76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9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4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∨</a:t>
                      </a: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\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9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51.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9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5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6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7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92.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63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9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4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&lt;\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90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8.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4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5.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0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02.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70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9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8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EE91-5160-4676-AB24-FE70880977C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8"/>
          <p:cNvSpPr/>
          <p:nvPr/>
        </p:nvSpPr>
        <p:spPr>
          <a:xfrm>
            <a:off x="428760" y="4929120"/>
            <a:ext cx="3786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PL385 Unicode"/>
              </a:rPr>
              <a:t>v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← randbool 6.4e6 +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ve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PL385 Unicode"/>
              </a:rPr>
              <a:t>xw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← randbool 1000 100 6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with word-multiple # of colum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PL385 Unicode"/>
              </a:rPr>
              <a:t>x8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← randbool 1000 114 5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with multiple-of-8 # of 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9"/>
          <p:cNvSpPr/>
          <p:nvPr/>
        </p:nvSpPr>
        <p:spPr>
          <a:xfrm>
            <a:off x="4500720" y="4929120"/>
            <a:ext cx="4143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PL385 Unicode"/>
              </a:rPr>
              <a:t>c5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← randbool 1.28e6 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array with 5 colum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PL385 Unicode"/>
              </a:rPr>
              <a:t>c8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← randbool 890 900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array with 8 colum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PL385 Unicode"/>
              </a:rPr>
              <a:t>odd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← randbool 56638 1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an odd number of columns (&gt; 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777384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echnical Road Map ’08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785600" y="3571560"/>
            <a:ext cx="5257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orten Kromber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Dyalog’08 - Elsinor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00" name="Picture 3" descr="wyrm2008.jpg"/>
          <p:cNvPicPr/>
          <p:nvPr/>
        </p:nvPicPr>
        <p:blipFill>
          <a:blip r:embed="rId1"/>
          <a:stretch/>
        </p:blipFill>
        <p:spPr>
          <a:xfrm>
            <a:off x="142920" y="5429160"/>
            <a:ext cx="14288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rioritizing Perform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have ideas and some clear customer requests (like Indexing and Iota), bu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need your help to measure which primitives are importa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Recently patched version 12.0 systems include a monitor which can be enabled using the startup parameter   </a:t>
            </a:r>
            <a:r>
              <a:rPr b="1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-D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e APL monitor registers CPU consumption broken down by primitiv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95DE-5480-4FD8-A809-1A95B57C49D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 Monitor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hen started with </a:t>
            </a:r>
            <a:r>
              <a:rPr b="1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–Dm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  <a:ea typeface="Courier New"/>
              </a:rPr>
              <a:t>, Dyalog will create a file called </a:t>
            </a:r>
            <a:r>
              <a:rPr b="1" lang="da-DK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aplmon.csv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  <a:ea typeface="Courier New"/>
              </a:rPr>
              <a:t> at the end of the session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45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  <a:ea typeface="Courier New"/>
              </a:rPr>
              <a:t>With thanks to CONAC for permission to show this data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7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40C6-B843-4823-B83D-4A3E096F573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4" descr=""/>
          <p:cNvPicPr/>
          <p:nvPr/>
        </p:nvPicPr>
        <p:blipFill>
          <a:blip r:embed="rId1"/>
          <a:stretch/>
        </p:blipFill>
        <p:spPr>
          <a:xfrm>
            <a:off x="1428840" y="2714760"/>
            <a:ext cx="661032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MON Summa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3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D0F6-89A4-4C50-B17F-5542FFDC651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Picture 2" descr=""/>
          <p:cNvPicPr/>
          <p:nvPr/>
        </p:nvPicPr>
        <p:blipFill>
          <a:blip r:embed="rId1"/>
          <a:stretch/>
        </p:blipFill>
        <p:spPr>
          <a:xfrm>
            <a:off x="0" y="1571760"/>
            <a:ext cx="79437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MON Drill Dow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0C3A-E462-481F-A3C2-C661EDD1677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Picture 3" descr=""/>
          <p:cNvPicPr/>
          <p:nvPr/>
        </p:nvPicPr>
        <p:blipFill>
          <a:blip r:embed="rId1"/>
          <a:stretch/>
        </p:blipFill>
        <p:spPr>
          <a:xfrm>
            <a:off x="0" y="1878120"/>
            <a:ext cx="914400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PLMON Summa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hile 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⎕MONITOR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finds hot-spots in your application, APLMON finds them in the interpret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f you send data collected while running time-critical application code, this will help us prioritise our tuning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If your requirements don’t end up at the top of our list, you can join the ”sponsor a primitive” programme </a:t>
            </a:r>
            <a:r>
              <a:rPr b="0" lang="da-DK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PLMON is available via DSS now. The analysis workspace will be available as a free download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NB: Nice bar graphs in the session require the latest (Oct 7th) APL385 Unicode font (in the ”Conference Edition” folder on the memory stick)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5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2D31-4ABC-4BAB-B1F9-8505EADAC8B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Let APL Decide When to Fork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Experiment: Use multiple cores when executing scalar dyadic functions (arrays &gt;32k elements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anks to Norbert Jurkiewicz at Carlisle for testing on his quad core Windows serv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0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3273-3AE2-4831-A170-3CBB0661117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2286000" y="2928960"/>
          <a:ext cx="4786200" cy="2225520"/>
        </p:xfrm>
        <a:graphic>
          <a:graphicData uri="http://schemas.openxmlformats.org/drawingml/2006/table">
            <a:tbl>
              <a:tblPr/>
              <a:tblGrid>
                <a:gridCol w="1595520"/>
                <a:gridCol w="1041480"/>
                <a:gridCol w="2149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2 c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4 c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5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70-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GCD/L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5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70-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etting APL Decide...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Seems to work well on functions as expensive as floating-point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÷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For ”cheaper” functions, we suspect that data cannot be delivered fast enough by the processors memory-management sub-system. Cores all run at 100% but don’t finish (much) faster than a single core would.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Looks interesting for large applications of functions like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÷!*⍟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on floating-point numbers. Some derived fns and idioms. Hashing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34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And anything involving </a:t>
            </a:r>
            <a:r>
              <a:rPr b="0" lang="da-DK" sz="1800" spc="-1" strike="noStrike">
                <a:solidFill>
                  <a:srgbClr val="333333"/>
                </a:solidFill>
                <a:latin typeface="APL385 Unicode"/>
              </a:rPr>
              <a:t>⎕CT</a:t>
            </a: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: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≤ &lt; = &gt; ≥ ⌈ ⌊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We learned that measuring and understanding performance of multi-threaded applications is HARD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Compiler-style data-flow analysis would help (turn a train of primitives into a unit), and is also HARD (but easier for dfns</a:t>
            </a:r>
            <a:r>
              <a:rPr b="0" lang="da-DK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6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370C-B944-41A9-98B1-11087AA7B9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et the User Decide to Fork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Using multiple cores within primitives is transparent to the APL programmer, so very easy to us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However, forking and collecting on each primitive only works well in some cases. Synchronization and data loading/storing cause bottleneck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average size of an array passed to a primitive is </a:t>
            </a:r>
            <a:r>
              <a:rPr b="1" i="1" lang="da-DK" sz="2400" spc="-1" strike="noStrike">
                <a:solidFill>
                  <a:srgbClr val="333333"/>
                </a:solidFill>
                <a:latin typeface="Geneva"/>
              </a:rPr>
              <a:t>very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small in most application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n many situations, better utilization of the processor is possible if the APL developer controls forking at a higher level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1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D396-615F-410B-BC0C-7859FBB1607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 Notation for Fork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n addition to the implicit parallel nature of many primitives, Dyalog has two explicit forking mechanisms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da-DK" sz="2000" spc="-1" strike="noStrike">
                <a:solidFill>
                  <a:srgbClr val="333333"/>
                </a:solidFill>
                <a:latin typeface="Geneva"/>
              </a:rPr>
              <a:t>each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operator (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¨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):</a:t>
            </a:r>
            <a:br>
              <a:rPr sz="2000"/>
            </a:br>
            <a:r>
              <a:rPr b="1" lang="da-DK" sz="2000" spc="-1" strike="noStrike">
                <a:solidFill>
                  <a:srgbClr val="333333"/>
                </a:solidFill>
                <a:latin typeface="Geneva"/>
              </a:rPr>
              <a:t>   </a:t>
            </a:r>
            <a:r>
              <a:rPr b="1" lang="da-DK" sz="2000" spc="-1" strike="noStrike">
                <a:solidFill>
                  <a:srgbClr val="333333"/>
                </a:solidFill>
                <a:latin typeface="APL385 Unicode"/>
              </a:rPr>
              <a:t>     function¨dat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A ”dot” to the right of an array of namespaces:</a:t>
            </a:r>
            <a:br>
              <a:rPr sz="2000"/>
            </a:br>
            <a:r>
              <a:rPr b="1" lang="da-DK" sz="2000" spc="-1" strike="noStrike">
                <a:solidFill>
                  <a:srgbClr val="333333"/>
                </a:solidFill>
                <a:latin typeface="APL385 Unicode"/>
              </a:rPr>
              <a:t>      ns_array.function dat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  <a:ea typeface="Courier New"/>
              </a:rPr>
              <a:t>In both cases,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  <a:ea typeface="Courier New"/>
              </a:rPr>
              <a:t>function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  <a:ea typeface="Courier New"/>
              </a:rPr>
              <a:t> is (logically) executed in parallel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  <a:ea typeface="Courier New"/>
              </a:rPr>
              <a:t>Due to current limitations in workspace management, Dyalog APL cannot actually make the calls in parallel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  <a:ea typeface="Courier New"/>
              </a:rPr>
              <a:t>However, imagine if we had a mechanism to generate namespaces outside the current workspace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6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0526-30F6-4F89-ABDC-AC4BA7AB1B4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emo of Model of Fork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(remember to run with SHOW←1 and inspect the Demo function)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nss←⎕NS¨ '' ''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nss.mat←⊂¯1000+?500 500⍴2000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nss.(0⍕3 3↑mat+.×⌹mat) ⍝ show top left of mat times its inverse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1  0  0    1  0  0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0  1  0    0  1  0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0  0  1    0  0  1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(elapsed time: 18920 msec)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remote←Y 2 ⍝ Y is the ”fork” function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remote.mat←⊂¯1000+?500 500⍴2000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remote.(0⍕3 3↑mat+.×⌹mat)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1  0  0    1  0  0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0  1  0    0  1  0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0  0  1    0  0  1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(elapsed time: 11256 msec)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1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C80D-7511-4D0C-9683-8AD9073BB72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ooking Back: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85800" y="198108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33333"/>
                </a:solidFill>
                <a:latin typeface="Geneva"/>
              </a:rPr>
              <a:t>Version 11.0 (Autumn 2006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Object Orientation – </a:t>
            </a:r>
            <a:r>
              <a:rPr b="0" i="1" lang="da-DK" sz="2800" spc="-1" strike="noStrike">
                <a:solidFill>
                  <a:srgbClr val="333333"/>
                </a:solidFill>
                <a:latin typeface="Geneva"/>
              </a:rPr>
              <a:t>Clas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New Tool of Though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ignificantly Improved Integration with .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ource code management using standard tool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64-bit Version - LARGE Workspa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ore Language Extensio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 number of new primitives:  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⍣ ⌷ ∧ ∨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2147-9449-4210-A5EF-C213AFDFBA4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orking Mode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right argument to Fork could be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586800" indent="-2257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000" spc="-1" strike="noStrike">
                <a:solidFill>
                  <a:srgbClr val="333333"/>
                </a:solidFill>
                <a:latin typeface="Geneva"/>
              </a:rPr>
              <a:t>n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: create empty namespac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586800" indent="-2257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000" spc="-1" strike="noStrike">
                <a:solidFill>
                  <a:srgbClr val="333333"/>
                </a:solidFill>
                <a:latin typeface="Geneva"/>
              </a:rPr>
              <a:t>ref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: copy an existing namespace or object inst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586800" indent="-22572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000" spc="-1" strike="noStrike">
                <a:solidFill>
                  <a:srgbClr val="333333"/>
                </a:solidFill>
                <a:latin typeface="Geneva"/>
              </a:rPr>
              <a:t>wsname: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create a remote namespace from a saved workspa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0720" indent="-2707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model is a function built on the Conga RPCServer example cod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0720" indent="-2707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APL model offers (almost) all the performance benefits, but not the elegance of interpreter support – which would put parallel execution ”at your fingertips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0720" indent="-27072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would like to explore the design thoroughly with you before implementing support in the languag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APL385 Unicode"/>
              </a:rPr>
              <a:t>    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6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2AC8-0469-4052-96D4-D20F017F7DB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Dyalog’08 Conference Edi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Most of Roger Hui’s work on boolean scans and redu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New implementation of indexing (but not yet indexed assignment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arallel processing of ”large” scalar function calls, controlled by environment variables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4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APL_MIN_PARALLEL  (array size at which extra cores are used, default 32767)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4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APL_MAX_THREADS  (number of cores to use, default 2)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The workspace DYALOG08 contains a function which shows off the features of the new interpreter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333333"/>
                </a:solidFill>
                <a:latin typeface="Geneva"/>
              </a:rPr>
              <a:t>Warning: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Do NOT use this interpreter for anything other than experiments. Enabling APLMON in it crashes in my build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1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64FC-5876-4B5A-86FB-5E9DE1DE13F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Dyalog’08 Conference Edi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6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FB4D-E7C8-4997-9DA6-6543C2862D2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0" y="1500120"/>
            <a:ext cx="7915320" cy="493416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2" descr=""/>
          <p:cNvPicPr/>
          <p:nvPr/>
        </p:nvPicPr>
        <p:blipFill>
          <a:blip r:embed="rId2"/>
          <a:stretch/>
        </p:blipFill>
        <p:spPr>
          <a:xfrm>
            <a:off x="2214720" y="1500120"/>
            <a:ext cx="787716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da-DK" sz="2800" spc="-1" strike="noStrike">
                <a:solidFill>
                  <a:srgbClr val="333333"/>
                </a:solidFill>
                <a:latin typeface="Geneva"/>
              </a:rPr>
              <a:t>Release Notes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for version 12.1 will be much thinner than the notes for v11.0 and v12.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t will be faster and strong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t will look better, too (with GRAPL graphics and IDE enhancements)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nd after that, things will get </a:t>
            </a:r>
            <a:r>
              <a:rPr b="0" i="1" lang="da-DK" sz="2800" spc="-1" strike="noStrike">
                <a:solidFill>
                  <a:srgbClr val="333333"/>
                </a:solidFill>
                <a:latin typeface="Geneva"/>
              </a:rPr>
              <a:t>really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interesting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3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802B-BB5C-423A-ADAC-A6F1A0FBF46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Other Talks by Devt. Team...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8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78BF-21DD-4339-ACC6-E8EEF955515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428760" y="1643040"/>
          <a:ext cx="8001000" cy="2225520"/>
        </p:xfrm>
        <a:graphic>
          <a:graphicData uri="http://schemas.openxmlformats.org/drawingml/2006/table">
            <a:tbl>
              <a:tblPr/>
              <a:tblGrid>
                <a:gridCol w="857160"/>
                <a:gridCol w="714384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Today (Mon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: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Daintree: Version 12.1 IDE Fea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oger Hui: Performance Improvements in Dyalog – A Case Stu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5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Nic Delcros and John Scholes: Interpreter Perform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ichard Smith and John Scholes: Journaled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nathan Manktelow: APL+Windows Presentation Fou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2" name=""/>
          <p:cNvGraphicFramePr/>
          <p:nvPr/>
        </p:nvGraphicFramePr>
        <p:xfrm>
          <a:off x="642960" y="3857760"/>
          <a:ext cx="8001000" cy="1112760"/>
        </p:xfrm>
        <a:graphic>
          <a:graphicData uri="http://schemas.openxmlformats.org/drawingml/2006/table">
            <a:tbl>
              <a:tblPr/>
              <a:tblGrid>
                <a:gridCol w="857160"/>
                <a:gridCol w="714384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Tomorrow (Tues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Morten Kromberg: Conga, SLL and WebService Tu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6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Adrian Smith: RainPro Tu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3" name=""/>
          <p:cNvGraphicFramePr/>
          <p:nvPr/>
        </p:nvGraphicFramePr>
        <p:xfrm>
          <a:off x="857160" y="5000760"/>
          <a:ext cx="8001000" cy="1112760"/>
        </p:xfrm>
        <a:graphic>
          <a:graphicData uri="http://schemas.openxmlformats.org/drawingml/2006/table">
            <a:tbl>
              <a:tblPr/>
              <a:tblGrid>
                <a:gridCol w="857520"/>
                <a:gridCol w="714348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Wednesday (Cours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Dan Baronet: Source Code Mgt using SALT and Sub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John Daintree: Using the Microsoft.Net 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ooking Back: v12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irst Release (Win32) in February 2008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ain Features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Unicode Suppor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Journaling Component Files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implified, Secure Communications Toolkit (“Conga”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Built-In Charting and Document Creat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Language Bar and On-Screen Keyboard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Release schedule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Windows (32&amp;64), Intel Linux, AIX/32 are availabl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AIX/64 will soon be released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Windows Mobile at year end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Solaris versions, other Unixes “on demand”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6E92-F260-43E2-87D6-C17AD306FB9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3" descr="wyrm2008.jpg"/>
          <p:cNvPicPr/>
          <p:nvPr/>
        </p:nvPicPr>
        <p:blipFill>
          <a:blip r:embed="rId1"/>
          <a:stretch/>
        </p:blipFill>
        <p:spPr>
          <a:xfrm>
            <a:off x="6643800" y="5429160"/>
            <a:ext cx="14284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More About v12 (&amp;v11):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42600" y="185724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Geneva"/>
              </a:rPr>
              <a:t>Journaling Component Files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16:00-16:30 Monday (Richard Smith &amp; John Scholes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55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Geneva"/>
              </a:rPr>
              <a:t>Simplified, Secure Communications Toolkit (“Conga”)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16:00-18:00 Tuesday (Morten Kromberg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55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Geneva"/>
              </a:rPr>
              <a:t>Built-In Charting and Document Creation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16:00-18:00 Tuesday (Adrian Smith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55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Geneva"/>
              </a:rPr>
              <a:t>Source Code Management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13:30-16:30 Wednesday (Dan Baronet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55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Geneva"/>
              </a:rPr>
              <a:t>Unicode Support</a:t>
            </a:r>
            <a:endParaRPr b="0" lang="en-US" sz="2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Workshop Sunday (Morten Kromberg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Short Demo </a:t>
            </a:r>
            <a:r>
              <a:rPr b="1" i="1" lang="en-GB" sz="1800" spc="-1" strike="noStrike">
                <a:solidFill>
                  <a:srgbClr val="333333"/>
                </a:solidFill>
                <a:latin typeface="Geneva"/>
              </a:rPr>
              <a:t>now!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7ECA-3746-4D24-A5EE-A866955037A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Date Placeholder 3"/>
          <p:cNvSpPr/>
          <p:nvPr/>
        </p:nvSpPr>
        <p:spPr>
          <a:xfrm>
            <a:off x="685800" y="6324480"/>
            <a:ext cx="217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 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8BC1-B9BE-4E43-832E-9A5D0BA096A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Enhancements 1998-2008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285840" y="1571760"/>
          <a:ext cx="8358120" cy="4545000"/>
        </p:xfrm>
        <a:graphic>
          <a:graphicData uri="http://schemas.openxmlformats.org/drawingml/2006/table">
            <a:tbl>
              <a:tblPr/>
              <a:tblGrid>
                <a:gridCol w="714240"/>
                <a:gridCol w="765360"/>
                <a:gridCol w="68785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V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(c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Major Fea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TCP/IP, OLE Automation, Dynamic Functions, :Tr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Multithreading, :Hold, :With, GIF &amp; PNG, ActiveXControl, Calendar, ToolControl, TabControl, Splitter, CoolBar, NWise Reduction, Scalar Primitives with Ax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Namespace and GUI object ”Refs”, Dot Syntax for GUI &amp; OLE objects, Windows 2000 GUI (ComboEX etc), Doc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.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.NET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Idiom Recognition, Retained Hash tables, Auto-completion, Pocket A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Tokens for thread synchronisation, 64-bit component files,  Value Tips, More Grid enhancements, Extended function header syntax, Thread Debu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Object Orientation, 64-bit interpreter, Tighter .Net Integration, Squad, Power Operator, LCM/GCD, Simple APL Library Tookit (SAL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.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Unicode, Journaling Component Files, Integrated Graphics and Reporting Tools, Conga, APL Language Bar, more 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.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Secure Sockets, Web Service Framework,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APL385 Unicode"/>
                        </a:rPr>
                        <a:t>⎕F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What’s Next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yalog has developed at a breathtaking pace 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Features for each release have often been researched, prototyped and released in a single cycl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is has made it hard to ensure quality and difficult to predict release dat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t is our goal to become a little more predictable – </a:t>
            </a:r>
            <a:r>
              <a:rPr b="0" i="1" lang="da-DK" sz="2400" spc="-1" strike="noStrike">
                <a:solidFill>
                  <a:srgbClr val="333333"/>
                </a:solidFill>
                <a:latin typeface="Geneva"/>
              </a:rPr>
              <a:t>without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losing momentum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4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FF38-5361-4513-84B5-4E14BF4EDC9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ersion 12.1 (2009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Version 12.1 will contain few ”visible” changes – at least  compared to recent releas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e theme is </a:t>
            </a:r>
            <a:r>
              <a:rPr b="0" i="1" lang="da-DK" sz="2400" spc="-1" strike="noStrike">
                <a:solidFill>
                  <a:srgbClr val="333333"/>
                </a:solidFill>
                <a:latin typeface="Geneva"/>
              </a:rPr>
              <a:t>Enterprise Applications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, but you don’t need to be an ”Enterprise” to benefit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Focus on performance, scalability, quality/reliability - and making applications easier to deplo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Polishing off ”recent” features: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400"/>
              </a:spcBef>
              <a:buClr>
                <a:srgbClr val="ff8000"/>
              </a:buClr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Better support for editing namespace and class scripts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400"/>
              </a:spcBef>
              <a:buClr>
                <a:srgbClr val="ff8000"/>
              </a:buClr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More work on Unicode-based source code management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n parallel, we will start research projects which may not appear until </a:t>
            </a:r>
            <a:r>
              <a:rPr b="0" i="1" lang="da-DK" sz="2400" spc="-1" strike="noStrike">
                <a:solidFill>
                  <a:srgbClr val="333333"/>
                </a:solidFill>
                <a:latin typeface="Geneva"/>
              </a:rPr>
              <a:t>after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12.1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F06F-CF06-4BB8-B61E-3E0EAD38D02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latform” Trend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Proprietary Unixes (AIX, Solaris, 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remember hp?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) are ”fading” in favour of Linux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indows remains the most important platform for our users at this point in tim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64-bit is becoming common in Unix/Linux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Even Windows users are slo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o</a:t>
            </a: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o</a:t>
            </a: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o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ly moving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ulti (at least 2)-core machines are everywher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MUST make it easy to harness them from AP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4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Technical Road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57F3-2598-49A8-84C0-F46EA49F6C5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6T22:41:42Z</dcterms:created>
  <dc:creator>Gitte Christensen</dc:creator>
  <dc:description/>
  <dc:language>en-US</dc:language>
  <cp:lastModifiedBy>Morten Kromberg</cp:lastModifiedBy>
  <dcterms:modified xsi:type="dcterms:W3CDTF">2008-10-13T11:33:05Z</dcterms:modified>
  <cp:revision>298</cp:revision>
  <dc:subject/>
  <dc:title>Rolling the Process</dc:title>
</cp:coreProperties>
</file>