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8.jpeg" ContentType="image/jpeg"/>
  <Override PartName="/ppt/media/image20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5.wmf" ContentType="image/x-wmf"/>
  <Override PartName="/ppt/media/image14.jpeg" ContentType="image/jpeg"/>
  <Override PartName="/ppt/media/image8.png" ContentType="image/png"/>
  <Override PartName="/ppt/media/image33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1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1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1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44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1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44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1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89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17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1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89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17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1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1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1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44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1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1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44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1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1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44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44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1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44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1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5085"/>
                </a:solidFill>
                <a:latin typeface="Variable Bl"/>
              </a:rPr>
              <a:t>Click to edit the title text format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1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2350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5085"/>
                </a:solidFill>
                <a:latin typeface="Variable Bl"/>
              </a:rPr>
              <a:t>Click to edit the outline text format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lvl="1" marL="192240" indent="264960">
              <a:spcBef>
                <a:spcPts val="499"/>
              </a:spcBef>
              <a:buClr>
                <a:srgbClr val="b2d235"/>
              </a:buClr>
              <a:buFont typeface="Variable B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5085"/>
                </a:solidFill>
                <a:latin typeface="Variable Bl"/>
              </a:rPr>
              <a:t>Second Outline Level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lvl="2" marL="349200" indent="6480">
              <a:spcBef>
                <a:spcPts val="499"/>
              </a:spcBef>
              <a:buClr>
                <a:srgbClr val="808080"/>
              </a:buClr>
              <a:buFont typeface="Variable B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5085"/>
                </a:solidFill>
                <a:latin typeface="Variable Bl"/>
              </a:rPr>
              <a:t>Third Outline Level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lvl="3" marL="357120" indent="6480">
              <a:spcBef>
                <a:spcPts val="499"/>
              </a:spcBef>
              <a:buClr>
                <a:srgbClr val="808080"/>
              </a:buClr>
              <a:buFont typeface="Variable B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5085"/>
                </a:solidFill>
                <a:latin typeface="Variable Bl"/>
              </a:rPr>
              <a:t>Fourth Outline Level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lvl="4" marL="2320920" indent="-1955880">
              <a:spcBef>
                <a:spcPts val="499"/>
              </a:spcBef>
              <a:buClr>
                <a:srgbClr val="808080"/>
              </a:buClr>
              <a:buFont typeface="Variable B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5085"/>
                </a:solidFill>
                <a:latin typeface="Variable Bl"/>
              </a:rPr>
              <a:t>Fifth Outline Level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lvl="5" marL="2320920" indent="-1955880">
              <a:spcBef>
                <a:spcPts val="499"/>
              </a:spcBef>
              <a:buClr>
                <a:srgbClr val="000000"/>
              </a:buClr>
              <a:buFont typeface="Variable B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5085"/>
                </a:solidFill>
                <a:latin typeface="Variable Bl"/>
              </a:rPr>
              <a:t>Sixth Outline Level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lvl="6" marL="2320920" indent="-1955880">
              <a:spcBef>
                <a:spcPts val="499"/>
              </a:spcBef>
              <a:buClr>
                <a:srgbClr val="000000"/>
              </a:buClr>
              <a:buFont typeface="Variable B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5085"/>
                </a:solidFill>
                <a:latin typeface="Variable Bl"/>
              </a:rPr>
              <a:t>Seventh Outline Level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  <p:pic>
        <p:nvPicPr>
          <p:cNvPr id="2" name="Picture 25" descr="Tittelside"/>
          <p:cNvPicPr/>
          <p:nvPr/>
        </p:nvPicPr>
        <p:blipFill>
          <a:blip r:embed="rId2"/>
          <a:srcRect l="11450" t="0" r="22611" b="84956"/>
          <a:stretch/>
        </p:blipFill>
        <p:spPr>
          <a:xfrm>
            <a:off x="0" y="838080"/>
            <a:ext cx="228600" cy="717840"/>
          </a:xfrm>
          <a:prstGeom prst="rect">
            <a:avLst/>
          </a:prstGeom>
          <a:ln w="0">
            <a:noFill/>
          </a:ln>
        </p:spPr>
      </p:pic>
      <p:sp>
        <p:nvSpPr>
          <p:cNvPr id="3" name="Line 26"/>
          <p:cNvSpPr/>
          <p:nvPr/>
        </p:nvSpPr>
        <p:spPr>
          <a:xfrm>
            <a:off x="457200" y="1555920"/>
            <a:ext cx="8458200" cy="0"/>
          </a:xfrm>
          <a:prstGeom prst="line">
            <a:avLst/>
          </a:prstGeom>
          <a:ln w="3240">
            <a:solidFill>
              <a:srgbClr val="235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7" descr="Profdoc_logo_RGB_small"/>
          <p:cNvPicPr/>
          <p:nvPr/>
        </p:nvPicPr>
        <p:blipFill>
          <a:blip r:embed="rId3"/>
          <a:stretch/>
        </p:blipFill>
        <p:spPr>
          <a:xfrm>
            <a:off x="7924680" y="304920"/>
            <a:ext cx="965160" cy="288720"/>
          </a:xfrm>
          <a:prstGeom prst="rect">
            <a:avLst/>
          </a:prstGeom>
          <a:ln w="0">
            <a:noFill/>
          </a:ln>
        </p:spPr>
      </p:pic>
      <p:sp>
        <p:nvSpPr>
          <p:cNvPr id="5" name="Line 28"/>
          <p:cNvSpPr/>
          <p:nvPr/>
        </p:nvSpPr>
        <p:spPr>
          <a:xfrm>
            <a:off x="457200" y="6477120"/>
            <a:ext cx="8458200" cy="0"/>
          </a:xfrm>
          <a:prstGeom prst="line">
            <a:avLst/>
          </a:prstGeom>
          <a:ln w="3240">
            <a:solidFill>
              <a:srgbClr val="235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9080" y="64782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94920" y="64782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35085"/>
                </a:solidFill>
                <a:latin typeface="Variable Bl"/>
              </a:rPr>
              <a:t>Herding cats for fun and profit — growing your APL business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2876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35085"/>
                </a:solidFill>
                <a:latin typeface="Variable Bl"/>
              </a:rPr>
              <a:t>Joakim Hårsman </a:t>
            </a:r>
            <a:endParaRPr b="0" lang="en-US" sz="1800" spc="-1" strike="noStrike">
              <a:solidFill>
                <a:srgbClr val="235085"/>
              </a:solidFill>
              <a:latin typeface="Variable B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235085"/>
                </a:solidFill>
                <a:latin typeface="Variable Bl"/>
              </a:rPr>
              <a:t>Profdoc Care AB</a:t>
            </a:r>
            <a:endParaRPr b="0" lang="en-US" sz="1800" spc="-1" strike="noStrike">
              <a:solidFill>
                <a:srgbClr val="235085"/>
              </a:solidFill>
              <a:latin typeface="Variable B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ildobjekt 2" descr="ibm_5110_full.jpg"/>
          <p:cNvPicPr/>
          <p:nvPr/>
        </p:nvPicPr>
        <p:blipFill>
          <a:blip r:embed="rId1"/>
          <a:stretch/>
        </p:blipFill>
        <p:spPr>
          <a:xfrm>
            <a:off x="2357280" y="357120"/>
            <a:ext cx="43974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Bildobjekt 1" descr="20_rubmobile1_lg.jpg"/>
          <p:cNvPicPr/>
          <p:nvPr/>
        </p:nvPicPr>
        <p:blipFill>
          <a:blip r:embed="rId1"/>
          <a:stretch/>
        </p:blipFill>
        <p:spPr>
          <a:xfrm>
            <a:off x="1214280" y="1285920"/>
            <a:ext cx="68281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74" name="Grupp 2"/>
          <p:cNvGrpSpPr/>
          <p:nvPr/>
        </p:nvGrpSpPr>
        <p:grpSpPr>
          <a:xfrm>
            <a:off x="1714320" y="285840"/>
            <a:ext cx="5785920" cy="6286320"/>
            <a:chOff x="1714320" y="285840"/>
            <a:chExt cx="5785920" cy="6286320"/>
          </a:xfrm>
        </p:grpSpPr>
        <p:sp>
          <p:nvSpPr>
            <p:cNvPr id="75" name="Rak 3"/>
            <p:cNvSpPr/>
            <p:nvPr/>
          </p:nvSpPr>
          <p:spPr>
            <a:xfrm>
              <a:off x="1856520" y="285840"/>
              <a:ext cx="5643720" cy="6286320"/>
            </a:xfrm>
            <a:prstGeom prst="line">
              <a:avLst/>
            </a:prstGeom>
            <a:ln w="304920">
              <a:solidFill>
                <a:srgbClr val="2350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ak 4"/>
            <p:cNvSpPr/>
            <p:nvPr/>
          </p:nvSpPr>
          <p:spPr>
            <a:xfrm flipH="1">
              <a:off x="1714320" y="428400"/>
              <a:ext cx="5357880" cy="6072120"/>
            </a:xfrm>
            <a:prstGeom prst="line">
              <a:avLst/>
            </a:prstGeom>
            <a:ln w="304920">
              <a:solidFill>
                <a:srgbClr val="2350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v-SE" sz="20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00800" y="2928600"/>
            <a:ext cx="3008160" cy="31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235085"/>
                </a:solidFill>
                <a:latin typeface="Variable Bl"/>
              </a:rPr>
              <a:t>Regular programmer</a:t>
            </a:r>
            <a:endParaRPr b="0" lang="en-US" sz="4000" spc="-1" strike="noStrike">
              <a:solidFill>
                <a:srgbClr val="235085"/>
              </a:solidFill>
              <a:latin typeface="Variable Bl"/>
            </a:endParaRPr>
          </a:p>
        </p:txBody>
      </p:sp>
      <p:pic>
        <p:nvPicPr>
          <p:cNvPr id="79" name="Bildobjekt 4" descr="homer.jpg"/>
          <p:cNvPicPr/>
          <p:nvPr/>
        </p:nvPicPr>
        <p:blipFill>
          <a:blip r:embed="rId1"/>
          <a:stretch/>
        </p:blipFill>
        <p:spPr>
          <a:xfrm>
            <a:off x="214200" y="1643040"/>
            <a:ext cx="4500720" cy="4500720"/>
          </a:xfrm>
          <a:prstGeom prst="rect">
            <a:avLst/>
          </a:prstGeom>
          <a:ln w="0">
            <a:noFill/>
          </a:ln>
        </p:spPr>
      </p:pic>
      <p:sp>
        <p:nvSpPr>
          <p:cNvPr id="80" name="Höger 5"/>
          <p:cNvSpPr/>
          <p:nvPr/>
        </p:nvSpPr>
        <p:spPr>
          <a:xfrm rot="10800000">
            <a:off x="3571920" y="3143160"/>
            <a:ext cx="1643040" cy="10000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235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v-SE" sz="2000" spc="-1" strike="noStrike">
              <a:solidFill>
                <a:srgbClr val="235085"/>
              </a:solidFill>
              <a:latin typeface="Variable Bl"/>
            </a:endParaRPr>
          </a:p>
        </p:txBody>
      </p:sp>
      <p:pic>
        <p:nvPicPr>
          <p:cNvPr id="82" name="Bildobjekt 9" descr="mccarthy.jpeg"/>
          <p:cNvPicPr/>
          <p:nvPr/>
        </p:nvPicPr>
        <p:blipFill>
          <a:blip r:embed="rId1"/>
          <a:stretch/>
        </p:blipFill>
        <p:spPr>
          <a:xfrm>
            <a:off x="571680" y="1643040"/>
            <a:ext cx="3429000" cy="4829040"/>
          </a:xfrm>
          <a:prstGeom prst="rect">
            <a:avLst/>
          </a:prstGeom>
          <a:ln w="0">
            <a:noFill/>
          </a:ln>
        </p:spPr>
      </p:pic>
      <p:pic>
        <p:nvPicPr>
          <p:cNvPr id="83" name="Bildobjekt 10" descr="BabyGnu.png"/>
          <p:cNvPicPr/>
          <p:nvPr/>
        </p:nvPicPr>
        <p:blipFill>
          <a:blip r:embed="rId2"/>
          <a:stretch/>
        </p:blipFill>
        <p:spPr>
          <a:xfrm>
            <a:off x="4143240" y="2000160"/>
            <a:ext cx="4429440" cy="4429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upp 11"/>
          <p:cNvGrpSpPr/>
          <p:nvPr/>
        </p:nvGrpSpPr>
        <p:grpSpPr>
          <a:xfrm>
            <a:off x="1714320" y="285840"/>
            <a:ext cx="5785920" cy="6286320"/>
            <a:chOff x="1714320" y="285840"/>
            <a:chExt cx="5785920" cy="6286320"/>
          </a:xfrm>
        </p:grpSpPr>
        <p:sp>
          <p:nvSpPr>
            <p:cNvPr id="85" name="Rak 12"/>
            <p:cNvSpPr/>
            <p:nvPr/>
          </p:nvSpPr>
          <p:spPr>
            <a:xfrm>
              <a:off x="1856520" y="285840"/>
              <a:ext cx="5643720" cy="6286320"/>
            </a:xfrm>
            <a:prstGeom prst="line">
              <a:avLst/>
            </a:prstGeom>
            <a:ln w="304920">
              <a:solidFill>
                <a:srgbClr val="2350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ak 13"/>
            <p:cNvSpPr/>
            <p:nvPr/>
          </p:nvSpPr>
          <p:spPr>
            <a:xfrm flipH="1">
              <a:off x="1714320" y="428400"/>
              <a:ext cx="5357880" cy="6072120"/>
            </a:xfrm>
            <a:prstGeom prst="line">
              <a:avLst/>
            </a:prstGeom>
            <a:ln w="304920">
              <a:solidFill>
                <a:srgbClr val="2350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Bildobjekt 1" descr="225px-Alan-C-Kay2b.jpg"/>
          <p:cNvPicPr/>
          <p:nvPr/>
        </p:nvPicPr>
        <p:blipFill>
          <a:blip r:embed="rId1"/>
          <a:stretch/>
        </p:blipFill>
        <p:spPr>
          <a:xfrm>
            <a:off x="428760" y="1785960"/>
            <a:ext cx="3528720" cy="4500720"/>
          </a:xfrm>
          <a:prstGeom prst="rect">
            <a:avLst/>
          </a:prstGeom>
          <a:ln w="0">
            <a:noFill/>
          </a:ln>
        </p:spPr>
      </p:pic>
      <p:pic>
        <p:nvPicPr>
          <p:cNvPr id="88" name="Bildobjekt 2" descr="byte_smalltalk_cover.jpg"/>
          <p:cNvPicPr/>
          <p:nvPr/>
        </p:nvPicPr>
        <p:blipFill>
          <a:blip r:embed="rId2"/>
          <a:stretch/>
        </p:blipFill>
        <p:spPr>
          <a:xfrm>
            <a:off x="4857840" y="1857240"/>
            <a:ext cx="3429000" cy="4543560"/>
          </a:xfrm>
          <a:prstGeom prst="rect">
            <a:avLst/>
          </a:prstGeom>
          <a:ln w="0">
            <a:noFill/>
          </a:ln>
        </p:spPr>
      </p:pic>
      <p:grpSp>
        <p:nvGrpSpPr>
          <p:cNvPr id="89" name="Grupp 3"/>
          <p:cNvGrpSpPr/>
          <p:nvPr/>
        </p:nvGrpSpPr>
        <p:grpSpPr>
          <a:xfrm>
            <a:off x="1714320" y="285840"/>
            <a:ext cx="5785920" cy="6286320"/>
            <a:chOff x="1714320" y="285840"/>
            <a:chExt cx="5785920" cy="6286320"/>
          </a:xfrm>
        </p:grpSpPr>
        <p:sp>
          <p:nvSpPr>
            <p:cNvPr id="90" name="Rak 4"/>
            <p:cNvSpPr/>
            <p:nvPr/>
          </p:nvSpPr>
          <p:spPr>
            <a:xfrm>
              <a:off x="1856520" y="285840"/>
              <a:ext cx="5643720" cy="6286320"/>
            </a:xfrm>
            <a:prstGeom prst="line">
              <a:avLst/>
            </a:prstGeom>
            <a:ln w="304920">
              <a:solidFill>
                <a:srgbClr val="2350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ak 5"/>
            <p:cNvSpPr/>
            <p:nvPr/>
          </p:nvSpPr>
          <p:spPr>
            <a:xfrm flipH="1">
              <a:off x="1714320" y="428400"/>
              <a:ext cx="5357880" cy="6072120"/>
            </a:xfrm>
            <a:prstGeom prst="line">
              <a:avLst/>
            </a:prstGeom>
            <a:ln w="304920">
              <a:solidFill>
                <a:srgbClr val="2350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ildobjekt 4" descr="eclipse_logo_30.gif"/>
          <p:cNvPicPr/>
          <p:nvPr/>
        </p:nvPicPr>
        <p:blipFill>
          <a:blip r:embed="rId1"/>
          <a:stretch/>
        </p:blipFill>
        <p:spPr>
          <a:xfrm>
            <a:off x="428760" y="1357200"/>
            <a:ext cx="3286080" cy="2168640"/>
          </a:xfrm>
          <a:prstGeom prst="rect">
            <a:avLst/>
          </a:prstGeom>
          <a:ln w="0">
            <a:noFill/>
          </a:ln>
        </p:spPr>
      </p:pic>
      <p:pic>
        <p:nvPicPr>
          <p:cNvPr id="93" name="Bildobjekt 5" descr="vim-editor_logo.png"/>
          <p:cNvPicPr/>
          <p:nvPr/>
        </p:nvPicPr>
        <p:blipFill>
          <a:blip r:embed="rId2"/>
          <a:stretch/>
        </p:blipFill>
        <p:spPr>
          <a:xfrm>
            <a:off x="4857840" y="12859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94" name="Bildobjekt 6" descr="subversion_logo-384x332.png"/>
          <p:cNvPicPr/>
          <p:nvPr/>
        </p:nvPicPr>
        <p:blipFill>
          <a:blip r:embed="rId3"/>
          <a:stretch/>
        </p:blipFill>
        <p:spPr>
          <a:xfrm>
            <a:off x="857160" y="3857760"/>
            <a:ext cx="2460600" cy="2127240"/>
          </a:xfrm>
          <a:prstGeom prst="rect">
            <a:avLst/>
          </a:prstGeom>
          <a:ln w="0">
            <a:noFill/>
          </a:ln>
        </p:spPr>
      </p:pic>
      <p:pic>
        <p:nvPicPr>
          <p:cNvPr id="95" name="Bildobjekt 7" descr="mercurial-logo1.png"/>
          <p:cNvPicPr/>
          <p:nvPr/>
        </p:nvPicPr>
        <p:blipFill>
          <a:blip r:embed="rId4"/>
          <a:stretch/>
        </p:blipFill>
        <p:spPr>
          <a:xfrm>
            <a:off x="4857840" y="3714840"/>
            <a:ext cx="3124080" cy="2717640"/>
          </a:xfrm>
          <a:prstGeom prst="rect">
            <a:avLst/>
          </a:prstGeom>
          <a:ln w="0">
            <a:noFill/>
          </a:ln>
        </p:spPr>
      </p:pic>
      <p:grpSp>
        <p:nvGrpSpPr>
          <p:cNvPr id="96" name="Grupp 8"/>
          <p:cNvGrpSpPr/>
          <p:nvPr/>
        </p:nvGrpSpPr>
        <p:grpSpPr>
          <a:xfrm>
            <a:off x="1714320" y="285840"/>
            <a:ext cx="5785920" cy="6286320"/>
            <a:chOff x="1714320" y="285840"/>
            <a:chExt cx="5785920" cy="6286320"/>
          </a:xfrm>
        </p:grpSpPr>
        <p:sp>
          <p:nvSpPr>
            <p:cNvPr id="97" name="Rak 9"/>
            <p:cNvSpPr/>
            <p:nvPr/>
          </p:nvSpPr>
          <p:spPr>
            <a:xfrm>
              <a:off x="1856520" y="285840"/>
              <a:ext cx="5643720" cy="6286320"/>
            </a:xfrm>
            <a:prstGeom prst="line">
              <a:avLst/>
            </a:prstGeom>
            <a:ln w="304920">
              <a:solidFill>
                <a:srgbClr val="2350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ak 10"/>
            <p:cNvSpPr/>
            <p:nvPr/>
          </p:nvSpPr>
          <p:spPr>
            <a:xfrm flipH="1">
              <a:off x="1714320" y="428400"/>
              <a:ext cx="5357880" cy="6072120"/>
            </a:xfrm>
            <a:prstGeom prst="line">
              <a:avLst/>
            </a:prstGeom>
            <a:ln w="304920">
              <a:solidFill>
                <a:srgbClr val="2350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ruta 1"/>
          <p:cNvSpPr/>
          <p:nvPr/>
        </p:nvSpPr>
        <p:spPr>
          <a:xfrm>
            <a:off x="857160" y="2500200"/>
            <a:ext cx="75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600" spc="-1" strike="noStrike">
                <a:solidFill>
                  <a:srgbClr val="235085"/>
                </a:solidFill>
                <a:latin typeface="Variable Bl"/>
              </a:rPr>
              <a:t>Recruit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Bildobjekt 2" descr="ibm_5110_full.jpg"/>
          <p:cNvPicPr/>
          <p:nvPr/>
        </p:nvPicPr>
        <p:blipFill>
          <a:blip r:embed="rId1"/>
          <a:stretch/>
        </p:blipFill>
        <p:spPr>
          <a:xfrm>
            <a:off x="2286000" y="500040"/>
            <a:ext cx="4397400" cy="6143760"/>
          </a:xfrm>
          <a:prstGeom prst="rect">
            <a:avLst/>
          </a:prstGeom>
          <a:ln w="0">
            <a:noFill/>
          </a:ln>
        </p:spPr>
      </p:pic>
      <p:grpSp>
        <p:nvGrpSpPr>
          <p:cNvPr id="101" name="Grupp 10"/>
          <p:cNvGrpSpPr/>
          <p:nvPr/>
        </p:nvGrpSpPr>
        <p:grpSpPr>
          <a:xfrm>
            <a:off x="1714320" y="285840"/>
            <a:ext cx="5785920" cy="6286320"/>
            <a:chOff x="1714320" y="285840"/>
            <a:chExt cx="5785920" cy="6286320"/>
          </a:xfrm>
        </p:grpSpPr>
        <p:sp>
          <p:nvSpPr>
            <p:cNvPr id="102" name="Rak 4"/>
            <p:cNvSpPr/>
            <p:nvPr/>
          </p:nvSpPr>
          <p:spPr>
            <a:xfrm>
              <a:off x="1856520" y="285840"/>
              <a:ext cx="5643720" cy="6286320"/>
            </a:xfrm>
            <a:prstGeom prst="line">
              <a:avLst/>
            </a:prstGeom>
            <a:ln w="304920">
              <a:solidFill>
                <a:srgbClr val="2350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ak 5"/>
            <p:cNvSpPr/>
            <p:nvPr/>
          </p:nvSpPr>
          <p:spPr>
            <a:xfrm flipH="1">
              <a:off x="1714320" y="428400"/>
              <a:ext cx="5357880" cy="6072120"/>
            </a:xfrm>
            <a:prstGeom prst="line">
              <a:avLst/>
            </a:prstGeom>
            <a:ln w="304920">
              <a:solidFill>
                <a:srgbClr val="2350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35085"/>
                </a:solidFill>
                <a:latin typeface="Variable Bl"/>
              </a:rPr>
              <a:t>How to hire APL programmers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61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499"/>
              </a:spcBef>
              <a:buClr>
                <a:srgbClr val="2350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Don’t hire APL programmers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190440" indent="-190440">
              <a:spcBef>
                <a:spcPts val="499"/>
              </a:spcBef>
              <a:buClr>
                <a:srgbClr val="2350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Filter out bad candidates early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190440" indent="-190440">
              <a:spcBef>
                <a:spcPts val="499"/>
              </a:spcBef>
              <a:buClr>
                <a:srgbClr val="2350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Try to find indicators of greatness early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190440" indent="-190440">
              <a:spcBef>
                <a:spcPts val="499"/>
              </a:spcBef>
              <a:buClr>
                <a:srgbClr val="2350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Have candidates write code during the interview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600" spc="-1" strike="noStrike">
                <a:solidFill>
                  <a:srgbClr val="235085"/>
                </a:solidFill>
                <a:latin typeface="Variable Bl"/>
              </a:rPr>
              <a:t>It works!</a:t>
            </a:r>
            <a:endParaRPr b="0" lang="en-US" sz="66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(for us)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35085"/>
                </a:solidFill>
                <a:latin typeface="Variable Bl"/>
              </a:rPr>
              <a:t>What’s this about?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61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499"/>
              </a:spcBef>
              <a:buClr>
                <a:srgbClr val="2350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Who am I and what am I doing here?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190440" indent="-190440">
              <a:spcBef>
                <a:spcPts val="499"/>
              </a:spcBef>
              <a:buClr>
                <a:srgbClr val="2350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What we do at Profdoc Care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190440" indent="-190440">
              <a:spcBef>
                <a:spcPts val="499"/>
              </a:spcBef>
              <a:buClr>
                <a:srgbClr val="2350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How we’ve grown,  obstacles to overcome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lvl="2" marL="349200" indent="6480">
              <a:spcBef>
                <a:spcPts val="499"/>
              </a:spcBef>
              <a:buClr>
                <a:srgbClr val="808080"/>
              </a:buClr>
              <a:buFont typeface="Variable B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Variable Bl"/>
              </a:rPr>
              <a:t>Recruiting</a:t>
            </a:r>
            <a:endParaRPr b="0" lang="en-US" sz="2000" spc="-1" strike="noStrike">
              <a:solidFill>
                <a:srgbClr val="808080"/>
              </a:solidFill>
              <a:latin typeface="Variable Bl"/>
            </a:endParaRPr>
          </a:p>
          <a:p>
            <a:pPr lvl="2" marL="349200" indent="6480">
              <a:spcBef>
                <a:spcPts val="499"/>
              </a:spcBef>
              <a:buClr>
                <a:srgbClr val="808080"/>
              </a:buClr>
              <a:buFont typeface="Variable B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Variable Bl"/>
              </a:rPr>
              <a:t>Managing your code base — Tools</a:t>
            </a:r>
            <a:endParaRPr b="0" lang="en-US" sz="2000" spc="-1" strike="noStrike">
              <a:solidFill>
                <a:srgbClr val="808080"/>
              </a:solidFill>
              <a:latin typeface="Variable B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600" spc="-1" strike="noStrike">
                <a:solidFill>
                  <a:srgbClr val="235085"/>
                </a:solidFill>
                <a:latin typeface="Variable Bl"/>
              </a:rPr>
              <a:t>Growing pains</a:t>
            </a:r>
            <a:endParaRPr b="0" lang="en-US" sz="66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2000" spc="-1" strike="noStrike">
              <a:solidFill>
                <a:srgbClr val="235085"/>
              </a:solidFill>
              <a:latin typeface="Variable B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35085"/>
                </a:solidFill>
                <a:latin typeface="Variable Bl"/>
              </a:rPr>
              <a:t>Better documentation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pic>
        <p:nvPicPr>
          <p:cNvPr id="111" name="Bildobjekt 3" descr="scribe_enl.jpg"/>
          <p:cNvPicPr/>
          <p:nvPr/>
        </p:nvPicPr>
        <p:blipFill>
          <a:blip r:embed="rId1"/>
          <a:stretch/>
        </p:blipFill>
        <p:spPr>
          <a:xfrm>
            <a:off x="428760" y="1785960"/>
            <a:ext cx="6773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35085"/>
                </a:solidFill>
                <a:latin typeface="Variable Bl"/>
              </a:rPr>
              <a:t>Slowing down — fewer releases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pic>
        <p:nvPicPr>
          <p:cNvPr id="113" name="Bildobjekt 3" descr="ferrari-formula-one-racing-car.jpg"/>
          <p:cNvPicPr/>
          <p:nvPr/>
        </p:nvPicPr>
        <p:blipFill>
          <a:blip r:embed="rId1"/>
          <a:stretch/>
        </p:blipFill>
        <p:spPr>
          <a:xfrm>
            <a:off x="357120" y="242892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14" name="Bildobjekt 4" descr="novitec-ferrari-f430-evoluzione.jpg"/>
          <p:cNvPicPr/>
          <p:nvPr/>
        </p:nvPicPr>
        <p:blipFill>
          <a:blip r:embed="rId2"/>
          <a:stretch/>
        </p:blipFill>
        <p:spPr>
          <a:xfrm>
            <a:off x="5191200" y="1928880"/>
            <a:ext cx="3952800" cy="2965320"/>
          </a:xfrm>
          <a:prstGeom prst="rect">
            <a:avLst/>
          </a:prstGeom>
          <a:ln w="0">
            <a:noFill/>
          </a:ln>
        </p:spPr>
      </p:pic>
      <p:sp>
        <p:nvSpPr>
          <p:cNvPr id="115" name="Höger 5"/>
          <p:cNvSpPr/>
          <p:nvPr/>
        </p:nvSpPr>
        <p:spPr>
          <a:xfrm>
            <a:off x="3714840" y="3500280"/>
            <a:ext cx="1357200" cy="7146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235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35085"/>
                </a:solidFill>
                <a:latin typeface="Variable Bl"/>
              </a:rPr>
              <a:t>More code review (and testing)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pic>
        <p:nvPicPr>
          <p:cNvPr id="117" name="Bildobjekt 3" descr="028-sherlock-01.png"/>
          <p:cNvPicPr/>
          <p:nvPr/>
        </p:nvPicPr>
        <p:blipFill>
          <a:blip r:embed="rId1"/>
          <a:srcRect l="16499" t="6001" r="0" b="7014"/>
          <a:stretch/>
        </p:blipFill>
        <p:spPr>
          <a:xfrm>
            <a:off x="142920" y="1571760"/>
            <a:ext cx="3976560" cy="4143240"/>
          </a:xfrm>
          <a:prstGeom prst="rect">
            <a:avLst/>
          </a:prstGeom>
          <a:ln w="0">
            <a:noFill/>
          </a:ln>
        </p:spPr>
      </p:pic>
      <p:sp>
        <p:nvSpPr>
          <p:cNvPr id="118" name="textruta 4"/>
          <p:cNvSpPr/>
          <p:nvPr/>
        </p:nvSpPr>
        <p:spPr>
          <a:xfrm>
            <a:off x="2571840" y="5214960"/>
            <a:ext cx="65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PL385 Unicode"/>
                <a:ea typeface="Arial"/>
              </a:rPr>
              <a:t>⍎⊖⍕⊃⊂</a:t>
            </a:r>
            <a:r>
              <a:rPr b="0" lang="sv-SE" sz="3200" spc="-1" strike="noStrike">
                <a:solidFill>
                  <a:srgbClr val="000000"/>
                </a:solidFill>
                <a:latin typeface="APL385 Unicode"/>
                <a:ea typeface="Arial"/>
              </a:rPr>
              <a:t>|⌊-*+○⌈×÷!⌽⍉⌹~⍴⍋⍒,⍟?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600" spc="-1" strike="noStrike">
                <a:solidFill>
                  <a:srgbClr val="235085"/>
                </a:solidFill>
                <a:latin typeface="Variable Bl"/>
              </a:rPr>
              <a:t>Better tools!</a:t>
            </a:r>
            <a:endParaRPr b="0" lang="en-US" sz="66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2000" spc="-1" strike="noStrike">
              <a:solidFill>
                <a:srgbClr val="235085"/>
              </a:solidFill>
              <a:latin typeface="Variable B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35085"/>
                </a:solidFill>
                <a:latin typeface="Variable Bl"/>
              </a:rPr>
              <a:t>I ♥ unicode!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122" name="Rektangel med rundade hörn 4"/>
          <p:cNvSpPr/>
          <p:nvPr/>
        </p:nvSpPr>
        <p:spPr>
          <a:xfrm>
            <a:off x="428760" y="2143080"/>
            <a:ext cx="4214520" cy="4071960"/>
          </a:xfrm>
          <a:prstGeom prst="roundRect">
            <a:avLst>
              <a:gd name="adj" fmla="val 16667"/>
            </a:avLst>
          </a:prstGeom>
          <a:solidFill>
            <a:srgbClr val="00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ruta 5"/>
          <p:cNvSpPr/>
          <p:nvPr/>
        </p:nvSpPr>
        <p:spPr>
          <a:xfrm>
            <a:off x="928800" y="17146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my_code.a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ruta 6"/>
          <p:cNvSpPr/>
          <p:nvPr/>
        </p:nvSpPr>
        <p:spPr>
          <a:xfrm>
            <a:off x="785880" y="2357280"/>
            <a:ext cx="36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PL385 Unicode"/>
              </a:rPr>
              <a:t>join←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0" lang="sv-SE" sz="2400" spc="-1" strike="noStrike">
                <a:solidFill>
                  <a:srgbClr val="ffffff"/>
                </a:solidFill>
                <a:latin typeface="APL385 Unicode"/>
              </a:rPr>
              <a:t>0=⍴,⍵: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PL385 Unicode"/>
              </a:rPr>
              <a:t>  </a:t>
            </a:r>
            <a:r>
              <a:rPr b="0" lang="sv-SE" sz="2400" spc="-1" strike="noStrike">
                <a:solidFill>
                  <a:srgbClr val="ffffff"/>
                </a:solidFill>
                <a:latin typeface="APL385 Unicode"/>
              </a:rPr>
              <a:t>(-⍴,⍺)↓⊃,/⍵,¨⊂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PL385 Unicod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PL385 Unicode"/>
              </a:rPr>
              <a:t>foldl←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PL385 Unicode"/>
              </a:rPr>
              <a:t>  ⊃⍺⍺⍨</a:t>
            </a:r>
            <a:r>
              <a:rPr b="0" lang="sv-SE" sz="2400" spc="-1" strike="noStrike">
                <a:solidFill>
                  <a:srgbClr val="ffffff"/>
                </a:solidFill>
                <a:latin typeface="APL385 Unicode"/>
              </a:rPr>
              <a:t>/(⌽⍵),⊂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PL385 Unicod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ruta 7"/>
          <p:cNvSpPr/>
          <p:nvPr/>
        </p:nvSpPr>
        <p:spPr>
          <a:xfrm>
            <a:off x="5857920" y="150012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g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Bildobjekt 8" descr="subversion_logo-384x332.png"/>
          <p:cNvPicPr/>
          <p:nvPr/>
        </p:nvPicPr>
        <p:blipFill>
          <a:blip r:embed="rId1"/>
          <a:stretch/>
        </p:blipFill>
        <p:spPr>
          <a:xfrm>
            <a:off x="6072120" y="2214720"/>
            <a:ext cx="2571840" cy="2224080"/>
          </a:xfrm>
          <a:prstGeom prst="rect">
            <a:avLst/>
          </a:prstGeom>
          <a:ln w="0">
            <a:noFill/>
          </a:ln>
        </p:spPr>
      </p:pic>
      <p:cxnSp>
        <p:nvCxnSpPr>
          <p:cNvPr id="127" name="Rak pil 11"/>
          <p:cNvCxnSpPr>
            <a:endCxn id="125" idx="1"/>
          </p:cNvCxnSpPr>
          <p:nvPr/>
        </p:nvCxnSpPr>
        <p:spPr>
          <a:xfrm flipV="1">
            <a:off x="4714560" y="1792440"/>
            <a:ext cx="1143720" cy="99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8" name="Rak pil 13"/>
          <p:cNvCxnSpPr>
            <a:stCxn id="122" idx="3"/>
          </p:cNvCxnSpPr>
          <p:nvPr/>
        </p:nvCxnSpPr>
        <p:spPr>
          <a:xfrm flipV="1">
            <a:off x="4642920" y="3324960"/>
            <a:ext cx="1429560" cy="85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9" name="Rak pil 15"/>
          <p:cNvCxnSpPr/>
          <p:nvPr/>
        </p:nvCxnSpPr>
        <p:spPr>
          <a:xfrm flipH="1" flipV="1">
            <a:off x="4714200" y="4785840"/>
            <a:ext cx="15008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130" name="Bildobjekt 16" descr="mercurial-logo1.png"/>
          <p:cNvPicPr/>
          <p:nvPr/>
        </p:nvPicPr>
        <p:blipFill>
          <a:blip r:embed="rId2"/>
          <a:stretch/>
        </p:blipFill>
        <p:spPr>
          <a:xfrm>
            <a:off x="6215040" y="4714920"/>
            <a:ext cx="2266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35085"/>
                </a:solidFill>
                <a:latin typeface="Variable Bl"/>
              </a:rPr>
              <a:t>Diff and Merge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132" name="textruta 4"/>
          <p:cNvSpPr/>
          <p:nvPr/>
        </p:nvSpPr>
        <p:spPr>
          <a:xfrm>
            <a:off x="500040" y="1785960"/>
            <a:ext cx="557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PL385 Unicode"/>
              </a:rPr>
              <a:t>In file: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PL385 Unicode"/>
              </a:rPr>
              <a:t>[2]        (-⍴,⍺)↓⊃,/⍵,¨⊂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PL385 Unicode"/>
              </a:rPr>
              <a:t>In WS: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PL385 Unicode"/>
              </a:rPr>
              <a:t>[2]        (-⍴,⍺⍺)↓⊃⊃,/⍵,¨⊂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642960" y="3714840"/>
            <a:ext cx="83120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5085"/>
                </a:solidFill>
                <a:latin typeface="Variable Bl"/>
              </a:rPr>
              <a:t>WinMerge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1756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5085"/>
                </a:solidFill>
                <a:latin typeface="Variable Bl"/>
              </a:rPr>
              <a:t>Ediff</a:t>
            </a:r>
            <a:r>
              <a:rPr b="0" lang="sv-SE" sz="2400" spc="-1" strike="noStrike">
                <a:solidFill>
                  <a:srgbClr val="235085"/>
                </a:solidFill>
                <a:latin typeface="Variable Bl"/>
              </a:rPr>
              <a:t> (in Emacs)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73738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35085"/>
                </a:solidFill>
                <a:latin typeface="Variable Bl"/>
              </a:rPr>
              <a:t>Source control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65005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35085"/>
                </a:solidFill>
                <a:latin typeface="Variable Bl"/>
              </a:rPr>
              <a:t>TakeCare - It’s HUGE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pic>
        <p:nvPicPr>
          <p:cNvPr id="49" name="Picture 5" descr="http://cdp.doomed-reality.org/cats/huge-cat.jpg"/>
          <p:cNvPicPr/>
          <p:nvPr/>
        </p:nvPicPr>
        <p:blipFill>
          <a:blip r:embed="rId1"/>
          <a:stretch/>
        </p:blipFill>
        <p:spPr>
          <a:xfrm>
            <a:off x="1187280" y="1700280"/>
            <a:ext cx="669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35085"/>
                </a:solidFill>
                <a:latin typeface="Variable Bl"/>
              </a:rPr>
              <a:t>Automation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pic>
        <p:nvPicPr>
          <p:cNvPr id="141" name="Bildobjekt 2" descr="R2-D2_cookie-jar.jpg"/>
          <p:cNvPicPr/>
          <p:nvPr/>
        </p:nvPicPr>
        <p:blipFill>
          <a:blip r:embed="rId1"/>
          <a:stretch/>
        </p:blipFill>
        <p:spPr>
          <a:xfrm>
            <a:off x="428760" y="2071800"/>
            <a:ext cx="2857320" cy="360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3571920" y="2071800"/>
            <a:ext cx="53863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35085"/>
                </a:solidFill>
                <a:latin typeface="Variable Bl"/>
              </a:rPr>
              <a:t>Conclusion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61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499"/>
              </a:spcBef>
              <a:buClr>
                <a:srgbClr val="235085"/>
              </a:buClr>
              <a:buFont typeface="Variable B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Hire great programmers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438840" indent="-438840">
              <a:spcBef>
                <a:spcPts val="499"/>
              </a:spcBef>
              <a:buClr>
                <a:srgbClr val="235085"/>
              </a:buClr>
              <a:buFont typeface="Variable B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Get your source code into Emacs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438840" indent="-438840">
              <a:spcBef>
                <a:spcPts val="499"/>
              </a:spcBef>
              <a:buClr>
                <a:srgbClr val="235085"/>
              </a:buClr>
              <a:buFont typeface="Variable B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???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438840" indent="-438840">
              <a:spcBef>
                <a:spcPts val="499"/>
              </a:spcBef>
              <a:buClr>
                <a:srgbClr val="235085"/>
              </a:buClr>
              <a:buFont typeface="Variable B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Profit!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438840" indent="-438840">
              <a:spcBef>
                <a:spcPts val="499"/>
              </a:spcBef>
              <a:buClr>
                <a:srgbClr val="235085"/>
              </a:buClr>
              <a:buFont typeface="Variable B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438840" indent="-438840">
              <a:spcBef>
                <a:spcPts val="499"/>
              </a:spcBef>
              <a:buClr>
                <a:srgbClr val="235085"/>
              </a:buClr>
              <a:buFont typeface="Variable B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438840" indent="-438840">
              <a:spcBef>
                <a:spcPts val="499"/>
              </a:spcBef>
              <a:buClr>
                <a:srgbClr val="235085"/>
              </a:buClr>
              <a:buFont typeface="Variable B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438840" indent="-438840">
              <a:spcBef>
                <a:spcPts val="499"/>
              </a:spcBef>
              <a:buClr>
                <a:srgbClr val="235085"/>
              </a:buClr>
              <a:buFont typeface="Variable B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438840" indent="-438840">
              <a:spcBef>
                <a:spcPts val="499"/>
              </a:spcBef>
              <a:buClr>
                <a:srgbClr val="235085"/>
              </a:buClr>
              <a:buFont typeface="Variable B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438840" indent="-438840">
              <a:spcBef>
                <a:spcPts val="499"/>
              </a:spcBef>
              <a:buClr>
                <a:srgbClr val="235085"/>
              </a:buClr>
              <a:buFont typeface="Variable B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438840" indent="-438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235085"/>
                </a:solidFill>
                <a:latin typeface="Variable Bl"/>
              </a:rPr>
              <a:t>(I might need to be more explicit in step three)</a:t>
            </a:r>
            <a:endParaRPr b="0" lang="en-US" sz="1600" spc="-1" strike="noStrike">
              <a:solidFill>
                <a:srgbClr val="235085"/>
              </a:solidFill>
              <a:latin typeface="Variable B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600" spc="-1" strike="noStrike">
                <a:solidFill>
                  <a:srgbClr val="235085"/>
                </a:solidFill>
                <a:latin typeface="Variable Bl"/>
              </a:rPr>
              <a:t>Questions?</a:t>
            </a:r>
            <a:endParaRPr b="0" lang="en-US" sz="66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4296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joakim.harsman@profdoc.com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4227480" cy="1220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324000" y="4581360"/>
            <a:ext cx="257652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3"/>
          <a:stretch/>
        </p:blipFill>
        <p:spPr>
          <a:xfrm>
            <a:off x="3203640" y="3789360"/>
            <a:ext cx="3881520" cy="2852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35085"/>
                </a:solidFill>
                <a:latin typeface="Variable Bl"/>
              </a:rPr>
              <a:t>TakeCare – it’s complex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3457440" cy="278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5"/>
          <a:stretch/>
        </p:blipFill>
        <p:spPr>
          <a:xfrm>
            <a:off x="1692360" y="2492280"/>
            <a:ext cx="3128760" cy="1941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6"/>
          <a:stretch/>
        </p:blipFill>
        <p:spPr>
          <a:xfrm>
            <a:off x="5219640" y="1700280"/>
            <a:ext cx="3311640" cy="2792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7"/>
          <a:stretch/>
        </p:blipFill>
        <p:spPr>
          <a:xfrm>
            <a:off x="3995640" y="3068640"/>
            <a:ext cx="3384720" cy="248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8"/>
          <a:stretch/>
        </p:blipFill>
        <p:spPr>
          <a:xfrm>
            <a:off x="1979640" y="3860640"/>
            <a:ext cx="1601640" cy="244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9"/>
          <a:stretch/>
        </p:blipFill>
        <p:spPr>
          <a:xfrm>
            <a:off x="6156360" y="4149720"/>
            <a:ext cx="2592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35085"/>
                </a:solidFill>
                <a:latin typeface="Variable Bl"/>
              </a:rPr>
              <a:t>TakeCare – it’s pretty big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87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499"/>
              </a:spcBef>
              <a:buClr>
                <a:srgbClr val="2350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1.8 million medical records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190440" indent="-190440">
              <a:spcBef>
                <a:spcPts val="499"/>
              </a:spcBef>
              <a:buClr>
                <a:srgbClr val="2350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30 000 (mostly) happy users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190440" indent="-190440">
              <a:spcBef>
                <a:spcPts val="499"/>
              </a:spcBef>
              <a:buClr>
                <a:srgbClr val="2350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300 000 lines of APL in 12 000 functions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190440" indent="-190440">
              <a:spcBef>
                <a:spcPts val="499"/>
              </a:spcBef>
              <a:buClr>
                <a:srgbClr val="2350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200 transactions per second (during office hours)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190440" indent="-190440">
              <a:spcBef>
                <a:spcPts val="499"/>
              </a:spcBef>
              <a:buClr>
                <a:srgbClr val="2350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1 TB of data, mostly in component files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  <a:p>
            <a:pPr marL="190440" indent="-190440">
              <a:spcBef>
                <a:spcPts val="499"/>
              </a:spcBef>
              <a:buClr>
                <a:srgbClr val="2350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235085"/>
                </a:solidFill>
                <a:latin typeface="Variable Bl"/>
              </a:rPr>
              <a:t>All in Dyalog APL (obviously!)</a:t>
            </a:r>
            <a:endParaRPr b="0" lang="en-US" sz="2000" spc="-1" strike="noStrike">
              <a:solidFill>
                <a:srgbClr val="235085"/>
              </a:solidFill>
              <a:latin typeface="Variable B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1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35085"/>
                </a:solidFill>
                <a:latin typeface="Variable Bl"/>
              </a:rPr>
              <a:t>Profdoc Care – getting bigger!</a:t>
            </a:r>
            <a:endParaRPr b="0" lang="en-US" sz="2400" spc="-1" strike="noStrike">
              <a:solidFill>
                <a:srgbClr val="235085"/>
              </a:solidFill>
              <a:latin typeface="Variable Bl"/>
            </a:endParaRPr>
          </a:p>
        </p:txBody>
      </p:sp>
      <p:pic>
        <p:nvPicPr>
          <p:cNvPr id="63" name="Picture 7" descr="_DSC3866"/>
          <p:cNvPicPr/>
          <p:nvPr/>
        </p:nvPicPr>
        <p:blipFill>
          <a:blip r:embed="rId1"/>
          <a:stretch/>
        </p:blipFill>
        <p:spPr>
          <a:xfrm>
            <a:off x="468360" y="4221000"/>
            <a:ext cx="2232000" cy="14846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/>
          <p:cNvSpPr/>
          <p:nvPr/>
        </p:nvSpPr>
        <p:spPr>
          <a:xfrm rot="20251200">
            <a:off x="2987640" y="3500280"/>
            <a:ext cx="1728720" cy="936720"/>
          </a:xfrm>
          <a:prstGeom prst="rightArrow">
            <a:avLst>
              <a:gd name="adj1" fmla="val 50000"/>
              <a:gd name="adj2" fmla="val 46138"/>
            </a:avLst>
          </a:prstGeom>
          <a:solidFill>
            <a:srgbClr val="2350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Bild 007"/>
          <p:cNvPicPr/>
          <p:nvPr/>
        </p:nvPicPr>
        <p:blipFill>
          <a:blip r:embed="rId2"/>
          <a:stretch/>
        </p:blipFill>
        <p:spPr>
          <a:xfrm>
            <a:off x="4932360" y="1628640"/>
            <a:ext cx="3816360" cy="28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5"/>
          <p:cNvGraphicFramePr/>
          <p:nvPr/>
        </p:nvGraphicFramePr>
        <p:xfrm>
          <a:off x="166680" y="652320"/>
          <a:ext cx="8810640" cy="555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652320"/>
                    <a:ext cx="8810640" cy="55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ruta 1"/>
          <p:cNvSpPr/>
          <p:nvPr/>
        </p:nvSpPr>
        <p:spPr>
          <a:xfrm>
            <a:off x="857160" y="2500200"/>
            <a:ext cx="75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600" spc="-1" strike="noStrike">
                <a:solidFill>
                  <a:srgbClr val="235085"/>
                </a:solidFill>
                <a:latin typeface="Variable Bl"/>
              </a:rPr>
              <a:t>Obstac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upp 3"/>
          <p:cNvGrpSpPr/>
          <p:nvPr/>
        </p:nvGrpSpPr>
        <p:grpSpPr>
          <a:xfrm>
            <a:off x="1428840" y="1857240"/>
            <a:ext cx="6000840" cy="4923720"/>
            <a:chOff x="1428840" y="1857240"/>
            <a:chExt cx="6000840" cy="4923720"/>
          </a:xfrm>
        </p:grpSpPr>
        <p:sp>
          <p:nvSpPr>
            <p:cNvPr id="70" name="Rundad rektangulär 1"/>
            <p:cNvSpPr/>
            <p:nvPr/>
          </p:nvSpPr>
          <p:spPr>
            <a:xfrm>
              <a:off x="1428840" y="1857240"/>
              <a:ext cx="6000840" cy="37864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23508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ruta 2"/>
            <p:cNvSpPr/>
            <p:nvPr/>
          </p:nvSpPr>
          <p:spPr>
            <a:xfrm>
              <a:off x="1785960" y="3000240"/>
              <a:ext cx="5215320" cy="37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6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v-SE" sz="8800" spc="-1" strike="noStrike">
                  <a:solidFill>
                    <a:srgbClr val="000000"/>
                  </a:solidFill>
                  <a:latin typeface="Arial"/>
                </a:rPr>
                <a:t>#@☠★☣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36725E-006 C 0.00087 0.01665 0.00104 0.02613 0.00278 0.0414 C 0.00313 0.0444 0.00452 0.05365 0.00417 0.05065 C 0.0033 0.04371 0.00243 0.037 0.00139 0.03006 C 0.00104 0.02752 0.00052 0.02498 2.77778E-006 0.02243 C 0.00087 0.01434 -0.00034 0.00532 0.00278 -0.00185 C 0.00433 -0.00532 0.00469 0.00578 0.00556 0.00948 C 0.00677 0.01457 0.00903 0.01804 0.01128 0.02243 C 0.01527 0.03932 0.00018 0.01711 -0.00139 0.01503 C -0.00191 0.01318 -0.00191 0.0111 -0.00278 0.00948 C -0.00868 -0.000920000000000001 -0.01458 -0.00162 -0.00434 0.00185 C 0.00243 0.00648 0.00903 0.0111 0.01545 0.01688 C 0.01493 0.00254 0.01735 -0.01249 0.01406 -0.02613 C 0.01285 -0.03099 0.00938 -0.01804 0.00833 -0.01318 C 0.00695 -0.00648 0.00815 0.00093 0.00695 0.00763 C 0.00538 0.01711 0.00226 0.02636 2.77778E-006 0.03562 C -0.00052 0.0407 -0.00069 0.04579 -0.00139 0.05065 C -0.00156 0.0525 -0.00243 0.05805 -0.00278 0.0562 C -0.00451 0.04718 -0.00399 0.03747 -0.00573 0.02821 C -0.00399 0.00578 -0.00677 0.0148 2.77778E-006 3.36725E-006 Z">
                                      <p:cBhvr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9:37:33Z</dcterms:created>
  <dc:creator>Heidi Bakken</dc:creator>
  <dc:description/>
  <dc:language>en-US</dc:language>
  <cp:lastModifiedBy>Joakim Hårsman</cp:lastModifiedBy>
  <cp:lastPrinted>2006-04-28T07:33:45Z</cp:lastPrinted>
  <dcterms:modified xsi:type="dcterms:W3CDTF">2008-10-13T21:53:55Z</dcterms:modified>
  <cp:revision>97</cp:revision>
  <dc:subject/>
  <dc:title>PowerPoint Presentation</dc:title>
</cp:coreProperties>
</file>