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B83-BF31-4883-837C-BD02B804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E22-B729-47C4-9F84-ACC7F3A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A86-313D-4555-AF45-C29FD601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8B1-9190-4BE8-8F75-20FD6763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7B8-3DC3-4C43-8895-376A7168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5B5-AA6B-44F1-A5D8-63887F26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1F3-7D17-494B-95D6-9F5BF94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22E-056E-4D29-BFEA-C0976A61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F01-313E-47ED-B2EA-2B944EB5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144-D569-4486-9145-38DC955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EA3-5196-4385-9578-86B226F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FB3-5163-49AA-9360-332FA1F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47920" y="1628640"/>
            <a:ext cx="6248160" cy="4392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BB6-156D-45FD-A876-6AD111EF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3737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Dyalog ’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Richard Procter, APL Borealis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66"/>
                </a:solidFill>
                <a:latin typeface="Arial"/>
              </a:rPr>
              <a:t>rjp@aplboreali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175280" cy="32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3713040"/>
            <a:ext cx="3741840" cy="28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361960" cy="305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2303280" cy="202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77080" y="907920"/>
            <a:ext cx="226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eedback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utrit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1844640"/>
            <a:ext cx="433080" cy="289080"/>
          </a:xfrm>
          <a:prstGeom prst="rightArrow">
            <a:avLst>
              <a:gd name="adj1" fmla="val 50000"/>
              <a:gd name="adj2" fmla="val 37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2781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941720"/>
            <a:ext cx="502920" cy="287640"/>
          </a:xfrm>
          <a:prstGeom prst="leftArrow">
            <a:avLst>
              <a:gd name="adj1" fmla="val 50000"/>
              <a:gd name="adj2" fmla="val 437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535284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907920"/>
            <a:ext cx="32036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mall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ase product: APL(+Win) 1985-2009, now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cketAPL module: 2003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1000+ installations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12 now using the PocketAPL modul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ustomer-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237204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47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y Hand-H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at did people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at do they want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907920"/>
            <a:ext cx="453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vice / Platform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imitations (input, speed, memory, screensize, fonts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UI – visuals &amp; events (vs.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unctionality (vs.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enu (disappea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plicati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ru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86080" cy="513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2976480" cy="38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1125360"/>
            <a:ext cx="489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echanics &amp;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velop on desktop; test on PDA; deploy as run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imic PDA environment on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ISS – interface &amp;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ay Cannon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UI / screen-size – now multiple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eyboard po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-182" b="0"/>
          <a:stretch/>
        </p:blipFill>
        <p:spPr>
          <a:xfrm>
            <a:off x="2700360" y="2133720"/>
            <a:ext cx="237636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56360" y="765000"/>
            <a:ext cx="233352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0" t="0" r="0" b="1065"/>
          <a:stretch/>
        </p:blipFill>
        <p:spPr>
          <a:xfrm>
            <a:off x="6156360" y="3789360"/>
            <a:ext cx="2362320" cy="28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537800">
            <a:off x="1476000" y="3284640"/>
            <a:ext cx="503280" cy="504720"/>
          </a:xfrm>
          <a:prstGeom prst="rightArrow">
            <a:avLst>
              <a:gd name="adj1" fmla="val 39620"/>
              <a:gd name="adj2" fmla="val 22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577000">
            <a:off x="5287680" y="28926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189200">
            <a:off x="5358960" y="42451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01336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wo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umption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lective 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ransf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16200">
            <a:off x="4866840" y="595008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522400">
            <a:off x="4858920" y="83628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5897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completed transf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268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completed transf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172040" cy="552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981000"/>
            <a:ext cx="360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ransfer File &gt; APL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imple, delimi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ery “table-driv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L arrays for “table info” and “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mp storage of changes - room to room – APL and nativ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ssues: size, miss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0" r="0" b="1065"/>
          <a:stretch/>
        </p:blipFill>
        <p:spPr>
          <a:xfrm>
            <a:off x="3780000" y="3500280"/>
            <a:ext cx="23619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2333880" cy="2838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56000" y="836640"/>
            <a:ext cx="47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jor time-saving on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ngoing incompatibility/platform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sitive feedback / competitiv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587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ichard Pro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jp@aplboreal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9:38:16Z</dcterms:created>
  <dc:creator>Theresa  Sauren</dc:creator>
  <dc:description/>
  <dc:language>en-US</dc:language>
  <cp:lastModifiedBy>R.Procter</cp:lastModifiedBy>
  <dcterms:modified xsi:type="dcterms:W3CDTF">2009-09-10T15:15:09Z</dcterms:modified>
  <cp:revision>78</cp:revision>
  <dc:subject/>
  <dc:title>Slide 1</dc:title>
</cp:coreProperties>
</file>