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5040" y="518760"/>
            <a:ext cx="511776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888480" y="6377040"/>
            <a:ext cx="4891320" cy="26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266040"/>
            <a:ext cx="288936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779640" y="9266040"/>
            <a:ext cx="28890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6018-A2E6-4495-AF00-290529C5C3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6D75-F7F4-444A-B55B-7607ADF1D8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30EF-D6D1-48F1-8B8C-05C199ED6F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E97A-904B-4738-AC93-26C267A12C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5043-65FA-4934-871C-507D785622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1EBE-CF4B-4960-8859-8BF07B7E2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20AF-FBE2-4CB2-AB2D-60391DD8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C4DE-BD0B-4522-A8F9-FF2AFF6C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4862-D833-4E75-B1C5-AD9DE29DA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81EB-CCC9-4E24-A978-1C0C00CF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4586-6117-4D33-A10E-F28A5EBB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DD2F-CCCC-462A-8E58-64382DE5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E30D-DA94-4099-8C0E-9A3E72E1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661F-40CA-4037-AEE9-0DE89860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D830-2C61-44E4-B059-A02E3AB4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4A9D-300A-4FC4-94EA-8462127D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D338-C4EE-4D44-8A36-EF604335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yalogpower-768x1024.gif                                       00020D4A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F084-AA0D-4F70-8B1D-B3E00F7DBC4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XM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414288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262626"/>
                </a:solidFill>
                <a:latin typeface="Geneva"/>
              </a:rPr>
              <a:t>Richard Smith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262626"/>
                </a:solidFill>
                <a:latin typeface="Geneva"/>
              </a:rPr>
              <a:t>14 September, 2009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XM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42600" y="1999800"/>
            <a:ext cx="781524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A means of transporting data and data structure between applica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Character strea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da-DK" sz="3200" spc="-1" strike="noStrike">
                <a:solidFill>
                  <a:srgbClr val="333333"/>
                </a:solidFill>
                <a:latin typeface="Geneva"/>
              </a:rPr>
              <a:t>XML converts to/from APL matrix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Based on Mark E Johns’ APL implement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Designed with Micro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26C0-6E4D-4AC9-BD05-BAEA502BF32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56760" y="856800"/>
            <a:ext cx="85716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3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3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3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" name="2nd html no end tags"/>
          <p:cNvSpPr/>
          <p:nvPr/>
        </p:nvSpPr>
        <p:spPr>
          <a:xfrm>
            <a:off x="1133640" y="857160"/>
            <a:ext cx="8010360" cy="53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title&gt;Maecenas sed risus vitae s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h1&gt;Maecenas sed risus vitae s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Lorem ipsum dolor sit amet, consectetur adipiscing el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b&gt;Donec commodo turpis a mauris fringilla pharet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Aenean semper nibh vitae ante mattis ac feugiat neque auct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Initial html"/>
          <p:cNvSpPr/>
          <p:nvPr/>
        </p:nvSpPr>
        <p:spPr>
          <a:xfrm>
            <a:off x="1133640" y="857160"/>
            <a:ext cx="8010360" cy="53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title&gt;Maecenas sed risus vitae sem&lt;/tit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h1&gt;Maecenas sed risus vitae sem&lt;/h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Lorem ipsum dolor sit amet, consectetur adipiscing el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b&gt;Donec commodo turpis a mauris fringilla pharetra.&lt;/b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Aenean semper nibh vitae ante mattis ac feugiat neque auct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/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/html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3rd html no blank lines"/>
          <p:cNvSpPr/>
          <p:nvPr/>
        </p:nvSpPr>
        <p:spPr>
          <a:xfrm>
            <a:off x="1133640" y="857160"/>
            <a:ext cx="8010360" cy="53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title&gt;Maecenas sed risus vitae s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h1&gt;Maecenas sed risus vitae s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Lorem ipsum dolor sit amet, consectetur adipiscing el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b&gt;Donec commodo turpis a mauris fringilla pharet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Aenean semper nibh vitae ante mattis ac feugiat neque auct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2nd Levels no blank lines"/>
          <p:cNvSpPr/>
          <p:nvPr/>
        </p:nvSpPr>
        <p:spPr>
          <a:xfrm>
            <a:off x="357120" y="857160"/>
            <a:ext cx="857160" cy="53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4th html spread out"/>
          <p:cNvSpPr/>
          <p:nvPr/>
        </p:nvSpPr>
        <p:spPr>
          <a:xfrm>
            <a:off x="1133640" y="857160"/>
            <a:ext cx="8010360" cy="53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title&gt;     Maecenas sed risus vitae s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h1&gt;       Maecenas sed risus vitae s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     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Lorem ipsum dolor sit amet, consectetur adipiscing el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b&gt;         Donec commodo turpis a mauris fringilla pharet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     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Aenean semper nibh vitae ante mattis ac feugiat nequ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     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auct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571680" y="1571760"/>
            <a:ext cx="8429400" cy="3429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traight Connector 10"/>
          <p:cNvSpPr/>
          <p:nvPr/>
        </p:nvSpPr>
        <p:spPr>
          <a:xfrm>
            <a:off x="571680" y="1928880"/>
            <a:ext cx="84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traight Connector 12"/>
          <p:cNvSpPr/>
          <p:nvPr/>
        </p:nvSpPr>
        <p:spPr>
          <a:xfrm>
            <a:off x="571680" y="2286000"/>
            <a:ext cx="84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traight Connector 14"/>
          <p:cNvSpPr/>
          <p:nvPr/>
        </p:nvSpPr>
        <p:spPr>
          <a:xfrm>
            <a:off x="571680" y="2714760"/>
            <a:ext cx="84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traight Connector 16"/>
          <p:cNvSpPr/>
          <p:nvPr/>
        </p:nvSpPr>
        <p:spPr>
          <a:xfrm>
            <a:off x="571680" y="3071880"/>
            <a:ext cx="84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traight Connector 18"/>
          <p:cNvSpPr/>
          <p:nvPr/>
        </p:nvSpPr>
        <p:spPr>
          <a:xfrm>
            <a:off x="570960" y="3429000"/>
            <a:ext cx="84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Straight Connector 20"/>
          <p:cNvSpPr/>
          <p:nvPr/>
        </p:nvSpPr>
        <p:spPr>
          <a:xfrm>
            <a:off x="571680" y="3786120"/>
            <a:ext cx="84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traight Connector 22"/>
          <p:cNvSpPr/>
          <p:nvPr/>
        </p:nvSpPr>
        <p:spPr>
          <a:xfrm>
            <a:off x="571680" y="4143240"/>
            <a:ext cx="84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traight Connector 24"/>
          <p:cNvSpPr/>
          <p:nvPr/>
        </p:nvSpPr>
        <p:spPr>
          <a:xfrm>
            <a:off x="1357200" y="157176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traight Connector 26"/>
          <p:cNvSpPr/>
          <p:nvPr/>
        </p:nvSpPr>
        <p:spPr>
          <a:xfrm>
            <a:off x="2500200" y="157176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Demonstr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7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3B3E-D74B-44E5-8E4D-3384B8856C5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XM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0" y="414288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262626"/>
                </a:solidFill>
                <a:latin typeface="Geneva"/>
              </a:rPr>
              <a:t>Richard Smith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262626"/>
                </a:solidFill>
                <a:latin typeface="Geneva"/>
              </a:rPr>
              <a:t>14 September, 2009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5:51:48Z</dcterms:created>
  <dc:creator/>
  <dc:description/>
  <dc:language>en-US</dc:language>
  <cp:lastModifiedBy/>
  <dcterms:modified xsi:type="dcterms:W3CDTF">2009-09-08T13:22:49Z</dcterms:modified>
  <cp:revision>1</cp:revision>
  <dc:subject/>
  <dc:title/>
</cp:coreProperties>
</file>