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87A6-0492-4406-A22F-AE2AD026BA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004E-9A08-4195-9A7B-C563A53E6F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6D8C-B522-4540-A8D5-E4D5109886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6E0C-7EB9-4359-AD44-750F686AF8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8AF4-1F9E-4F3D-962C-A1550CB05E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29A7-C039-48FD-B93D-CDB6E521D3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D497-FDE9-4676-AB76-4A753039BA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BA7F-8027-4BF7-AB7D-E3B8CC2E9E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3515-BA3E-42FC-9A4F-3D1A5DEC52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C266-273E-41F4-B488-9E52682FAF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CFF8-AD26-4212-A8D1-8DD5721699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8799-86E4-4721-B782-4D610D266B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3350-20EE-4D28-818E-E91D23B8E9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DE3D-EE2B-44D6-B2BE-68AE160C02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1759-EF95-4883-952A-84DE157398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8F49-028C-4DB5-BA9C-B034977735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5C8D-5ACD-403A-8AB0-661F959080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D75C-A2A1-4F8B-9AA4-FD93758154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5266-90E9-4AD5-98A0-B4605439B2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CA55-04A3-4ABC-8B31-3E34386A1A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F5F1-9A4A-4128-8BC9-D54ACACA72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8C0A-6AAF-46BF-9E8C-A19EA4FD88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B48E-1FD5-417F-90C9-5C56D512D0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AA63-8CC6-4A6E-8174-1C43D9A5A1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42C1-ED40-4A5A-B734-577B2248A8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8C68-FCAA-45DD-93D5-7FA8E937B7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5F51-63E3-48A9-83AB-F66CCD0B94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C991-B9D9-4E51-9199-10887EC71E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5D23-D073-400C-865A-9D7B157C53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2902-8339-43D3-AFC3-FC6BE19EBB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0F82-BC03-435C-BC36-833BAE93FE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077B-C939-4BB7-A9F6-C9953D6422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4945-3263-4E46-8E0A-67FA258D3C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77BD-320E-4046-8A84-5D5767126B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DA93-99EA-4B22-99A1-6286E3BE01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80A3-303B-4148-919E-8588C4361C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6BA5-D0D1-47BF-A239-0DCFA0B71F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1491-FABC-4E01-9CF8-D610BFB359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E8BC-8474-4C60-8487-76C959A8D1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F02C-A731-4874-B51F-5163AFD165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9561-02F9-48EE-81B6-D9261138EC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3362-F3BF-4CB1-A576-7CD1C520DC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CEFC-73B9-4BBC-B7DC-D4B05C7F02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5CC-7E6B-42A4-8ADD-5381E3AA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93E-D0DF-47B1-A1F2-08D77C52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684B36-0E9D-4B7A-B47A-91DC4B01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C7D9C2-7D04-4473-961E-FD6FCA4B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3B6619-EA5E-4537-9747-3728AB25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A40E1E-9613-4A37-89D7-EB89976E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51A300-4FA1-45AB-8378-2A480587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C90D22-A798-426A-98F7-82870C80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43F35B-524C-4DA8-985A-05B8EC0B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871591-F144-4558-AEE0-16660CD2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01DE31-727C-4574-BA2B-7AAFA9A5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69BBB-AAFD-4F48-A50F-95F086AD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397-D4A8-44FA-8CCE-0FBC5814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4A871-0EB6-4ABF-893D-A55377F8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A9F72-D637-4E73-8F69-2340D1B4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FFCCD-4157-4AA5-AA29-101D9DAF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F08FA-673E-4945-A2C3-0035D2A9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B3A4B-6597-4EDC-911E-9323D72F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2EE71-264C-4DB4-962A-6D17876E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67042-4E76-4391-91EE-373A4552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B2DF6-7B89-48C9-94FA-C327DCFC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6073A-9132-4F04-9BA3-7C42CBD7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50847-08B3-4A72-AC86-0E3300B0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BD1-6B12-489E-9358-F7CF86CB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09691-D902-42CD-8DE2-42245819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94046-0C96-44ED-9AF2-96B1C576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594A7-0102-46C2-8164-0EFDCF9B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735BF-4F20-4E1D-A8EC-151441E9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E33A3-89E0-4E66-8A6B-4B010D2E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5BFE0-1E20-4F84-871C-FA6B5CD0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8E653-E062-4EAB-9C9B-A5215126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4E1F3-A5F6-438B-AB07-17988436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DB838-590A-483E-A047-5A9E7C16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B5B37-AECF-4474-AAF9-4463EE89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88ED-0BAF-4F7B-8920-2C6D15E0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0A703-A7AF-4EAD-91F7-DC1839D1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EBE1E-9F1E-41F6-A2A2-6FDAEDCC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8F985-903D-40BC-B360-EB786EFA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80889-5C7A-430C-B812-EFE6EF27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64512-5598-4D9C-AA1E-678A39C4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CD77A-38C4-4FA1-A819-D3092350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E7529-176A-4983-883B-335D998F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44492-9BA5-474C-8623-E060C862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ADC40-78FE-4E00-ABC2-0FE848CA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85F98-732F-4F7D-9BFD-38B248EC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CDDC-15BF-4E73-9345-CBA42220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198E6-FAA2-4F62-B1B2-F258772C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0CD06-B967-48B1-A7C1-7D746351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FA9EC-E7FB-4AE4-AB1E-5F2BABFD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922BF-C691-4079-948B-D53A80C7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BB196-39E0-49D9-BD4B-7E01ED2A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30597-889E-4D5E-AA1D-4EF19B48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17CF8-6D3D-4BCF-A110-5706F274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07620-60CF-42A4-8B5F-3538BBF3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D0BD36-5C5D-49B8-8347-5D6822EE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162A7-B89F-4A3A-B9F2-1424F12E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ECCF-DB90-44A9-B868-8EA907D5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8EE826-7A32-440C-9549-DDB2AF5A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9ECA9-222F-4C47-9CB3-A2FD3B10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A60D1-9494-44D0-B580-E8D1A61F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7CB8C-4BA6-4019-8983-1CA1C318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331F3-B191-4084-B881-2A8F1041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FFF41-80E1-4FA8-AF23-644466E7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CE34A-F2D1-4F64-A7B2-14496723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6CC04-2CFB-4C13-9F04-5950BF5F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B488D3-CE10-490D-B257-0B811FDA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C7CFE-0F49-4534-9F29-4DD125D2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0F74-B949-4386-9ED4-29006E33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02369-A0FD-4694-BEA9-89E4FB25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B5932-6EC7-4174-BDA1-8922AA4C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BCEF1A-E562-4B20-9EF6-21701F2F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C62578-4AF5-4187-8246-D662B2C3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3C6DB-7DFB-43FD-B66A-EBB1F712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05142-9EE0-4F31-98AD-2B6E9251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294E2-44C7-4573-A0CE-B81C138E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560579-C1F1-4B84-B703-3AA0C07B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3DE01-76AB-4DE5-9785-A2015D76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2503-A121-41DE-AD8B-CAFA8AFA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7991-CF83-414A-BE9B-898713FB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9F78-F262-4A06-B98B-EFC5721D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D5DE-9308-4132-9421-1BDFEB94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786B-7CE6-46DB-AADD-6BC3A813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57C1-09E7-419A-8C88-CF7B7918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9FE5-DE51-4CA6-B693-0BD945F1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A43D-1489-42E2-B03C-54D3D810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81A1-72D8-4638-B044-02F8EE8B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E55B2-BEB1-445C-8C98-2F349C5F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FD40A-0E94-4191-AE2E-7605AC7A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0222E-5D2F-4DBF-A3F3-D63A0835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EE30F-EB5E-4F1C-9917-D507449D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214A3-25BE-455C-80B2-74B8E17C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85D-0672-4854-AFB8-7A056905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D0630-2BC2-45FA-B3E8-0A65EA85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203D6-D958-435C-A147-C1797126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11E8B-18BB-4F2A-92C0-C2C40C8F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D2B02-5B67-485F-93BC-3C8645D8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351DB-1EB1-4332-AC3A-959D50DE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63585-6609-4DD7-BF73-17F8242E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A5D93-8C26-44AA-B9DF-7B5DB49F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DF20E-3A65-415D-A5AF-2971F6F5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A437F-7C82-4D58-BBB4-017C8AC5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50794-EA47-47A5-B652-41F045F2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FD3D-FD54-4D87-9E9D-8AFDA8D7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D3C43-B73D-4C44-A66E-31D2EDB1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66818-9F60-4B19-B56C-656ED957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80674-88D6-4A97-BBC8-5AAB653D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C6650-F7BD-4857-B06A-F4CBFD47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C994C-A2B7-4B74-A766-E7AD19A2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E6000-C278-4FC9-B520-945D50AB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06107-F77B-4D27-A697-8249F4E7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D0FAF-502D-4C2B-8641-AB3A2FC4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E20B1-ECB9-441C-AD1D-9AFB5653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0EEF1-0F0B-42A4-8813-477C53D5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D75-C51E-46D6-A5A9-CE39AFE9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54CDC-FD99-4EBA-AC92-50EF87BE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696C8-A097-4007-9FB2-27BE9EBE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6F545-AEEE-4D37-A6D8-B617AA81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757F0-A450-4DE0-A500-BE9F397E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25C9A-B02C-4B4C-8C51-B60EFD9B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5D9C5-3A0D-41C4-BDF2-7C451211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547DF-EEAD-48A4-B1D0-2199BB76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E678D-CAFD-413F-8E44-8213409A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1B997-EC34-4650-AC77-0279C0BB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6BC59-7B01-45BA-8E9D-B9FF98AA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3ECA-D54D-49C9-9060-469502D2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605BD-FDB7-4611-ABD4-1776E790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570DB-6035-43A5-A4E2-D9207312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BD672-4E54-41E3-B7AC-EF565942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77BA8-4DB7-4E86-A3A5-67F7D1C8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1432A-E31B-4692-B8E8-7F24A091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66C8B-038F-4F5D-A18E-62AFB8A8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E3188-EBD1-4EBA-A95D-AC243C3B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BC406-B017-4CDF-BFCA-35EBDFF1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FEE18-44EB-4721-BEAE-84E2F342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60F69-6439-4DCA-ACDD-576AAB8B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D6E-830A-433D-BFEE-F5FCD2B8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12523-E729-4A59-BD14-8AC8BA00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214E5-AB78-4243-A32D-F19F1C5B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0373D-D44B-44B2-BF4C-CE990945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2CBD9-22A5-4059-A3CD-3CF3CBCF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0E06F-FE1D-4F41-84AF-74D3D1B7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62ECB-68B1-4494-955A-3A4C9EAF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67C4D-3662-4BCA-974B-047B35E7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065D1-FBE6-4807-8588-BE8314F1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B2A62-13D5-4823-8298-09539A66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DD142-E4F2-4029-9F09-AC9AF5C1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2F5-DE80-438D-ACF8-C58C5FEE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07D51-9FCD-4FAE-89EB-96584AEC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84C1D-BA1C-4B2D-B550-6155D908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EFD04-72CB-4DCA-B207-CEDB9B4B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C9F4F-CC9B-4D24-9E2D-F25524B8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894A2-E759-47B1-B115-60360695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DF6CC-077E-411F-82A3-1FC3ED9D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6AC31-A1DC-4C3D-87A3-6D8BA576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75BB2-7C4F-4846-920D-9F0A5CB8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47BDB-1DA7-4CCA-9C20-EE00FE0C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5DD58-AA0E-463D-B0A7-ECD4F9E5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C8E-7655-4488-80E2-35270D84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99891-CD54-48F4-A184-8E12CAE5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64C2F-969C-408D-8C91-431BB534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40B11-B2A0-4F34-BFE6-18C11D20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47BFB-647D-49DE-8BFD-5C5ED310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91698-67EC-471D-AB12-F0952AAD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32550-0065-40D3-820B-D81F769D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30604-04EA-4977-A4D9-299102B8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8B6F25-91F0-4FF3-81D3-7DEA9471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1AABC5-885B-43CD-A501-70287906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3A4B11-3A47-409B-9581-48041627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178C-70AA-444A-9EAD-63146218DC8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BE05-3FC6-4AE4-AE9D-175EAC6565E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752C-89C5-4EF1-8472-46BDEF02218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FE5C-BA6E-4C1B-8ECD-42EA5CD555C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DB3E-C6D1-449B-A5A2-B2C81DA3412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070D-A1B8-4038-A4A5-DFE44EF4020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9F56-EDB8-424C-9E70-8F1794581A9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6D2C-ACD8-4A3A-8257-6E3A21E094B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45E2-40D1-41BB-BB72-A5E45FE4E97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C383-FF02-4576-85A5-BD6C7BF6AC0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FEE2-AC8F-4D6F-BBFD-56198CAB2E0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BBA1-E470-46A4-B0F1-4BFA3F13DFB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693E-8729-4D51-9797-5E6F7E08C1E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B943-7E1A-4989-BA22-2090BA0CC9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Program%20Files/Dyalog/Dyalog%20APL%2012.1%20Unicode/SALT/Spice/monitor.dyalog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mkrom@dyalog.com" TargetMode="External"/><Relationship Id="rId2" Type="http://schemas.openxmlformats.org/officeDocument/2006/relationships/hyperlink" Target="http://www.dyalog.com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C:/aplsharp/silverlight/aplsharp.html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542916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’09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6" name="Picture 4" descr="tegning09"/>
          <p:cNvPicPr/>
          <p:nvPr/>
        </p:nvPicPr>
        <p:blipFill>
          <a:blip r:embed="rId1"/>
          <a:stretch/>
        </p:blipFill>
        <p:spPr>
          <a:xfrm>
            <a:off x="1785960" y="1143000"/>
            <a:ext cx="52768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erformance Case Stud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Visited company in Bruxelles doing “actuarial calculations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V12.1 gave a 20% speedup “out of the box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We found 20% more by doing “hot spot” analysis for a couple of hour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An 8 core machine (2xQuad) gave a 5x speedup using “PEACH” on the inner loop of the applic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ummary: 7-8x faster. 1 Hour calculation takes &lt;10 minutes. Customer is pleased </a:t>
            </a:r>
            <a:r>
              <a:rPr b="0" lang="en-GB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6C14-5720-4198-A3E6-83371031034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User Command Process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ame idea as in APL*PLUS, but based on Unicode text files as source for user command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 “User command” consists of a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single Unicode Text fil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, all you need to do is drop it in a particular folder (no need to restart APL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Makes it *VERY* easy to share development tool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]display 2 2↑3 3⍴'UCMDS' 'Rock!'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┌→────────────────┐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↓ ┌→────┐ ┌→────┐ │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│ │</a:t>
            </a: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UCMDS│ │Rock!│ │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│ └─────┘ └─────┘ │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│ ┌→────┐ ┌→────┐ │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│ │</a:t>
            </a: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Rock!│ │UCMDS│ │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│ └─────┘ └─────┘ │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└∊────────────────┘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45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45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ED75-68D7-4F77-A920-721DCC00191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IDE Enhanc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 Editor has been completely rewritten to better support editing large classes and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Outlining, Collapsible Regions, “Refactoring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John Daintree will show you all the new features after lunch!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B840-A773-4D64-BEEE-A10A4099C4B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ast XML Transform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onverts XML text to (&amp;from) an array: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;1] Level of nesting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;2] Element Name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;3] Element Data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;4] Attributes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;5] Node type (0=Empty Tag, 1=Text only, 3=Has Children, etc…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;4] not required when generating XML, [;5] ignored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ECF1-2AE8-479A-BE9A-990E62EC40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Integrated MS.Net GUI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D4FD-77D2-4F57-89BE-96B8CFB6368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7" descr=""/>
          <p:cNvPicPr/>
          <p:nvPr/>
        </p:nvPicPr>
        <p:blipFill>
          <a:blip r:embed="rId1"/>
          <a:stretch/>
        </p:blipFill>
        <p:spPr>
          <a:xfrm>
            <a:off x="357120" y="0"/>
            <a:ext cx="858204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ersion 12</a:t>
            </a:r>
            <a:r>
              <a:rPr b="1" lang="da-DK" sz="4400" spc="-1" strike="noStrike">
                <a:solidFill>
                  <a:srgbClr val="000000"/>
                </a:solidFill>
                <a:latin typeface="Geneva"/>
              </a:rPr>
              <a:t>.1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 –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571320" y="17146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aster on Single Core, Some Multi-Core Featu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Editor Enhancemen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ast XML-to-Array Conversion Tool (</a:t>
            </a:r>
            <a:r>
              <a:rPr b="0" lang="en-GB" sz="2000" spc="-1" strike="noStrike">
                <a:solidFill>
                  <a:srgbClr val="333333"/>
                </a:solidFill>
                <a:latin typeface="APL385 Unicode"/>
              </a:rPr>
              <a:t>⎕XML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Microsoft.Net components embeddable in Dyalog GUI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User Command Processor for “Tool Delivery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Pv6 Support with Conga v2.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Journaling Component Files: Protection against O/S Crash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ew Developer Tools: SAWS, MildServer, LoadData, GRAP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pplications deployable as single .exe file (interpreter+ws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mproved Keyboard and Terminal Suppor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-Beam (</a:t>
            </a:r>
            <a:r>
              <a:rPr b="0" lang="en-GB" sz="2000" spc="-1" strike="noStrike">
                <a:solidFill>
                  <a:srgbClr val="333333"/>
                </a:solidFill>
                <a:latin typeface="APL385 Unicode"/>
              </a:rPr>
              <a:t>⌶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) allows experimental &amp; undocumented featu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6B0C-FFC6-4F57-8327-89BAB767CEF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2.1 Timefram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omplete except for packaging and a rapidly diminishing number of bugs in the new edito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arget for General Availability on Windows+AIX is August/September 2009 (was “before” Dyalog’09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Linux and PDA before year e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t isn’t too late to join the Beta-Test programme: Write to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mkrom@dyalog.co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nd explain what you would like to test…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Monitor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Geneva"/>
                <a:hlinkClick r:id="rId2"/>
              </a:rPr>
              <a:t>http://www.dyalog.co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0" lang="en-GB" sz="2000" spc="-1" strike="noStrike">
                <a:solidFill>
                  <a:srgbClr val="333399"/>
                </a:solidFill>
                <a:latin typeface="Geneva"/>
              </a:rPr>
              <a:t>twitter.com/dyalogapl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for notification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34E4-0CBA-4902-935C-39B83B47F61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tatus – Spring’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FF06-AFCC-4B7C-A511-53F2ECE5B2E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Picture 7" descr=""/>
          <p:cNvPicPr/>
          <p:nvPr/>
        </p:nvPicPr>
        <p:blipFill>
          <a:blip r:embed="rId1"/>
          <a:stretch/>
        </p:blipFill>
        <p:spPr>
          <a:xfrm>
            <a:off x="642960" y="0"/>
            <a:ext cx="772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he Next Release Cyc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333333"/>
                </a:solidFill>
                <a:latin typeface="Geneva"/>
              </a:rPr>
              <a:t>Conga 2.1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10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333333"/>
                </a:solidFill>
                <a:latin typeface="Geneva"/>
              </a:rPr>
              <a:t>Version 13.0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C64B-C7E5-441A-968F-475928E0532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onga 2.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upport for More Certificate Typ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e’ve had help from Peter-Michael Hag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ncrypted Certificat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Windows Certificate Store (allows use of SmartCards and other “Tokens” that interface with thi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 available early in 201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2798-0235-4843-A357-010A0F428ED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384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echnical Road Map ’09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785600" y="3571560"/>
            <a:ext cx="5257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orten Kromber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Dyalog’09 – Princeton, NJ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9" name="Picture 4" descr="tegning09"/>
          <p:cNvPicPr/>
          <p:nvPr/>
        </p:nvPicPr>
        <p:blipFill>
          <a:blip r:embed="rId1"/>
          <a:stretch/>
        </p:blipFill>
        <p:spPr>
          <a:xfrm>
            <a:off x="214200" y="5857920"/>
            <a:ext cx="10000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ikely Features for ”v13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ore Performance and QA wor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Continued focus on multi-core, cache optimization and other aspects of modern chip architectu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ndustrial Strength” local and distributed PEACH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move “2 billion element” limit from 64-bit vers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ew Data Types: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128-bit Decimal Floating Point (IEEE-754-2008) for banking application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Complex Numbers to attract educational use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Rational Numbers / Unlimited Precision Integers can wai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We have decided we do NOT NEED 64-bit Intege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B8F9-5571-4DEA-AE2F-22C1EB70C67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ikely Features for ”v13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mprove and rationalise internal developer tools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APL385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DMX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 Diagnostic Message – eXten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Provide more detailed information about erro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APL385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MONITOR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 Measure CPU and Elapsed Time with higher precision, easier to use, handle recurs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APL385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STACK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, </a:t>
            </a: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⎕NSI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to return “refs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APL385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NC, ⎕NL…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ationalise “Metadata” or “Reflection” tools: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951E-053A-4F7B-A6D0-79B140E2070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More Likely v13 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upport for Unicode source files built-in to interpret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Load, Save and direct Edit of Unicode Text fil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General-purpose Encryption Library (Hashing, Symmetrical and Asymmetrical encryption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arget availability for v13 in “roughly 12 months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C95D-5ADC-49E7-A990-3447C1891C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Other Potential Proje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Geneva"/>
              </a:rPr>
              <a:t>SQAPL Server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 Allow an APL application to appear to be a Relational Database Engine (with ODBC, ADO, ADO.NET and JDBC drivers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(This will not be a free product due to 3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party licensing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mote IDE for DyalogAPL on all platform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ono” Bridge – use .Net Framework under Linux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Provide More Developer Tools – as part of the APL Library. Cultivate an “Open Source” code repository,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5EB4-CE69-4113-B479-5B5F5466A56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 #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42600" y="17146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have started a research project, to produce a completely new, ”Fully Managed” APL Interpret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will publish a specification and discuss it, first with major customers and then ”in public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ill be fully integrated with Microsoft.Net – but the core language syntax will be independent of .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DDD0-0ADE-4EB9-80E0-06675FEED4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 # - Benefi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42600" y="17146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plications written in APL# will be deployable in a ”secure” fashion over the internet, and in other scenarios where ”managed code” is a requirement or provides a significant advantag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For example, you will be able to write web applications with APL code executing in the browser to provide a ”rich client” experienc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4FC2-2EAC-44E5-B1CD-ACC4BC4C86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 # </a:t>
            </a:r>
            <a:r>
              <a:rPr b="1" lang="da-DK" sz="3600" spc="-1" strike="noStrike">
                <a:solidFill>
                  <a:srgbClr val="333333"/>
                </a:solidFill>
                <a:latin typeface="Geneva"/>
              </a:rPr>
              <a:t>- ”Likely Characteristics”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Full set of APL primitives, operators and other core language featur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esigned as a tool for APL thinkers – but comfortable for software engineers</a:t>
            </a:r>
            <a:br>
              <a:rPr sz="2400"/>
            </a:b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ONE BIG difference: No ”semiglobals” (a function cannot see the locals of its calling environment)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There WILL be true global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nd the equivalent of namespaces will provide a ”reasonable” migration path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755A-4E74-430C-9365-C061FD0738D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 # </a:t>
            </a:r>
            <a:r>
              <a:rPr b="1" lang="da-DK" sz="3600" spc="-1" strike="noStrike">
                <a:solidFill>
                  <a:srgbClr val="333333"/>
                </a:solidFill>
                <a:latin typeface="Geneva"/>
              </a:rPr>
              <a:t>- ”Likely Characteristics”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ILL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PROBABLY NOT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HAVE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uxiliary Processors,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⎕ML, ⎕OR, ⎕SM, ⎕RTL, ⎕SD, ⎕SR, ⎕NTIE, ⎕ARBIN, ⎕W*, ⎕AI, ⎕SVO, ⎕DQ, ⎕D.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(Library functions for which a perfectly good equivalent exists in the .Net framework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Saved workspaces will not be able to have an )SI stack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400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First versions may not be able )SAVE workspaces at all</a:t>
            </a:r>
            <a:br>
              <a:rPr sz="1600"/>
            </a:b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ILL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PROBABLY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HAVE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APL385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CT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,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⎕IO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(jury is still out), and a small set of carefully selected library functions, Component Files,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⎕XML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(etc) which provide unique value to APL programme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740F-D3BE-4FAE-94FD-A35B28B0226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” vs ”APL #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L# is a complimentary product which allows the use of APL in places where it can not be deployed today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t is useful to organizations who need managed code, or use Visual Studio / C# or are otherwise heavily invested in Microsoft.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rate of development of the core product will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continue to accelerat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two products will inter-operate seamlessly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2478-72DC-4943-BF86-689038D8FAF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 </a:t>
            </a:r>
            <a:r>
              <a:rPr b="1" lang="da-DK" sz="4400" spc="-1" strike="noStrike">
                <a:solidFill>
                  <a:srgbClr val="333333"/>
                </a:solidFill>
                <a:latin typeface="APL385 Unicode"/>
              </a:rPr>
              <a:t>→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 APL # ”Interop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L# assemblies can be called by Dyalog APL (as any other .NET assembly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yalog and APL# will (eventually) be able to share Component Files and communicate (many) APL arrays via TCP/IP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But not saved workspac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elected New Language Features in APL# will be ported to Dyalog AP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Will allow the writing of code which can be used in both environmen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457B-DA02-4469-BFD3-DD78D3F3CF8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gend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ntroducing Version 12.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emonstration of some Key Featu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 Next Release Cyc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Version 13.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Conga 2.1, Encryption &amp; Encoding Librar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1" lang="en-GB" sz="2400" spc="-1" strike="noStrike">
                <a:solidFill>
                  <a:srgbClr val="333333"/>
                </a:solidFill>
                <a:latin typeface="Geneva"/>
              </a:rPr>
              <a:t>APL#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” -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 new APL interpreter to complement Dyalog AP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irrus or Cumulo-Nimbus?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agle’s Eye View of Curves in the Roa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Recommendations on preparing for the futur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8912-2C62-40B4-B2B2-106802C0227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4" descr="tegning09"/>
          <p:cNvPicPr/>
          <p:nvPr/>
        </p:nvPicPr>
        <p:blipFill>
          <a:blip r:embed="rId1"/>
          <a:stretch/>
        </p:blipFill>
        <p:spPr>
          <a:xfrm>
            <a:off x="7380360" y="5877000"/>
            <a:ext cx="10000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imelin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L# is still being designed, but see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da-DK" sz="24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C:\aplsharp\silverlight\aplsharp.htm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will start reviewing the design externally this winter (come to APL2010 to heckle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prototype may be available at APL’2010 – earliest ”General Availability” in 2011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ressure (and funding </a:t>
            </a:r>
            <a:r>
              <a:rPr b="0" lang="da-DK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) from customers could make us more ambitious about the features, but probably not the timing, of the first releas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E451-4554-4E9C-A39C-FFE8BE8226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irrus or Cumulo-Nimbu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A good home for ”Vapourware”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ave Thomas is about to teach us how to recognize and use different forms of clouds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A825-0F6E-4068-9A5F-3B5FA0B1BB5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Picture 8" descr="http://www.enchantedlearning.com/cgifs/clouds.GIF"/>
          <p:cNvPicPr/>
          <p:nvPr/>
        </p:nvPicPr>
        <p:blipFill>
          <a:blip r:embed="rId1"/>
          <a:stretch/>
        </p:blipFill>
        <p:spPr>
          <a:xfrm>
            <a:off x="3214800" y="2357280"/>
            <a:ext cx="53719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mazon Web Services (AWS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”mature” provider of ”web and computing infrastructure” (since 2006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You provide a virtual machine image and Amazon ”scales it infinitely” at reasonable cos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are investigating providing tools to support EC2 (Elastic Compute Cloud), S3 (Simple Storage Service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Goal is to provide recipes, or pre-configured ”Amazon Machine Images” to build up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have a lot to learn, but hope to wrap our new knowledge up nicely for Dyalog user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o timeline... Talk to us if you have a potential app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D818-5718-4440-B378-46B3D618FCD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houghts about</a:t>
            </a:r>
            <a:br>
              <a:rPr sz="4400"/>
            </a:b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he Road Ahea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85800" y="198108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2A01-8DD5-43F5-AD25-198EEAC4C4D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Picture 2" descr="http://susty.com/image/country-road-clouds-photoshoped-into-world-map-continents-float-in-blue-sky-clear-green-grass-black-pavement-white-broken-line-image-photo.jpg"/>
          <p:cNvPicPr/>
          <p:nvPr/>
        </p:nvPicPr>
        <p:blipFill>
          <a:blip r:embed="rId1"/>
          <a:stretch/>
        </p:blipFill>
        <p:spPr>
          <a:xfrm>
            <a:off x="1928880" y="2286000"/>
            <a:ext cx="52974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ooking Back Very Briefl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685800" y="198108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33333"/>
                </a:solidFill>
                <a:latin typeface="Geneva"/>
              </a:rPr>
              <a:t>Version 11.0 (Autumn 2006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Object Orientation – </a:t>
            </a:r>
            <a:r>
              <a:rPr b="0" i="1" lang="da-DK" sz="28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ew Tool of Though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ignificantly Improved Integration with .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ource code management using standard tool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64-bit Version - LARGE Workspa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ore Language Extensio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number of new primitives:  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⍣ ⌷ ∧ ∨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2918-F2AF-48DF-92E9-78DC48AADC8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ooking Back: v12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rst Release (Win32) in February 2008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ain Feature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Unicode Suppor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Journaling Component File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implified, Secure Communications Toolkit (“Conga”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Built-In Charting and Document Cre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Language Bar and On-Screen Keyboa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E579-1A8C-433C-8CD5-414906BFA91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7" descr=""/>
          <p:cNvPicPr/>
          <p:nvPr/>
        </p:nvPicPr>
        <p:blipFill>
          <a:blip r:embed="rId1"/>
          <a:stretch/>
        </p:blipFill>
        <p:spPr>
          <a:xfrm>
            <a:off x="6805440" y="5643720"/>
            <a:ext cx="1338480" cy="10760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ooking ”Back”: v12.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October 2009, Key Featur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aster, more Robust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ulti-Core Suppor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nhanced Edito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XML, Web Servic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utorials and Tools – and more to com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52D7-0B6A-47A1-A498-D57A6C475D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Picture 7" descr=""/>
          <p:cNvPicPr/>
          <p:nvPr/>
        </p:nvPicPr>
        <p:blipFill>
          <a:blip r:embed="rId1"/>
          <a:stretch/>
        </p:blipFill>
        <p:spPr>
          <a:xfrm>
            <a:off x="6805440" y="5643720"/>
            <a:ext cx="1338480" cy="10760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o Come ...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ew “Commercial” and “Technical” Data Typ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ore Speed – Especially On Multiple Cor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ncryption and Other Web Enabling Tool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anaged Code Interpret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ore Ways to Run APL as a Service across Multiple Platforms (ODBC Data Source etc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3D43-205A-47BA-9FA6-6C2E809262E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" name="Picture 7" descr=""/>
          <p:cNvPicPr/>
          <p:nvPr/>
        </p:nvPicPr>
        <p:blipFill>
          <a:blip r:embed="rId1"/>
          <a:stretch/>
        </p:blipFill>
        <p:spPr>
          <a:xfrm>
            <a:off x="6805440" y="5643720"/>
            <a:ext cx="1338480" cy="10760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ecommend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64-bit is Becoming Common, even on Window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Good news: Porting to 64-bit requires few code changes (once all the other components you need are available in 64-bit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Unicod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lease investigate what it will take to migrat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o hurry – but eventually, we will start adding new features in Unicode only (we’ll need more symbols </a:t>
            </a:r>
            <a:r>
              <a:rPr b="0" lang="da-DK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ulti (at least 2)-core machines are everywher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Look at PEACH and other forms of ”multicore” split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9184-710D-4D65-8009-F17F32BADC7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ecommend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o prepare for the Web or Cloud - think about addding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b Front Ends using ASP.NET, MildServer etc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b Services using ASP.NET or SAW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n ODBC or ADO frontend using the SQAPL Server?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ake a look at Source Code in Unicode Text Fil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Easier sharing and managemen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ccess to many excellent (often free) tools!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FFE7-7FA7-4A0C-8FB9-FD5CA78F98F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ersion 12</a:t>
            </a:r>
            <a:r>
              <a:rPr b="1" lang="da-DK" sz="4400" spc="-1" strike="noStrike">
                <a:solidFill>
                  <a:srgbClr val="000000"/>
                </a:solidFill>
                <a:latin typeface="Geneva"/>
              </a:rPr>
              <a:t>.1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 –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71320" y="17146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t was supposed to be a “Year of Consolidation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Let the new QA manager take charg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Build, Install &amp; QA on every platform, every nigh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ind and Kill more bugs, Speed things up a bi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... But we managed to sneak a few new things into v12.1 </a:t>
            </a:r>
            <a:r>
              <a:rPr b="0" lang="en-GB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EE56-3DB2-41E9-929C-841028211D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Other Talks by Devt. Team...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66A1-8705-481F-AF3D-D257869995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428760" y="1643040"/>
          <a:ext cx="8001000" cy="1828800"/>
        </p:xfrm>
        <a:graphic>
          <a:graphicData uri="http://schemas.openxmlformats.org/drawingml/2006/table">
            <a:tbl>
              <a:tblPr/>
              <a:tblGrid>
                <a:gridCol w="857160"/>
                <a:gridCol w="71438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Today (Mon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Daintree: The Version 12.1 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ichard Smith: 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⎕XML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, Journaled Files Phas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oger Hui: Complex Numbers Implementation St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Scholes: Complex Numb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8" name=""/>
          <p:cNvGraphicFramePr/>
          <p:nvPr/>
        </p:nvGraphicFramePr>
        <p:xfrm>
          <a:off x="714240" y="3500280"/>
          <a:ext cx="8001000" cy="1113120"/>
        </p:xfrm>
        <a:graphic>
          <a:graphicData uri="http://schemas.openxmlformats.org/drawingml/2006/table">
            <a:tbl>
              <a:tblPr/>
              <a:tblGrid>
                <a:gridCol w="857520"/>
                <a:gridCol w="714348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Tomorrow (Tues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09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orten Kromberg: An ODBC Driver for AP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09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Scholes: Session Whizba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857160" y="4643280"/>
          <a:ext cx="8001000" cy="1482840"/>
        </p:xfrm>
        <a:graphic>
          <a:graphicData uri="http://schemas.openxmlformats.org/drawingml/2006/table">
            <a:tbl>
              <a:tblPr/>
              <a:tblGrid>
                <a:gridCol w="857520"/>
                <a:gridCol w="714348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Wednesday (Cours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Dan Baronet: Source Code Mgt using SALT and Sub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Daintree: Using the Microsoft.Net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orten Kromberg: Multicore / Application Tuning Works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’ve been keeping busy!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’re starting to enjoy the benefits of being a significantly larger team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hope that you will enjoy some of the new Features - and Products - that are heading your way!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ank You For Listening!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2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5154-5584-4D87-B829-C8006564D9F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Other Talks by Devt. Team...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7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9B1C-2758-49E2-8A4B-84DDE61663D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0" name=""/>
          <p:cNvGraphicFramePr/>
          <p:nvPr/>
        </p:nvGraphicFramePr>
        <p:xfrm>
          <a:off x="428760" y="1643040"/>
          <a:ext cx="8001000" cy="1828800"/>
        </p:xfrm>
        <a:graphic>
          <a:graphicData uri="http://schemas.openxmlformats.org/drawingml/2006/table">
            <a:tbl>
              <a:tblPr/>
              <a:tblGrid>
                <a:gridCol w="857160"/>
                <a:gridCol w="71438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Today (Mon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Daintree: The Version 12.1 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ichard Smith: 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⎕XML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, Journaled Files Phas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oger Hui: Complex Numbers Implementation St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Scholes: Complex Numb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714240" y="3500280"/>
          <a:ext cx="8001000" cy="1113120"/>
        </p:xfrm>
        <a:graphic>
          <a:graphicData uri="http://schemas.openxmlformats.org/drawingml/2006/table">
            <a:tbl>
              <a:tblPr/>
              <a:tblGrid>
                <a:gridCol w="857520"/>
                <a:gridCol w="714348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Tomorrow (Tues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09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orten Kromberg: An ODBC Driver for AP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09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Scholes: Session Whizba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2" name=""/>
          <p:cNvGraphicFramePr/>
          <p:nvPr/>
        </p:nvGraphicFramePr>
        <p:xfrm>
          <a:off x="857160" y="4643280"/>
          <a:ext cx="8001000" cy="1482840"/>
        </p:xfrm>
        <a:graphic>
          <a:graphicData uri="http://schemas.openxmlformats.org/drawingml/2006/table">
            <a:tbl>
              <a:tblPr/>
              <a:tblGrid>
                <a:gridCol w="857520"/>
                <a:gridCol w="714348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Wednesday (Cours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Dan Baronet: Source Code Mgt using SALT and Sub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Daintree: Using the Microsoft.Net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orten Kromberg: Multicore / Application Tuning Works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ersion 12</a:t>
            </a:r>
            <a:r>
              <a:rPr b="1" lang="da-DK" sz="4400" spc="-1" strike="noStrike">
                <a:solidFill>
                  <a:srgbClr val="000000"/>
                </a:solidFill>
                <a:latin typeface="Geneva"/>
              </a:rPr>
              <a:t>.1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 –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571320" y="17146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aster on Single Core, Some Multi-Core Featu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Editor Enhancemen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ast XML-to-Array Conversion Tool (</a:t>
            </a:r>
            <a:r>
              <a:rPr b="0" lang="en-GB" sz="2000" spc="-1" strike="noStrike">
                <a:solidFill>
                  <a:srgbClr val="333333"/>
                </a:solidFill>
                <a:latin typeface="APL385 Unicode"/>
              </a:rPr>
              <a:t>⎕XML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Microsoft.Net components embeddable in Dyalog GUI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User Command Processor for “Tool Delivery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Pv6 Support with Conga v2.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Journaling Component Files: Protection against O/S Crash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ew Developer Tools: SAWS, MildServer, LoadData, GRAP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pplications deployable as single .exe file (interpreter+ws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mproved Keyboard and Terminal Suppor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-Beam (</a:t>
            </a:r>
            <a:r>
              <a:rPr b="0" lang="en-GB" sz="2000" spc="-1" strike="noStrike">
                <a:solidFill>
                  <a:srgbClr val="333333"/>
                </a:solidFill>
                <a:latin typeface="APL385 Unicode"/>
              </a:rPr>
              <a:t>⌶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) allows experimental &amp; undocumented featu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DEF4-40F4-4593-A961-D7B500761E5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2.1 Core Perform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D8F3-8013-42A5-8165-B761A515FE4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785880" y="1857240"/>
          <a:ext cx="7358040" cy="4391280"/>
        </p:xfrm>
        <a:graphic>
          <a:graphicData uri="http://schemas.openxmlformats.org/drawingml/2006/table">
            <a:tbl>
              <a:tblPr/>
              <a:tblGrid>
                <a:gridCol w="500040"/>
                <a:gridCol w="533520"/>
                <a:gridCol w="537840"/>
                <a:gridCol w="1357560"/>
                <a:gridCol w="1741320"/>
                <a:gridCol w="115920"/>
                <a:gridCol w="714600"/>
                <a:gridCol w="823680"/>
                <a:gridCol w="1033560"/>
              </a:tblGrid>
              <a:tr h="249120"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10.1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12.1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320">
                <a:tc gridSpan="9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Boolean Scans and Reductions Highly Opt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mat←1000 1000 r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+⌿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←1000000 r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≠</a:t>
                      </a: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\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480">
                <a:tc gridSpan="9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“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Set Functions” (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PL385 Unicode"/>
                        </a:rPr>
                        <a:t>⍳ ∊ ∪ ∩ ~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) Optimized for “One Small Argument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←1000000 rand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~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(vec≠5)/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0680">
                <a:tc gridSpan="4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 gridSpan="4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Transpose Rewrit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⍉</a:t>
                      </a: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⍉</a:t>
                      </a: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480">
                <a:tc gridSpan="6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Indexing Uses Less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1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i j←1000?¨1000 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1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mat[i;]</a:t>
                      </a:r>
                      <a:r>
                        <a:rPr b="0" lang="da-DK" sz="11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 ⍝ (kb us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3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0680">
                <a:tc gridSpan="6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Indexing is also (often) Fa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data←mat[i;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mat[j;]←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25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2.1 Core Perform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4285-87E1-4B55-AB92-5AD53B33169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857160" y="1643040"/>
          <a:ext cx="7572600" cy="4357800"/>
        </p:xfrm>
        <a:graphic>
          <a:graphicData uri="http://schemas.openxmlformats.org/drawingml/2006/table">
            <a:tbl>
              <a:tblPr/>
              <a:tblGrid>
                <a:gridCol w="603360"/>
                <a:gridCol w="2825640"/>
                <a:gridCol w="1143000"/>
                <a:gridCol w="505080"/>
                <a:gridCol w="552240"/>
                <a:gridCol w="965160"/>
                <a:gridCol w="978120"/>
              </a:tblGrid>
              <a:tr h="2491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10.1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12.1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Grade Uses New (lexicographic) Algorith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←1e6 rand 1e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⍋</a:t>
                      </a: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For “Small Range” Data, Even Fa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←1e6 rand 1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⍋</a:t>
                      </a: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“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Sort” is  now an idi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{⍵[⍋⍵]}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7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        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mat←100000 4 rand 1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{⍵[⍋⍵;]}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20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arithmetic (+ - ×) has been fully rewritten in assembly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Simple Arith uses “SSE” instructions where pos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a b←1000∘rand¨50 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⍝ 1-byte 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a+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More Optimized Cross-Type Ope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a b←1 0.001×(1000 1000)∘rand¨50 1000000 ⍝ a: 1-byte ints, b:flo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a×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Matrix iota idiom extended to numeric arr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data←10000 10 rand 1E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data{(↓⍺)⍳↓⍵}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Multi-Core Suppor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Most Scalar Dyadic Functions on Floating-Point arguments will use multiple cores (configurable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But not + and -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48FA-B0F1-4A7D-9A3E-55B1014D568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2214720" y="3500280"/>
          <a:ext cx="4786200" cy="2229120"/>
        </p:xfrm>
        <a:graphic>
          <a:graphicData uri="http://schemas.openxmlformats.org/drawingml/2006/table">
            <a:tbl>
              <a:tblPr/>
              <a:tblGrid>
                <a:gridCol w="1595160"/>
                <a:gridCol w="1041480"/>
                <a:gridCol w="2149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2 c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4 c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5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70-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GCD/L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5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70-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arallel Each Oper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42960" y="185724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A user-defined operator called PEACH is included with v12.1. It uses Conga to orchestrate multiple core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Demo]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Parallel Each on a single machine works well with algorithms that have a good CPU:Memory ratio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istributed Each” works for any kind of calculation if transfer or arguments and results not too expensiv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F791-47D8-4181-AE75-92CC590416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6T22:41:42Z</dcterms:created>
  <dc:creator>Gitte Christensen</dc:creator>
  <dc:description/>
  <dc:language>en-US</dc:language>
  <cp:lastModifiedBy>Morten Kromberg</cp:lastModifiedBy>
  <dcterms:modified xsi:type="dcterms:W3CDTF">2009-09-15T11:45:56Z</dcterms:modified>
  <cp:revision>377</cp:revision>
  <dc:subject/>
  <dc:title>Rolling the Process</dc:title>
</cp:coreProperties>
</file>