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C49-6A71-4909-9DEF-6A04ECF5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C02-D52D-400C-9D76-8B9C306F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9C9-4F38-4622-AADB-5F0CACCA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C6D-20AA-4B61-B84D-1CDAF3E3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846-FD0F-41FB-871F-7C263059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DCA-8F66-4E10-8236-226AD66B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322-1BCF-45D3-B79C-DA43ACE5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9CA-0F31-4C30-8576-E5FB197D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131-821B-4A58-ABC0-9EAA627E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903-357E-482E-B789-1A580C3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166-1521-496D-AE1E-D3263CDE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A0D-2537-47A2-A0EA-2A849251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A5AE-9461-4170-9F20-EDA8C0BB6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PL in Second Ge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’s the point of AP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notation of direc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bstraction is po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kip the fluf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038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im the f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ep it sim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05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t the cra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-to-1 (notion to notat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352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n’t waste my ti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Food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nsu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dustry Software Expe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tility Wiz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Interpreter Develo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es APL have a fu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perating System Develo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nsume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usines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dustry Software Exper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e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tility Wizard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Interpreter Develope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perating System Devel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visible Utility Wiz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don’t buy it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don’t have a Utilit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zard and we don’t nee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e.  We do just f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already know how 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ute an average.  W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n’t need another metho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r method works just f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PL+WIN"/>
                <a:ea typeface="APL+WIN"/>
              </a:rPr>
              <a:t>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Prepare to fall in love again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notation of direc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bstraction is po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im the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rst gear: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60960" y="34290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05200" y="19810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gear: Utilities built on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77800" y="2743200"/>
            <a:ext cx="65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gear: Utilities built on ut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today’s date TODAY (yyyymmdd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a birthdate DOB (yyyymmdd), wha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ge of the policyhold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PL+WIN"/>
                <a:ea typeface="APL+WIN"/>
              </a:rPr>
              <a:t>„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PL+WIN"/>
                <a:ea typeface="APL+WIN"/>
              </a:rPr>
              <a:t>„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PL+WIN"/>
                <a:ea typeface="APL+WIN"/>
              </a:rPr>
              <a:t>„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’s the point of AP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today’s date TODAY (yyyymmdd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the contract date POLDA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yyyymmdd), how many days ha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policy been in eff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PL+WIN"/>
                <a:ea typeface="APL+WIN"/>
              </a:rPr>
              <a:t>„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today’s date TODA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yyyymmdd), what will be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te (yyyymmdd) in 90 day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80 days, 360 da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PL+WIN"/>
                <a:ea typeface="APL+WIN"/>
              </a:rPr>
              <a:t>„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mat these dates as 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-column matrix i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m/dd/yyyy no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PL+WIN"/>
                <a:ea typeface="APL+WIN"/>
              </a:rPr>
              <a:t>„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ute the average o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et of numbers 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PL+WIN"/>
                <a:ea typeface="APL+WIN"/>
              </a:rPr>
              <a:t>„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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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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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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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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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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‘‘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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2840" y="2285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unic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e Handl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s/outpu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cell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d Ken Iverson invent AP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e Handling: Given a comma-delimited fi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looks like the following, read its fields (except SS No.) into a set of APL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8960" y="28951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 No.,Date of Birth,Sex,SSNo,LastName,Premiu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14,03/15/1940,M,022-14-1567,Smith,103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983,05/30/1937,F,038-15-1129,Jones,58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„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„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„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„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„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„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„„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…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„„†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e Handling: Given a fixed-format fi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th the following layout, read its fiel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xcept SS No.) into a set of APL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ytes  Length  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  ------  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-8      8    Policy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-18    10    Date of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       1    Sex (M or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-30    11    Social Security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1-50    20    Las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1-65    15    Premiums (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„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„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„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„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„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„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„„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…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„„†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e Handling: Save thes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variables in an APL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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…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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tions: Sum premiums and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mber of policies by year of bi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„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„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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„›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s/output: Generate th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, and display it on the scre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52120" y="1980720"/>
            <a:ext cx="6172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licy Summar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s of 09/22/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    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  of Policies  Premium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  -----------  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40       17         12,3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45      302      3,125,8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46       45         55,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„</a:t>
            </a: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ƒ†Œ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„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„„„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„Œ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„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„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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d Ken Iverson discover AP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s/output: build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 as a Word fi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„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…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„</a:t>
            </a: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œ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„„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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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s/output: build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 as an .xls fi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437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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…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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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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„</a:t>
            </a: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ƒ†Œ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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„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„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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„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„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„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„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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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„œ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„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„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„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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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unications: Given two .xls fil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ed by other functions, send the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attachments to Fred in Accou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„›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</a:t>
            </a: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œ„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œ„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œ„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œ„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œ„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œ„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„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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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a menu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 choices, from which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user is to pick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7241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„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a menu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oices, from which the us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y pick any number of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25048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„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Exists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ind of the Beho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a menu of choices, from which the user may pick any number of them.  Selected choices are in a list on the right; remaining choices are in a list on the left; Add/Remove buttons are located in betw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22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„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a menu of choice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llow the user to alter thei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highlighting choices and click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p or Down but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1486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„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the following input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clip_image002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448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„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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„„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„„„„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„„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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„›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„›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„›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„›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„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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„›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„›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„›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„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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…„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„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„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re have we gone wrong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’s holding us bac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nsum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usine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dustry Software Expe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tility Wiza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Interpreter Develop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perating System Devel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olution: a differ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gear-two) mind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Interpreter Devel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s Wizar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s “librarian,” not “auth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cuments/distributes both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is a Tool of Thou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t of whose though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tility Wiz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52480" y="22093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orks with A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unicates with other Wiz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s ut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752480" y="2133720"/>
            <a:ext cx="5639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vides feedback to Wi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rites 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in Second Gear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uture of A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Big Bang The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PL+WIN"/>
                <a:ea typeface="APL+WIN"/>
              </a:rPr>
              <a:t>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0:26:53Z</dcterms:created>
  <dc:creator>Gary A. Bergquist</dc:creator>
  <dc:description/>
  <dc:language>en-US</dc:language>
  <cp:lastModifiedBy>Gary A. Bergquist</cp:lastModifiedBy>
  <dcterms:modified xsi:type="dcterms:W3CDTF">2009-09-09T12:48:50Z</dcterms:modified>
  <cp:revision>14</cp:revision>
  <dc:subject/>
  <dc:title>APL in Second Gear</dc:title>
</cp:coreProperties>
</file>