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116-AFA3-4132-8331-91196422D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1F14-7125-47E3-B958-3D7A8E88C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29BD-D5E0-4829-9B9C-9726F8D787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34C8-FFB0-4D4D-8320-BDC6A05DD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0BA-4BB2-4F15-BAB6-D7055B5C9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E7C6-B257-4614-8FAE-DB49D7174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A3E6-0CA2-4107-BC85-CC509B9DE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7A2-D249-4E5E-B12E-EBC2B66FDE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A6F-B5AE-492C-A7C1-144E74C33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715-2A7D-42F9-A31E-BF388966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680-18B4-44F6-A3B8-CD2771B8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FDA-C224-478D-BC1C-D6ADD7EC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8CF-2EAF-4D32-9502-8397BA46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30D-23D1-4C64-9350-2076E6B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304-5FF5-43C5-AEA9-0FAE64EB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2FB-CC93-4634-BC51-DF305C8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0CC-49BE-436F-A0B6-45BE5F5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5B2-8AD4-45EA-A6C3-D98EC75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03F-055A-498D-95E1-7B199C7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5C6-31AB-4137-B800-6F3C4D0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533-0A13-4E27-B96A-1FA0A4A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8447-826F-4F46-A503-133A6D2EA2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C94D-3A61-460B-81C4-0C41C22995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eneva"/>
              </a:rPr>
              <a:t>Multiple file write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12.0 journaled 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C2A-AC58-4BB1-8EA8-0E83C3DE35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92920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journal to end of file, which describes th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erform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lear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interrupted, the journal remains present so the update can be red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afer journaled upd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779-321C-47DB-8C32-49F78BCE52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29040" y="1785960"/>
            <a:ext cx="157176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Journaling does not work when disk caches are not flu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orcing data to be flushed to disk is slow but may be minim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6432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1714680" y="1785960"/>
            <a:ext cx="1928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No data loss on OS cras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ould require 4 disk cache flushes per update if no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2 disk cache flushes per update using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1 disk cache flush per update and repair to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Repair tool can be used with </a:t>
            </a:r>
            <a:r>
              <a:rPr b="1" i="1" lang="en-GB" sz="3200" spc="-1" strike="noStrike">
                <a:solidFill>
                  <a:srgbClr val="262626"/>
                </a:solidFill>
                <a:latin typeface="Geneva"/>
              </a:rPr>
              <a:t>any</a:t>
            </a: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 checksummed component f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AFC-81E0-4544-B096-8D30E46EC4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J1C0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J0C0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J3C1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J2C1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J1C1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J0C1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J3C0"/>
          <p:cNvSpPr/>
          <p:nvPr/>
        </p:nvSpPr>
        <p:spPr>
          <a:xfrm>
            <a:off x="3286080" y="457200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J2C0"/>
          <p:cNvSpPr/>
          <p:nvPr/>
        </p:nvSpPr>
        <p:spPr>
          <a:xfrm>
            <a:off x="3286080" y="392904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J3"/>
          <p:cNvSpPr/>
          <p:nvPr/>
        </p:nvSpPr>
        <p:spPr>
          <a:xfrm>
            <a:off x="642960" y="457200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J2"/>
          <p:cNvSpPr/>
          <p:nvPr/>
        </p:nvSpPr>
        <p:spPr>
          <a:xfrm>
            <a:off x="642960" y="392904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J1"/>
          <p:cNvSpPr/>
          <p:nvPr/>
        </p:nvSpPr>
        <p:spPr>
          <a:xfrm>
            <a:off x="64296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J0"/>
          <p:cNvSpPr/>
          <p:nvPr/>
        </p:nvSpPr>
        <p:spPr>
          <a:xfrm>
            <a:off x="64296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1"/>
          <p:cNvSpPr/>
          <p:nvPr/>
        </p:nvSpPr>
        <p:spPr>
          <a:xfrm>
            <a:off x="5929200" y="200016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0"/>
          <p:cNvSpPr/>
          <p:nvPr/>
        </p:nvSpPr>
        <p:spPr>
          <a:xfrm>
            <a:off x="3286080" y="200016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/checksum cho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274-D276-48C7-8223-72174860B4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2.1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vailability in 1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12.0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1.0"/>
          <p:cNvSpPr/>
          <p:nvPr/>
        </p:nvSpPr>
        <p:spPr>
          <a:xfrm>
            <a:off x="642960" y="542916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1.0 and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J1C0 X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J0C0 X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J0C1 X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J1C1 ?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J2C1 ?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J3C1 ?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2960" y="2000160"/>
          <a:ext cx="7929720" cy="321480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4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da-DK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Repair tool dem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59D-9C38-4AA0-A71D-1157561453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3:42Z</dcterms:modified>
  <cp:revision>1</cp:revision>
  <dc:subject/>
  <dc:title/>
</cp:coreProperties>
</file>