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13C3-3A6A-4998-A90E-E0A3729C9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needed anymore (SALT always includes itsel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BF13-9DA6-46D9-9FE8-C7AC2D1E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&lt;Snap&gt; wit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EDE1-5584-4F23-8C10-5EE5208E0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&lt;Snap&gt; wit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ADA2-8EFF-4DC3-8C4E-0025812C4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cons ar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BE10-E638-4761-97BB-20C347CDE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* to load all scripts starting with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9543-9238-4DE7-95B1-70ADB0BA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not the vari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B052-C056-4FC0-AE6A-CB8356482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a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rt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E52-9FF0-4266-82BB-A84962460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D83-295F-4DE3-9CDB-F986838A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AB6-8E5E-42BB-A27D-632A274F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D57-C447-4D2A-849F-6D093469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FB9-5D24-4F2B-A81D-F082A169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878-EF33-4C5B-A36F-557687A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721-EB4D-4753-A4DE-2D1039EA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3DE-5CD4-4B9B-8E7E-0E118D96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EFA-4296-4EEA-88FB-230E43B8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E55-2355-4A85-BF74-B0661D6F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914-2DF7-4EB9-BCEF-7697AF5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6F3-8630-4415-94CE-570B4C0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B39-7A05-45C5-939F-B789856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14AB-06C5-4D6C-A218-89F5793310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0EA8-1CFF-4AA8-B7AE-2686076506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82600"/>
            <a:ext cx="7772400" cy="23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Geneva"/>
              </a:rPr>
              <a:t>Converting workspaces  and using SALT &amp; </a:t>
            </a:r>
            <a:r>
              <a:rPr b="1" i="1" lang="en-US" sz="54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1" lang="en-US" sz="5400" spc="-1" strike="noStrike">
                <a:solidFill>
                  <a:srgbClr val="333333"/>
                </a:solidFill>
                <a:latin typeface="Geneva"/>
              </a:rPr>
              <a:t> to maintain them.</a:t>
            </a:r>
            <a:endParaRPr b="1" lang="en-US" sz="5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Geneva"/>
              </a:rPr>
              <a:t>V1.02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5BC1-796F-4F4D-93B1-D487ABB0D7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nit is made of 2 main compon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driving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weapons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562200" y="4869000"/>
            <a:ext cx="1801800" cy="6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9"/>
          <p:cNvGrpSpPr/>
          <p:nvPr/>
        </p:nvGrpSpPr>
        <p:grpSpPr>
          <a:xfrm>
            <a:off x="4140360" y="4113360"/>
            <a:ext cx="1522440" cy="792000"/>
            <a:chOff x="4140360" y="4113360"/>
            <a:chExt cx="1522440" cy="792000"/>
          </a:xfrm>
        </p:grpSpPr>
        <p:sp>
          <p:nvSpPr>
            <p:cNvPr id="96" name="AutoShape 7"/>
            <p:cNvSpPr/>
            <p:nvPr/>
          </p:nvSpPr>
          <p:spPr>
            <a:xfrm>
              <a:off x="4140360" y="4113360"/>
              <a:ext cx="1041480" cy="792000"/>
            </a:xfrm>
            <a:prstGeom prst="can">
              <a:avLst>
                <a:gd name="adj" fmla="val 334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8"/>
            <p:cNvSpPr/>
            <p:nvPr/>
          </p:nvSpPr>
          <p:spPr>
            <a:xfrm rot="4489200">
              <a:off x="5263560" y="4102560"/>
              <a:ext cx="169920" cy="6044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B863-F94C-4E22-BE00-8D960593BC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esting the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viously, testing these devices in real life presents a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its infinite wisdom the company has decided to use a simulator written in (what else?) Dyalog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ingle workspace holds all the syst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BA48-92B4-4807-AE64-BBAF8D5E5A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1762200" y="1654200"/>
            <a:ext cx="5257800" cy="4538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406160" y="4746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ing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1908000" y="3573360"/>
            <a:ext cx="395640" cy="12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84328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2951280" y="2815920"/>
            <a:ext cx="1225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3203640" y="5192640"/>
            <a:ext cx="9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525800" y="3327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 flipH="1" flipV="1">
            <a:off x="6948360" y="2600280"/>
            <a:ext cx="61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6948360" y="3105000"/>
            <a:ext cx="61128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 flipH="1" flipV="1">
            <a:off x="6948360" y="3573000"/>
            <a:ext cx="61128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6948360" y="3860640"/>
            <a:ext cx="611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6948360" y="3968640"/>
            <a:ext cx="61128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3210840" y="18446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66B4-61B3-4E74-BCDB-80E8489BCA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1" name="robotex2.wmv" descr=""/>
          <p:cNvPicPr/>
          <p:nvPr/>
        </p:nvPicPr>
        <p:blipFill>
          <a:blip r:embed="rId1"/>
          <a:stretch/>
        </p:blipFill>
        <p:spPr>
          <a:xfrm>
            <a:off x="1943280" y="1676520"/>
            <a:ext cx="552420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16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36CB-76B2-40A9-B5C9-A7A73A6A2F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workspace is divided into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namespace contains all the units' logic, here its name is 'R' (for Robo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unit's logic is also contained in a namespace whose name is the name of the unit (like CARLA or AI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73FF-FD58-41D9-A902-7196D94850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08000" y="54468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, namespac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where all the Units' logic re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577880" y="1603440"/>
            <a:ext cx="595152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4D24-FC55-4937-A47A-ACC4C90D78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ing the workspace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nvolves modifying individual units' code in their respectiv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 resaving the entire workspace when finished with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vents other users from updating the workspace at the same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BD2D-A81E-47AC-9672-041230FA77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8796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9564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52728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9592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6880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195640" y="267336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39592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 rot="16200000">
            <a:off x="168624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 rot="16200000">
            <a:off x="345168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6"/>
          <p:cNvSpPr/>
          <p:nvPr/>
        </p:nvSpPr>
        <p:spPr>
          <a:xfrm rot="5400000">
            <a:off x="332172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7"/>
          <p:cNvSpPr/>
          <p:nvPr/>
        </p:nvSpPr>
        <p:spPr>
          <a:xfrm rot="5400000">
            <a:off x="548244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37420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42836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2830320" y="543708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ti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9D95-EDE1-4F54-9830-D23ED31894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Un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508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709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041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35164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2452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709720" y="26733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5164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 rot="16200000">
            <a:off x="220068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 rot="16200000">
            <a:off x="300852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 rot="5400000">
            <a:off x="383616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 rot="5400000">
            <a:off x="503928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8828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408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4049640" y="3537000"/>
            <a:ext cx="11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272960" y="515448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er A's changes are overwritten by Tester B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if the modified namespace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18F1-683A-4C92-9DC5-8A8D5A5958A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other problem with this model is that changes are irrever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n tracking changes is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ing differences in code is hard to doc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E199-5F9B-4CC9-9AE8-A7A82DB474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This is an example of converting an existing application to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SALT</a:t>
            </a: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 and using a version control system afterwards to maintain it.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7C05-6265-4C0C-A675-3CDDC0B263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639440"/>
            <a:ext cx="7772400" cy="12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allows namespaces to exist in script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72960" y="2751120"/>
            <a:ext cx="328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ead of h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eries of namespaces  each with functions and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78280" y="2330280"/>
            <a:ext cx="49705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F906-E3FE-4251-B729-F112919236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736640"/>
            <a:ext cx="284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have everything in script form, including the definition of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743280" y="1622520"/>
            <a:ext cx="506736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374B-2D7B-4FDE-897F-9526054B49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s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Keeping namespaces in scripted form allows us to save them in (Unicode) text files outside the work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1511280" y="3933720"/>
            <a:ext cx="5832360" cy="1656000"/>
            <a:chOff x="1511280" y="3933720"/>
            <a:chExt cx="5832360" cy="1656000"/>
          </a:xfrm>
        </p:grpSpPr>
        <p:sp>
          <p:nvSpPr>
            <p:cNvPr id="196" name="AutoShape 4"/>
            <p:cNvSpPr/>
            <p:nvPr/>
          </p:nvSpPr>
          <p:spPr>
            <a:xfrm>
              <a:off x="1511280" y="4329000"/>
              <a:ext cx="2700360" cy="115272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3419640" y="443700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3419640" y="47800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7"/>
            <p:cNvSpPr/>
            <p:nvPr/>
          </p:nvSpPr>
          <p:spPr>
            <a:xfrm>
              <a:off x="3419640" y="51213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8"/>
            <p:cNvSpPr/>
            <p:nvPr/>
          </p:nvSpPr>
          <p:spPr>
            <a:xfrm>
              <a:off x="5003640" y="39337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5796000" y="45100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>
              <a:off x="6588000" y="50864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 flipV="1">
              <a:off x="3743280" y="414936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 flipV="1">
              <a:off x="3743280" y="4723920"/>
              <a:ext cx="205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3743280" y="5230800"/>
              <a:ext cx="28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AE06-5675-4E64-8D69-878C762D42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pdating can now be done in parallel for different namespaces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5080" y="221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92640" y="43290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1332000" y="313056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96244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429408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2962440" y="226692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 rot="16200000">
            <a:off x="2453040" y="24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 rot="5400000">
            <a:off x="4088520" y="246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3140640" y="18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907920" y="5546880"/>
            <a:ext cx="72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er A's changes are NOT overwritten by 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1332000" y="394812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615564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376884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7"/>
          <p:cNvSpPr/>
          <p:nvPr/>
        </p:nvSpPr>
        <p:spPr>
          <a:xfrm>
            <a:off x="549756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3768840" y="48117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1"/>
          <p:cNvSpPr/>
          <p:nvPr/>
        </p:nvSpPr>
        <p:spPr>
          <a:xfrm rot="16200000">
            <a:off x="3261240" y="4119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"/>
          <p:cNvSpPr/>
          <p:nvPr/>
        </p:nvSpPr>
        <p:spPr>
          <a:xfrm rot="5400000">
            <a:off x="5291640" y="411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4093200" y="4714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5852520" y="2406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5896440" y="41590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74E3-234B-4767-92E4-6E364828B0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ier to track changes now that files are in human readable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saving multiple copies we can see the difference between each modific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33" name="Group 22"/>
          <p:cNvGrpSpPr/>
          <p:nvPr/>
        </p:nvGrpSpPr>
        <p:grpSpPr>
          <a:xfrm>
            <a:off x="1625760" y="4268880"/>
            <a:ext cx="6049800" cy="1817640"/>
            <a:chOff x="1625760" y="4268880"/>
            <a:chExt cx="6049800" cy="1817640"/>
          </a:xfrm>
        </p:grpSpPr>
        <p:sp>
          <p:nvSpPr>
            <p:cNvPr id="234" name="AutoShape 4"/>
            <p:cNvSpPr/>
            <p:nvPr/>
          </p:nvSpPr>
          <p:spPr>
            <a:xfrm>
              <a:off x="1625760" y="4737240"/>
              <a:ext cx="2700360" cy="115236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3533760" y="48448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3533760" y="51879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3533760" y="552924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>
              <a:off x="5118120" y="434160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5910480" y="491796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6702480" y="54943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V="1">
              <a:off x="3857760" y="455724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V="1">
              <a:off x="3857760" y="5132520"/>
              <a:ext cx="205236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3"/>
            <p:cNvSpPr/>
            <p:nvPr/>
          </p:nvSpPr>
          <p:spPr>
            <a:xfrm>
              <a:off x="3857760" y="5639040"/>
              <a:ext cx="28447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8"/>
            <p:cNvSpPr/>
            <p:nvPr/>
          </p:nvSpPr>
          <p:spPr>
            <a:xfrm>
              <a:off x="5313600" y="43052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>
              <a:off x="5532480" y="4268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8"/>
            <p:cNvSpPr/>
            <p:nvPr/>
          </p:nvSpPr>
          <p:spPr>
            <a:xfrm>
              <a:off x="6919920" y="55832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>
              <a:off x="604368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615312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626292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87B6-EE26-4B9E-8964-0AC8431B71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aring files can be done easily in APL by SALT or by any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progra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79640" y="3940200"/>
            <a:ext cx="2154240" cy="13874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in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4389480" y="3940200"/>
            <a:ext cx="2154240" cy="13874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in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77880" y="4341960"/>
            <a:ext cx="536760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B91F-C492-4C45-AC5D-610575D6A2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tep is to convert the workspace to the new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7EAF-81A0-47BA-AD8A-F1D59E563C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71280" y="1736280"/>
            <a:ext cx="741204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1"/>
          <a:stretch/>
        </p:blipFill>
        <p:spPr>
          <a:xfrm>
            <a:off x="1614600" y="2406600"/>
            <a:ext cx="6060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B4B-33A7-4ADF-B020-F933A6E3C24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7160" y="1700280"/>
            <a:ext cx="885816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it isn’t 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0" descr=""/>
          <p:cNvPicPr/>
          <p:nvPr/>
        </p:nvPicPr>
        <p:blipFill>
          <a:blip r:embed="rId1"/>
          <a:stretch/>
        </p:blipFill>
        <p:spPr>
          <a:xfrm>
            <a:off x="1249200" y="2406600"/>
            <a:ext cx="64627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E1D3-C3BB-4A01-B2DF-3ED37417B4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71640" y="1521000"/>
            <a:ext cx="73771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our work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"/>
          <p:cNvPicPr/>
          <p:nvPr/>
        </p:nvPicPr>
        <p:blipFill>
          <a:blip r:embed="rId1"/>
          <a:stretch/>
        </p:blipFill>
        <p:spPr>
          <a:xfrm>
            <a:off x="993600" y="2327400"/>
            <a:ext cx="719316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B34A-BEE3-4214-958E-DDA07A4DE3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What is SAL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SALT is a tool to deal with code outside the workspace in text (Unicode) format.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5681-BFD1-4B5F-BA1F-0022C4A8B8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34920" y="1521000"/>
            <a:ext cx="74138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sure the workdir includes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8" descr=""/>
          <p:cNvPicPr/>
          <p:nvPr/>
        </p:nvPicPr>
        <p:blipFill>
          <a:blip r:embed="rId1"/>
          <a:stretch/>
        </p:blipFill>
        <p:spPr>
          <a:xfrm>
            <a:off x="1212840" y="2151000"/>
            <a:ext cx="6637320" cy="3870360"/>
          </a:xfrm>
          <a:prstGeom prst="rect">
            <a:avLst/>
          </a:prstGeom>
          <a:ln w="0">
            <a:noFill/>
          </a:ln>
        </p:spPr>
      </p:pic>
      <p:sp>
        <p:nvSpPr>
          <p:cNvPr id="281" name="Oval 6"/>
          <p:cNvSpPr/>
          <p:nvPr/>
        </p:nvSpPr>
        <p:spPr>
          <a:xfrm>
            <a:off x="1030320" y="4633920"/>
            <a:ext cx="44766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9" descr=""/>
          <p:cNvPicPr/>
          <p:nvPr/>
        </p:nvPicPr>
        <p:blipFill>
          <a:blip r:embed="rId1"/>
          <a:stretch/>
        </p:blipFill>
        <p:spPr>
          <a:xfrm>
            <a:off x="1504800" y="2260440"/>
            <a:ext cx="6426360" cy="3794400"/>
          </a:xfrm>
          <a:prstGeom prst="rect">
            <a:avLst/>
          </a:prstGeom>
          <a:ln w="0">
            <a:noFill/>
          </a:ln>
        </p:spPr>
      </p:pic>
      <p:sp>
        <p:nvSpPr>
          <p:cNvPr id="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5CA9-6354-469A-8F96-B07CBEA5E2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007640" y="1521000"/>
            <a:ext cx="73407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ring in the conversion tool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3403440" y="4414680"/>
            <a:ext cx="1936800" cy="40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E92-B883-4889-A485-487336FC95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76000" y="1725120"/>
            <a:ext cx="777564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StoScript is a namespace containing code to perform conversion of regular (non sourced)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unction to use in it is &lt;Convert&gt;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F30F-0318-4D6C-8C53-EE84A5BE99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76000" y="159228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convert namespace 'UTIL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sp>
        <p:nvSpPr>
          <p:cNvPr id="298" name="Oval 6"/>
          <p:cNvSpPr/>
          <p:nvPr/>
        </p:nvSpPr>
        <p:spPr>
          <a:xfrm>
            <a:off x="2016000" y="4487760"/>
            <a:ext cx="3168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3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4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5"/>
          <a:stretch/>
        </p:blipFill>
        <p:spPr>
          <a:xfrm>
            <a:off x="1833480" y="2333520"/>
            <a:ext cx="5811840" cy="343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"/>
          <p:cNvPicPr/>
          <p:nvPr/>
        </p:nvPicPr>
        <p:blipFill>
          <a:blip r:embed="rId6"/>
          <a:stretch/>
        </p:blipFill>
        <p:spPr>
          <a:xfrm>
            <a:off x="2344680" y="1676520"/>
            <a:ext cx="5635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AE7F-ECFA-43D2-A041-12142EBF69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onvert several namespaces first )CS where the namespace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1395360" y="2625840"/>
            <a:ext cx="6280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9910-9523-42A5-BEB7-45B3E79D5F1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use an expression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8" descr=""/>
          <p:cNvPicPr/>
          <p:nvPr/>
        </p:nvPicPr>
        <p:blipFill>
          <a:blip r:embed="rId1"/>
          <a:stretch/>
        </p:blipFill>
        <p:spPr>
          <a:xfrm>
            <a:off x="1541520" y="2114640"/>
            <a:ext cx="5878440" cy="3941640"/>
          </a:xfrm>
          <a:prstGeom prst="rect">
            <a:avLst/>
          </a:prstGeom>
          <a:ln w="0">
            <a:noFill/>
          </a:ln>
        </p:spPr>
      </p:pic>
      <p:sp>
        <p:nvSpPr>
          <p:cNvPr id="313" name="Oval 6"/>
          <p:cNvSpPr/>
          <p:nvPr/>
        </p:nvSpPr>
        <p:spPr>
          <a:xfrm>
            <a:off x="1797120" y="2771640"/>
            <a:ext cx="320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4029-3EF3-4860-B399-CA6CD1C545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plorer now shows us the namespaces with the new icon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6C28-2A7A-4D26-89E5-1A0F24CDAE6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workspace has the same functionality as befo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)SAVEd in this new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62B9-6726-4808-9CA8-4868301116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iling awa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47640" y="2133360"/>
            <a:ext cx="77724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next step is to store those namespaces in Unicode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tho is it relatively simple to read/write text to file, their management, because of the encoding, is a bit more comple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gain, SALT comes in hand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8EC1-56F0-44FB-A99C-4E03897D99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9080" y="2701800"/>
            <a:ext cx="647856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cide where to put them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SALT Sav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 until V11 namespaces came in a single f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ed functions, variables and other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148-8FDF-483A-AB65-3CDA0633DB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359000" y="4049640"/>
            <a:ext cx="316224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4900680" y="3940200"/>
            <a:ext cx="3162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9AC2-E1F3-4C16-BE3C-274E7637B9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55640" y="1808280"/>
            <a:ext cx="71661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ave function takes a string argument of: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'</a:t>
            </a:r>
            <a:r>
              <a:rPr b="0" lang="en-GB" sz="3200" spc="-1" strike="noStrike">
                <a:solidFill>
                  <a:srgbClr val="00b0f0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3200" spc="-1" strike="noStrike">
                <a:solidFill>
                  <a:srgbClr val="00b050"/>
                </a:solidFill>
                <a:latin typeface="Geneva"/>
              </a:rPr>
              <a:t>locat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511280" y="3068640"/>
            <a:ext cx="58341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984B-AFA8-402E-94A7-34D7AECC94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75247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ll the namespaces at once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1258920" y="2529000"/>
            <a:ext cx="6589800" cy="3481200"/>
          </a:xfrm>
          <a:prstGeom prst="rect">
            <a:avLst/>
          </a:prstGeom>
          <a:ln w="0">
            <a:noFill/>
          </a:ln>
        </p:spPr>
      </p:pic>
      <p:sp>
        <p:nvSpPr>
          <p:cNvPr id="343" name="Oval 6"/>
          <p:cNvSpPr/>
          <p:nvPr/>
        </p:nvSpPr>
        <p:spPr>
          <a:xfrm>
            <a:off x="1800360" y="3409920"/>
            <a:ext cx="4464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1066680" y="2803680"/>
            <a:ext cx="7047000" cy="3375000"/>
          </a:xfrm>
          <a:prstGeom prst="rect">
            <a:avLst/>
          </a:prstGeom>
          <a:ln w="0">
            <a:noFill/>
          </a:ln>
        </p:spPr>
      </p:pic>
      <p:sp>
        <p:nvSpPr>
          <p:cNvPr id="3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8A27-9D6B-478D-AE25-9D7CD13572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9280" y="1639440"/>
            <a:ext cx="752472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ant to sav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ryth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t once you can do inst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1212840" y="4086360"/>
            <a:ext cx="36147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A65F-8EE4-49C4-997B-54B177915C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19280" y="1639440"/>
            <a:ext cx="752472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you should now have a folder with many scripts in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541520" y="2808360"/>
            <a:ext cx="6245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921E-3EF5-4AFA-B00F-088C0156327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'remembers' where each script was sav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nging one of them now means SALT will change the file as soon as the script is modified through the edito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F671-F5F5-416E-BCE2-058000973D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5"/>
          <p:cNvSpPr/>
          <p:nvPr/>
        </p:nvSpPr>
        <p:spPr>
          <a:xfrm>
            <a:off x="275400" y="158904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Here's what one of the scripts' contents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355A-1B93-4344-9587-0651EE6F441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415080" y="158904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nd here we make a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2268360" y="2241720"/>
            <a:ext cx="4751640" cy="3809880"/>
          </a:xfrm>
          <a:prstGeom prst="rect">
            <a:avLst/>
          </a:prstGeom>
          <a:ln w="0">
            <a:noFill/>
          </a:ln>
        </p:spPr>
      </p:pic>
      <p:sp>
        <p:nvSpPr>
          <p:cNvPr id="370" name="Oval 6"/>
          <p:cNvSpPr/>
          <p:nvPr/>
        </p:nvSpPr>
        <p:spPr>
          <a:xfrm>
            <a:off x="2916360" y="3205080"/>
            <a:ext cx="22320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0C46-9B9C-4D3F-A00C-4C2DD149ED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71280" y="167328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SALT detected the change and offers to change the scrip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tretch/>
        </p:blipFill>
        <p:spPr>
          <a:xfrm>
            <a:off x="2340000" y="2705040"/>
            <a:ext cx="4356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5C3D-6520-4629-86C2-05A4569891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503280" y="1944720"/>
            <a:ext cx="83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You should )SAVE the workspace here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ike this SALT will remember where the edited namespaces are stored and detect if changes have been made outside APL (e.g. with Not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15E-BBEF-4AB0-ADE9-01445E11FD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 of the work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mes with its own versioning of files and comparison functions but it is primitive compared to state of the art version control systems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ing with V11 namespaces also came in a script f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ntained functions, etc. are listed in text form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9DE8-2B49-4D1A-871A-3F5100F121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12840" y="3940200"/>
            <a:ext cx="3162240" cy="220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856040" y="3465360"/>
            <a:ext cx="3257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E589-0570-4B07-9EAA-0FED76316A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company it is preferable to use existing software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 first need somewhere to put the scripts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8C12-2395-4688-B899-86AF484FEE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picked folde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weapo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2268360" y="2168640"/>
            <a:ext cx="4695840" cy="4267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3600360" cy="2249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3"/>
          <a:stretch/>
        </p:blipFill>
        <p:spPr>
          <a:xfrm>
            <a:off x="2879640" y="2781360"/>
            <a:ext cx="3853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AD93-1054-4432-A3AA-BC7F221182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now import the scripts into the reposito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(we put our code in 'Troops')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4600800" cy="4610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40360" cy="3774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"/>
          <p:cNvPicPr/>
          <p:nvPr/>
        </p:nvPicPr>
        <p:blipFill>
          <a:blip r:embed="rId3"/>
          <a:stretch/>
        </p:blipFill>
        <p:spPr>
          <a:xfrm>
            <a:off x="3600360" y="1449360"/>
            <a:ext cx="5276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7468-656D-4775-B325-3C7A2106DE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7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e of the testers now checks out a copy: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3851280" y="1665360"/>
            <a:ext cx="3198960" cy="4500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2"/>
          <a:stretch/>
        </p:blipFill>
        <p:spPr>
          <a:xfrm>
            <a:off x="3527280" y="1700280"/>
            <a:ext cx="5148360" cy="3612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3"/>
          <a:stretch/>
        </p:blipFill>
        <p:spPr>
          <a:xfrm>
            <a:off x="3816360" y="2384280"/>
            <a:ext cx="3780000" cy="2049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4"/>
          <a:stretch/>
        </p:blipFill>
        <p:spPr>
          <a:xfrm>
            <a:off x="3564000" y="1484280"/>
            <a:ext cx="5276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F78C-E181-4798-B1CA-1FE859FD03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other tester can do the same thing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213080" y="3173400"/>
            <a:ext cx="1244880" cy="15271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5"/>
          <p:cNvSpPr/>
          <p:nvPr/>
        </p:nvSpPr>
        <p:spPr>
          <a:xfrm flipH="1" rot="20261400">
            <a:off x="2446920" y="4581000"/>
            <a:ext cx="1758960" cy="63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"/>
          <p:cNvSpPr/>
          <p:nvPr/>
        </p:nvSpPr>
        <p:spPr>
          <a:xfrm rot="2095200">
            <a:off x="5364000" y="4701960"/>
            <a:ext cx="1773360" cy="682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9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11"/>
          <p:cNvSpPr/>
          <p:nvPr/>
        </p:nvSpPr>
        <p:spPr>
          <a:xfrm rot="20552400">
            <a:off x="5564160" y="3358800"/>
            <a:ext cx="1671840" cy="617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2"/>
          <p:cNvSpPr/>
          <p:nvPr/>
        </p:nvSpPr>
        <p:spPr>
          <a:xfrm flipH="1" rot="163800">
            <a:off x="2484360" y="3600000"/>
            <a:ext cx="1638360" cy="560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8D3B-F524-4776-AB7D-07106DA9C9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13" descr=""/>
          <p:cNvPicPr/>
          <p:nvPr/>
        </p:nvPicPr>
        <p:blipFill>
          <a:blip r:embed="rId1"/>
          <a:stretch/>
        </p:blipFill>
        <p:spPr>
          <a:xfrm>
            <a:off x="3959280" y="1665360"/>
            <a:ext cx="4714920" cy="43718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6920" y="1980720"/>
            <a:ext cx="313236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 can see what's in his fol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C8BE-8B48-44AF-AC97-C1DE4C8DA3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10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use any portion (pattern) of i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1405080" y="2808360"/>
            <a:ext cx="6453000" cy="3066840"/>
          </a:xfrm>
          <a:prstGeom prst="rect">
            <a:avLst/>
          </a:prstGeom>
          <a:ln w="0">
            <a:noFill/>
          </a:ln>
        </p:spPr>
      </p:pic>
      <p:sp>
        <p:nvSpPr>
          <p:cNvPr id="435" name="Oval 8"/>
          <p:cNvSpPr/>
          <p:nvPr/>
        </p:nvSpPr>
        <p:spPr>
          <a:xfrm>
            <a:off x="4024440" y="4305240"/>
            <a:ext cx="766800" cy="4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704E-168D-46C3-88D2-B786CBF916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395280" y="2023920"/>
            <a:ext cx="30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hen grab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eva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column (th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mes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6" descr=""/>
          <p:cNvPicPr/>
          <p:nvPr/>
        </p:nvPicPr>
        <p:blipFill>
          <a:blip r:embed="rId1"/>
          <a:stretch/>
        </p:blipFill>
        <p:spPr>
          <a:xfrm>
            <a:off x="3600360" y="1700280"/>
            <a:ext cx="5004000" cy="26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AB1A-CA96-439F-B960-AE677317BB8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ke sure his own folder is in th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workdi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lis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1"/>
          <a:stretch/>
        </p:blipFill>
        <p:spPr>
          <a:xfrm>
            <a:off x="3679920" y="1693800"/>
            <a:ext cx="493236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0C01-FA55-495B-B13D-B0A4605D4D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8" descr=""/>
          <p:cNvPicPr/>
          <p:nvPr/>
        </p:nvPicPr>
        <p:blipFill>
          <a:blip r:embed="rId1"/>
          <a:stretch/>
        </p:blipFill>
        <p:spPr>
          <a:xfrm>
            <a:off x="3672000" y="1700280"/>
            <a:ext cx="4932360" cy="263988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bring in his files in the 'R' namespac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51" name="Picture 9" descr=""/>
          <p:cNvPicPr/>
          <p:nvPr/>
        </p:nvPicPr>
        <p:blipFill>
          <a:blip r:embed="rId2"/>
          <a:stretch/>
        </p:blipFill>
        <p:spPr>
          <a:xfrm>
            <a:off x="1908000" y="4165560"/>
            <a:ext cx="5543640" cy="10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5198 L 4.44444E-006 0.00023 E">
                                      <p:cBhvr>
                                        <p:cTn id="127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cript and the functions in it can be edited via the editor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n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ns2.t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4E96-9217-4A44-8FE2-E92B573E5B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856040" y="3465360"/>
            <a:ext cx="3257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7A63-315E-43BF-AD93-C73F81ABCF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 can now repeat this procedure each time he )LOADs the workspace or )SAVE his own copy (e.g. 'tester1robots') which can be )loaded instea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2F77-9F4F-4542-85CC-F2A030F91E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3851280" y="3681360"/>
            <a:ext cx="1260360" cy="1332000"/>
          </a:xfrm>
          <a:prstGeom prst="flowChartMagneticDisk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odifying the 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8DB3-A9DA-45E5-9114-CEBC0CCD92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"/>
          <p:cNvPicPr/>
          <p:nvPr/>
        </p:nvPicPr>
        <p:blipFill>
          <a:blip r:embed="rId2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"/>
          <p:cNvPicPr/>
          <p:nvPr/>
        </p:nvPicPr>
        <p:blipFill>
          <a:blip r:embed="rId3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4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5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"/>
          <p:cNvPicPr/>
          <p:nvPr/>
        </p:nvPicPr>
        <p:blipFill>
          <a:blip r:embed="rId6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"/>
          <p:cNvPicPr/>
          <p:nvPr/>
        </p:nvPicPr>
        <p:blipFill>
          <a:blip r:embed="rId7"/>
          <a:stretch/>
        </p:blipFill>
        <p:spPr>
          <a:xfrm>
            <a:off x="3352680" y="256212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6" descr=""/>
          <p:cNvPicPr/>
          <p:nvPr/>
        </p:nvPicPr>
        <p:blipFill>
          <a:blip r:embed="rId1"/>
          <a:stretch/>
        </p:blipFill>
        <p:spPr>
          <a:xfrm>
            <a:off x="1724040" y="2004840"/>
            <a:ext cx="5905440" cy="39052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iew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CAA-5C27-4588-9242-F075536D5B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5" descr=""/>
          <p:cNvPicPr/>
          <p:nvPr/>
        </p:nvPicPr>
        <p:blipFill>
          <a:blip r:embed="rId2"/>
          <a:stretch/>
        </p:blipFill>
        <p:spPr>
          <a:xfrm>
            <a:off x="1724040" y="2004840"/>
            <a:ext cx="5905440" cy="3905280"/>
          </a:xfrm>
          <a:prstGeom prst="rect">
            <a:avLst/>
          </a:prstGeom>
          <a:ln w="0">
            <a:noFill/>
          </a:ln>
        </p:spPr>
      </p:pic>
      <p:sp>
        <p:nvSpPr>
          <p:cNvPr id="480" name="Oval 12"/>
          <p:cNvSpPr/>
          <p:nvPr/>
        </p:nvSpPr>
        <p:spPr>
          <a:xfrm>
            <a:off x="6872400" y="4597560"/>
            <a:ext cx="1022400" cy="912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iew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23BC-EFC1-4947-AAC7-B2E54A2ADF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1103400" y="1822320"/>
            <a:ext cx="70246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2518-3417-4697-9A1B-00F59BC4D1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38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en changes are ready to be checked in you do (here DANIMAL has been change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9" name="Picture 5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3971880" cy="24004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4795920" y="172728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"/>
          <p:cNvPicPr/>
          <p:nvPr/>
        </p:nvPicPr>
        <p:blipFill>
          <a:blip r:embed="rId3"/>
          <a:stretch/>
        </p:blipFill>
        <p:spPr>
          <a:xfrm>
            <a:off x="4535640" y="155736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9" descr=""/>
          <p:cNvPicPr/>
          <p:nvPr/>
        </p:nvPicPr>
        <p:blipFill>
          <a:blip r:embed="rId4"/>
          <a:stretch/>
        </p:blipFill>
        <p:spPr>
          <a:xfrm>
            <a:off x="4535640" y="156384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1" descr=""/>
          <p:cNvPicPr/>
          <p:nvPr/>
        </p:nvPicPr>
        <p:blipFill>
          <a:blip r:embed="rId5"/>
          <a:stretch/>
        </p:blipFill>
        <p:spPr>
          <a:xfrm>
            <a:off x="3672000" y="252900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BD1B-AA32-4582-8594-F776517802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3959280" y="3681360"/>
            <a:ext cx="1260360" cy="1332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9"/>
          <p:cNvSpPr/>
          <p:nvPr/>
        </p:nvSpPr>
        <p:spPr>
          <a:xfrm rot="559800">
            <a:off x="2555640" y="3715920"/>
            <a:ext cx="118728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"/>
          <p:cNvSpPr/>
          <p:nvPr/>
        </p:nvSpPr>
        <p:spPr>
          <a:xfrm rot="20589000">
            <a:off x="2592000" y="4868640"/>
            <a:ext cx="1187640" cy="46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"/>
          <p:cNvSpPr/>
          <p:nvPr/>
        </p:nvSpPr>
        <p:spPr>
          <a:xfrm flipH="1" rot="20640600">
            <a:off x="5472000" y="3573360"/>
            <a:ext cx="126108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3"/>
          <p:cNvSpPr/>
          <p:nvPr/>
        </p:nvSpPr>
        <p:spPr>
          <a:xfrm flipH="1" rot="978000">
            <a:off x="5434920" y="4939920"/>
            <a:ext cx="126036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E46B-FA88-4E30-84BC-DD3B97AEDEA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VC should be able to handle conflicts, report on differences and generate complete new systems from the current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2A57-7974-4AAD-BED4-82796F0570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ocal or smaller systems you may choose to use SALT's limited versioning and comparing abilities but a solid Version Control system is a must for large syst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C82D-4748-48E2-B19D-B3F5ACDF8B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version control will probably do bu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well supported and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6BF0-D665-48C8-9DB0-1E14A4E5E4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1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How do we do i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661840"/>
            <a:ext cx="777240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'll see the conversion process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use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,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third party product, to control its versioning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D664-F8F2-468C-81AB-36C09B3C72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tu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AAD is a military weapons manufacturing compan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ne of its best sellers is the SD2, a device used to search and destroy specific targ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83E5-27C3-463F-A6D3-DFB78105FE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uni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self contained: its behaviour is set once and does not require external inpu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(possibly 1000s) models, each with a different code name. The logic (code) of each is uniqu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b</cp:lastModifiedBy>
  <dcterms:modified xsi:type="dcterms:W3CDTF">2008-12-02T20:23:09Z</dcterms:modified>
  <cp:revision>3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