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C8A2-B9CF-4B47-8CBF-446E9831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A10A-1435-4FD3-95C1-EA2CD12F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8536-1ACE-4755-A2C8-DBD4DE28E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A9C-815E-47A8-82B9-8AFF27EE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AE8F-A753-4648-9162-389661E7A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76C4-8E32-48AB-B1A6-943386ED5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8FE3-436B-4919-A4D4-5B0E4E64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4E1C-39E4-4A5A-B4AA-F07059A4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86D3-870C-4389-B55C-DCBEB0FB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D261-89C7-43D7-8771-95F718BB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1BCD-640F-4800-9FC7-486AF9C5B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5DB4-0B85-40F1-A40F-EAF38E07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F1B5-4074-4B7A-AB41-4FABE55D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780-358B-458E-ACC4-83854416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846C-FC36-4B69-8A2A-2280EBC4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E9D-64D9-4EB3-A617-C1EED676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7C1-B5FB-480E-BBAB-E5FA11F3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959-A386-4685-8B82-36105C73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C9C-12FF-4EC7-A0C9-2447ABE4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D49-8DBD-49D0-A10F-0781B514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312-98A8-4AD4-A50E-01724021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BF1-4FD2-484D-A982-AD75404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9BF-A07B-444C-A81F-944BDC3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7EC-CCD4-453B-B699-63312642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C14-051E-4B5A-8EE9-54CAD5E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CB0-794F-4D42-B6CC-4099619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F99-C513-44D8-9256-DCE7FA5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A5D-29F3-476B-8CA2-11DE4343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DE7-5CB4-48F4-9A49-F58DB12B4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74E8-8DCE-4EC4-9B67-0F3EA179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68C-F1C9-489F-8BC2-D3652D77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B9E0-E346-4366-A70E-5D3A0521E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AFA5-B999-4F14-A804-D3D8B96D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ED6-B731-485B-AE39-33C27BAF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273D-5EB3-445F-908F-440E92EA5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E9B-6032-4DFA-8CFA-7D77F44C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string naming the comman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1093-7682-4D37-A94C-94A109BE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string; 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2 strings; replace the first one by the 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7F27-3C9E-45E3-91D3-B06F369A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5D0E-1ACB-4B5E-84F0-FC71EC5B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09B-6917-46EE-92B7-E91C86710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1⊃Fns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2⊃Fns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2236-B7C2-4477-A5DF-BA9F9F79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7AF0-A8BC-4E7E-BDB8-5B9605C4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996E-8E5D-477A-AF90-BDCC9DC7D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12"/>
          <p:cNvCxnSpPr>
            <a:stCxn id="190" idx="1"/>
            <a:endCxn id="189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348-FF57-4AB5-86CC-92574FF04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1D5B-0E62-45B7-A7C1-116C3824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Spice commands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C943-6964-4806-BC7B-127EB1FD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B662-26A5-4040-909B-BA4BCAA7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AD7-AC27-4E4A-BF9B-2D17EED51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2340-5489-4683-861C-EABAF83DC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7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4C0-9A6C-4986-9B0F-3E03796D9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52F7-AC26-440C-9A2E-C81B1679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4CE-7146-4687-B63B-9A4B64D0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FFA-8332-41C3-8BBE-DFB43B2D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ED0-C3B6-4F8C-BC7E-B9C388319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E5E8-D194-44C3-914D-A361E06F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20:00:48Z</dcterms:modified>
  <cp:revision>89</cp:revision>
  <dc:subject/>
  <dc:title>SALT in Dyalog</dc:title>
</cp:coreProperties>
</file>