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C2E1-36C9-4184-8034-E9A73C8F3E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7548-0393-43B4-8A17-5856A00EB6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CC0A-188B-40FF-96B4-E30219B70D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F8BD-4A03-48D2-A480-E59E0BEEA4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7397-2E6A-4698-B9BB-F4C442D6D7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403C-97FB-417C-84BB-AA29881B4C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9C78-7065-4F77-9014-BE35F10131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CE1B-7284-4209-8C4D-53429BB808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8CE8-E0A3-46FE-B77A-054AF4B497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C31C-F0AA-45FE-808C-8AE3D7E99C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DEFC-12A4-4080-AC86-3D83AF4CD8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6386-2675-4FF9-A3FD-6B9F493602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0B84-2C0F-4179-BEAD-5F0773902C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699A-ABF3-4A58-9070-9DAC1102BD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E4BF-721F-4E15-B309-BDD90B1062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F59B-7157-4330-BD45-A2F85F3CC5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DFA6-02D4-4D39-9030-2D5652DE89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A6EE-978E-4C9F-BE31-CEEC295E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D1A5-BA9B-474F-B256-32FEEDC2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909551-93FE-4CB6-8BC3-E039FC70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2420AF-9A4F-4D50-9E34-A1145951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A0A281-8ADA-464C-A21E-2B9D4744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553D34-C78E-4C58-8A8B-CF745E32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1992B4-7879-4826-B48C-2A416356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076BFF-2267-4A6F-A085-95DDBA40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11C331-4617-4EE2-BD5F-D893A0B1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C28085-01D2-4973-AF2D-9FAA2B29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83011D-BBBE-4E3D-BBFA-96D09C0F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ABDDB-47EF-4E07-8E88-256F2D9C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A92B-70A6-4738-93F8-4C40E077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C97D1-ED05-404C-91B4-FCEBAD33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ADEFE-7453-4CE5-9B70-4747DBA5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480A5-1824-42B0-997E-ABA0765B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0B911-9715-4B28-8656-955170D7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4FA44-623B-4E61-8BE8-EDB6C7C8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93D57-6C3D-4F76-906C-24EADF5E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F10A1-FB6B-4A5F-9118-88273A9A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A761C-6D12-4061-9203-910A50A9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A8256-00EF-4C10-B1E7-327E2B05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05533-F71E-426E-9649-878DB0F4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20CE-E755-4F8C-965D-BDE16CA6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44B3A-5848-48B4-B574-EF455AE7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47FF6-0681-4B21-8278-54DB28D7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0F645-338B-4058-AAAB-901CAF6A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AD6A9-2935-4518-9C7B-BC5EE5F4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722A9-1D05-4143-8476-DB8FA5A8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AD9AA-7D4D-4501-930F-F38B682C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31CBB-3B95-4DCA-8A1A-20BFCEF7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AAF7A-1512-427B-88F2-FD3E5BF5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314E2-5047-4BCF-BC85-E70E56D5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80955-9782-4706-A8B6-7E724761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1C76-8DF3-48DB-92E4-7CE3D154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11C23-CF3B-492B-86B3-9AAAAC7A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6B792-3A31-4586-8C5E-E4FE5E7D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D8251-9DAD-4C37-971F-FB92A9B0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C61B68-E70D-4221-89B2-29629246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2E28D-7EFF-4FB0-A760-740C516A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53212-CB6D-4E92-8FF8-1D41F3A0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E87D1-50BA-483B-B2A7-40CF0637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D106B-0B18-47F5-9F30-34AD5095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298597-B906-4E7E-BFB0-C2C13A6B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AD2E7-7CD8-44A9-957D-9A82DF20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F4A6-2BB7-4960-9BFA-91FD0E63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81DE2-4A48-4521-9488-6DBE8BDD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3072B-5E55-4270-9439-19AB75BC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3875D-4FA7-4B52-9619-93DD2D80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52E7C-FA7E-4EC8-A9F7-7D322E79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6DDADB-FF22-4F73-BCFF-649769FE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FE113B-1BF6-4347-8917-F8C7DC39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629C27-F317-4ABB-A798-5BE6449D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AAD386-E708-4012-A980-94B10792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64D4AB-8975-40FC-B72E-BDCF2270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C38A1F-1AFB-47D7-B10D-23C4E5D0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A3D4-F034-4238-A41C-9305FC58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2268EA-1CE9-484F-B5C0-3B582789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9DDD81-936D-43D6-8FFC-C4C603E9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D7B557-0D77-457C-ACDC-CA70200E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3CB73B-D1C5-4E76-BC4B-6D376197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4899C9-F395-492E-AC84-9001E30D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FD7067-A155-49C4-A559-0048E885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024FEC-7615-4444-AA62-C4D01C3E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A3F003-30DB-466C-A2D8-B6392FFE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EFAEF6-8DF3-41C1-B99D-62C920BF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C10C89-24A5-493E-8CF2-99C099CA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696A-4BB5-42ED-9865-E972DEC0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4518E1-3B94-4161-AC8D-3DC6FB69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AE08CA-5C63-4253-BA41-DEBAEBA9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237239-BA99-4E73-9C18-88361D04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E003AB-27F7-40A5-ACBA-C8CC9AD5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4240C4-320E-4BAF-BA47-23D35343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208DA3-57F7-45A9-9218-4A2F670A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C1EF46-0662-4DDE-A5CA-72C775A3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8E6695-10D7-4DE9-807A-89DF54B1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A93CB6-32C1-45B9-B760-1E6B0A6E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6C46-DDDB-4A3F-BD69-3083D59A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DC6B-9360-4452-82E1-585471D6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323D-1B88-493D-A216-EF7D74FD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B914-5D4E-48AF-8F60-AD69964C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1944-EACD-4D63-B203-590AC219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7D57-1C5C-4CBA-80C9-9EF1DB7C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CD16-EBEB-4D30-B95F-7DDB3C97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8D39-7768-4D2D-94DF-B3A466C4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7577-B7B9-4902-AE24-B42AEE98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5F33A-DBC0-4A65-BD13-8E17888A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2864B-BBB7-4185-8ACD-4DD20417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C2F83-3760-49A9-8F83-AB552417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57449-BC5E-4D32-A019-61EE9B4A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B7925-97D9-42B2-9366-847968FC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B884-E13A-418D-B5CC-3E70FC45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223DF-9513-4637-989E-FC820768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E3360-5255-42C6-8B79-AEF5BE9E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EE98B-314E-4B4E-A781-02411E3F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2C08B-0F4E-4539-A954-D87A3BC5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B407B-BD01-4928-BA3F-7C87C85C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594E2-F207-4757-B120-47510810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4F679-C272-4D0D-B641-98BA9EE2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D7A17-2907-4035-A689-3FE0692E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9D5D5-7747-4EEC-973A-3372687A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86C48-4B0A-48C6-8E27-E833C82B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7A3F-917C-4323-ADA9-C96E9F23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74529-659D-420A-A2FD-A9003803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6DBC0-32F7-418C-AF62-F2C68023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DB534-BC70-4561-B0CA-D4CC5975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4B559-FDDD-4474-9D54-9D29E860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DCF03-234D-474A-A8AD-40EB7BF7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51267-F44A-4761-81DB-022DA1D4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F1419-F267-44F6-AF86-3B810193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E1AAF-4409-4F11-8BCF-CEFECD19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8E48C-1B0B-494C-B8D7-FD2A2A11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806CA-0A42-454E-9109-58D27D31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C5E5-779A-4733-A2E1-67861262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9B380-6B69-4F5F-A72A-BE44AD07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E86A8-CB07-4007-9F44-49F8F9EA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9CCFB-E48A-4DD0-8A1C-DBBC3D02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EEA74-06CD-4B7A-AE69-C40B8C20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2C443-89DC-4794-B851-037DC041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1BDCA-E7ED-4D7E-8D7A-99018E3F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85AE2-578A-4FCF-84EF-8B160D41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83D9D-FDB1-4352-A12A-7B9482AF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6467A-4D9B-4E42-93A5-C788373C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39BF0-7121-41B6-BF29-305F3B56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A34C-BF4C-4617-9541-354BA1D6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9BBD1-5D78-4EDC-A526-5E0508A0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928F5-A86C-4589-8372-DB3CD9D0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813F7-E721-417E-8574-741A2E65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CA443-0337-4167-BA3B-18501F7E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82EF2-FA01-4000-BDAE-E38D1545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542F5-E697-4B34-AFDD-D10062A4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FBDE1-1BD9-409F-8E00-38303158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EB977-97C8-46AD-8257-178F48E6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D56AE-A3FA-4467-B19A-AA7BE4FA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93F1B-7457-4EE2-85A0-1F4E2983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DB17-A410-46B6-BB41-9F826EEC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4C3DF-354A-4AD8-ABEC-8EFAB757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09297-670B-4743-8740-63F58A65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0F5E0-FA63-49FD-A31D-1198A964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E4DFA-E7C7-4DF5-A7F5-DFFE5B5FE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9035D-C37C-44D0-9EE2-4DF48177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AB3CA-A8A7-404E-8B96-4F2B6F04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94DC1-873C-4C6E-9F2F-36984B4E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51156-3007-430A-84A7-4E92A676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A09E4-527C-45B5-958F-350F3809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458C0-70B6-4215-ACAA-6D853EE2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428-E2F3-45B0-B104-7F05CAA3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134F8-F5DC-4162-9E64-ED76AE79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30616-A277-4B54-A2D8-38364C5E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A72F0-C6B3-43F2-B5A8-F386C62A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4A496-D349-4B97-83FC-AE8E1AA1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D5A88-FCC8-4345-B9EE-CBF423E3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595BE-E06B-482B-BF5A-42BFBD19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D7773-0A44-4DAC-84AF-6D435F1A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76E06-3398-482E-B0DE-9C2D37E8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FA0B1-804F-4C65-8BE6-7EBAA88A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CF344-43BD-4FAA-B5BF-E17A2F42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04D5-D059-485A-A0C4-37C4DE59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693ED-AE99-49F4-885A-FA708D11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6052D-FFEC-4D93-B4B9-37A5A399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17324-8667-4244-99F2-118A53C7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24FB1-A870-4CFD-A809-523C752F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A1678-F700-4F1F-A23F-A1B28C63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7DEB6-0F37-4D16-AE8B-3BD1B5EE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DD5D6-18A7-4963-8FC1-390B015F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77DBBF-15CA-488C-B505-2B9B4CD5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F13D90-9ACE-4F70-A52A-7BA93A55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F4C6BE-50AE-4FED-A4F3-B36FD5E1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D3D3-2A98-4089-933D-391332C0B65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8926-3920-479D-9ACC-43E15735069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8D91-5FC7-4331-A5C4-E4FB407F935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E031-A2A8-41D5-9A0D-CF26F71F059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D14B-CFAC-462B-A727-94FC4EFB87E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2137-F626-4BCD-B212-30C7AFAC35D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E309-7CD9-44F1-85FB-61690F44756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B61C-3BE7-4AF9-AD2E-CF5B5322CBA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6B19-5C28-4455-A4FC-F621903F74A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F665-DCC2-4151-9DB9-49ED3DBF979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F3A8-88A6-4EAC-8ECB-E68A300FE64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6363-8513-4853-9AF1-05CF4A77362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3316-5DC9-435C-BA99-070762E4DF9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7166-E613-49C3-B1C7-B5B68BFAAB1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542916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yalog’09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96" name="Picture 4" descr="tegning09"/>
          <p:cNvPicPr/>
          <p:nvPr/>
        </p:nvPicPr>
        <p:blipFill>
          <a:blip r:embed="rId1"/>
          <a:stretch/>
        </p:blipFill>
        <p:spPr>
          <a:xfrm>
            <a:off x="1785960" y="1143000"/>
            <a:ext cx="52768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Page Data – Example ...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1723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1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9732-1158-4039-94B7-E3FB17FB4B9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7819920" cy="68961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3" descr=""/>
          <p:cNvPicPr/>
          <p:nvPr/>
        </p:nvPicPr>
        <p:blipFill>
          <a:blip r:embed="rId2"/>
          <a:stretch/>
        </p:blipFill>
        <p:spPr>
          <a:xfrm>
            <a:off x="1743120" y="3429000"/>
            <a:ext cx="7400880" cy="34290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" descr=""/>
          <p:cNvPicPr/>
          <p:nvPr/>
        </p:nvPicPr>
        <p:blipFill>
          <a:blip r:embed="rId3"/>
          <a:stretch/>
        </p:blipFill>
        <p:spPr>
          <a:xfrm>
            <a:off x="1743120" y="3429000"/>
            <a:ext cx="7400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Source Code Management ...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1723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ildServer is also a demonstration of the ”new way” of developing Dyalog applicatio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ALL the code is in UTF-8 text files, managed by SALT (the Simple APL Library Toolkit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ubVersion (a free source code management system) is used to manage the source cod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It is available as a download from the APL Wiki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is does not compromise the way that you develop APL applications at all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9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8555-2345-49C5-A9F9-0859BA4CABC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MildServer Component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1723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MildServer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is a TCP/IP server which accepts connections, incoming data, and returns outpu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HTTPRequest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is a class which decodes an HTTP Request into APL data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SimpleAuth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is a basic security provider which uses the HTTP Challenge protocol based on XML inpu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SimpleSessions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is a simple cookie-based session manager which preserves application data for the duration of a sess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4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A485-7B1D-4C8F-9097-2AC1CA9CCB5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MildServer Configur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1723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9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4DCD-3979-4FA8-854B-0847305B3F5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5019840" cy="325764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3" descr=""/>
          <p:cNvPicPr/>
          <p:nvPr/>
        </p:nvPicPr>
        <p:blipFill>
          <a:blip r:embed="rId2"/>
          <a:stretch/>
        </p:blipFill>
        <p:spPr>
          <a:xfrm>
            <a:off x="1928880" y="2214720"/>
            <a:ext cx="4981680" cy="370512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" descr=""/>
          <p:cNvPicPr/>
          <p:nvPr/>
        </p:nvPicPr>
        <p:blipFill>
          <a:blip r:embed="rId3"/>
          <a:stretch/>
        </p:blipFill>
        <p:spPr>
          <a:xfrm>
            <a:off x="3857760" y="2143080"/>
            <a:ext cx="52862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Open, Modular Desig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1723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Note that the </a:t>
            </a:r>
            <a:r>
              <a:rPr b="1" lang="da-DK" sz="2800" spc="-1" strike="noStrike">
                <a:solidFill>
                  <a:srgbClr val="333333"/>
                </a:solidFill>
                <a:latin typeface="Geneva"/>
              </a:rPr>
              <a:t>Session Handler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and </a:t>
            </a:r>
            <a:r>
              <a:rPr b="1" lang="da-DK" sz="2800" spc="-1" strike="noStrike">
                <a:solidFill>
                  <a:srgbClr val="333333"/>
                </a:solidFill>
                <a:latin typeface="Geneva"/>
              </a:rPr>
              <a:t>Authentication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components are configurable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Each one is defined in a script file; you can enhance them or replace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Over time, more and more of the MildServer </a:t>
            </a:r>
            <a:r>
              <a:rPr b="1" lang="da-DK" sz="2800" spc="-1" strike="noStrike">
                <a:solidFill>
                  <a:srgbClr val="333333"/>
                </a:solidFill>
                <a:latin typeface="Geneva"/>
              </a:rPr>
              <a:t>should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become configurabl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e idea is that the community will build a more sophisticated shared web framework in AP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7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8468-A395-4A2D-B5F3-AFD44C9A678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My Own ”To Do” Lis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1723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ake HTMLInput Class Extensibl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Add optional Authentication Handler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Combine SSL and certificates with password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Provide a more elegant security plugin using an HTML subform rather than the HTTP Challenge protoco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Error Logging and Reporting module prototyp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Run MildServer as a Windows Service (autostart when Windows starts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2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B79F-5FCE-4345-8FA1-784ED1D2C7C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71680" y="1642680"/>
            <a:ext cx="85723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Proposition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MildServer is sufficient for many ”simple” applica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nyone who can write an APL function can implement a web site using MildServ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cripted code does not compromise the ”APL Way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NO additional components needed (IIS/Apache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It is an experiment (but already in ”production” use in simple applications)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Please take a look and comment, and contribute!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7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4BA5-06B0-49F4-A4CC-20539AB1D87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0040" y="1928880"/>
            <a:ext cx="777384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Overview of MildServe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785600" y="3571560"/>
            <a:ext cx="5257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orten Kromber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Dyalog’09 – Princeton, NJ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99" name="Picture 4" descr="tegning09"/>
          <p:cNvPicPr/>
          <p:nvPr/>
        </p:nvPicPr>
        <p:blipFill>
          <a:blip r:embed="rId1"/>
          <a:stretch/>
        </p:blipFill>
        <p:spPr>
          <a:xfrm>
            <a:off x="214200" y="5857920"/>
            <a:ext cx="10000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Goals and Philosophy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e goal is to make it possible for ”ordinary” APL developers to develop web pag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e ”MildServer” is an experimental platform for this work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hat’s the problem, anyway?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2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6210-E3A3-4967-8119-2C1F8DBD600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4" descr="tegning09"/>
          <p:cNvPicPr/>
          <p:nvPr/>
        </p:nvPicPr>
        <p:blipFill>
          <a:blip r:embed="rId1"/>
          <a:stretch/>
        </p:blipFill>
        <p:spPr>
          <a:xfrm>
            <a:off x="7380360" y="5877000"/>
            <a:ext cx="10000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What’s the Problem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56760" y="15717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POST /linreg.dyalog HTTP/1.1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Accept: image/gif, image/x-xbitmap, image/jpeg, image/pjpeg, application/x-ms-application, application/vnd.ms-xpsdocument, application/xaml+xml, ... blah blah blah ...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Accept-Language: da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Content-Type: multipart/form-data; boundary=---------------------------7d83002220638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UA-CPU: x86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User-Agent: Mozilla/4.0 (compatible; MSIE 7.0; Windows NT 6.0; SLCC1; ... blah blah ...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Content-Length: 2198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Connection: Keep-Alive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Cache-Control: no-cache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Cookie: UserId=mkrom; Session=dOiEkOvDgxAVdTpXZMRhpwCxpalFAI5p2pvbbhTHHAA=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-----------------------------7d83002220638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Content-Disposition: form-data; name="Degree"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1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-----------------------------7d83002220638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Content-Disposition: form-data; name="X"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1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-----------------------------7d83002220638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Content-Disposition: form-data; name="Y"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2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8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99AE-BB59-4632-A8EC-B93880CB744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The Desired Answer...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56760" y="15717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HTTP/1.0 200 OK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Content-Length: 2515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content-type: text/html; charset=utf-8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html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head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title&gt;Demo Server&lt;/title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link href="/Styles/Style.css" rel="stylesheet" type="text/css"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/head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body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h2&gt;Linear Regression&lt;/h2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table 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tr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td&gt;&lt;form action="/linreg.dyalog" method="post" enctype="multipart/form-data"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table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tr&gt;&lt;td &gt;&lt;b&gt;Degree...&lt;/b&gt;&lt;/td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td&gt;&lt;select " name="Degree" value="1"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    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option selected&gt;1&lt;/option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    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option&gt;2&lt;/option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    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option&gt;3&lt;/option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   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/select&gt;... of polynomial&lt;/td&gt;&lt;/tr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3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4A8C-4601-4300-B31B-4652743EE4F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285920" y="0"/>
            <a:ext cx="67723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What’s The Problem (again)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1723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Decode the HTTP Headers and Data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Make data available to the application developer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(Detect and) Manage ”Sessions”: Persistence of data from one request to the nex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A ”Cookie” is a bit of data stored on your PC, which is transmitted to the server with every reques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A session cookie tracks a user from one page to the nex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Provide Security: Identify the User and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   Restrict Access to parts of the Web Sit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Help the application developer generate HTM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And a bit later (perhaps), more complex control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9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72EA-9D5B-4294-9639-354B3E70379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BIG Thanks to ”WildHeart”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1723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I have been allowed to steal code from the ”WildServer” and other servers Stefano Lanzavecchia has buil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(all the tricky bits about decoding HTTP!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800" spc="-1" strike="noStrike">
                <a:solidFill>
                  <a:srgbClr val="333333"/>
                </a:solidFill>
                <a:latin typeface="Geneva"/>
              </a:rPr>
              <a:t>WildServer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is a more complete, ”more object-oriented” HTTP server developed by Stefano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800" spc="-1" strike="noStrike">
                <a:solidFill>
                  <a:srgbClr val="333333"/>
                </a:solidFill>
                <a:latin typeface="Geneva"/>
              </a:rPr>
              <a:t>MildServer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is Mortens ”watered down” environment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Anyone who is able to write an APL function should be able to turn it into a web page” ™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4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86DB-FF2D-4104-9CAE-A386F61DBE2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A MildServer Pag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1723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Each page is a class which must derive from </a:t>
            </a:r>
            <a:r>
              <a:rPr b="1" lang="da-DK" sz="2800" spc="-1" strike="noStrike">
                <a:solidFill>
                  <a:srgbClr val="333333"/>
                </a:solidFill>
                <a:latin typeface="Geneva"/>
              </a:rPr>
              <a:t>MildPag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It must have a public function called </a:t>
            </a:r>
            <a:r>
              <a:rPr b="1" lang="da-DK" sz="2800" spc="-1" strike="noStrike">
                <a:solidFill>
                  <a:srgbClr val="333333"/>
                </a:solidFill>
                <a:latin typeface="Geneva"/>
              </a:rPr>
              <a:t>Render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which takes an instance of </a:t>
            </a:r>
            <a:r>
              <a:rPr b="1" lang="da-DK" sz="2800" spc="-1" strike="noStrike">
                <a:solidFill>
                  <a:srgbClr val="333333"/>
                </a:solidFill>
                <a:latin typeface="Geneva"/>
              </a:rPr>
              <a:t>HTTPRequest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as its argume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Render must end by calling one of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Request.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Return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(HTML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Request.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ReturnFile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(FileName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Request.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Fail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(HTTPCode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9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6821-AEB9-4DE2-9173-682CC88A7BF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1"/>
          <a:stretch/>
        </p:blipFill>
        <p:spPr>
          <a:xfrm>
            <a:off x="378000" y="857160"/>
            <a:ext cx="8766000" cy="50720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3" descr=""/>
          <p:cNvPicPr/>
          <p:nvPr/>
        </p:nvPicPr>
        <p:blipFill>
          <a:blip r:embed="rId2"/>
          <a:stretch/>
        </p:blipFill>
        <p:spPr>
          <a:xfrm>
            <a:off x="2952720" y="2448000"/>
            <a:ext cx="61912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Page Data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1723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For each user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session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, an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instance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of the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page class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is made (object orientation is a good tool for this </a:t>
            </a:r>
            <a:r>
              <a:rPr b="0" lang="da-DK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f your page has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Public Fields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or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Properties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, MildServer will move data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from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the HTTP request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into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your page if the HTTP element has the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same nam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ny data inside the instance will survive until the session ends (times out after inactivity or user LogOut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6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8841-C226-4C15-B4E7-97CCC2DCE06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6T22:41:42Z</dcterms:created>
  <dc:creator>Gitte Christensen</dc:creator>
  <dc:description/>
  <dc:language>en-US</dc:language>
  <cp:lastModifiedBy>Windows User</cp:lastModifiedBy>
  <dcterms:modified xsi:type="dcterms:W3CDTF">2009-09-13T16:15:45Z</dcterms:modified>
  <cp:revision>351</cp:revision>
  <dc:subject/>
  <dc:title>Rolling the Process</dc:title>
</cp:coreProperties>
</file>