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-36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388584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D78A-E25F-47C8-AB9E-0738E9279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DDCD-9CF0-4987-AB71-8658A8AFA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C401-926F-40DF-993A-1755ABA86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0A7B-3890-4D88-A11D-BC6DF7CCE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F9BA-C4AA-4B39-A4D1-F3756838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 of called constructors. Before setting it Name, Collie calls the Dog ctor which, before setting its Type, calls the Animal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8EE0-6EB9-4991-B7E7-DEF77B3FC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538F-201E-4CEA-96E1-6607F23D7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se statements are not used the default is </a:t>
            </a:r>
            <a:r>
              <a:rPr b="0" i="1" lang="en-GB" sz="1200" spc="-1" strike="noStrike">
                <a:solidFill>
                  <a:srgbClr val="99cc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77E6-FAF5-48F7-9666-038EDEC87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word in the :FIELD statements is the va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 slight difference between a variable and a private instance field: their []N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BE1C-23F1-4E58-8832-9167AE6E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F5C7-E0C8-417F-A89C-856CEAB37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7450-B362-4D16-92C0-AF5FD75CB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ID is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DA7F-C3C7-4615-B197-EEF88ACCB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6042-5CA1-469F-A1F5-371882FBD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1098-C51D-471B-9482-5341B159C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382A-2366-44D0-8BB8-36E532BEC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rder is unimportant; if &lt;general&gt; is not there and there is no match on the length a LENGTH error will be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D76D-59C0-4007-AE49-E33BA5A2C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ADCC-C8FB-470A-9F6D-8EECB420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4BC7-D2E8-470D-89B2-CC5959A7E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still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E6B5-93AA-4708-A337-4B8ADC64C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4EE8-0429-410C-A4E6-DBD38D823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1726-4AB6-404A-BD68-37C845A44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trig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cies came up with a solution to this problem and invented their own Code Management Systems to group code &amp; data into units but this took a lot of man-days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ha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6402-0C56-4818-8DB6-F7CB6DB57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CA44-66E9-4713-8371-C616E7442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cies came up with a solution to this problem and invented their own Code Management Systems to group code &amp; data into units but this took a lot of man-days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ha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4761-EA81-4185-A665-7744D4461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no real need to make that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F410-D3B4-4F7B-A209-2781D8341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the other property I. There are 2 ways to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F398-7736-48D9-B189-CE053DBEE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returns a sca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A69B-2A6F-4861-883B-9C9107ED3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s are still the same tho: name clashing &amp; cleaning afterw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3458-79D1-466E-B7B3-295076573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66F5-4A2C-4150-B5F5-218EA47D3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eturns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use of []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DF42-A8B9-49AB-99E3-414B667AE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no []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0678-09E9-4D49-A92B-73901708D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programmers invented tricks to shadow the names and execute code hidden on the stack but that was like a crutch, something better wa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F275-1121-4F0F-A63C-424164A91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FDC0-CE90-430E-A604-29814C0A2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4A1C-588D-4277-823A-9C1C50E1D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73A6-69FF-4BA1-821D-7236A3B5E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kspace releases memory when unused. New prim are squash, power, enhancements are to LCM &amp; G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07EE-06A1-408A-94A7-6FD8EEB69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d to use the Properties windows on fns and to export the 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50D6-360C-4595-B8C2-ED3FF9BE6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s can include pointers to functions in languages that support it (like C). All these structures ar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74CF-62DC-436E-BCB7-A69E6E803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ill be interactive, stop and ask questions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1D1D-9107-49DD-A473-0EFB17610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assing messages is omni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8988-2A70-4D62-9AED-D59B94FE0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Basic had no concept of function &amp; local variable, trad system have no concept of objects and their "local"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9A7F-5960-4678-B788-484C1651A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 terms to be used in order to speak the same "LANGUAG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8F7C-DD44-465F-A43D-CFAA0776D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 a single, widely-agreed upon definition of object-oriented 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a survey of nearly 40 years of computing literature identified a number of fundamental concepts, identified in the strong majority of definitions of O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 research supporting or dismissing OOP has been difficult to come b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following slides some of the terms used (e.g. SHARED=STATIC) vary from one implementation/languag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1C61-E7C0-4862-AD18-6F3D5EBDC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like a “struct”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ext in green refers to items already implemented in Dyalog A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639C-9308-4A28-BAD1-01D97D04A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5CCD-F729-43D6-89C8-B177C8A17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C568-D505-4CC0-B0FE-E1C550880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utlet is the interface to use to connect into the electrical net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ances must conform to be able to plug into it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1C51-EB79-4899-8FB1-5A712FE93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ctions are said to be abstract because they do not have code, only synt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lasses are ABSTRACT and cannot be instantiated. Just like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BC64-4877-4DDE-B6E0-B36263DDA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ime permits show OO implementation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3CA8-D527-49F3-98CA-1F77FFC0A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or others – ex: photoshop plugins which state how to access their inn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present yourself to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E141-051D-4123-B22B-7A10EDDDC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faces allow to map some names (from the class) onto another set of names (of the insta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E555-B92A-4B97-B16C-0EC5C2D7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ol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uld be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ess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In OO there are many types of objects, they are not listed here (e.g. singleton, immutable, prototyp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ll OO languages suppor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r e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 Instances are also called ‘actors’ in some lit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works in italic are found in DYW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file to be un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BCD3-8EBB-4CEC-AFA5-74FB1D634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k of an object (namespace) as a mini workspace which can be initialized ([]LX) via a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A73C-EBC0-4849-8E9F-F4EA2E51E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0B42-9F48-4B49-896A-2DD772912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D=STATIC in C#. Shared members are common to all instances and do not need or cannot be copied, e.g. global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43B7-58AA-4155-87C2-ACB3EA0EB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practice APL does not copy the me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004E-FF78-4F93-BAE9-6D68A0E99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Shared code can be called directly via the class, no instance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ED09-C19E-4CF6-8BFD-CEBB86101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languages use the term FINAL instead of READONLY; the terms vary from one languag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C3B5-C242-4933-823C-36C517E19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Ex: VISIBL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5038-808C-4EED-9454-95E0C7803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because everyone else is doing it or MS$ (or anyone else) sets the trend or... Explain in more detai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1164-CDD0-45EC-9ED5-0C98B9950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es are commonly used as a means of interprocess communication 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B159-FF26-410D-9E88-AF461ED1C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hing to do with money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Not all languages support it, e.g. VB, which is a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ject-bas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hing we (programmers) are familiar with: modify code to get new code OR call existing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A5C8-734E-4BAF-BF57-479473F3B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0D33-C053-4B06-AC67-FEFAD43F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is a class, green is an instance. Fido is an instance of a Collie. It also has all the characteristics of a Dog and an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C89C-506C-4B76-A00E-ABFCE467F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ways to do this and not all languages do it in a consistent manner. There is a lot is disagreement in th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B666-6464-40B0-9AB7-3834E4BD7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way to achieve (some sort of) multiple inheritance is by using multiple implem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CA0F-55C3-4D8C-8F7B-4CD012CB9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D38A-23C0-4ABB-9A21-5652570BC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E0CB-7502-45DC-AFA4-784C42D03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D676-A72B-4A43-8899-D79668AB7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0FE8-42D7-451D-BA17-1BA72C0E5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ew discipline, paradigm, technology, methodology.  SIMULA was the 1</a:t>
            </a:r>
            <a:r>
              <a:rPr b="0" lang="fr-CA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object language. Others; Eiffel, CLOS, SELF, Java, B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Unlike APL it has been GROWING since the 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cceptance was due a lot to C-&gt;C++ by not having programmers to learn a new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2C2A-2868-4AD4-9E17-529A464F7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on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594C-64C8-4A2F-BC5E-776C0E6F4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RIDE is also known as VIRTUAL in some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 and B a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epend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&lt;M2&gt; is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routi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&lt;M1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D82B-BB99-45CA-9938-EB2188C33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B is based on A. When it calls M1, M2 is not seen from M1. M2 could be called by other f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CF36-F3E2-49D3-94FA-C76A52DD6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wants to override M2 but A does not a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A546-E04A-4C49-931F-6F78AA361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can be overridden and it is effectively don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E3BD-A0CB-427E-BE46-41A920134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9C31-8BBC-4525-9BDC-4DC879D9E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OO languages do NOT offer encapsulation. private=local for a function,public=global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40CB-0BC5-4ADA-BBB3-3030AEA47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like localized vars in APL (except that they cannot be seen in subfns)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E435-4C7F-4AC8-B86D-1CB6A7971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, they can be reached up the stack by called functions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165F-6033-4953-81C0-2E7C167D1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ctrl struct were a new concept for programmers, oo is another step in the sam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B39F-5B7A-4AB6-BEDC-AC2882D2E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glob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F81E-6ECC-4DB8-9241-63A080A8F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elevator &amp; its repairman. He has access to the inner workings of the elev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lso other possibilities. Not all languages support these concepts. DYW does not.  This one is, among others, seen in C+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pled with nesting the complexity of a system can become overwhel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9C77-934B-4FCD-BDE5-C0E8967C3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do that in APL using :case on []DR of the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F2B4-8EE9-4168-AA89-4FDAA5225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Foo is called with an integer the left fn is used. If it is called with a string the right one is used. Else an error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1BB1-5B82-4D37-9693-55BDD49E5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L most fns are overloa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F11A-0915-4E8F-A46F-B34B366B7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arguments have to b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coerce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o a new type to achieve proper behavi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BAF7-ABC4-4D35-8722-BACA8B07D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rder to delve into the OO paradigm we need to understand a few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digm=theoretical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7A42-3C9A-4691-A657-1FBE9E12B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B7BB-57C6-41A3-A851-5CDD0E439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go over each one of these, not necessarily in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06F7-C180-4616-B1C9-64C8B557D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circle to denote editing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815E-6C88-4195-9FFB-B922E6067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CLASSES is a new system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D794-517E-4D79-9E8D-8F61B390E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 is a fn, op or Dfn/op. Only regular fns can be public. Properties are like variables whose assignment (or reading) is caught via a fn BEFORE being done.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BA3B-4821-4B9E-932E-7986F1739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ll see this in more details in the Encapsul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D219-F56E-498E-A864-6895D7B29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may be more than 1 constructor. D-fns &amp; ops cannot be public (they cannot use the :access stat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659B-E076-465B-BAD8-173C07BF5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rties can be shared too; ra contains Name (there can be many!), NewValue is set &amp; maybe Index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ing of &lt;G/Set&gt; un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3791-ECCF-406F-BCD3-36DC01D56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ns are not really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me as []NS []OR ‘class’ then call the constructor is per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4DC4-4E8E-4138-9FAE-757718499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2013-440B-48A6-9256-A4A0D99FC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ide the brackets is the name of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9759-6091-4DC3-9AFE-AA86D114C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7A80-D729-4EB0-B10D-04FB94287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imes useful to known who is w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7F2F-8DC4-4B70-B7F4-831888BFE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.Nlegs is not new, it’s been there since refs were introduced. ‘Nlegs’ needs to be in every item of ‘Animal’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C186-D0DF-4BFF-9211-29E96E71E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ancy naming (“message passing”) scheme does not apply here – its use is kept to stay synchronized with the fundamental concept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41D5-7876-47F8-87FD-8C4860981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is? Rex is a Collie, a Dog, an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2ABD-3674-4DF6-887F-AB4CDEF6D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DB17-42BB-4948-822D-5CE52572C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58EE-3905-4809-AED5-B95AFD3C8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arrot  calls Bird’s constructor to create Desc, then, upon return, Desc is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base call is made at the statement’s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CE5A-A9D9-49B3-8CFE-E02EF40F7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specific to 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E934-BBC8-4FB5-AD63-49BF57522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ime constructors will take 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69E-BE0E-41C8-8A24-B388D89D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C4F-A3D1-4EFC-ACD7-67D3B8AE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E97-B4E1-48BE-9463-D9864F62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22A-11AE-46C4-8A8F-7BD811C1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92CE-4881-4862-A667-C5AA345D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C8A9-0F15-44F3-9CD7-D54AB13A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58C3-6F52-4237-9077-CD0234F5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2379-95F5-42A3-B4B2-6DBCD43A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C908-9B20-4A00-94AC-94121D91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B714-312D-4F15-8718-BD4747C9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A413-4094-4E5D-92E9-B87C66C5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0AB-155B-404F-94C4-EFE252BA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A1F8-BB72-49B2-83AC-B00E2B0F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9A26-498F-4C41-89DF-2FE31705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0524-52F0-44BA-9987-C827DA89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964F-61E1-465E-9884-19787EB9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8D72-0A60-44A0-AC84-C602E8C3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FFA-0922-432D-BFFC-7D3C44A4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F6C-ECEE-43DF-BC94-EF8A63EE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19E-1ACE-43C5-B6CB-7417337C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B36-7905-4E89-A171-3C6918FE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99F1-AB78-47F0-BFC8-F38C6203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6A4-A44A-4A3C-8F8F-203AC78F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8E4-ABDB-4CA0-9E66-9E4BA9F1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0007-7B1B-4A62-B849-2AAA69D443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4207-9D29-4D19-8F89-611D38C0A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http://www.dyalog.com/" TargetMode="External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" Target="slide147.xml"/><Relationship Id="rId2" Type="http://schemas.openxmlformats.org/officeDocument/2006/relationships/slide" Target="slide124.xml"/><Relationship Id="rId3" Type="http://schemas.openxmlformats.org/officeDocument/2006/relationships/slide" Target="slide116.xml"/><Relationship Id="rId4" Type="http://schemas.openxmlformats.org/officeDocument/2006/relationships/slide" Target="slide170.xml"/><Relationship Id="rId5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Arrow 3"/>
          <p:cNvSpPr/>
          <p:nvPr/>
        </p:nvSpPr>
        <p:spPr>
          <a:xfrm>
            <a:off x="2714760" y="2827440"/>
            <a:ext cx="4000320" cy="12859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ee821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3080" y="1096560"/>
            <a:ext cx="84596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469ff"/>
                </a:solidFill>
                <a:latin typeface="Geneva"/>
              </a:rPr>
              <a:t>Object Oriented Programming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3212640"/>
            <a:ext cx="5113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New Dire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an Barone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00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Geneva"/>
              </a:rPr>
              <a:t>V1.22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0F91-015C-4351-99BB-05E2DF636F0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5960" y="3319560"/>
            <a:ext cx="581328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E0EA-FEA5-4C3C-874C-DE0B08F009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50" name="Picture 1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5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16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18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31"/>
          <p:cNvSpPr/>
          <p:nvPr/>
        </p:nvSpPr>
        <p:spPr>
          <a:xfrm>
            <a:off x="2195640" y="3220920"/>
            <a:ext cx="576000" cy="287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32"/>
          <p:cNvSpPr/>
          <p:nvPr/>
        </p:nvSpPr>
        <p:spPr>
          <a:xfrm>
            <a:off x="5435640" y="2109960"/>
            <a:ext cx="43164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33"/>
          <p:cNvSpPr/>
          <p:nvPr/>
        </p:nvSpPr>
        <p:spPr>
          <a:xfrm>
            <a:off x="6948360" y="3844800"/>
            <a:ext cx="43200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34"/>
          <p:cNvSpPr/>
          <p:nvPr/>
        </p:nvSpPr>
        <p:spPr>
          <a:xfrm>
            <a:off x="324000" y="5084640"/>
            <a:ext cx="410364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35"/>
          <p:cNvSpPr/>
          <p:nvPr/>
        </p:nvSpPr>
        <p:spPr>
          <a:xfrm>
            <a:off x="2411280" y="1708200"/>
            <a:ext cx="2089440" cy="384120"/>
          </a:xfrm>
          <a:prstGeom prst="leftArrow">
            <a:avLst>
              <a:gd name="adj1" fmla="val 50000"/>
              <a:gd name="adj2" fmla="val 135989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36"/>
          <p:cNvSpPr/>
          <p:nvPr/>
        </p:nvSpPr>
        <p:spPr>
          <a:xfrm rot="3022200">
            <a:off x="4621680" y="2540520"/>
            <a:ext cx="1871640" cy="384120"/>
          </a:xfrm>
          <a:prstGeom prst="leftArrow">
            <a:avLst>
              <a:gd name="adj1" fmla="val 50000"/>
              <a:gd name="adj2" fmla="val 121813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37"/>
          <p:cNvSpPr/>
          <p:nvPr/>
        </p:nvSpPr>
        <p:spPr>
          <a:xfrm flipH="1" rot="20800200">
            <a:off x="3634920" y="3860280"/>
            <a:ext cx="2376720" cy="384480"/>
          </a:xfrm>
          <a:prstGeom prst="leftArrow">
            <a:avLst>
              <a:gd name="adj1" fmla="val 50000"/>
              <a:gd name="adj2" fmla="val 154541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2822-27F6-41C0-B781-9E36D59B8F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6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17"/>
          <p:cNvSpPr/>
          <p:nvPr/>
        </p:nvSpPr>
        <p:spPr>
          <a:xfrm>
            <a:off x="605880" y="2714760"/>
            <a:ext cx="743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go over this again slowl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0B21-12A2-4232-B313-BB50071FAE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5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6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7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77" name="Rectangle 8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9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0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11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12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13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4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15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16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6" name="AutoShape 17"/>
          <p:cNvCxnSpPr>
            <a:stCxn id="985" idx="7"/>
            <a:endCxn id="984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7" name="AutoShape 18"/>
          <p:cNvCxnSpPr>
            <a:stCxn id="980" idx="1"/>
            <a:endCxn id="981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8" name="AutoShape 19"/>
          <p:cNvCxnSpPr>
            <a:stCxn id="982" idx="0"/>
            <a:endCxn id="983" idx="0"/>
          </p:cNvCxnSpPr>
          <p:nvPr/>
        </p:nvCxnSpPr>
        <p:spPr>
          <a:xfrm flipV="1" rot="16200000">
            <a:off x="4382640" y="-218520"/>
            <a:ext cx="423000" cy="4998240"/>
          </a:xfrm>
          <a:prstGeom prst="curvedConnector5">
            <a:avLst>
              <a:gd name="adj1" fmla="val 154088"/>
              <a:gd name="adj2" fmla="val 49996"/>
              <a:gd name="adj3" fmla="val 1540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9" name="Straight Arrow Connector 25"/>
          <p:cNvCxnSpPr/>
          <p:nvPr/>
        </p:nvCxnSpPr>
        <p:spPr>
          <a:xfrm flipH="1">
            <a:off x="2069280" y="2428920"/>
            <a:ext cx="252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0" name="Rectangle 26"/>
          <p:cNvSpPr/>
          <p:nvPr/>
        </p:nvSpPr>
        <p:spPr>
          <a:xfrm>
            <a:off x="4500720" y="2857680"/>
            <a:ext cx="7855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1" name="AutoShape 19"/>
          <p:cNvCxnSpPr>
            <a:stCxn id="990" idx="3"/>
          </p:cNvCxnSpPr>
          <p:nvPr/>
        </p:nvCxnSpPr>
        <p:spPr>
          <a:xfrm>
            <a:off x="5286240" y="3035160"/>
            <a:ext cx="643320" cy="1751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2" name="Rectangle 30"/>
          <p:cNvSpPr/>
          <p:nvPr/>
        </p:nvSpPr>
        <p:spPr>
          <a:xfrm>
            <a:off x="5929200" y="4714920"/>
            <a:ext cx="819360" cy="28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3"/>
          <p:cNvSpPr/>
          <p:nvPr/>
        </p:nvSpPr>
        <p:spPr>
          <a:xfrm>
            <a:off x="1285920" y="2714760"/>
            <a:ext cx="214308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4" name="AutoShape 19"/>
          <p:cNvCxnSpPr>
            <a:endCxn id="990" idx="1"/>
          </p:cNvCxnSpPr>
          <p:nvPr/>
        </p:nvCxnSpPr>
        <p:spPr>
          <a:xfrm>
            <a:off x="3428640" y="2928600"/>
            <a:ext cx="1072440" cy="106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E016-70A8-42B7-A047-4CCF10AA46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900000" y="1803240"/>
            <a:ext cx="73440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nceals the exact details of how a particular class works from objects that use its co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acces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B41A-1B49-4266-9E1E-434B61C720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/>
          </p:nvPr>
        </p:nvSpPr>
        <p:spPr>
          <a:xfrm>
            <a:off x="321840" y="184464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xpose a member you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ak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) you must use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Access 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) you must use this statemen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yFiel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50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834F-2AEE-4DBA-AA41-494FB9784AB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250560" y="163008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ccess is the same for methods (fns) and properti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title"/>
          </p:nvPr>
        </p:nvSpPr>
        <p:spPr>
          <a:xfrm>
            <a:off x="394920" y="49356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10" name="Group 15"/>
          <p:cNvGrpSpPr/>
          <p:nvPr/>
        </p:nvGrpSpPr>
        <p:grpSpPr>
          <a:xfrm>
            <a:off x="3695760" y="1860480"/>
            <a:ext cx="5268960" cy="4232160"/>
            <a:chOff x="3695760" y="1860480"/>
            <a:chExt cx="5268960" cy="4232160"/>
          </a:xfrm>
        </p:grpSpPr>
        <p:pic>
          <p:nvPicPr>
            <p:cNvPr id="1011" name="Picture 4" descr=""/>
            <p:cNvPicPr/>
            <p:nvPr/>
          </p:nvPicPr>
          <p:blipFill>
            <a:blip r:embed="rId1"/>
            <a:stretch/>
          </p:blipFill>
          <p:spPr>
            <a:xfrm>
              <a:off x="3695760" y="186048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Rectangle 7"/>
            <p:cNvSpPr/>
            <p:nvPr/>
          </p:nvSpPr>
          <p:spPr>
            <a:xfrm>
              <a:off x="4716360" y="337176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8"/>
            <p:cNvSpPr/>
            <p:nvPr/>
          </p:nvSpPr>
          <p:spPr>
            <a:xfrm>
              <a:off x="5508720" y="358920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9"/>
            <p:cNvSpPr/>
            <p:nvPr/>
          </p:nvSpPr>
          <p:spPr>
            <a:xfrm>
              <a:off x="7308720" y="380520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10"/>
            <p:cNvSpPr/>
            <p:nvPr/>
          </p:nvSpPr>
          <p:spPr>
            <a:xfrm>
              <a:off x="5508720" y="402084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11"/>
            <p:cNvSpPr/>
            <p:nvPr/>
          </p:nvSpPr>
          <p:spPr>
            <a:xfrm>
              <a:off x="6227640" y="423684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12"/>
            <p:cNvSpPr/>
            <p:nvPr/>
          </p:nvSpPr>
          <p:spPr>
            <a:xfrm>
              <a:off x="6227640" y="4452840"/>
              <a:ext cx="3034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13"/>
            <p:cNvSpPr/>
            <p:nvPr/>
          </p:nvSpPr>
          <p:spPr>
            <a:xfrm>
              <a:off x="6227640" y="466848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14"/>
            <p:cNvSpPr/>
            <p:nvPr/>
          </p:nvSpPr>
          <p:spPr>
            <a:xfrm>
              <a:off x="7913520" y="486540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7253-6D2F-4864-8159-51E9E36FF3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936720" y="1977840"/>
            <a:ext cx="748800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instance gets a copy of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membe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is kept in the class for all instances to see (and us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BC70-5D43-498C-B2B5-E9908673D6F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609120" y="1773000"/>
            <a:ext cx="8210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keepCou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its own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D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keeps track of the number of instances created private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1897-5623-4335-A8A6-348D78656A9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394920" y="1588680"/>
            <a:ext cx="482436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4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Cou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←0,1,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yID MyNa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5"/>
          <p:cNvSpPr/>
          <p:nvPr/>
        </p:nvSpPr>
        <p:spPr>
          <a:xfrm>
            <a:off x="1137600" y="246204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Count' rema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9" name="AutoShape 10"/>
          <p:cNvCxnSpPr>
            <a:stCxn id="1034" idx="2"/>
            <a:endCxn id="1036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0" name="AutoShape 11"/>
          <p:cNvCxnSpPr>
            <a:stCxn id="1034" idx="2"/>
            <a:endCxn id="1037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1" name="AutoShape 12"/>
          <p:cNvCxnSpPr>
            <a:stCxn id="1034" idx="2"/>
            <a:endCxn id="1042" idx="0"/>
          </p:cNvCxnSpPr>
          <p:nvPr/>
        </p:nvCxnSpPr>
        <p:spPr>
          <a:xfrm>
            <a:off x="4535280" y="3860640"/>
            <a:ext cx="252324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43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2" name="Rectangle 15"/>
          <p:cNvSpPr/>
          <p:nvPr/>
        </p:nvSpPr>
        <p:spPr>
          <a:xfrm>
            <a:off x="6084720" y="450864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8EDF-C41F-40AF-AD51-6878378CA8A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46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3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 MyNam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49" name="Group 10"/>
          <p:cNvGrpSpPr/>
          <p:nvPr/>
        </p:nvGrpSpPr>
        <p:grpSpPr>
          <a:xfrm>
            <a:off x="5035680" y="1460520"/>
            <a:ext cx="3929040" cy="4751280"/>
            <a:chOff x="5035680" y="1460520"/>
            <a:chExt cx="3929040" cy="4751280"/>
          </a:xfrm>
        </p:grpSpPr>
        <p:pic>
          <p:nvPicPr>
            <p:cNvPr id="1050" name="Picture 5" descr=""/>
            <p:cNvPicPr/>
            <p:nvPr/>
          </p:nvPicPr>
          <p:blipFill>
            <a:blip r:embed="rId1"/>
            <a:stretch/>
          </p:blipFill>
          <p:spPr>
            <a:xfrm>
              <a:off x="5035680" y="1460520"/>
              <a:ext cx="39290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1" name="Rectangle 6"/>
            <p:cNvSpPr/>
            <p:nvPr/>
          </p:nvSpPr>
          <p:spPr>
            <a:xfrm>
              <a:off x="6162840" y="2520720"/>
              <a:ext cx="2016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7"/>
            <p:cNvSpPr/>
            <p:nvPr/>
          </p:nvSpPr>
          <p:spPr>
            <a:xfrm>
              <a:off x="5683320" y="4339800"/>
              <a:ext cx="576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"/>
            <p:cNvSpPr/>
            <p:nvPr/>
          </p:nvSpPr>
          <p:spPr>
            <a:xfrm>
              <a:off x="6188040" y="3116160"/>
              <a:ext cx="23749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9"/>
            <p:cNvSpPr/>
            <p:nvPr/>
          </p:nvSpPr>
          <p:spPr>
            <a:xfrm>
              <a:off x="5683320" y="4700160"/>
              <a:ext cx="647640" cy="287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BD9A-DB85-4747-B979-103C1555FBC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428840" y="3500280"/>
            <a:ext cx="6357960" cy="2675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642960" y="2857680"/>
            <a:ext cx="592920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783F-DABE-42F4-824E-CD4057EDFBC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06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a function CANNOT have different definitions using a singl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OH, a constructor MAY have severa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nce APL is typeless the only way to tell which function to use is by the NUMBER of arguments, from 0 (niladic) to any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/>
          </p:nvPr>
        </p:nvSpPr>
        <p:spPr>
          <a:xfrm>
            <a:off x="5363640" y="1483920"/>
            <a:ext cx="302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Class manyCtor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general x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any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can be anythin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nil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no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1(a1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1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a ve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5(a1 a2 a3 a4 a5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5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exactly 5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EndClas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3D3A-FB8E-463D-BF85-336A8B2C7C4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5" name="Text Box 4"/>
          <p:cNvSpPr/>
          <p:nvPr/>
        </p:nvSpPr>
        <p:spPr>
          <a:xfrm>
            <a:off x="395280" y="1892160"/>
            <a:ext cx="4681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ing on the number of arguments, the proper fn will be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16"/>
          <p:cNvGrpSpPr/>
          <p:nvPr/>
        </p:nvGrpSpPr>
        <p:grpSpPr>
          <a:xfrm>
            <a:off x="5715000" y="1857240"/>
            <a:ext cx="2655720" cy="4214880"/>
            <a:chOff x="5715000" y="1857240"/>
            <a:chExt cx="2655720" cy="4214880"/>
          </a:xfrm>
        </p:grpSpPr>
        <p:sp>
          <p:nvSpPr>
            <p:cNvPr id="1067" name="Rectangle 5"/>
            <p:cNvSpPr/>
            <p:nvPr/>
          </p:nvSpPr>
          <p:spPr>
            <a:xfrm>
              <a:off x="5838840" y="242064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6"/>
            <p:cNvSpPr/>
            <p:nvPr/>
          </p:nvSpPr>
          <p:spPr>
            <a:xfrm>
              <a:off x="5838840" y="3328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7"/>
            <p:cNvSpPr/>
            <p:nvPr/>
          </p:nvSpPr>
          <p:spPr>
            <a:xfrm>
              <a:off x="5838840" y="4417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8"/>
            <p:cNvSpPr/>
            <p:nvPr/>
          </p:nvSpPr>
          <p:spPr>
            <a:xfrm>
              <a:off x="5838840" y="5497560"/>
              <a:ext cx="2377080" cy="2174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1"/>
            <p:cNvSpPr/>
            <p:nvPr/>
          </p:nvSpPr>
          <p:spPr>
            <a:xfrm>
              <a:off x="5715000" y="1857240"/>
              <a:ext cx="2643840" cy="421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Straight Connector 13"/>
            <p:cNvSpPr/>
            <p:nvPr/>
          </p:nvSpPr>
          <p:spPr>
            <a:xfrm>
              <a:off x="5715000" y="29480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Straight Connector 14"/>
            <p:cNvSpPr/>
            <p:nvPr/>
          </p:nvSpPr>
          <p:spPr>
            <a:xfrm>
              <a:off x="5715000" y="385740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Straight Connector 15"/>
            <p:cNvSpPr/>
            <p:nvPr/>
          </p:nvSpPr>
          <p:spPr>
            <a:xfrm>
              <a:off x="5726880" y="49676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9153-7F86-450B-A45E-063D5C54AEA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to edi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much lik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members (vars &amp; fns) can all be accessed 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mak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can be based on another on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use constructors to initialize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718F-BD73-42AA-B3A5-94B3DCDAFB0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714240" y="1933560"/>
            <a:ext cx="7786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re are MANY other things related to OO that have been implemented but are out of the scope of this pres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find more visit Dyalog’s websit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www.dyalog.com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and grab the free docum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1523-90CC-42C4-9DF9-F711D36418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156F-C029-4B71-9BB6-DE89AD81C65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oice of exerci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2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rs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 formatted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3" action="ppaction://hlinksldjump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raphical objec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lnet cli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5" name="Rectangle 6">
            <a:hlinkClick r:id="rId4" action="ppaction://hlinksldjump"/>
          </p:cNvPr>
          <p:cNvSpPr/>
          <p:nvPr/>
        </p:nvSpPr>
        <p:spPr>
          <a:xfrm>
            <a:off x="6357960" y="5429160"/>
            <a:ext cx="1785960" cy="571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B590-038A-486D-A9DB-A36DFC1716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riving from Dyalog GUI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sides classes you can write classes derived fro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LE servers/contro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FBD0-D109-4632-85FD-4175F707B91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L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oleclient'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⊂'classname' 'Excel.application'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←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sent←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System.DateTime.Now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D497-BD6D-4E5D-ABC7-BC2651E4F6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need to write a class that will create a form, just lik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ith 2 buttons already setup for SAVE and QUIT so we can d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myForm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(…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9552-3FEF-4A4C-8122-AD4151840F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15" name="Picture 2" descr=""/>
          <p:cNvPicPr/>
          <p:nvPr/>
        </p:nvPicPr>
        <p:blipFill>
          <a:blip r:embed="rId1"/>
          <a:stretch/>
        </p:blipFill>
        <p:spPr>
          <a:xfrm>
            <a:off x="1390680" y="1657440"/>
            <a:ext cx="6362640" cy="4629240"/>
          </a:xfrm>
          <a:prstGeom prst="rect">
            <a:avLst/>
          </a:prstGeom>
          <a:ln w="0">
            <a:noFill/>
          </a:ln>
        </p:spPr>
      </p:pic>
      <p:sp>
        <p:nvSpPr>
          <p:cNvPr id="1116" name="Oval 6"/>
          <p:cNvSpPr/>
          <p:nvPr/>
        </p:nvSpPr>
        <p:spPr>
          <a:xfrm>
            <a:off x="4010040" y="3857760"/>
            <a:ext cx="1133640" cy="40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642680"/>
            <a:ext cx="76723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AF2D-66D5-4175-8708-54A98DCB724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42960" y="2214720"/>
            <a:ext cx="7643880" cy="1071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833 L -0.5382 0.16123 E">
                                      <p:cBhvr>
                                        <p:cTn id="3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5E83-323A-48BA-8DE2-7F5D3E3877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1" name="TextBox 6"/>
          <p:cNvSpPr/>
          <p:nvPr/>
        </p:nvSpPr>
        <p:spPr>
          <a:xfrm>
            <a:off x="627480" y="20001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1←⎕new Dialog(‘pref form' (100 500) ⍬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Picture 3" descr=""/>
          <p:cNvPicPr/>
          <p:nvPr/>
        </p:nvPicPr>
        <p:blipFill>
          <a:blip r:embed="rId1"/>
          <a:stretch/>
        </p:blipFill>
        <p:spPr>
          <a:xfrm>
            <a:off x="1714680" y="3071880"/>
            <a:ext cx="5736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E9BB-8095-455C-B9C2-8FA1F50E1C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27" name="Picture 2" descr=""/>
          <p:cNvPicPr/>
          <p:nvPr/>
        </p:nvPicPr>
        <p:blipFill>
          <a:blip r:embed="rId1"/>
          <a:stretch/>
        </p:blipFill>
        <p:spPr>
          <a:xfrm>
            <a:off x="428760" y="2786040"/>
            <a:ext cx="8288280" cy="285768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8"/>
          <p:cNvSpPr/>
          <p:nvPr/>
        </p:nvSpPr>
        <p:spPr>
          <a:xfrm>
            <a:off x="598320" y="1857240"/>
            <a:ext cx="60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lass creates an edit obje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9"/>
          <p:cNvSpPr/>
          <p:nvPr/>
        </p:nvSpPr>
        <p:spPr>
          <a:xfrm>
            <a:off x="3795840" y="4021200"/>
            <a:ext cx="50004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48DB-009C-4DA8-8667-CF616F12DC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4" name="TextBox 6"/>
          <p:cNvSpPr/>
          <p:nvPr/>
        </p:nvSpPr>
        <p:spPr>
          <a:xfrm>
            <a:off x="183960" y="1571760"/>
            <a:ext cx="886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←⎕new Dialog('pref form' (200 3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fn←f1.⎕new EditField ('First name:' '' (10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ln←f1.⎕new EditField ('Last name:' '' (38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ad←f1.⎕new EditField ('Address:' '' (66 60) (90 230) (⊂'style' 'multi')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(fn ln ad).Text←'Jeremy' 'Cricket'('TopFlower' 'last field'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Picture 2" descr=""/>
          <p:cNvPicPr/>
          <p:nvPr/>
        </p:nvPicPr>
        <p:blipFill>
          <a:blip r:embed="rId1">
            <a:alphaModFix amt="26000"/>
          </a:blip>
          <a:stretch/>
        </p:blipFill>
        <p:spPr>
          <a:xfrm>
            <a:off x="2286000" y="3360600"/>
            <a:ext cx="471492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1E2B-A2A6-4416-9FC4-B4DD745087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an interf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AA60-665F-48B3-BBC1-DA75CBFB60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2840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Complex nu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rational or “normal number” is a decimal number that can be viewed on the line of “real”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-10                     -5                       0 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Geneva"/>
              </a:rPr>
              <a:t>+5.3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 +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46" name="Group 47"/>
          <p:cNvGrpSpPr/>
          <p:nvPr/>
        </p:nvGrpSpPr>
        <p:grpSpPr>
          <a:xfrm>
            <a:off x="785880" y="4925880"/>
            <a:ext cx="7787160" cy="146160"/>
            <a:chOff x="785880" y="4925880"/>
            <a:chExt cx="7787160" cy="146160"/>
          </a:xfrm>
        </p:grpSpPr>
        <p:cxnSp>
          <p:nvCxnSpPr>
            <p:cNvPr id="1147" name="Straight Arrow Connector 7"/>
            <p:cNvCxnSpPr/>
            <p:nvPr/>
          </p:nvCxnSpPr>
          <p:spPr>
            <a:xfrm>
              <a:off x="785880" y="4999680"/>
              <a:ext cx="7787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148" name="Straight Connector 10"/>
            <p:cNvSpPr/>
            <p:nvPr/>
          </p:nvSpPr>
          <p:spPr>
            <a:xfrm flipH="1">
              <a:off x="4642920" y="492876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Straight Connector 11"/>
            <p:cNvSpPr/>
            <p:nvPr/>
          </p:nvSpPr>
          <p:spPr>
            <a:xfrm flipH="1">
              <a:off x="5000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Straight Connector 12"/>
            <p:cNvSpPr/>
            <p:nvPr/>
          </p:nvSpPr>
          <p:spPr>
            <a:xfrm flipH="1">
              <a:off x="53557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Straight Connector 13"/>
            <p:cNvSpPr/>
            <p:nvPr/>
          </p:nvSpPr>
          <p:spPr>
            <a:xfrm flipH="1">
              <a:off x="5713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Straight Connector 14"/>
            <p:cNvSpPr/>
            <p:nvPr/>
          </p:nvSpPr>
          <p:spPr>
            <a:xfrm flipH="1">
              <a:off x="6071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Straight Connector 15"/>
            <p:cNvSpPr/>
            <p:nvPr/>
          </p:nvSpPr>
          <p:spPr>
            <a:xfrm flipH="1">
              <a:off x="64296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Straight Connector 16"/>
            <p:cNvSpPr/>
            <p:nvPr/>
          </p:nvSpPr>
          <p:spPr>
            <a:xfrm flipH="1">
              <a:off x="6784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Straight Connector 17"/>
            <p:cNvSpPr/>
            <p:nvPr/>
          </p:nvSpPr>
          <p:spPr>
            <a:xfrm flipH="1">
              <a:off x="71424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Straight Connector 32"/>
            <p:cNvSpPr/>
            <p:nvPr/>
          </p:nvSpPr>
          <p:spPr>
            <a:xfrm flipH="1">
              <a:off x="17859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Straight Connector 33"/>
            <p:cNvSpPr/>
            <p:nvPr/>
          </p:nvSpPr>
          <p:spPr>
            <a:xfrm flipH="1">
              <a:off x="2143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Straight Connector 34"/>
            <p:cNvSpPr/>
            <p:nvPr/>
          </p:nvSpPr>
          <p:spPr>
            <a:xfrm flipH="1">
              <a:off x="24987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Straight Connector 35"/>
            <p:cNvSpPr/>
            <p:nvPr/>
          </p:nvSpPr>
          <p:spPr>
            <a:xfrm flipH="1">
              <a:off x="2856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Straight Connector 36"/>
            <p:cNvSpPr/>
            <p:nvPr/>
          </p:nvSpPr>
          <p:spPr>
            <a:xfrm flipH="1">
              <a:off x="3214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Straight Connector 37"/>
            <p:cNvSpPr/>
            <p:nvPr/>
          </p:nvSpPr>
          <p:spPr>
            <a:xfrm flipH="1">
              <a:off x="357264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Straight Connector 38"/>
            <p:cNvSpPr/>
            <p:nvPr/>
          </p:nvSpPr>
          <p:spPr>
            <a:xfrm flipH="1">
              <a:off x="3927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Straight Connector 39"/>
            <p:cNvSpPr/>
            <p:nvPr/>
          </p:nvSpPr>
          <p:spPr>
            <a:xfrm flipH="1">
              <a:off x="4285440" y="492588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Straight Connector 40"/>
            <p:cNvSpPr/>
            <p:nvPr/>
          </p:nvSpPr>
          <p:spPr>
            <a:xfrm flipH="1">
              <a:off x="14288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Straight Connector 41"/>
            <p:cNvSpPr/>
            <p:nvPr/>
          </p:nvSpPr>
          <p:spPr>
            <a:xfrm flipH="1">
              <a:off x="75013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Straight Connector 42"/>
            <p:cNvSpPr/>
            <p:nvPr/>
          </p:nvSpPr>
          <p:spPr>
            <a:xfrm flipH="1">
              <a:off x="78584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Straight Connector 43"/>
            <p:cNvSpPr/>
            <p:nvPr/>
          </p:nvSpPr>
          <p:spPr>
            <a:xfrm flipH="1">
              <a:off x="82141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Straight Connector 44"/>
            <p:cNvSpPr/>
            <p:nvPr/>
          </p:nvSpPr>
          <p:spPr>
            <a:xfrm flipH="1">
              <a:off x="10713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Oval 48"/>
          <p:cNvSpPr/>
          <p:nvPr/>
        </p:nvSpPr>
        <p:spPr>
          <a:xfrm>
            <a:off x="6429240" y="48578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4C7A-C654-4B27-8532-14CE11676C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2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5480" y="1671120"/>
            <a:ext cx="37861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omplex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a number in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pla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 rational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re used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present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75" name="Group 99"/>
          <p:cNvGrpSpPr/>
          <p:nvPr/>
        </p:nvGrpSpPr>
        <p:grpSpPr>
          <a:xfrm>
            <a:off x="1734120" y="1455480"/>
            <a:ext cx="6338520" cy="5045400"/>
            <a:chOff x="1734120" y="1455480"/>
            <a:chExt cx="6338520" cy="5045400"/>
          </a:xfrm>
        </p:grpSpPr>
        <p:grpSp>
          <p:nvGrpSpPr>
            <p:cNvPr id="1176" name="Group 28"/>
            <p:cNvGrpSpPr/>
            <p:nvPr/>
          </p:nvGrpSpPr>
          <p:grpSpPr>
            <a:xfrm>
              <a:off x="2143080" y="5315400"/>
              <a:ext cx="5929560" cy="142560"/>
              <a:chOff x="2143080" y="5315400"/>
              <a:chExt cx="5929560" cy="142560"/>
            </a:xfrm>
          </p:grpSpPr>
          <p:cxnSp>
            <p:nvCxnSpPr>
              <p:cNvPr id="1177" name="Straight Arrow Connector 29"/>
              <p:cNvCxnSpPr/>
              <p:nvPr/>
            </p:nvCxnSpPr>
            <p:spPr>
              <a:xfrm>
                <a:off x="2143080" y="5387400"/>
                <a:ext cx="5929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178" name="Straight Connector 30"/>
              <p:cNvSpPr/>
              <p:nvPr/>
            </p:nvSpPr>
            <p:spPr>
              <a:xfrm flipH="1">
                <a:off x="5079600" y="531828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Straight Connector 31"/>
              <p:cNvSpPr/>
              <p:nvPr/>
            </p:nvSpPr>
            <p:spPr>
              <a:xfrm flipH="1">
                <a:off x="5352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Straight Connector 45"/>
              <p:cNvSpPr/>
              <p:nvPr/>
            </p:nvSpPr>
            <p:spPr>
              <a:xfrm flipH="1">
                <a:off x="562248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Straight Connector 46"/>
              <p:cNvSpPr/>
              <p:nvPr/>
            </p:nvSpPr>
            <p:spPr>
              <a:xfrm flipH="1">
                <a:off x="5895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Straight Connector 47"/>
              <p:cNvSpPr/>
              <p:nvPr/>
            </p:nvSpPr>
            <p:spPr>
              <a:xfrm flipH="1">
                <a:off x="61675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Straight Connector 48"/>
              <p:cNvSpPr/>
              <p:nvPr/>
            </p:nvSpPr>
            <p:spPr>
              <a:xfrm flipH="1">
                <a:off x="6440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Straight Connector 49"/>
              <p:cNvSpPr/>
              <p:nvPr/>
            </p:nvSpPr>
            <p:spPr>
              <a:xfrm flipH="1">
                <a:off x="67104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Straight Connector 50"/>
              <p:cNvSpPr/>
              <p:nvPr/>
            </p:nvSpPr>
            <p:spPr>
              <a:xfrm flipH="1">
                <a:off x="6982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Straight Connector 51"/>
              <p:cNvSpPr/>
              <p:nvPr/>
            </p:nvSpPr>
            <p:spPr>
              <a:xfrm flipH="1">
                <a:off x="2904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Straight Connector 52"/>
              <p:cNvSpPr/>
              <p:nvPr/>
            </p:nvSpPr>
            <p:spPr>
              <a:xfrm flipH="1">
                <a:off x="31766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Straight Connector 53"/>
              <p:cNvSpPr/>
              <p:nvPr/>
            </p:nvSpPr>
            <p:spPr>
              <a:xfrm flipH="1">
                <a:off x="3447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Straight Connector 54"/>
              <p:cNvSpPr/>
              <p:nvPr/>
            </p:nvSpPr>
            <p:spPr>
              <a:xfrm flipH="1">
                <a:off x="37195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Straight Connector 55"/>
              <p:cNvSpPr/>
              <p:nvPr/>
            </p:nvSpPr>
            <p:spPr>
              <a:xfrm flipH="1">
                <a:off x="3992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Straight Connector 56"/>
              <p:cNvSpPr/>
              <p:nvPr/>
            </p:nvSpPr>
            <p:spPr>
              <a:xfrm flipH="1">
                <a:off x="426456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Straight Connector 57"/>
              <p:cNvSpPr/>
              <p:nvPr/>
            </p:nvSpPr>
            <p:spPr>
              <a:xfrm flipH="1">
                <a:off x="4534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Straight Connector 58"/>
              <p:cNvSpPr/>
              <p:nvPr/>
            </p:nvSpPr>
            <p:spPr>
              <a:xfrm flipH="1">
                <a:off x="4807440" y="531540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Straight Connector 59"/>
              <p:cNvSpPr/>
              <p:nvPr/>
            </p:nvSpPr>
            <p:spPr>
              <a:xfrm flipH="1">
                <a:off x="2631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Straight Connector 60"/>
              <p:cNvSpPr/>
              <p:nvPr/>
            </p:nvSpPr>
            <p:spPr>
              <a:xfrm flipH="1">
                <a:off x="7256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Straight Connector 61"/>
              <p:cNvSpPr/>
              <p:nvPr/>
            </p:nvSpPr>
            <p:spPr>
              <a:xfrm flipH="1">
                <a:off x="7527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Straight Connector 62"/>
              <p:cNvSpPr/>
              <p:nvPr/>
            </p:nvSpPr>
            <p:spPr>
              <a:xfrm flipH="1">
                <a:off x="779904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Straight Connector 63"/>
              <p:cNvSpPr/>
              <p:nvPr/>
            </p:nvSpPr>
            <p:spPr>
              <a:xfrm flipH="1">
                <a:off x="2360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64"/>
            <p:cNvGrpSpPr/>
            <p:nvPr/>
          </p:nvGrpSpPr>
          <p:grpSpPr>
            <a:xfrm>
              <a:off x="4439880" y="1455480"/>
              <a:ext cx="189360" cy="5045400"/>
              <a:chOff x="4439880" y="1455480"/>
              <a:chExt cx="189360" cy="5045400"/>
            </a:xfrm>
          </p:grpSpPr>
          <p:cxnSp>
            <p:nvCxnSpPr>
              <p:cNvPr id="1200" name="Straight Arrow Connector 65"/>
              <p:cNvCxnSpPr/>
              <p:nvPr/>
            </p:nvCxnSpPr>
            <p:spPr>
              <a:xfrm flipV="1">
                <a:off x="4535280" y="1455480"/>
                <a:ext cx="2520" cy="504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201" name="Straight Connector 66"/>
              <p:cNvSpPr/>
              <p:nvPr/>
            </p:nvSpPr>
            <p:spPr>
              <a:xfrm>
                <a:off x="4443840" y="40014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Straight Connector 67"/>
              <p:cNvSpPr/>
              <p:nvPr/>
            </p:nvSpPr>
            <p:spPr>
              <a:xfrm>
                <a:off x="4442760" y="376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Straight Connector 68"/>
              <p:cNvSpPr/>
              <p:nvPr/>
            </p:nvSpPr>
            <p:spPr>
              <a:xfrm>
                <a:off x="4442760" y="35395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Straight Connector 69"/>
              <p:cNvSpPr/>
              <p:nvPr/>
            </p:nvSpPr>
            <p:spPr>
              <a:xfrm>
                <a:off x="4441680" y="330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Straight Connector 70"/>
              <p:cNvSpPr/>
              <p:nvPr/>
            </p:nvSpPr>
            <p:spPr>
              <a:xfrm>
                <a:off x="4442760" y="30754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Straight Connector 71"/>
              <p:cNvSpPr/>
              <p:nvPr/>
            </p:nvSpPr>
            <p:spPr>
              <a:xfrm>
                <a:off x="4441680" y="284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Straight Connector 72"/>
              <p:cNvSpPr/>
              <p:nvPr/>
            </p:nvSpPr>
            <p:spPr>
              <a:xfrm>
                <a:off x="4441680" y="2613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Straight Connector 73"/>
              <p:cNvSpPr/>
              <p:nvPr/>
            </p:nvSpPr>
            <p:spPr>
              <a:xfrm>
                <a:off x="4440600" y="2381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Straight Connector 74"/>
              <p:cNvSpPr/>
              <p:nvPr/>
            </p:nvSpPr>
            <p:spPr>
              <a:xfrm>
                <a:off x="4442760" y="58521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Straight Connector 75"/>
              <p:cNvSpPr/>
              <p:nvPr/>
            </p:nvSpPr>
            <p:spPr>
              <a:xfrm>
                <a:off x="4441680" y="5620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Straight Connector 76"/>
              <p:cNvSpPr/>
              <p:nvPr/>
            </p:nvSpPr>
            <p:spPr>
              <a:xfrm>
                <a:off x="4441680" y="53902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Straight Connector 77"/>
              <p:cNvSpPr/>
              <p:nvPr/>
            </p:nvSpPr>
            <p:spPr>
              <a:xfrm>
                <a:off x="4440600" y="51584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Straight Connector 78"/>
              <p:cNvSpPr/>
              <p:nvPr/>
            </p:nvSpPr>
            <p:spPr>
              <a:xfrm>
                <a:off x="4441680" y="4926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Straight Connector 79"/>
              <p:cNvSpPr/>
              <p:nvPr/>
            </p:nvSpPr>
            <p:spPr>
              <a:xfrm>
                <a:off x="4440600" y="4694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Straight Connector 80"/>
              <p:cNvSpPr/>
              <p:nvPr/>
            </p:nvSpPr>
            <p:spPr>
              <a:xfrm>
                <a:off x="4440600" y="4464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Straight Connector 81"/>
              <p:cNvSpPr/>
              <p:nvPr/>
            </p:nvSpPr>
            <p:spPr>
              <a:xfrm>
                <a:off x="4439880" y="42328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Straight Connector 82"/>
              <p:cNvSpPr/>
              <p:nvPr/>
            </p:nvSpPr>
            <p:spPr>
              <a:xfrm>
                <a:off x="4442760" y="608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Straight Connector 83"/>
              <p:cNvSpPr/>
              <p:nvPr/>
            </p:nvSpPr>
            <p:spPr>
              <a:xfrm>
                <a:off x="4442760" y="214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Straight Connector 84"/>
              <p:cNvSpPr/>
              <p:nvPr/>
            </p:nvSpPr>
            <p:spPr>
              <a:xfrm>
                <a:off x="4442760" y="1917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Straight Connector 85"/>
              <p:cNvSpPr/>
              <p:nvPr/>
            </p:nvSpPr>
            <p:spPr>
              <a:xfrm>
                <a:off x="4442760" y="168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Straight Connector 86"/>
              <p:cNvSpPr/>
              <p:nvPr/>
            </p:nvSpPr>
            <p:spPr>
              <a:xfrm>
                <a:off x="4442760" y="63151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2" name="TextBox 87"/>
            <p:cNvSpPr/>
            <p:nvPr/>
          </p:nvSpPr>
          <p:spPr>
            <a:xfrm>
              <a:off x="1734120" y="5600880"/>
              <a:ext cx="63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-4                   -2                    0                   +2                  +4                  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Box 88"/>
            <p:cNvSpPr/>
            <p:nvPr/>
          </p:nvSpPr>
          <p:spPr>
            <a:xfrm>
              <a:off x="3931200" y="43149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TextBox 89"/>
            <p:cNvSpPr/>
            <p:nvPr/>
          </p:nvSpPr>
          <p:spPr>
            <a:xfrm>
              <a:off x="3971520" y="33861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Box 90"/>
            <p:cNvSpPr/>
            <p:nvPr/>
          </p:nvSpPr>
          <p:spPr>
            <a:xfrm>
              <a:off x="3971520" y="245700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Straight Connector 92"/>
            <p:cNvSpPr/>
            <p:nvPr/>
          </p:nvSpPr>
          <p:spPr>
            <a:xfrm flipV="1">
              <a:off x="6164280" y="2814840"/>
              <a:ext cx="1440" cy="292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Straight Connector 94"/>
            <p:cNvSpPr/>
            <p:nvPr/>
          </p:nvSpPr>
          <p:spPr>
            <a:xfrm flipH="1" flipV="1">
              <a:off x="3999960" y="3538800"/>
              <a:ext cx="25714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Oval 97"/>
            <p:cNvSpPr/>
            <p:nvPr/>
          </p:nvSpPr>
          <p:spPr>
            <a:xfrm>
              <a:off x="6019920" y="3405240"/>
              <a:ext cx="285480" cy="285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TextBox 98"/>
          <p:cNvSpPr/>
          <p:nvPr/>
        </p:nvSpPr>
        <p:spPr>
          <a:xfrm>
            <a:off x="5871600" y="19573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 3J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79DB-8774-4EF6-94A0-5BE317AB5CE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real numbers and 3 methods to perform Add, Multiply and return the Reciprocal of a complex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5763-6B2D-428D-8841-3B480D1EC6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54ED-1C29-480A-8319-75EC9E1C76D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,  where i = ¯1 * 0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gineers use the J notation,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j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enote the complex number with a real value of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an imaginary value of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1AE0-DEAE-4361-A5E5-64497F2FBA1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 + C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+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+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+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modifi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7B5A-209E-4D2F-A5F2-EEB28FD5413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42960" y="5572080"/>
            <a:ext cx="4214880" cy="5716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232A-B1F9-4FDE-9F8D-50E7831FADE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82072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2         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(a1×a2) + (b1i × b2i) + (a1×b2i) + (b1i×a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((a1×a2) - (b1 × b2))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((a1×b2) + (b1×a2))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255" name="Group 9"/>
          <p:cNvGrpSpPr/>
          <p:nvPr/>
        </p:nvGrpSpPr>
        <p:grpSpPr>
          <a:xfrm>
            <a:off x="2700360" y="3518280"/>
            <a:ext cx="1295280" cy="705240"/>
            <a:chOff x="2700360" y="3518280"/>
            <a:chExt cx="1295280" cy="705240"/>
          </a:xfrm>
        </p:grpSpPr>
        <p:sp>
          <p:nvSpPr>
            <p:cNvPr id="1256" name="AutoShape 5"/>
            <p:cNvSpPr/>
            <p:nvPr/>
          </p:nvSpPr>
          <p:spPr>
            <a:xfrm rot="5400000">
              <a:off x="2541600" y="373032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AutoShape 6"/>
            <p:cNvSpPr/>
            <p:nvPr/>
          </p:nvSpPr>
          <p:spPr>
            <a:xfrm rot="5400000">
              <a:off x="3589200" y="374148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AutoShape 7"/>
            <p:cNvSpPr/>
            <p:nvPr/>
          </p:nvSpPr>
          <p:spPr>
            <a:xfrm rot="2700000">
              <a:off x="3012840" y="373680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AutoShape 8"/>
            <p:cNvSpPr/>
            <p:nvPr/>
          </p:nvSpPr>
          <p:spPr>
            <a:xfrm rot="8100000">
              <a:off x="2963520" y="375696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86B9-288B-40B9-B6EF-D764080BBE5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complex number is 1÷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ch that        C × R = 1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0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eal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((a1×a2) - (b1 × b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img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((a1×b2) + (b1×a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lv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a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 Ca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Rb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-Cb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075C-73DD-4205-A870-8282AB85AD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comple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70" name="Picture 4" descr=""/>
          <p:cNvPicPr/>
          <p:nvPr/>
        </p:nvPicPr>
        <p:blipFill>
          <a:blip r:embed="rId1"/>
          <a:stretch/>
        </p:blipFill>
        <p:spPr>
          <a:xfrm>
            <a:off x="2195640" y="3362400"/>
            <a:ext cx="43923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6FAA-5D61-4EA1-B8C9-5E3CDD90615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76" name="Picture 5" descr=""/>
          <p:cNvPicPr/>
          <p:nvPr/>
        </p:nvPicPr>
        <p:blipFill>
          <a:blip r:embed="rId1"/>
          <a:stretch/>
        </p:blipFill>
        <p:spPr>
          <a:xfrm>
            <a:off x="1979640" y="2844720"/>
            <a:ext cx="482436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8FA5-E9AD-4FEE-BBD5-4DE01FD3A1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2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82" name="Picture 6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5256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56B2-2A37-4D1A-8E44-9D6FDA0CB4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←⎕NEW complex 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re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complex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j←{⎕new complex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←5 j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.im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D746-9B5E-4E34-88C8-EA3322E1176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c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(real img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4539-E1EF-4FC0-8AB9-BBC9241F64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J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 ⎕DF '3J4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or whatev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9BAF-5F2B-4577-8DAB-3829817401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img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properties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2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3E38-C24B-4745-ADA8-9DABA1A412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08" name="Picture 6" descr=""/>
          <p:cNvPicPr/>
          <p:nvPr/>
        </p:nvPicPr>
        <p:blipFill>
          <a:blip r:embed="rId1"/>
          <a:stretch/>
        </p:blipFill>
        <p:spPr>
          <a:xfrm>
            <a:off x="2124000" y="2847960"/>
            <a:ext cx="45356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45BD-B830-415F-8AA2-1A0CCDBCBE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2.41962E-006 L -0.54132 0.21582 E">
                                      <p:cBhvr>
                                        <p:cTn id="4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D3A4-3015-465A-842C-521ADF445B8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c1  complex.plu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BC99-D6B5-4A73-B898-F76CD9314C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19" name="Picture 4" descr=""/>
          <p:cNvPicPr/>
          <p:nvPr/>
        </p:nvPicPr>
        <p:blipFill>
          <a:blip r:embed="rId1"/>
          <a:stretch/>
        </p:blipFill>
        <p:spPr>
          <a:xfrm>
            <a:off x="1763640" y="2954160"/>
            <a:ext cx="547236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27F2-3021-4C81-9377-169A3924980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c1  complex.time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DF55-7689-4B49-94BE-CDFD32130F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30" name="Picture 5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113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D5A1-D0A2-4C46-A58B-284B41B362B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omplex.plus/4⍴c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real  img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4⍴c1     ⍝ 12 1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times\3⍴c1   ⍝ 3 4  ¯7 24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c1 complex.times¨4⍴c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1AE6-C664-4C7B-87C5-DDA99F89E1C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 ÷ c1   or   c1 × ÷c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2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2.52   0.64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97FF-B9C1-466A-B5E0-EA88FEE85E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magnitude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8D1A-8C05-4067-BC4B-6E671D7A88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 with 2 integers representing fr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Numerator &amp; a Denomina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.:  3 / 7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th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F4D8-CA08-458F-9D23-7CF0CD9615B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integer numbers and 3 methods to perform Add, Multiply and return the Reciprocal of a pair of simple numbers representing a f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E20A-0427-43C0-B5E9-6A53BD49E9E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not be stored as a unit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ly 1 workspace item per component (variable or function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ed to cleanup when finish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B94E-4047-402E-BE69-60FD1770997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1457-A9BC-4C9A-9675-B305F65DC3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ill be stored in a vector (2 elem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will be two properties to access them individu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C223-CFF3-419E-8916-8188B49AAD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simple numbers (frac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+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d2 + n2 x 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simple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x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n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simple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÷S1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n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7D04-7633-4EF7-86A3-3CAA046356E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simp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76" name="Picture 2" descr=""/>
          <p:cNvPicPr/>
          <p:nvPr/>
        </p:nvPicPr>
        <p:blipFill>
          <a:blip r:embed="rId1"/>
          <a:stretch/>
        </p:blipFill>
        <p:spPr>
          <a:xfrm>
            <a:off x="2571840" y="3286080"/>
            <a:ext cx="407196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B4A2-FC0B-45FE-99EE-9ED1F9E5D88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82" name="Picture 2" descr=""/>
          <p:cNvPicPr/>
          <p:nvPr/>
        </p:nvPicPr>
        <p:blipFill>
          <a:blip r:embed="rId1"/>
          <a:stretch/>
        </p:blipFill>
        <p:spPr>
          <a:xfrm>
            <a:off x="2500200" y="2857680"/>
            <a:ext cx="44370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7D4E-83FF-409C-A70C-268D57E1408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88" name="Picture 2" descr=""/>
          <p:cNvPicPr/>
          <p:nvPr/>
        </p:nvPicPr>
        <p:blipFill>
          <a:blip r:embed="rId1"/>
          <a:stretch/>
        </p:blipFill>
        <p:spPr>
          <a:xfrm>
            <a:off x="2643120" y="2928960"/>
            <a:ext cx="44290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5FA7-EFCC-4B99-98E4-4CF78F6BAF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t this point the class does not do anyth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umbers’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s private and cannot be accessed from outsi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Let’s create properties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7883-18C0-40A0-9692-2CB4414039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properties, they take 1 number to set a value in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99" name="Picture 2" descr=""/>
          <p:cNvPicPr/>
          <p:nvPr/>
        </p:nvPicPr>
        <p:blipFill>
          <a:blip r:embed="rId1"/>
          <a:stretch/>
        </p:blipFill>
        <p:spPr>
          <a:xfrm>
            <a:off x="2000160" y="2906640"/>
            <a:ext cx="5072040" cy="3094200"/>
          </a:xfrm>
          <a:prstGeom prst="rect">
            <a:avLst/>
          </a:prstGeom>
          <a:ln w="0">
            <a:noFill/>
          </a:ln>
        </p:spPr>
      </p:pic>
      <p:sp>
        <p:nvSpPr>
          <p:cNvPr id="1400" name="Rectangle 7"/>
          <p:cNvSpPr/>
          <p:nvPr/>
        </p:nvSpPr>
        <p:spPr>
          <a:xfrm>
            <a:off x="4062240" y="3684600"/>
            <a:ext cx="2858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149E-6D3D-4F88-968E-AAFA42A0E4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←⎕NEW simple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simple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←{⎕new simple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←5 s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 txBox="1"/>
          <p:nvPr/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enter the second property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80AD-F91B-46DD-BC1B-77BD8D8BC45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Picture 9" descr=""/>
          <p:cNvPicPr/>
          <p:nvPr/>
        </p:nvPicPr>
        <p:blipFill>
          <a:blip r:embed="rId1"/>
          <a:stretch/>
        </p:blipFill>
        <p:spPr>
          <a:xfrm>
            <a:off x="1500120" y="2786040"/>
            <a:ext cx="61437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552F-22C3-44D8-A20A-D1ABB9DDB2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s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(N  D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(solu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ackag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over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roup items (vars &amp; fns) togeth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ct as a (static) un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stored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copied, like wss, into existing code and dispersed in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E4BA-7727-475F-9A49-A4A0C728004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36B8-82DE-4D07-8DF4-E6F3499CB0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/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 ⎕DF '3/4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CEB6-CDAF-423D-9338-705B888536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s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 it had bef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properties’ code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930F-C7C1-4882-B74E-1F21C5ACB2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32" name="Picture 8" descr=""/>
          <p:cNvPicPr/>
          <p:nvPr/>
        </p:nvPicPr>
        <p:blipFill>
          <a:blip r:embed="rId1"/>
          <a:stretch/>
        </p:blipFill>
        <p:spPr>
          <a:xfrm>
            <a:off x="2143080" y="2705040"/>
            <a:ext cx="478620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F0FE-203C-4B98-81CC-07F2F6A033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s1  simple.plu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ADAF-CD3D-4B8D-8DFD-C4480F727E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thod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43" name="Picture 8" descr=""/>
          <p:cNvPicPr/>
          <p:nvPr/>
        </p:nvPicPr>
        <p:blipFill>
          <a:blip r:embed="rId1"/>
          <a:stretch/>
        </p:blipFill>
        <p:spPr>
          <a:xfrm>
            <a:off x="1785960" y="2714760"/>
            <a:ext cx="5500800" cy="32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58CF-E04B-43F0-82FC-9A1938567F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s1  simple.time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F6D4-2BB8-4565-900B-18916CD645F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4" name="Picture 8" descr=""/>
          <p:cNvPicPr/>
          <p:nvPr/>
        </p:nvPicPr>
        <p:blipFill>
          <a:blip r:embed="rId1"/>
          <a:stretch/>
        </p:blipFill>
        <p:spPr>
          <a:xfrm>
            <a:off x="1857240" y="2786040"/>
            <a:ext cx="542952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8100-CA5B-48C3-9612-3E21D0E9DE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imple.plus/4⍴s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N ‘/’ D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4⍴s1     ⍝ 22/1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times\3⍴s1   ⍝ 11/2 121/4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s1 simple.times¨4⍴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5D8D-FA86-4E02-800E-B87E416DE5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 ÷ s1   or   s1 × ÷s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2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5/6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881F-A579-4733-85F5-7BA5F200875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square, abs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this into a complex number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pack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ere only a partial solution to a more general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still happen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ean up was still need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B320-A0F7-4FA3-B154-844D30B8CC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04D1-C6F3-48B1-BF0E-16105ED9F6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/>
          </p:nvPr>
        </p:nvSpPr>
        <p:spPr>
          <a:xfrm>
            <a:off x="610920" y="187632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94F3-3538-4781-96B1-6631176A29F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3E20-D0DD-42AF-BD5D-0E79CD53A5C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/>
          </p:nvPr>
        </p:nvSpPr>
        <p:spPr>
          <a:xfrm>
            <a:off x="250560" y="191736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FFA5-9216-4C20-921F-991697756B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458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5814-0895-451E-A2D8-A8FF39A597D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/>
          </p:nvPr>
        </p:nvSpPr>
        <p:spPr>
          <a:xfrm>
            <a:off x="3059280" y="3610080"/>
            <a:ext cx="34574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uyer bewar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80s a company came up with the concept of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amespa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probably from other languages like C++ and Jav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s are like workspaces but nes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E65C-840D-47F3-BF4A-1AC19EB5F4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14240" y="16426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1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1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1,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n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at struc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4D20-48BB-4DA0-B793-0720A3B4CA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2861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6429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8E95-44DB-43CF-BE2E-338555C0F7F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3068640"/>
            <a:ext cx="813420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endParaRPr b="0" lang="en-US" sz="4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258920" y="171468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V11 was released in 200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jor features wa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0344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2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8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ir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s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lder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amespace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f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x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pb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ch.log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bjxv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ee (nested) struc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CD2E-F650-48C6-ABAF-DC070943EE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357800" y="2143080"/>
            <a:ext cx="264312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714240" y="2143080"/>
            <a:ext cx="264348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429080" y="219384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776160" y="218448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286240" y="4357800"/>
            <a:ext cx="1490760" cy="1041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1071720" y="4357800"/>
            <a:ext cx="1490400" cy="1071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4429080" y="3643200"/>
            <a:ext cx="2428920" cy="18129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765000" y="3602160"/>
            <a:ext cx="2021040" cy="18777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99680" y="1500120"/>
            <a:ext cx="83581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ontains functions, variables (including some system variabl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an contain an entire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acts as a unit: it can be put as a single item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ynam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it can be moved into to execute code, no need to disperse cont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3E4A-0F49-40F6-B9E6-1762405B789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5840" y="1690560"/>
            <a:ext cx="885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ike a workspace, if you need to tweak one you take a copy and modify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orkspace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myAp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&lt;-[]NS []OR ’myApp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&lt;-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.A&lt;-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 newApp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A9CD-9160-4A73-9A68-F1A98B11DF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Reusabilit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one of the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template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namespace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7EFE-CF74-461F-89EA-33D049BD52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Right Arrow 7"/>
          <p:cNvSpPr/>
          <p:nvPr/>
        </p:nvSpPr>
        <p:spPr>
          <a:xfrm>
            <a:off x="3124080" y="402912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Reusabilit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very much like namespa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class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class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7F5A-D9C0-4C5E-A06C-86BBA23CC54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Right Arrow 7"/>
          <p:cNvSpPr/>
          <p:nvPr/>
        </p:nvSpPr>
        <p:spPr>
          <a:xfrm>
            <a:off x="1928880" y="4024440"/>
            <a:ext cx="428400" cy="28548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O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is based on namespaces and supports many OO concep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APL is based on namespaces and supports many OO concepts.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well hand in hand toge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ADBF-A419-43D6-9495-78123FE6D9F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E4D2-D3D9-44B7-AA6A-95256A3E13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Dyalo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838836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not new! The ability to us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create classes was already in V10 but it was more difficult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46" name="Group 8"/>
          <p:cNvGrpSpPr/>
          <p:nvPr/>
        </p:nvGrpSpPr>
        <p:grpSpPr>
          <a:xfrm>
            <a:off x="250920" y="3200400"/>
            <a:ext cx="8713800" cy="3036960"/>
            <a:chOff x="250920" y="3200400"/>
            <a:chExt cx="8713800" cy="303696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3200400"/>
              <a:ext cx="291456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6" descr=""/>
            <p:cNvPicPr/>
            <p:nvPr/>
          </p:nvPicPr>
          <p:blipFill>
            <a:blip r:embed="rId2"/>
            <a:stretch/>
          </p:blipFill>
          <p:spPr>
            <a:xfrm>
              <a:off x="3316320" y="3200400"/>
              <a:ext cx="2192400" cy="30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" descr=""/>
            <p:cNvPicPr/>
            <p:nvPr/>
          </p:nvPicPr>
          <p:blipFill>
            <a:blip r:embed="rId3"/>
            <a:stretch/>
          </p:blipFill>
          <p:spPr>
            <a:xfrm>
              <a:off x="5707080" y="3200400"/>
              <a:ext cx="3257640" cy="303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9C50-D730-46B5-9B68-EACBFB58FC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09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lementary data elements (like int) and arrays of them (all the s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ructures (like {i: int; d: date}), many elementary elements or structures (recursiv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amespaces (structures whose elements are referred to by name). They include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(namespaces with initializers &amp; cleaner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0CCF-AA4C-4AE9-AB5C-DFFF713A03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 in Dyalog APL (DYW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2207880"/>
            <a:ext cx="77724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DYW all these objects exis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often simulate one by ano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: a table of names &amp; values can represent a namespace of variab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W can also store the ⎕OR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ABE5-EC34-4AC9-8D13-FC81901F1B5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151560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raditional (procedural)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116000" y="2492280"/>
            <a:ext cx="6624720" cy="3744720"/>
            <a:chOff x="1116000" y="2492280"/>
            <a:chExt cx="6624720" cy="3744720"/>
          </a:xfrm>
        </p:grpSpPr>
        <p:sp>
          <p:nvSpPr>
            <p:cNvPr id="266" name="Line 11"/>
            <p:cNvSpPr/>
            <p:nvPr/>
          </p:nvSpPr>
          <p:spPr>
            <a:xfrm>
              <a:off x="4322880" y="249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4"/>
            <p:cNvSpPr/>
            <p:nvPr/>
          </p:nvSpPr>
          <p:spPr>
            <a:xfrm>
              <a:off x="1116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5"/>
            <p:cNvSpPr/>
            <p:nvPr/>
          </p:nvSpPr>
          <p:spPr>
            <a:xfrm>
              <a:off x="1116000" y="4005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2484360" y="5013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7"/>
            <p:cNvSpPr/>
            <p:nvPr/>
          </p:nvSpPr>
          <p:spPr>
            <a:xfrm>
              <a:off x="7020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8"/>
            <p:cNvSpPr/>
            <p:nvPr/>
          </p:nvSpPr>
          <p:spPr>
            <a:xfrm>
              <a:off x="3780000" y="2997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9"/>
            <p:cNvSpPr/>
            <p:nvPr/>
          </p:nvSpPr>
          <p:spPr>
            <a:xfrm>
              <a:off x="3778200" y="4005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0"/>
            <p:cNvSpPr/>
            <p:nvPr/>
          </p:nvSpPr>
          <p:spPr>
            <a:xfrm>
              <a:off x="3780000" y="5013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>
              <a:off x="4327560" y="573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4327560" y="37159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431316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AutoShape 15"/>
            <p:cNvCxnSpPr>
              <a:stCxn id="267" idx="5"/>
              <a:endCxn id="271" idx="1"/>
            </p:cNvCxnSpPr>
            <p:nvPr/>
          </p:nvCxnSpPr>
          <p:spPr>
            <a:xfrm flipV="1">
              <a:off x="1763280" y="3356640"/>
              <a:ext cx="201708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8" name="AutoShape 16"/>
            <p:cNvCxnSpPr>
              <a:stCxn id="271" idx="3"/>
              <a:endCxn id="270" idx="2"/>
            </p:cNvCxnSpPr>
            <p:nvPr/>
          </p:nvCxnSpPr>
          <p:spPr>
            <a:xfrm>
              <a:off x="4860720" y="3357000"/>
              <a:ext cx="22309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9" name="AutoShape 17"/>
            <p:cNvCxnSpPr>
              <a:stCxn id="268" idx="5"/>
              <a:endCxn id="271" idx="1"/>
            </p:cNvCxnSpPr>
            <p:nvPr/>
          </p:nvCxnSpPr>
          <p:spPr>
            <a:xfrm flipV="1">
              <a:off x="1763280" y="3356640"/>
              <a:ext cx="2017080" cy="118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AutoShape 18"/>
            <p:cNvCxnSpPr>
              <a:stCxn id="268" idx="5"/>
              <a:endCxn id="272" idx="1"/>
            </p:cNvCxnSpPr>
            <p:nvPr/>
          </p:nvCxnSpPr>
          <p:spPr>
            <a:xfrm flipV="1">
              <a:off x="1763640" y="4364640"/>
              <a:ext cx="201528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AutoShape 19"/>
            <p:cNvCxnSpPr>
              <a:stCxn id="272" idx="3"/>
              <a:endCxn id="270" idx="2"/>
            </p:cNvCxnSpPr>
            <p:nvPr/>
          </p:nvCxnSpPr>
          <p:spPr>
            <a:xfrm flipV="1">
              <a:off x="4859280" y="3393000"/>
              <a:ext cx="223272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" name="AutoShape 20"/>
            <p:cNvCxnSpPr>
              <a:stCxn id="269" idx="5"/>
              <a:endCxn id="273" idx="1"/>
            </p:cNvCxnSpPr>
            <p:nvPr/>
          </p:nvCxnSpPr>
          <p:spPr>
            <a:xfrm flipV="1">
              <a:off x="3132000" y="5372640"/>
              <a:ext cx="64836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974E-608D-4A68-8A4F-D9073E06DC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eneva"/>
              </a:rPr>
              <a:t>This presentation is based on two things: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2600" y="2852640"/>
            <a:ext cx="828684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What is Object Orientation programming? 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How do I use it in APL?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68360" y="1557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F3AE-48AD-4878-A912-2E1690955E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same in traditional APL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88" name="Group 33"/>
          <p:cNvGrpSpPr/>
          <p:nvPr/>
        </p:nvGrpSpPr>
        <p:grpSpPr>
          <a:xfrm>
            <a:off x="1042920" y="3068640"/>
            <a:ext cx="4321080" cy="1944720"/>
            <a:chOff x="1042920" y="3068640"/>
            <a:chExt cx="4321080" cy="1944720"/>
          </a:xfrm>
        </p:grpSpPr>
        <p:pic>
          <p:nvPicPr>
            <p:cNvPr id="289" name="Picture 25" descr=""/>
            <p:cNvPicPr/>
            <p:nvPr/>
          </p:nvPicPr>
          <p:blipFill>
            <a:blip r:embed="rId1"/>
            <a:stretch/>
          </p:blipFill>
          <p:spPr>
            <a:xfrm>
              <a:off x="1042920" y="3068640"/>
              <a:ext cx="4321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26"/>
            <p:cNvSpPr/>
            <p:nvPr/>
          </p:nvSpPr>
          <p:spPr>
            <a:xfrm>
              <a:off x="109080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7"/>
            <p:cNvSpPr/>
            <p:nvPr/>
          </p:nvSpPr>
          <p:spPr>
            <a:xfrm>
              <a:off x="2432880" y="4411440"/>
              <a:ext cx="75672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8"/>
            <p:cNvSpPr/>
            <p:nvPr/>
          </p:nvSpPr>
          <p:spPr>
            <a:xfrm>
              <a:off x="1090800" y="37058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9"/>
            <p:cNvSpPr/>
            <p:nvPr/>
          </p:nvSpPr>
          <p:spPr>
            <a:xfrm>
              <a:off x="2584080" y="37112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0"/>
            <p:cNvSpPr/>
            <p:nvPr/>
          </p:nvSpPr>
          <p:spPr>
            <a:xfrm>
              <a:off x="3489120" y="37087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1"/>
            <p:cNvSpPr/>
            <p:nvPr/>
          </p:nvSpPr>
          <p:spPr>
            <a:xfrm>
              <a:off x="378504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2"/>
            <p:cNvSpPr/>
            <p:nvPr/>
          </p:nvSpPr>
          <p:spPr>
            <a:xfrm>
              <a:off x="4387320" y="37033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1"/>
          <p:cNvGrpSpPr/>
          <p:nvPr/>
        </p:nvGrpSpPr>
        <p:grpSpPr>
          <a:xfrm>
            <a:off x="6299280" y="2421000"/>
            <a:ext cx="2376360" cy="3600000"/>
            <a:chOff x="6299280" y="2421000"/>
            <a:chExt cx="2376360" cy="3600000"/>
          </a:xfrm>
        </p:grpSpPr>
        <p:sp>
          <p:nvSpPr>
            <p:cNvPr id="298" name="Line 52"/>
            <p:cNvSpPr/>
            <p:nvPr/>
          </p:nvSpPr>
          <p:spPr>
            <a:xfrm>
              <a:off x="7449480" y="242100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53"/>
            <p:cNvSpPr/>
            <p:nvPr/>
          </p:nvSpPr>
          <p:spPr>
            <a:xfrm>
              <a:off x="629928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54"/>
            <p:cNvSpPr/>
            <p:nvPr/>
          </p:nvSpPr>
          <p:spPr>
            <a:xfrm>
              <a:off x="6299280" y="387540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55"/>
            <p:cNvSpPr/>
            <p:nvPr/>
          </p:nvSpPr>
          <p:spPr>
            <a:xfrm>
              <a:off x="6789960" y="48445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56"/>
            <p:cNvSpPr/>
            <p:nvPr/>
          </p:nvSpPr>
          <p:spPr>
            <a:xfrm>
              <a:off x="841716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57"/>
            <p:cNvSpPr/>
            <p:nvPr/>
          </p:nvSpPr>
          <p:spPr>
            <a:xfrm>
              <a:off x="7254720" y="29059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58"/>
            <p:cNvSpPr/>
            <p:nvPr/>
          </p:nvSpPr>
          <p:spPr>
            <a:xfrm>
              <a:off x="7254000" y="387540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59"/>
            <p:cNvSpPr/>
            <p:nvPr/>
          </p:nvSpPr>
          <p:spPr>
            <a:xfrm>
              <a:off x="7254720" y="48445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60"/>
            <p:cNvSpPr/>
            <p:nvPr/>
          </p:nvSpPr>
          <p:spPr>
            <a:xfrm>
              <a:off x="7451280" y="553608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61"/>
            <p:cNvSpPr/>
            <p:nvPr/>
          </p:nvSpPr>
          <p:spPr>
            <a:xfrm>
              <a:off x="7451280" y="3597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62"/>
            <p:cNvSpPr/>
            <p:nvPr/>
          </p:nvSpPr>
          <p:spPr>
            <a:xfrm>
              <a:off x="7446240" y="456696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9" name="AutoShape 63"/>
            <p:cNvCxnSpPr>
              <a:stCxn id="299" idx="5"/>
              <a:endCxn id="303" idx="1"/>
            </p:cNvCxnSpPr>
            <p:nvPr/>
          </p:nvCxnSpPr>
          <p:spPr>
            <a:xfrm flipV="1">
              <a:off x="6531120" y="3251880"/>
              <a:ext cx="72396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0" name="AutoShape 64"/>
            <p:cNvCxnSpPr>
              <a:stCxn id="303" idx="3"/>
              <a:endCxn id="302" idx="2"/>
            </p:cNvCxnSpPr>
            <p:nvPr/>
          </p:nvCxnSpPr>
          <p:spPr>
            <a:xfrm>
              <a:off x="7642800" y="3252240"/>
              <a:ext cx="80064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1" name="AutoShape 65"/>
            <p:cNvCxnSpPr>
              <a:stCxn id="300" idx="5"/>
              <a:endCxn id="303" idx="1"/>
            </p:cNvCxnSpPr>
            <p:nvPr/>
          </p:nvCxnSpPr>
          <p:spPr>
            <a:xfrm flipV="1">
              <a:off x="6531120" y="3251880"/>
              <a:ext cx="72396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AutoShape 66"/>
            <p:cNvCxnSpPr>
              <a:stCxn id="300" idx="5"/>
              <a:endCxn id="304" idx="1"/>
            </p:cNvCxnSpPr>
            <p:nvPr/>
          </p:nvCxnSpPr>
          <p:spPr>
            <a:xfrm flipV="1">
              <a:off x="6531120" y="4221000"/>
              <a:ext cx="72324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AutoShape 67"/>
            <p:cNvCxnSpPr>
              <a:stCxn id="304" idx="3"/>
              <a:endCxn id="302" idx="2"/>
            </p:cNvCxnSpPr>
            <p:nvPr/>
          </p:nvCxnSpPr>
          <p:spPr>
            <a:xfrm flipV="1">
              <a:off x="7642080" y="3287160"/>
              <a:ext cx="801360" cy="93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AutoShape 68"/>
            <p:cNvCxnSpPr>
              <a:stCxn id="301" idx="5"/>
              <a:endCxn id="305" idx="1"/>
            </p:cNvCxnSpPr>
            <p:nvPr/>
          </p:nvCxnSpPr>
          <p:spPr>
            <a:xfrm flipV="1">
              <a:off x="7021800" y="5190120"/>
              <a:ext cx="23292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43FF-BC4D-4198-BFDE-66A5879FB4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4360" y="158724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OO systems, data is more tightly coupled with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20" name="Group 26"/>
          <p:cNvGrpSpPr/>
          <p:nvPr/>
        </p:nvGrpSpPr>
        <p:grpSpPr>
          <a:xfrm>
            <a:off x="1000080" y="3500280"/>
            <a:ext cx="3024360" cy="1656000"/>
            <a:chOff x="1000080" y="3500280"/>
            <a:chExt cx="3024360" cy="1656000"/>
          </a:xfrm>
        </p:grpSpPr>
        <p:sp>
          <p:nvSpPr>
            <p:cNvPr id="321" name="AutoShape 8"/>
            <p:cNvSpPr/>
            <p:nvPr/>
          </p:nvSpPr>
          <p:spPr>
            <a:xfrm>
              <a:off x="1000080" y="3500280"/>
              <a:ext cx="3024360" cy="165600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4"/>
            <p:cNvSpPr/>
            <p:nvPr/>
          </p:nvSpPr>
          <p:spPr>
            <a:xfrm>
              <a:off x="12157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7"/>
            <p:cNvSpPr/>
            <p:nvPr/>
          </p:nvSpPr>
          <p:spPr>
            <a:xfrm>
              <a:off x="30895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AutoShape 9"/>
          <p:cNvSpPr/>
          <p:nvPr/>
        </p:nvSpPr>
        <p:spPr>
          <a:xfrm>
            <a:off x="6804000" y="31417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>
            <a:off x="6804000" y="4043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8"/>
          <p:cNvSpPr/>
          <p:nvPr/>
        </p:nvSpPr>
        <p:spPr>
          <a:xfrm>
            <a:off x="6804000" y="4970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9"/>
          <p:cNvSpPr/>
          <p:nvPr/>
        </p:nvSpPr>
        <p:spPr>
          <a:xfrm>
            <a:off x="7307280" y="38908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0"/>
          <p:cNvSpPr/>
          <p:nvPr/>
        </p:nvSpPr>
        <p:spPr>
          <a:xfrm>
            <a:off x="7307280" y="4789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1"/>
          <p:cNvSpPr/>
          <p:nvPr/>
        </p:nvSpPr>
        <p:spPr>
          <a:xfrm>
            <a:off x="7307280" y="569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2"/>
          <p:cNvSpPr/>
          <p:nvPr/>
        </p:nvSpPr>
        <p:spPr>
          <a:xfrm>
            <a:off x="7307280" y="2757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3"/>
          <p:cNvSpPr/>
          <p:nvPr/>
        </p:nvSpPr>
        <p:spPr>
          <a:xfrm>
            <a:off x="3714840" y="4286160"/>
            <a:ext cx="3313080" cy="216000"/>
          </a:xfrm>
          <a:prstGeom prst="leftRightArrow">
            <a:avLst>
              <a:gd name="adj1" fmla="val 50000"/>
              <a:gd name="adj2" fmla="val 305346"/>
            </a:avLst>
          </a:prstGeom>
          <a:solidFill>
            <a:srgbClr val="79008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7000920" y="4143240"/>
            <a:ext cx="26172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7462800" y="4143240"/>
            <a:ext cx="26028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A0A1-BDDE-465F-9E9F-B97831CD88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me thing in OO APL system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9" name="Group 21"/>
          <p:cNvGrpSpPr/>
          <p:nvPr/>
        </p:nvGrpSpPr>
        <p:grpSpPr>
          <a:xfrm>
            <a:off x="1000080" y="3143160"/>
            <a:ext cx="3457800" cy="2008440"/>
            <a:chOff x="1000080" y="3143160"/>
            <a:chExt cx="3457800" cy="2008440"/>
          </a:xfrm>
        </p:grpSpPr>
        <p:sp>
          <p:nvSpPr>
            <p:cNvPr id="340" name="AutoShape 5"/>
            <p:cNvSpPr/>
            <p:nvPr/>
          </p:nvSpPr>
          <p:spPr>
            <a:xfrm>
              <a:off x="1000080" y="3143160"/>
              <a:ext cx="3457800" cy="20084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6"/>
            <p:cNvSpPr/>
            <p:nvPr/>
          </p:nvSpPr>
          <p:spPr>
            <a:xfrm>
              <a:off x="1246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>
              <a:off x="3388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AutoShape 8"/>
          <p:cNvSpPr/>
          <p:nvPr/>
        </p:nvSpPr>
        <p:spPr>
          <a:xfrm>
            <a:off x="5076720" y="28242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3"/>
          <p:cNvSpPr/>
          <p:nvPr/>
        </p:nvSpPr>
        <p:spPr>
          <a:xfrm>
            <a:off x="5076720" y="3726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4"/>
          <p:cNvSpPr/>
          <p:nvPr/>
        </p:nvSpPr>
        <p:spPr>
          <a:xfrm>
            <a:off x="5076720" y="4653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5580000" y="35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558000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>
            <a:off x="5580000" y="2440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5464080" y="430380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5072040" y="3714840"/>
            <a:ext cx="1096920" cy="73656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5149800" y="3843360"/>
            <a:ext cx="26208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5829480" y="3843360"/>
            <a:ext cx="26172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28"/>
          <p:cNvSpPr/>
          <p:nvPr/>
        </p:nvSpPr>
        <p:spPr>
          <a:xfrm>
            <a:off x="4456080" y="3147840"/>
            <a:ext cx="615960" cy="5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30"/>
          <p:cNvSpPr/>
          <p:nvPr/>
        </p:nvSpPr>
        <p:spPr>
          <a:xfrm flipV="1">
            <a:off x="4471200" y="4446720"/>
            <a:ext cx="590760" cy="72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5572080" y="4500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AD6-24BB-458B-8139-90767858F26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4"/>
          <p:cNvSpPr txBox="1"/>
          <p:nvPr/>
        </p:nvSpPr>
        <p:spPr>
          <a:xfrm>
            <a:off x="826920" y="270828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fc20"/>
                    </a:gs>
                    <a:gs pos="100000">
                      <a:srgbClr val="bed81b"/>
                    </a:gs>
                  </a:gsLst>
                  <a:lin ang="5400000"/>
                </a:gradFill>
                <a:latin typeface="Times New Roman"/>
              </a:rPr>
              <a:t>Definition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fc20"/>
                  </a:gs>
                  <a:gs pos="100000">
                    <a:srgbClr val="bed81b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08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106992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Object Oriented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F207-B098-4CC5-BA05-F9D0713F62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660320"/>
            <a:ext cx="7989840" cy="68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bject Oriented paradigm is based 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338560" y="2517840"/>
            <a:ext cx="446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&amp;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7748-85D1-4F18-B3B4-937253A3C4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750680"/>
            <a:ext cx="83516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1. 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fines the abstract characteristics of som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, akin to a bluepri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describes a collection of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members (data and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asses can be nes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FF2F-0FF4-4BFF-97F2-9BA2E0F11A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ex: House blueprint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8" name="Group 11"/>
          <p:cNvGrpSpPr/>
          <p:nvPr/>
        </p:nvGrpSpPr>
        <p:grpSpPr>
          <a:xfrm>
            <a:off x="3203280" y="3860640"/>
            <a:ext cx="3097440" cy="1944720"/>
            <a:chOff x="3203280" y="3860640"/>
            <a:chExt cx="3097440" cy="1944720"/>
          </a:xfrm>
        </p:grpSpPr>
        <p:sp>
          <p:nvSpPr>
            <p:cNvPr id="379" name="Rectangle 4"/>
            <p:cNvSpPr/>
            <p:nvPr/>
          </p:nvSpPr>
          <p:spPr>
            <a:xfrm>
              <a:off x="3564000" y="4581360"/>
              <a:ext cx="2376360" cy="12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3203280" y="3860640"/>
              <a:ext cx="1584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H="1" flipV="1">
              <a:off x="4788000" y="3860640"/>
              <a:ext cx="15127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3786120" y="5000400"/>
              <a:ext cx="85716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5143680" y="5143320"/>
              <a:ext cx="3571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B02F-0D3B-4D31-A4E4-4B0FC3F3B73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000" y="17334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class implements an interface it should do it completely, no partial implementation is allow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B0D4-75CB-4C03-96E0-2D78F076FF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7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nterfa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how to communicate with an objec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electrical system &amp; electrical outl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94" name="Picture 7" descr="C:\Users\Danb\Pictures\outlet.jpg"/>
          <p:cNvPicPr/>
          <p:nvPr/>
        </p:nvPicPr>
        <p:blipFill>
          <a:blip r:embed="rId1"/>
          <a:stretch/>
        </p:blipFill>
        <p:spPr>
          <a:xfrm>
            <a:off x="3049560" y="4043520"/>
            <a:ext cx="280836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F4CA-79DD-4859-A302-9C76438429D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4920" y="182052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llowing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A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tee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direction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where to g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lerat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power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go fast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lowDow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strength); // go slow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C423-06CF-4049-81E4-AA7F559A3B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ve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39640" y="2449440"/>
            <a:ext cx="410364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History of OO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Definitions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The APL way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EDD0-02B9-4628-9231-4C878B104D7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7" descr="carcockpit3"/>
          <p:cNvPicPr/>
          <p:nvPr/>
        </p:nvPicPr>
        <p:blipFill>
          <a:blip r:embed="rId1"/>
          <a:stretch/>
        </p:blipFill>
        <p:spPr>
          <a:xfrm>
            <a:off x="5943600" y="1916280"/>
            <a:ext cx="3205080" cy="424944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1080" y="1371240"/>
            <a:ext cx="82072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179280" y="2085840"/>
            <a:ext cx="62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ar : 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eeringWhe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urn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as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ush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reak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hit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A0BE-FAA5-4283-8D51-B3EB7CB25CF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cockpit2"/>
          <p:cNvPicPr/>
          <p:nvPr/>
        </p:nvPicPr>
        <p:blipFill>
          <a:blip r:embed="rId1"/>
          <a:stretch/>
        </p:blipFill>
        <p:spPr>
          <a:xfrm>
            <a:off x="5722920" y="2060640"/>
            <a:ext cx="3421080" cy="4032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5330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250920" y="2157480"/>
            <a:ext cx="576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Yok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mov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and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p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la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degre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BFD0-6926-49CF-B9FA-BCF5ADAA30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589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tangibl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created from a specific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creation any specific action is carried out by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code) of the class if some sort of initialization is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destruction,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responsible for cleaning up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8397-9F0C-483B-B996-C54C0E03D33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38178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ew House (Blue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24" name="Group 11" descr=""/>
          <p:cNvPicPr/>
          <p:nvPr/>
        </p:nvPicPr>
        <p:blipFill>
          <a:blip r:embed="rId1"/>
          <a:stretch/>
        </p:blipFill>
        <p:spPr>
          <a:xfrm>
            <a:off x="3054240" y="2981160"/>
            <a:ext cx="3121200" cy="1968840"/>
          </a:xfrm>
          <a:prstGeom prst="rect">
            <a:avLst/>
          </a:prstGeom>
          <a:ln w="0">
            <a:noFill/>
          </a:ln>
        </p:spPr>
      </p:pic>
      <p:sp>
        <p:nvSpPr>
          <p:cNvPr id="425" name="Isosceles Triangle 12"/>
          <p:cNvSpPr/>
          <p:nvPr/>
        </p:nvSpPr>
        <p:spPr>
          <a:xfrm>
            <a:off x="3429000" y="2998800"/>
            <a:ext cx="2428920" cy="716040"/>
          </a:xfrm>
          <a:prstGeom prst="triangle">
            <a:avLst>
              <a:gd name="adj" fmla="val 49574"/>
            </a:avLst>
          </a:pr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605520" y="5072040"/>
            <a:ext cx="740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the creation of the new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or paints it i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778B-393E-4379-9C3D-544C7CFE460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94920" y="1660320"/>
            <a:ext cx="8280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3.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code and the data of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de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s) and data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iables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hich are Fields implemented via functions to read/set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DCE3-FAA2-470D-B4FB-E34110A2FA2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9528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se can reside inside the class if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in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the .Ne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a member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at does not require an instance to be called.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.Now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⍝ straight from the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007/10/21  9:12:0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FC0A-D5EC-4232-8CD7-B1CEDE474D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4920" y="1589040"/>
            <a:ext cx="4824360" cy="12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695160" y="2462040"/>
            <a:ext cx="27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d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ain 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608328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AutoShape 10"/>
          <p:cNvCxnSpPr>
            <a:stCxn id="442" idx="2"/>
            <a:endCxn id="444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49" name="AutoShape 12"/>
          <p:cNvCxnSpPr>
            <a:stCxn id="442" idx="2"/>
            <a:endCxn id="445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50" name="AutoShape 13"/>
          <p:cNvCxnSpPr>
            <a:stCxn id="442" idx="2"/>
            <a:endCxn id="446" idx="0"/>
          </p:cNvCxnSpPr>
          <p:nvPr/>
        </p:nvCxnSpPr>
        <p:spPr>
          <a:xfrm>
            <a:off x="4535640" y="3860640"/>
            <a:ext cx="252144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6ACB-F967-4509-89D0-3A4FF300568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60320"/>
            <a:ext cx="798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Metho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bstrac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 (e.g. in interfaces) with no code, only calling synta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re method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8300-0078-4939-9239-C243A0C9388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Fiel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also b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read onl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7124-7403-4C07-ABF8-2F4B907F805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60320"/>
            <a:ext cx="835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Field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ed by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access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, i.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APL385 Unicode"/>
              </a:rPr>
              <a:t>PropX←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value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⍝ </a:t>
            </a:r>
            <a:r>
              <a:rPr b="0" lang="fr-CA" sz="2800" spc="-1" strike="noStrike">
                <a:solidFill>
                  <a:srgbClr val="333333"/>
                </a:solidFill>
                <a:latin typeface="Geneva"/>
              </a:rPr>
              <a:t>is implemented by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SET valu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7AB5-E4B5-4B53-8F9B-33131844AC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: why do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763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cause Object Orientation is a Valuable Tool of Though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be able to Share Tools and Components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help us Manage Complexity in all Project Ph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.Net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BC69-294C-4E74-A81E-7D09192BB5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964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4. Message passing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(usually asynchronous) sending (often by copy) of a data item to a communication endpoint (process, thread, socket, etc.)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procedural languages like Dyalog, it corresponds to a call made to a routi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AAAF-B619-4DAE-9AF4-07AF861AFCA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2400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5. 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is a way to avoid rewriting code by writing general classes and classes that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from them and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inheri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heir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helps achiev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reusability, 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a cornerstone of OO by avoiding to rewrite code and use what already exis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267F-3602-4EEC-8F44-21760C4419D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9528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e say that a (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d)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 i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33"/>
                </a:solidFill>
                <a:latin typeface="Geneva"/>
              </a:rPr>
              <a:t>All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es (but one) are derived from another one or from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ystem.Objec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DACC-E865-4181-BB23-1526E7023F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31280" y="166032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 (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reusability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86" name="Group 24"/>
          <p:cNvGrpSpPr/>
          <p:nvPr/>
        </p:nvGrpSpPr>
        <p:grpSpPr>
          <a:xfrm>
            <a:off x="322200" y="3287880"/>
            <a:ext cx="8353440" cy="2877480"/>
            <a:chOff x="322200" y="3287880"/>
            <a:chExt cx="8353440" cy="2877480"/>
          </a:xfrm>
        </p:grpSpPr>
        <p:sp>
          <p:nvSpPr>
            <p:cNvPr id="487" name="Rectangle 4"/>
            <p:cNvSpPr/>
            <p:nvPr/>
          </p:nvSpPr>
          <p:spPr>
            <a:xfrm>
              <a:off x="82728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5"/>
            <p:cNvSpPr/>
            <p:nvPr/>
          </p:nvSpPr>
          <p:spPr>
            <a:xfrm>
              <a:off x="291456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g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6"/>
            <p:cNvSpPr/>
            <p:nvPr/>
          </p:nvSpPr>
          <p:spPr>
            <a:xfrm>
              <a:off x="709128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x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7"/>
            <p:cNvSpPr/>
            <p:nvPr/>
          </p:nvSpPr>
          <p:spPr>
            <a:xfrm>
              <a:off x="291456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8"/>
            <p:cNvSpPr/>
            <p:nvPr/>
          </p:nvSpPr>
          <p:spPr>
            <a:xfrm>
              <a:off x="709128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5002200" y="328788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002200" y="465444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lli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4" name="AutoShape 15"/>
            <p:cNvCxnSpPr>
              <a:stCxn id="487" idx="3"/>
              <a:endCxn id="488" idx="1"/>
            </p:cNvCxnSpPr>
            <p:nvPr/>
          </p:nvCxnSpPr>
          <p:spPr>
            <a:xfrm flipV="1">
              <a:off x="2411280" y="4079160"/>
              <a:ext cx="50400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AutoShape 16"/>
            <p:cNvCxnSpPr>
              <a:stCxn id="487" idx="3"/>
              <a:endCxn id="490" idx="1"/>
            </p:cNvCxnSpPr>
            <p:nvPr/>
          </p:nvCxnSpPr>
          <p:spPr>
            <a:xfrm>
              <a:off x="241128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AutoShape 17"/>
            <p:cNvCxnSpPr>
              <a:stCxn id="488" idx="3"/>
              <a:endCxn id="492" idx="1"/>
            </p:cNvCxnSpPr>
            <p:nvPr/>
          </p:nvCxnSpPr>
          <p:spPr>
            <a:xfrm flipV="1">
              <a:off x="4498920" y="3791520"/>
              <a:ext cx="50400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AutoShape 18"/>
            <p:cNvCxnSpPr>
              <a:stCxn id="488" idx="3"/>
              <a:endCxn id="493" idx="1"/>
            </p:cNvCxnSpPr>
            <p:nvPr/>
          </p:nvCxnSpPr>
          <p:spPr>
            <a:xfrm>
              <a:off x="4498920" y="4079520"/>
              <a:ext cx="504000" cy="10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AutoShape 19"/>
            <p:cNvCxnSpPr>
              <a:stCxn id="493" idx="3"/>
              <a:endCxn id="491" idx="1"/>
            </p:cNvCxnSpPr>
            <p:nvPr/>
          </p:nvCxnSpPr>
          <p:spPr>
            <a:xfrm flipV="1">
              <a:off x="6586560" y="4511160"/>
              <a:ext cx="505440" cy="64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9" name="AutoShape 20"/>
            <p:cNvCxnSpPr>
              <a:stCxn id="493" idx="3"/>
              <a:endCxn id="489" idx="1"/>
            </p:cNvCxnSpPr>
            <p:nvPr/>
          </p:nvCxnSpPr>
          <p:spPr>
            <a:xfrm>
              <a:off x="6586560" y="5158800"/>
              <a:ext cx="505440" cy="50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Text Box 21"/>
            <p:cNvSpPr/>
            <p:nvPr/>
          </p:nvSpPr>
          <p:spPr>
            <a:xfrm>
              <a:off x="716472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22"/>
            <p:cNvSpPr/>
            <p:nvPr/>
          </p:nvSpPr>
          <p:spPr>
            <a:xfrm>
              <a:off x="319392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3"/>
            <p:cNvSpPr/>
            <p:nvPr/>
          </p:nvSpPr>
          <p:spPr>
            <a:xfrm>
              <a:off x="32220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754C-3D00-4319-B148-7AE31A8849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400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be based on several other classes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e is made out of 2 different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08" name="Group 21"/>
          <p:cNvGrpSpPr/>
          <p:nvPr/>
        </p:nvGrpSpPr>
        <p:grpSpPr>
          <a:xfrm>
            <a:off x="2771640" y="3429000"/>
            <a:ext cx="3889440" cy="2374920"/>
            <a:chOff x="2771640" y="3429000"/>
            <a:chExt cx="3889440" cy="2374920"/>
          </a:xfrm>
        </p:grpSpPr>
        <p:sp>
          <p:nvSpPr>
            <p:cNvPr id="509" name="Rectangle 9"/>
            <p:cNvSpPr/>
            <p:nvPr/>
          </p:nvSpPr>
          <p:spPr>
            <a:xfrm>
              <a:off x="2771640" y="3429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r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2771640" y="479592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nke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1" name="AutoShape 15"/>
            <p:cNvCxnSpPr>
              <a:stCxn id="510" idx="3"/>
              <a:endCxn id="512" idx="1"/>
            </p:cNvCxnSpPr>
            <p:nvPr/>
          </p:nvCxnSpPr>
          <p:spPr>
            <a:xfrm flipV="1">
              <a:off x="4356000" y="4725720"/>
              <a:ext cx="72144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AutoShape 19"/>
            <p:cNvCxnSpPr>
              <a:stCxn id="509" idx="3"/>
              <a:endCxn id="512" idx="1"/>
            </p:cNvCxnSpPr>
            <p:nvPr/>
          </p:nvCxnSpPr>
          <p:spPr>
            <a:xfrm>
              <a:off x="4356000" y="3933360"/>
              <a:ext cx="721440" cy="79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2" name="Rectangle 20"/>
            <p:cNvSpPr/>
            <p:nvPr/>
          </p:nvSpPr>
          <p:spPr>
            <a:xfrm>
              <a:off x="5076720" y="4221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u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A85A-0103-4E97-9A1C-E5EC794745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4720" y="1660320"/>
            <a:ext cx="846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mulat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implement several interfaces.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enguin implements 2 different behaviours (interfac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2556000" y="400536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wim,eg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2556000" y="515628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y,eggs,s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AutoShape 7"/>
          <p:cNvCxnSpPr>
            <a:stCxn id="520" idx="3"/>
            <a:endCxn id="522" idx="1"/>
          </p:cNvCxnSpPr>
          <p:nvPr/>
        </p:nvCxnSpPr>
        <p:spPr>
          <a:xfrm flipV="1">
            <a:off x="4140360" y="5086080"/>
            <a:ext cx="7214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8"/>
          <p:cNvCxnSpPr>
            <a:stCxn id="519" idx="3"/>
            <a:endCxn id="522" idx="1"/>
          </p:cNvCxnSpPr>
          <p:nvPr/>
        </p:nvCxnSpPr>
        <p:spPr>
          <a:xfrm>
            <a:off x="4140360" y="4509720"/>
            <a:ext cx="7214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2" name="Rectangle 9"/>
          <p:cNvSpPr/>
          <p:nvPr/>
        </p:nvSpPr>
        <p:spPr>
          <a:xfrm>
            <a:off x="4861080" y="4365720"/>
            <a:ext cx="21589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gu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m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ies n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egg/y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ak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B70C-65CE-43BE-A2FA-05937EF0BD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hen an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is created from a clas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 it inherits all its members automat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Members can be redefined but </a:t>
            </a:r>
            <a:r>
              <a:rPr b="0" lang="fr-CA" sz="3200" spc="-1" strike="noStrike" u="sng">
                <a:solidFill>
                  <a:srgbClr val="333333"/>
                </a:solidFill>
                <a:uFillTx/>
                <a:latin typeface="Geneva"/>
              </a:rPr>
              <a:t>subroutine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must be specifically set to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overrid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base class subroutin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02BA-5F8F-48DF-93C3-B2810A940D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54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56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B145-101B-4EA4-8D44-97C0A0B218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64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7B4D-F66F-48D2-9F96-1FAB309FEC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itialization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is performed by the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a class is derived, the </a:t>
            </a:r>
            <a:r>
              <a:rPr b="0" lang="en-GB" sz="36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class'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will also be called if there is one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49FC-60E8-46A7-A97E-20A5378205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isto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8904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not new, it’s been around for a whi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tty much the same story as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50s: concep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6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mplementation (SIMULA compil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7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user base, Smalltalk compil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80s: starts to be used more serious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0s: popularity grows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≠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) thanks to C++ and Java &amp; the Intern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3681-2B73-4AAC-B091-28CB608575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24000" y="1660680"/>
            <a:ext cx="864072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Some classes may b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eal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o prevent other classes from inheriting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6B62-726C-45CC-AF02-0ED6390222E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e conce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1122480" y="446076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5376960" y="443700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9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0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D926-CC5A-40A0-A0DB-B41DD9DA5CA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8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2303-C294-4DB7-B539-7BB3A73208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0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2"/>
          <p:cNvSpPr/>
          <p:nvPr/>
        </p:nvSpPr>
        <p:spPr>
          <a:xfrm>
            <a:off x="2055600" y="558972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does not allow to be overrid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3D37-A15A-4757-B737-D2819005DB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22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8"/>
          <p:cNvSpPr/>
          <p:nvPr/>
        </p:nvSpPr>
        <p:spPr>
          <a:xfrm>
            <a:off x="1835280" y="3141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3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4"/>
          <p:cNvSpPr/>
          <p:nvPr/>
        </p:nvSpPr>
        <p:spPr>
          <a:xfrm>
            <a:off x="1547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5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7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3"/>
          <p:cNvSpPr/>
          <p:nvPr/>
        </p:nvSpPr>
        <p:spPr>
          <a:xfrm>
            <a:off x="1481040" y="558972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llow to be overridden AND B wants to override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DF9A-1E5A-467C-82E5-B146126503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6. Encapsu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Hides the underlying functionalit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t conceals the exact details of how a particular class works from objects (external or internal) that use its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This allows to modify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internal implementation of a class without requiring changes to its services (i.e. methods)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B3C7-04C5-4E82-B3B0-3417F83A10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ample: a ca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ider a car: the functionality is hidden, it is encapsulated, you don’t see all the wiring inside, you’re only given specific controls to manipulate the car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0" name="Picture 4" descr="dash-wiring4"/>
          <p:cNvPicPr/>
          <p:nvPr/>
        </p:nvPicPr>
        <p:blipFill>
          <a:blip r:embed="rId1"/>
          <a:stretch/>
        </p:blipFill>
        <p:spPr>
          <a:xfrm>
            <a:off x="2195640" y="32846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" descr="closeddash1"/>
          <p:cNvPicPr/>
          <p:nvPr/>
        </p:nvPicPr>
        <p:blipFill>
          <a:blip r:embed="rId2"/>
          <a:stretch/>
        </p:blipFill>
        <p:spPr>
          <a:xfrm>
            <a:off x="2077920" y="3068640"/>
            <a:ext cx="479916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25A4-A23C-4C01-B0FE-B2874F9A1F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capsulation (access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expose a member you must use some syntax that will declar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default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n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E4A3-F438-46E3-9EA1-E4A69E49F7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5"/>
          <p:cNvSpPr/>
          <p:nvPr/>
        </p:nvSpPr>
        <p:spPr>
          <a:xfrm>
            <a:off x="1908000" y="4214880"/>
            <a:ext cx="4969080" cy="195084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6407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ivat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not be seen from anywhere. Methods can only access it from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sted or derived objects can't see it ei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0661-8E7E-4792-895B-0BA5D607F1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rotect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protect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only be seen from within the instance of from nested or derived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A860-12CC-4DE4-9F1E-A6D26ABEDD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nother to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Orientation is another tool for programmers. Users won’t see any differen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 way for programmers to simplify their lives by supplying each other with already made objects (almost) ready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A985-545D-40D9-B4C5-0798FE276E3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ublic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be seen from anywhere. All Methods can access it from anywhere whether it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 is s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FC10-545B-4AC0-91FD-B582C8B7BB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frien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declared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frie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see the offerer’s private and public member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9" name="AutoShape 14"/>
          <p:cNvSpPr/>
          <p:nvPr/>
        </p:nvSpPr>
        <p:spPr>
          <a:xfrm>
            <a:off x="5508720" y="4149720"/>
            <a:ext cx="2160360" cy="1727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B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B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iend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1890360" y="3521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5870160" y="3500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2"/>
          <p:cNvSpPr/>
          <p:nvPr/>
        </p:nvSpPr>
        <p:spPr>
          <a:xfrm>
            <a:off x="1547640" y="4148280"/>
            <a:ext cx="2160720" cy="93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A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A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5508720" y="472428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4"/>
          <p:cNvSpPr/>
          <p:nvPr/>
        </p:nvSpPr>
        <p:spPr>
          <a:xfrm flipH="1">
            <a:off x="3595680" y="4508640"/>
            <a:ext cx="22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5"/>
          <p:cNvSpPr/>
          <p:nvPr/>
        </p:nvSpPr>
        <p:spPr>
          <a:xfrm flipH="1" flipV="1">
            <a:off x="3564000" y="4724280"/>
            <a:ext cx="22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6"/>
          <p:cNvSpPr/>
          <p:nvPr/>
        </p:nvSpPr>
        <p:spPr>
          <a:xfrm>
            <a:off x="919800" y="5270400"/>
            <a:ext cx="37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A sees B’s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its own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528B-10A1-4212-86AC-68E64679CA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2400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7. 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is behavior that allows a single definition to be used with different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of data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a way to call various sections of code using the sam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yped languages can tell the difference by looking at the “signature” of the functions (their number of arguments and their typ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0AC4-A6D6-49AA-8AA1-2F98ADE1AA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 exampl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539640" y="2284560"/>
            <a:ext cx="360072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integer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n integer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42 //“Int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4788000" y="2284560"/>
            <a:ext cx="360036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string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 string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“String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1621440" y="5430960"/>
            <a:ext cx="58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function name, different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5795-3A38-4C72-A467-794A5BF41E3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395280" y="2122560"/>
            <a:ext cx="79930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ogram that accepts multiple defin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said to b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verload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language example: + is used to add and caten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2+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‘aaa’+’bbb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aabb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C83D-303E-42B0-BE33-6607AFD7D0A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24000" y="165852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ore concept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395280" y="2717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many more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se presented here are the most common on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not an OO concept but it is often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8818-3E6F-4BEA-9708-245D3F6043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OO C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ncepts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68000" y="170136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based on +-7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bluepri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are objects created from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ontain members (data &amp;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access is restric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relation between classes is based on inheritance and/or specific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8A8A-9B82-4D20-A26E-99E650E203F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OO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7443-9570-4C43-860C-657A795DC64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WordArt 5"/>
          <p:cNvSpPr txBox="1"/>
          <p:nvPr/>
        </p:nvSpPr>
        <p:spPr>
          <a:xfrm>
            <a:off x="900000" y="1844640"/>
            <a:ext cx="7272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The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yalog APL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way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2A55-40AB-4464-8E2A-5144E88056B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xtensions to the language have been made in following with the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Keywor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cheme introduced in the 90s (All new keywords start with ‘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’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functions have been added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the beginning APL had this kind of notion in the form of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Namespace = Workspace?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8E3C-5C37-4BB6-8B35-087C34A3C04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CF17-EEAC-4DF7-A2B3-2CA8150A5DA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see how Dyalog APL does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2554200" y="2589120"/>
            <a:ext cx="46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nd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3D0E-92FB-446C-8839-2861314BA68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can be defined using the )EDitor as i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exiting, MyClass will be defined in the current namespace (e.g. #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5075280" y="2357280"/>
            <a:ext cx="331308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2BE7-A8CD-4E5B-A534-C52F9702E6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workspac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My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ppears as a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B577-EE04-40CB-A6A5-C642FF906A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mbers in a clas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varia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looks and feels like a variable but implemented as a (pair of)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can be eithe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3DD9-4003-47A0-9860-7CC3D0B62AB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same f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ns) and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68" name="Group 10"/>
          <p:cNvGrpSpPr/>
          <p:nvPr/>
        </p:nvGrpSpPr>
        <p:grpSpPr>
          <a:xfrm>
            <a:off x="3635280" y="1933560"/>
            <a:ext cx="5268960" cy="4232160"/>
            <a:chOff x="3635280" y="1933560"/>
            <a:chExt cx="5268960" cy="4232160"/>
          </a:xfrm>
        </p:grpSpPr>
        <p:pic>
          <p:nvPicPr>
            <p:cNvPr id="769" name="Picture 6" descr=""/>
            <p:cNvPicPr/>
            <p:nvPr/>
          </p:nvPicPr>
          <p:blipFill>
            <a:blip r:embed="rId1"/>
            <a:stretch/>
          </p:blipFill>
          <p:spPr>
            <a:xfrm>
              <a:off x="3635280" y="193356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Rectangle 7"/>
            <p:cNvSpPr/>
            <p:nvPr/>
          </p:nvSpPr>
          <p:spPr>
            <a:xfrm>
              <a:off x="5419440" y="4319280"/>
              <a:ext cx="792360" cy="828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8"/>
            <p:cNvSpPr/>
            <p:nvPr/>
          </p:nvSpPr>
          <p:spPr>
            <a:xfrm>
              <a:off x="5448240" y="3878280"/>
              <a:ext cx="1800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9"/>
            <p:cNvSpPr/>
            <p:nvPr/>
          </p:nvSpPr>
          <p:spPr>
            <a:xfrm>
              <a:off x="6211800" y="4929120"/>
              <a:ext cx="71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7034-3B7F-4205-835D-2333C3142F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3168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fns) and their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&lt;mon1&gt; is also used as a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 It MUST be publi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78" name="Group 9"/>
          <p:cNvGrpSpPr/>
          <p:nvPr/>
        </p:nvGrpSpPr>
        <p:grpSpPr>
          <a:xfrm>
            <a:off x="4459320" y="1557360"/>
            <a:ext cx="4289400" cy="4608360"/>
            <a:chOff x="4459320" y="1557360"/>
            <a:chExt cx="4289400" cy="4608360"/>
          </a:xfrm>
        </p:grpSpPr>
        <p:pic>
          <p:nvPicPr>
            <p:cNvPr id="779" name="Picture 5" descr=""/>
            <p:cNvPicPr/>
            <p:nvPr/>
          </p:nvPicPr>
          <p:blipFill>
            <a:blip r:embed="rId1"/>
            <a:stretch/>
          </p:blipFill>
          <p:spPr>
            <a:xfrm>
              <a:off x="4459320" y="1557360"/>
              <a:ext cx="42894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Rectangle 6"/>
            <p:cNvSpPr/>
            <p:nvPr/>
          </p:nvSpPr>
          <p:spPr>
            <a:xfrm>
              <a:off x="5600880" y="3601800"/>
              <a:ext cx="215892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7"/>
            <p:cNvSpPr/>
            <p:nvPr/>
          </p:nvSpPr>
          <p:spPr>
            <a:xfrm>
              <a:off x="5599080" y="4336920"/>
              <a:ext cx="194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8"/>
            <p:cNvSpPr/>
            <p:nvPr/>
          </p:nvSpPr>
          <p:spPr>
            <a:xfrm>
              <a:off x="5599080" y="3420720"/>
              <a:ext cx="1368360" cy="180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16C6-E416-4515-9A59-7F248BB451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316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2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their acce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rivate and readonly (it has no </a:t>
            </a:r>
            <a:r>
              <a:rPr b="0" i="1" lang="en-GB" sz="28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n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ublic read/writ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88" name="Group 9"/>
          <p:cNvGrpSpPr/>
          <p:nvPr/>
        </p:nvGrpSpPr>
        <p:grpSpPr>
          <a:xfrm>
            <a:off x="4776840" y="1557360"/>
            <a:ext cx="3682800" cy="4608360"/>
            <a:chOff x="4776840" y="1557360"/>
            <a:chExt cx="3682800" cy="4608360"/>
          </a:xfrm>
        </p:grpSpPr>
        <p:pic>
          <p:nvPicPr>
            <p:cNvPr id="789" name="Picture 5" descr=""/>
            <p:cNvPicPr/>
            <p:nvPr/>
          </p:nvPicPr>
          <p:blipFill>
            <a:blip r:embed="rId1"/>
            <a:stretch/>
          </p:blipFill>
          <p:spPr>
            <a:xfrm>
              <a:off x="4776840" y="1557360"/>
              <a:ext cx="36828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Rectangle 6"/>
            <p:cNvSpPr/>
            <p:nvPr/>
          </p:nvSpPr>
          <p:spPr>
            <a:xfrm>
              <a:off x="5640120" y="2421000"/>
              <a:ext cx="2520720" cy="86508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"/>
            <p:cNvSpPr/>
            <p:nvPr/>
          </p:nvSpPr>
          <p:spPr>
            <a:xfrm>
              <a:off x="5640120" y="3429000"/>
              <a:ext cx="2520720" cy="216036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"/>
            <p:cNvSpPr/>
            <p:nvPr/>
          </p:nvSpPr>
          <p:spPr>
            <a:xfrm>
              <a:off x="5713200" y="3573360"/>
              <a:ext cx="11505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8EDC-C5F0-4C43-9079-CF9AE109414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614160" y="158904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like blueprints: they define how things should b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is a new system function that creates an object using a class as an instanc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is in the class will appear in the instance as a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not a refere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stan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8C12-903E-4E39-A06C-3D7ABFEC7D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685440" y="1874520"/>
            <a:ext cx="81342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pts a one or two elements arg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ne is the class (not in quot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if present, is what to start/initialize the instance with. It can only be supplied if the class allow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title"/>
          </p:nvPr>
        </p:nvSpPr>
        <p:spPr>
          <a:xfrm>
            <a:off x="68580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6BED-7AB0-456A-848A-7ADCEF4F0EB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 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isplay form includes [brackets] by defau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is another type of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NC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myInstance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B165-B269-4F09-9D8B-033B7867A7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200720" cy="26762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9"/>
          <p:cNvSpPr/>
          <p:nvPr/>
        </p:nvSpPr>
        <p:spPr>
          <a:xfrm>
            <a:off x="642960" y="2286000"/>
            <a:ext cx="7715160" cy="9288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611A-2239-4328-928C-19013C38498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allows to change the default Display Form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.⎕DF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OO class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O 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1900-9421-4172-9F1F-78D8A1FF56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may requir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someth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initialize the instance.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)ED ○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title"/>
          </p:nvPr>
        </p:nvSpPr>
        <p:spPr>
          <a:xfrm>
            <a:off x="323640" y="58104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166680" y="3506760"/>
            <a:ext cx="415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have at least tw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of le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nds it ma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8"/>
          <p:cNvGrpSpPr/>
          <p:nvPr/>
        </p:nvGrpSpPr>
        <p:grpSpPr>
          <a:xfrm>
            <a:off x="4500720" y="2440080"/>
            <a:ext cx="4248000" cy="3652920"/>
            <a:chOff x="4500720" y="2440080"/>
            <a:chExt cx="4248000" cy="3652920"/>
          </a:xfrm>
        </p:grpSpPr>
        <p:pic>
          <p:nvPicPr>
            <p:cNvPr id="820" name="Picture 4" descr=""/>
            <p:cNvPicPr/>
            <p:nvPr/>
          </p:nvPicPr>
          <p:blipFill>
            <a:blip r:embed="rId1"/>
            <a:stretch/>
          </p:blipFill>
          <p:spPr>
            <a:xfrm>
              <a:off x="4500720" y="2440080"/>
              <a:ext cx="424800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Rectangle 6"/>
            <p:cNvSpPr/>
            <p:nvPr/>
          </p:nvSpPr>
          <p:spPr>
            <a:xfrm>
              <a:off x="5651640" y="3616560"/>
              <a:ext cx="22338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7"/>
            <p:cNvSpPr/>
            <p:nvPr/>
          </p:nvSpPr>
          <p:spPr>
            <a:xfrm>
              <a:off x="5437440" y="4743720"/>
              <a:ext cx="20160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B26E-62E1-4FD0-A5C5-35E9A64364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everal instances can be made up of the same Animal clas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32364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8" name="Picture 6" descr=""/>
          <p:cNvPicPr/>
          <p:nvPr/>
        </p:nvPicPr>
        <p:blipFill>
          <a:blip r:embed="rId1"/>
          <a:stretch/>
        </p:blipFill>
        <p:spPr>
          <a:xfrm>
            <a:off x="3429000" y="2135160"/>
            <a:ext cx="5175360" cy="229392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7"/>
          <p:cNvSpPr/>
          <p:nvPr/>
        </p:nvSpPr>
        <p:spPr>
          <a:xfrm>
            <a:off x="167040" y="2930400"/>
            <a:ext cx="85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running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in a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ce we hav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)o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ish monkey snake tiger Ani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NC ‘animals’   ⍝ this is a variable holding 4 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nimals.Nlegs   ⍝ how many legs for each anim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4 0 0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D61E-4CAD-4CB5-AEF3-8C59347BFB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280" y="566640"/>
            <a:ext cx="8856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message passing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this merely consists in calling the methods directly either from the instance or from the class if shared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.sharedFn   ar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Instance.Fn   args ⍝ args if requir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37DE-CE35-4EF6-B4FF-F0D69B0089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95280" y="56664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351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40" name="Group 21"/>
          <p:cNvGrpSpPr/>
          <p:nvPr/>
        </p:nvGrpSpPr>
        <p:grpSpPr>
          <a:xfrm>
            <a:off x="179280" y="3359160"/>
            <a:ext cx="8353440" cy="2806200"/>
            <a:chOff x="179280" y="3359160"/>
            <a:chExt cx="8353440" cy="2806200"/>
          </a:xfrm>
        </p:grpSpPr>
        <p:sp>
          <p:nvSpPr>
            <p:cNvPr id="841" name="Rectangle 4"/>
            <p:cNvSpPr/>
            <p:nvPr/>
          </p:nvSpPr>
          <p:spPr>
            <a:xfrm>
              <a:off x="68436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5"/>
            <p:cNvSpPr/>
            <p:nvPr/>
          </p:nvSpPr>
          <p:spPr>
            <a:xfrm>
              <a:off x="277164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og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6"/>
            <p:cNvSpPr/>
            <p:nvPr/>
          </p:nvSpPr>
          <p:spPr>
            <a:xfrm>
              <a:off x="694836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7"/>
            <p:cNvSpPr/>
            <p:nvPr/>
          </p:nvSpPr>
          <p:spPr>
            <a:xfrm>
              <a:off x="277164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8"/>
            <p:cNvSpPr/>
            <p:nvPr/>
          </p:nvSpPr>
          <p:spPr>
            <a:xfrm>
              <a:off x="694836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0"/>
            <p:cNvSpPr/>
            <p:nvPr/>
          </p:nvSpPr>
          <p:spPr>
            <a:xfrm>
              <a:off x="4859280" y="472716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lli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7" name="AutoShape 11"/>
            <p:cNvCxnSpPr>
              <a:stCxn id="841" idx="3"/>
              <a:endCxn id="842" idx="1"/>
            </p:cNvCxnSpPr>
            <p:nvPr/>
          </p:nvCxnSpPr>
          <p:spPr>
            <a:xfrm flipV="1">
              <a:off x="2268360" y="4079160"/>
              <a:ext cx="504000" cy="79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8" name="AutoShape 12"/>
            <p:cNvCxnSpPr>
              <a:stCxn id="841" idx="3"/>
              <a:endCxn id="844" idx="1"/>
            </p:cNvCxnSpPr>
            <p:nvPr/>
          </p:nvCxnSpPr>
          <p:spPr>
            <a:xfrm>
              <a:off x="226836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9" name="AutoShape 13"/>
            <p:cNvCxnSpPr>
              <a:stCxn id="842" idx="3"/>
              <a:endCxn id="850" idx="1"/>
            </p:cNvCxnSpPr>
            <p:nvPr/>
          </p:nvCxnSpPr>
          <p:spPr>
            <a:xfrm flipV="1">
              <a:off x="4355640" y="3863520"/>
              <a:ext cx="361080" cy="21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1" name="AutoShape 14"/>
            <p:cNvCxnSpPr>
              <a:stCxn id="842" idx="3"/>
              <a:endCxn id="846" idx="1"/>
            </p:cNvCxnSpPr>
            <p:nvPr/>
          </p:nvCxnSpPr>
          <p:spPr>
            <a:xfrm>
              <a:off x="4356000" y="4079160"/>
              <a:ext cx="50400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2" name="AutoShape 15"/>
            <p:cNvCxnSpPr>
              <a:stCxn id="846" idx="3"/>
              <a:endCxn id="845" idx="1"/>
            </p:cNvCxnSpPr>
            <p:nvPr/>
          </p:nvCxnSpPr>
          <p:spPr>
            <a:xfrm flipV="1">
              <a:off x="6443640" y="4510800"/>
              <a:ext cx="505440" cy="72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3" name="AutoShape 16"/>
            <p:cNvCxnSpPr>
              <a:stCxn id="846" idx="3"/>
              <a:endCxn id="843" idx="1"/>
            </p:cNvCxnSpPr>
            <p:nvPr/>
          </p:nvCxnSpPr>
          <p:spPr>
            <a:xfrm>
              <a:off x="6443640" y="5232240"/>
              <a:ext cx="505440" cy="430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4" name="Text Box 17"/>
            <p:cNvSpPr/>
            <p:nvPr/>
          </p:nvSpPr>
          <p:spPr>
            <a:xfrm>
              <a:off x="702180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8"/>
            <p:cNvSpPr/>
            <p:nvPr/>
          </p:nvSpPr>
          <p:spPr>
            <a:xfrm>
              <a:off x="305100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19"/>
            <p:cNvSpPr/>
            <p:nvPr/>
          </p:nvSpPr>
          <p:spPr>
            <a:xfrm>
              <a:off x="17928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20"/>
            <p:cNvSpPr/>
            <p:nvPr/>
          </p:nvSpPr>
          <p:spPr>
            <a:xfrm>
              <a:off x="4716360" y="335916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49A2-6719-47D3-BA09-C6663067E09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323640" y="1803240"/>
            <a:ext cx="813420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ample: a bird’s generic description is ‘plain Bird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←⎕NEW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.Des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lain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title"/>
          </p:nvPr>
        </p:nvSpPr>
        <p:spPr>
          <a:xfrm>
            <a:off x="468360" y="56664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62" name="Group 27"/>
          <p:cNvGrpSpPr/>
          <p:nvPr/>
        </p:nvGrpSpPr>
        <p:grpSpPr>
          <a:xfrm>
            <a:off x="754200" y="4149720"/>
            <a:ext cx="3888720" cy="1008000"/>
            <a:chOff x="754200" y="4149720"/>
            <a:chExt cx="3888720" cy="1008000"/>
          </a:xfrm>
        </p:grpSpPr>
        <p:sp>
          <p:nvSpPr>
            <p:cNvPr id="863" name="Rectangle 4"/>
            <p:cNvSpPr/>
            <p:nvPr/>
          </p:nvSpPr>
          <p:spPr>
            <a:xfrm>
              <a:off x="1114200" y="414972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AutoShape 12"/>
            <p:cNvCxnSpPr>
              <a:stCxn id="863" idx="3"/>
              <a:endCxn id="865" idx="1"/>
            </p:cNvCxnSpPr>
            <p:nvPr/>
          </p:nvCxnSpPr>
          <p:spPr>
            <a:xfrm>
              <a:off x="2698560" y="4654080"/>
              <a:ext cx="360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5" name="Rectangle 19"/>
            <p:cNvSpPr/>
            <p:nvPr/>
          </p:nvSpPr>
          <p:spPr>
            <a:xfrm>
              <a:off x="3058920" y="4149720"/>
              <a:ext cx="158400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20"/>
            <p:cNvSpPr/>
            <p:nvPr/>
          </p:nvSpPr>
          <p:spPr>
            <a:xfrm>
              <a:off x="754200" y="46544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Rectangle 23"/>
          <p:cNvSpPr/>
          <p:nvPr/>
        </p:nvSpPr>
        <p:spPr>
          <a:xfrm>
            <a:off x="324000" y="3573360"/>
            <a:ext cx="1511280" cy="503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26"/>
          <p:cNvGrpSpPr/>
          <p:nvPr/>
        </p:nvGrpSpPr>
        <p:grpSpPr>
          <a:xfrm>
            <a:off x="4932360" y="2749680"/>
            <a:ext cx="3887640" cy="2766960"/>
            <a:chOff x="4932360" y="2749680"/>
            <a:chExt cx="3887640" cy="2766960"/>
          </a:xfrm>
        </p:grpSpPr>
        <p:pic>
          <p:nvPicPr>
            <p:cNvPr id="869" name="Picture 22" descr=""/>
            <p:cNvPicPr/>
            <p:nvPr/>
          </p:nvPicPr>
          <p:blipFill>
            <a:blip r:embed="rId1"/>
            <a:stretch/>
          </p:blipFill>
          <p:spPr>
            <a:xfrm>
              <a:off x="4932360" y="2749680"/>
              <a:ext cx="388764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Rectangle 24"/>
            <p:cNvSpPr/>
            <p:nvPr/>
          </p:nvSpPr>
          <p:spPr>
            <a:xfrm>
              <a:off x="6661080" y="4314960"/>
              <a:ext cx="1224000" cy="28872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Text Box 25"/>
          <p:cNvSpPr/>
          <p:nvPr/>
        </p:nvSpPr>
        <p:spPr>
          <a:xfrm>
            <a:off x="591840" y="557388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Birdy is created, Bird’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a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4EE4-ED03-4CF2-9F6A-6E33AF4F40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1342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base class has a constructor it must be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se constructors are called when 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:Implements 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tatement is reach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several classes are based one on another their constructors’ call are made in the same fash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A27B-E2AE-44E5-82DE-FDC74B7603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17" descr=""/>
          <p:cNvPicPr/>
          <p:nvPr/>
        </p:nvPicPr>
        <p:blipFill>
          <a:blip r:embed="rId1"/>
          <a:stretch/>
        </p:blipFill>
        <p:spPr>
          <a:xfrm>
            <a:off x="5076720" y="1420920"/>
            <a:ext cx="3888000" cy="276696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39" descr=""/>
          <p:cNvPicPr/>
          <p:nvPr/>
        </p:nvPicPr>
        <p:blipFill>
          <a:blip r:embed="rId2"/>
          <a:stretch/>
        </p:blipFill>
        <p:spPr>
          <a:xfrm>
            <a:off x="5364000" y="3292560"/>
            <a:ext cx="3637080" cy="344952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323640" y="1564920"/>
            <a:ext cx="4679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parrot is a bir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←⎕NEW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.Des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Not a plain Bird, a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title"/>
          </p:nvPr>
        </p:nvSpPr>
        <p:spPr>
          <a:xfrm>
            <a:off x="468360" y="49356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84" name="Group 16"/>
          <p:cNvGrpSpPr/>
          <p:nvPr/>
        </p:nvGrpSpPr>
        <p:grpSpPr>
          <a:xfrm>
            <a:off x="395280" y="4157640"/>
            <a:ext cx="5256000" cy="1942920"/>
            <a:chOff x="395280" y="4157640"/>
            <a:chExt cx="5256000" cy="1942920"/>
          </a:xfrm>
        </p:grpSpPr>
        <p:sp>
          <p:nvSpPr>
            <p:cNvPr id="885" name="Rectangle 4"/>
            <p:cNvSpPr/>
            <p:nvPr/>
          </p:nvSpPr>
          <p:spPr>
            <a:xfrm>
              <a:off x="715680" y="495756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6" name="AutoShape 5"/>
            <p:cNvCxnSpPr>
              <a:stCxn id="885" idx="3"/>
              <a:endCxn id="887" idx="1"/>
            </p:cNvCxnSpPr>
            <p:nvPr/>
          </p:nvCxnSpPr>
          <p:spPr>
            <a:xfrm flipV="1">
              <a:off x="2126160" y="4557600"/>
              <a:ext cx="321120" cy="80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7" name="Rectangle 6"/>
            <p:cNvSpPr/>
            <p:nvPr/>
          </p:nvSpPr>
          <p:spPr>
            <a:xfrm>
              <a:off x="2446920" y="4157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7"/>
            <p:cNvSpPr/>
            <p:nvPr/>
          </p:nvSpPr>
          <p:spPr>
            <a:xfrm>
              <a:off x="395280" y="53582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0"/>
            <p:cNvSpPr/>
            <p:nvPr/>
          </p:nvSpPr>
          <p:spPr>
            <a:xfrm>
              <a:off x="2446920" y="530064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arrot: 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0" name="AutoShape 11"/>
            <p:cNvCxnSpPr>
              <a:stCxn id="885" idx="3"/>
              <a:endCxn id="889" idx="1"/>
            </p:cNvCxnSpPr>
            <p:nvPr/>
          </p:nvCxnSpPr>
          <p:spPr>
            <a:xfrm>
              <a:off x="2126160" y="5358240"/>
              <a:ext cx="32112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1" name="Rectangle 13"/>
            <p:cNvSpPr/>
            <p:nvPr/>
          </p:nvSpPr>
          <p:spPr>
            <a:xfrm>
              <a:off x="4241160" y="5300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co (Parrot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2" name="AutoShape 15"/>
            <p:cNvCxnSpPr>
              <a:stCxn id="889" idx="3"/>
              <a:endCxn id="891" idx="1"/>
            </p:cNvCxnSpPr>
            <p:nvPr/>
          </p:nvCxnSpPr>
          <p:spPr>
            <a:xfrm>
              <a:off x="3856680" y="5700960"/>
              <a:ext cx="384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3" name="Rectangle 18"/>
          <p:cNvSpPr/>
          <p:nvPr/>
        </p:nvSpPr>
        <p:spPr>
          <a:xfrm>
            <a:off x="6804000" y="3005280"/>
            <a:ext cx="1224000" cy="2538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9"/>
          <p:cNvSpPr/>
          <p:nvPr/>
        </p:nvSpPr>
        <p:spPr>
          <a:xfrm>
            <a:off x="6408720" y="5603760"/>
            <a:ext cx="2340000" cy="2174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20"/>
          <p:cNvSpPr/>
          <p:nvPr/>
        </p:nvSpPr>
        <p:spPr>
          <a:xfrm>
            <a:off x="395280" y="3292560"/>
            <a:ext cx="3960720" cy="431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1"/>
          <p:cNvSpPr/>
          <p:nvPr/>
        </p:nvSpPr>
        <p:spPr>
          <a:xfrm>
            <a:off x="4140360" y="24289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2"/>
          <p:cNvSpPr/>
          <p:nvPr/>
        </p:nvSpPr>
        <p:spPr>
          <a:xfrm>
            <a:off x="6118200" y="422928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3"/>
          <p:cNvSpPr/>
          <p:nvPr/>
        </p:nvSpPr>
        <p:spPr>
          <a:xfrm>
            <a:off x="8028000" y="50212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4"/>
          <p:cNvSpPr/>
          <p:nvPr/>
        </p:nvSpPr>
        <p:spPr>
          <a:xfrm>
            <a:off x="6443640" y="250020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AutoShape 25"/>
          <p:cNvCxnSpPr>
            <a:stCxn id="896" idx="1"/>
            <a:endCxn id="897" idx="7"/>
          </p:cNvCxnSpPr>
          <p:nvPr/>
        </p:nvCxnSpPr>
        <p:spPr>
          <a:xfrm flipH="1" rot="16200000">
            <a:off x="4264920" y="2325960"/>
            <a:ext cx="1800720" cy="2028240"/>
          </a:xfrm>
          <a:prstGeom prst="curvedConnector5">
            <a:avLst>
              <a:gd name="adj1" fmla="val -439"/>
              <a:gd name="adj2" fmla="val 49991"/>
              <a:gd name="adj3" fmla="val -43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1" name="AutoShape 26"/>
          <p:cNvCxnSpPr>
            <a:stCxn id="898" idx="1"/>
            <a:endCxn id="899" idx="1"/>
          </p:cNvCxnSpPr>
          <p:nvPr/>
        </p:nvCxnSpPr>
        <p:spPr>
          <a:xfrm flipV="1" rot="16200000">
            <a:off x="5985720" y="2979000"/>
            <a:ext cx="2521800" cy="1585080"/>
          </a:xfrm>
          <a:prstGeom prst="curvedConnector5">
            <a:avLst>
              <a:gd name="adj1" fmla="val 129711"/>
              <a:gd name="adj2" fmla="val 50000"/>
              <a:gd name="adj3" fmla="val 12971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2" name="Freeform 30"/>
          <p:cNvSpPr/>
          <p:nvPr/>
        </p:nvSpPr>
        <p:spPr>
          <a:xfrm>
            <a:off x="6443640" y="3141720"/>
            <a:ext cx="2089080" cy="215892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31"/>
          <p:cNvSpPr/>
          <p:nvPr/>
        </p:nvSpPr>
        <p:spPr>
          <a:xfrm>
            <a:off x="6189840" y="4373640"/>
            <a:ext cx="7128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38"/>
          <p:cNvSpPr/>
          <p:nvPr/>
        </p:nvSpPr>
        <p:spPr>
          <a:xfrm>
            <a:off x="6443640" y="5373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F4CE-2560-4286-A95A-076CE487F3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reate classes and instances at all leve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0" name="Rectangle 4"/>
          <p:cNvSpPr/>
          <p:nvPr/>
        </p:nvSpPr>
        <p:spPr>
          <a:xfrm>
            <a:off x="61128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2556000" y="43308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rot: 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6877080" y="4724280"/>
            <a:ext cx="1800360" cy="93672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eety (Maca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9"/>
          <p:cNvSpPr/>
          <p:nvPr/>
        </p:nvSpPr>
        <p:spPr>
          <a:xfrm>
            <a:off x="4643280" y="5013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aw: Parr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0"/>
          <p:cNvCxnSpPr>
            <a:stCxn id="910" idx="3"/>
            <a:endCxn id="911" idx="1"/>
          </p:cNvCxnSpPr>
          <p:nvPr/>
        </p:nvCxnSpPr>
        <p:spPr>
          <a:xfrm>
            <a:off x="2195280" y="3933360"/>
            <a:ext cx="36108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5" name="AutoShape 11"/>
          <p:cNvCxnSpPr>
            <a:stCxn id="910" idx="3"/>
            <a:endCxn id="916" idx="1"/>
          </p:cNvCxnSpPr>
          <p:nvPr/>
        </p:nvCxnSpPr>
        <p:spPr>
          <a:xfrm flipV="1">
            <a:off x="2195280" y="3069360"/>
            <a:ext cx="36108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7" name="AutoShape 13"/>
          <p:cNvCxnSpPr>
            <a:stCxn id="911" idx="3"/>
            <a:endCxn id="913" idx="1"/>
          </p:cNvCxnSpPr>
          <p:nvPr/>
        </p:nvCxnSpPr>
        <p:spPr>
          <a:xfrm>
            <a:off x="4140000" y="4835520"/>
            <a:ext cx="503640" cy="68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8" name="AutoShape 14"/>
          <p:cNvCxnSpPr>
            <a:stCxn id="913" idx="3"/>
            <a:endCxn id="912" idx="1"/>
          </p:cNvCxnSpPr>
          <p:nvPr/>
        </p:nvCxnSpPr>
        <p:spPr>
          <a:xfrm flipV="1">
            <a:off x="6227640" y="5192280"/>
            <a:ext cx="65016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Text Box 16"/>
          <p:cNvSpPr/>
          <p:nvPr/>
        </p:nvSpPr>
        <p:spPr>
          <a:xfrm>
            <a:off x="702180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7"/>
          <p:cNvSpPr/>
          <p:nvPr/>
        </p:nvSpPr>
        <p:spPr>
          <a:xfrm>
            <a:off x="2762280" y="39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8"/>
          <p:cNvSpPr/>
          <p:nvPr/>
        </p:nvSpPr>
        <p:spPr>
          <a:xfrm>
            <a:off x="2556000" y="2565360"/>
            <a:ext cx="1584360" cy="100800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y (Bi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9"/>
          <p:cNvSpPr/>
          <p:nvPr/>
        </p:nvSpPr>
        <p:spPr>
          <a:xfrm>
            <a:off x="2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0"/>
          <p:cNvSpPr/>
          <p:nvPr/>
        </p:nvSpPr>
        <p:spPr>
          <a:xfrm>
            <a:off x="4788000" y="350028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co (Parro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3" name="AutoShape 21"/>
          <p:cNvCxnSpPr>
            <a:stCxn id="911" idx="3"/>
            <a:endCxn id="922" idx="1"/>
          </p:cNvCxnSpPr>
          <p:nvPr/>
        </p:nvCxnSpPr>
        <p:spPr>
          <a:xfrm flipV="1">
            <a:off x="4140000" y="4005000"/>
            <a:ext cx="64836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4BCE-C7C8-49AC-8480-EF04F4C8DDA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95280" y="637920"/>
            <a:ext cx="85694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tructors with argu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animal kingdom as exampl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9" name="Rectangle 4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5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8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do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9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g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0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6" name="AutoShape 11"/>
          <p:cNvCxnSpPr>
            <a:stCxn id="929" idx="3"/>
            <a:endCxn id="930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7" name="AutoShape 12"/>
          <p:cNvCxnSpPr>
            <a:stCxn id="929" idx="3"/>
            <a:endCxn id="932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8" name="AutoShape 13"/>
          <p:cNvCxnSpPr>
            <a:stCxn id="930" idx="3"/>
            <a:endCxn id="934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9" name="AutoShape 14"/>
          <p:cNvCxnSpPr>
            <a:stCxn id="930" idx="3"/>
            <a:endCxn id="935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0" name="AutoShape 15"/>
          <p:cNvCxnSpPr>
            <a:stCxn id="935" idx="3"/>
            <a:endCxn id="933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1" name="AutoShape 16"/>
          <p:cNvCxnSpPr>
            <a:stCxn id="935" idx="3"/>
            <a:endCxn id="931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2" name="Text Box 17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8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9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20"/>
          <p:cNvSpPr/>
          <p:nvPr/>
        </p:nvSpPr>
        <p:spPr>
          <a:xfrm>
            <a:off x="4859280" y="3141720"/>
            <a:ext cx="19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52Z</dcterms:created>
  <dc:creator>DanB</dc:creator>
  <dc:description/>
  <dc:language>en-US</dc:language>
  <cp:lastModifiedBy>Danb</cp:lastModifiedBy>
  <dcterms:modified xsi:type="dcterms:W3CDTF">2009-02-17T16:29:00Z</dcterms:modified>
  <cp:revision>602</cp:revision>
  <dc:subject/>
  <dc:title>OO Obj OR pgm</dc:title>
</cp:coreProperties>
</file>