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267C-17C4-41D6-BC12-6B5CFF724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AC42-CC83-4325-9DE2-9833548FC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se will now be explained. The usual APL rules apply when dealing with properties where it makes sense (e.g. (3 take rotate prop)&lt;-v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8734-2CC7-473A-A018-868AF21FA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apitalization of the S/GET fns is unimportant. The name is supplied as many names can share the property and the code may react differently to e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B539-D292-4C09-ABA1-582AE6451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ed is often used in M$ soft like Excel (e.g. Sheet[‘sheet1’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3957-5E36-4F96-90B0-9CD8176B6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t/get fns are called ONCE per index (until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vailable). This type of property is the only one that requires a SHAPE f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dexer value will be a vector of the same length as SHAPE. Ex: large file: (3{take}components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-1 2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4F32-A422-4A91-972C-EFE7B1313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only happen for simple &amp; numbered props as keyed props need indexers to be sup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F5F1-984B-4817-BC4B-79692B2E0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only happen for simple &amp; numbered props as keyed props need indexers to be sup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AAB0-F639-43AF-AFE2-AE5756A6C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weight properties; simplifies code. The call is made AFTER the assig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also works in the workspace, outsid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0811-8439-4B68-96D7-7B73FA149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ils fo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177A-EA94-48E5-ADA1-5785721A2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Base is used to pass arguments to the base class’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7FBF-6F67-45AF-A496-44A348B48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⎕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 is used to call the base class’ fn if public of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0413-6B63-4B88-8149-C4BA9BA03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21D9-D4E2-4DD3-B069-054A690DF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not seen from 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A5B4-C423-4547-8F2B-7B61CF377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’s M2 is still not seen from M1 as it has not been overridden. B’s 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00A8-CB7E-4337-BAE3-95E7751CC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7B42-BFB2-4009-B32D-7AA01BE08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625C-1054-44A1-AD8C-17B739932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ED already takes several type editor character: ∇∊-→, now + ○⍟∘; ns can conta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9B93-DC59-44E0-A2EE-7F6DC9F4F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: 2.2 is a field. Events are class 8, externals ones -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7A9A-36BA-4BD9-A799-99E4537ED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: 2.2 is a field. Events are class 8, externals ones -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140E-7596-4B3B-B94F-7F64CDD43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[]NL-2.1 will NEVER report anything as vars (≠ fields) are NOT pub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better understand why this is, we need to go back a bit a review some notion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C94A-FA54-4DE4-B9A7-5C37C5206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lar ns come in 2 flavours: with and without ⎕S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B289-46F8-469F-BF5D-38053F6C9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]DF returns the previous display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1632-B624-47B4-8357-249B1F3BE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nothing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2C76-77BD-4B5F-A74E-0BCC265B7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s can have a source too – to be seen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3D82-DB22-48DA-8C9F-F7887126F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[]NEW there is no need to perform all that sequence of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C0F4-ADE5-4D27-BEE4-74C7B5852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list the contents of ABC. RED is something WE hav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EA35-2C54-47FE-BCC6-E658D4F73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47DF-7B4D-4D54-919A-CB48D93E4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c is replaced comple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68C2-6193-4558-91E2-C798537FF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 the Caption is in the form we cannot see it 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60B1-401B-41E8-842C-788EC3E47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ing items is of dubious value (since they are subject to being destroyed upon re-definition) but perfectly 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30CC-4E94-4C26-AD6D-727A4F5D0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2 forms of []NL usage: F1.[]NC and []NC ‘F1...’. They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D52B-BDEB-4DA0-8E53-A60BDB29C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tion is not something WE have brought in. There are also some INVISIBLE members INSIDE the form but we don’t have access to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D590-7C09-4F42-9B44-B42EAC642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interface is a way to achieve MULTIPLE inheritance, which is not offered in all languages and not in DY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EC94-181D-424B-B2D7-B6C0EF125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8236-3D33-4F00-ADCD-4AAE43DEC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0FAB-FB54-4936-B219-E992299C0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regular namespace has NO internal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B0F5-51EF-4853-8008-A464A6311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VERY 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8BD2-1E81-41D6-BDAF-664A78BCA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internal members are (have to be)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art from []DF, all this stuff is not new, it was already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82FC-3921-41D8-AFF0-CD68DAA20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items: field/method x public/private x shared/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CEDF-5D31-4883-874A-854EF9D95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S0 &amp; FS0 are 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D52A-20AB-41F0-A1D0-D2A3162EE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WILL disappear if the class is redefined (e.g. with []FI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88B7-5D9F-48E6-A94C-41AF59DED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can also have other NSs withi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DEC8-863C-4DEB-8388-FEC671A27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 we can add external objects to this instance and they will disappear ASA the class is redef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behaviour should not be relied up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CA32-E3D6-47DE-95DF-3FF865D2E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jot to denote “edit an interface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describes the syntax. This is a way to standardize naming conven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A3FB-21E6-4ACB-A9A7-CDDE1AC58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ed {jot} does the 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usual names can be added ex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8013-6060-4646-ACEA-5D9BC2B32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A3AB-1876-4D6D-9839-E3E888F14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CA6C-2CC9-43DF-A94C-92473AEEF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926B-81AE-480F-B717-1B13F6437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classes that include nss are not refixed when the included ns is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F68F-908F-4AB0-B74A-01B71CCE0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s here? Complex, Keyed files, S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5EAF-8F69-4E9B-B7FA-9C9C88D7C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uld be done via a namespace but the []NS []OR ‘Complex’ + R I&lt;- would be cumber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D693-6803-4EEE-9804-85568EBFC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oblem with this class is that it is not performing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B221-07CF-4845-B449-257B8BFAC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: see VW thru the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9C46-8780-4A50-876C-9FD0AC166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560C-130D-41CD-95CA-9FE759C80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the only possible values are 0, 1 and 3. 3 is new, 0 &amp; 1 were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217B-F3EC-44A4-AE9F-CA0BE7465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F500-AFF1-4879-9C93-E3F6DABC6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ialo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creates instances with standard buttons attached to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A0E4-0C98-4838-B6FE-80AA9EBE0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how you would offer to use your "engine" through that interface. User would be free to implement your interface any way they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A1E3-3FA7-46F6-BC75-83C79B182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06F4-EE74-4A52-AA9E-4165612AE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don’t HAVE to but it is a good idea to create your classes in separate namesp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5B57-A8AF-4B7C-B065-B496E7AC3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C# and other languages will be able to use fn &lt;GenIndices&gt; which takes an Int and returns a list of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5D7F-10CD-4180-9671-7FB17D0F8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is compulsory, GREEN is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B354-C07E-4074-8F76-EF772BA9D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THAT easy! Let’s assume it is in n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PLClass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4D6D-0AD8-44CF-BE6B-BBA4AC272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name used is the name declared, not the original APL name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DBAC-47DC-47E9-93D2-3C8B6E5EC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this is not new, it existed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56B2-7A3E-42FB-A5AA-4ECCFBE49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 </a:t>
            </a:r>
            <a:r>
              <a:rPr b="0" lang="en-GB" sz="1200" spc="-1" strike="noStrike">
                <a:solidFill>
                  <a:srgbClr val="009999"/>
                </a:solidFill>
                <a:latin typeface="Arial"/>
              </a:rPr>
              <a:t>System.Web.Services.WebService is a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5FF2-F494-4FBB-90AA-FD3686FA3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ML is generated from the ASMX file that looks lik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9AEC-7BB2-4A01-934A-DAB1D1D4F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0B39-E8CF-4C27-8D23-BEE18B2CA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 cannot be defined in classes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7AB1-7756-4956-8E66-B458D5ED5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, you could already edit APL code in text files outside the interpreter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V11 this can now be done INSIDE the session and using SALT you can now use a control version system to stor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4A76-D4C0-4635-81FD-612C69FDA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 has always used overloading internally when dealing with primitives like + and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3CD8-4C41-41A5-B096-C2C259942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if coders end up doing simple things in complex ways just because the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A6C-40A7-4E03-A51D-D55C9ED1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7032-3366-42D0-A561-4E6FFE3B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E9E-7B5A-4B3C-B8FD-88027649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669-29E4-4363-8271-ED123F64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4376-1053-4BD4-9A91-77AA9C23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DE1B-B798-47DA-9678-96D65263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319D-F44B-44FB-8C57-61974E9D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3A79-E71F-4F1C-BBDB-836D98B6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C7E9-B643-41EB-8E5D-8FBEB243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30EB-F7A9-4241-923A-583A35C3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91C6-6B4A-4160-B105-9315A601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0642-A51A-436C-8F79-CF38FDCD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2F7E-11DA-4998-B9FB-814CC86C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0D3A-C062-4C33-A711-8D0600B5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D96F-8A10-48BF-8A59-20347FC7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6E1A-97C7-4818-9D1C-C35B0EAF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661E-3CF6-4969-8757-B65F444C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E93-F896-4226-A0B5-502D9017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F128-4361-4BFF-8EEC-86A408E0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E26-7508-4E57-9AC8-C1C9B50E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5E48-A5B0-4453-B9A5-1D106342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675D-5677-4CEF-9CD9-76C8FBAA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7385-4309-40C3-B900-DA6F8CB9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C4A2-6BA0-4FFA-8F7C-837E8D1D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4CB8-A097-49AB-964C-53FCA619FD88}" type="slidenum">
              <a:rPr b="0" lang="da-DK" sz="2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3ED1-936A-41EA-BACC-5FDE5B66CD44}" type="slidenum">
              <a:rPr b="0" lang="da-DK" sz="2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bject Orientation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 Dyalog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V1.01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16000" y="1515960"/>
            <a:ext cx="8820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C# they are implemented as a pair of functions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APL the 'name←' case is handled naturally. It is called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SIMPL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se and is the defaul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econd case where indexing is made using any object (as opposed to numbers) is also handled easily. This is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KEYE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s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array nature of APL introduced a notion of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NUMBERE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property. This is the third cas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7"/>
          <p:cNvGrpSpPr/>
          <p:nvPr/>
        </p:nvGrpSpPr>
        <p:grpSpPr>
          <a:xfrm>
            <a:off x="5724360" y="1844640"/>
            <a:ext cx="3384360" cy="4392720"/>
            <a:chOff x="5724360" y="1844640"/>
            <a:chExt cx="3384360" cy="4392720"/>
          </a:xfrm>
        </p:grpSpPr>
        <p:pic>
          <p:nvPicPr>
            <p:cNvPr id="138" name="Picture 2" descr=""/>
            <p:cNvPicPr/>
            <p:nvPr/>
          </p:nvPicPr>
          <p:blipFill>
            <a:blip r:embed="rId1"/>
            <a:stretch/>
          </p:blipFill>
          <p:spPr>
            <a:xfrm>
              <a:off x="5724360" y="1844640"/>
              <a:ext cx="338436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5"/>
            <p:cNvSpPr/>
            <p:nvPr/>
          </p:nvSpPr>
          <p:spPr>
            <a:xfrm>
              <a:off x="7237080" y="3787560"/>
              <a:ext cx="3589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6"/>
            <p:cNvSpPr/>
            <p:nvPr/>
          </p:nvSpPr>
          <p:spPr>
            <a:xfrm>
              <a:off x="7472160" y="4230720"/>
              <a:ext cx="2682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8"/>
          <p:cNvSpPr/>
          <p:nvPr/>
        </p:nvSpPr>
        <p:spPr>
          <a:xfrm>
            <a:off x="6227640" y="3284640"/>
            <a:ext cx="2665440" cy="223200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6000" y="1515960"/>
            <a:ext cx="63007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600" spc="-1" strike="noStrike">
                <a:solidFill>
                  <a:srgbClr val="99cc00"/>
                </a:solidFill>
                <a:latin typeface="Geneva"/>
              </a:rPr>
              <a:t>SIMPLE</a:t>
            </a: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a property is set,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s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E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unction is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retrieved, its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GE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unction is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rgument is a name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taining the name of th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operty (Name) and its valu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NewValue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8000" y="1371600"/>
            <a:ext cx="55087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600" spc="-1" strike="noStrike">
                <a:solidFill>
                  <a:srgbClr val="99cc00"/>
                </a:solidFill>
                <a:latin typeface="Geneva"/>
              </a:rPr>
              <a:t>KEYED</a:t>
            </a: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‘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a’ also contains the indices of the property (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dexer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property MUST be used with [brackets] and their contents cannot be elid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shape must conform to APL rules for assignment and res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594400" y="1484280"/>
            <a:ext cx="3495600" cy="4608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084720" y="2813040"/>
            <a:ext cx="2808360" cy="256068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8000" y="1371600"/>
            <a:ext cx="590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NUMBERED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set/get function call is made,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ONC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per index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pa’ also contains the index to deal with (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Indexer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may be used with indices.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SHAP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function is used to check and generate indice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ir shape must conform to APL rules for assignment and resul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084720" y="1413000"/>
            <a:ext cx="2810160" cy="4680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6443640" y="3141720"/>
            <a:ext cx="2305080" cy="244800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9640" y="1371600"/>
            <a:ext cx="8136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efault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re can be only on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a default property exist, [indexing] can be done directly on the instance. Do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[index]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s the same as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</a:t>
            </a:r>
            <a:r>
              <a:rPr b="1" lang="en-GB" sz="2800" spc="-1" strike="noStrike">
                <a:solidFill>
                  <a:srgbClr val="ff0000"/>
                </a:solidFill>
                <a:latin typeface="Geneva"/>
              </a:rPr>
              <a:t>.defProp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[index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a property is the default then using “squad indexing” applies to the whole propert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ultiple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several properties are similar the definition statement may include several names separated by commas, like thi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Property P1,P2,P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Get/Set functions’ argument will contain the name in ‘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Nam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’ (as in arg.Nam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1214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riggers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583236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←⎕NEW trigger1 ('Dan' 'Baronet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.FirstName←'Daniel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iel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176720" cy="3608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68580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9280" y="13716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Inheritance: new system functions/comman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Bas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used to call base class constructo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BASE used to call base class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override/abl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estructors are called when the instance is destroy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C/⎕NL have been exten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is the same as (⎕NS'').##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:implements, :acce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an be GUI based (ex: :Class F: ‘form’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:includ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←⎕NEW Collie ‘Rex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.⎕nl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 Nlegs  Sounds 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.(Name 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is famili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1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4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5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AutoShape 16"/>
          <p:cNvCxnSpPr>
            <a:stCxn id="175" idx="7"/>
            <a:endCxn id="174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17"/>
          <p:cNvCxnSpPr>
            <a:stCxn id="170" idx="1"/>
            <a:endCxn id="171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18"/>
          <p:cNvCxnSpPr>
            <a:stCxn id="172" idx="3"/>
            <a:endCxn id="173" idx="4"/>
          </p:cNvCxnSpPr>
          <p:nvPr/>
        </p:nvCxnSpPr>
        <p:spPr>
          <a:xfrm flipV="1" rot="16200000">
            <a:off x="4270680" y="190800"/>
            <a:ext cx="442080" cy="4793400"/>
          </a:xfrm>
          <a:prstGeom prst="curvedConnector5">
            <a:avLst>
              <a:gd name="adj1" fmla="val -61450"/>
              <a:gd name="adj2" fmla="val 50000"/>
              <a:gd name="adj3" fmla="val -614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49356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:Ba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68360" y="1700280"/>
            <a:ext cx="53276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 is used to call base function like :base is used to call the constructor with an arg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used when the base function is shadowed by a class member. A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1←⎕new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1.surface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56664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⎕Ba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6093000" y="1413000"/>
            <a:ext cx="1944360" cy="223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2"/>
          <a:stretch/>
        </p:blipFill>
        <p:spPr>
          <a:xfrm>
            <a:off x="5732640" y="3500280"/>
            <a:ext cx="316044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implemented Object Orientation (OO)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territory was uncovered when venturing into O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keeping with the dynamic nature of APL a lot of questions were rais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many were answe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468360" y="1700280"/>
            <a:ext cx="5327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ride and overri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concepts allow a base class code to be overrid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ollowing slides will explain this in more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-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1023840" y="1628640"/>
            <a:ext cx="2746440" cy="3456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2737080" cy="3456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-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2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1058760" y="1628640"/>
            <a:ext cx="2803680" cy="35290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5191200" y="537372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260352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154120" y="5157720"/>
            <a:ext cx="343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 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260496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5"/>
          <p:cNvSpPr/>
          <p:nvPr/>
        </p:nvSpPr>
        <p:spPr>
          <a:xfrm>
            <a:off x="572436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568680" cy="34196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5154120" y="5157720"/>
            <a:ext cx="304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B’s M2 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7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7085160" y="3602160"/>
            <a:ext cx="99684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2"/>
          <p:cNvSpPr/>
          <p:nvPr/>
        </p:nvSpPr>
        <p:spPr>
          <a:xfrm>
            <a:off x="568008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365080" y="5276880"/>
            <a:ext cx="251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B’s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835280" y="3141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587240"/>
            <a:ext cx="46800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estructo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ey are used to clean-up after an instance is destroyed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k←⎕new life ‘Kong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ing  Kong  is born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erase kk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ong  is dead, long live the king.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62592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151740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lasses' system functions/comman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 Interfaces, Classes &amp; some Namespaces (ICN) come in scripted form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RC: Just like ⎕NR returns the representation of a function in nested form, ⎕SRC returns the representation of an ICN in nested form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X: Just like ⎕FX creates a function, ⎕FIX creates an ICN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ED ∘Interf /○Cl/ ⍟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493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NC/⎕NL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ose 2 system functions have been extended to deal with the new object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ince classes and instances are a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typ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of namespace their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basic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classification is 9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NC ‘myClass’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o find their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sub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-class they need to be enclosed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NC 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‘myClass’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NL has also been extended to report all objects of a given sub-class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⍴⍴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NL 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urthermore, if one of the argument to ⎕NL is negative the result is returned in vector format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⍴⍴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NL -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611280" y="493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NL and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NC are symmetric such tha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n∊⎕NC ⎕NL 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a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vn∊⎕NL ⎕NC¨vn  ⍝ vn is a list of nam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611280" y="493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577440" y="158904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L and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⎕NC also apply to variables and function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 complete list is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/4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9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1  Variable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raditional fn/op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S created by ⎕NS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2  Field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D-fns or –op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nstance (could be form)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3  Property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Derived/Primitive            -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4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Class      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5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nterface  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6  External/shared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         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Class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7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Interface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611280" y="493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044360" y="1805040"/>
            <a:ext cx="7056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To see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vars or field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va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fns or method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fns/metho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terfac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interf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vent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eve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prop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34920" y="566640"/>
            <a:ext cx="907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ystem commands</a:t>
            </a:r>
            <a:endParaRPr b="1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637920"/>
            <a:ext cx="820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NC/⎕NL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21800" y="1701720"/>
            <a:ext cx="84582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NL also includes instance members when used with a negative argum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.</a:t>
            </a: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⎕NL -2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.2</a:t>
            </a: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⍝ report all fiel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Type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of Namespaces and their ⎕N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wo already existed in V1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gular N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m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2 (NOT 9.3!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terfa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5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11280" y="709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37920"/>
            <a:ext cx="8278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⎕DF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000" y="1698120"/>
            <a:ext cx="8496360" cy="43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efault display form of a namespace is its path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't1.s1' ⎕NS '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#.t1.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change this using ⎕DF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t1.s1.⎕df  '(S1: son of t1)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t1.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(S1: son of t1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1760" y="1915920"/>
            <a:ext cx="8327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t1.s1   ⍝ even if assigned a new nam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 ⍝ what does this look like?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(S1: son of t1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≡t1.s1   ⍝ it “remembers” its referen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⍬≡⍴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 ⍝ it is still just a ref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 ⍝ its display has a length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15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t1.s1.v11←’var’ ⍝ If we change the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t1.s1.⎕fx ‘f1’ ‘...’ ⍝ contents of s1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,t1.s1.⎕nl 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 v1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,abc.⎕nl 2 3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⍝ abc will “see” i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 v1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’abc’  ‘t1’  ‘t1.s1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.1  9.1  9.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93" name="Group 10"/>
          <p:cNvGrpSpPr/>
          <p:nvPr/>
        </p:nvGrpSpPr>
        <p:grpSpPr>
          <a:xfrm>
            <a:off x="539640" y="4869000"/>
            <a:ext cx="3745080" cy="865080"/>
            <a:chOff x="539640" y="4869000"/>
            <a:chExt cx="3745080" cy="865080"/>
          </a:xfrm>
        </p:grpSpPr>
        <p:sp>
          <p:nvSpPr>
            <p:cNvPr id="294" name="Rectangle 4"/>
            <p:cNvSpPr/>
            <p:nvPr/>
          </p:nvSpPr>
          <p:spPr>
            <a:xfrm>
              <a:off x="3276720" y="4869000"/>
              <a:ext cx="1008000" cy="360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5"/>
            <p:cNvSpPr/>
            <p:nvPr/>
          </p:nvSpPr>
          <p:spPr>
            <a:xfrm>
              <a:off x="1908000" y="5373720"/>
              <a:ext cx="503280" cy="360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6"/>
            <p:cNvSpPr/>
            <p:nvPr/>
          </p:nvSpPr>
          <p:spPr>
            <a:xfrm>
              <a:off x="539640" y="5373720"/>
              <a:ext cx="503280" cy="360360"/>
            </a:xfrm>
            <a:prstGeom prst="rect">
              <a:avLst/>
            </a:prstGeom>
            <a:solidFill>
              <a:srgbClr val="ddfc2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"/>
            <p:cNvSpPr/>
            <p:nvPr/>
          </p:nvSpPr>
          <p:spPr>
            <a:xfrm>
              <a:off x="1692360" y="4869000"/>
              <a:ext cx="792000" cy="360360"/>
            </a:xfrm>
            <a:prstGeom prst="rect">
              <a:avLst/>
            </a:prstGeom>
            <a:solidFill>
              <a:srgbClr val="ddfc2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8"/>
            <p:cNvSpPr/>
            <p:nvPr/>
          </p:nvSpPr>
          <p:spPr>
            <a:xfrm>
              <a:off x="1235160" y="5373720"/>
              <a:ext cx="503280" cy="360360"/>
            </a:xfrm>
            <a:prstGeom prst="rect">
              <a:avLst/>
            </a:prstGeom>
            <a:solidFill>
              <a:srgbClr val="6bfd8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9"/>
            <p:cNvSpPr/>
            <p:nvPr/>
          </p:nvSpPr>
          <p:spPr>
            <a:xfrm>
              <a:off x="2627280" y="4869000"/>
              <a:ext cx="503280" cy="360360"/>
            </a:xfrm>
            <a:prstGeom prst="rect">
              <a:avLst/>
            </a:prstGeom>
            <a:solidFill>
              <a:srgbClr val="6bfd8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2560" y="1731960"/>
            <a:ext cx="88218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' system functions/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onadic ⎕CLASS returns the tree of referen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yadic ⎕CLASS    casts an instance into another 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CLASS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lists classes in the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Implement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identifies what it implemen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F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change the display form of a 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INTERFACES     lists all interfaces in the current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63480" y="17445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get a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distinc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py of t1.s1 we need to d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←⎕NS ⎕OR 't1.s1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,abc.⎕NL  2  3    ⍝ everything is </a:t>
            </a: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copi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 v1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⍝ even its 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(S1: son of t1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≡t1.s1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⍝ but they’re differ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.⎕df ‘I am ABC’    ⋄   ab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 am AB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303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25800" y="154152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6086520" y="13971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6013080" y="285264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5727960" y="4508640"/>
            <a:ext cx="15339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1116720" y="24922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bc.⎕NL  2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450000" y="301608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3"/>
          <p:cNvSpPr/>
          <p:nvPr/>
        </p:nvSpPr>
        <p:spPr>
          <a:xfrm flipH="1">
            <a:off x="971280" y="3068640"/>
            <a:ext cx="504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 flipV="1">
            <a:off x="971640" y="3716280"/>
            <a:ext cx="4680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316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6013080" y="260208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5651640" y="3963960"/>
            <a:ext cx="2089080" cy="192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26160" y="1461960"/>
            <a:ext cx="336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ad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 name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bc’ ⎕ns ‘tx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&lt;tx&gt;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‘v11’ or &lt;f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325" name="Rectangle 3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5507280" y="1989000"/>
            <a:ext cx="18936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.[Namespac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5435640" y="3500280"/>
            <a:ext cx="20890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324000" y="1461960"/>
            <a:ext cx="417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f you us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bc←⎕ns 'tx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tx&gt; appear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’ alon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isplay form is re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default display form of a Form is its path, just like a regular namespac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+'F1' ⎕WC 'form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e can change this using ⎕DF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df '&lt;F1 is in great form&gt;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&lt;F1 is in great form&gt;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we can add items to it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b1’ ⎕wc ‘button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e2’ F1.⎕wc ‘edit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’  ‘F1.b1’  ‘F1.e2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.2  9.2  9.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⍝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we have 3 </a:t>
            </a: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instances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of built-in APL form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e2   F1  ⍝ each with its own 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.e2   &lt;F1 is in great form&gt;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900000" y="4724280"/>
            <a:ext cx="100800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539640" y="5229360"/>
            <a:ext cx="1368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050920" y="5229360"/>
            <a:ext cx="338472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2124000" y="4724280"/>
            <a:ext cx="50508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1658880" y="3181320"/>
            <a:ext cx="60948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595440" y="3716280"/>
            <a:ext cx="57600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3708360" y="3189240"/>
            <a:ext cx="107964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1979640" y="3716280"/>
            <a:ext cx="576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2427120" y="3189240"/>
            <a:ext cx="108108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1292400" y="3716280"/>
            <a:ext cx="57600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347" name="Rectangle 3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4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485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497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contains 2 object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 2 3 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b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e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2 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.b1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c ‘Caption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"/>
          <p:cNvPicPr/>
          <p:nvPr/>
        </p:nvPicPr>
        <p:blipFill>
          <a:blip r:embed="rId2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0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555920"/>
            <a:ext cx="770436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form is pretty much like a namespac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can contain variables and function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v1←’some var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fx ‘f1’ ‘whatever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2 3   ⍝ these are POSITIVE number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v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are the items WE have add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360" name="Rectangle 3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4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6057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now contains 4 object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 2 3 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b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e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v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4 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.b1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8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" descr=""/>
          <p:cNvPicPr/>
          <p:nvPr/>
        </p:nvPicPr>
        <p:blipFill>
          <a:blip r:embed="rId2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0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5867640" y="3573360"/>
            <a:ext cx="16437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 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what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2"/>
          <p:cNvSpPr/>
          <p:nvPr/>
        </p:nvSpPr>
        <p:spPr>
          <a:xfrm>
            <a:off x="5613480" y="4941720"/>
            <a:ext cx="219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←’some 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3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4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UT a form also has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properti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method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wx←1          ⍝ to be able to see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-2 3  ⍝ include internal item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ccelerator  ... Caption ...  YRang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6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c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’Caption’   ⍝ Caption is extern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¯2.6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new 65 items are the only visibl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member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insid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he form. They do NOT appear in ⎕nl +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000" y="180504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Geneva"/>
              </a:rPr>
              <a:t>can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mplement one or more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wha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t should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8640" y="1483920"/>
            <a:ext cx="44006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orm contains 4 external objec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F1.⎕nl -2 3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76" name="Group 17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377" name="Group 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sp>
            <p:nvSpPr>
              <p:cNvPr id="378" name="Rectangle 3"/>
              <p:cNvSpPr/>
              <p:nvPr/>
            </p:nvSpPr>
            <p:spPr>
              <a:xfrm>
                <a:off x="5148360" y="2276640"/>
                <a:ext cx="3527280" cy="3671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4"/>
              <p:cNvSpPr/>
              <p:nvPr/>
            </p:nvSpPr>
            <p:spPr>
              <a:xfrm>
                <a:off x="5148360" y="2923920"/>
                <a:ext cx="352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Text Box 7"/>
            <p:cNvSpPr/>
            <p:nvPr/>
          </p:nvSpPr>
          <p:spPr>
            <a:xfrm>
              <a:off x="5763960" y="2421000"/>
              <a:ext cx="228996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F1 is in great form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1"/>
            <p:cNvSpPr/>
            <p:nvPr/>
          </p:nvSpPr>
          <p:spPr>
            <a:xfrm>
              <a:off x="5293800" y="3573360"/>
              <a:ext cx="72936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0"/>
            <p:cNvSpPr/>
            <p:nvPr/>
          </p:nvSpPr>
          <p:spPr>
            <a:xfrm>
              <a:off x="6659640" y="29970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2"/>
            <p:cNvSpPr/>
            <p:nvPr/>
          </p:nvSpPr>
          <p:spPr>
            <a:xfrm>
              <a:off x="7814160" y="3429000"/>
              <a:ext cx="5022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15"/>
            <p:cNvGrpSpPr/>
            <p:nvPr/>
          </p:nvGrpSpPr>
          <p:grpSpPr>
            <a:xfrm>
              <a:off x="5291280" y="2997000"/>
              <a:ext cx="720720" cy="502920"/>
              <a:chOff x="5291280" y="2997000"/>
              <a:chExt cx="720720" cy="502920"/>
            </a:xfrm>
          </p:grpSpPr>
          <p:pic>
            <p:nvPicPr>
              <p:cNvPr id="385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364360" y="3058560"/>
                <a:ext cx="57132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Rectangle 13"/>
              <p:cNvSpPr/>
              <p:nvPr/>
            </p:nvSpPr>
            <p:spPr>
              <a:xfrm>
                <a:off x="5291280" y="2997000"/>
                <a:ext cx="720720" cy="50292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6"/>
            <p:cNvGrpSpPr/>
            <p:nvPr/>
          </p:nvGrpSpPr>
          <p:grpSpPr>
            <a:xfrm>
              <a:off x="6875640" y="4653000"/>
              <a:ext cx="1439640" cy="360000"/>
              <a:chOff x="6875640" y="4653000"/>
              <a:chExt cx="1439640" cy="360000"/>
            </a:xfrm>
          </p:grpSpPr>
          <p:pic>
            <p:nvPicPr>
              <p:cNvPr id="388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6946920" y="4700520"/>
                <a:ext cx="1285200" cy="26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Rectangle 14"/>
              <p:cNvSpPr/>
              <p:nvPr/>
            </p:nvSpPr>
            <p:spPr>
              <a:xfrm>
                <a:off x="6875640" y="4653000"/>
                <a:ext cx="1439640" cy="36000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19"/>
          <p:cNvSpPr/>
          <p:nvPr/>
        </p:nvSpPr>
        <p:spPr>
          <a:xfrm>
            <a:off x="6190200" y="160344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]WX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8"/>
          <p:cNvSpPr/>
          <p:nvPr/>
        </p:nvSpPr>
        <p:spPr>
          <a:xfrm>
            <a:off x="5992920" y="3449520"/>
            <a:ext cx="18396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8"/>
          <p:cNvSpPr/>
          <p:nvPr/>
        </p:nvSpPr>
        <p:spPr>
          <a:xfrm>
            <a:off x="460440" y="1482840"/>
            <a:ext cx="4400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orm contains 69 total obj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F1.⎕nl -2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Accelerator ... Caption ...  Y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6185520" y="159552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]WX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95" name="Group 17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396" name="Group 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sp>
            <p:nvSpPr>
              <p:cNvPr id="397" name="Rectangle 3"/>
              <p:cNvSpPr/>
              <p:nvPr/>
            </p:nvSpPr>
            <p:spPr>
              <a:xfrm>
                <a:off x="5148360" y="2276640"/>
                <a:ext cx="3527280" cy="3671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4"/>
              <p:cNvSpPr/>
              <p:nvPr/>
            </p:nvSpPr>
            <p:spPr>
              <a:xfrm>
                <a:off x="5148360" y="2923920"/>
                <a:ext cx="352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7"/>
            <p:cNvSpPr/>
            <p:nvPr/>
          </p:nvSpPr>
          <p:spPr>
            <a:xfrm>
              <a:off x="5763960" y="2421000"/>
              <a:ext cx="228996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F1 is in great form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5293800" y="3573360"/>
              <a:ext cx="72936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>
              <a:off x="6659640" y="29970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2"/>
            <p:cNvSpPr/>
            <p:nvPr/>
          </p:nvSpPr>
          <p:spPr>
            <a:xfrm>
              <a:off x="7814160" y="3429000"/>
              <a:ext cx="5022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Group 15"/>
            <p:cNvGrpSpPr/>
            <p:nvPr/>
          </p:nvGrpSpPr>
          <p:grpSpPr>
            <a:xfrm>
              <a:off x="5291280" y="2997000"/>
              <a:ext cx="720720" cy="502920"/>
              <a:chOff x="5291280" y="2997000"/>
              <a:chExt cx="720720" cy="502920"/>
            </a:xfrm>
          </p:grpSpPr>
          <p:pic>
            <p:nvPicPr>
              <p:cNvPr id="404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364360" y="3058560"/>
                <a:ext cx="57132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Rectangle 13"/>
              <p:cNvSpPr/>
              <p:nvPr/>
            </p:nvSpPr>
            <p:spPr>
              <a:xfrm>
                <a:off x="5291280" y="2997000"/>
                <a:ext cx="720720" cy="50292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6"/>
            <p:cNvGrpSpPr/>
            <p:nvPr/>
          </p:nvGrpSpPr>
          <p:grpSpPr>
            <a:xfrm>
              <a:off x="6875640" y="4653000"/>
              <a:ext cx="1439640" cy="360000"/>
              <a:chOff x="6875640" y="4653000"/>
              <a:chExt cx="1439640" cy="360000"/>
            </a:xfrm>
          </p:grpSpPr>
          <p:pic>
            <p:nvPicPr>
              <p:cNvPr id="407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6946920" y="4700520"/>
                <a:ext cx="1285200" cy="26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Rectangle 14"/>
              <p:cNvSpPr/>
              <p:nvPr/>
            </p:nvSpPr>
            <p:spPr>
              <a:xfrm>
                <a:off x="6875640" y="4653000"/>
                <a:ext cx="1439640" cy="36000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 Box 38"/>
          <p:cNvSpPr/>
          <p:nvPr/>
        </p:nvSpPr>
        <p:spPr>
          <a:xfrm>
            <a:off x="5992920" y="3449520"/>
            <a:ext cx="18396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52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411" name="Group 2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grpSp>
            <p:nvGrpSpPr>
              <p:cNvPr id="412" name="Group 23"/>
              <p:cNvGrpSpPr/>
              <p:nvPr/>
            </p:nvGrpSpPr>
            <p:grpSpPr>
              <a:xfrm>
                <a:off x="5148360" y="2276640"/>
                <a:ext cx="3527280" cy="3671640"/>
                <a:chOff x="5148360" y="2276640"/>
                <a:chExt cx="3527280" cy="3671640"/>
              </a:xfrm>
            </p:grpSpPr>
            <p:sp>
              <p:nvSpPr>
                <p:cNvPr id="413" name="Rectangle 24"/>
                <p:cNvSpPr/>
                <p:nvPr/>
              </p:nvSpPr>
              <p:spPr>
                <a:xfrm>
                  <a:off x="5148360" y="2276640"/>
                  <a:ext cx="3527280" cy="3671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5"/>
                <p:cNvSpPr/>
                <p:nvPr/>
              </p:nvSpPr>
              <p:spPr>
                <a:xfrm>
                  <a:off x="5148360" y="2923920"/>
                  <a:ext cx="352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Text Box 26"/>
              <p:cNvSpPr/>
              <p:nvPr/>
            </p:nvSpPr>
            <p:spPr>
              <a:xfrm>
                <a:off x="5763960" y="2421000"/>
                <a:ext cx="2289960" cy="3682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&lt;F1 is in great form&gt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27"/>
              <p:cNvSpPr/>
              <p:nvPr/>
            </p:nvSpPr>
            <p:spPr>
              <a:xfrm>
                <a:off x="5293800" y="3573360"/>
                <a:ext cx="729360" cy="825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∇</a:t>
                </a: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f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28"/>
              <p:cNvSpPr/>
              <p:nvPr/>
            </p:nvSpPr>
            <p:spPr>
              <a:xfrm>
                <a:off x="6659640" y="299700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29"/>
              <p:cNvSpPr/>
              <p:nvPr/>
            </p:nvSpPr>
            <p:spPr>
              <a:xfrm>
                <a:off x="7814160" y="3429000"/>
                <a:ext cx="502200" cy="45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"/>
                  </a:rPr>
                  <a:t>v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Group 30"/>
              <p:cNvGrpSpPr/>
              <p:nvPr/>
            </p:nvGrpSpPr>
            <p:grpSpPr>
              <a:xfrm>
                <a:off x="5291280" y="2997000"/>
                <a:ext cx="720720" cy="502920"/>
                <a:chOff x="5291280" y="2997000"/>
                <a:chExt cx="720720" cy="502920"/>
              </a:xfrm>
            </p:grpSpPr>
            <p:pic>
              <p:nvPicPr>
                <p:cNvPr id="420" name="Picture 3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64360" y="3058560"/>
                  <a:ext cx="571320" cy="390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Rectangle 32"/>
                <p:cNvSpPr/>
                <p:nvPr/>
              </p:nvSpPr>
              <p:spPr>
                <a:xfrm>
                  <a:off x="5291280" y="2997000"/>
                  <a:ext cx="720720" cy="502920"/>
                </a:xfrm>
                <a:prstGeom prst="rect">
                  <a:avLst/>
                </a:prstGeom>
                <a:solidFill>
                  <a:srgbClr val="ff0000">
                    <a:alpha val="4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33"/>
              <p:cNvGrpSpPr/>
              <p:nvPr/>
            </p:nvGrpSpPr>
            <p:grpSpPr>
              <a:xfrm>
                <a:off x="6875640" y="4653000"/>
                <a:ext cx="1439640" cy="360000"/>
                <a:chOff x="6875640" y="4653000"/>
                <a:chExt cx="1439640" cy="360000"/>
              </a:xfrm>
            </p:grpSpPr>
            <p:pic>
              <p:nvPicPr>
                <p:cNvPr id="423" name="Picture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946920" y="4700520"/>
                  <a:ext cx="1285200" cy="26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4" name="Rectangle 35"/>
                <p:cNvSpPr/>
                <p:nvPr/>
              </p:nvSpPr>
              <p:spPr>
                <a:xfrm>
                  <a:off x="6875640" y="4653000"/>
                  <a:ext cx="1439640" cy="360000"/>
                </a:xfrm>
                <a:prstGeom prst="rect">
                  <a:avLst/>
                </a:prstGeom>
                <a:solidFill>
                  <a:srgbClr val="ff0000">
                    <a:alpha val="4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e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5" name="Text Box 36"/>
            <p:cNvSpPr/>
            <p:nvPr/>
          </p:nvSpPr>
          <p:spPr>
            <a:xfrm>
              <a:off x="6110280" y="2995560"/>
              <a:ext cx="108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Acceler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Ca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7"/>
            <p:cNvSpPr/>
            <p:nvPr/>
          </p:nvSpPr>
          <p:spPr>
            <a:xfrm>
              <a:off x="7949880" y="292428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H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41"/>
            <p:cNvSpPr/>
            <p:nvPr/>
          </p:nvSpPr>
          <p:spPr>
            <a:xfrm>
              <a:off x="6345000" y="3571920"/>
              <a:ext cx="106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Help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42"/>
            <p:cNvSpPr/>
            <p:nvPr/>
          </p:nvSpPr>
          <p:spPr>
            <a:xfrm>
              <a:off x="5318280" y="4940280"/>
              <a:ext cx="117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Siz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Step X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3"/>
            <p:cNvSpPr/>
            <p:nvPr/>
          </p:nvSpPr>
          <p:spPr>
            <a:xfrm>
              <a:off x="5302440" y="430200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Picture  Posn  PropList  Range  Redr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44"/>
            <p:cNvSpPr/>
            <p:nvPr/>
          </p:nvSpPr>
          <p:spPr>
            <a:xfrm>
              <a:off x="6447600" y="4002120"/>
              <a:ext cx="120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Border  BC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45"/>
            <p:cNvSpPr/>
            <p:nvPr/>
          </p:nvSpPr>
          <p:spPr>
            <a:xfrm>
              <a:off x="5215680" y="4608360"/>
              <a:ext cx="16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AcceptFiles  Ac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46"/>
            <p:cNvSpPr/>
            <p:nvPr/>
          </p:nvSpPr>
          <p:spPr>
            <a:xfrm>
              <a:off x="7663680" y="378792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Y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5725080" y="405936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VScro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8"/>
            <p:cNvSpPr/>
            <p:nvPr/>
          </p:nvSpPr>
          <p:spPr>
            <a:xfrm>
              <a:off x="7115040" y="32097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Pi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9"/>
            <p:cNvSpPr/>
            <p:nvPr/>
          </p:nvSpPr>
          <p:spPr>
            <a:xfrm>
              <a:off x="5234760" y="53704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Po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50"/>
            <p:cNvSpPr/>
            <p:nvPr/>
          </p:nvSpPr>
          <p:spPr>
            <a:xfrm>
              <a:off x="5705280" y="5586480"/>
              <a:ext cx="28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MethodList  MinButton  Move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51"/>
            <p:cNvSpPr/>
            <p:nvPr/>
          </p:nvSpPr>
          <p:spPr>
            <a:xfrm>
              <a:off x="6467040" y="5084640"/>
              <a:ext cx="213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CursorObj  Data  Deta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422360"/>
            <a:ext cx="814716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has 2 types of functions and variable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-591120">
              <a:lnSpc>
                <a:spcPct val="90000"/>
              </a:lnSpc>
              <a:spcBef>
                <a:spcPts val="174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in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specific to its typ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</a:t>
            </a:r>
            <a:r>
              <a:rPr b="0" i="1" lang="en-GB" sz="2800" spc="-1" strike="noStrike">
                <a:solidFill>
                  <a:srgbClr val="ff0000"/>
                </a:solidFill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, those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w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d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s can be listed with a NEGATIVE ⎕NL argument ONL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s can be listed with a POSITIVE ⎕NL argument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L- includes both types of element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684360" y="1916280"/>
            <a:ext cx="77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l namespaces have a comm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684360" y="3068640"/>
            <a:ext cx="721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inherit system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ystem variables exist both 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we redefine the form all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bjects disappear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+‘F1’⎕wc’form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0 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-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65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446" name="Rectangle 5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7"/>
          <p:cNvSpPr/>
          <p:nvPr/>
        </p:nvSpPr>
        <p:spPr>
          <a:xfrm>
            <a:off x="6373800" y="2276640"/>
            <a:ext cx="6379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.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608616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250920" y="2492280"/>
            <a:ext cx="42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es are a different kind of namespace but they behave iden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⍝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O external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L  2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6" descr=""/>
          <p:cNvPicPr/>
          <p:nvPr/>
        </p:nvPicPr>
        <p:blipFill>
          <a:blip r:embed="rId1"/>
          <a:stretch/>
        </p:blipFill>
        <p:spPr>
          <a:xfrm>
            <a:off x="4471920" y="1916280"/>
            <a:ext cx="4276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55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529380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4935240" y="393372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1"/>
          <p:cNvSpPr/>
          <p:nvPr/>
        </p:nvSpPr>
        <p:spPr>
          <a:xfrm flipH="1" flipV="1">
            <a:off x="1979280" y="2781360"/>
            <a:ext cx="3313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2"/>
          <p:cNvSpPr/>
          <p:nvPr/>
        </p:nvSpPr>
        <p:spPr>
          <a:xfrm flipH="1" flipV="1">
            <a:off x="971280" y="2924280"/>
            <a:ext cx="381636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250920" y="2133720"/>
            <a:ext cx="410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L -2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S1  M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ivate members cannot be seen or accessed from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666072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MS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5"/>
          <p:cNvSpPr/>
          <p:nvPr/>
        </p:nvSpPr>
        <p:spPr>
          <a:xfrm>
            <a:off x="5006520" y="4653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rial"/>
              </a:rPr>
              <a:t>FS0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69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412920" y="1941480"/>
            <a:ext cx="423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add items “outside” a cla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’ ⎕ns ‘tx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v11←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they ap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any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80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413280" y="1941480"/>
            <a:ext cx="32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C 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c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  v11  FS1  MS1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491" name="Rectangle 3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4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s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6157800" y="13413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5724720" y="1989000"/>
            <a:ext cx="14868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#.[ShrIn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9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662520" y="371628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412920" y="1941480"/>
            <a:ext cx="394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←⎕new 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.⎕NL 3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.⎕NL -3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I1  FS1  MI1  M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hared members are visible through the in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2"/>
          <p:cNvSpPr/>
          <p:nvPr/>
        </p:nvSpPr>
        <p:spPr>
          <a:xfrm flipV="1">
            <a:off x="6516720" y="249192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51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4"/>
          <p:cNvSpPr/>
          <p:nvPr/>
        </p:nvSpPr>
        <p:spPr>
          <a:xfrm>
            <a:off x="4862160" y="371952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F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5"/>
          <p:cNvSpPr/>
          <p:nvPr/>
        </p:nvSpPr>
        <p:spPr>
          <a:xfrm>
            <a:off x="493416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6"/>
          <p:cNvSpPr/>
          <p:nvPr/>
        </p:nvSpPr>
        <p:spPr>
          <a:xfrm>
            <a:off x="658980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151740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nterface describes what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ha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be done with a machin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∘maneuv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does NOT specify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4681440" y="2509920"/>
            <a:ext cx="4066920" cy="3727440"/>
            <a:chOff x="4681440" y="2509920"/>
            <a:chExt cx="4066920" cy="3727440"/>
          </a:xfrm>
        </p:grpSpPr>
        <p:pic>
          <p:nvPicPr>
            <p:cNvPr id="103" name="Picture 4" descr=""/>
            <p:cNvPicPr/>
            <p:nvPr/>
          </p:nvPicPr>
          <p:blipFill>
            <a:blip r:embed="rId1"/>
            <a:stretch/>
          </p:blipFill>
          <p:spPr>
            <a:xfrm>
              <a:off x="4681440" y="2509920"/>
              <a:ext cx="4066920" cy="37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5"/>
            <p:cNvSpPr/>
            <p:nvPr/>
          </p:nvSpPr>
          <p:spPr>
            <a:xfrm>
              <a:off x="7634160" y="3448080"/>
              <a:ext cx="5047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5767200" y="5086080"/>
              <a:ext cx="86364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6338520" y="4356000"/>
              <a:ext cx="107964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terfa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408960" y="1941480"/>
            <a:ext cx="439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ed ∘ maneuv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v11←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5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352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terfa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108000" y="198900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ethods in the interface can only be seen when exposed through the dyadic ⎕CLASS system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VW←⎕new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(VW ⎕class maneuvering).⎕nl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ccellerate SlowDown S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5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4077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ll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180720" y="1268280"/>
            <a:ext cx="8850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oncept of internal/external names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uming we have all types of namespaces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s←⎕ns 'v1' 'f1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o←⎕new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'form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in1←⎕new c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ll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←ns,fo,cl1,in1,i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¨all.⎕nl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-2 3  ⍝ will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2   65  1  2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6084720" y="3060720"/>
            <a:ext cx="2467080" cy="14954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"/>
          <p:cNvPicPr/>
          <p:nvPr/>
        </p:nvPicPr>
        <p:blipFill>
          <a:blip r:embed="rId2"/>
          <a:stretch/>
        </p:blipFill>
        <p:spPr>
          <a:xfrm>
            <a:off x="6659640" y="4645080"/>
            <a:ext cx="145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ll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180720" y="1268280"/>
            <a:ext cx="8437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oncept of internal/external names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ing 1 external item to each name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¨all.⎕nl⊂-2 3  ⍝ will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2 65 1 2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ll.X←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¨all.⎕nl⊂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3 66 2 3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1"/>
          <a:stretch/>
        </p:blipFill>
        <p:spPr>
          <a:xfrm>
            <a:off x="6084720" y="3060720"/>
            <a:ext cx="2467080" cy="14954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"/>
          <p:cNvPicPr/>
          <p:nvPr/>
        </p:nvPicPr>
        <p:blipFill>
          <a:blip r:embed="rId2"/>
          <a:stretch/>
        </p:blipFill>
        <p:spPr>
          <a:xfrm>
            <a:off x="6659640" y="4645080"/>
            <a:ext cx="145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Inclu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440" y="162864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statement is used when wanting to include CODE (not data) into a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may be because the code to include is comm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127320" cy="37432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5"/>
          <p:cNvSpPr/>
          <p:nvPr/>
        </p:nvSpPr>
        <p:spPr>
          <a:xfrm>
            <a:off x="5364000" y="2781360"/>
            <a:ext cx="1872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560" y="49356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 summary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42520" y="148428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any new system commands &amp; f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terfaces show how it is don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umbered Properties are implemented in a special manner in AP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riggers offer lightweight properti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L/⎕NC have been extend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notion of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names is importa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clusion of common code is possib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24000" y="49356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WordArt 2"/>
          <p:cNvSpPr txBox="1"/>
          <p:nvPr/>
        </p:nvSpPr>
        <p:spPr>
          <a:xfrm>
            <a:off x="395280" y="2205000"/>
            <a:ext cx="8280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Example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280" y="42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is used to create complex numbers.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t can perform most simple math operations on them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ublic instance field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1 public shared fiel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rivate field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5 instance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2" name="Picture 4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also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5 shared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ese perform the basic operations: + - × ÷ *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5364000" y="765000"/>
            <a:ext cx="369108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060880" y="2136600"/>
            <a:ext cx="4048200" cy="4029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5565600" y="3502080"/>
            <a:ext cx="3240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565600" y="4581360"/>
            <a:ext cx="3240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565600" y="5345280"/>
            <a:ext cx="324036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7923240" y="3502080"/>
            <a:ext cx="88272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7923240" y="4581360"/>
            <a:ext cx="88272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7923240" y="5345280"/>
            <a:ext cx="882720" cy="215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6720" y="1515960"/>
            <a:ext cx="8207640" cy="6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ar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43720" y="2332080"/>
            <a:ext cx="5356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←⎕new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GasPedal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up   to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neuvering ⎕class VW).Steer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ing   N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neuvering ⎕class VW).Accellerate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up   to 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GasPedal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down   to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BreakPedal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ing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826920" y="3349800"/>
            <a:ext cx="280836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826920" y="3957480"/>
            <a:ext cx="2808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345600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also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constructors a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rivate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one of which is a trigger for when one of the fields is modifi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3851280" y="1268280"/>
            <a:ext cx="51814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Keyed component fi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idea is to have a file whose components are accessed  by key instead of a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rt of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.Read ‘key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"/>
          <p:cNvPicPr/>
          <p:nvPr/>
        </p:nvPicPr>
        <p:blipFill>
          <a:blip r:embed="rId1"/>
          <a:stretch/>
        </p:blipFill>
        <p:spPr>
          <a:xfrm>
            <a:off x="5065560" y="0"/>
            <a:ext cx="4259520" cy="702936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Keyed component fil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680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ince it is made from a component file it might be better to define a component file clas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ike this →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is class ties a file, creating it if necessary, and unties it (and destroys it if it was temporary) upon deleting the instan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WordArt 2"/>
          <p:cNvSpPr txBox="1"/>
          <p:nvPr/>
        </p:nvSpPr>
        <p:spPr>
          <a:xfrm>
            <a:off x="395280" y="1484280"/>
            <a:ext cx="8569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.Net and other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goodie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14596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addition to the classes which you can write in APL, version 11.0 allows you to work with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yalog GUI classes, including OLE Servers and and OLE Controls (ActiveX component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icrosoft.Net clas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214596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version 11.0, these classes can be used in exactly the same way as instances of classes which have been implemented in APL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You create instances of them with ⎕NEW, and you can manipulate the public properties, methods and events which they expose (but unlike APL classes, you cannot see or modify the implementation)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orms and more via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t is possible to create forms using ⎕new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f1←⎕NEW 'form‘ ((‘caption’ ‘MyForm’)('size' (12 16)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ote that the class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name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or built-in GUI objects is provided as a string rather than as a reference to a name in the workspac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You can create OLE controls with ⎕new too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xl←⎕NEW 'OleClient‘ (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'ClassName‘ 'Excel.Application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X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is system function eXposes Window’s interfac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0= do NOT expose anyth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+1= expose names and report in ⎕NL with negative argument, use V10 syntax where properties are treated as functions (e.g. Sheet.(Item 3)...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+2= use new V11 syntax (e.g. Sheet[3]...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xl←⎕NEW 'OleClient‘ (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'ClassName‘ 'Excel.Application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x allows to use V10 syntax or the new V11 synta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⎕wx←1 ⍝ use V10 for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 ActiveWorkbook.Sheets.(Item 1).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⎕wx←3 ⍝ use V11 for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ActiveWorkbook.Sheets[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’Sheet2'].Index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X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345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andardize dialog box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f1←⎕NEW Dialog ('Hello World' (50 250) ⍬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ote how the class is based on ‘Form’ (a string) and not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For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(a nam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You can do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fm←⎕NEW ‘form’ ..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1"/>
          <a:stretch/>
        </p:blipFill>
        <p:spPr>
          <a:xfrm>
            <a:off x="3564000" y="1247760"/>
            <a:ext cx="5508720" cy="49179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5724360" y="4941720"/>
            <a:ext cx="2448000" cy="7812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6"/>
          <p:cNvSpPr/>
          <p:nvPr/>
        </p:nvSpPr>
        <p:spPr>
          <a:xfrm>
            <a:off x="3995640" y="3500280"/>
            <a:ext cx="4105440" cy="4651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4764240" y="1700280"/>
            <a:ext cx="576000" cy="21600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2"/>
          <p:cNvGrpSpPr/>
          <p:nvPr/>
        </p:nvGrpSpPr>
        <p:grpSpPr>
          <a:xfrm>
            <a:off x="4832280" y="1865160"/>
            <a:ext cx="4276800" cy="4371840"/>
            <a:chOff x="4832280" y="1865160"/>
            <a:chExt cx="4276800" cy="4371840"/>
          </a:xfrm>
        </p:grpSpPr>
        <p:pic>
          <p:nvPicPr>
            <p:cNvPr id="121" name="Picture 2" descr=""/>
            <p:cNvPicPr/>
            <p:nvPr/>
          </p:nvPicPr>
          <p:blipFill>
            <a:blip r:embed="rId1"/>
            <a:stretch/>
          </p:blipFill>
          <p:spPr>
            <a:xfrm>
              <a:off x="4832280" y="1865160"/>
              <a:ext cx="4276800" cy="43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Rectangle 3"/>
            <p:cNvSpPr/>
            <p:nvPr/>
          </p:nvSpPr>
          <p:spPr>
            <a:xfrm>
              <a:off x="5337000" y="3385800"/>
              <a:ext cx="32403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7692840" y="3385800"/>
              <a:ext cx="884520" cy="21600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5337000" y="4457520"/>
              <a:ext cx="324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5337000" y="5373360"/>
              <a:ext cx="32403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7692840" y="4457520"/>
              <a:ext cx="884520" cy="21564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7692840" y="5373360"/>
              <a:ext cx="884520" cy="21600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47640" y="1371240"/>
            <a:ext cx="824544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lan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-6120" y="2133720"/>
            <a:ext cx="5357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←⎕new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Stick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ding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Handle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ing   up   to 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Stick 23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mbing,  Heading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neuvering ⎕class C172).Steer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ding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neuvering ⎕class C172).SlowDown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aps   20  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587520" y="4365720"/>
            <a:ext cx="297648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587520" y="4973760"/>
            <a:ext cx="297648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Net utiliti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re is a lot of utilities out there that can be used in APL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or example, the Date/Time utilities found in the .Net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DateTi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clas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y are found in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Syste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namespace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o be able to use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DateTi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class you must indicate to APL that it resides in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Syste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namespace with ⎕USING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USING←’System’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ow←⎕new DateTime ⎕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ow ⍝ let’s see its display form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2007/10/01 21:47:08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c ‘now’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2195640" y="3843360"/>
            <a:ext cx="93636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2340000" y="4148280"/>
            <a:ext cx="1150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allow other languages to use your code you should organize your classes in namespace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755640" y="3068640"/>
            <a:ext cx="7201080" cy="3024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810000" y="414036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1835280" y="3284640"/>
            <a:ext cx="583236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1835280" y="4581360"/>
            <a:ext cx="583236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1910880" y="3645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1910880" y="50133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0"/>
          <p:cNvSpPr/>
          <p:nvPr/>
        </p:nvSpPr>
        <p:spPr>
          <a:xfrm>
            <a:off x="615636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320616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2"/>
          <p:cNvSpPr/>
          <p:nvPr/>
        </p:nvSpPr>
        <p:spPr>
          <a:xfrm>
            <a:off x="457200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3"/>
          <p:cNvSpPr/>
          <p:nvPr/>
        </p:nvSpPr>
        <p:spPr>
          <a:xfrm>
            <a:off x="3059280" y="3429000"/>
            <a:ext cx="122364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4"/>
          <p:cNvSpPr/>
          <p:nvPr/>
        </p:nvSpPr>
        <p:spPr>
          <a:xfrm>
            <a:off x="298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5"/>
          <p:cNvSpPr/>
          <p:nvPr/>
        </p:nvSpPr>
        <p:spPr>
          <a:xfrm>
            <a:off x="442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6"/>
          <p:cNvSpPr/>
          <p:nvPr/>
        </p:nvSpPr>
        <p:spPr>
          <a:xfrm>
            <a:off x="471924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7"/>
          <p:cNvSpPr/>
          <p:nvPr/>
        </p:nvSpPr>
        <p:spPr>
          <a:xfrm>
            <a:off x="630360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313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9"/>
          <p:cNvSpPr/>
          <p:nvPr/>
        </p:nvSpPr>
        <p:spPr>
          <a:xfrm>
            <a:off x="457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704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allow other languages to use your code you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eclare how it works 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the :Signature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atem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xport it through the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le/Export/.Net DLL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nu it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3467160" cy="20574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5"/>
          <p:cNvSpPr/>
          <p:nvPr/>
        </p:nvSpPr>
        <p:spPr>
          <a:xfrm>
            <a:off x="5292720" y="3716280"/>
            <a:ext cx="2879640" cy="2174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6738840" y="3645000"/>
            <a:ext cx="80028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Signature statemen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statement is used for the outside world where type is important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t is made up of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Geneva"/>
              </a:rPr>
              <a:t>:Signatur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[rt←]</a:t>
            </a:r>
            <a:r>
              <a:rPr b="0" lang="en-GB" sz="2400" spc="-1" strike="noStrike">
                <a:solidFill>
                  <a:srgbClr val="ddfc20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Geneva"/>
              </a:rPr>
              <a:t>fnname</a:t>
            </a:r>
            <a:r>
              <a:rPr b="0" lang="en-GB" sz="2400" spc="-1" strike="noStrike">
                <a:solidFill>
                  <a:srgbClr val="ddfc20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[at1 [name1]   [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ng2   [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...] ] ]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rt←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return type. If present it MUST be followed by ←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Geneva"/>
              </a:rPr>
              <a:t>fnna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is the name of the function as seen from outside. It does not have to match the function name. This MUST be there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at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1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 type, if prese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name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name of the 1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 as seen from outside. If elided the DLL documentation will skip it and only show the typ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cc00"/>
                </a:solidFill>
                <a:latin typeface="Geneva"/>
              </a:rPr>
              <a:t>,</a:t>
            </a: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ng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same at/name group for the 2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. If present, the comma MUST be there as it delimits group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cc00"/>
                </a:solidFill>
                <a:latin typeface="Geneva"/>
              </a:rPr>
              <a:t>,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...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ame for the other argumen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42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re’s how a C# program would use this program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 System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 APLClasses;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 // the namespace in which our cla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ublic class MainClass {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is fou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ublic static void Main() {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rimitives apl = new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Primitives();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the APL cla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int[] rslt = apl.GenIndices(10);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THE cal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for (int i=0;i&lt;rslt.Length;i++) Console.WriteLine(rslt[i])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} }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2676600" y="4581360"/>
            <a:ext cx="1584360" cy="2876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re’s how another APL program would use this program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←'APLclasses,c:\...\apl.dll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r←⎕NEW Primitiv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r.GenIndices 10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1 2 3 4 5 6 7 8 9 10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1316160" y="4005360"/>
            <a:ext cx="158436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Web services can be writt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PLScript, the scripting version of Dyalog APL, where logic is separated from page layou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SMX files and ASPX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workspaces “behind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ample of Web services written in APLScrip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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</a:t>
            </a:r>
            <a:r>
              <a:rPr b="0" lang="en-GB" sz="2000" spc="-1" strike="noStrike">
                <a:solidFill>
                  <a:srgbClr val="009999"/>
                </a:solidFill>
                <a:latin typeface="APLPLUS"/>
                <a:ea typeface="APLPLUS"/>
              </a:rPr>
              <a:t></a:t>
            </a: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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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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</a:t>
            </a:r>
            <a:r>
              <a:rPr b="0" i="1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</a:t>
            </a: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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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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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971640" y="3740040"/>
            <a:ext cx="273672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ample of Web services written in APLScrip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03" name="Picture 4" descr=""/>
          <p:cNvPicPr/>
          <p:nvPr/>
        </p:nvPicPr>
        <p:blipFill>
          <a:blip r:embed="rId1"/>
          <a:stretch/>
        </p:blipFill>
        <p:spPr>
          <a:xfrm>
            <a:off x="2449440" y="2133720"/>
            <a:ext cx="42102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635280" y="1484280"/>
            <a:ext cx="51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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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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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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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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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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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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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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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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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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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5316480" y="4869000"/>
            <a:ext cx="934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780000" y="1900080"/>
            <a:ext cx="86328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447840" y="1547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376920" y="16686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SPX f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932360" y="4292640"/>
            <a:ext cx="1079640" cy="431640"/>
          </a:xfrm>
          <a:prstGeom prst="rect">
            <a:avLst/>
          </a:prstGeom>
          <a:solidFill>
            <a:srgbClr val="0000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9"/>
          <p:cNvGrpSpPr/>
          <p:nvPr/>
        </p:nvGrpSpPr>
        <p:grpSpPr>
          <a:xfrm>
            <a:off x="179280" y="2492280"/>
            <a:ext cx="3355920" cy="1482840"/>
            <a:chOff x="179280" y="2492280"/>
            <a:chExt cx="3355920" cy="1482840"/>
          </a:xfrm>
        </p:grpSpPr>
        <p:pic>
          <p:nvPicPr>
            <p:cNvPr id="612" name="Picture 10" descr=""/>
            <p:cNvPicPr/>
            <p:nvPr/>
          </p:nvPicPr>
          <p:blipFill>
            <a:blip r:embed="rId1"/>
            <a:stretch/>
          </p:blipFill>
          <p:spPr>
            <a:xfrm>
              <a:off x="179280" y="249228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Rectangle 11"/>
            <p:cNvSpPr/>
            <p:nvPr/>
          </p:nvSpPr>
          <p:spPr>
            <a:xfrm>
              <a:off x="250920" y="3421080"/>
              <a:ext cx="792000" cy="287280"/>
            </a:xfrm>
            <a:prstGeom prst="rect">
              <a:avLst/>
            </a:prstGeom>
            <a:solidFill>
              <a:srgbClr val="000000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12"/>
          <p:cNvGrpSpPr/>
          <p:nvPr/>
        </p:nvGrpSpPr>
        <p:grpSpPr>
          <a:xfrm>
            <a:off x="179280" y="4149720"/>
            <a:ext cx="3355920" cy="1482840"/>
            <a:chOff x="179280" y="4149720"/>
            <a:chExt cx="3355920" cy="1482840"/>
          </a:xfrm>
        </p:grpSpPr>
        <p:pic>
          <p:nvPicPr>
            <p:cNvPr id="615" name="Picture 13" descr=""/>
            <p:cNvPicPr/>
            <p:nvPr/>
          </p:nvPicPr>
          <p:blipFill>
            <a:blip r:embed="rId2"/>
            <a:stretch/>
          </p:blipFill>
          <p:spPr>
            <a:xfrm>
              <a:off x="179280" y="414972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14"/>
            <p:cNvSpPr/>
            <p:nvPr/>
          </p:nvSpPr>
          <p:spPr>
            <a:xfrm>
              <a:off x="250920" y="5076720"/>
              <a:ext cx="792000" cy="289080"/>
            </a:xfrm>
            <a:prstGeom prst="rect">
              <a:avLst/>
            </a:prstGeom>
            <a:solidFill>
              <a:srgbClr val="000000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6000" y="1517400"/>
            <a:ext cx="8820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embers' system functions/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embers ar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variables)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functions)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other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lasse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 lists the instances of a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creates an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ecial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Trigg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Us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sing vs ⎕US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Using X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kin to ⎕USING,←'X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appends X to ⎕USING except when no argument is supplied where it means “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←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0⍴⊂⍬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 script/class it is necessary to determine the base class/interf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amespaces in script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324000" y="1989000"/>
            <a:ext cx="455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ed ⍟</a:t>
            </a:r>
            <a:r>
              <a:rPr b="0" i="1" lang="en-GB" sz="2800" spc="-1" strike="noStrike">
                <a:solidFill>
                  <a:srgbClr val="009999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edit a new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using the same source format as classes and inte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ource can then be retrieved using ⎕SRC and fixed using ⎕F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4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3960720" cy="285264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5"/>
          <p:cNvSpPr/>
          <p:nvPr/>
        </p:nvSpPr>
        <p:spPr>
          <a:xfrm>
            <a:off x="322920" y="1341360"/>
            <a:ext cx="62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mespaces can have a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load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0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Primitives cannot be overloaded by APL classes but some .Net classes ar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: DateTime objects can be compared using =, &gt;, etc. sorted using ‘grade up’ or added to TimeSpans using +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using←'System'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1←⎕new DateTime ⎕ts ⍝ assume it is 2007/10/10 19:12:0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2←⎕new DateTime (2007 10 16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t1←⎕new TimeSpan (7 2 0 0) ⍝ 7 days, 2 hou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+d3←d1-t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2007/10/03 17:12:0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1&lt;d2,d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1 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395280" y="1733400"/>
            <a:ext cx="856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many advantages to using OO languages over procedural languag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e of modif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duced maintenance cos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od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an speed up development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395280" y="1660320"/>
            <a:ext cx="856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O languages make abstraction eas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encourage architectures with elaborate layers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be good when the problem domain is truly complex and demands a lot of abst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250560" y="170172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ll OO languages show some tendency to suck programmers into the trap of excessive lay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ject frameworks and object browsers are not a substitute for good design or docum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250560" y="170172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o many layers destroy transparency: It becomes too difficult to see down through them and mentally model what the code is actually doing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Rules of Simplicity, Clarity, and Transparency can get violated wholesale, and the result is code full of obscure bugs and continuing maintenance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5"/>
          <p:cNvSpPr/>
          <p:nvPr/>
        </p:nvSpPr>
        <p:spPr>
          <a:xfrm>
            <a:off x="468360" y="105264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This doesn't mean you have to rewrite everything! But y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ou are now competitive with the other guys.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f someone tells you "you can't do OO or .Net" you can now say "We can!"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14:44:56Z</dcterms:created>
  <dc:creator>DanB</dc:creator>
  <dc:description/>
  <dc:language>en-US</dc:language>
  <cp:lastModifiedBy>Danb</cp:lastModifiedBy>
  <dcterms:modified xsi:type="dcterms:W3CDTF">2008-10-03T01:49:20Z</dcterms:modified>
  <cp:revision>43</cp:revision>
  <dc:subject/>
  <dc:title>Slide 1</dc:title>
</cp:coreProperties>
</file>