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BBB3-9A85-47E4-B2A0-73F8483839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265A-8BD4-4D20-A55F-A02BD7C795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4E55-25F2-42A1-BAAE-A794C43B14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9D71-3576-486B-ACC2-FE15A62C25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31E5-AE6C-43DD-A7EF-E66174E36D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FBCD-9C4D-4B87-89E0-05A5F24C2F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E7A8-0943-48E2-85A0-F069DC12FD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4503-9F19-4CFA-8F74-EFD5B30C6E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818F-340E-45EA-A7B3-853F1BEB86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B9CE-2D00-40F9-B08A-A9CF4A8728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23D3-8678-4ED0-9A78-65DE1D31A7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910D-DA2D-4E1A-98CA-E5CA172703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97E9-E221-40EB-B885-A1D5F59FDB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F1F1-BF40-4E83-8536-3FB791D908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1C5F-8C14-4BCA-86B2-F7EFAD370F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028E-600B-4C35-A6E7-243F3B0947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3B50-D1AB-4B9B-8E03-1A6698CE5F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1BCE-CD13-46CC-B8EF-6675F5F3B3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67FC-4D00-49ED-A566-80A4483845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3E00-D56C-4193-8FAB-42522B45D3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B9AE-BE6F-4ADA-9468-35D11FFB91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D5DB-766F-4942-89C8-8D0F5F26CB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88E8-6F74-4CC5-9309-2B11AF4F47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7E21-4E00-48E0-8813-075447BFFA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C19D-2123-4E5C-8B4B-E7363E610D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84A9-4883-477F-800F-F7BDAC1B27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A8D4-8E9B-4E9D-BD33-686FD5AB07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713E-3239-4EA9-A089-BF1B54FAD3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3098-C4FC-439F-8040-C471399E7C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0201-A1AD-46B5-8E00-BA9E69D1D4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CDFC-E94F-4121-AC56-59729A8E7F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93CE-AFE8-4C60-AE65-97AB34C5C1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48C8-887A-4A61-AEA2-2ABD7E4971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95D9-0C4D-488F-84E0-1672BAB44D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6AF7-1565-4F4E-8FC5-F9BF921178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46AF-1DD1-413F-8C7B-568B3A61C5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2C3B-61A0-4C31-900E-5D585A2AB6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DEC6-2364-49B5-8B7E-2794A59980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8307-89D3-4B9A-8BCF-04EF8F1DF6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6172-7D6C-43A6-A98E-32EECBE4C2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EC50-A738-4567-8477-B1DE3A396C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219D-A8FD-4A60-B543-5E06A06339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8CE7-07FC-415D-B3F1-4360C2032D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DCBA-B192-49B6-8C2B-17AC8C7713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8508-B73A-4C99-B037-B6B074AE56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BD85-636B-488D-9D9F-19138EC4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6794-E8BA-4325-9981-D3BA7CA7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9CB77D-0504-420E-AE59-2F905CC4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4A78D6-60FE-43F4-8F6D-4772ED3F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E5E3FC-693C-4C8F-B338-6F006886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73BD63-7AE2-4143-8F1F-2ACF5438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67E3BF-E18D-462C-A2AD-16AA77E7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692617-F9CB-40B2-A4FC-FEDE8E9F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2785D3-A0BE-4DF3-B050-69A0BC8C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F25834-F8EC-4AAC-9E4B-01B24B5E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9EAEB9-AF7C-47C4-8303-8E4A4936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F2027-C5D5-40C6-9C36-8BBA5B00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65AA-7FE6-4B69-BB13-8A1F7A5C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5336F-1068-4998-AF8C-55FCBA20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81F78-C1A6-48D1-B377-07BCD0A9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5E12F-35D8-427B-88D8-43B48ED6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3D3DD-24B3-48F0-B42D-8436D00B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2033C-03FD-42A7-889F-6281185B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2F977-1B0B-40F6-AB24-DFF0ED0B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9F6CC-9A5A-4E44-BC78-CE5696A6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4210F-BA96-4694-B8DD-BD27EC5C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F47E3-D900-4794-A98D-1D9A206B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A7FE7-E1F9-4A9E-BCAF-BC74B054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56D0-AEBB-400F-B8CB-B6DD153D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6140D-DEC1-454C-9562-57621B24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1E9D9-3E9D-4EF1-A73A-FAA82CAD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68295-8E14-4C71-90CC-5842A13F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948C8-023A-4AF3-84E0-275B405B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C28D1-AC55-48A6-A830-34F3D857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7D55D-D7B8-44DF-9B74-0E6A05B8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F8116-5601-469D-A293-C033E77E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BE0F5-A339-4B60-9248-5A3957E1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61225-6CAB-4F5B-9406-33E8EB2F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EA335-B846-49CC-AC51-7FD794CD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D881-A709-46D5-8827-2FF7AFE3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F65D0-60BC-43BB-B2CD-CA6BE8D0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06105-3E1E-4C6D-AA20-37BB0729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53E52-2570-4707-8B6C-ADFC9B81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9FF63-544D-4F93-8EFB-D2B6ECE0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0CE85-9DCC-41C3-9761-C3EE16FC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2EFEA-19DD-4976-BC44-EA6C06B4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66860-7A0E-4107-B198-F7B963C7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85A3DD-97BE-4EF8-845F-B7B2A862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0B357-7D3B-453D-82A0-C4355704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0A76E-3E30-44C5-92D5-6E1693E4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0534-BAD4-4BCD-926F-2D53A38B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A7FE4-60B5-4EAF-B04A-91BDCDA1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A66FE-E1F1-400E-9D78-D11347FA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C9AA8-7995-4775-BE6D-788640F4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E4BF3-854E-4B7F-998F-5ECC3D89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25A73-10A3-44B7-9A37-6E7FE1E0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E978D5-5A68-49DB-9765-1EE5A4E3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B005B0-E6EB-4F69-B443-86715D9B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B5AD85-70FA-4C82-83FE-8CDA2A69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0A64A9-9E39-4FBD-B8C5-39D537B4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D8288-600B-4477-9285-56903E6D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E5A1-AE98-4813-BC26-B7AC142C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30C37-75BF-4622-A12F-100B5856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2E6AC-4F2D-45E2-AEC1-0D4C721B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65D159-F4E8-43CB-965E-D3523B7A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8B66B-4C20-437B-8337-F8E5CCB7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0771EF-691B-4064-8088-D78FEC39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A29D3-EEE2-44B0-B70B-CD70F437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EC4519-F7E2-44FD-9A4D-36C10934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637E32-DA00-4C4B-89B7-577AEEAE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13D8EB-121F-4A61-9F17-1CEF4B90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42BFA9-7E3B-47E2-B525-4168E21C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7C22-2936-418A-B6F5-6685AA63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B02D1D-FB51-4FC7-BF5C-D17CF23B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6A9D2C-C67C-40FD-BFEE-909D4DD6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1830EB-3548-42A7-8233-7DF1BEBE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F3BF0C-7041-4E33-AFE5-B8959B46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08A6C2-BD38-446D-A3FA-F77611E6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2971A3-04B9-4B5B-9246-A9221410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B4F1B7-7B38-4CEF-AF6A-3C419143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88605A-1958-484F-83A7-ECF9A98F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3DB146-6DB7-4CE8-B42B-8E97A2CB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18F8-9DCF-4AFA-8E74-6E427429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1E4E-A3EF-4949-B7FC-F383E1F5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056E-CDBC-416B-A8C7-EC35FE41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F3D5-EE7E-4D81-84B5-B39324BD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ECC4-80BD-4A28-A0B6-AADD6ECE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9836-6E30-4C87-BB81-6C80A644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0992-838F-4296-922F-12B52070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C5E9-F9E3-45E6-AC89-B9FD39B4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30AB-8A2D-4E73-9B18-DB83CFD1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6AD27-DF09-4E2E-B8E8-0DCC2025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4343D-102E-45FE-9C34-48F10A06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798D2-5606-4F80-93DA-0BD5286E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158B7-00C9-4E9A-A536-43AA75CA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EF654-7669-4F5A-9B4A-0C6C226E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2C2-C034-4A65-AA58-89290F59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911C1-5372-4A29-A878-7D789895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6AA5D-114A-4F30-9309-D3DA9BF8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D1CE2-A119-48A3-84C9-2E555AA2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5B1A1-4EF6-489B-8BA9-709C5C3C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46068-4F01-4261-8900-5CA57F6F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4BE3A-5A7C-4718-97F4-404F7ACE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2BC02-FBD7-45A5-8804-D38ED808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FFDA7-0892-4AF8-95C7-EC5C4ABE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68DDA-DB10-4B5F-8F92-0E394B5A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6EA92-35FB-4AA7-A803-4F91AA65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55D-A874-426A-BBF2-D4206F49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EF877-02F8-4720-9318-DA4270E1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1AA62-636D-4F70-8165-4450FF03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24B41-295E-4C41-9F22-B8E3F52C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4A714-58B6-4A74-93E8-CD0BD0FC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D5E9A-E72B-4911-AAC4-03CAB3B5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D0D52-4043-4D92-BBC6-44D4BEAE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44BFC-C3E9-4811-8D19-697B16B3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65112-BE03-4117-A187-D8DFBCC6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7F9C8-35BF-4637-A650-9F874282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DECD4-9450-4C00-BBDD-1CA0F9BE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5410-3251-45C4-847A-3CF3818F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0082D-6DA1-489B-A43D-4AE7EB6C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42061-0939-4BB7-859F-C477C0A7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C3FFE-3701-4F20-8105-67B9DBDD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2FF02-69D4-4268-B081-A234D547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1C4EA-18BB-43CD-A65D-5E31C5A5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B408B-EB54-4A47-932E-BDFCF88E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CB52A-A0B8-4F5E-BDF0-0FE35DD1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103C0-ED99-47D7-8D6B-393F0D86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DBFAA-34D0-47E8-B827-A130787C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BD26A-B17F-427A-AD8C-D3182DAA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2CFE-B2D6-4B2C-9958-5189F29F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2BAC3-BA32-404C-95EC-3020747F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EE689-70DD-4F6F-9664-D20D902E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D1A9D-6F96-4E87-B0DB-4F656F31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3165B-3C01-420B-9A92-AA5EBFE3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C06DF-D373-49A1-A632-22D0E017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87A08-AB23-485E-A311-CA5BC7E9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BD2B5-236E-4EC8-8694-B8B51793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56553-2EEB-4CAD-B8C0-F8CB9D92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0B366-6896-4F59-A5CC-0E9AA254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475C8-3415-41F4-820C-E090FC81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B067-373D-4BED-B048-2C6B17F9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C0D02-B05B-43F7-9EB5-246062AB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C83C8-0978-454B-9C01-7C0AC4EC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B54C2-C959-45BC-BE49-2E5D4E78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EF35D-EE32-49A5-8699-E2360FBD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16554-5BB2-4D42-9CC7-F1261F33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7E11B-EB4F-415A-8640-B0AE5036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DE9B9-94FD-4DA7-9476-66A3ACD7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7B2B2-3063-441C-9B60-BEF3EEA6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74CE9-3D0C-49EF-8AD6-A0B60195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187D1-24AC-40A6-BB6B-417E1ED7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7041-233D-41C9-8A2C-B8723492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3F3C7-D2B0-4988-A425-917C1F3F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6D9E5-E90A-4C75-951A-EA5E5D84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D809D-DCC4-4ECD-963E-B19E43A2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4E84E-A1BE-4E27-97FD-18BF8D89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F0CFC-7518-4104-A34A-0C7335A2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1E422-53CD-4B0D-AA22-54C2EC55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6BC25-53B9-4317-9F0C-13F80E94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E9E80-94EE-4B43-8ACB-AF56C6BD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71D0A-3D98-4097-9DF5-BD280F12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74F3D-6375-4045-99CE-DD329E0F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E50C-7E7A-4286-9C23-C9628C47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5D0E8-1970-42C0-BD9D-E1D41537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C51F3-30D9-4CEF-AF72-9EFC45A0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CD3C3-34E1-4D21-B720-76F36675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A8474-F30C-4753-80B4-16816F66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FF7C0-CC4C-4743-9C5A-1798D314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16E10-1BE0-4F6A-84BD-0926B298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4AEA1-AFCA-4899-8C1B-90D4EF77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653573-1676-4E91-8FCA-5277E2F4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2532C6-EC4A-4111-BF57-26D13FFD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8DBD1F-A178-473A-8054-1C43864F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3C59-1135-4103-B9D8-013F76202F4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A1CB-4D36-48EB-85DA-CFC1625F163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2D45-1E26-4156-85EE-6B29320A3F2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ADA9-190A-497A-9CF4-8FF26512BD7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88B9-FC8A-4FBC-9D97-A44E5F5B325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E142-C40F-43D6-8719-2BC69C5C804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49DA-A359-4519-BBA4-5C13AA161E6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1016-98BE-4C6D-90EA-5FCA3F05357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4395-ED5D-4477-9A88-4DA036262C0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8CEF-6026-4A80-B08D-8844FFD6686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8A66-23B0-40EC-9C96-17EFD66929E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D601-C437-4F18-B2E7-54469F664A8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8A69-CD6D-43E5-93A2-7609AD440CA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6D11-88F7-43E8-95C0-9BD4BE0EDDD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:/apps/oaserver60/ip/bin/sqsrv.dyalog" TargetMode="External"/><Relationship Id="rId2" Type="http://schemas.openxmlformats.org/officeDocument/2006/relationships/hyperlink" Target="file:///c:/apps/oaserver60/ip/bin/testdb_shares.dyalog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0040" y="1928880"/>
            <a:ext cx="777384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n ODBC* Driver</a:t>
            </a:r>
            <a:br>
              <a:rPr sz="4400"/>
            </a:b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for APL</a:t>
            </a:r>
            <a:br>
              <a:rPr sz="4400"/>
            </a:br>
            <a:br>
              <a:rPr sz="4400"/>
            </a:br>
            <a:r>
              <a:rPr b="1" lang="da-DK" sz="2000" spc="-1" strike="noStrike">
                <a:solidFill>
                  <a:srgbClr val="333333"/>
                </a:solidFill>
                <a:latin typeface="Geneva"/>
              </a:rPr>
              <a:t>* also ADO, ADO.NET and JDBC</a:t>
            </a:r>
            <a:endParaRPr b="1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1785600" y="4143240"/>
            <a:ext cx="52578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orten Kromber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Dyalog Lt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When? How Much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333333"/>
                </a:solidFill>
                <a:latin typeface="Geneva"/>
              </a:rPr>
              <a:t>At ”Proof of Concept” Stag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9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333333"/>
                </a:solidFill>
                <a:latin typeface="Geneva"/>
              </a:rPr>
              <a:t>Significant OEM Costs if we proceed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9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333333"/>
                </a:solidFill>
                <a:latin typeface="Geneva"/>
              </a:rPr>
              <a:t>Need one or two launch custom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9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333333"/>
                </a:solidFill>
                <a:latin typeface="Geneva"/>
              </a:rPr>
              <a:t>Could be available in 2010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et’s Look at The Co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FE44-4248-4EFB-8C61-61C5E7CB9FD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SQSRV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workspace contains the code for a server which listens on port 5000 and handles calls from the OA ”IP Server”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A number of namespace and class scripts are loade by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⎕LX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, including the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RPCServer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namespa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RPCServer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is a standard Conga sample, in this case it serves up instances of the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SQSRV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class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An instance of the </a:t>
            </a:r>
            <a:r>
              <a:rPr b="0" lang="da-DK" sz="1800" spc="-1" strike="noStrike">
                <a:solidFill>
                  <a:srgbClr val="333333"/>
                </a:solidFill>
                <a:latin typeface="APL385 Unicode"/>
              </a:rPr>
              <a:t>SQSRV</a:t>
            </a: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 class is created for each connection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Calls from OA are passed to the corresponding SQSRV fns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Each instance maintains state for a connection (like the user ID, once a user logs in)</a:t>
            </a:r>
            <a:r>
              <a:rPr b="0" lang="da-DK" sz="16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cripts Loaded by SQSRV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FA53-027A-4432-ADF7-4DBE0C79B01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685800" y="1981080"/>
          <a:ext cx="7772400" cy="3337200"/>
        </p:xfrm>
        <a:graphic>
          <a:graphicData uri="http://schemas.openxmlformats.org/drawingml/2006/table">
            <a:tbl>
              <a:tblPr/>
              <a:tblGrid>
                <a:gridCol w="2457360"/>
                <a:gridCol w="5315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Class or Name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 u="sng">
                          <a:solidFill>
                            <a:srgbClr val="009999"/>
                          </a:solidFill>
                          <a:uFillTx/>
                          <a:latin typeface="Geneva"/>
                          <a:hlinkClick r:id="rId1"/>
                        </a:rPr>
                        <a:t>SQSRV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(Cla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”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Sample” containg 22 main interface 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ParseTree (Cla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Maps OA data to APL Class repres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PassThrough (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Tools for handling ”PassThrough” sel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 u="sng">
                          <a:solidFill>
                            <a:srgbClr val="009999"/>
                          </a:solidFill>
                          <a:uFillTx/>
                          <a:latin typeface="Geneva"/>
                          <a:hlinkClick r:id="rId2"/>
                        </a:rPr>
                        <a:t>DataBase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(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The Active 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RPCServer (Cla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Conga Remote Procedure Call Frame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ODBC (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ODBC-related Ut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Utils (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General Ut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SALT (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SALT Configuration Name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he 22 SQSRV Fun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6FD3-02FA-4695-A697-F6F844CCCCE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Content Placeholder 2"/>
          <p:cNvSpPr/>
          <p:nvPr/>
        </p:nvSpPr>
        <p:spPr>
          <a:xfrm>
            <a:off x="635796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PROC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NEXT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Content Placeholder 2"/>
          <p:cNvSpPr/>
          <p:nvPr/>
        </p:nvSpPr>
        <p:spPr>
          <a:xfrm>
            <a:off x="342900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PASS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FIRST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NEXT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INSE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Content Placeholder 2"/>
          <p:cNvSpPr/>
          <p:nvPr/>
        </p:nvSpPr>
        <p:spPr>
          <a:xfrm>
            <a:off x="71424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RANS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CATALO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SCH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ABLE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COLUM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F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ssion &amp; Schema F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135E-AC40-4646-99A9-80BFE9D7901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Content Placeholder 2"/>
          <p:cNvSpPr/>
          <p:nvPr/>
        </p:nvSpPr>
        <p:spPr>
          <a:xfrm>
            <a:off x="6286680" y="1928880"/>
            <a:ext cx="2428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PROC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NEXT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Content Placeholder 2"/>
          <p:cNvSpPr/>
          <p:nvPr/>
        </p:nvSpPr>
        <p:spPr>
          <a:xfrm>
            <a:off x="342900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PASS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FIRST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NEXT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INSE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Content Placeholder 2"/>
          <p:cNvSpPr/>
          <p:nvPr/>
        </p:nvSpPr>
        <p:spPr>
          <a:xfrm>
            <a:off x="71424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TRANS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CATALO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SCH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TABLE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COLUM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F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ogi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8DA9-A3A6-42E1-AC33-9E45DBDF9D8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Box 7"/>
          <p:cNvSpPr/>
          <p:nvPr/>
        </p:nvSpPr>
        <p:spPr>
          <a:xfrm>
            <a:off x="785880" y="1643040"/>
            <a:ext cx="7500960" cy="33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Geneva"/>
              </a:rPr>
              <a:t>Validates logins to a connection – can also receive a database catalog nam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Geneva"/>
              </a:rPr>
              <a:t>Initialize session based on properties specified for the Data Sour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LOGIN(DSN User Pwd Catalog IPProps IPCustPro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:If User≡Pwd ⍝ // Might want a better check than this :-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0 'ok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UserID←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Log'Login accepted for user ',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: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1 'Invalid user/password combination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Log'Login failed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:End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ransa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32DE-578C-4F5B-B9B8-E4BF63A1B6C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Box 7"/>
          <p:cNvSpPr/>
          <p:nvPr/>
        </p:nvSpPr>
        <p:spPr>
          <a:xfrm>
            <a:off x="785880" y="1643040"/>
            <a:ext cx="75009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Geneva"/>
              </a:rPr>
              <a:t>Starts, Commits or Rolls back a Transa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TRANSACT 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action: 0=Start, 1=Commit, 2=Rollback, 3=Prepare to Com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Log'Transaction: ',(1+1⊃action)⊃'Start' 'Commit' 'Rollback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                                     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'Prepare to Commit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0   ⍝ No problemo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Geneva"/>
              </a:rPr>
              <a:t>(The rest is left as an exercise for the read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chemas and Catalog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4DA1-2C95-4B9D-96B0-53D815FCFDD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Content Placeholder 8"/>
          <p:cNvSpPr/>
          <p:nvPr/>
        </p:nvSpPr>
        <p:spPr>
          <a:xfrm>
            <a:off x="3571920" y="1928880"/>
            <a:ext cx="492912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(return vars defined in DataBase script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APL385 Unicode"/>
              </a:rPr>
              <a:t>  </a:t>
            </a:r>
            <a:r>
              <a:rPr b="1" lang="da-DK" sz="1200" spc="-1" strike="noStrike">
                <a:solidFill>
                  <a:srgbClr val="333333"/>
                </a:solidFill>
                <a:latin typeface="APL385 Unicode"/>
              </a:rPr>
              <a:t>catalogs←1 1⍴⊂'SCHEMA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APL385 Unicode"/>
              </a:rPr>
              <a:t>  </a:t>
            </a:r>
            <a:r>
              <a:rPr b="1" lang="da-DK" sz="1200" spc="-1" strike="noStrike">
                <a:solidFill>
                  <a:srgbClr val="333333"/>
                </a:solidFill>
                <a:latin typeface="APL385 Unicode"/>
              </a:rPr>
              <a:t>schemas←2 1⍴'System' 'DYALOG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APL385 Unicode"/>
              </a:rPr>
              <a:t>  </a:t>
            </a:r>
            <a:r>
              <a:rPr b="1" lang="da-DK" sz="1200" spc="-1" strike="noStrike">
                <a:solidFill>
                  <a:srgbClr val="333333"/>
                </a:solidFill>
                <a:latin typeface="APL385 Unicode"/>
              </a:rPr>
              <a:t>tabletypes←3 1⍴'SYSTEM TABLE' 'TABLE' 'VIEW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Content Placeholder 8"/>
          <p:cNvSpPr/>
          <p:nvPr/>
        </p:nvSpPr>
        <p:spPr>
          <a:xfrm>
            <a:off x="2857680" y="2000160"/>
            <a:ext cx="39574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Box 9"/>
          <p:cNvSpPr/>
          <p:nvPr/>
        </p:nvSpPr>
        <p:spPr>
          <a:xfrm>
            <a:off x="857160" y="2071800"/>
            <a:ext cx="357192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List Catalogs, Schem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and Table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CATALOGS dumm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DB.catalo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SCHEMAS dumm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DB.sche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TABLETYPES dumm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DB.table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ab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1C03-8655-4772-BCE3-ABF884AF491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Box 7"/>
          <p:cNvSpPr/>
          <p:nvPr/>
        </p:nvSpPr>
        <p:spPr>
          <a:xfrm>
            <a:off x="428760" y="1643040"/>
            <a:ext cx="800100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List 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TABLES a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arg: Qualifier Owner Nam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0 (arg filter DB.tab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mat←arg filter mat;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Used by TABLES and COLUMNS to filter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If 0≠⍴i←(0≠⊃∘⍴¨arg)/⍳⍴arg←4↑arg,4⍴⊂'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mat←(mat[;i]∧.≡arg[i])⌿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End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In Database Scrip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tables←0 8⍴⍬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⍝    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Catalog schema   name         type    path user fnsupport remar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tables⍪←'SCHEMA' 'DYALOG' 'CUSTOMERS'  'TABLE' ''   ''   '0X0E'    'Customers'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tables⍪←'SCHEMA' 'DYALOG' 'SHARES'     'TABLE' ''   ''   '0X0E'    'Shares Traded'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tables⍪←'SCHEMA' 'DYALOG' 'PRICES'     'TABLE' ''   ''   '0X0E'    'Annual Share Prices'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fnsupport: 2=INSERT, 4=UPDATE, 8=DELETE, 0x0E=2+4+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Colum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B020-285B-4696-8788-667D48F02F5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Box 6"/>
          <p:cNvSpPr/>
          <p:nvPr/>
        </p:nvSpPr>
        <p:spPr>
          <a:xfrm>
            <a:off x="285840" y="1714680"/>
            <a:ext cx="86439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List Colum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COLUMNS a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arg: Qualifier Owner Nam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0 (arg filter DB.colum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In Database Script (&amp; see Engine Programmers’ Guide page 2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columns←0 17⍴⍬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⍝     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Catalog  Owner   TableName   ColumnName DataType TypeName  Length Prec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columns⍪←'SCHEMA' 'DYALOG' 'CUSTOMERS' 'CUSTID’   4        'INTEGER'   4 10 '' 0 0 ... 1 ''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columns⍪←'SCHEMA' 'DYALOG' 'CUSTOMERS' 'CUSTNAME' 12       'VARCHAR'  32 32 '' 0 1 ... 0 ''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CUSTOMERS←↑(1 'Jack')(2 'Jill'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⍝            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... Radix Scale (Nullable Scope UserData Support) PseudoCol ColType Remark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Nullable: 0 = No nulls allowed, 1 = nulls allowed, 2 = unknow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ColType:  1 = RowID, 2 = Row Version, Null=Normal Colum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gend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42960" y="185724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hy Would You Want One?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Overview of SQAPL Server Architectur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ructure of the APL Server Sampl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etailed Discussion of 22 Server Functio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Logi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Data Dictionary Call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ELECT statement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UPDATE, INSERT, DELET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ransa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4215-5567-4772-95F4-D735EEBB513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tatistics”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0A88-B8F8-474E-BD23-6F7CEB63FDD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Box 6"/>
          <p:cNvSpPr/>
          <p:nvPr/>
        </p:nvSpPr>
        <p:spPr>
          <a:xfrm>
            <a:off x="142920" y="1714680"/>
            <a:ext cx="9001080" cy="42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Return Database Stat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STAT a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arg: Qualifier Owner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0 (arg filter DB.sta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In Database Script (&amp; see Engine Programmers’ Guide page 2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stats←0 13⍴⍬ ⍝ Statist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able Catalog  Owner   Name        NonUnique CatIx Name    Type Seq Colname  Co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stats⍪←'SCHEMA' 'DYALOG' 'SHARES'    0         ''    'CODE'     2 1   'CODE'   'A' 3 '' '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stats⍪←'SCHEMA' 'DYALOG' 'CUSTOMERS' 0         ''    'CUSTID'   2 1   'CUSTID' 'A' 2 '' '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⍝                                            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... Cardinality Pages Filter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ype: 0="Table Statistic", 1=Cluster, 2=Hashed, 3=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Collation: A for Ascending, D for Descending, or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Cardinality: For Stat # of rows else # of unique values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Strictly, Cardinality SHOULD be updated to reflect number of rows in the t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Geneva"/>
              </a:rPr>
              <a:t>NB: Filters on keys defined in stats are used as ”Optimal Filters’, see SELECT fun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Foreign Keys”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9C5B-FD4F-41C3-9543-2061611E1FA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Box 6"/>
          <p:cNvSpPr/>
          <p:nvPr/>
        </p:nvSpPr>
        <p:spPr>
          <a:xfrm>
            <a:off x="285840" y="1714680"/>
            <a:ext cx="885816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Return Foreign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r←FKEY a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 ⍝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arg: Primary Qualifier Owner Name, Foreign Qualifier Owner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:If 0∨.≠⊃∘⍴¨arg ⋄ ∘ ⋄ :EndIf ⍝ /// Stop on fil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r←0 DB.fke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In Database Script (&amp; see Engine Programmers’ Guide page 2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fkeys←0 13⍴⍬ ⍝ Foreign and Private Ke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⍝   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PK Cat  Schema   TblName     ColName  FK Cat   Schema   TblName     Col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fkeys⍪←'SCHEMA' 'DYALOG' 'SHARES'    'CODE'   ''       ''       ''          ''       1 '' '' '' ''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fkeys⍪←'SCHEMA' 'DYALOG' 'CUSTOMERS' 'CUSTID' ''       ''       ''          '’       1 '' '' '' ''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fkeys⍪←'SCHEMA' 'DYALOG' 'TRADES'    'CUSTID' 'SCHEMA' 'DYALOG' 'CUSTOMERS' 'CUSTID' 1 '' '' '' '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⍝                                            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... Sequence UpdateRule DeleteRule FK Name PK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Geneva"/>
              </a:rPr>
              <a:t>First two rows above duplicate primary key information in Statistics t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Geneva"/>
              </a:rPr>
              <a:t>Last row defines a foreign key relationship between TRADES and CUSTOMER on CUST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Geneva"/>
              </a:rPr>
              <a:t>When joining tables without PASSTHROUGH, one query is made per unique foreign key value (else one per row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ion Fun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B601-4898-49FB-8431-1C7D8D54786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Content Placeholder 2"/>
          <p:cNvSpPr/>
          <p:nvPr/>
        </p:nvSpPr>
        <p:spPr>
          <a:xfrm>
            <a:off x="6286680" y="1928880"/>
            <a:ext cx="2428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PROC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NEXT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Content Placeholder 2"/>
          <p:cNvSpPr/>
          <p:nvPr/>
        </p:nvSpPr>
        <p:spPr>
          <a:xfrm>
            <a:off x="342900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PASS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FIRST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NEXT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INSE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Content Placeholder 2"/>
          <p:cNvSpPr/>
          <p:nvPr/>
        </p:nvSpPr>
        <p:spPr>
          <a:xfrm>
            <a:off x="71424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RANS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CATALO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SCH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ABLE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COLUM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F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hree Selection Mod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D0B2-B0AE-4B02-AAB3-4F8E144A0E0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ELEC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 call is made for each table in the expression with simple filter express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PARTIAL PASSTHROUGH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return all the joined columns required to produce the result, but not necessarily completely filtered, grouped or order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COMPLETE PASSTHROUGH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return the EXACT record set to be returned to the clien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ASSTHROUGH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D4FC-464D-432E-9F98-A10E3121504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e SQAPL Server allows ”Selective Passthrough”, which means that the function PASSTHROUGH is always call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t is given a ”ParseTree” which describes the statement being execut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fter examining the tree, it can declare whether it wants to fall back to SELECT mod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ELECT is very easy; PASSTHROUGH allows optimization, especially for JOI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QUERY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352F-6E45-4FF7-BA78-38CC617FA6B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Box 6"/>
          <p:cNvSpPr/>
          <p:nvPr/>
        </p:nvSpPr>
        <p:spPr>
          <a:xfrm>
            <a:off x="0" y="2000160"/>
            <a:ext cx="88581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</a:rPr>
              <a:t>SQL: select * from customers where custid &gt; 0 and custname like 'J%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[SelectQuery]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HighestRows: ¯1  HighestPctRows:   0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ables:  customers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ValueExpr   [ValExpList]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[ValExp]    [Value]  [Column] CUSTID (# 0 in Table# 0)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[ValExp]    [Value]  [Column] CUSTNAME (# 1 in Table# 0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SearchExpr     [LogExp]     [LogExp]     [Cond]      [ValExp]    [Value]  [Column] cust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                                              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(# 0 in Table# 0)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            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&gt;            [ValExp]    [Value]   LIT  4 0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And    [LogExp]     [Cond]             [ValExp]    [Value]  [Column] cust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                                              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(# 1 in Table# 0)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     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#.ParseTree.Like    [ValExp]    [Value]   LIT  12  J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Query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D86B-000F-4A89-AE01-A4285C4D96C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Box 6"/>
          <p:cNvSpPr/>
          <p:nvPr/>
        </p:nvSpPr>
        <p:spPr>
          <a:xfrm>
            <a:off x="214200" y="1785960"/>
            <a:ext cx="871560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Parse Trees arrive from the IP in the form of a deeply nested array. This array is converted 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an instance of the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SelectQuery</a:t>
            </a: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 class by the function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ParseTree.New</a:t>
            </a: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Properties of a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SelectQuery</a:t>
            </a: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 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SetQuantifier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Whether to remove duplicate r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HighestRows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Number of rows in TOP cla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HighestPctRows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If TRUE, number in HighestRows was specified as (TOP n PERC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ValueExpr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An object describing the values extracted by the qu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Tables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A TableList – tables involved in the qu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SearchExpr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A LogExp object describing the filter ex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GroupValExpr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A ValueExpList - Group By ex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HavingExpr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A LogExp – the “Having” ex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UnionType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If “true”, do not check for duplicate records in Un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UnionQuery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Another SelectQuery object if there is a UNION ex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OrderExpr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An OrderLis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See the </a:t>
            </a:r>
            <a:r>
              <a:rPr b="0" lang="da-DK" sz="1800" spc="-1" strike="noStrike">
                <a:solidFill>
                  <a:srgbClr val="000000"/>
                </a:solidFill>
                <a:latin typeface="APL385 Unicode"/>
              </a:rPr>
              <a:t>ParseTree</a:t>
            </a: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 class for more information about other object typ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assThrough Deci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AC62-DA18-4B0F-B9E3-00D04FB6607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Box 6"/>
          <p:cNvSpPr/>
          <p:nvPr/>
        </p:nvSpPr>
        <p:spPr>
          <a:xfrm>
            <a:off x="142920" y="1643040"/>
            <a:ext cx="8858160" cy="44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PassThrough support is implemented in th PassThrough namesp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The function </a:t>
            </a:r>
            <a:r>
              <a:rPr b="0" lang="da-DK" sz="1800" spc="-1" strike="noStrike">
                <a:solidFill>
                  <a:srgbClr val="000000"/>
                </a:solidFill>
                <a:latin typeface="APL385 Unicode"/>
              </a:rPr>
              <a:t>PassThrough.Check</a:t>
            </a: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 contains the following log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If ok←#.ParseTree.SelectQuery=⊃⎕CLASS Query     ⍝ It’s a SELECT 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AndIf ok←1=⍴table←Query.Tables.Items.Name       ⍝ On a sing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able←#.Utils.ucase⊃table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ablecols←(DB.columns[;3]∊⊂table)⌿DB.colum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AndIf ok←∧/(Query.ValueExpr.Items).Type∊⊂'Value'            ⍝ Only Value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AndIf ok←∧/(cols←Query.ValueExpr.Items.Arg1).Type∊⊂'Column' ⍝ Which extract Colum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AndIf ok←∧/(1↑⍴tablecols)≥colix←tablecols[;4]⍳#.Utils.ucase¨cols.Data.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lan←(Query.Tables.Items[1])cols.Data 0 ⍝ Tables, Columns, 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If Query.SearchExpr≢0                  ⍝ There is a Search Ex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ok←0≢(3⊃Plan)←JITSearch Query.SearchExpr </a:t>
            </a:r>
            <a:br>
              <a:rPr sz="1200"/>
            </a:b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⍝ Compile query and store in 3rd element of ”pla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End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End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In other wor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When handing SELECT statements, the sample code will execute the query in PassThrough mode if is is simply selecting columns from a single t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FIRSTBLOCK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(NEXTBLOCK)</a:t>
            </a:r>
            <a:endParaRPr b="1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20A3-87CD-49EA-B8C9-4C83CBAB47B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685440" y="198108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If PASSTHROUGH was selected, the next call from the IP will be FIRSTBLOCK.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The arguments are: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333333"/>
                </a:solidFill>
                <a:latin typeface="Geneva"/>
              </a:rPr>
              <a:t>hStmt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Statement Handle (not really used in POC, possibly useful later)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333333"/>
                </a:solidFill>
                <a:latin typeface="Geneva"/>
              </a:rPr>
              <a:t>BlockSize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Block size (ignored in POC, ALL records are returned by FIRSTBLOCK)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333333"/>
                </a:solidFill>
                <a:latin typeface="Geneva"/>
              </a:rPr>
              <a:t>ParseTree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The same type of object passed to PASSTHROUGH</a:t>
            </a:r>
            <a:br>
              <a:rPr sz="1400"/>
            </a:b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but with bind variable values inserted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Two types of result are possible: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333333"/>
                </a:solidFill>
                <a:latin typeface="Geneva"/>
              </a:rPr>
              <a:t>Final</a:t>
            </a:r>
            <a:r>
              <a:rPr b="1" lang="da-DK" sz="1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The result should be passed unchanged to the ODBC client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333333"/>
                </a:solidFill>
                <a:latin typeface="Geneva"/>
              </a:rPr>
              <a:t>BaseCols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All columns required to produce the result are included, containing joined data,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but  OA framework will do final filtering, grouping and ordering if required.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FIRSTBLOCK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7DF8-A2C4-45FA-8E15-F665AF96C53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Box 6"/>
          <p:cNvSpPr/>
          <p:nvPr/>
        </p:nvSpPr>
        <p:spPr>
          <a:xfrm>
            <a:off x="357120" y="1785960"/>
            <a:ext cx="84297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FIRSTBLOCK(hStmt BlockSize ParseTree);ExecPlan;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alled following a PASSTHROUGH result of 1 (else call SEL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eturns (Mode Cols Data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ode=1: Final result, ready to 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ode=2: Base cols only, OA Server will filter, order,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(Requires 2 extra output cols: FullColName, TableN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ols  : [;1] ColName, [;2] ColNum, [;3] XOType [;4] Col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(and in mode 2 also [;5] FullColName, [;6] TableN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Data  : One vector for each column of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[mor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What is it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42960" y="185724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SQAPL Server allows an APL Application to appear to be a Relational Databas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o clients supporting ODBC, JDBC, ADO[.NET]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uilt on the OpenAccess Server from DataDirec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raps the OA API in a form which is easy to use for APL Developer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minimal implementation only requires modifying a handful of simple APL sample f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B515-91DC-4C1C-ADDA-5B2CAFF6E5A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FIRSTBLOCK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4E34-8C13-4028-969C-1C690B18E33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Box 8"/>
          <p:cNvSpPr/>
          <p:nvPr/>
        </p:nvSpPr>
        <p:spPr>
          <a:xfrm>
            <a:off x="428760" y="2000160"/>
            <a:ext cx="83581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FIRSTBLOCK(hStmt BlockSize ParseTree);ExecPlan;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[continued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Query←#.ParseTree.New Parse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 ExecPlan←#.PassThrough.Check DB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If r=0 ⋄ ∘ ⋄ :EndIf  ⍝ Parano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Hold 'DataBase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DB.Prepare 1 Query.Tables.Items.Name Query.SearchExpr</a:t>
            </a:r>
            <a:br>
              <a:rPr sz="1600"/>
            </a:b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             ⍝ Give DB a chance to prepar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#.PassThrough.Execute DB ExecPlan                   </a:t>
            </a:r>
            <a:br>
              <a:rPr sz="1600"/>
            </a:b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             ⍝ Execute the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End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11DB-B391-4DB0-A10D-761000A017D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Box 6"/>
          <p:cNvSpPr/>
          <p:nvPr/>
        </p:nvSpPr>
        <p:spPr>
          <a:xfrm>
            <a:off x="642960" y="1714680"/>
            <a:ext cx="83581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If PASSTHROUGH was REJECTED, the IP will call SELECT one or more tim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SUBSELECT(hStmt Table Columns OptIndex);tab;data;m;i;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alled if PASSTHROUGH is REJ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ar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Table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olumns - 5 column matri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1: Column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2: Column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3: Column Data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4: Column Type (select whe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5: Restriction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Optimal Index (Vector of Restriction Lis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Restrict List is a Vector of Restrictions to be O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⍝       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Column Name, LeftFn, LeftVal, RightFn, Right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mor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B5A4-97A0-4718-8BD1-9A5F8C5C6B8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Box 6"/>
          <p:cNvSpPr/>
          <p:nvPr/>
        </p:nvSpPr>
        <p:spPr>
          <a:xfrm>
            <a:off x="642960" y="1714680"/>
            <a:ext cx="83581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If PASSTHROUGH was REJECTED, the IP will call SELECT one or more tim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SUBSELECT(hStmt Table Columns OptIndex);tab;data;m;i;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alled if PASSTHROUGH is REJ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ar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Table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olumns - 5 column matri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1: Column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2: Column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3: Column Data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4: Column Type (select whe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5: Restriction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Optimal Index (Vector of Restriction Lis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Restrict List is a Vector of Restrictions to be O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⍝       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Column Name, LeftFn, LeftVal, RightFn, Right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mor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CC21-EC50-4580-9CAE-266D4DC5686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Box 6"/>
          <p:cNvSpPr/>
          <p:nvPr/>
        </p:nvSpPr>
        <p:spPr>
          <a:xfrm>
            <a:off x="642960" y="1714680"/>
            <a:ext cx="83581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SUBSELECT(hStmt Table Columns OptIndex) [continued...] </a:t>
            </a:r>
            <a:br>
              <a:rPr sz="1600"/>
            </a:b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Retur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1: Condition Code   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2: nx4 Column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1: Column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2: Column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3: Column data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4: Column Type (select whe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3: Vector of column data (length=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Numbers as simple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hars as nested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Time, Date, DateTime as numeric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4: Vector of row indices for use by </a:t>
            </a:r>
            <a:br>
              <a:rPr sz="1600"/>
            </a:b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                         SELECTUPDATE &amp; SELECTDE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In POC, returns all rows at once. </a:t>
            </a:r>
            <a:br>
              <a:rPr sz="1600"/>
            </a:b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 Later, "Fetch" will collect mor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(return "success with pending result")  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mor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 Example: Inp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AC35-D14F-409F-90BA-14DEAF8EAA0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Box 6"/>
          <p:cNvSpPr/>
          <p:nvPr/>
        </p:nvSpPr>
        <p:spPr>
          <a:xfrm>
            <a:off x="642960" y="1714680"/>
            <a:ext cx="835812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</a:rPr>
              <a:t>select * from customers where custid &gt; 0 and custname like 'J%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OptIndex: ┌→─────────────────────────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┌→─────────────────────┐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│ ┌→─────────────────┐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│ │ ┌→─────┐         │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│ │ │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custid│ 4 0 0 0 │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│ │ └──────┘         │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│ └∊─────────────────┘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└∊─────────────────────┘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└∊─────────────────────────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Columns:  ┌→────────────────────────────────────────────────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↓ ┌→─────┐          ┌⊖┐                          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│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CUSTID│   0 4  3 │0│                          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└──────┘          └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~┘                          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┌→───────┐        ┌→──────────────────────────┐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│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CUSTNAME│ 1 12 3 │ ┌→──────────────────────┐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└────────┘        │ │ ┌→───────┐   ┌→─┐     │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                  │ │ │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custname│ 8 │J%│ 0 0 │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                  │ │ └────────┘   └──┘     │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                  │ └∊──────────────────────┘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                  └∊──────────────────────────┘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└∊────────────────────────────────────────────────┘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1" name="Straight Arrow Connector 8"/>
          <p:cNvCxnSpPr/>
          <p:nvPr/>
        </p:nvCxnSpPr>
        <p:spPr>
          <a:xfrm flipH="1">
            <a:off x="2642760" y="1927800"/>
            <a:ext cx="929520" cy="78660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82" name="Straight Arrow Connector 12"/>
          <p:cNvCxnSpPr/>
          <p:nvPr/>
        </p:nvCxnSpPr>
        <p:spPr>
          <a:xfrm flipH="1">
            <a:off x="3142800" y="1928880"/>
            <a:ext cx="1000800" cy="9295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83" name="Straight Arrow Connector 16"/>
          <p:cNvCxnSpPr/>
          <p:nvPr/>
        </p:nvCxnSpPr>
        <p:spPr>
          <a:xfrm flipH="1">
            <a:off x="3357360" y="1928880"/>
            <a:ext cx="1000800" cy="9295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84" name="Straight Arrow Connector 19"/>
          <p:cNvCxnSpPr/>
          <p:nvPr/>
        </p:nvCxnSpPr>
        <p:spPr>
          <a:xfrm flipH="1">
            <a:off x="5428800" y="2000160"/>
            <a:ext cx="929520" cy="314424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85" name="Straight Arrow Connector 22"/>
          <p:cNvCxnSpPr/>
          <p:nvPr/>
        </p:nvCxnSpPr>
        <p:spPr>
          <a:xfrm flipH="1">
            <a:off x="4928760" y="2000160"/>
            <a:ext cx="929520" cy="32155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86" name="Straight Arrow Connector 25"/>
          <p:cNvCxnSpPr/>
          <p:nvPr/>
        </p:nvCxnSpPr>
        <p:spPr>
          <a:xfrm flipH="1">
            <a:off x="4357080" y="2000160"/>
            <a:ext cx="857880" cy="314424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 Example: Outp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EA5C-1771-44E4-B3D2-59FB79B319E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Box 6"/>
          <p:cNvSpPr/>
          <p:nvPr/>
        </p:nvSpPr>
        <p:spPr>
          <a:xfrm>
            <a:off x="642960" y="1714680"/>
            <a:ext cx="83581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</a:rPr>
              <a:t>select * from customers where custid&gt;0 and custname like ''J%'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Data:  ┌→────────────────────────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│ ┌→──┐ ┌→──────────────┐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│ │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1 2│ │ ┌→───┐ ┌→───┐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│ └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~──┘ │ │Jack│ │Jill│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│       │ └────┘ └────┘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│       └∊──────────────┘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└∊────────────────────────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owIx: ┌→──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│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1 2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└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~──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owIx</a:t>
            </a:r>
            <a:r>
              <a:rPr b="0" lang="da-DK" sz="1200" spc="-1" strike="noStrike">
                <a:solidFill>
                  <a:srgbClr val="000000"/>
                </a:solidFill>
                <a:latin typeface="Geneva"/>
              </a:rPr>
              <a:t> is used by UPDATE and DE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 - Continue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7B13-E54C-4C76-9C8D-F05B4745A9E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Box 6"/>
          <p:cNvSpPr/>
          <p:nvPr/>
        </p:nvSpPr>
        <p:spPr>
          <a:xfrm>
            <a:off x="642960" y="1714680"/>
            <a:ext cx="8358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SUBSELECT(hStmt Table Columns OptInde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[continued...]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tab←DB⍎ucase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data←tab[;1+Columns[;2]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data←(m←data ExecRestrictions OptIndex)⌿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(m/m)←m2←data ExecRestrictions (0≠⊃∘⍴¨Columns[;5])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                             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olumns[;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data←m2⌿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owix←m/⍳⍴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data←↓[1]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←Columns[;3]∊9 10 11 ⍝ Time, Date, Dat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(m/data)←↑¨m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0(4↑[2]Columns)data row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Executing Restri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B21D-24D8-4061-B97C-9A5C9B8281A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Box 6"/>
          <p:cNvSpPr/>
          <p:nvPr/>
        </p:nvSpPr>
        <p:spPr>
          <a:xfrm>
            <a:off x="642960" y="1714680"/>
            <a:ext cx="8358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←ExecRestriction(Cols Data Restrictions);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(cols lfns lvals rfns rvals)←↓[1]↑Restri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i←Cols[;1]⍳⊂ucase⊃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←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For j :In ⍳⍴lf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fn←⍎#.ParseTree.CondFn j⊃lf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sk←Data[;i] fn lvals[j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If 0≠j⊃rfns ⍝ If there is a ”right fn” (eg Betwe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fn←⍎#.ParseTree.CondFn j⊃rf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sk←Data[;i] fn rvals[j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∨←m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End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#.ParseTree.CondFn</a:t>
            </a: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 converts fn numbers into APL code fragments (eg 8 = Lik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3581-5701-4CC3-B8AA-A3A66F5FEC4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Box 6"/>
          <p:cNvSpPr/>
          <p:nvPr/>
        </p:nvSpPr>
        <p:spPr>
          <a:xfrm>
            <a:off x="642960" y="1714680"/>
            <a:ext cx="83581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SELECTUPDATE a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SelectedRows←4⊃r←SUBSELECT a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3↑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UPDATEROWS(hStmt tablename cols rowix data nul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tablename←ucase table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data←cols[;3]Cast¨data ⍝ Ensure correct APL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⍎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'DB.',tablename,'[',(⍕SelectedRows[1+rowix]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              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';',(⍕1+cols[;2]),']←dat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0(⍴rowix) ⍝ Return number of rows aff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APL385 Unicode"/>
              </a:rPr>
              <a:t>ToDo: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SelectedRows</a:t>
            </a: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 needs to be stored ”per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hStmt</a:t>
            </a: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owIx</a:t>
            </a: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 is also not thread safe: Need unique row identif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ELE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930D-54B2-4C17-B6D2-E19BE4BD610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Box 6"/>
          <p:cNvSpPr/>
          <p:nvPr/>
        </p:nvSpPr>
        <p:spPr>
          <a:xfrm>
            <a:off x="642960" y="1714680"/>
            <a:ext cx="8358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SELECTDELETE a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SelectedRows←4⊃r←SUBSELECT a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3↑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DELETEROWS(hStmt tablename rowix);data;m;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tablename←ucase table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←~(⍳1↑⍴data←⍎t←'DB.',tablename)∊SelectedRows[1+rowix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⍎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'DB.',tablename,'←m⌿data' ⍝ Compress rows out of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0(⍴rowi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APL385 Unicode"/>
              </a:rPr>
              <a:t>ToDo: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S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What Does it Do?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llows an APL application to appear to be an RDBMS, with a minimum of effor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rovides 100% complete and standard SQL language support without re-implementing SQL in the applic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upports SELECT, INSERT, UPDATE, DELETE, DDL, Stored Procedures and Bulk Insert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erver-side comms uses TCP/IP sockets (Conga) for easy scalability and a robust architectur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INSER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2DB2-9167-4C82-B105-1B3DB1FE66C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Box 6"/>
          <p:cNvSpPr/>
          <p:nvPr/>
        </p:nvSpPr>
        <p:spPr>
          <a:xfrm>
            <a:off x="642960" y="1714680"/>
            <a:ext cx="8358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INSERT(hStmt tablename cols data nulls);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tablename←ucase table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Create Empty rows with right types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ow←((1↑⍴data),⍴row)⍴row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((DB.columns[;3]∊⊂tablename)⌿DB.columns[;5])Cast¨⊂'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Fill with data actually provi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ow[;1+cols[;2]]←((⍴data)⍴cols[;3])Cast¨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⍎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'DB.',tablename,'⍪←row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0(1↑⍴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APL385 Unicode"/>
              </a:rPr>
              <a:t>ToDo: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Nothing </a:t>
            </a:r>
            <a:r>
              <a:rPr b="0" lang="da-DK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tored Proced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77AC-55E8-4E61-A3E0-25F9707D2A0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Content Placeholder 2"/>
          <p:cNvSpPr/>
          <p:nvPr/>
        </p:nvSpPr>
        <p:spPr>
          <a:xfrm>
            <a:off x="6286680" y="1928880"/>
            <a:ext cx="2428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PROC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NEXT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Content Placeholder 2"/>
          <p:cNvSpPr/>
          <p:nvPr/>
        </p:nvSpPr>
        <p:spPr>
          <a:xfrm>
            <a:off x="342900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PASS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FIRST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NEXT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INSE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Content Placeholder 2"/>
          <p:cNvSpPr/>
          <p:nvPr/>
        </p:nvSpPr>
        <p:spPr>
          <a:xfrm>
            <a:off x="71424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RANS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CATALO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SCH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ABLE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COLUM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F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tored Procedure Setup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1147-2391-43F0-9448-3465E37226A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Box 6"/>
          <p:cNvSpPr/>
          <p:nvPr/>
        </p:nvSpPr>
        <p:spPr>
          <a:xfrm>
            <a:off x="642960" y="1714680"/>
            <a:ext cx="835812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PROC and PROCCOLS return schema inform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s←0 9⍴⍬ ⍝ Stored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s⍪←'SCHEMA' 'DYALOG' 'SetTaxRate'        1 0 0 'Set Global Interest Rate' '1' '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cols←0 14⍴⍬ ⍝ Stored Procedure Colum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cols⍪←'SCHEMA' 'DYALOG' 'SetTaxRate' 'Rate'    1  4 'INTEGER'  10   4 ¯1 ¯1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cols⍪←'SCHEMA' 'DYALOG' 'SetTaxRate' 'Message' 3 12 'VARCHAR' 255 255 ¯1 ¯1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axRate←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SetTaxRate(Data Nu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,⊂,⊂'Tax Rate set to ',(⍕⊃Data),' - was ',⍕Tax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axRate←⊃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rocedure Execu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49E1-0557-4A4D-BD36-00CC6CF7E5B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Box 6"/>
          <p:cNvSpPr/>
          <p:nvPr/>
        </p:nvSpPr>
        <p:spPr>
          <a:xfrm>
            <a:off x="642960" y="1714680"/>
            <a:ext cx="8358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PROCEDURE(hStmt Name Cols Data Nulls);i;fn;m;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ake a Stored Procedure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i←(ucase¨DB.procs[;3])⍳⊂ucase lastproc←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If (1↑⍴DB.procs)&lt;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OrIf 3≠DB.⎕NC fn←⊃DB.procs[i;3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6 'Unknown stored procedure: ',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←DB.proccols[;3]∊⊂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ols←m⌿DB.proc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ols←(cols[;5]=3)⌿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3 cols ((DB⍎fn) Data Nul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Result Type 3 means a stored procedure result (vector or vec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tored Procedure Setup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560C-1D10-4CF7-B630-3E40B4245E3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Box 6"/>
          <p:cNvSpPr/>
          <p:nvPr/>
        </p:nvSpPr>
        <p:spPr>
          <a:xfrm>
            <a:off x="642960" y="1714680"/>
            <a:ext cx="835812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PROC and PROCCOLS return schema inform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s←0 9⍴⍬ ⍝ Stored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s⍪←'SCHEMA' 'DYALOG' 'SetTaxRate'        1 0 0 'Set Global Interest Rate' '1' '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cols←0 14⍴⍬ ⍝ Stored Procedure Colum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cols⍪←'SCHEMA' 'DYALOG' 'SetTaxRate' 'Rate'    1  4 'INTEGER'  10   4 ¯1 ¯1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cols⍪←'SCHEMA' 'DYALOG' 'SetTaxRate' 'Message' 3 12 'VARCHAR' 255 255 ¯1 ¯1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axRate←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SetTaxRate(Data Nu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,⊂,⊂'Tax Rate set to ',(⍕⊃Data),' - was ',⍕Tax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axRate←⊃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Why Would You Want One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ny APL application data which can be described as a table can quickly be exposed to almost any client application with minimal effort, enabling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Reporting Applications using e.g. Crystal Reports, Exc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Writing Custom Front-Ends easily in any Languag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You can serve up Live Data, an do not depend on exports having been (planned and) successfully ru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Data can be exposed to external applications while maintaining application integrity checks, locks etc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ime for a Demo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emo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MS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MS Exc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Run the Simple QA Suit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QAPL Server Architectur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4" name="TextBox 8"/>
          <p:cNvSpPr/>
          <p:nvPr/>
        </p:nvSpPr>
        <p:spPr>
          <a:xfrm>
            <a:off x="1357200" y="4572000"/>
            <a:ext cx="192888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ODBC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Box 9"/>
          <p:cNvSpPr/>
          <p:nvPr/>
        </p:nvSpPr>
        <p:spPr>
          <a:xfrm>
            <a:off x="3500280" y="3571920"/>
            <a:ext cx="1928880" cy="3988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Geneva"/>
              </a:rPr>
              <a:t>OA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Box 10"/>
          <p:cNvSpPr/>
          <p:nvPr/>
        </p:nvSpPr>
        <p:spPr>
          <a:xfrm>
            <a:off x="3500280" y="3000240"/>
            <a:ext cx="1928880" cy="6426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SQAPL SRV</a:t>
            </a:r>
            <a:br>
              <a:rPr sz="1800"/>
            </a:b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”IP Provider”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Box 11"/>
          <p:cNvSpPr/>
          <p:nvPr/>
        </p:nvSpPr>
        <p:spPr>
          <a:xfrm>
            <a:off x="428760" y="5214960"/>
            <a:ext cx="1928520" cy="368280"/>
          </a:xfrm>
          <a:prstGeom prst="rect">
            <a:avLst/>
          </a:prstGeom>
          <a:solidFill>
            <a:srgbClr val="8ac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MS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12"/>
          <p:cNvSpPr/>
          <p:nvPr/>
        </p:nvSpPr>
        <p:spPr>
          <a:xfrm>
            <a:off x="2571840" y="5214960"/>
            <a:ext cx="1928880" cy="368280"/>
          </a:xfrm>
          <a:prstGeom prst="rect">
            <a:avLst/>
          </a:prstGeom>
          <a:solidFill>
            <a:srgbClr val="8ac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MS Ex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13"/>
          <p:cNvSpPr/>
          <p:nvPr/>
        </p:nvSpPr>
        <p:spPr>
          <a:xfrm>
            <a:off x="214200" y="5643720"/>
            <a:ext cx="1928880" cy="368280"/>
          </a:xfrm>
          <a:prstGeom prst="rect">
            <a:avLst/>
          </a:prstGeom>
          <a:solidFill>
            <a:srgbClr val="8ac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Crystal Re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4"/>
          <p:cNvSpPr/>
          <p:nvPr/>
        </p:nvSpPr>
        <p:spPr>
          <a:xfrm>
            <a:off x="4714920" y="5214960"/>
            <a:ext cx="1928880" cy="459720"/>
          </a:xfrm>
          <a:prstGeom prst="rect">
            <a:avLst/>
          </a:prstGeom>
          <a:solidFill>
            <a:srgbClr val="8ac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VB/C++/C#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16"/>
          <p:cNvSpPr/>
          <p:nvPr/>
        </p:nvSpPr>
        <p:spPr>
          <a:xfrm>
            <a:off x="5072040" y="5643720"/>
            <a:ext cx="19288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Dy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Box 17"/>
          <p:cNvSpPr/>
          <p:nvPr/>
        </p:nvSpPr>
        <p:spPr>
          <a:xfrm>
            <a:off x="3500280" y="4572000"/>
            <a:ext cx="192888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ADO / ADO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Box 18"/>
          <p:cNvSpPr/>
          <p:nvPr/>
        </p:nvSpPr>
        <p:spPr>
          <a:xfrm>
            <a:off x="6786720" y="4572000"/>
            <a:ext cx="192852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JDBC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Box 19"/>
          <p:cNvSpPr/>
          <p:nvPr/>
        </p:nvSpPr>
        <p:spPr>
          <a:xfrm>
            <a:off x="7072200" y="5214960"/>
            <a:ext cx="1928880" cy="368280"/>
          </a:xfrm>
          <a:prstGeom prst="rect">
            <a:avLst/>
          </a:prstGeom>
          <a:solidFill>
            <a:srgbClr val="8ac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Java Ap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Straight Arrow Connector 21"/>
          <p:cNvCxnSpPr/>
          <p:nvPr/>
        </p:nvCxnSpPr>
        <p:spPr>
          <a:xfrm flipV="1">
            <a:off x="2571840" y="3929040"/>
            <a:ext cx="1286640" cy="64332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26" name="Straight Arrow Connector 24"/>
          <p:cNvCxnSpPr/>
          <p:nvPr/>
        </p:nvCxnSpPr>
        <p:spPr>
          <a:xfrm flipV="1">
            <a:off x="4284720" y="3928680"/>
            <a:ext cx="2160" cy="64512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27" name="Straight Arrow Connector 28"/>
          <p:cNvCxnSpPr/>
          <p:nvPr/>
        </p:nvCxnSpPr>
        <p:spPr>
          <a:xfrm flipH="1" flipV="1">
            <a:off x="4928400" y="3929040"/>
            <a:ext cx="2429640" cy="64332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28" name="Straight Arrow Connector 31"/>
          <p:cNvCxnSpPr/>
          <p:nvPr/>
        </p:nvCxnSpPr>
        <p:spPr>
          <a:xfrm flipV="1">
            <a:off x="2000160" y="4928760"/>
            <a:ext cx="215280" cy="28656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9" name="Straight Arrow Connector 35"/>
          <p:cNvCxnSpPr/>
          <p:nvPr/>
        </p:nvCxnSpPr>
        <p:spPr>
          <a:xfrm flipH="1" flipV="1">
            <a:off x="2785320" y="4928760"/>
            <a:ext cx="143640" cy="28656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0" name="TextBox 38"/>
          <p:cNvSpPr/>
          <p:nvPr/>
        </p:nvSpPr>
        <p:spPr>
          <a:xfrm>
            <a:off x="2357280" y="5643720"/>
            <a:ext cx="1928880" cy="368280"/>
          </a:xfrm>
          <a:prstGeom prst="rect">
            <a:avLst/>
          </a:prstGeom>
          <a:solidFill>
            <a:srgbClr val="8ac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Etc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1" name="Straight Arrow Connector 39"/>
          <p:cNvCxnSpPr/>
          <p:nvPr/>
        </p:nvCxnSpPr>
        <p:spPr>
          <a:xfrm flipH="1" flipV="1">
            <a:off x="4928400" y="4928760"/>
            <a:ext cx="143640" cy="28656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2" name="Straight Arrow Connector 40"/>
          <p:cNvCxnSpPr/>
          <p:nvPr/>
        </p:nvCxnSpPr>
        <p:spPr>
          <a:xfrm flipH="1" flipV="1">
            <a:off x="7643160" y="4928760"/>
            <a:ext cx="143640" cy="28656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3" name="TextBox 41"/>
          <p:cNvSpPr/>
          <p:nvPr/>
        </p:nvSpPr>
        <p:spPr>
          <a:xfrm>
            <a:off x="1357200" y="2143080"/>
            <a:ext cx="1928880" cy="459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45"/>
          <p:cNvSpPr/>
          <p:nvPr/>
        </p:nvSpPr>
        <p:spPr>
          <a:xfrm>
            <a:off x="2928960" y="1928880"/>
            <a:ext cx="1928880" cy="459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Box 46"/>
          <p:cNvSpPr/>
          <p:nvPr/>
        </p:nvSpPr>
        <p:spPr>
          <a:xfrm>
            <a:off x="4357800" y="1785960"/>
            <a:ext cx="1928880" cy="459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Box 47"/>
          <p:cNvSpPr/>
          <p:nvPr/>
        </p:nvSpPr>
        <p:spPr>
          <a:xfrm>
            <a:off x="5643720" y="1643040"/>
            <a:ext cx="1928520" cy="459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7" name="Straight Arrow Connector 48"/>
          <p:cNvCxnSpPr/>
          <p:nvPr/>
        </p:nvCxnSpPr>
        <p:spPr>
          <a:xfrm flipH="1" flipV="1">
            <a:off x="2857320" y="2499480"/>
            <a:ext cx="1000800" cy="50076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638" name="Straight Arrow Connector 50"/>
          <p:cNvCxnSpPr>
            <a:endCxn id="634" idx="2"/>
          </p:cNvCxnSpPr>
          <p:nvPr/>
        </p:nvCxnSpPr>
        <p:spPr>
          <a:xfrm flipH="1" flipV="1">
            <a:off x="3893760" y="2390040"/>
            <a:ext cx="249840" cy="6102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639" name="Straight Arrow Connector 53"/>
          <p:cNvCxnSpPr>
            <a:stCxn id="616" idx="0"/>
          </p:cNvCxnSpPr>
          <p:nvPr/>
        </p:nvCxnSpPr>
        <p:spPr>
          <a:xfrm flipV="1">
            <a:off x="4464720" y="2071080"/>
            <a:ext cx="678600" cy="92916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640" name="Straight Arrow Connector 55"/>
          <p:cNvCxnSpPr/>
          <p:nvPr/>
        </p:nvCxnSpPr>
        <p:spPr>
          <a:xfrm flipV="1">
            <a:off x="5000760" y="1999800"/>
            <a:ext cx="1823040" cy="10008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641" name="TextBox 60"/>
          <p:cNvSpPr/>
          <p:nvPr/>
        </p:nvSpPr>
        <p:spPr>
          <a:xfrm>
            <a:off x="6143760" y="39290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b050"/>
                </a:solidFill>
                <a:latin typeface="Geneva"/>
              </a:rPr>
              <a:t>DataDirect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Box 61"/>
          <p:cNvSpPr/>
          <p:nvPr/>
        </p:nvSpPr>
        <p:spPr>
          <a:xfrm>
            <a:off x="6215040" y="2357280"/>
            <a:ext cx="235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c000"/>
                </a:solidFill>
                <a:latin typeface="Geneva"/>
              </a:rPr>
              <a:t>Dyalog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62"/>
          <p:cNvSpPr/>
          <p:nvPr/>
        </p:nvSpPr>
        <p:spPr>
          <a:xfrm>
            <a:off x="1597680" y="271476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7030a0"/>
                </a:solidFill>
                <a:latin typeface="Geneva"/>
              </a:rPr>
              <a:t>TCP So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Compon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13880" y="1857240"/>
            <a:ext cx="821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 Client Application (Crystal, Access, VBA...) makes ODBC call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ODBC(ADO/JDBC) driver transfers information to the “OA Service” or “Interface Provider” (IP)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Dyalog’s IP (oadamipdyalog) manages connections and data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One Conga connection per ODBC Connect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ranslates SQL into “Parse Trees” or (on request) makes simple selections on each table involved in a quer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Buffers data so APL app only deals in array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 SQSRV workspace contains code which listens on port 5000 and has fns which map 1:1 to operations requested by the IP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OA Agent (oaagent) is used to start &amp; stop services via Command Line tool (oacla) but is not involved in session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D958-DBEF-48FF-9DF1-48486942C21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ystem 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Clients and Server can run under Windows, Linux, AIX (any Dyalog platform except Windows Mobile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Clients can support ODBC, ADO, ADO.NET or JDBC – almost any platform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6T22:41:42Z</dcterms:created>
  <dc:creator>Gitte Christensen</dc:creator>
  <dc:description/>
  <dc:language>en-US</dc:language>
  <cp:lastModifiedBy>Windows User</cp:lastModifiedBy>
  <dcterms:modified xsi:type="dcterms:W3CDTF">2009-09-15T12:00:19Z</dcterms:modified>
  <cp:revision>883</cp:revision>
  <dc:subject/>
  <dc:title>Rolling the Process</dc:title>
</cp:coreProperties>
</file>