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81.wmf" ContentType="image/x-wmf"/>
  <Override PartName="/ppt/media/image56.png" ContentType="image/png"/>
  <Override PartName="/ppt/media/image13.wmf" ContentType="image/x-wmf"/>
  <Override PartName="/ppt/media/image55.png" ContentType="image/png"/>
  <Override PartName="/ppt/media/image53.png" ContentType="image/png"/>
  <Override PartName="/ppt/media/image10.wmf" ContentType="image/x-wmf"/>
  <Override PartName="/ppt/media/image51.png" ContentType="image/png"/>
  <Override PartName="/ppt/media/image50.png" ContentType="image/png"/>
  <Override PartName="/ppt/media/image48.wmf" ContentType="image/x-wmf"/>
  <Override PartName="/ppt/media/image46.wmf" ContentType="image/x-wmf"/>
  <Override PartName="/ppt/media/image89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28.png" ContentType="image/png"/>
  <Override PartName="/ppt/media/image93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40.png" ContentType="image/png"/>
  <Override PartName="/ppt/media/image38.wmf" ContentType="image/x-wmf"/>
  <Override PartName="/ppt/media/image8.wmf" ContentType="image/x-wmf"/>
  <Override PartName="/ppt/media/image7.wmf" ContentType="image/x-wmf"/>
  <Override PartName="/ppt/media/image84.wmf" ContentType="image/x-wmf"/>
  <Override PartName="/ppt/media/image49.png" ContentType="image/png"/>
  <Override PartName="/ppt/media/image100.png" ContentType="image/png"/>
  <Override PartName="/ppt/media/image12.png" ContentType="image/png"/>
  <Override PartName="/ppt/media/image47.jpeg" ContentType="image/jpeg"/>
  <Override PartName="/ppt/media/image68.png" ContentType="image/png"/>
  <Override PartName="/ppt/media/image90.wmf" ContentType="image/x-wmf"/>
  <Override PartName="/ppt/media/image6.wmf" ContentType="image/x-wmf"/>
  <Override PartName="/ppt/media/image66.wmf" ContentType="image/x-wmf"/>
  <Override PartName="/ppt/media/image67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29.png" ContentType="image/png"/>
  <Override PartName="/ppt/media/image72.png" ContentType="image/png"/>
  <Override PartName="/ppt/media/image75.png" ContentType="image/png"/>
  <Override PartName="/ppt/media/image76.png" ContentType="image/png"/>
  <Override PartName="/ppt/media/image77.wmf" ContentType="image/x-wmf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19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96.png" ContentType="image/png"/>
  <Override PartName="/ppt/media/image17.png" ContentType="image/png"/>
  <Override PartName="/ppt/media/image95.png" ContentType="image/png"/>
  <Override PartName="/ppt/media/image16.png" ContentType="image/png"/>
  <Override PartName="/ppt/media/image74.png" ContentType="image/png"/>
  <Override PartName="/ppt/media/image94.wmf" ContentType="image/x-wmf"/>
  <Override PartName="/ppt/media/image54.png" ContentType="image/png"/>
  <Override PartName="/ppt/media/image92.png" ContentType="image/png"/>
  <Override PartName="/ppt/media/image78.png" ContentType="image/png"/>
  <Override PartName="/ppt/media/image80.png" ContentType="image/png"/>
  <Override PartName="/ppt/media/image73.wmf" ContentType="image/x-wmf"/>
  <Override PartName="/ppt/media/image88.png" ContentType="image/png"/>
  <Override PartName="/ppt/media/image64.wmf" ContentType="image/x-wmf"/>
  <Override PartName="/ppt/media/image24.png" ContentType="image/png"/>
  <Override PartName="/ppt/media/image101.png" ContentType="image/png"/>
  <Override PartName="/ppt/media/image79.png" ContentType="image/png"/>
  <Override PartName="/ppt/media/image26.png" ContentType="image/png"/>
  <Override PartName="/ppt/media/image91.png" ContentType="image/png"/>
  <Override PartName="/ppt/media/image23.png" ContentType="image/png"/>
  <Override PartName="/ppt/media/image22.wmf" ContentType="image/x-wmf"/>
  <Override PartName="/ppt/media/image65.png" ContentType="image/png"/>
  <Override PartName="/ppt/media/image21.png" ContentType="image/png"/>
  <Override PartName="/ppt/media/image3.wmf" ContentType="image/x-wmf"/>
  <Override PartName="/ppt/media/image15.wmf" ContentType="image/x-wmf"/>
  <Override PartName="/ppt/media/image58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83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52.png" ContentType="image/png"/>
  <Override PartName="/ppt/media/image5.wmf" ContentType="image/x-wmf"/>
  <Override PartName="/ppt/media/image82.wmf" ContentType="image/x-wmf"/>
  <Override PartName="/ppt/media/image27.jpeg" ContentType="image/jpeg"/>
  <Override PartName="/ppt/media/image25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246D-C81D-43E5-9C41-8A5081624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FE54-A253-462D-AF4F-FF48110BC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50A8-BDF7-46B7-82D0-F6F714321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11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B697-6EEE-4DAA-AA7E-FAE071FD8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1EA4-8D63-4A25-93EF-7E3934F3D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{circle} to edit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9B20-AF24-4415-B2EC-728C17601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functions accept ‘?’ to show how they work. Versions will be discuss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BB76-C751-4BA6-B41B-2E6F36E8E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548E-6BBB-48D0-80C2-1A1AE0D70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FCDA-66A0-4C1A-8D24-A2D88A057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class does NOT need to match the name of th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6034-09EB-4E30-88EF-7B19CFDCE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0888-9C01-4718-AE24-D94ABBE7C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tern a la DOS can be supplied although the behaviour will be different than from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3841-3E13-4CB9-8A6B-3233747E2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older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7699-7A3F-4058-9B12-4A2AD5FB1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ile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BAFD-E23B-4D30-80E8-5C6423593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28D3-0255-40E2-848E-D7D28E862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07F9-5EA7-4434-B467-BACDEC3F6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AF23-36C5-4A72-8030-333150750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needs not match the registr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5E0A-6BE6-4C27-98B0-1E451A0DE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pad is found thanks to the OS PATH, no need to include i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FA98-E7AF-41FB-81D2-0808933A2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ull path to the program really should b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1214-04E0-41E9-8FA8-97D1FD668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7FD1-7E1A-4BD0-AA5D-E1669357C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est may NOT be most recent. It also works with 2 different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CF6F-1124-40C9-8084-840464042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FE0C-740B-4AEB-B289-7B6373B52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D9E4-859D-40B7-9287-53A3D50B7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lass in the ws whose versions on file have been deleted won’t be aware of that and subsequent save will keep using version numb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2107-D9C1-4214-8AC6-832FB3BE3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message is to remind the user that any class depending on this file may no longer hold valid 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7D71-6EE6-4968-A20A-CCC90B58F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ript does not have to contain the same name for the class/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403B-0B5E-454C-A867-E5BBF421C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Class is really TB under the co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2A91-7B69-4327-BFFC-E2814BF41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C98A-D51A-40A3-8EB0-FA249E300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7C38-3499-4874-A0BF-A0813A507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D035-40DE-4C23-AEF0-3E75CCE8A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6A42-5D2A-486E-8970-3244533F3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8BB0-6AF7-45E6-A8A2-2D3F24F0F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49D9-E606-430E-A3CE-0DDDC0A15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7B76-AB76-426B-B8EC-CC951274D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3186-1D36-4559-AC27-90156C028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8F81-EB91-45A7-A300-B742390A7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E8F0-651A-4151-BE59-4777B1EA9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E97-1D18-42B9-85B9-800E0B33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1CF-E6B5-45AA-814B-57D36D6B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055-D22B-4735-A86B-0CC4DE2A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DA4-B3A1-481F-8EF2-2D80AD4C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0DD-3E21-4B6E-B6DD-5AAB34F3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E9A-9E7D-4E6F-9953-A2AB0CA3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011-54F6-414E-A788-7191BEEF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1B3-DF96-45AE-AD2D-96F22B80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90C-A54A-43F7-8095-1EADC58B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83F-5A8F-4E0A-A23B-E0F6B950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89B7-ADB4-46AD-A23E-8D44C4A2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EE3-64F5-4200-88EC-066E965C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5010-137D-412D-922A-D9DAF8D48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wmf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6.wmf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wmf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3.wmf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3.wmf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image" Target="../media/image84.wmf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wmf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D772-069E-4415-84F0-6BF099839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ook Antiqua"/>
              </a:rPr>
              <a:t>SALT in Dyal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4500360"/>
            <a:ext cx="6400800" cy="44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1.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ECBD-CAF6-46D2-9A32-60B984976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KEY_CURRENT_USER\Software\Dyalog\Dyalog APL/W 12.0\SALT\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dd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have the value ‘1’ for SALT to be en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is key is set all subsequent sessions will have SALT enabled until this key is changed back to ‘0’ (not ‘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B66B-EEE7-46CD-BE64-FB8D2ED72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A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108" name="Oval 7"/>
          <p:cNvSpPr/>
          <p:nvPr/>
        </p:nvSpPr>
        <p:spPr>
          <a:xfrm>
            <a:off x="3400560" y="385776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1C85-4CE8-462A-883A-1653E0EE4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rt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starting Dyalog SALT will identify it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038240" y="2276640"/>
            <a:ext cx="7134120" cy="3609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1042920" y="3357720"/>
            <a:ext cx="6769080" cy="57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A4AA-7B86-492B-8922-57DD614E5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now store any sourced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4120" cy="3609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MCj02909400000[1]"/>
          <p:cNvPicPr/>
          <p:nvPr/>
        </p:nvPicPr>
        <p:blipFill>
          <a:blip r:embed="rId2"/>
          <a:stretch/>
        </p:blipFill>
        <p:spPr>
          <a:xfrm>
            <a:off x="7451640" y="33336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2"/>
          <p:cNvSpPr/>
          <p:nvPr/>
        </p:nvSpPr>
        <p:spPr>
          <a:xfrm>
            <a:off x="665280" y="3429000"/>
            <a:ext cx="655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"/>
          <p:cNvPicPr/>
          <p:nvPr/>
        </p:nvPicPr>
        <p:blipFill>
          <a:blip r:embed="rId3"/>
          <a:stretch/>
        </p:blipFill>
        <p:spPr>
          <a:xfrm>
            <a:off x="2843280" y="3429000"/>
            <a:ext cx="28954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68D6-8E66-4A32-834E-95E0B5264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7201080" cy="3292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4362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rgument. To find its syntax give it a single ‘?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9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30" name="Picture 4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AutoShape 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7"/>
          <p:cNvSpPr/>
          <p:nvPr/>
        </p:nvSpPr>
        <p:spPr>
          <a:xfrm>
            <a:off x="2157480" y="3898800"/>
            <a:ext cx="792000" cy="19692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628640" y="3897360"/>
            <a:ext cx="457200" cy="20808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2814480" y="3673440"/>
            <a:ext cx="358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C68D-6818-4F20-939A-765931658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specific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004760" y="3476520"/>
            <a:ext cx="16225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203640" y="3284640"/>
            <a:ext cx="934920" cy="21564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44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D7B4-7F55-4D98-97F4-E2C059D6C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relative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53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12"/>
          <p:cNvSpPr/>
          <p:nvPr/>
        </p:nvSpPr>
        <p:spPr>
          <a:xfrm>
            <a:off x="3143160" y="3286080"/>
            <a:ext cx="1143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e\te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214800" y="3286080"/>
            <a:ext cx="934920" cy="21600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1052640" y="3500280"/>
            <a:ext cx="150012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977760" y="3500280"/>
            <a:ext cx="37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000080" y="3500280"/>
            <a:ext cx="3643200" cy="2858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5E29-96C7-4C90-B37D-3A3EBF2A7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4362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will store the source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\SALT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whe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 [Dyalog]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is the installation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ill replace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by whatever location Dyalog is install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7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65" name="Picture 8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AutoShape 9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30E2-1EF2-42D5-8A30-89B0247C6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 Dyalog was install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 and the installation location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[Dyalog]\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 the sources will all be stor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\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we asked to store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final path, after adding the extension,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12760" y="2276640"/>
            <a:ext cx="540072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12760" y="3860640"/>
            <a:ext cx="65912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917800" y="2800440"/>
            <a:ext cx="273384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50920" y="5464080"/>
            <a:ext cx="842472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1"/>
          <p:cNvGrpSpPr/>
          <p:nvPr/>
        </p:nvGrpSpPr>
        <p:grpSpPr>
          <a:xfrm>
            <a:off x="6948360" y="44280"/>
            <a:ext cx="2125440" cy="1731960"/>
            <a:chOff x="6948360" y="44280"/>
            <a:chExt cx="2125440" cy="1731960"/>
          </a:xfrm>
        </p:grpSpPr>
        <p:pic>
          <p:nvPicPr>
            <p:cNvPr id="176" name="Picture 12" descr="MCj02909400000[1]"/>
            <p:cNvPicPr/>
            <p:nvPr/>
          </p:nvPicPr>
          <p:blipFill>
            <a:blip r:embed="rId1"/>
            <a:stretch/>
          </p:blipFill>
          <p:spPr>
            <a:xfrm>
              <a:off x="77403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AutoShape 13"/>
            <p:cNvSpPr/>
            <p:nvPr/>
          </p:nvSpPr>
          <p:spPr>
            <a:xfrm>
              <a:off x="69483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3BD4-CEED-4969-BFC1-3BA2A1A4A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location is desired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k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tting must be modified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to specify the lo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For example you could decide that all scripts go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  <a:ea typeface="ＭＳ 明朝"/>
              </a:rPr>
              <a:t>\CMS\DY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instead of th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83" name="Picture 6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AutoShape 7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8" descr=""/>
          <p:cNvPicPr/>
          <p:nvPr/>
        </p:nvPicPr>
        <p:blipFill>
          <a:blip r:embed="rId2"/>
          <a:stretch/>
        </p:blipFill>
        <p:spPr>
          <a:xfrm>
            <a:off x="2411280" y="4292640"/>
            <a:ext cx="43340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FFDD-0AE9-400F-814A-DBD4C8874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d00252_"/>
          <p:cNvPicPr/>
          <p:nvPr/>
        </p:nvPicPr>
        <p:blipFill>
          <a:blip r:embed="rId1"/>
          <a:stretch/>
        </p:blipFill>
        <p:spPr>
          <a:xfrm>
            <a:off x="7451640" y="198900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ource code management system for Classes and script-based Namespaces in Dyalog AP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FC07-42CF-4C4B-94B6-1729BC7D4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ewing the file in Notep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345440" cy="4746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3492360" y="4005360"/>
            <a:ext cx="3384720" cy="17650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2053080" y="335772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ble click the file opens with Note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MCj03080910000[1]"/>
          <p:cNvPicPr/>
          <p:nvPr/>
        </p:nvPicPr>
        <p:blipFill>
          <a:blip r:embed="rId3"/>
          <a:stretch/>
        </p:blipFill>
        <p:spPr>
          <a:xfrm>
            <a:off x="7688160" y="115920"/>
            <a:ext cx="145584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EDDB-14F8-4305-AD69-DDC2F7CAC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258320" cy="30384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753480" y="1628640"/>
            <a:ext cx="742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pathname as argu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its 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4C00-69D4-4AFD-BD64-20058AD37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53120" y="1628640"/>
            <a:ext cx="72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the content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1"/>
          <a:stretch/>
        </p:blipFill>
        <p:spPr>
          <a:xfrm>
            <a:off x="1835280" y="2414520"/>
            <a:ext cx="56163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A85F-2ED0-4797-8F85-EBCDB14BC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"/>
          <p:cNvPicPr/>
          <p:nvPr/>
        </p:nvPicPr>
        <p:blipFill>
          <a:blip r:embed="rId1"/>
          <a:stretch/>
        </p:blipFill>
        <p:spPr>
          <a:xfrm>
            <a:off x="2224080" y="2060640"/>
            <a:ext cx="5045040" cy="42894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754200" y="141300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recursive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794040" y="2679840"/>
            <a:ext cx="8254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9C0C-FC46-4907-A21C-A85E86092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lows to look at a script with an external editor or to browse using the OS’ explor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telescop"/>
          <p:cNvPicPr/>
          <p:nvPr/>
        </p:nvPicPr>
        <p:blipFill>
          <a:blip r:embed="rId2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648A-8F9B-403D-8B8B-E03911FF1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older merely opens up the disk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5448240" cy="2695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D2FC-0A73-4CAA-81AE-FE47E652C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5057640" cy="292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3E2B-7FBA-4E81-8B55-1A76CFC8A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ile opens up the file wit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\Othell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228920" cy="332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DDF0-9579-42D6-9B0A-CECBB1C44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program us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hange this use the SALT sett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dit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Setting ’editor  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 another program for just this tim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odifier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–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name of the program to use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Explore’Othello –use=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telescop"/>
          <p:cNvPicPr/>
          <p:nvPr/>
        </p:nvPicPr>
        <p:blipFill>
          <a:blip r:embed="rId1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285E-23A6-4A4D-8C20-EA182FEF5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s can be brought back fro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the use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249" name="Picture 4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AutoShape 5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3743280" cy="1942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352680" cy="21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88C3-6770-4BAD-90A7-DB902642D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j0088414"/>
          <p:cNvPicPr/>
          <p:nvPr/>
        </p:nvPicPr>
        <p:blipFill>
          <a:blip r:embed="rId1"/>
          <a:stretch/>
        </p:blipFill>
        <p:spPr>
          <a:xfrm>
            <a:off x="2411280" y="26028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5560" y="1844280"/>
            <a:ext cx="850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onsists in a series of functions stored in []SE to manipulate the source ([]SRC)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code for each object (function or namespace) is stored in a single Unicode text file with a file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functions take 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do thei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rgu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possibly som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-modifi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EEB6-3797-4E14-80D0-0AB73E5A3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objects are brought in the current namespace. To select a different namespace use the –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258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Picture 1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3752640" cy="26384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2"/>
          <p:cNvSpPr/>
          <p:nvPr/>
        </p:nvSpPr>
        <p:spPr>
          <a:xfrm>
            <a:off x="3059280" y="4724280"/>
            <a:ext cx="9349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4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066840" cy="1581120"/>
          </a:xfrm>
          <a:prstGeom prst="rect">
            <a:avLst/>
          </a:prstGeom>
          <a:ln w="0">
            <a:noFill/>
          </a:ln>
        </p:spPr>
      </p:pic>
      <p:sp>
        <p:nvSpPr>
          <p:cNvPr id="263" name="Oval 15"/>
          <p:cNvSpPr/>
          <p:nvPr/>
        </p:nvSpPr>
        <p:spPr>
          <a:xfrm>
            <a:off x="1457280" y="5138640"/>
            <a:ext cx="719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6"/>
          <p:cNvSpPr/>
          <p:nvPr/>
        </p:nvSpPr>
        <p:spPr>
          <a:xfrm>
            <a:off x="4788000" y="375120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DAB0-A789-44C3-94AB-5F8F6323A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all the functions and variables in a namespace are kept in their name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270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14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274" name="Rounded Rectangle 15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6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7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19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ight Arrow 20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1"/>
          <p:cNvGrpSpPr/>
          <p:nvPr/>
        </p:nvGrpSpPr>
        <p:grpSpPr>
          <a:xfrm>
            <a:off x="1143000" y="3000240"/>
            <a:ext cx="2214720" cy="1000440"/>
            <a:chOff x="1143000" y="3000240"/>
            <a:chExt cx="2214720" cy="1000440"/>
          </a:xfrm>
        </p:grpSpPr>
        <p:sp>
          <p:nvSpPr>
            <p:cNvPr id="280" name="Rounded Rectangle 22"/>
            <p:cNvSpPr/>
            <p:nvPr/>
          </p:nvSpPr>
          <p:spPr>
            <a:xfrm>
              <a:off x="1143000" y="3000240"/>
              <a:ext cx="2214720" cy="1000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3"/>
            <p:cNvSpPr/>
            <p:nvPr/>
          </p:nvSpPr>
          <p:spPr>
            <a:xfrm>
              <a:off x="142848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4"/>
            <p:cNvSpPr/>
            <p:nvPr/>
          </p:nvSpPr>
          <p:spPr>
            <a:xfrm>
              <a:off x="250056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F89B-B439-4F47-9A87-52F5FE962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ring them separately you can use the –disperse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288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2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292" name="Rounded Rectangle 14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6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4308120" y="4357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elements can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2D71-E395-4014-B5D4-EF98D71E2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bring several files at once using a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05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6215040" y="2928960"/>
            <a:ext cx="64296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6"/>
          <p:cNvSpPr/>
          <p:nvPr/>
        </p:nvSpPr>
        <p:spPr>
          <a:xfrm>
            <a:off x="6215040" y="3571920"/>
            <a:ext cx="64296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4268520" y="4357800"/>
            <a:ext cx="40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Load ‘Fn*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91A3-17EA-4520-936C-F3714E81F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functions assume global settings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sum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view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tings come from the registry and are brought into the session at start-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modified for the session or even for the time a function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cations can be saved back for the next APL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DA89-FA9F-4308-B984-5869F495D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rticular setting h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just like in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a string. It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emp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4125960" y="2492280"/>
            <a:ext cx="49100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22DD-9BE3-4279-AEA1-9FF2CDC2D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unction takes ‘’ or ‘a_name’ or ‘a_name  followed by a value’. With ‘’ it returns all the settings and their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"/>
          <p:cNvPicPr/>
          <p:nvPr/>
        </p:nvPicPr>
        <p:blipFill>
          <a:blip r:embed="rId2"/>
          <a:stretch/>
        </p:blipFill>
        <p:spPr>
          <a:xfrm>
            <a:off x="2124000" y="3213000"/>
            <a:ext cx="5256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01FA-2DE7-44E5-B217-25B70DD78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_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returns the value associated with that particular setting name. Here the path to the edito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2124000" y="3789360"/>
            <a:ext cx="4896000" cy="2409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E281-D8FE-4879-B7A5-D9E487D8C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associat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Here we change the editor setting to use for the session to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dPad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5040360" cy="2346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165F-B8A7-4010-8A98-7CC39EAB5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6"/>
          <p:cNvGrpSpPr/>
          <p:nvPr/>
        </p:nvGrpSpPr>
        <p:grpSpPr>
          <a:xfrm>
            <a:off x="1763640" y="2852640"/>
            <a:ext cx="5903640" cy="1081080"/>
            <a:chOff x="1763640" y="2852640"/>
            <a:chExt cx="5903640" cy="1081080"/>
          </a:xfrm>
        </p:grpSpPr>
        <p:sp>
          <p:nvSpPr>
            <p:cNvPr id="348" name="Rectangle 3"/>
            <p:cNvSpPr/>
            <p:nvPr/>
          </p:nvSpPr>
          <p:spPr>
            <a:xfrm>
              <a:off x="5896080" y="2852640"/>
              <a:ext cx="177120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4"/>
            <p:cNvSpPr/>
            <p:nvPr/>
          </p:nvSpPr>
          <p:spPr>
            <a:xfrm>
              <a:off x="1763640" y="2852640"/>
              <a:ext cx="171144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5"/>
            <p:cNvSpPr/>
            <p:nvPr/>
          </p:nvSpPr>
          <p:spPr>
            <a:xfrm>
              <a:off x="3475080" y="3364200"/>
              <a:ext cx="2421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7"/>
          <p:cNvSpPr/>
          <p:nvPr/>
        </p:nvSpPr>
        <p:spPr>
          <a:xfrm>
            <a:off x="252000" y="162864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permanently stor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y 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perman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4305240" cy="2276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10"/>
          <p:cNvSpPr/>
          <p:nvPr/>
        </p:nvSpPr>
        <p:spPr>
          <a:xfrm>
            <a:off x="4356000" y="4743360"/>
            <a:ext cx="9367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BCC1-9712-4BF8-A672-22B4BD4AC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ALT functions are monadic.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ve objects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a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208400"/>
          <p:cNvPicPr/>
          <p:nvPr/>
        </p:nvPicPr>
        <p:blipFill>
          <a:blip r:embed="rId1"/>
          <a:stretch/>
        </p:blipFill>
        <p:spPr>
          <a:xfrm rot="232800">
            <a:off x="5795640" y="2133360"/>
            <a:ext cx="23763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A6B9-35AF-4004-9BC8-5C82BB7EB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250920" y="1628640"/>
            <a:ext cx="746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restored from the reg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re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1692360" y="2781360"/>
            <a:ext cx="5833440" cy="1079280"/>
            <a:chOff x="1692360" y="2781360"/>
            <a:chExt cx="5833440" cy="1079280"/>
          </a:xfrm>
        </p:grpSpPr>
        <p:sp>
          <p:nvSpPr>
            <p:cNvPr id="360" name="Rectangle 11"/>
            <p:cNvSpPr/>
            <p:nvPr/>
          </p:nvSpPr>
          <p:spPr>
            <a:xfrm>
              <a:off x="5775840" y="2781360"/>
              <a:ext cx="174996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2"/>
            <p:cNvSpPr/>
            <p:nvPr/>
          </p:nvSpPr>
          <p:spPr>
            <a:xfrm>
              <a:off x="1692360" y="2781360"/>
              <a:ext cx="169128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3"/>
            <p:cNvSpPr/>
            <p:nvPr/>
          </p:nvSpPr>
          <p:spPr>
            <a:xfrm flipH="1">
              <a:off x="3383280" y="3292200"/>
              <a:ext cx="239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18" descr=""/>
          <p:cNvPicPr/>
          <p:nvPr/>
        </p:nvPicPr>
        <p:blipFill>
          <a:blip r:embed="rId1"/>
          <a:stretch/>
        </p:blipFill>
        <p:spPr>
          <a:xfrm>
            <a:off x="2556000" y="4005360"/>
            <a:ext cx="4305240" cy="2276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0"/>
          <p:cNvSpPr/>
          <p:nvPr/>
        </p:nvSpPr>
        <p:spPr>
          <a:xfrm>
            <a:off x="4356000" y="4672080"/>
            <a:ext cx="64764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3320-9504-4A6B-A4CC-5EA8C50D2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536400" y="1722600"/>
            <a:ext cx="824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s can also be overridden temporarily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a statement, for example t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orarily another editor while explo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2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259840" cy="218124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3"/>
          <p:cNvSpPr/>
          <p:nvPr/>
        </p:nvSpPr>
        <p:spPr>
          <a:xfrm>
            <a:off x="4284720" y="4159080"/>
            <a:ext cx="41036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4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9605-812E-4588-A507-7966F088C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MCj03524450000[1]"/>
          <p:cNvPicPr/>
          <p:nvPr/>
        </p:nvPicPr>
        <p:blipFill>
          <a:blip r:embed="rId1"/>
          <a:stretch/>
        </p:blipFill>
        <p:spPr>
          <a:xfrm>
            <a:off x="7494480" y="1785960"/>
            <a:ext cx="1614600" cy="38862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has a number of features that make it more interesting than a simple store and retrieve utility. It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entire workspaces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 several versions of a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scripts without fixing them in the 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autom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ead of using Save to store each function/namespace in the workspace you can use &lt;Snap&gt; to do the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tore everything to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one script per function/name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61EB-4B94-462F-A140-CCA887159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C:\Users\Danb\Downloads\images.jpg"/>
          <p:cNvPicPr/>
          <p:nvPr/>
        </p:nvPicPr>
        <p:blipFill>
          <a:blip r:embed="rId1"/>
          <a:stretch/>
        </p:blipFill>
        <p:spPr>
          <a:xfrm>
            <a:off x="7753320" y="214200"/>
            <a:ext cx="10335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can be used on a sub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script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9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bjects starting with the letter ‘U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util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pattern=U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(remaining)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fn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3 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E4BE-3A0A-432A-AE00-1FCFC5E0E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C:\Users\Danb\Downloads\images.jpg"/>
          <p:cNvPicPr/>
          <p:nvPr/>
        </p:nvPicPr>
        <p:blipFill>
          <a:blip r:embed="rId1"/>
          <a:stretch/>
        </p:blipFill>
        <p:spPr>
          <a:xfrm>
            <a:off x="7753320" y="214200"/>
            <a:ext cx="10335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831B-9C2A-45C5-9583-00E49A7B3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C:\Users\Danb\Downloads\images.jpg"/>
          <p:cNvPicPr/>
          <p:nvPr/>
        </p:nvPicPr>
        <p:blipFill>
          <a:blip r:embed="rId1"/>
          <a:stretch/>
        </p:blipFill>
        <p:spPr>
          <a:xfrm>
            <a:off x="7753320" y="214200"/>
            <a:ext cx="1033560" cy="17161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remembers what has been saved and won’t save again what hasn’t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remembers where objects have been saved so “Snapping” again will put changed objects where they be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DD70-41B1-4EAA-9FA4-0D087202C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0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3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408B-33F3-4F93-87C5-3ADB6714A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also happens if you modify a fn of a class on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5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C468-6E51-4439-B4ED-08B2BA748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6" descr=""/>
          <p:cNvPicPr/>
          <p:nvPr/>
        </p:nvPicPr>
        <p:blipFill>
          <a:blip r:embed="rId1"/>
          <a:stretch/>
        </p:blipFill>
        <p:spPr>
          <a:xfrm>
            <a:off x="1906560" y="4076640"/>
            <a:ext cx="5545080" cy="218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5" descr="MCj02875200000[1]"/>
          <p:cNvPicPr/>
          <p:nvPr/>
        </p:nvPicPr>
        <p:blipFill>
          <a:blip r:embed="rId2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store and KEEP several ver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a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you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to start using version numb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5257800" y="5122800"/>
            <a:ext cx="115236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3967200" y="4960800"/>
            <a:ext cx="68580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3A4F-BB24-4A30-B829-3A9FF3717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time you modify a script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s the definition in a new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949320" y="3382920"/>
            <a:ext cx="3403440" cy="280044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8"/>
          <p:cNvSpPr/>
          <p:nvPr/>
        </p:nvSpPr>
        <p:spPr>
          <a:xfrm>
            <a:off x="241308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608652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5435640" y="4292640"/>
            <a:ext cx="144000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5580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E71F-5C79-46AB-A1CB-8242637AB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Cj03970500000[1]"/>
          <p:cNvPicPr/>
          <p:nvPr/>
        </p:nvPicPr>
        <p:blipFill>
          <a:blip r:embed="rId1"/>
          <a:stretch/>
        </p:blipFill>
        <p:spPr>
          <a:xfrm>
            <a:off x="6804000" y="44280"/>
            <a:ext cx="2254320" cy="2303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stores source in Uni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UTF-8) files whose extension 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Window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Unix, the naming of the files is cas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0933-822D-4316-9BA3-F3020F6FE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7" descr=""/>
          <p:cNvPicPr/>
          <p:nvPr/>
        </p:nvPicPr>
        <p:blipFill>
          <a:blip r:embed="rId1"/>
          <a:stretch/>
        </p:blipFill>
        <p:spPr>
          <a:xfrm>
            <a:off x="611280" y="4086360"/>
            <a:ext cx="4333680" cy="2190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6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4333680" cy="1752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4" descr="MCj02875200000[1]"/>
          <p:cNvPicPr/>
          <p:nvPr/>
        </p:nvPicPr>
        <p:blipFill>
          <a:blip r:embed="rId3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can show the various ver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478800" y="3635280"/>
            <a:ext cx="73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you need to supply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3059280" y="4759200"/>
            <a:ext cx="71892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6"/>
          <p:cNvSpPr/>
          <p:nvPr/>
        </p:nvSpPr>
        <p:spPr>
          <a:xfrm>
            <a:off x="938160" y="2887560"/>
            <a:ext cx="338472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7"/>
          <p:cNvSpPr/>
          <p:nvPr/>
        </p:nvSpPr>
        <p:spPr>
          <a:xfrm>
            <a:off x="971640" y="5056200"/>
            <a:ext cx="338436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8"/>
          <p:cNvSpPr/>
          <p:nvPr/>
        </p:nvSpPr>
        <p:spPr>
          <a:xfrm>
            <a:off x="5516640" y="5445000"/>
            <a:ext cx="29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tarted without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umber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the original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versio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9"/>
          <p:cNvSpPr/>
          <p:nvPr/>
        </p:nvSpPr>
        <p:spPr>
          <a:xfrm flipH="1" flipV="1">
            <a:off x="1763640" y="5618160"/>
            <a:ext cx="367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0"/>
          <p:cNvSpPr/>
          <p:nvPr/>
        </p:nvSpPr>
        <p:spPr>
          <a:xfrm>
            <a:off x="1628640" y="5516640"/>
            <a:ext cx="287640" cy="217440"/>
          </a:xfrm>
          <a:prstGeom prst="ellipse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1"/>
          <p:cNvSpPr/>
          <p:nvPr/>
        </p:nvSpPr>
        <p:spPr>
          <a:xfrm>
            <a:off x="5512320" y="429264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test (using date)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lways visible and on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2"/>
          <p:cNvSpPr/>
          <p:nvPr/>
        </p:nvSpPr>
        <p:spPr>
          <a:xfrm flipH="1" flipV="1">
            <a:off x="4211280" y="3141360"/>
            <a:ext cx="1368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3"/>
          <p:cNvSpPr/>
          <p:nvPr/>
        </p:nvSpPr>
        <p:spPr>
          <a:xfrm flipH="1">
            <a:off x="4356000" y="465300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D0E5-819C-4D87-B2DA-5B77CAADE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for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give it the name of the script(s) and the versions to comp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version is specified the 2 highest vers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ingle number is specified it is compared with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 []SE.SALT.Compare ‘fileA –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compare version 5 of &lt;fileA&gt; with its highest version (probably also most rec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57" name="Rectangle 2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2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1AA3-789E-4B53-8336-7CC4D9E9F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ly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ll use its own comparing code to perform the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program is wanted it should either be specified on the statement line with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or in the set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then is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hould specify the path of the program to use or ‘APL’ if SALT is to do it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0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65" name="Rectangle 11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2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3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A145-2394-4456-B76B-84C5A9C5C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2" descr=""/>
          <p:cNvPicPr/>
          <p:nvPr/>
        </p:nvPicPr>
        <p:blipFill>
          <a:blip r:embed="rId1"/>
          <a:stretch/>
        </p:blipFill>
        <p:spPr>
          <a:xfrm>
            <a:off x="1692360" y="3733920"/>
            <a:ext cx="5790960" cy="200016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o us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Compare It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 third party program available from the net, you can use the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mmand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ett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set it t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ProgramFiles]\Compare It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full path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it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74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Rectangle 9"/>
          <p:cNvSpPr/>
          <p:nvPr/>
        </p:nvSpPr>
        <p:spPr>
          <a:xfrm>
            <a:off x="3635280" y="4552920"/>
            <a:ext cx="3313080" cy="2350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FBA3-8FA3-4615-B7D9-34C9CF6D4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0" descr=""/>
          <p:cNvPicPr/>
          <p:nvPr/>
        </p:nvPicPr>
        <p:blipFill>
          <a:blip r:embed="rId1"/>
          <a:stretch/>
        </p:blipFill>
        <p:spPr>
          <a:xfrm>
            <a:off x="1362240" y="2514600"/>
            <a:ext cx="6419520" cy="18288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also insert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-use=pathnameToProgr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ll said program in the statement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84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Rectangle 9"/>
          <p:cNvSpPr/>
          <p:nvPr/>
        </p:nvSpPr>
        <p:spPr>
          <a:xfrm>
            <a:off x="4249800" y="3338640"/>
            <a:ext cx="28810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0C98-4FBE-4739-A959-141F43A0A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0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01976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93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Text Box 12"/>
          <p:cNvSpPr/>
          <p:nvPr/>
        </p:nvSpPr>
        <p:spPr>
          <a:xfrm>
            <a:off x="1984320" y="55897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program pops up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0403-B5FF-45AC-9F2B-AE2E2E4D9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21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00" name="Rectangle 22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23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‘APL’ is the method chosen to comp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utput will appear in the sessio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12"/>
          <p:cNvGrpSpPr/>
          <p:nvPr/>
        </p:nvGrpSpPr>
        <p:grpSpPr>
          <a:xfrm>
            <a:off x="3203640" y="2565360"/>
            <a:ext cx="5276880" cy="3314880"/>
            <a:chOff x="3203640" y="2565360"/>
            <a:chExt cx="5276880" cy="3314880"/>
          </a:xfrm>
        </p:grpSpPr>
        <p:pic>
          <p:nvPicPr>
            <p:cNvPr id="506" name="Picture 5" descr=""/>
            <p:cNvPicPr/>
            <p:nvPr/>
          </p:nvPicPr>
          <p:blipFill>
            <a:blip r:embed="rId1"/>
            <a:stretch/>
          </p:blipFill>
          <p:spPr>
            <a:xfrm>
              <a:off x="3203640" y="2565360"/>
              <a:ext cx="5276880" cy="33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Rectangle 6"/>
            <p:cNvSpPr/>
            <p:nvPr/>
          </p:nvSpPr>
          <p:spPr>
            <a:xfrm>
              <a:off x="3203640" y="400536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7"/>
            <p:cNvSpPr/>
            <p:nvPr/>
          </p:nvSpPr>
          <p:spPr>
            <a:xfrm>
              <a:off x="3203640" y="461664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8"/>
            <p:cNvSpPr/>
            <p:nvPr/>
          </p:nvSpPr>
          <p:spPr>
            <a:xfrm>
              <a:off x="6375600" y="4005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inser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9"/>
            <p:cNvSpPr/>
            <p:nvPr/>
          </p:nvSpPr>
          <p:spPr>
            <a:xfrm>
              <a:off x="6356880" y="46036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modif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0"/>
            <p:cNvSpPr/>
            <p:nvPr/>
          </p:nvSpPr>
          <p:spPr>
            <a:xfrm flipH="1">
              <a:off x="5940360" y="4797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1"/>
            <p:cNvSpPr/>
            <p:nvPr/>
          </p:nvSpPr>
          <p:spPr>
            <a:xfrm flipH="1">
              <a:off x="5940360" y="4202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3" name="Picture 14" descr=""/>
          <p:cNvPicPr/>
          <p:nvPr/>
        </p:nvPicPr>
        <p:blipFill>
          <a:blip r:embed="rId2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"/>
          <p:cNvPicPr/>
          <p:nvPr/>
        </p:nvPicPr>
        <p:blipFill>
          <a:blip r:embed="rId3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16"/>
          <p:cNvSpPr/>
          <p:nvPr/>
        </p:nvSpPr>
        <p:spPr>
          <a:xfrm>
            <a:off x="470880" y="3860640"/>
            <a:ext cx="221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7"/>
          <p:cNvSpPr/>
          <p:nvPr/>
        </p:nvSpPr>
        <p:spPr>
          <a:xfrm>
            <a:off x="2700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8"/>
          <p:cNvSpPr/>
          <p:nvPr/>
        </p:nvSpPr>
        <p:spPr>
          <a:xfrm>
            <a:off x="2700360" y="407664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9"/>
          <p:cNvSpPr/>
          <p:nvPr/>
        </p:nvSpPr>
        <p:spPr>
          <a:xfrm>
            <a:off x="2700360" y="4076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0"/>
          <p:cNvSpPr/>
          <p:nvPr/>
        </p:nvSpPr>
        <p:spPr>
          <a:xfrm>
            <a:off x="270036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F0CE-D51F-4355-813F-E47E4833E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2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23" name="Rectangle 3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5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class to be compared is already in the workspace you can us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s value to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version swit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]SE.SALT.Compare 'script\file    –version=ws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6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7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B352-EBEB-4F00-A0C2-01EB69FBB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7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a while many versions may clutter a folder and some versions may get ridden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T allows to selectively erase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Version is the function to use,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5" descr="MCj02904610000[1]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6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076480" cy="12668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8" descr=""/>
          <p:cNvPicPr/>
          <p:nvPr/>
        </p:nvPicPr>
        <p:blipFill>
          <a:blip r:embed="rId4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4B3C-A829-421B-92C4-E68054F60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less than a version (e.g.7)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&lt;7 (or &gt;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them all instea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aves 1 version (the highest version) around which it renames to remove the version number. If 4 is the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4.dyalo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MCj02904610000[1]"/>
          <p:cNvPicPr/>
          <p:nvPr/>
        </p:nvPicPr>
        <p:blipFill>
          <a:blip r:embed="rId1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8AD1-C594-4509-A67C-21E8F17DF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NO special requirements (not even .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11 is the minimum version SALT will run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is packaged and comes in already available with V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Cj03914580000[1]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2B2A-FCF6-4632-8F3D-CA7A8097A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14"/>
          <p:cNvGrpSpPr/>
          <p:nvPr/>
        </p:nvGrpSpPr>
        <p:grpSpPr>
          <a:xfrm>
            <a:off x="1042920" y="2492280"/>
            <a:ext cx="6991560" cy="2295720"/>
            <a:chOff x="1042920" y="2492280"/>
            <a:chExt cx="6991560" cy="2295720"/>
          </a:xfrm>
        </p:grpSpPr>
        <p:pic>
          <p:nvPicPr>
            <p:cNvPr id="546" name="Picture 7" descr=""/>
            <p:cNvPicPr/>
            <p:nvPr/>
          </p:nvPicPr>
          <p:blipFill>
            <a:blip r:embed="rId1"/>
            <a:stretch/>
          </p:blipFill>
          <p:spPr>
            <a:xfrm>
              <a:off x="1042920" y="2492280"/>
              <a:ext cx="699156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Rectangle 11"/>
            <p:cNvSpPr/>
            <p:nvPr/>
          </p:nvSpPr>
          <p:spPr>
            <a:xfrm>
              <a:off x="4427640" y="3141720"/>
              <a:ext cx="965160" cy="24120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llapsing effec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achieved with higher versions by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collap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MCj02904610000[1]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2171880" cy="12668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9"/>
          <p:cNvSpPr/>
          <p:nvPr/>
        </p:nvSpPr>
        <p:spPr>
          <a:xfrm>
            <a:off x="735120" y="50068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975600" y="5013360"/>
            <a:ext cx="71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st file of the group deleted has been give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version number and renamed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" descr=""/>
          <p:cNvPicPr/>
          <p:nvPr/>
        </p:nvPicPr>
        <p:blipFill>
          <a:blip r:embed="rId4"/>
          <a:stretch/>
        </p:blipFill>
        <p:spPr>
          <a:xfrm>
            <a:off x="1042920" y="2492280"/>
            <a:ext cx="69915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AFFD-30BF-4DAE-BADC-E2BBDB24B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1" descr=""/>
          <p:cNvPicPr/>
          <p:nvPr/>
        </p:nvPicPr>
        <p:blipFill>
          <a:blip r:embed="rId1"/>
          <a:stretch/>
        </p:blipFill>
        <p:spPr>
          <a:xfrm>
            <a:off x="4208400" y="3789360"/>
            <a:ext cx="4305240" cy="24573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scripts ar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into the ws they become objects ready to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if script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class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n this class can be used immediately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562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5734080" y="441324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0"/>
          <p:cNvSpPr/>
          <p:nvPr/>
        </p:nvSpPr>
        <p:spPr>
          <a:xfrm>
            <a:off x="5157720" y="487836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31BC-B7F4-447A-AB86-F981B72C0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1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305240" cy="268632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a different nam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instructed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class instead of fixing it in the ws by us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573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8"/>
          <p:cNvSpPr/>
          <p:nvPr/>
        </p:nvSpPr>
        <p:spPr>
          <a:xfrm>
            <a:off x="6516720" y="4508640"/>
            <a:ext cx="8650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0"/>
          <p:cNvSpPr/>
          <p:nvPr/>
        </p:nvSpPr>
        <p:spPr>
          <a:xfrm>
            <a:off x="4481640" y="543564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2"/>
          <p:cNvSpPr/>
          <p:nvPr/>
        </p:nvSpPr>
        <p:spPr>
          <a:xfrm>
            <a:off x="7413480" y="4562640"/>
            <a:ext cx="57492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0704-0111-4EEB-995D-11923EB74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2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4171680" cy="254304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it is unnecessary to bring in the class and only an instanc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ses internall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to achiev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585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8"/>
          <p:cNvSpPr/>
          <p:nvPr/>
        </p:nvSpPr>
        <p:spPr>
          <a:xfrm>
            <a:off x="5753160" y="475920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9"/>
          <p:cNvSpPr/>
          <p:nvPr/>
        </p:nvSpPr>
        <p:spPr>
          <a:xfrm>
            <a:off x="971640" y="46432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3"/>
          <p:cNvSpPr/>
          <p:nvPr/>
        </p:nvSpPr>
        <p:spPr>
          <a:xfrm>
            <a:off x="4327560" y="53830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72F0-3C8F-4FD0-8145-A54166A81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also supports the loading and starting of applications from an “application file” with an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4284-F189-446F-ADF1-F6C8A88BA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ut in the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le the instructions to perform the task: all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1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.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504880" cy="10573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504880" cy="21715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4371840" cy="2181240"/>
          </a:xfrm>
          <a:prstGeom prst="rect">
            <a:avLst/>
          </a:prstGeom>
          <a:ln w="0">
            <a:noFill/>
          </a:ln>
        </p:spPr>
      </p:pic>
      <p:sp>
        <p:nvSpPr>
          <p:cNvPr id="602" name="Line 8"/>
          <p:cNvSpPr/>
          <p:nvPr/>
        </p:nvSpPr>
        <p:spPr>
          <a:xfrm>
            <a:off x="3708360" y="2421000"/>
            <a:ext cx="259092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 flipH="1">
            <a:off x="6877080" y="3716280"/>
            <a:ext cx="7128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 flipH="1">
            <a:off x="6659640" y="3933720"/>
            <a:ext cx="712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6845-9337-42A8-B5E9-ECD952B6F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go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to have multiple working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perform the required loads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external u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with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MCj02324220000[1]"/>
          <p:cNvPicPr/>
          <p:nvPr/>
        </p:nvPicPr>
        <p:blipFill>
          <a:blip r:embed="rId1"/>
          <a:stretch/>
        </p:blipFill>
        <p:spPr>
          <a:xfrm>
            <a:off x="6647040" y="0"/>
            <a:ext cx="24969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D7E6-70F8-4027-B13B-96F77E9BD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have several working directories to split work into logical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: you could put all utilities in a separat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ell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different directories you list them in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gistry ke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ourceFold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parated by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Dyalog]\Classes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\CMS\Dy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4"/>
          <p:cNvSpPr/>
          <p:nvPr/>
        </p:nvSpPr>
        <p:spPr>
          <a:xfrm>
            <a:off x="3390840" y="5392800"/>
            <a:ext cx="57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5" descr="MCj02460450000[1]"/>
          <p:cNvPicPr/>
          <p:nvPr/>
        </p:nvPicPr>
        <p:blipFill>
          <a:blip r:embed="rId1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F305-0136-4493-8A14-D7AAA2112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11" descr=""/>
          <p:cNvPicPr/>
          <p:nvPr/>
        </p:nvPicPr>
        <p:blipFill>
          <a:blip r:embed="rId1"/>
          <a:stretch/>
        </p:blipFill>
        <p:spPr>
          <a:xfrm>
            <a:off x="1332000" y="4332240"/>
            <a:ext cx="6985080" cy="195732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arches directories in the order specified until it finds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also specify the directories via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nd make it permanen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6486480" y="511668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7"/>
          <p:cNvSpPr/>
          <p:nvPr/>
        </p:nvSpPr>
        <p:spPr>
          <a:xfrm>
            <a:off x="5508720" y="5089680"/>
            <a:ext cx="323640" cy="322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9" descr="MCj02460450000[1]"/>
          <p:cNvPicPr/>
          <p:nvPr/>
        </p:nvPicPr>
        <p:blipFill>
          <a:blip r:embed="rId2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5686-5B42-4BA3-AEB9-2DF8CB0F9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required loads to be done automatically. For example, if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eeds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be present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specify in the code tha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5" descr="MCDD00072_0000[1]"/>
          <p:cNvPicPr/>
          <p:nvPr/>
        </p:nvPicPr>
        <p:blipFill>
          <a:blip r:embed="rId1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15A4-0E7D-4013-81D0-BAF4C59D2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is enabled when V12 is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isable SALT you can use the configuration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j03223810000[1]"/>
          <p:cNvPicPr/>
          <p:nvPr/>
        </p:nvPicPr>
        <p:blipFill>
          <a:blip r:embed="rId1"/>
          <a:stretch/>
        </p:blipFill>
        <p:spPr>
          <a:xfrm>
            <a:off x="3059280" y="3933720"/>
            <a:ext cx="302400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8173-C1EF-4C7A-88AF-B154B1C80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"/>
          <p:cNvPicPr/>
          <p:nvPr/>
        </p:nvPicPr>
        <p:blipFill>
          <a:blip r:embed="rId1"/>
          <a:stretch/>
        </p:blipFill>
        <p:spPr>
          <a:xfrm>
            <a:off x="3276720" y="465300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"/>
          <p:cNvPicPr/>
          <p:nvPr/>
        </p:nvPicPr>
        <p:blipFill>
          <a:blip r:embed="rId2"/>
          <a:stretch/>
        </p:blipFill>
        <p:spPr>
          <a:xfrm>
            <a:off x="6084720" y="4410000"/>
            <a:ext cx="2762280" cy="19717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3705120" cy="2047680"/>
          </a:xfrm>
          <a:prstGeom prst="rect">
            <a:avLst/>
          </a:prstGeom>
          <a:ln w="0">
            <a:noFill/>
          </a:ln>
        </p:spPr>
      </p:pic>
      <p:sp>
        <p:nvSpPr>
          <p:cNvPr id="636" name="Line 7"/>
          <p:cNvSpPr/>
          <p:nvPr/>
        </p:nvSpPr>
        <p:spPr>
          <a:xfrm>
            <a:off x="6227640" y="3429000"/>
            <a:ext cx="2160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8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4381560" cy="2476800"/>
          </a:xfrm>
          <a:prstGeom prst="rect">
            <a:avLst/>
          </a:prstGeom>
          <a:ln w="0">
            <a:noFill/>
          </a:ln>
        </p:spPr>
      </p:pic>
      <p:sp>
        <p:nvSpPr>
          <p:cNvPr id="638" name="Line 9"/>
          <p:cNvSpPr/>
          <p:nvPr/>
        </p:nvSpPr>
        <p:spPr>
          <a:xfrm flipH="1">
            <a:off x="4067280" y="3213000"/>
            <a:ext cx="20174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0"/>
          <p:cNvSpPr/>
          <p:nvPr/>
        </p:nvSpPr>
        <p:spPr>
          <a:xfrm>
            <a:off x="1908000" y="3213000"/>
            <a:ext cx="475164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1"/>
          <p:cNvSpPr/>
          <p:nvPr/>
        </p:nvSpPr>
        <p:spPr>
          <a:xfrm flipH="1" flipV="1">
            <a:off x="4355640" y="5229000"/>
            <a:ext cx="2016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12" descr="MCDD00072_0000[1]"/>
          <p:cNvPicPr/>
          <p:nvPr/>
        </p:nvPicPr>
        <p:blipFill>
          <a:blip r:embed="rId5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12" descr=""/>
          <p:cNvPicPr/>
          <p:nvPr/>
        </p:nvPicPr>
        <p:blipFill>
          <a:blip r:embed="rId1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  <p:sp>
        <p:nvSpPr>
          <p:cNvPr id="6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037E-25BA-41E8-AFA2-9D9FBE2E4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not par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ut were creat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They are located under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oo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1828800" y="554832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6"/>
          <p:cNvSpPr/>
          <p:nvPr/>
        </p:nvSpPr>
        <p:spPr>
          <a:xfrm>
            <a:off x="3516480" y="3249720"/>
            <a:ext cx="79200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3" descr=""/>
          <p:cNvPicPr/>
          <p:nvPr/>
        </p:nvPicPr>
        <p:blipFill>
          <a:blip r:embed="rId3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DFE7-57CA-45F3-9C03-924DDE90A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alling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50560" y="1644120"/>
            <a:ext cx="87850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utility allows to view the calling tree of a fn in a namespace or to cross-reference all the functions and their references. To us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←⎕new CallingTree ‘file\class -optio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Calls ‘ctor -view’ ⍝ show calls from &lt;ctor&gt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View ⍝ to view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Xref  ⍝ produce 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7" descr=""/>
          <p:cNvPicPr/>
          <p:nvPr/>
        </p:nvPicPr>
        <p:blipFill>
          <a:blip r:embed="rId1"/>
          <a:stretch/>
        </p:blipFill>
        <p:spPr>
          <a:xfrm>
            <a:off x="4059360" y="4410000"/>
            <a:ext cx="2084400" cy="23050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8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5557-AEBB-4623-A965-8183C6D1E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fileUt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ile contains a namespace with fns to e.g. traverse a directory tree using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n &lt;showExpr&gt; allows to show regular expressions in text (&amp; Unicode) file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 -type=php -rec’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showExpr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 ‘\bA.*= *123\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how names starting with 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being assigned the numb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12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PH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es und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re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s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5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60C5-85E0-4560-A6E2-2B22D9B49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Reg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Mat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ass allows to create a Regex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stance given a pattern and possibly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tions are m=multiline (default), s=singleline, i=case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attern accept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PL name and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 number, e.g.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  ⍺←⍵  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ans 2 names assigned 2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38D5-85C4-4264-8BBD-EE95EA191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contains functions to perform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produces a report of the differences between 2 lists of string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a’)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b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mpare 2 functions and show where lines have been deleted, inserted and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D02B-54C4-4E9D-86EE-3D4FD7DA7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NSto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found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ib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 functions to perform conversion of namespaces to []SRC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takes the name of a namespace and changes it into sourced mode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StoScript.Convert  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mynam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nvert it. You can then edit it and store it using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7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A1AB-5731-419A-8B38-88104C22A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A1B6-CA70-4689-B547-E66177C6C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4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4A4A-6975-4B1A-A5E0-50D35ECAB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utility working with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"/>
          <p:cNvPicPr/>
          <p:nvPr/>
        </p:nvPicPr>
        <p:blipFill>
          <a:blip r:embed="rId2"/>
          <a:stretch/>
        </p:blipFill>
        <p:spPr>
          <a:xfrm>
            <a:off x="2484360" y="4076640"/>
            <a:ext cx="4286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4883-88C0-4328-91BF-8570D64FC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90" name="Oval 6"/>
          <p:cNvSpPr/>
          <p:nvPr/>
        </p:nvSpPr>
        <p:spPr>
          <a:xfrm>
            <a:off x="1967040" y="2786040"/>
            <a:ext cx="110484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435B-32BF-4BAF-AB53-B8D938385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" descr=""/>
          <p:cNvPicPr/>
          <p:nvPr/>
        </p:nvPicPr>
        <p:blipFill>
          <a:blip r:embed="rId2"/>
          <a:stretch/>
        </p:blipFill>
        <p:spPr>
          <a:xfrm>
            <a:off x="1546200" y="2908440"/>
            <a:ext cx="6121440" cy="3041640"/>
          </a:xfrm>
          <a:prstGeom prst="rect">
            <a:avLst/>
          </a:prstGeom>
          <a:ln w="0">
            <a:noFill/>
          </a:ln>
        </p:spPr>
      </p:pic>
      <p:sp>
        <p:nvSpPr>
          <p:cNvPr id="696" name="Oval 7"/>
          <p:cNvSpPr/>
          <p:nvPr/>
        </p:nvSpPr>
        <p:spPr>
          <a:xfrm>
            <a:off x="5689440" y="4178160"/>
            <a:ext cx="27468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7BD1-3567-4BA1-ADC1-53BB59E4C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PICE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702" name="Oval 6"/>
          <p:cNvSpPr/>
          <p:nvPr/>
        </p:nvSpPr>
        <p:spPr>
          <a:xfrm>
            <a:off x="1967040" y="307188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49AB-0F55-4143-9DF1-2C44A7398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A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709" name="Oval 7"/>
          <p:cNvSpPr/>
          <p:nvPr/>
        </p:nvSpPr>
        <p:spPr>
          <a:xfrm>
            <a:off x="3448080" y="485784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062E-D4E7-4779-ADF7-97B8E9531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]? or ‘?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7" descr=""/>
          <p:cNvPicPr/>
          <p:nvPr/>
        </p:nvPicPr>
        <p:blipFill>
          <a:blip r:embed="rId2"/>
          <a:stretch/>
        </p:blipFill>
        <p:spPr>
          <a:xfrm>
            <a:off x="2124000" y="2374920"/>
            <a:ext cx="5256360" cy="3987720"/>
          </a:xfrm>
          <a:prstGeom prst="rect">
            <a:avLst/>
          </a:prstGeom>
          <a:ln w="0">
            <a:noFill/>
          </a:ln>
        </p:spPr>
      </p:pic>
      <p:sp>
        <p:nvSpPr>
          <p:cNvPr id="716" name="Oval 8"/>
          <p:cNvSpPr/>
          <p:nvPr/>
        </p:nvSpPr>
        <p:spPr>
          <a:xfrm>
            <a:off x="2152800" y="5689440"/>
            <a:ext cx="27432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8F63-2254-44D8-A90E-7C8A100AE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locate strings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locate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ab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loc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‘\[‘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where the character ‘[‘ is catenated to the left (we must add ‘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\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to prevent ‘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 from being interpreted 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ymb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E2F1-9C05-4ED5-AB15-2D0D59FE6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p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]props 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turns the properties of objec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i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shows its ChildList and its Event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0C2C-499A-4FAC-A747-78667514B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ALT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av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nam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compar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ist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oad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removeversions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76EE-B63E-4F16-A16D-0EE04945B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d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compare 2 functions in the workspace. This is the Dfn &lt;fndiff&gt; implemented as a SPICE comm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ndiff fnA f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78C4-2D9B-4BD6-A4D5-4F286E4B5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the calls made by a fn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calls file f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simple (fns only) or detailed showing if elements are local, global, glocal, labels, used, etc. It takes into account ⍎, []TRAP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viewed in a tre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10D4-8AD4-44BF-9F9F-5AF596A65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e details of calls made by fn Run in file spice\P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is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  is unus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is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i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5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4105440" y="2862360"/>
            <a:ext cx="79200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859280" y="3319560"/>
            <a:ext cx="79236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8"/>
          <p:cNvSpPr/>
          <p:nvPr/>
        </p:nvSpPr>
        <p:spPr>
          <a:xfrm>
            <a:off x="4500720" y="3068640"/>
            <a:ext cx="431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5081-8E44-4E81-9400-E370D8D30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SALT registry k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2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some keys which must be specified a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539640" y="3357720"/>
          <a:ext cx="8147160" cy="2768400"/>
        </p:xfrm>
        <a:graphic>
          <a:graphicData uri="http://schemas.openxmlformats.org/drawingml/2006/table">
            <a:tbl>
              <a:tblPr/>
              <a:tblGrid>
                <a:gridCol w="1752840"/>
                <a:gridCol w="2320920"/>
                <a:gridCol w="407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Default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What is i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dd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ntrols whether SALT is initialized when the session file is load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mpare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P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how to call a file comparison ut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ourceF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[Dyalog]\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folders for source files separated by ";". Default folder is located below the main Dyalog fold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Editor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notepad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which program to run to edit script files outside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DA6B-A468-4890-93EE-04B43A57F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803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example viewed in a tree objects by add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t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7991280" cy="188424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10"/>
          <p:cNvSpPr/>
          <p:nvPr/>
        </p:nvSpPr>
        <p:spPr>
          <a:xfrm>
            <a:off x="4592520" y="414972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"/>
          <p:cNvSpPr/>
          <p:nvPr/>
        </p:nvSpPr>
        <p:spPr>
          <a:xfrm>
            <a:off x="784080" y="453708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"/>
          <p:cNvSpPr/>
          <p:nvPr/>
        </p:nvSpPr>
        <p:spPr>
          <a:xfrm flipH="1">
            <a:off x="1692000" y="4292640"/>
            <a:ext cx="287964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989F-B012-44CC-A0C4-9C1AD92E8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allows to see the scope (Public, Shared, Ctor, Dtor), size and syntax of functions is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9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8195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2759-E795-4697-9E12-8A7811A1D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xr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a cross-reference of all the objects made by all the fns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xre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mbo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me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" descr=""/>
          <p:cNvPicPr/>
          <p:nvPr/>
        </p:nvPicPr>
        <p:blipFill>
          <a:blip r:embed="rId2"/>
          <a:stretch/>
        </p:blipFill>
        <p:spPr>
          <a:xfrm>
            <a:off x="3635280" y="2622600"/>
            <a:ext cx="47959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8E0A-8B29-4C4F-B478-63C2BE8DC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&amp; SPICE ar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used as a start point to maintain code and small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es provide new ways to make code shar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provides a way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4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59760 w 287280"/>
              <a:gd name="textAreaRight" fmla="*/ 227520 w 28728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F060-9603-4DDC-BFFA-5BFEE1AB7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ALT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79640 w 863280"/>
              <a:gd name="textAreaRight" fmla="*/ 683640 w 863280"/>
              <a:gd name="textAreaTop" fmla="*/ 89640 h 431640"/>
              <a:gd name="textAreaBottom" fmla="*/ 34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09-09-08T19:45:46Z</dcterms:modified>
  <cp:revision>102</cp:revision>
  <dc:subject/>
  <dc:title>SALT in Dyalog</dc:title>
</cp:coreProperties>
</file>