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9E95-01D8-43D7-8DAC-1452F4C48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E4E4-FBE7-46C2-A48F-9C4644EA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B423-5B5F-4EBF-A5F2-8196A5F37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of the class is un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37A0-2851-4BEB-9077-7B283C2A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22B4-BAB5-47D1-BDDB-C463CF012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generate general help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1CB-CAA0-4CA6-8DB6-C64948B14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E045-5AEE-4CF9-9E66-BFE7F6A1E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0B6F-56A0-4094-8442-FE925826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9C0B-6383-4858-BC66-C2A7B4651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9746-AC09-4531-965E-0C81FF335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83EA-3A10-4F26-BF4E-ABD25EE85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B0E3-47D4-43DC-95D3-9D94949E7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ny ways it is like Users Commands in APL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7B38-2AF2-4A3D-A260-8A4944C8E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C236-7098-4273-A8EC-1AC54790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472D-2F38-498D-BA94-6602717A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81D-A51D-4EFA-87E5-4F8762D7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F5A-88E1-46C5-B5A4-CB5A5DFC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F39-1E4B-4351-BA8E-407EBE6C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D25-AA17-4EA9-82E2-AA923F77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D41-017B-4BE3-94E2-EC81510C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947-87E1-42E9-9C9A-E62DA7C0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E7D-9D1F-4B59-A43F-41C2E8AD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BC7-805B-4170-84C9-F78A11F8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9A2-0621-4F5B-8A48-9F5A2471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ABF-D4E7-44ED-8739-50A4859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5F1-C3B6-410A-884C-F7E8747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4CD-2C79-448E-B0A7-9EAE88C2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05A0-DCE5-4F77-9C5B-DC16B93C5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>
                    <a:alpha val="41000"/>
                  </a:srgbClr>
                </a:solidFill>
                <a:latin typeface="Arial Black"/>
              </a:rPr>
              <a:t>SPICE</a:t>
            </a:r>
            <a:endParaRPr b="0" lang="en-US" sz="1800" spc="1" strike="noStrike">
              <a:ln w="0">
                <a:noFill/>
              </a:ln>
              <a:solidFill>
                <a:srgbClr val="ffff99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ook Antiqua"/>
              </a:rPr>
              <a:t>Spice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Book Antiqua"/>
              </a:rPr>
              <a:t>in Dya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87808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ument V1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commands are kept in script files, lik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files have a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ice script files are kept by default in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[Dyalog]\SALT\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cript file contains a class or a namespace with a number of (presumably) relate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a script/class could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search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replac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ipt file MUST contain at least 3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ublic sha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for the Spice hand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contain othe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nil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list of as many namespaces as there are commands in the scrip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if there are 2 commands in the script file it returns 2 namesp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0012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mespace returned by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tains 4 variables; each one is a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ame of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group the command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entence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nd string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tring describing the command syntax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   –exclud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⎕NS¨2⍴⊂'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Name←'Locate' 'Replac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Group←⊂'Files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Parse←'1' '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1].Desc←'Find a string in file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2].Desc←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ambiva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rguments are a string naming the cmd to return detailed help for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right and the hel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string describing help for that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evel Help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⊂'Shows where the string is foun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r⊃⍨'Locate' 'Replace'⍳⊂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lev↓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r,←⎕av[4],'More help here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2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ng naming the command to deal with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a string or a namespace which is the argument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ser command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V11 &amp; V12 it uses an input area at the bottom of the screen to issue user defined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2286000" y="4334040"/>
            <a:ext cx="4800600" cy="2038320"/>
            <a:chOff x="2286000" y="4334040"/>
            <a:chExt cx="4800600" cy="2038320"/>
          </a:xfrm>
        </p:grpSpPr>
        <p:pic>
          <p:nvPicPr>
            <p:cNvPr id="58" name="Picture 5" descr=""/>
            <p:cNvPicPr/>
            <p:nvPr/>
          </p:nvPicPr>
          <p:blipFill>
            <a:blip r:embed="rId2"/>
            <a:stretch/>
          </p:blipFill>
          <p:spPr>
            <a:xfrm>
              <a:off x="2514600" y="4334040"/>
              <a:ext cx="428616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Oval 6"/>
            <p:cNvSpPr/>
            <p:nvPr/>
          </p:nvSpPr>
          <p:spPr>
            <a:xfrm>
              <a:off x="2286000" y="5410080"/>
              <a:ext cx="480060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2819520" y="4991040"/>
              <a:ext cx="220968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Run(Cmd ca);ct;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0 0⍴'' ⋄ ct←⎕SE.SALT.Load'Utils\fileUtils -nonam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←##.textUtils.splitOn⍨⎕SE.SALT.Settings'workdir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Select 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‘Locate’  ⋄ w ct.show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‘Replace’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⋄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 ct.repl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End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script Spice\aSample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2 examples of Spice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pecific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45680" y="162576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ntax is described in the 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"/>
          <p:cNvGrpSpPr/>
          <p:nvPr/>
        </p:nvGrpSpPr>
        <p:grpSpPr>
          <a:xfrm>
            <a:off x="1689120" y="2263680"/>
            <a:ext cx="6240240" cy="4093920"/>
            <a:chOff x="1689120" y="2263680"/>
            <a:chExt cx="6240240" cy="409392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tretch/>
          </p:blipFill>
          <p:spPr>
            <a:xfrm>
              <a:off x="1689120" y="2263680"/>
              <a:ext cx="6240240" cy="40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Oval 7"/>
            <p:cNvSpPr/>
            <p:nvPr/>
          </p:nvSpPr>
          <p:spPr>
            <a:xfrm>
              <a:off x="3515760" y="4373640"/>
              <a:ext cx="3422160" cy="426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76960" cy="3543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46400" y="162576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wrong Spice will com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1116000" y="4508640"/>
            <a:ext cx="266544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492360" y="3429000"/>
            <a:ext cx="324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900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3654000" y="50720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 argu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2"/>
          <p:cNvCxnSpPr>
            <a:stCxn id="171" idx="1"/>
            <a:endCxn id="170" idx="6"/>
          </p:cNvCxnSpPr>
          <p:nvPr/>
        </p:nvCxnSpPr>
        <p:spPr>
          <a:xfrm flipH="1">
            <a:off x="3285720" y="5255280"/>
            <a:ext cx="357840" cy="10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3743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47480" y="162576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right Spice will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176364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48000" y="3429000"/>
            <a:ext cx="360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199200" y="3889440"/>
            <a:ext cx="7207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command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APL is installed the Spice commands' location is [Dyalog]\SALT\spice but you can 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LT settings contain Spice’s commands location in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setting  </a:t>
            </a:r>
            <a:r>
              <a:rPr b="1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\my\own\user\cm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hange the Spice/user commands folder to \my\own\user\c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Spice com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developmen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used to store frequently used (and even less frequently used) use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pic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started automatically when starting APL by setting the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1546200" y="3206880"/>
            <a:ext cx="6121440" cy="3041640"/>
            <a:chOff x="1546200" y="3206880"/>
            <a:chExt cx="6121440" cy="3041640"/>
          </a:xfrm>
        </p:grpSpPr>
        <p:pic>
          <p:nvPicPr>
            <p:cNvPr id="65" name="Picture 6" descr=""/>
            <p:cNvPicPr/>
            <p:nvPr/>
          </p:nvPicPr>
          <p:blipFill>
            <a:blip r:embed="rId1"/>
            <a:stretch/>
          </p:blipFill>
          <p:spPr>
            <a:xfrm>
              <a:off x="1546200" y="3206880"/>
              <a:ext cx="612144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Oval 7"/>
            <p:cNvSpPr/>
            <p:nvPr/>
          </p:nvSpPr>
          <p:spPr>
            <a:xfrm>
              <a:off x="5689440" y="4476600"/>
              <a:ext cx="274680" cy="309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input area can also be started automatically by using the &lt;enableSpice&gt; function in the SALT work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 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71640" y="713880"/>
            <a:ext cx="7800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the Spice area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76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 in V1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need to initialize the Spice input area in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user command handler is always available directly through the ] with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y use ] where you would use the input area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myc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4241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detailed list of all available commands enter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?+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‘?+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2124000" y="2536920"/>
            <a:ext cx="5256360" cy="3987720"/>
            <a:chOff x="2124000" y="2536920"/>
            <a:chExt cx="5256360" cy="398772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2124000" y="2536920"/>
              <a:ext cx="525636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Oval 8"/>
            <p:cNvSpPr/>
            <p:nvPr/>
          </p:nvSpPr>
          <p:spPr>
            <a:xfrm>
              <a:off x="2152440" y="5877720"/>
              <a:ext cx="330840" cy="309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9"/>
          <p:cNvSpPr/>
          <p:nvPr/>
        </p:nvSpPr>
        <p:spPr>
          <a:xfrm>
            <a:off x="7986600" y="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226600" y="587700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428200" y="29973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70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of a custom Spice command: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f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848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ffi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a regular expression string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ind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</a:t>
            </a:r>
            <a:r>
              <a:rPr b="1" lang="en-GB" sz="3200" spc="-1" strike="noStrike">
                <a:solidFill>
                  <a:srgbClr val="ff9900"/>
                </a:solidFill>
                <a:latin typeface="Courier New"/>
              </a:rPr>
              <a:t>abc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&gt;0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find in SALT files where syntactic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 greater than 0 at the end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512640" y="3832200"/>
            <a:ext cx="7515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SALT commands in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class fil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j0208400"/>
          <p:cNvPicPr/>
          <p:nvPr/>
        </p:nvPicPr>
        <p:blipFill>
          <a:blip r:embed="rId1"/>
          <a:stretch/>
        </p:blipFill>
        <p:spPr>
          <a:xfrm rot="232800">
            <a:off x="7924680" y="75960"/>
            <a:ext cx="1060560" cy="19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11-09-23T21:24:17Z</dcterms:modified>
  <cp:revision>94</cp:revision>
  <dc:subject/>
  <dc:title>SALT in Dyalog</dc:title>
</cp:coreProperties>
</file>