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6.wmf" ContentType="image/x-wmf"/>
  <Override PartName="/ppt/media/image83.wmf" ContentType="image/x-wmf"/>
  <Override PartName="/ppt/media/image11.png" ContentType="image/png"/>
  <Override PartName="/ppt/media/image65.wmf" ContentType="image/x-wmf"/>
  <Override PartName="/ppt/media/image66.png" ContentType="image/png"/>
  <Override PartName="/ppt/media/image67.png" ContentType="image/png"/>
  <Override PartName="/ppt/media/image70.png" ContentType="image/png"/>
  <Override PartName="/ppt/media/image69.png" ContentType="image/png"/>
  <Override PartName="/ppt/media/image72.wmf" ContentType="image/x-wmf"/>
  <Override PartName="/ppt/media/image71.png" ContentType="image/png"/>
  <Override PartName="/ppt/media/image74.png" ContentType="image/png"/>
  <Override PartName="/ppt/media/image75.png" ContentType="image/png"/>
  <Override PartName="/ppt/media/image76.wmf" ContentType="image/x-wmf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22.wmf" ContentType="image/x-wmf"/>
  <Override PartName="/ppt/media/image97.png" ContentType="image/png"/>
  <Override PartName="/ppt/media/image60.png" ContentType="image/png"/>
  <Override PartName="/ppt/media/image18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16.png" ContentType="image/png"/>
  <Override PartName="/ppt/media/image73.png" ContentType="image/png"/>
  <Override PartName="/ppt/media/image93.wmf" ContentType="image/x-wmf"/>
  <Override PartName="/ppt/media/image92.png" ContentType="image/png"/>
  <Override PartName="/ppt/media/image88.png" ContentType="image/png"/>
  <Override PartName="/ppt/media/image79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77.png" ContentType="image/png"/>
  <Override PartName="/ppt/media/image29.png" ContentType="image/png"/>
  <Override PartName="/ppt/media/image94.png" ContentType="image/png"/>
  <Override PartName="/ppt/media/image91.png" ContentType="image/png"/>
  <Override PartName="/ppt/media/image26.png" ContentType="image/png"/>
  <Override PartName="/ppt/media/image19.png" ContentType="image/png"/>
  <Override PartName="/ppt/media/image84.png" ContentType="image/png"/>
  <Override PartName="/ppt/media/image89.wmf" ContentType="image/x-wmf"/>
  <Override PartName="/ppt/media/image21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4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80.wmf" ContentType="image/x-wmf"/>
  <Override PartName="/ppt/media/image58.png" ContentType="image/png"/>
  <Override PartName="/ppt/media/image15.wmf" ContentType="image/x-wmf"/>
  <Override PartName="/ppt/media/image3.wmf" ContentType="image/x-wmf"/>
  <Override PartName="/ppt/media/image52.png" ContentType="image/png"/>
  <Override PartName="/ppt/media/image5.wmf" ContentType="image/x-wmf"/>
  <Override PartName="/ppt/media/image27.jpeg" ContentType="image/jpeg"/>
  <Override PartName="/ppt/media/image25.png" ContentType="image/png"/>
  <Override PartName="/ppt/media/image9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BB0-E991-4F29-A221-6DAF94177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C500-E263-49B5-BFAE-D20A7426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6A8D-A4B9-4808-9497-568C3F92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between config and the workspace: the workspace is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88C8-82E5-4E9A-853C-CBE852CD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1AC-749D-4B93-949B-8869D385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9E29-21C5-49FA-B255-491B4377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A4A-56EB-4A52-8358-3E0B5E6F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1EDE-19F8-4FCD-AFE0-7628F70C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E60-A633-4B67-B4DA-A8557960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5C10-5C2E-4EEB-A1EC-F702BF62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Unix there is no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E5A-B0CD-40B6-8973-26ADB91C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0D18-2CBA-47BB-B93C-AC2BD00D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A927-B303-456F-9E14-8BF03235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F7F6-4246-4C7B-953C-E650CF59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84BC-74DA-4884-A786-697AB9AC4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BA05-622C-49BF-9524-C595C691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lename and the object name can b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FDC-38B3-495C-B214-0BC38B998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DFD9-E51A-400D-9E94-56984CF8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673C-808A-4EA5-99DF-FC429E72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2363-9154-4A5C-B28F-5B920F27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B243-4343-4572-A3FC-7B548314E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the numbered and non numbered files are kept when versionning is in effect. The latest versioned file is the same as the non numbered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C81E-4306-4AAA-B708-EDCB74026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5B3-FD90-4FD6-90E1-BD9E57FC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name] only works under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549-9653-498D-A2DB-5D62FD15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1E77-786A-49D3-A1AA-AD4458F1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F60F-1A86-47F4-9719-8374C93F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figures out if it’s the name of a variable only when v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335-0B70-4AB2-97B3-06B5556C1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1800-D6B3-4ACB-A97B-DA1E8A2B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9A9D-9533-48C7-979E-2EA8D1B5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8DF5-E0E3-4CD3-A814-BBAC0F4C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839D-0271-4649-8810-F8AFDFBB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 (surrog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6C1D-8F9F-4B04-8628-7B8ADF52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Save does it automatically if  that is the reason to change the format using the –conve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459-8CD6-4E01-B9F2-A6F0E1E5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less specifically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F5C7-E86C-46C1-9336-FD65A553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 you to specify if Spice is 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57BB-A8BB-4017-AC6C-092CBF044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D28A-DC86-4BEE-BB14-292EA3BB3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2DBB-193C-4CBC-ADB5-D85D5326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3ABB-EB8D-4799-9BF4-A7EF0665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E43-A98E-46ED-A7EE-43C467BA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82CB-C8EF-48A6-8008-61260493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8713-8EE3-4981-9E73-76597E88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145C-7CC3-4E8D-9760-788E6DFA0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2CF-E668-48CD-BF46-C823EFFF6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812-D200-4446-869A-5CE911D8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21C-1830-4CB3-B420-E352587F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64EC-3849-4D04-B588-15ABCDCD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B004-F067-467E-A43E-E4DFE5FE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most complex ucm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9FD-02F2-45DF-8D39-2134CAA2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620-8EA5-495A-88D1-A17ABEBA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9D8-8062-43B7-A649-BB734B73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62D-0143-4B09-BA20-54804CDE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4997A-5E32-4E00-8A50-321AC89467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FE56B-766F-409B-BD14-B6A6DBB2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AC8AB-C125-4AB0-B380-3C9FDAF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56042-AC7A-4901-9B3D-51B91F3F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39657-4653-4E2A-A519-DECDDBD3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1FBE-763E-4E69-BB20-ACA46249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9B488-414F-405D-8026-5BE3CB84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200-DF80-49E3-8F99-CB4CE5B5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D13D4-A690-4EDA-8A0E-31E37DF0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8E9AD-03C8-46D4-B649-F541E32A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7A87A-9995-4896-A5EF-AAF1559D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08384-1FF7-49CE-8CA5-19F3284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DF8D3-3757-4D5B-963F-ED69F901AC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9A0-E987-4F05-8B83-393A30A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B8C-5E62-4CDB-B9FA-613AF34A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439-0398-4CC0-B4D6-2B1F608B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561-6094-4FD7-A3C1-7E4BAE02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ADE-BBB7-477B-9790-0436E88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FCB-8817-46B1-839F-6ACB989C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EFF-8988-4B7C-A875-665CEEB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C32-18A0-4CE6-ABFD-3148A586C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45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590F-3F78-402F-9D0E-B2EF4EE7F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88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65.wmf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wmf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7978-37F6-4C06-9050-C30E437A4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551664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c  v1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B97-2BC4-4CB6-A6CF-E988BFC1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23A2-1BC8-4086-BC43-0252AB1CC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92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2D7-C18C-4700-B166-A757FDBC3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9AEB-0AAE-4B52-9A5A-5ADE6458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408720" cy="3654360"/>
          </a:xfrm>
          <a:prstGeom prst="rect">
            <a:avLst/>
          </a:prstGeom>
          <a:ln w="0">
            <a:noFill/>
          </a:ln>
        </p:spPr>
      </p:pic>
      <p:sp>
        <p:nvSpPr>
          <p:cNvPr id="2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E901-3DAE-464A-B147-F0B339F5D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5722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4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Oval 10"/>
          <p:cNvSpPr/>
          <p:nvPr/>
        </p:nvSpPr>
        <p:spPr>
          <a:xfrm>
            <a:off x="3151080" y="3274920"/>
            <a:ext cx="34128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556000" y="3500280"/>
            <a:ext cx="752400" cy="2034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936800" y="3490920"/>
            <a:ext cx="547560" cy="223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EA58-B50F-4C00-8353-6FBD0BA8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8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5F92-1228-49CA-9D79-675D8B447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37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C22E-4157-414C-9581-800DD9C22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49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7F7E-74C8-4212-BE9A-EB78043C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260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143D-1351-4580-8877-296B91347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67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E968-7CDF-4EAA-8F3E-6182B92A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objects with a representation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0925-6089-48C4-8683-5316F720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D67-E40E-4B0A-95CF-14F84EE53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47720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4379-DD11-4F42-894C-3937B6DE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7BAA-459A-4BEE-A4DB-931FA4F67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23D4-BAB0-4996-8172-EB44699A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you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6D3-7C42-4149-9EA1-2C1974B8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3FC8-46FD-4A8F-B634-C7A827A6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243-D21C-4D72-8C4A-F6515EE1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7BC-7F6D-4CBF-B6D6-3AA5B948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C86-4BDD-41F0-85DD-A7DFE562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33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B20E-F43E-443B-AD20-A145B0D9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/[]CR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3C6-9C81-44A2-8D96-A887BCAB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4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1C11-9A48-4914-B729-16EDBE1F0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54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58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364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348-1B43-45B1-AE7D-A1F781F44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7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76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E9B1-7C7C-405B-BA81-82DB9E217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89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01BA-EBDD-423A-BE35-F39EA247D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8A6-0695-45F5-B348-8F7C83CAB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2"/>
          <a:stretch/>
        </p:blipFill>
        <p:spPr>
          <a:xfrm>
            <a:off x="3346560" y="2852640"/>
            <a:ext cx="5762520" cy="3934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539640" y="292428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F0F-F7E1-4E27-853B-D75742764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2"/>
          <a:stretch/>
        </p:blipFill>
        <p:spPr>
          <a:xfrm>
            <a:off x="1619280" y="3166920"/>
            <a:ext cx="5977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1392-0EF0-4C1F-AC1A-367F0990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F928-C22C-46AB-AAC1-50B529B8D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3" descr=""/>
          <p:cNvPicPr/>
          <p:nvPr/>
        </p:nvPicPr>
        <p:blipFill>
          <a:blip r:embed="rId1"/>
          <a:stretch/>
        </p:blipFill>
        <p:spPr>
          <a:xfrm>
            <a:off x="2182680" y="411156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2E08-985D-4A38-B518-FD6B1BD9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434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"/>
          <p:cNvSpPr/>
          <p:nvPr/>
        </p:nvSpPr>
        <p:spPr>
          <a:xfrm>
            <a:off x="4105440" y="4778280"/>
            <a:ext cx="93636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A03-7A85-4CA5-BC5E-F1B9E091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3" descr=""/>
          <p:cNvPicPr/>
          <p:nvPr/>
        </p:nvPicPr>
        <p:blipFill>
          <a:blip r:embed="rId1"/>
          <a:stretch/>
        </p:blipFill>
        <p:spPr>
          <a:xfrm>
            <a:off x="2081160" y="396720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36E1-686E-4C49-8394-05842E0E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446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4014720" y="46432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5B4E-1452-46DD-A436-545DCA281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editor temporarily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4B6-EACA-45C0-AC86-18AB4CEAD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A4B2-E499-4CEE-8255-67EDFADF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F0FA-8CA0-4F59-B3EE-251C6B8A2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BD28-030E-4230-91BB-2995EF12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  <p:sp>
        <p:nvSpPr>
          <p:cNvPr id="476" name="Rounded Rectangle 7"/>
          <p:cNvSpPr/>
          <p:nvPr/>
        </p:nvSpPr>
        <p:spPr>
          <a:xfrm>
            <a:off x="539640" y="1916280"/>
            <a:ext cx="431964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lowchart: Magnetic Disk 12"/>
          <p:cNvSpPr/>
          <p:nvPr/>
        </p:nvSpPr>
        <p:spPr>
          <a:xfrm>
            <a:off x="5435640" y="2060640"/>
            <a:ext cx="2736720" cy="345600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ight Arrow 11"/>
          <p:cNvSpPr/>
          <p:nvPr/>
        </p:nvSpPr>
        <p:spPr>
          <a:xfrm>
            <a:off x="2987640" y="2781360"/>
            <a:ext cx="2808360" cy="4316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Arrow 13"/>
          <p:cNvSpPr/>
          <p:nvPr/>
        </p:nvSpPr>
        <p:spPr>
          <a:xfrm>
            <a:off x="4284720" y="3789360"/>
            <a:ext cx="1582560" cy="431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ight Arrow 14"/>
          <p:cNvSpPr/>
          <p:nvPr/>
        </p:nvSpPr>
        <p:spPr>
          <a:xfrm>
            <a:off x="3132000" y="4797360"/>
            <a:ext cx="2808360" cy="432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"/>
          <p:cNvSpPr/>
          <p:nvPr/>
        </p:nvSpPr>
        <p:spPr>
          <a:xfrm>
            <a:off x="2484360" y="3141720"/>
            <a:ext cx="2232000" cy="172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1042920" y="3789360"/>
            <a:ext cx="2376720" cy="1871640"/>
          </a:xfrm>
          <a:prstGeom prst="ellipse">
            <a:avLst/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0"/>
          <p:cNvSpPr/>
          <p:nvPr/>
        </p:nvSpPr>
        <p:spPr>
          <a:xfrm>
            <a:off x="900000" y="2349360"/>
            <a:ext cx="2376720" cy="194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ss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8"/>
          <p:cNvSpPr/>
          <p:nvPr/>
        </p:nvSpPr>
        <p:spPr>
          <a:xfrm>
            <a:off x="5946840" y="278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y/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9"/>
          <p:cNvSpPr/>
          <p:nvPr/>
        </p:nvSpPr>
        <p:spPr>
          <a:xfrm>
            <a:off x="5946120" y="3789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Arial"/>
              </a:rPr>
              <a:t>My/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6017400" y="4797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My/f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EAA-A012-4317-A706-C1A252BF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onl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ng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EB0F-BA4D-4BF7-9E0B-928B0065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2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23864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0445-E7FF-40DB-84D1-B30882B5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5" descr=""/>
          <p:cNvPicPr/>
          <p:nvPr/>
        </p:nvPicPr>
        <p:blipFill>
          <a:blip r:embed="rId5"/>
          <a:stretch/>
        </p:blipFill>
        <p:spPr>
          <a:xfrm>
            <a:off x="5232240" y="4869000"/>
            <a:ext cx="38037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06B-236B-46E3-B1A7-02567726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81ED-50F9-4043-A6C2-EEFE87C6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E28-73C7-48F6-A419-C1A67143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9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5133960" cy="2962080"/>
          </a:xfrm>
          <a:prstGeom prst="rect">
            <a:avLst/>
          </a:prstGeom>
          <a:ln w="0">
            <a:noFill/>
          </a:ln>
        </p:spPr>
      </p:pic>
      <p:sp>
        <p:nvSpPr>
          <p:cNvPr id="5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EE59-D3C8-4660-9288-0C9AF38C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4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481320" y="5084640"/>
            <a:ext cx="69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e all the versions you need to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2987640" y="3357720"/>
            <a:ext cx="719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971640" y="36450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5882040" y="220500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listed without 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play show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727960" y="3141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H="1" flipV="1">
            <a:off x="4355640" y="306828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3"/>
          <p:cNvSpPr/>
          <p:nvPr/>
        </p:nvSpPr>
        <p:spPr>
          <a:xfrm flipH="1">
            <a:off x="4355640" y="34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8606880" y="58053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7"/>
          <p:cNvSpPr/>
          <p:nvPr/>
        </p:nvSpPr>
        <p:spPr>
          <a:xfrm>
            <a:off x="1766160" y="2871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8B11-A77F-4A14-B72B-B618C4F11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56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C433-6D8D-4A6D-86BA-79E0E9455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64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62E-3EC0-49A7-93ED-F576E814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7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4147-CC80-4856-83F4-961F95D6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8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E4E-AD21-4544-876D-26662C7E0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2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E0D4-904A-48E3-9759-F391E3199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9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605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1EEE-264B-4B11-B821-4CB59EE51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622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object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C189-CE34-4D35-84F4-4129E72EA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E936-FF51-4493-B961-2746ABE9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AP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B13E-53A9-487B-95B4-D57A8CFE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643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Picture 8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6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8A9C-0B51-4536-B543-D154D08F0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MCj02904610000[1]"/>
          <p:cNvPicPr/>
          <p:nvPr/>
        </p:nvPicPr>
        <p:blipFill>
          <a:blip r:embed="rId3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1116000" y="3645000"/>
            <a:ext cx="669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4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55D-5B0D-441E-9470-7A6E8B668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file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ir objects become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file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FF8C-F918-42EE-8CE6-02051AAA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EFE-02D3-406E-83C0-C2AA7321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when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5BD6-89FD-46B1-A07F-CCB162CF4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36D2-35BF-4C15-AEEA-D861885C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7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5368-4EFD-4BB6-AE75-1CCA54E9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7CA8-92D1-48A2-BE05-26FD88A23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use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with each directory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SALT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"/>
          <p:cNvSpPr/>
          <p:nvPr/>
        </p:nvSpPr>
        <p:spPr>
          <a:xfrm>
            <a:off x="2987640" y="537372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0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058160" cy="2271960"/>
          </a:xfrm>
          <a:prstGeom prst="rect">
            <a:avLst/>
          </a:prstGeom>
          <a:ln w="0">
            <a:noFill/>
          </a:ln>
        </p:spPr>
      </p:pic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95C-CB46-4FCB-9EF4-857B1431F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make thi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a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6545160" y="47196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470560" y="468144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EDFC-A73A-4659-B21F-E726C44B6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3223810000[1]"/>
          <p:cNvPicPr/>
          <p:nvPr/>
        </p:nvPicPr>
        <p:blipFill>
          <a:blip r:embed="rId1"/>
          <a:stretch/>
        </p:blipFill>
        <p:spPr>
          <a:xfrm>
            <a:off x="428472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19FC-AC5A-47A5-9F4D-0CCDA8A6C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2D12-FDFD-4D03-9856-DD4FE789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7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7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7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B9A-7005-408E-B835-97469BAE8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8C57-17D9-41B4-9BA5-D125E22E9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Ca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Vi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X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646B-F132-466C-A309-E789890F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A3B6-C57B-4306-9452-C8FB0305D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0742-A1F1-49EF-AB30-73AFEDC9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3198-38CE-45A8-AD6C-FD9D867B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E887-28AD-435B-B185-92986F3B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761760" y="46530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Rectangle 5" descr=""/>
          <p:cNvPicPr/>
          <p:nvPr/>
        </p:nvPicPr>
        <p:blipFill>
          <a:blip r:embed="rId1"/>
          <a:stretch/>
        </p:blipFill>
        <p:spPr>
          <a:xfrm>
            <a:off x="1322280" y="4260960"/>
            <a:ext cx="7053480" cy="110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2.5E-006 -0.16805 E">
                                      <p:cBhvr>
                                        <p:cTn id="167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1F80-526C-4D51-AE96-5AD6FF35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in conjunction 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the framework of the User Comm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uses SALT to load code (commands) and execu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lway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5A50-38C9-40B6-87C9-5D599157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96268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Oval 6"/>
          <p:cNvSpPr/>
          <p:nvPr/>
        </p:nvSpPr>
        <p:spPr>
          <a:xfrm>
            <a:off x="1738440" y="27813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1636-805A-4627-AF2F-3F5DCDDF8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793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8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62680" cy="4343400"/>
          </a:xfrm>
          <a:prstGeom prst="rect">
            <a:avLst/>
          </a:prstGeom>
          <a:ln w="0">
            <a:noFill/>
          </a:ln>
        </p:spPr>
      </p:pic>
      <p:sp>
        <p:nvSpPr>
          <p:cNvPr id="7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7A3D-7A94-4E5F-8EFD-8AD016CD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9640" y="14410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"/>
          <p:cNvSpPr/>
          <p:nvPr/>
        </p:nvSpPr>
        <p:spPr>
          <a:xfrm>
            <a:off x="1619280" y="295272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06F9-F052-44C1-87AC-4A87DDA8D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P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806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r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commands are called using a right bracket syntax like system commands  which use a right parenthesis syntax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workspac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load scrip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624C-4319-42F8-A8F8-4620A5166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9" descr=""/>
          <p:cNvPicPr/>
          <p:nvPr/>
        </p:nvPicPr>
        <p:blipFill>
          <a:blip r:embed="rId1"/>
          <a:stretch/>
        </p:blipFill>
        <p:spPr>
          <a:xfrm>
            <a:off x="882720" y="2421000"/>
            <a:ext cx="7505640" cy="3809880"/>
          </a:xfrm>
          <a:prstGeom prst="rect">
            <a:avLst/>
          </a:prstGeom>
          <a:ln w="0">
            <a:noFill/>
          </a:ln>
        </p:spPr>
      </p:pic>
      <p:sp>
        <p:nvSpPr>
          <p:cNvPr id="8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CF7-9EFF-4F41-BD1D-F045DD547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  ]?  in the s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17" name="Oval 8"/>
          <p:cNvSpPr/>
          <p:nvPr/>
        </p:nvSpPr>
        <p:spPr>
          <a:xfrm>
            <a:off x="1306440" y="2997360"/>
            <a:ext cx="38592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846-CB17-4C56-B25A-54694511F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ile FIN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d\w*g\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are found names starting with ‘d’ and ending with ‘g’ in the files managed by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re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replac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A2E-94B2-4B8A-842C-AD2701B2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335E-6B65-4831-B037-82A3FC06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995-C2C0-4DA2-A60B-80A41B3C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4C10-C101-4095-BC3B-8A9158B3D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namespace or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calls myfile fn -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70E-2D25-420F-BC55-1A15DB3F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07D2-3628-4AC5-8D1D-024CD79C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953F-3626-461C-99CA-DFC3FDFC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861-5B4F-4527-9108-14BC4CCFA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n a class or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12D5-1E3D-43B1-AE8F-24F808399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n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3DF5-C570-41C3-9AFE-A3C31250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commands to compare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fncompare    : compare 2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varcompare  : compare 2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wscompare  : compare 2 work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imilar swit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1A8-628A-4410-BB24-3C471D3DD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ws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mand allows you to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 text in the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. It can also perform replac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ll detail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??ws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645D-6D5B-4D4F-A3CA-547F8FE9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ripted namespaces and 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E36F-F270-4EAD-990E-D763CAAA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8:34Z</dcterms:modified>
  <cp:revision>185</cp:revision>
  <dc:subject/>
  <dc:title>SALT in Dyalog</dc:title>
</cp:coreProperties>
</file>