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1.xml.rels" ContentType="application/vnd.openxmlformats-package.relationships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4.wmf" ContentType="image/x-wmf"/>
  <Override PartName="/ppt/media/image59.png" ContentType="image/png"/>
  <Override PartName="/ppt/media/image3.wmf" ContentType="image/x-wmf"/>
  <Override PartName="/ppt/media/image58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88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79.png" ContentType="image/png"/>
  <Override PartName="/ppt/media/image78.png" ContentType="image/png"/>
  <Override PartName="/ppt/media/image28.png" ContentType="image/png"/>
  <Override PartName="/ppt/media/image93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9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589B-9874-4EDB-A2DE-6751CFB7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ACD-E094-4D05-B8FE-F9314383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7DA9-DE3B-4196-AF23-5E85E0735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AFAE-59D7-407A-8722-9C2625EC9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C79D-0A33-4980-BEAD-E8E730DE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7B24-A941-4F35-80C5-A02430EA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78C-E799-4708-A178-D4BFC9A99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D88-0EB3-4645-8FC0-9D08AEFC9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986-7560-4CD1-BC2D-34E6A309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181B-9211-4CBE-BC3A-F4FCF530D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A4F-D762-4AD0-803A-B32FACD8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B96B-F79C-4F19-8C4D-6FF7F5E9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AAC1-083B-4F8F-9DEA-6B791849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B51F-5032-4DCC-8DCA-40ED54D94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3EE-0C36-4FB7-8E49-382EB2EF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75F1-9E9A-4370-B14C-A26DDB13D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ven SOM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308C-8CA4-45DE-9E5D-B43DBD4B3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67E8-DD62-42F8-BCEF-0F366EB1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A1EF-B0DA-4773-A536-441D73F2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873-1804-40BA-8E01-B16002140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C975-3494-46C0-B579-DD0D62886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212A-B3FC-473F-B318-4AF282B8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EAF4-AD60-4CF8-826B-499600F4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5F9C-307A-435C-8F09-71AECC84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 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EFFE-5A21-4150-A5AB-E601D796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9E4-68C4-4B59-93BE-D313F1BE9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02D9-E920-4ACB-ABA6-B567412D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7DD-BD20-4055-A4C4-BF8493DE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B65-2CE0-49F7-9EA5-6890BFCD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3CFC-26C2-4776-A7B1-48786E7F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9819-AFF7-4B3F-BF05-925DB602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359F-3F3A-4A0D-997B-6BB151C55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 storage 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D408-0837-4C78-941D-D5526340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. ]SNAP work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4982-D0F7-4AC0-8E69-7EE9229A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314C-DDFE-4522-912E-944E3FF8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 we could let APL and SALT take care of the code and forget SVN but not if this is a big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2C6E-4F9A-4775-A805-059FF336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0A6-28D9-41F5-AE45-2AFF48E9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0714-6DEF-4628-9DCA-375DB4F4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4506-6AD5-4179-94B2-AE9DC08A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 - 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BAE0-6675-4074-8900-C14F1E3A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case it makes sens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0EC0-380A-4892-93A7-573EF760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 so we shouldn’t hav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3A3E-CCA8-4C88-8B11-3464AC86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8B5F-CBB5-4D61-84DA-63C31BA8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6031-6D25-4ACD-9D56-D0D89856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n't save we'll need to reload the files from disk each time we )LOAD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839-F8A1-42BA-9B7D-77BD54FB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4186-E30A-48D9-993B-9BE7A00D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F416-CD75-4336-B703-9F23F9F3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the differences using the ]compare command with switch –version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3E07-93D0-44C1-87C4-799177EE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6D34-1FDA-48D9-BB18-A39A2B08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will create a script that can recreate a workspace with switch -LOADF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F92-63B9-4B81-B224-12E98C25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8F6B-F3EA-4B44-BA6E-5CE009B4C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BC4-2159-4C19-82FC-C658F7C4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77B-29E8-4C26-AAD5-CB0B5A0AA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DAEF-53F2-4167-92E2-7466FB71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3AAC-5EAE-4E36-B6A1-0B329E9A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0A5-E492-4763-881F-711DE2CF7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012F-86D0-4070-9CD9-9B639E0F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AF6-A23A-4F97-BB40-0BDA7A1C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B0F1-9D1B-4246-A865-E5ACF0258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4CB-29E6-4B48-BA35-F7BDD905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19A-4C0A-4C08-AB16-FEA29A79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483-C81B-4CBD-B3D3-C0258D2D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A3-0553-41DB-9343-180A9C6C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58C3-E084-4AB0-85AC-1B46AD3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396F-BD59-4DAD-A75A-E4406D27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7482-64B7-46D1-A48F-A3E9EBB6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E3D-7161-4C9E-A2B4-42B153C0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A815-1D0B-4A54-A8D8-34786D0C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B083-F8D5-4072-B73A-7FDA391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4188-A59E-4CB5-9863-61F3111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149-6AD0-46F8-B771-DA127D8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F859-E55D-4658-8D7E-041A8819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D857-DAC1-4E37-8085-C22F9FD7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C9B8-D4DD-48DF-8938-008F24C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607-3CD7-460B-AC72-F134A652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0FA9-50EC-47AA-9374-42BDB2F4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89E-F31A-47E7-843A-04F7E396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747-5C11-461B-98E8-4E926451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2B3-39DA-4DFA-BE34-51AFA15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DC8-3EFB-4BF1-A90C-1A1A3678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155-6598-4D71-B251-F5E92141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241-22EE-4BA3-9035-864BDB0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B57-03C6-4963-8E44-9EF0338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C475-A8A1-40FB-AB8D-7D66FE5B93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72B7-8968-46F8-A6B9-AC223DDD79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9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o maintain the code management system (CMS) itsel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need time to lear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“useless” skills when they le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ptm sees APL as a problem, an outca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4911-5DC9-434A-A2B4-DBFE62EA51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4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6664-FC3F-4BA3-9057-F4A71347E0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18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B81E-0048-4543-BA6A-41E7EA37F2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47CF-6443-4E2E-8A2A-E2A69435E9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E6C-D784-4110-8230-D2363E86F5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0" name="Picture 11" descr=""/>
          <p:cNvPicPr/>
          <p:nvPr/>
        </p:nvPicPr>
        <p:blipFill>
          <a:blip r:embed="rId3"/>
          <a:stretch/>
        </p:blipFill>
        <p:spPr>
          <a:xfrm>
            <a:off x="1619280" y="2411280"/>
            <a:ext cx="61214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802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ABD8-3720-4021-BC52-F337AA0259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1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8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00D-D209-4C2E-A18D-1AB5F6EEC2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6204-FC9E-4B8F-B5F8-0694FE0CEB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D7DA-2706-457F-B0ED-CCB4CC44D8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7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832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C521-BFE6-412D-B7EA-8FE013AF6B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839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101-055F-417D-8118-22E01E6116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D8D8-BA6E-45C0-91B5-3C5E4E3AEB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179B-A22D-44EA-9919-61FC086AF7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857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58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6AD0-F223-44A7-943C-9284710E1A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7F57-64E3-482E-88D1-DFBD3273D3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67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5D5F-A7B0-4A4E-8BE3-A3CEC66E70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separate too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3" name="Rounded Rectangle 8"/>
          <p:cNvSpPr/>
          <p:nvPr/>
        </p:nvSpPr>
        <p:spPr>
          <a:xfrm>
            <a:off x="785880" y="4375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AD47-394A-4A66-A0C9-8168BFE8AF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80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EDCC-EBB7-4A14-9E36-A3A9BD2605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87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45B6-1509-4500-B2BC-2DE855B6F6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9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94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37B2-AA46-4C28-ADA2-EB8DF7F79B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0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01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033B-74AD-486D-9F1D-F7C02E4F5C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6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908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A050-B6EA-45E4-A3BC-EFB18E06D4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exist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 bas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to write your own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may already know abou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useful skil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epartment doesn’t see APL as a non team play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FDCF-2831-4D7D-9C74-FC9593FC02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13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sp>
        <p:nvSpPr>
          <p:cNvPr id="91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8C51-83E0-400C-B01F-1D492177F3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2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9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E91B-911F-4413-86D0-0898D08955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7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928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B36-946B-414F-A6C5-5FE9FDC38D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33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93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F793-3992-4EB8-8A53-8DD7269484F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DD4-5293-4AA7-8E21-DC411E5DE8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3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54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A7D2-2648-4259-BA9B-0A485A85DF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61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63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5ACF-8940-44EF-BA26-BEB75A0722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8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7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2F9-93A6-4EFC-B70C-8261DE85DB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96AA-80EC-41A0-87E8-DA2D3B33A7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ooter Placeholder 1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  <p:sp>
        <p:nvSpPr>
          <p:cNvPr id="9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AEF-01EA-4D51-921C-97D2C2180D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DEA-2E1F-4FDE-865C-54ABD4FC67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91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9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3A5-DAFA-4F0F-851A-0D1B3ADD73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9499-0CCB-4C67-B1DD-A4109827A1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4A1-3E3E-423D-B5E5-4E38D53E26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3DE5-AFBD-4F20-BF7D-63EF58958B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e.g.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y can be exchanged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D369-7713-4BD8-8767-AE9C68AAB3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91A-E736-4CF8-8759-6EB0186C65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D332-508A-4F57-9CCC-3DFE301A11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CEE4-7DDB-4BAC-B9E3-6485F9AA42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ver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2847-4BF6-4033-817A-AAFC909BEE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478-9189-45C3-99D0-FB000DFB68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ther the code is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mall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bi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432-E324-48B6-8F8B-3E5B601F83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436-BD80-4296-9463-824EC55F4B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66A-433C-452B-8250-5D8DC6E54C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C043-B8F3-4F81-AFE5-D5B33A521A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 &amp;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6433-507F-46E4-A3C0-AAD64B1045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08E9-35B8-480E-9B22-F64D5DB662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597-C59A-48E0-8C67-F46B380A16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9" name="Picture 4" descr="MCj03914580000[1]"/>
          <p:cNvPicPr/>
          <p:nvPr/>
        </p:nvPicPr>
        <p:blipFill>
          <a:blip r:embed="rId1"/>
          <a:stretch/>
        </p:blipFill>
        <p:spPr>
          <a:xfrm>
            <a:off x="3995640" y="4365720"/>
            <a:ext cx="182412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92A5-1BF4-4058-BFFD-8E707DD833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-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443C-56F3-40A9-B474-552E00121F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1880" y="194580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ditor can be rigged to react on edition of SALTed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s include all the SALT functions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Geneva"/>
              </a:rPr>
              <a:t>]save   myns   \path\my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0" name="Picture 11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1D6-C8DA-4287-B04D-992306B702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2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6937-5824-4566-94A5-DA9FFFB4BE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grams evolve and distributed copies should be kept separately, even if sm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ED3-62EA-4C84-96DE-2A196B4D62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7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980-78CE-40CA-89AC-E07D0FAEA1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29F7-A404-4EAA-BBD9-1A463C525A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6572160" cy="2606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2"/>
          <p:cNvSpPr/>
          <p:nvPr/>
        </p:nvSpPr>
        <p:spPr>
          <a:xfrm>
            <a:off x="3143160" y="4794120"/>
            <a:ext cx="9622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4983120" y="5000760"/>
            <a:ext cx="1357200" cy="214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4B33-F695-4C42-BAA0-9B3B5C58D7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1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59DD-6166-485F-B18C-AF0460F21C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77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78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9262-B2C8-4166-AF69-AFA8930BD2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707F-3EA2-4844-939A-FC28F462A8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30AA-D22F-41D4-8465-8A91D0AABA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AEF0-F7BF-4131-9FB1-DE353EA21A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315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D46-FDA7-4D37-BE93-F031A9350B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ce his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 culpri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E91-1A5E-4B99-BFE8-73EC4C4BAB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23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28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965A-C2FE-43BD-B27F-EC3B2FEDEB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254B-DB42-4E67-9E76-9C1C18F7BF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2449-13E4-409D-B290-06724F74FE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BEC-FBC9-41E0-91D2-946C043E68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57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C879-CD62-4C9D-A779-F8FC2D14E2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37A0-C545-4ED0-8C77-B1924D6321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C542-DE72-4F42-838A-BA1E012FD4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F019-AB17-400C-8240-A763F24D67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75EF-5004-4B47-B924-63B6C0C6AD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7655-15A4-424E-831D-984CC5A1CE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1246-B963-46C7-A54B-44517AF009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C013-2A88-48EE-ADFB-85520E8C58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integra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747C-E6C0-4B4D-88A2-A08D4D6766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056-4467-483D-8BE0-F1F028DCA6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6F9-3B64-4282-990A-8C527D8347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400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BB90-0441-4F71-B13B-9A6EC8A63A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382C-D9A1-4FE5-81B7-A63A707F6A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716-4B3A-44C2-A3A3-49C972D2CF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 (or use the 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]sav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775-C2C4-4BDE-950F-D2C3F6EFBE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17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all we need to do 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Pound \ROBOTS\Troopers\Pound  -make –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make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s the folder if necessa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convert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s the namespace to []SRC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A01-4D38-4CAE-8C18-8442F01F21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SDuck  \ROBOTS\Troopers\SDuck  -convert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Robot1  \ROBOTS\Troopers\Robot1 -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95C9-D39F-4FAC-BB1B-936499664E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12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941-AAB0-49D6-858C-FD03D88765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-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8842-3E83-4002-9280-14E7870B53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580-0026-4835-A258-5CC4E60526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  <p:sp>
        <p:nvSpPr>
          <p:cNvPr id="44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9D63-AD83-4F8B-A58E-356729B057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we have 2 copi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link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C5C5-0DEE-4AF5-9340-DB989215A9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lowchart: Predefined Process 8"/>
          <p:cNvSpPr/>
          <p:nvPr/>
        </p:nvSpPr>
        <p:spPr>
          <a:xfrm>
            <a:off x="1357200" y="378612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lowchart: Multidocument 9"/>
          <p:cNvSpPr/>
          <p:nvPr/>
        </p:nvSpPr>
        <p:spPr>
          <a:xfrm>
            <a:off x="5500800" y="371484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eft-Right Arrow 10"/>
          <p:cNvSpPr/>
          <p:nvPr/>
        </p:nvSpPr>
        <p:spPr>
          <a:xfrm>
            <a:off x="3857760" y="421488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nd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7CBD-E525-406B-9AD1-29C49F207E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61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85F3-F692-4542-82B7-9394C7247E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67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70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1E8-D68B-4F9A-ADD2-AC8D92553A7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EC4E-CE5A-4BB7-9BD6-AE57570BC0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82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8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D9B-2D0C-4EF8-B9E1-C01E59DA2A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7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88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91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41C-A1D9-4550-AF0E-B26D01771C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643040"/>
            <a:ext cx="73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 wa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(distributed, e.g. file syst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0D1C-338D-4B11-BC10-B742924794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ant to preserve the original location we can check out the empty repository into it after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70E0-E719-4415-BF78-C652D82F48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3A94-CBDC-4FA7-AF12-87B64A4F77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F08F-24B4-4F61-AD03-701A8E932F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02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4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42B-5A2A-4896-9DF2-676583843A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520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A800-0E6A-44A3-B869-28C6D0B8D7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BA5-2154-4C3A-88CA-57FF838977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C0D-AC05-46A5-ADDB-1A1C3FC660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7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45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F811-64C7-44FF-B9FB-CB4471B422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1386-7FA1-4382-A3DC-B70C5021DD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95E-FABF-4553-A378-B3EC02C5FB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1EF8-F53B-4AE5-8995-AC9AE395F4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7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69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9F29-36C2-4DD9-9417-2A0D71A778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nly used by one person at a time it can be saved with the link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(when finished editin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20BD-A139-4FA5-804A-0346F9BE0D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eft-Right Arrow 10"/>
          <p:cNvSpPr/>
          <p:nvPr/>
        </p:nvSpPr>
        <p:spPr>
          <a:xfrm>
            <a:off x="3857760" y="430380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ut of sync and needs refres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bring back the out of sync code, e.g.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load  Troopers/Pou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F61C-E28A-489D-BCD2-987A23271E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n attempt is made to use an out of sync object SALT will warn you of the fact and confirm your intentions before sa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D93-BCEB-4A07-82F8-BFAD184D96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2714760" y="3573360"/>
            <a:ext cx="46432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26"/>
          <p:cNvCxnSpPr>
            <a:stCxn id="601" idx="3"/>
            <a:endCxn id="604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0" name="AutoShape 27"/>
          <p:cNvCxnSpPr>
            <a:stCxn id="602" idx="3"/>
            <a:endCxn id="605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AutoShape 28"/>
          <p:cNvCxnSpPr>
            <a:stCxn id="597" idx="3"/>
            <a:endCxn id="608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2" name="AutoShape 30"/>
          <p:cNvCxnSpPr>
            <a:stCxn id="598" idx="3"/>
            <a:endCxn id="607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AutoShape 31"/>
          <p:cNvCxnSpPr>
            <a:stCxn id="596" idx="3"/>
            <a:endCxn id="606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4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2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501-769B-4690-9FF0-CF8CB51DC1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2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1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94"/>
          <p:cNvCxnSpPr>
            <a:stCxn id="630" idx="3"/>
            <a:endCxn id="633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9" name="AutoShape 95"/>
          <p:cNvCxnSpPr>
            <a:stCxn id="631" idx="3"/>
            <a:endCxn id="634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0" name="AutoShape 96"/>
          <p:cNvCxnSpPr>
            <a:stCxn id="626" idx="3"/>
            <a:endCxn id="637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1" name="AutoShape 97"/>
          <p:cNvCxnSpPr>
            <a:stCxn id="627" idx="3"/>
            <a:endCxn id="636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2" name="AutoShape 98"/>
          <p:cNvCxnSpPr>
            <a:stCxn id="625" idx="3"/>
            <a:endCxn id="635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3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AutoShape 110"/>
          <p:cNvCxnSpPr>
            <a:stCxn id="637" idx="3"/>
            <a:endCxn id="646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4" name="AutoShape 112"/>
          <p:cNvCxnSpPr>
            <a:stCxn id="636" idx="3"/>
            <a:endCxn id="647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5" name="AutoShape 113"/>
          <p:cNvCxnSpPr>
            <a:stCxn id="635" idx="3"/>
            <a:endCxn id="645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6" name="AutoShape 114"/>
          <p:cNvCxnSpPr>
            <a:stCxn id="634" idx="3"/>
            <a:endCxn id="651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7" name="AutoShape 115"/>
          <p:cNvCxnSpPr>
            <a:stCxn id="633" idx="3"/>
            <a:endCxn id="650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8" name="Slide Number Placeholder 4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4BD-1486-44BC-A836-A304CC9F82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used by more than one person at a time it should reconstruct the links at load tim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15E6-D88E-450E-A4CE-285D7DAF98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1"/>
          <p:cNvSpPr/>
          <p:nvPr/>
        </p:nvSpPr>
        <p:spPr>
          <a:xfrm rot="5400000">
            <a:off x="4357800" y="4071960"/>
            <a:ext cx="35712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70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74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E2D5-1B45-4EE6-8153-D0801ADA37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81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82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C62-27B6-4F3A-9CAD-0DD998039E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2C0-8ABD-4DFA-A0F8-2C296A176F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9458-190A-4468-B357-170611AD76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96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97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700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10E-630A-4445-9EC4-6E2CE81025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70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D880-2A93-401E-81FD-E70907E68D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8BE-13CB-4ABE-988A-9B8033E982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7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71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6FC-FCF5-4534-8C10-20068CE00B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22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72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1B6B-2DB1-4BDB-9F0B-3661F5BA8D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ABD-E3E7-4F3B-AA90-E11F177106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C31C-6949-4121-9DBD-BEF582C7B3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2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4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428-D160-496D-B03F-2AF4CC2729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2AF-0E84-4C91-8794-BF1BFAB0D5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57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C19-DD06-46AD-BE93-CC71412544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11-08-19T15:43:09Z</dcterms:modified>
  <cp:revision>332</cp:revision>
  <dc:subject/>
  <dc:title>SALT and subversion</dc:title>
</cp:coreProperties>
</file>