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C31F-90AE-4B96-87AF-409014BEEA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07F3-6CAF-4338-A201-ABA1DCD418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Unlocked code 2. e.g. compare versions + other external util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DD32-C87A-417A-8E26-10DEAA5038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eople take for granted []SE without realizing its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FB30-E7D7-4C52-A7A9-0E0BEAA0DE4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)COPY requires some management (like clean up afterwar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1498-249B-4621-B321-626A4D768D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following is probably known by many people (but not everyone) so we won’t spend much time on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14A1-2C6A-4725-93C2-993597DC78F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tiin []PATH before saving will include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CE85-3D79-479B-8CAC-0E12DF2E3F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tting []PATH before saving will include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C08F-93ED-46A7-97DC-F1D3E20462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you want APL to load your DSE file at startup time you’ll need to tell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EEF0-3822-4B0E-A46A-0076C560C0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02F0-5271-4C92-9B2D-AFEF3B19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9E9-0D0F-4E23-8642-98C68EFA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5F5ED4-D7C9-4783-B8A3-8F39795B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BF63F7-A80D-4D2A-833C-6ABB5463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5F02EF-9B76-4660-9F5E-95BB829C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66EEFF-4372-4CA1-9082-B840386F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C7A227-2D93-44DE-B928-3A2C6978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1923A0-B9AE-47BB-80F6-0651F9C2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FA4CC7-C480-4EA0-9EA6-E33711C4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548C84-FFD9-40C8-BE5D-A8249836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45F828-2C59-41CA-A2AA-1738A38D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341F0-C3D5-497E-8FC9-C53DA67C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F770-D27A-4931-ACA7-823673E7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32DF5-4EDE-4BEB-AFE1-759A62EB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A2944-0A42-4746-950A-9997567F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A3AB3-9BF0-46AE-A590-1CEA538A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EB43A-523D-40B4-AF5B-CBF31F8B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75BC6-C927-4DEB-864E-7C1A7792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EF4B1-2208-47F9-AA88-6B89B034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D6762-AE14-4929-8BC7-24A5E4C1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268D9-8F7F-4B73-89BA-E395B554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52C8A-ED04-43C0-8BBA-B32E08E4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F8184-B435-4448-9521-A1D16746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078D-E7E1-4EC4-840C-54D1C0FE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BEF04-4E35-4359-85C4-5E44F616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245FB-684B-4A30-9197-2C0D2E06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6C206-04D5-4025-8AC6-34AE66BB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03084-7DE6-44AE-8C10-BED814CF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B62E8-7998-4220-840A-13967F93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8DF6F-E7D1-4885-9480-59B96642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EE94A-34AF-4B43-8BE1-430D5A5A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53A73-EF6D-47ED-B2B3-DE406C91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322FB-903D-4385-9A2E-9353950B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AA35A-C88F-4D0D-8FA4-AB7F800C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AF5B-3DF5-4552-9821-593F1FBB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6251A-3893-4CE2-8E45-F5141DDF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D33A8-1563-4C5D-A81B-CB5EE66F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F5B36-BC30-4CEA-858B-80E97D14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2D3D5-7E27-43AE-ADD5-CDACFE25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B19B5-8EAF-4870-B741-949402C6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BBF73-A9CD-49E6-97AC-00B8715A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09F9E-1DA1-40EF-A3BE-27C1B552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A4DE1-1254-4195-8FD6-66496F73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90A16-F755-4B2A-9F06-310AAF1B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3D11F-A4B3-412E-8203-87059266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A557-0906-4A51-89D1-F1477822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57F08-5186-4E34-93E2-9D9E4FC6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7577C-C2A7-42E8-9262-BC9DEB0F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71C67-6EB3-42DE-921E-20580A46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153DD-8904-4351-ABB8-755C5135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C1739-D28F-4AF8-9248-28DAF1B9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4D03D-BFD8-4DAD-8791-0966C7B0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0490D-14FD-4B01-87D7-F16DA147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8D90BE-3826-43D7-AF1A-C8E977C5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D93BE-C553-431E-A953-DDB2196E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178E2-E3A2-43A8-8922-C12732BE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19DD-B60F-406A-9CD6-B6D44F59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69EF80-57F2-4B10-BA56-3FCF351A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245613-93DA-42B8-8357-B3A5F86C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B8D41-7159-42D7-A6B4-A18F77B5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8B031-03B5-498C-86ED-F218D9AD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9BAC0A-9AFF-43B6-A331-0738ED79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95CEC-E947-4B68-B536-B3E1EB45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4B8452-10DC-4E20-9D3D-82431162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31EB24-72DC-4C81-8747-6A8B7C7C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B64601-0FB0-4C49-BCAA-F9C4ED52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734B5F-E850-41F2-BC9C-E2124D64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D7C5-7B0A-45D4-9B9C-CEA6FD66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30F38C-7E9B-4F7D-B30B-5FD530A7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EC4EE1-DB8B-40D6-82E3-615D73F9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4C87EF-5819-4C9F-B152-68068E6D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FD31F8-FA32-415E-920C-E0C8B732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220D4F-1286-4F35-BE23-CCA9800A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F4044C-484F-4BAE-9C83-F42F4C28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7A06B-CFEC-44AE-A341-87BDDAE0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0FDD64-4EFA-45EA-B43C-18ECAF5E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2037A-7FBD-475D-BA13-FFE5912C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E2FA-C3C8-4F0B-BF2D-F3B94B46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EE72-F7CB-4ADA-9A49-FBBD1ECE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7E89-BB1A-43F1-903E-11F5F270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F8E-56EC-43BE-B43D-D41E7E74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00DF-50DA-4B8A-ACB5-43D9EDA4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7C8F-DC7C-4405-A924-2708F7BA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90E3-BA41-4254-819D-FDD76044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F217-0F8F-46D3-8BC3-581215E1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34BE-1B24-4176-9946-963709D2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F5902-E010-46AE-914F-FED969C0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08E80-8A40-43EC-8CD7-151FDDC4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1F153-0BF4-4242-8565-6165E1E6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E03CB-A64B-4562-93B7-D1FB4CD6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A22B2-06C5-4CC6-AA4B-B1D155E0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BEB5-D1EA-41BD-97C2-69F74A1D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E9596-1A7D-45D1-B58F-39EC632E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A7A0B-31E6-4EFE-97A7-49E9996B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FEC6D-828A-47C1-B953-BFDDB23C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10DF1-F893-4577-B690-1A1D91F4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BE2D9-D84F-4393-A2D1-40ECF958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01EB0-0486-42C8-BB2E-6CFEF7C8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AC08A-F144-4363-8760-C65A14E7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EB5C4-AA2C-40B3-A0EC-1F864B9D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05FC4-7F9F-48E0-8043-11F5855A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7C1A4-FFE7-4C50-B99C-6F069C7F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1B25-1694-4C39-B83F-B2970696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2DD7D-78B8-4540-B14A-75C7EF2B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02201-796A-4C71-8B7F-51C1942E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2166A-2357-45AD-88CC-00498B3F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986A5-3425-4BC6-AC77-09E611E6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726E7-9C99-4C93-8DE0-9CD86AB6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02B8C-76C8-4045-92EF-586CB349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D3203-1D5A-40D1-96A3-7344E65E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C4BBD-AEAE-4F26-852C-B16D3877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D3FD0-2892-46AE-8A25-6197D0E6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D6618-D302-44A0-B9E1-8D8EE1B6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9FEF-9E67-4524-8122-90652F3C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9A32D-63AC-41EB-A516-5A11AF18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3104B-6485-44D0-BE94-E2185ACE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8EC52-26E7-46BD-8AF6-5E679321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537BC-7273-4DA5-8820-610F12B9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EC28D-3519-473A-BCE0-5199B2AC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D8B5A-B90F-42B6-9A6B-1108FB9C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F89BD-12C4-41AC-A7F9-CC03E00B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43DA4-8CE5-48C8-85E1-4231AC27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67260-17F0-4595-A05F-78A617B3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069DD-36EA-48D6-A7F3-AC509C5F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2EAD-42E3-4F08-8D91-8535074E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91EE7-64AB-48BB-B192-C2C14293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20136-CA2C-429D-BC72-E8AF0350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DC08E-2CC7-482C-897E-F2EDDC2D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5B0ED-5A1E-4CE7-8D07-B99D429E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767E4-587B-467B-A743-23180D14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72FA3-FC1A-4EF5-B772-16EF349A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BD57D-9115-4D07-8A5E-243F07AD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54484-D8E0-4E42-987D-119F1BBB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3B34B-2277-43C6-AD18-E4866D0E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A4350-1FDF-45D6-B516-30A3942D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62D9-4E93-43FE-82F8-C6A9480F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9787F-D6A0-4996-BDD1-33704518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6F075-5614-4F40-9BB6-CC277862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D493C-796D-48E6-9137-4DA9F0E7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C9548-D4F3-4AA7-B5CE-377C57CB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F64C0-6D16-41EF-8B2B-A932240D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5B720-5D37-4490-9B34-0BC59A28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12A19-82A7-4105-B0BF-4447C4E1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85E62-ABA4-43D9-9D5C-54DD5525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C6A12-F1AB-4D80-89CE-2480A86F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CD6EB-AABB-4ED3-888E-195A5DE3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43D4-4B47-4A2F-8AAD-B5B073B7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8BFAD-18E7-4FCC-85B4-11D9FC30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CF46F-D6B3-42F7-9333-47FA03F4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673A0-E190-4395-BBAE-828EADE7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B1F89-07FF-45CB-9DE4-AA24838C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43617-252C-4DEC-BE8E-1329F700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6FBD8-85FF-4BC0-8374-F8876D51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E2FB1-2B57-40F9-BDCE-33AB0F6E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23DBE-6AEC-4458-A2D8-58BEC158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8C5FF-F521-4469-9EF1-9559B0A1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0C714-59A2-413D-BFE6-67C44BA3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E02-AAB4-41A8-A245-B39C728A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D476A-3491-41EA-AC79-0A0088A8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D4F06-6689-48A0-BEF4-CFD8D956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2CAFB-4D20-481C-94ED-694A1FB6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DEEB7-185F-47F4-A53F-B90F2D07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BE525-F3B5-431F-93BF-846DA445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0C62E-AA29-49C1-9723-9D0D57AF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32A23-C76A-4247-BFF1-E667601F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E1F5C0-3EF2-4737-8432-6365E834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2A8DDF-51FD-42F0-8EF2-4922D8BD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F4EC46-9296-4C6B-8C6C-0A7E375B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0C0C-D2CB-43FA-A61B-093D3C56BDA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3247-7463-4ED3-8213-0E3ABAEF73A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C1B4-C3CF-40AB-8E8B-3C5EDEEAB2E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A674-55BA-4458-8038-0FD0EB44B72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C284-61F6-4CD0-A650-184910EB96F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A971-2F22-46C7-9A3F-10D48470448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62F6-0AC8-4DDA-93F2-8CCC9BEA66A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A10B-E9A9-4CC4-841B-8528370165D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4A15-0F33-4D38-A19B-1B009C9250A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30DE-59F8-4982-9504-8CD54A4C422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CC4F-0A42-4ADE-BE09-165C8212A59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7193-B744-4779-B6DA-8CF1278FB50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BC44-6976-44E6-A4E1-E6AE7C553DC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DE8D-F3B3-420F-86A4-8E0191A6834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33"/>
                </a:solidFill>
                <a:latin typeface="Geneva"/>
              </a:rPr>
              <a:t>Utilities in </a:t>
            </a:r>
            <a:r>
              <a:rPr b="1" i="1" lang="en-GB" sz="5400" spc="-1" strike="noStrike">
                <a:solidFill>
                  <a:srgbClr val="333333"/>
                </a:solidFill>
                <a:latin typeface="Geneva"/>
              </a:rPr>
              <a:t>Dyalog APL</a:t>
            </a:r>
            <a:endParaRPr b="1" lang="en-US" sz="5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85800" y="3352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Dan Baronet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Boston 2011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Geneva"/>
              </a:rPr>
              <a:t>V1.00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24D9-8710-4D10-8BFC-233C6E75748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Date Placeholder 6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7" descr="newsnake.png"/>
          <p:cNvPicPr/>
          <p:nvPr/>
        </p:nvPicPr>
        <p:blipFill>
          <a:blip r:embed="rId1"/>
          <a:stretch/>
        </p:blipFill>
        <p:spPr>
          <a:xfrm>
            <a:off x="304920" y="4338720"/>
            <a:ext cx="160020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: using it as 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523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may be convenient enough to store utilities in []SE and use them from the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even add some GUI to use th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3150-5302-4A1E-A870-74D58FCCBC3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2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5381640" cy="30481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"/>
          <p:cNvPicPr/>
          <p:nvPr/>
        </p:nvPicPr>
        <p:blipFill>
          <a:blip r:embed="rId2"/>
          <a:stretch/>
        </p:blipFill>
        <p:spPr>
          <a:xfrm>
            <a:off x="1914480" y="3218040"/>
            <a:ext cx="5375160" cy="3041640"/>
          </a:xfrm>
          <a:prstGeom prst="rect">
            <a:avLst/>
          </a:prstGeom>
          <a:ln w="0">
            <a:noFill/>
          </a:ln>
        </p:spPr>
      </p:pic>
      <p:sp>
        <p:nvSpPr>
          <p:cNvPr id="663" name="Oval 8"/>
          <p:cNvSpPr/>
          <p:nvPr/>
        </p:nvSpPr>
        <p:spPr>
          <a:xfrm>
            <a:off x="6324480" y="3286080"/>
            <a:ext cx="914400" cy="555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9"/>
          <p:cNvSpPr/>
          <p:nvPr/>
        </p:nvSpPr>
        <p:spPr>
          <a:xfrm>
            <a:off x="1828800" y="3478320"/>
            <a:ext cx="914400" cy="555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– storing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stores utilities in []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are in namespa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eneral  line Pars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&amp; Spice (UCMD framework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utili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har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User Command functi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2FB8-8064-497E-8C39-41E2C25756D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basically a pair of  functions to read and write APL code outside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e feature of SALT is to hook into the editor to save objects automatic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has more functionality and can be used as a version control syst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D31E-13C0-4044-A718-74CDBFFBDFD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uses Unicode text files as storage mediu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xt files can be shared and integrate well with other VC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the base for Spi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7FD7-16B2-4223-AE3E-DEA7E1339AA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is the interface between you and your code stored in SALT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allows you to execute your code under your own ru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is the framework of User Command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1588-0C64-429B-95D9-623FD35A144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ser Commands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CMDS are SALT based functions called thru the ] syntax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the basic code resides in a SALTed text file with specific form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 “]CAL  12” is entered in the session its main &lt;Run&gt; function is called with arguments ‘CAL’ ‘12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356E-F4DE-405E-AB7C-06729A2AA58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Keyboard Shortcu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80520" y="17521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trl-Shift-End : highlight to  the end of tex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Ctrl-delet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: remove highlighted tex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trl-Home/End  : go to the beginning/end of the tex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Shift-Esc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: cancel oper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Spac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(in session): mark current line for re-execution (several can be marked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Keypad -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: toggle line number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Keypad /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: reformat according to configur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Ctrl-Up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   : localize  nam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Ctrl-Shift-BS/Enter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: undo/redo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6898-8FB4-424F-850C-4A91EFFCC4E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amp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&lt;calendar&gt; fun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&lt;time&gt; user comm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yalog utili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C67A-53EC-4AD7-BA6B-24EDE70C658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APL Wiki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0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EDAF-4B05-472A-80F9-83AEEC141EB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5EC6-79CC-47ED-945D-677EDC95591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2"/>
          <a:stretch/>
        </p:blipFill>
        <p:spPr>
          <a:xfrm>
            <a:off x="-11160" y="762120"/>
            <a:ext cx="915516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vs #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2 “work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pa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” available at all times when using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[]S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ich holds session (static) dat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#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hich is the workspace as such (dynamic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B3DF-99C6-42AA-AE32-E6C80C18EB6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4E00-079F-467B-B98D-07B5F60880A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2" descr=""/>
          <p:cNvPicPr/>
          <p:nvPr/>
        </p:nvPicPr>
        <p:blipFill>
          <a:blip r:embed="rId2"/>
          <a:stretch/>
        </p:blipFill>
        <p:spPr>
          <a:xfrm>
            <a:off x="76320" y="723960"/>
            <a:ext cx="8991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FD35-BD76-4420-8147-23C6DE1AC39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3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2828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emory lay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9AAF-C575-4E66-98D7-28AF7A5A3C2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1752480" y="2057400"/>
            <a:ext cx="5867640" cy="358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1905120" y="2209680"/>
            <a:ext cx="1600200" cy="327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]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lowchart: Direct Access Storage 8"/>
          <p:cNvSpPr/>
          <p:nvPr/>
        </p:nvSpPr>
        <p:spPr>
          <a:xfrm>
            <a:off x="380880" y="3124080"/>
            <a:ext cx="990720" cy="121932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lowchart: Direct Access Storage 9"/>
          <p:cNvSpPr/>
          <p:nvPr/>
        </p:nvSpPr>
        <p:spPr>
          <a:xfrm>
            <a:off x="7924680" y="3048120"/>
            <a:ext cx="990720" cy="12189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0"/>
          <p:cNvSpPr/>
          <p:nvPr/>
        </p:nvSpPr>
        <p:spPr>
          <a:xfrm>
            <a:off x="3657600" y="2209680"/>
            <a:ext cx="3809880" cy="32767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eft-Right Arrow 11"/>
          <p:cNvSpPr/>
          <p:nvPr/>
        </p:nvSpPr>
        <p:spPr>
          <a:xfrm>
            <a:off x="1295280" y="3352680"/>
            <a:ext cx="914400" cy="6858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eft-Right Arrow 12"/>
          <p:cNvSpPr/>
          <p:nvPr/>
        </p:nvSpPr>
        <p:spPr>
          <a:xfrm>
            <a:off x="7118280" y="3352680"/>
            <a:ext cx="990720" cy="76212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viously  []SE was only used in GUI versions to hold session objects (menus, toolbars, statusbars, …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now used to also contain utilities like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72B5-1654-494A-8E88-CD1639181B4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#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# is dynamic, this is where you )LOAD workspaces and )SAVE them fro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write utilities, store them in a .DWS file and )COPY them when need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at’s one way to do it and it’s been done for ag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BFB9-9B74-43CD-AAE7-3BF47FF58A0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[]SE is static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store utilities there and refer to them either using their full path (e.g. []SE.myUtil) or by setting []PATH to ‘[]SE’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 other APL offers th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many this is new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DCF3-E56C-44E1-BB88-98A32EFDA9E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– loading and sav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8580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[]SE is loaded at start-up tim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modify it it can be saved using the Session/Save menu item: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6ABF-B5D8-49F1-9ECC-625DFD5FC1A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3" descr=""/>
          <p:cNvPicPr/>
          <p:nvPr/>
        </p:nvPicPr>
        <p:blipFill>
          <a:blip r:embed="rId1"/>
          <a:stretch/>
        </p:blipFill>
        <p:spPr>
          <a:xfrm>
            <a:off x="2362320" y="3429000"/>
            <a:ext cx="502920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4410000" cy="243828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– loading and sav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8580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wish to use a different name for the session file you can use Save as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8D69-EE31-475E-8A08-CF622ACBD9D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2" descr=""/>
          <p:cNvPicPr/>
          <p:nvPr/>
        </p:nvPicPr>
        <p:blipFill>
          <a:blip r:embed="rId2"/>
          <a:stretch/>
        </p:blipFill>
        <p:spPr>
          <a:xfrm>
            <a:off x="2052720" y="2757600"/>
            <a:ext cx="4881600" cy="3443040"/>
          </a:xfrm>
          <a:prstGeom prst="rect">
            <a:avLst/>
          </a:prstGeom>
          <a:ln w="0">
            <a:noFill/>
          </a:ln>
        </p:spPr>
      </p:pic>
      <p:sp>
        <p:nvSpPr>
          <p:cNvPr id="645" name="Oval 9"/>
          <p:cNvSpPr/>
          <p:nvPr/>
        </p:nvSpPr>
        <p:spPr>
          <a:xfrm>
            <a:off x="2819520" y="5002200"/>
            <a:ext cx="121896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– loading and sav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76212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want APL to use it automatically you will then need to tell APL which session (.DSE) file to load at start-up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6310-B7D5-4ECA-8370-8507C88D44F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2057400" y="3505320"/>
            <a:ext cx="4960800" cy="27432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3" descr=""/>
          <p:cNvPicPr/>
          <p:nvPr/>
        </p:nvPicPr>
        <p:blipFill>
          <a:blip r:embed="rId2"/>
          <a:stretch/>
        </p:blipFill>
        <p:spPr>
          <a:xfrm>
            <a:off x="1676520" y="1905120"/>
            <a:ext cx="5962680" cy="44193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4" descr=""/>
          <p:cNvPicPr/>
          <p:nvPr/>
        </p:nvPicPr>
        <p:blipFill>
          <a:blip r:embed="rId3"/>
          <a:stretch/>
        </p:blipFill>
        <p:spPr>
          <a:xfrm>
            <a:off x="1676520" y="1905120"/>
            <a:ext cx="5962680" cy="4419360"/>
          </a:xfrm>
          <a:prstGeom prst="rect">
            <a:avLst/>
          </a:prstGeom>
          <a:ln w="0">
            <a:noFill/>
          </a:ln>
        </p:spPr>
      </p:pic>
      <p:sp>
        <p:nvSpPr>
          <p:cNvPr id="654" name="Oval 11"/>
          <p:cNvSpPr/>
          <p:nvPr/>
        </p:nvSpPr>
        <p:spPr>
          <a:xfrm>
            <a:off x="5943600" y="2057400"/>
            <a:ext cx="12193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4191120" y="5257800"/>
            <a:ext cx="121896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anb</dc:creator>
  <dc:description/>
  <dc:language>en-US</dc:language>
  <cp:lastModifiedBy>danb</cp:lastModifiedBy>
  <dcterms:modified xsi:type="dcterms:W3CDTF">2011-09-30T19:43:05Z</dcterms:modified>
  <cp:revision>1077</cp:revision>
  <dc:subject/>
  <dc:title>DirectX +-=assembler of graphics</dc:title>
</cp:coreProperties>
</file>