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9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61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15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_rels/presentation.xml.rels" ContentType="application/vnd.openxmlformats-package.relationships+xml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7.png" ContentType="image/png"/>
  <Override PartName="/ppt/media/image37.png" ContentType="image/png"/>
  <Override PartName="/ppt/media/image28.png" ContentType="image/png"/>
  <Override PartName="/ppt/media/image30.png" ContentType="image/png"/>
  <Override PartName="/ppt/media/image8.jpeg" ContentType="image/jpeg"/>
  <Override PartName="/ppt/media/image38.png" ContentType="image/png"/>
  <Override PartName="/ppt/media/image40.png" ContentType="image/png"/>
  <Override PartName="/ppt/media/image5.png" ContentType="image/png"/>
  <Override PartName="/ppt/media/image35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11.png" ContentType="image/png"/>
  <Override PartName="/ppt/media/image32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17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32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71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56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45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167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70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146.xml.rels" ContentType="application/vnd.openxmlformats-package.relationships+xml"/>
  <Override PartName="/ppt/slides/_rels/slide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53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149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51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177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7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  <p:sldId id="389" r:id="rId138"/>
    <p:sldId id="390" r:id="rId139"/>
    <p:sldId id="391" r:id="rId140"/>
    <p:sldId id="392" r:id="rId141"/>
    <p:sldId id="393" r:id="rId142"/>
    <p:sldId id="394" r:id="rId143"/>
    <p:sldId id="395" r:id="rId144"/>
    <p:sldId id="396" r:id="rId145"/>
    <p:sldId id="397" r:id="rId146"/>
    <p:sldId id="398" r:id="rId147"/>
    <p:sldId id="399" r:id="rId148"/>
    <p:sldId id="400" r:id="rId149"/>
    <p:sldId id="401" r:id="rId150"/>
    <p:sldId id="402" r:id="rId151"/>
    <p:sldId id="403" r:id="rId152"/>
    <p:sldId id="404" r:id="rId153"/>
    <p:sldId id="405" r:id="rId154"/>
    <p:sldId id="406" r:id="rId155"/>
    <p:sldId id="407" r:id="rId156"/>
    <p:sldId id="408" r:id="rId157"/>
    <p:sldId id="409" r:id="rId158"/>
    <p:sldId id="410" r:id="rId159"/>
    <p:sldId id="411" r:id="rId160"/>
    <p:sldId id="412" r:id="rId161"/>
    <p:sldId id="413" r:id="rId162"/>
    <p:sldId id="414" r:id="rId163"/>
    <p:sldId id="415" r:id="rId164"/>
    <p:sldId id="416" r:id="rId165"/>
    <p:sldId id="417" r:id="rId166"/>
    <p:sldId id="418" r:id="rId167"/>
    <p:sldId id="419" r:id="rId168"/>
    <p:sldId id="420" r:id="rId169"/>
    <p:sldId id="421" r:id="rId170"/>
    <p:sldId id="422" r:id="rId171"/>
    <p:sldId id="423" r:id="rId172"/>
    <p:sldId id="424" r:id="rId173"/>
    <p:sldId id="425" r:id="rId174"/>
    <p:sldId id="426" r:id="rId175"/>
    <p:sldId id="427" r:id="rId176"/>
    <p:sldId id="428" r:id="rId177"/>
    <p:sldId id="429" r:id="rId178"/>
    <p:sldId id="430" r:id="rId179"/>
    <p:sldId id="431" r:id="rId180"/>
    <p:sldId id="432" r:id="rId18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slide" Target="slides/slide134.xml"/><Relationship Id="rId139" Type="http://schemas.openxmlformats.org/officeDocument/2006/relationships/slide" Target="slides/slide135.xml"/><Relationship Id="rId140" Type="http://schemas.openxmlformats.org/officeDocument/2006/relationships/slide" Target="slides/slide136.xml"/><Relationship Id="rId141" Type="http://schemas.openxmlformats.org/officeDocument/2006/relationships/slide" Target="slides/slide137.xml"/><Relationship Id="rId142" Type="http://schemas.openxmlformats.org/officeDocument/2006/relationships/slide" Target="slides/slide138.xml"/><Relationship Id="rId143" Type="http://schemas.openxmlformats.org/officeDocument/2006/relationships/slide" Target="slides/slide139.xml"/><Relationship Id="rId144" Type="http://schemas.openxmlformats.org/officeDocument/2006/relationships/slide" Target="slides/slide140.xml"/><Relationship Id="rId145" Type="http://schemas.openxmlformats.org/officeDocument/2006/relationships/slide" Target="slides/slide141.xml"/><Relationship Id="rId146" Type="http://schemas.openxmlformats.org/officeDocument/2006/relationships/slide" Target="slides/slide142.xml"/><Relationship Id="rId147" Type="http://schemas.openxmlformats.org/officeDocument/2006/relationships/slide" Target="slides/slide143.xml"/><Relationship Id="rId148" Type="http://schemas.openxmlformats.org/officeDocument/2006/relationships/slide" Target="slides/slide144.xml"/><Relationship Id="rId149" Type="http://schemas.openxmlformats.org/officeDocument/2006/relationships/slide" Target="slides/slide145.xml"/><Relationship Id="rId150" Type="http://schemas.openxmlformats.org/officeDocument/2006/relationships/slide" Target="slides/slide146.xml"/><Relationship Id="rId151" Type="http://schemas.openxmlformats.org/officeDocument/2006/relationships/slide" Target="slides/slide147.xml"/><Relationship Id="rId152" Type="http://schemas.openxmlformats.org/officeDocument/2006/relationships/slide" Target="slides/slide148.xml"/><Relationship Id="rId153" Type="http://schemas.openxmlformats.org/officeDocument/2006/relationships/slide" Target="slides/slide149.xml"/><Relationship Id="rId154" Type="http://schemas.openxmlformats.org/officeDocument/2006/relationships/slide" Target="slides/slide150.xml"/><Relationship Id="rId155" Type="http://schemas.openxmlformats.org/officeDocument/2006/relationships/slide" Target="slides/slide151.xml"/><Relationship Id="rId156" Type="http://schemas.openxmlformats.org/officeDocument/2006/relationships/slide" Target="slides/slide152.xml"/><Relationship Id="rId157" Type="http://schemas.openxmlformats.org/officeDocument/2006/relationships/slide" Target="slides/slide153.xml"/><Relationship Id="rId158" Type="http://schemas.openxmlformats.org/officeDocument/2006/relationships/slide" Target="slides/slide154.xml"/><Relationship Id="rId159" Type="http://schemas.openxmlformats.org/officeDocument/2006/relationships/slide" Target="slides/slide155.xml"/><Relationship Id="rId160" Type="http://schemas.openxmlformats.org/officeDocument/2006/relationships/slide" Target="slides/slide156.xml"/><Relationship Id="rId161" Type="http://schemas.openxmlformats.org/officeDocument/2006/relationships/slide" Target="slides/slide157.xml"/><Relationship Id="rId162" Type="http://schemas.openxmlformats.org/officeDocument/2006/relationships/slide" Target="slides/slide158.xml"/><Relationship Id="rId163" Type="http://schemas.openxmlformats.org/officeDocument/2006/relationships/slide" Target="slides/slide159.xml"/><Relationship Id="rId164" Type="http://schemas.openxmlformats.org/officeDocument/2006/relationships/slide" Target="slides/slide160.xml"/><Relationship Id="rId165" Type="http://schemas.openxmlformats.org/officeDocument/2006/relationships/slide" Target="slides/slide161.xml"/><Relationship Id="rId166" Type="http://schemas.openxmlformats.org/officeDocument/2006/relationships/slide" Target="slides/slide162.xml"/><Relationship Id="rId167" Type="http://schemas.openxmlformats.org/officeDocument/2006/relationships/slide" Target="slides/slide163.xml"/><Relationship Id="rId168" Type="http://schemas.openxmlformats.org/officeDocument/2006/relationships/slide" Target="slides/slide164.xml"/><Relationship Id="rId169" Type="http://schemas.openxmlformats.org/officeDocument/2006/relationships/slide" Target="slides/slide165.xml"/><Relationship Id="rId170" Type="http://schemas.openxmlformats.org/officeDocument/2006/relationships/slide" Target="slides/slide166.xml"/><Relationship Id="rId171" Type="http://schemas.openxmlformats.org/officeDocument/2006/relationships/slide" Target="slides/slide167.xml"/><Relationship Id="rId172" Type="http://schemas.openxmlformats.org/officeDocument/2006/relationships/slide" Target="slides/slide168.xml"/><Relationship Id="rId173" Type="http://schemas.openxmlformats.org/officeDocument/2006/relationships/slide" Target="slides/slide169.xml"/><Relationship Id="rId174" Type="http://schemas.openxmlformats.org/officeDocument/2006/relationships/slide" Target="slides/slide170.xml"/><Relationship Id="rId175" Type="http://schemas.openxmlformats.org/officeDocument/2006/relationships/slide" Target="slides/slide171.xml"/><Relationship Id="rId176" Type="http://schemas.openxmlformats.org/officeDocument/2006/relationships/slide" Target="slides/slide172.xml"/><Relationship Id="rId177" Type="http://schemas.openxmlformats.org/officeDocument/2006/relationships/slide" Target="slides/slide173.xml"/><Relationship Id="rId178" Type="http://schemas.openxmlformats.org/officeDocument/2006/relationships/slide" Target="slides/slide174.xml"/><Relationship Id="rId179" Type="http://schemas.openxmlformats.org/officeDocument/2006/relationships/slide" Target="slides/slide175.xml"/><Relationship Id="rId180" Type="http://schemas.openxmlformats.org/officeDocument/2006/relationships/slide" Target="slides/slide176.xml"/><Relationship Id="rId181" Type="http://schemas.openxmlformats.org/officeDocument/2006/relationships/slide" Target="slides/slide177.xml"/><Relationship Id="rId18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-36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388584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1FCB8-D9E3-4E0C-9936-74B68C71C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st of the time this has worked fairly well – and there was no alternativ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0852B-6CE1-4AA5-86AD-E99716743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7FCA2-BE16-4F1A-AF8B-B6E1C299E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arrot  calls Bird’s constructor to create Desc, then, upon return, Desc is mod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base call is made at the statement’s lo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BCB28-F7A0-43F1-B883-6AC8C56F1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not specific to Dyal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EECD8-8378-4184-8CC9-10AED281C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time constructors will take arg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FDB03-44F9-4E1D-B746-F642C945D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Collie inherits 3 members (fields) and creates 1 of its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[]NL -2 and the vector format returned. ‘minus’ means ‘Public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A8DEE-ECE5-478C-85CD-EF1C54472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Collie inherits 3 members (fields) and creates 1 of its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[]NL -2 and the vector format returned. ‘minus’ means ‘Public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C533D-1E1F-4A8A-8B60-11326A8A6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 of called constructors. Before setting it Name, Collie calls the Dog ctor which, before setting its Type, calls the Animal 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A1AD4-A3AD-423F-8949-8E5DB18F2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36D0D-CA45-4AB6-B558-114E03396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these statements are not used the default is </a:t>
            </a:r>
            <a:r>
              <a:rPr b="0" i="1" lang="en-GB" sz="1200" spc="-1" strike="noStrike">
                <a:solidFill>
                  <a:srgbClr val="99cc00"/>
                </a:solidFill>
                <a:latin typeface="Arial"/>
              </a:rPr>
              <a:t>priv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54247-D80A-4F40-9775-F8DA3E563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AST word in the :FIELD statements is the var n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is a slight difference between a variable and a private instance field: their []N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F9A7B-6181-4BDE-8E03-AB2CEB2B8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069CE-C940-4A68-ADF6-8BCA88345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B4517-44DE-48E7-B1E5-57F904C06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FC24B-20A0-4728-AB1B-784F957D8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yID is priv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587CB-A400-4C85-93E5-A0CCDCD5C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568DD-0A0D-4CE0-A6E1-21D567F87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7B211-B3EF-49EF-A8B9-A37B65FE4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order is unimportant; if &lt;general&gt; is not there and there is no match on the length a LENGTH error will be repo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5CDAB-0C63-4B70-B1DB-CD486BABF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AVE button is a dud 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C23CF-CAB1-4DD5-B1B3-81E7B5F6C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5A94C-DE09-409C-A998-6D3CAD9FD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AVE button is still a dud 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FE7B0-90A2-4B5B-A9D3-5345FBF50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4C470-83B1-4E89-87FC-A214BF2D3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93C9F-2F24-4FDB-8AAF-FF5D7F03A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E0257-D7B8-4D3B-8346-B135ACA68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 trigg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D7767-E77D-4543-A8BD-885F00D0C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EB81F-D4AF-4ED0-803D-1957DC3D5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is no real need to make that a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5964D-EB0B-4A2E-B979-22FC8DC16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y cies came up with a solution to this problem and invented their own Code Management Systems to group code &amp; data into units but this took a lot of man-days of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L2 had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A6D8D-0601-4C51-A485-6AB20FF41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eate the other property I. There are 2 ways to do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B7581-CE0F-4DAF-B87C-CAFACD1A5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T returns a sca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AE1BD-B919-499D-A990-397E0CA52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1DD33-DAED-4BDA-8076-DABDDDA1F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returns an O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the use of []TH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B98BF-FABD-426F-84CB-30B3DCC78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no []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D9D02-3C8D-4F45-83D0-4FBCBB714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roblems are still the same tho: name clashing &amp; cleaning afterwa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06608-0ECE-4AFF-9D78-38CD05DF8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C8975-D2B0-4C49-9AB1-10D6198D1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not if coders end up doing simple things in complex ways just because they c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programmers invented tricks to shadow the names and execute code hidden on the stack but that was like a crutch, something better was 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21DAC-F357-44B6-AC44-E0AFA5537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BA255-F8FA-4EE9-A7A4-72A8C6173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9D76A-20D3-4491-9204-B5F113450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workspace releases memory when unused. New prim are squash, power, enhancements are to LCM &amp; G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29660-FF78-4C77-8E2A-D4BEFB735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ou had to use the Properties windows on fns and to export the 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5D7F4-0F65-422C-BAEA-1FD067192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es can include pointers to functions in languages that support it (like C). All these structures are in DY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0F0BB-EB46-43FC-831E-17094FDF5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will be interactive, stop and ask questions any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64FFD-76FE-4294-A0E0-A5B93C9B4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otion of passing messages is omni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A0511-3062-4D86-9550-7F4C04BEF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ust like Basic had no concept of function &amp; local variable, trad system have no concept of objects and their "local" me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8A518-8A81-4953-A651-4DE9E5DD0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fine terms to be used in order to speak the same "LANGUAGE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10690-3B17-429B-B94A-B9F701D70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not a single, widely-agreed upon definition of object-oriented programm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a survey of nearly 40 years of computing literature identified a number of fundamental concepts, identified in the strong majority of definitions of OO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able research supporting or dismissing OOP has been difficult to come by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the following slides some of the terms used (e.g. SHARED=STATIC) vary from one implementation/language to an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8D12F-A5F2-4F63-9084-50F3854B4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is like a “struct” 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text in green refers to items already implemented in Dyalog AP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1063F-7AA2-465F-8AAD-A00C23631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1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8CE8F-828D-42B9-9199-AB959C39B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B116C-DB6E-4EBD-BA53-62ACD8C7B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PlaceHolder 1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outlet is the interface to use to connect into the electrical net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ances must conform to be able to plug into it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05DA1-A217-4B9C-88DC-97CAD9F3A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time permits show OO implementation det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71F43-6499-4BAA-A571-79280380F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nctions are said to be abstract because they do not have code, only synta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classes are ABSTRACT and cannot be instantiated. Just like an inte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34B26-7908-43B0-A4EA-55F3C35A5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for others – ex: photoshop plugins which state how to access their inna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how you present yourself to outsi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926BA-CA56-4FF4-9D92-40E5408B4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rfaces allow to map some names (from the class) onto another set of names (of the instanc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FDFBF-96E1-4364-9467-39342D526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: a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Volvo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could be an instance of 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a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a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Cessn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an instance of 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la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 In OO there are many types of objects, they are not listed here (e.g. singleton, immutable, prototyp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 all OO languages support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destructor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(or even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constructor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.  Instances are also called ‘actors’ in some liter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ured words in italic are found in DYW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. of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destructo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file to be unt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58DCD-35BC-44FF-8954-7A03E6589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nk of an object (namespace) as a mini workspace which can be initialized ([]LX) via a 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BBD01-D213-4D51-BC76-72DBDC8AA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A2BDC-5D60-4BB8-B327-6E5293E66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ARED=STATIC in C#. Shared members are common to all instances and do not need or cannot be copied, e.g. global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F197D-82DF-4A2B-9216-D2355A223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practice APL does not copy the me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8ACF2-8928-4A45-8F8C-B38FAA3FC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Shar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also called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as in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method). Shared code can be called directly via the class, no instance requi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E4DE7-2014-4B08-BC6B-0D4B37306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languages use the term FINAL instead of READONLY; the terms vary from one language to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FC513-CA54-4A56-AFD0-3D7855DB7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 because everyone else is doing it or MS$ (or anyone else) sets the trend or... Explain in more detail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B4ABC-B0E2-4E89-9A6F-986173FEF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Shar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also called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as in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method). Ex: VISIBLE 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91843-2E36-48C7-AB7D-346670B49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ssages are commonly used as a means of interprocess 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4B175-5246-4B4A-BE27-0247160A0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hing to do with money </a:t>
            </a: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  Not all languages support it, e.g. VB, which is an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bject-bas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something we (programmers) are familiar with: modify code to get new code OR rather call existing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CF8BD-DF8C-4997-A4F5-156644DA6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1EE29-E58D-472A-A869-D4A6E855E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ue is a class, green is an instance. Fido is an instance of a Collie. It also has all the characteristics of a Dog and an Ani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AEEE6-0B4B-4190-9EB4-5F2C76DD0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are many ways to do this and not all languages do it in a consistent manner. There is a lot is disagreement in that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CBFB0-86FF-4538-BE95-37EF315DB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other way to achieve (some sort of) multiple inheritance is by using multiple implement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66302-2534-427F-A513-E89FC4BAD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20277-132C-4540-A4B6-32E473158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6E1DB-9D5B-425F-BC78-FC5240250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1907F-55BF-49C6-B076-246D17C8F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New discipline, paradigm, technology, methodology.  SIMULA was the 1</a:t>
            </a:r>
            <a:r>
              <a:rPr b="0" lang="fr-CA" sz="1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 object language. Others; Eiffel, CLOS, SELF, Java, BE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Unlike APL it has been GROWING since the 90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The acceptance was due a lot to C-&gt;C++ by not having programmers to learn a new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007B9-737B-43CC-A0A2-F0C1C6DCF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d so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E7BBC-D2AA-4EEF-97C6-BFB5765DB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 done in DY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02F3C-B47C-4CF6-914F-B592291C4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VERRIDE is also known as VIRTUAL in some cir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re A and B are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independe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 &lt;M2&gt; is 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ubrouti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of &lt;M1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C2368-1FAA-48D7-BC9F-437C77A92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re B is based on A. When it calls M1, M2 is not seen from M1. M2 could be called by other f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CB3F8-A0C6-4033-B0FC-8C6B61549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 wants to override M2 but A does not allow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27BDF-49EC-4B4C-BB71-C173F68EA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2 can be overridden and it is effectively don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524DB-7307-4C7F-9048-AA9D2B698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1C6D7-2400-4A51-906A-7408442A9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OO languages do NOT offer encapsulation. private=local for a function,public=global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F9CD7-FE8A-426A-8D0C-E5DA8825F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quares are classes. It’s like localized vars in APL (except that they cannot be seen in subfns). SHARED is also called STATIC someti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5A944-182A-4766-A6C1-278BEC119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ust like ctrl struct were a new concept for programmers, oo is another step in the sam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CCCAC-2CF8-4C97-B358-0523824C7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quares are classes. It’s like localized vars in APL (except that they cannot be seen in subfns). SHARED is also called STATIC someti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F35D9-5AEF-4FD3-8B4D-76F613E08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akin to localized vars in APL, they can be reached up the stack by called functions. Protected is not supported yet in DY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19601-2217-41C6-8037-467B8390F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akin to localized vars in APL, they can be reached up the stack by called functions. Protected is not supported yet in DY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1B747-DBF5-48B0-8F65-B20A44BBA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ke glob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DE406-E80C-4694-B428-1B8B49F0F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: elevator &amp; its repairman. He has access to the inner workings of the elev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are also other possibilities. Not all languages support these concepts. DYW does not.  This one is, among others, seen in C++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upled with nesting the complexity of a system can become overwhelm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7ED21-D95E-4896-A209-33AE21819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can do that in APL using :case on []DR of the arg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EA336-C135-49BE-9022-489ABDDC4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Foo is called with an integer the left fn is used. If it is called with a string the right one is used. Else an error occu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APL polymorphism is basic (typeless argume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345C9-8204-4844-8284-981020D12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common example is the primitive ‘+’ which is overloaded in most languages. Its args have to be often coerced (e.g. 1+0.5+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APL most fns are overloa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238CF-4AD7-4B9A-9752-B0D0EFA42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times arguments have to be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 coerced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o a new type to achieve proper behavio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common example is the primitive ‘+’ which is overloaded in most languages. Its args have to be often coerced (e.g. 1+0.5+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6F68E-646F-4DF4-9469-DA1CE7B76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ample: object to hold 2 strings (e.g. name, surname) and a method (function, pgm) to  display them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can become more elaborate with ctors,  etc. to initialize (and verify) the initial val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48CC6-D957-4B20-8B3C-380B9DB4D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BD649-7143-417E-95C2-FDB8C0F1B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will now go over each one of these, not necessarily in the same or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F8FA3-61E0-4E37-B2D2-900B8A024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the circle to denote editing a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48C21-2616-408C-979D-1F5D1AA4F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CLASSES is a new system comm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14CC5-0468-4300-A91B-FA8485277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od is a fn, op or Dfn/op. Only regular fns can be public. Properties are like variables whose assignment (or reading) is caught via a fn BEFORE being done.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ED0CC-9635-4877-BD7A-B4261781A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’ll see this in more details in the Encapsulation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9288B-0B05-4630-8168-86DE60952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may be more than 1 constructor. D-fns &amp; ops cannot be public (they cannot use the :access statem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C5EFF-8F9B-4C84-B9AF-91084594F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erties can be shared too; ra contains Name (there can be many!), NewValue is set &amp; maybe Index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sing of &lt;G/Set&gt; unimport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order to delve into the OO paradigm we need to understand a few concep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adigm=theoretical fra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B4E5D-E63D-4577-8924-57DE13F46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A9A85-467A-4636-9481-FE7C0CED6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fns are not really cop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me as []NS []OR ‘class’ then call the constructor is perti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0A4EC-4DAD-4165-8790-8B66C4B46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A4D58-DC05-45E2-94F4-B5E1D4E45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ide the brackets is the name of the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65983-3D25-4E6C-8623-3C87C7BD8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sometimes useful to known who is wh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86551-18B8-42C3-BCD9-E0068DF3B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imal.Nlegs is not new, it’s been there since refs were introduced. ‘Nlegs’ needs to be in every item of ‘Animal’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309A0-6920-48D6-AB92-614F17E32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fancy naming (“message passing”) scheme does not apply here – its use is kept to stay synchronized with the fundamental concepts s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68BFB-DF73-4524-85F2-324FFBF93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ember this? Rex is a Collie, a Dog, an Ani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6D26-AC5D-4532-9646-C47A53A1F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re’s a simpler examp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029DD-45E1-40F6-9275-D64683C4B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re’s a simpler examp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AA74-071D-49BD-8D1E-A11ABCA89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96EE-7388-440D-BCC4-A53748DA5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8A9D-446F-4B4C-ADCD-BA85F4136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D5DB-3323-4602-AD65-DBEFB7C4A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5E943-D6BD-4F7D-8052-5F9FE430C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64C10-6AC1-4856-B854-8DAFE278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11FF3-D900-4ABD-81A5-9BD9308B6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71E8F-463F-43C2-AC79-1B03F3BF0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C1E47-9205-464F-ADC3-D23E8C045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617A7-5607-4777-9C2E-6B36CF8A6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3A041-F92E-4372-9F1C-BB56D3E9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CC48-AE6F-4FB0-BCD0-64D3A2242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85409-E81E-4DB6-8C70-16C25F69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1A81C-5283-489F-BDC5-EEAF9232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F3A55-7427-45E7-A3AE-DE78D3FD2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27820-5907-4DC5-99C6-79BE22E7B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A2A77-6DC7-463F-B6B9-B651E3289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A8CA-982E-434A-958E-79D1DD7FA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8567-C1B0-4FB7-BAE3-784E14758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9E8B-D734-4537-8D2C-6B6636CB9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66F6-1835-4EA4-A0C8-8B293331B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F2D6-5971-4078-9ED0-3A7EDC5F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E7C8-C4EE-46BF-B311-8A252CC3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BC83-171B-4C63-850F-F68A52ED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7CCD0-9E48-4E21-8C26-ED2240BDCC7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F0D28-D75F-49AB-B971-F7B3332420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hyperlink" Target="http://www.dyalog.com/" TargetMode="External"/><Relationship Id="rId2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" Target="slide150.xml"/><Relationship Id="rId2" Type="http://schemas.openxmlformats.org/officeDocument/2006/relationships/slide" Target="slide127.xml"/><Relationship Id="rId3" Type="http://schemas.openxmlformats.org/officeDocument/2006/relationships/slide" Target="slide119.xml"/><Relationship Id="rId4" Type="http://schemas.openxmlformats.org/officeDocument/2006/relationships/slide" Target="slide173.xml"/><Relationship Id="rId5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" Target="slide118.xml"/><Relationship Id="rId2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" Target="slide118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" Target="slide118.xml"/><Relationship Id="rId2" Type="http://schemas.openxmlformats.org/officeDocument/2006/relationships/slideLayout" Target="../slideLayouts/slideLayout1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ight Arrow 3"/>
          <p:cNvSpPr/>
          <p:nvPr/>
        </p:nvSpPr>
        <p:spPr>
          <a:xfrm>
            <a:off x="2714760" y="2827440"/>
            <a:ext cx="4000320" cy="128592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ee821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33080" y="1096560"/>
            <a:ext cx="8459640" cy="17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b469ff"/>
                </a:solidFill>
                <a:latin typeface="Geneva"/>
              </a:rPr>
              <a:t>Object Oriented Programming in AP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50920" y="3212640"/>
            <a:ext cx="511344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New Direc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Dan Baronet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2011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Geneva"/>
              </a:rPr>
              <a:t>V1.24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1642680"/>
            <a:ext cx="777240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The workspace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ontains everything needed to run an applica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E4D5F-790F-4786-AC3B-226C9C4FFB1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1071720" y="3357720"/>
            <a:ext cx="7200720" cy="267624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9"/>
          <p:cNvSpPr/>
          <p:nvPr/>
        </p:nvSpPr>
        <p:spPr>
          <a:xfrm>
            <a:off x="642960" y="2286000"/>
            <a:ext cx="7715160" cy="92880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52337-E1A7-4779-BB56-F1B1B6F601E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5" name="Picture 17" descr=""/>
          <p:cNvPicPr/>
          <p:nvPr/>
        </p:nvPicPr>
        <p:blipFill>
          <a:blip r:embed="rId1"/>
          <a:stretch/>
        </p:blipFill>
        <p:spPr>
          <a:xfrm>
            <a:off x="5076720" y="1420920"/>
            <a:ext cx="3888000" cy="2766960"/>
          </a:xfrm>
          <a:prstGeom prst="rect">
            <a:avLst/>
          </a:prstGeom>
          <a:ln w="0">
            <a:noFill/>
          </a:ln>
        </p:spPr>
      </p:pic>
      <p:pic>
        <p:nvPicPr>
          <p:cNvPr id="896" name="Picture 39" descr=""/>
          <p:cNvPicPr/>
          <p:nvPr/>
        </p:nvPicPr>
        <p:blipFill>
          <a:blip r:embed="rId2"/>
          <a:stretch/>
        </p:blipFill>
        <p:spPr>
          <a:xfrm>
            <a:off x="5364000" y="3292560"/>
            <a:ext cx="3637080" cy="3449520"/>
          </a:xfrm>
          <a:prstGeom prst="rect">
            <a:avLst/>
          </a:prstGeom>
          <a:ln w="0">
            <a:noFill/>
          </a:ln>
        </p:spPr>
      </p:pic>
      <p:sp>
        <p:nvSpPr>
          <p:cNvPr id="897" name="PlaceHolder 1"/>
          <p:cNvSpPr>
            <a:spLocks noGrp="1"/>
          </p:cNvSpPr>
          <p:nvPr>
            <p:ph/>
          </p:nvPr>
        </p:nvSpPr>
        <p:spPr>
          <a:xfrm>
            <a:off x="323640" y="1564920"/>
            <a:ext cx="46796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xample: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a parrot is a bird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Coco←⎕NEW Parro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Coco.Desc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Geneva"/>
              </a:rPr>
              <a:t>Not a plain Bird, a Parro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 type="title"/>
          </p:nvPr>
        </p:nvSpPr>
        <p:spPr>
          <a:xfrm>
            <a:off x="468360" y="493560"/>
            <a:ext cx="8207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inheritan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899" name="Group 16"/>
          <p:cNvGrpSpPr/>
          <p:nvPr/>
        </p:nvGrpSpPr>
        <p:grpSpPr>
          <a:xfrm>
            <a:off x="395280" y="4157640"/>
            <a:ext cx="5256000" cy="1942920"/>
            <a:chOff x="395280" y="4157640"/>
            <a:chExt cx="5256000" cy="1942920"/>
          </a:xfrm>
        </p:grpSpPr>
        <p:sp>
          <p:nvSpPr>
            <p:cNvPr id="900" name="Rectangle 4"/>
            <p:cNvSpPr/>
            <p:nvPr/>
          </p:nvSpPr>
          <p:spPr>
            <a:xfrm>
              <a:off x="715680" y="4957560"/>
              <a:ext cx="1410120" cy="799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ir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1" name="AutoShape 5"/>
            <p:cNvCxnSpPr>
              <a:stCxn id="900" idx="3"/>
              <a:endCxn id="902" idx="1"/>
            </p:cNvCxnSpPr>
            <p:nvPr/>
          </p:nvCxnSpPr>
          <p:spPr>
            <a:xfrm flipV="1">
              <a:off x="2126160" y="4557600"/>
              <a:ext cx="321120" cy="800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02" name="Rectangle 6"/>
            <p:cNvSpPr/>
            <p:nvPr/>
          </p:nvSpPr>
          <p:spPr>
            <a:xfrm>
              <a:off x="2446920" y="4157640"/>
              <a:ext cx="1410120" cy="799920"/>
            </a:xfrm>
            <a:prstGeom prst="rect">
              <a:avLst/>
            </a:prstGeom>
            <a:solidFill>
              <a:srgbClr val="6bfd8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irdy (Bird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Line 7"/>
            <p:cNvSpPr/>
            <p:nvPr/>
          </p:nvSpPr>
          <p:spPr>
            <a:xfrm>
              <a:off x="395280" y="5358240"/>
              <a:ext cx="320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Rectangle 10"/>
            <p:cNvSpPr/>
            <p:nvPr/>
          </p:nvSpPr>
          <p:spPr>
            <a:xfrm>
              <a:off x="2446920" y="5300640"/>
              <a:ext cx="1410120" cy="799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arrot: Bir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5" name="AutoShape 11"/>
            <p:cNvCxnSpPr>
              <a:stCxn id="900" idx="3"/>
              <a:endCxn id="904" idx="1"/>
            </p:cNvCxnSpPr>
            <p:nvPr/>
          </p:nvCxnSpPr>
          <p:spPr>
            <a:xfrm>
              <a:off x="2126160" y="5358240"/>
              <a:ext cx="321120" cy="343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06" name="Rectangle 13"/>
            <p:cNvSpPr/>
            <p:nvPr/>
          </p:nvSpPr>
          <p:spPr>
            <a:xfrm>
              <a:off x="4241160" y="5300640"/>
              <a:ext cx="1410120" cy="799920"/>
            </a:xfrm>
            <a:prstGeom prst="rect">
              <a:avLst/>
            </a:prstGeom>
            <a:solidFill>
              <a:srgbClr val="6bfd8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co (Parrot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7" name="AutoShape 15"/>
            <p:cNvCxnSpPr>
              <a:stCxn id="904" idx="3"/>
              <a:endCxn id="906" idx="1"/>
            </p:cNvCxnSpPr>
            <p:nvPr/>
          </p:nvCxnSpPr>
          <p:spPr>
            <a:xfrm>
              <a:off x="3856680" y="5700960"/>
              <a:ext cx="384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908" name="Rectangle 18"/>
          <p:cNvSpPr/>
          <p:nvPr/>
        </p:nvSpPr>
        <p:spPr>
          <a:xfrm>
            <a:off x="6804000" y="3005280"/>
            <a:ext cx="1224000" cy="25380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19"/>
          <p:cNvSpPr/>
          <p:nvPr/>
        </p:nvSpPr>
        <p:spPr>
          <a:xfrm>
            <a:off x="6408720" y="5603760"/>
            <a:ext cx="2340000" cy="21744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20"/>
          <p:cNvSpPr/>
          <p:nvPr/>
        </p:nvSpPr>
        <p:spPr>
          <a:xfrm>
            <a:off x="395280" y="3292560"/>
            <a:ext cx="3960720" cy="43164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Oval 21"/>
          <p:cNvSpPr/>
          <p:nvPr/>
        </p:nvSpPr>
        <p:spPr>
          <a:xfrm>
            <a:off x="4140360" y="2428920"/>
            <a:ext cx="7128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Oval 22"/>
          <p:cNvSpPr/>
          <p:nvPr/>
        </p:nvSpPr>
        <p:spPr>
          <a:xfrm>
            <a:off x="6118200" y="4229280"/>
            <a:ext cx="7164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Oval 23"/>
          <p:cNvSpPr/>
          <p:nvPr/>
        </p:nvSpPr>
        <p:spPr>
          <a:xfrm>
            <a:off x="8028000" y="5021280"/>
            <a:ext cx="7128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Oval 24"/>
          <p:cNvSpPr/>
          <p:nvPr/>
        </p:nvSpPr>
        <p:spPr>
          <a:xfrm>
            <a:off x="6443640" y="2500200"/>
            <a:ext cx="7164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5" name="AutoShape 25"/>
          <p:cNvCxnSpPr>
            <a:stCxn id="911" idx="1"/>
            <a:endCxn id="912" idx="7"/>
          </p:cNvCxnSpPr>
          <p:nvPr/>
        </p:nvCxnSpPr>
        <p:spPr>
          <a:xfrm flipH="1" rot="16200000">
            <a:off x="4264920" y="2325960"/>
            <a:ext cx="1800720" cy="2028240"/>
          </a:xfrm>
          <a:prstGeom prst="curvedConnector5">
            <a:avLst>
              <a:gd name="adj1" fmla="val -439"/>
              <a:gd name="adj2" fmla="val 49991"/>
              <a:gd name="adj3" fmla="val -439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6" name="AutoShape 26"/>
          <p:cNvCxnSpPr>
            <a:stCxn id="913" idx="1"/>
            <a:endCxn id="914" idx="1"/>
          </p:cNvCxnSpPr>
          <p:nvPr/>
        </p:nvCxnSpPr>
        <p:spPr>
          <a:xfrm flipV="1" rot="16200000">
            <a:off x="5985720" y="2979000"/>
            <a:ext cx="2521800" cy="1585080"/>
          </a:xfrm>
          <a:prstGeom prst="curvedConnector5">
            <a:avLst>
              <a:gd name="adj1" fmla="val 129711"/>
              <a:gd name="adj2" fmla="val 50000"/>
              <a:gd name="adj3" fmla="val 129711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7" name="Freeform 30"/>
          <p:cNvSpPr/>
          <p:nvPr/>
        </p:nvSpPr>
        <p:spPr>
          <a:xfrm>
            <a:off x="6443640" y="3141720"/>
            <a:ext cx="2089080" cy="2158920"/>
          </a:xfrm>
          <a:custGeom>
            <a:avLst/>
            <a:gdLst>
              <a:gd name="textAreaLeft" fmla="*/ 0 w 2089080"/>
              <a:gd name="textAreaRight" fmla="*/ 2089440 w 2089080"/>
              <a:gd name="textAreaTop" fmla="*/ 0 h 2158920"/>
              <a:gd name="textAreaBottom" fmla="*/ 2159280 h 2158920"/>
            </a:gdLst>
            <a:ahLst/>
            <a:rect l="textAreaLeft" t="textAreaTop" r="textAreaRight" b="textAreaBottom"/>
            <a:pathLst>
              <a:path w="1316" h="2087">
                <a:moveTo>
                  <a:pt x="0" y="0"/>
                </a:moveTo>
                <a:cubicBezTo>
                  <a:pt x="26" y="128"/>
                  <a:pt x="53" y="257"/>
                  <a:pt x="227" y="317"/>
                </a:cubicBezTo>
                <a:cubicBezTo>
                  <a:pt x="401" y="377"/>
                  <a:pt x="885" y="159"/>
                  <a:pt x="1044" y="363"/>
                </a:cubicBezTo>
                <a:cubicBezTo>
                  <a:pt x="1203" y="567"/>
                  <a:pt x="1316" y="1338"/>
                  <a:pt x="1180" y="1542"/>
                </a:cubicBezTo>
                <a:cubicBezTo>
                  <a:pt x="1044" y="1746"/>
                  <a:pt x="424" y="1497"/>
                  <a:pt x="227" y="1588"/>
                </a:cubicBezTo>
                <a:cubicBezTo>
                  <a:pt x="30" y="1679"/>
                  <a:pt x="15" y="1883"/>
                  <a:pt x="0" y="2087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Line 31"/>
          <p:cNvSpPr/>
          <p:nvPr/>
        </p:nvSpPr>
        <p:spPr>
          <a:xfrm>
            <a:off x="6189840" y="4373640"/>
            <a:ext cx="71280" cy="57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Line 38"/>
          <p:cNvSpPr/>
          <p:nvPr/>
        </p:nvSpPr>
        <p:spPr>
          <a:xfrm>
            <a:off x="6443640" y="537372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BEAFF-B135-4237-9796-EA831F6B4D8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/>
          </p:nvPr>
        </p:nvSpPr>
        <p:spPr>
          <a:xfrm>
            <a:off x="323640" y="1844280"/>
            <a:ext cx="835164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create classes and instances at all level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title"/>
          </p:nvPr>
        </p:nvSpPr>
        <p:spPr>
          <a:xfrm>
            <a:off x="468360" y="637920"/>
            <a:ext cx="82072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inheritan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25" name="Rectangle 4"/>
          <p:cNvSpPr/>
          <p:nvPr/>
        </p:nvSpPr>
        <p:spPr>
          <a:xfrm>
            <a:off x="611280" y="342900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ir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Rectangle 5"/>
          <p:cNvSpPr/>
          <p:nvPr/>
        </p:nvSpPr>
        <p:spPr>
          <a:xfrm>
            <a:off x="2556000" y="433080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rrot: Bir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Rectangle 7"/>
          <p:cNvSpPr/>
          <p:nvPr/>
        </p:nvSpPr>
        <p:spPr>
          <a:xfrm>
            <a:off x="6877080" y="4724280"/>
            <a:ext cx="1800360" cy="936720"/>
          </a:xfrm>
          <a:prstGeom prst="rect">
            <a:avLst/>
          </a:prstGeom>
          <a:solidFill>
            <a:srgbClr val="6bfd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weety (Macaw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Rectangle 9"/>
          <p:cNvSpPr/>
          <p:nvPr/>
        </p:nvSpPr>
        <p:spPr>
          <a:xfrm>
            <a:off x="4643280" y="501336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caw: Parro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9" name="AutoShape 10"/>
          <p:cNvCxnSpPr>
            <a:stCxn id="925" idx="3"/>
            <a:endCxn id="926" idx="1"/>
          </p:cNvCxnSpPr>
          <p:nvPr/>
        </p:nvCxnSpPr>
        <p:spPr>
          <a:xfrm>
            <a:off x="2195280" y="3933360"/>
            <a:ext cx="361080" cy="90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0" name="AutoShape 11"/>
          <p:cNvCxnSpPr>
            <a:stCxn id="925" idx="3"/>
            <a:endCxn id="931" idx="1"/>
          </p:cNvCxnSpPr>
          <p:nvPr/>
        </p:nvCxnSpPr>
        <p:spPr>
          <a:xfrm flipV="1">
            <a:off x="2195280" y="3069360"/>
            <a:ext cx="361080" cy="864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2" name="AutoShape 13"/>
          <p:cNvCxnSpPr>
            <a:stCxn id="926" idx="3"/>
            <a:endCxn id="928" idx="1"/>
          </p:cNvCxnSpPr>
          <p:nvPr/>
        </p:nvCxnSpPr>
        <p:spPr>
          <a:xfrm>
            <a:off x="4140000" y="4835520"/>
            <a:ext cx="503640" cy="68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3" name="AutoShape 14"/>
          <p:cNvCxnSpPr>
            <a:stCxn id="928" idx="3"/>
            <a:endCxn id="927" idx="1"/>
          </p:cNvCxnSpPr>
          <p:nvPr/>
        </p:nvCxnSpPr>
        <p:spPr>
          <a:xfrm flipV="1">
            <a:off x="6227640" y="5192280"/>
            <a:ext cx="650160" cy="32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4" name="Text Box 16"/>
          <p:cNvSpPr/>
          <p:nvPr/>
        </p:nvSpPr>
        <p:spPr>
          <a:xfrm>
            <a:off x="7021800" y="426708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bfd87"/>
                </a:solidFill>
                <a:latin typeface="Arial"/>
              </a:rPr>
              <a:t>Instan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 Box 17"/>
          <p:cNvSpPr/>
          <p:nvPr/>
        </p:nvSpPr>
        <p:spPr>
          <a:xfrm>
            <a:off x="2762280" y="393372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ccff"/>
                </a:solidFill>
                <a:latin typeface="Arial"/>
              </a:rPr>
              <a:t>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Rectangle 18"/>
          <p:cNvSpPr/>
          <p:nvPr/>
        </p:nvSpPr>
        <p:spPr>
          <a:xfrm>
            <a:off x="2556000" y="2565360"/>
            <a:ext cx="1584360" cy="1008000"/>
          </a:xfrm>
          <a:prstGeom prst="rect">
            <a:avLst/>
          </a:prstGeom>
          <a:solidFill>
            <a:srgbClr val="6bfd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irdy (Bir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Line 19"/>
          <p:cNvSpPr/>
          <p:nvPr/>
        </p:nvSpPr>
        <p:spPr>
          <a:xfrm>
            <a:off x="250920" y="39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Rectangle 20"/>
          <p:cNvSpPr/>
          <p:nvPr/>
        </p:nvSpPr>
        <p:spPr>
          <a:xfrm>
            <a:off x="4788000" y="3500280"/>
            <a:ext cx="1584360" cy="1008360"/>
          </a:xfrm>
          <a:prstGeom prst="rect">
            <a:avLst/>
          </a:prstGeom>
          <a:solidFill>
            <a:srgbClr val="6bfd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co (Parro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8" name="AutoShape 21"/>
          <p:cNvCxnSpPr>
            <a:stCxn id="926" idx="3"/>
            <a:endCxn id="937" idx="1"/>
          </p:cNvCxnSpPr>
          <p:nvPr/>
        </p:nvCxnSpPr>
        <p:spPr>
          <a:xfrm flipV="1">
            <a:off x="4140000" y="4005000"/>
            <a:ext cx="648360" cy="830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D4723-DE6D-4CD3-9829-F20D24E2162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395280" y="637920"/>
            <a:ext cx="85694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inheritan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8200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Inheritance: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constructors with argument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Using the animal kingdom as example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44" name="Rectangle 4"/>
          <p:cNvSpPr/>
          <p:nvPr/>
        </p:nvSpPr>
        <p:spPr>
          <a:xfrm>
            <a:off x="684360" y="4221000"/>
            <a:ext cx="1584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im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Rectangle 5"/>
          <p:cNvSpPr/>
          <p:nvPr/>
        </p:nvSpPr>
        <p:spPr>
          <a:xfrm>
            <a:off x="2771640" y="342900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o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Anim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Rectangle 6"/>
          <p:cNvSpPr/>
          <p:nvPr/>
        </p:nvSpPr>
        <p:spPr>
          <a:xfrm>
            <a:off x="6948360" y="5011560"/>
            <a:ext cx="1584360" cy="1008360"/>
          </a:xfrm>
          <a:prstGeom prst="rect">
            <a:avLst/>
          </a:prstGeom>
          <a:solidFill>
            <a:srgbClr val="6bfd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x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Colli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Rectangle 7"/>
          <p:cNvSpPr/>
          <p:nvPr/>
        </p:nvSpPr>
        <p:spPr>
          <a:xfrm>
            <a:off x="2771640" y="479736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sh: Anim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Rectangle 8"/>
          <p:cNvSpPr/>
          <p:nvPr/>
        </p:nvSpPr>
        <p:spPr>
          <a:xfrm>
            <a:off x="6948360" y="3860640"/>
            <a:ext cx="1584360" cy="1008360"/>
          </a:xfrm>
          <a:prstGeom prst="rect">
            <a:avLst/>
          </a:prstGeom>
          <a:solidFill>
            <a:srgbClr val="6bfd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do (Colli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Rectangle 9"/>
          <p:cNvSpPr/>
          <p:nvPr/>
        </p:nvSpPr>
        <p:spPr>
          <a:xfrm>
            <a:off x="4859280" y="314172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ig Dane: Do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Rectangle 10"/>
          <p:cNvSpPr/>
          <p:nvPr/>
        </p:nvSpPr>
        <p:spPr>
          <a:xfrm>
            <a:off x="4859280" y="450864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lli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Do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1" name="AutoShape 11"/>
          <p:cNvCxnSpPr>
            <a:stCxn id="944" idx="3"/>
            <a:endCxn id="945" idx="1"/>
          </p:cNvCxnSpPr>
          <p:nvPr/>
        </p:nvCxnSpPr>
        <p:spPr>
          <a:xfrm flipV="1">
            <a:off x="2268360" y="3933000"/>
            <a:ext cx="504000" cy="793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2" name="AutoShape 12"/>
          <p:cNvCxnSpPr>
            <a:stCxn id="944" idx="3"/>
            <a:endCxn id="947" idx="1"/>
          </p:cNvCxnSpPr>
          <p:nvPr/>
        </p:nvCxnSpPr>
        <p:spPr>
          <a:xfrm>
            <a:off x="2268360" y="4726080"/>
            <a:ext cx="504000" cy="57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3" name="AutoShape 13"/>
          <p:cNvCxnSpPr>
            <a:stCxn id="945" idx="3"/>
            <a:endCxn id="949" idx="1"/>
          </p:cNvCxnSpPr>
          <p:nvPr/>
        </p:nvCxnSpPr>
        <p:spPr>
          <a:xfrm flipV="1">
            <a:off x="4356000" y="3646080"/>
            <a:ext cx="50400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4" name="AutoShape 14"/>
          <p:cNvCxnSpPr>
            <a:stCxn id="945" idx="3"/>
            <a:endCxn id="950" idx="1"/>
          </p:cNvCxnSpPr>
          <p:nvPr/>
        </p:nvCxnSpPr>
        <p:spPr>
          <a:xfrm>
            <a:off x="4356000" y="3933360"/>
            <a:ext cx="504000" cy="10803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5" name="AutoShape 15"/>
          <p:cNvCxnSpPr>
            <a:stCxn id="950" idx="3"/>
            <a:endCxn id="948" idx="1"/>
          </p:cNvCxnSpPr>
          <p:nvPr/>
        </p:nvCxnSpPr>
        <p:spPr>
          <a:xfrm flipV="1">
            <a:off x="6443640" y="4365000"/>
            <a:ext cx="50544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6" name="AutoShape 16"/>
          <p:cNvCxnSpPr>
            <a:stCxn id="950" idx="3"/>
            <a:endCxn id="946" idx="1"/>
          </p:cNvCxnSpPr>
          <p:nvPr/>
        </p:nvCxnSpPr>
        <p:spPr>
          <a:xfrm>
            <a:off x="6443640" y="5013360"/>
            <a:ext cx="505440" cy="504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7" name="Text Box 17"/>
          <p:cNvSpPr/>
          <p:nvPr/>
        </p:nvSpPr>
        <p:spPr>
          <a:xfrm>
            <a:off x="7021800" y="340344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bfd87"/>
                </a:solidFill>
                <a:latin typeface="Arial"/>
              </a:rPr>
              <a:t>Instan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 Box 18"/>
          <p:cNvSpPr/>
          <p:nvPr/>
        </p:nvSpPr>
        <p:spPr>
          <a:xfrm>
            <a:off x="3051000" y="440064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ccff"/>
                </a:solidFill>
                <a:latin typeface="Arial"/>
              </a:rPr>
              <a:t>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Line 19"/>
          <p:cNvSpPr/>
          <p:nvPr/>
        </p:nvSpPr>
        <p:spPr>
          <a:xfrm>
            <a:off x="179280" y="4724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Rectangle 20"/>
          <p:cNvSpPr/>
          <p:nvPr/>
        </p:nvSpPr>
        <p:spPr>
          <a:xfrm>
            <a:off x="4859280" y="3141720"/>
            <a:ext cx="194472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reat Dane: Do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Date Placeholder 5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4695D-6FA7-4861-9B42-7E4EA505592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8580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: inheritance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965" name="Picture 13" descr=""/>
          <p:cNvPicPr/>
          <p:nvPr/>
        </p:nvPicPr>
        <p:blipFill>
          <a:blip r:embed="rId1"/>
          <a:stretch/>
        </p:blipFill>
        <p:spPr>
          <a:xfrm>
            <a:off x="4067280" y="1341360"/>
            <a:ext cx="3400200" cy="251460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5" descr=""/>
          <p:cNvPicPr/>
          <p:nvPr/>
        </p:nvPicPr>
        <p:blipFill>
          <a:blip r:embed="rId2"/>
          <a:stretch/>
        </p:blipFill>
        <p:spPr>
          <a:xfrm>
            <a:off x="826920" y="1341360"/>
            <a:ext cx="2791080" cy="2828880"/>
          </a:xfrm>
          <a:prstGeom prst="rect">
            <a:avLst/>
          </a:prstGeom>
          <a:ln w="0">
            <a:noFill/>
          </a:ln>
        </p:spPr>
      </p:pic>
      <p:sp>
        <p:nvSpPr>
          <p:cNvPr id="967" name="Text Box 16"/>
          <p:cNvSpPr/>
          <p:nvPr/>
        </p:nvSpPr>
        <p:spPr>
          <a:xfrm>
            <a:off x="324000" y="429264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 Box 17"/>
          <p:cNvSpPr/>
          <p:nvPr/>
        </p:nvSpPr>
        <p:spPr>
          <a:xfrm>
            <a:off x="257040" y="4221000"/>
            <a:ext cx="43214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pet←⎕NEW Collie ‘Rex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pet.⎕nl -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Name  Nlegs  Sounds  Ty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pet.(Name Typ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Rex  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anis familiari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9" name="Picture 18" descr=""/>
          <p:cNvPicPr/>
          <p:nvPr/>
        </p:nvPicPr>
        <p:blipFill>
          <a:blip r:embed="rId3"/>
          <a:stretch/>
        </p:blipFill>
        <p:spPr>
          <a:xfrm>
            <a:off x="5580000" y="3068640"/>
            <a:ext cx="3191040" cy="2705040"/>
          </a:xfrm>
          <a:prstGeom prst="rect">
            <a:avLst/>
          </a:prstGeom>
          <a:ln w="0">
            <a:noFill/>
          </a:ln>
        </p:spPr>
      </p:pic>
      <p:sp>
        <p:nvSpPr>
          <p:cNvPr id="970" name="Rectangle 31"/>
          <p:cNvSpPr/>
          <p:nvPr/>
        </p:nvSpPr>
        <p:spPr>
          <a:xfrm>
            <a:off x="2195640" y="3220920"/>
            <a:ext cx="576000" cy="28728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Rectangle 32"/>
          <p:cNvSpPr/>
          <p:nvPr/>
        </p:nvSpPr>
        <p:spPr>
          <a:xfrm>
            <a:off x="5435640" y="2109960"/>
            <a:ext cx="431640" cy="21564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Rectangle 33"/>
          <p:cNvSpPr/>
          <p:nvPr/>
        </p:nvSpPr>
        <p:spPr>
          <a:xfrm>
            <a:off x="6948360" y="3844800"/>
            <a:ext cx="432000" cy="21600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Rectangle 34"/>
          <p:cNvSpPr/>
          <p:nvPr/>
        </p:nvSpPr>
        <p:spPr>
          <a:xfrm>
            <a:off x="324000" y="5084640"/>
            <a:ext cx="4103640" cy="36036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AutoShape 35"/>
          <p:cNvSpPr/>
          <p:nvPr/>
        </p:nvSpPr>
        <p:spPr>
          <a:xfrm>
            <a:off x="2411280" y="1708200"/>
            <a:ext cx="2089440" cy="384120"/>
          </a:xfrm>
          <a:prstGeom prst="leftArrow">
            <a:avLst>
              <a:gd name="adj1" fmla="val 50000"/>
              <a:gd name="adj2" fmla="val 135989"/>
            </a:avLst>
          </a:prstGeom>
          <a:solidFill>
            <a:srgbClr val="790082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AutoShape 36"/>
          <p:cNvSpPr/>
          <p:nvPr/>
        </p:nvSpPr>
        <p:spPr>
          <a:xfrm rot="3022200">
            <a:off x="4621680" y="2540520"/>
            <a:ext cx="1871640" cy="384120"/>
          </a:xfrm>
          <a:prstGeom prst="leftArrow">
            <a:avLst>
              <a:gd name="adj1" fmla="val 50000"/>
              <a:gd name="adj2" fmla="val 121813"/>
            </a:avLst>
          </a:prstGeom>
          <a:solidFill>
            <a:srgbClr val="790082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AutoShape 37"/>
          <p:cNvSpPr/>
          <p:nvPr/>
        </p:nvSpPr>
        <p:spPr>
          <a:xfrm flipH="1" rot="20800200">
            <a:off x="3634920" y="3860280"/>
            <a:ext cx="2376720" cy="384480"/>
          </a:xfrm>
          <a:prstGeom prst="leftArrow">
            <a:avLst>
              <a:gd name="adj1" fmla="val 50000"/>
              <a:gd name="adj2" fmla="val 154541"/>
            </a:avLst>
          </a:prstGeom>
          <a:solidFill>
            <a:srgbClr val="790082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Date Placeholder 5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43332-1FA6-485F-B92F-25442BC7500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80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: inheritance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81" name="Text Box 17"/>
          <p:cNvSpPr/>
          <p:nvPr/>
        </p:nvSpPr>
        <p:spPr>
          <a:xfrm>
            <a:off x="257040" y="4221000"/>
            <a:ext cx="43214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pet←⎕NEW Collie ‘Rex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pet.⎕nl -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Name  Nlegs  Sounds  Ty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pet.(Name Typ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Rex  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anis familiari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Box 17"/>
          <p:cNvSpPr/>
          <p:nvPr/>
        </p:nvSpPr>
        <p:spPr>
          <a:xfrm>
            <a:off x="605880" y="2714760"/>
            <a:ext cx="743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et’s go over this again slowl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Date Placeholder 5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AC346-DD4D-456F-AAC4-A9A6A5856B9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36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: inheritance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987" name="Picture 3" descr=""/>
          <p:cNvPicPr/>
          <p:nvPr/>
        </p:nvPicPr>
        <p:blipFill>
          <a:blip r:embed="rId1"/>
          <a:stretch/>
        </p:blipFill>
        <p:spPr>
          <a:xfrm>
            <a:off x="4067280" y="1341360"/>
            <a:ext cx="3400200" cy="251460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4" descr=""/>
          <p:cNvPicPr/>
          <p:nvPr/>
        </p:nvPicPr>
        <p:blipFill>
          <a:blip r:embed="rId2"/>
          <a:stretch/>
        </p:blipFill>
        <p:spPr>
          <a:xfrm>
            <a:off x="826920" y="1341360"/>
            <a:ext cx="2791080" cy="2828880"/>
          </a:xfrm>
          <a:prstGeom prst="rect">
            <a:avLst/>
          </a:prstGeom>
          <a:ln w="0">
            <a:noFill/>
          </a:ln>
        </p:spPr>
      </p:pic>
      <p:sp>
        <p:nvSpPr>
          <p:cNvPr id="989" name="Text Box 5"/>
          <p:cNvSpPr/>
          <p:nvPr/>
        </p:nvSpPr>
        <p:spPr>
          <a:xfrm>
            <a:off x="324000" y="429264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 Box 6"/>
          <p:cNvSpPr/>
          <p:nvPr/>
        </p:nvSpPr>
        <p:spPr>
          <a:xfrm>
            <a:off x="257040" y="4221000"/>
            <a:ext cx="43214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pet←⎕NEW Collie ‘Rex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pet.⎕nl -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Name  Nlegs  Sounds  Ty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pet.(Name Typ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Rex  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anis familiari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1" name="Picture 7" descr=""/>
          <p:cNvPicPr/>
          <p:nvPr/>
        </p:nvPicPr>
        <p:blipFill>
          <a:blip r:embed="rId3"/>
          <a:stretch/>
        </p:blipFill>
        <p:spPr>
          <a:xfrm>
            <a:off x="5580000" y="3068640"/>
            <a:ext cx="3191040" cy="2705040"/>
          </a:xfrm>
          <a:prstGeom prst="rect">
            <a:avLst/>
          </a:prstGeom>
          <a:ln w="0">
            <a:noFill/>
          </a:ln>
        </p:spPr>
      </p:pic>
      <p:sp>
        <p:nvSpPr>
          <p:cNvPr id="992" name="Rectangle 8"/>
          <p:cNvSpPr/>
          <p:nvPr/>
        </p:nvSpPr>
        <p:spPr>
          <a:xfrm>
            <a:off x="6012000" y="4437000"/>
            <a:ext cx="2663640" cy="36036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9"/>
          <p:cNvSpPr/>
          <p:nvPr/>
        </p:nvSpPr>
        <p:spPr>
          <a:xfrm>
            <a:off x="4500720" y="2421000"/>
            <a:ext cx="2879640" cy="36036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0"/>
          <p:cNvSpPr/>
          <p:nvPr/>
        </p:nvSpPr>
        <p:spPr>
          <a:xfrm>
            <a:off x="1332000" y="2276640"/>
            <a:ext cx="1800000" cy="21564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11"/>
          <p:cNvSpPr/>
          <p:nvPr/>
        </p:nvSpPr>
        <p:spPr>
          <a:xfrm>
            <a:off x="8317080" y="4572000"/>
            <a:ext cx="35856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Oval 12"/>
          <p:cNvSpPr/>
          <p:nvPr/>
        </p:nvSpPr>
        <p:spPr>
          <a:xfrm>
            <a:off x="4951440" y="2233440"/>
            <a:ext cx="431640" cy="289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Oval 13"/>
          <p:cNvSpPr/>
          <p:nvPr/>
        </p:nvSpPr>
        <p:spPr>
          <a:xfrm>
            <a:off x="6804000" y="2492280"/>
            <a:ext cx="576360" cy="358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Oval 14"/>
          <p:cNvSpPr/>
          <p:nvPr/>
        </p:nvSpPr>
        <p:spPr>
          <a:xfrm>
            <a:off x="1590840" y="2070000"/>
            <a:ext cx="100800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Oval 15"/>
          <p:cNvSpPr/>
          <p:nvPr/>
        </p:nvSpPr>
        <p:spPr>
          <a:xfrm>
            <a:off x="6497640" y="4105440"/>
            <a:ext cx="35892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Oval 16"/>
          <p:cNvSpPr/>
          <p:nvPr/>
        </p:nvSpPr>
        <p:spPr>
          <a:xfrm>
            <a:off x="3708360" y="4221000"/>
            <a:ext cx="936720" cy="57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1" name="AutoShape 17"/>
          <p:cNvCxnSpPr>
            <a:stCxn id="1000" idx="7"/>
            <a:endCxn id="999" idx="1"/>
          </p:cNvCxnSpPr>
          <p:nvPr/>
        </p:nvCxnSpPr>
        <p:spPr>
          <a:xfrm flipH="1" flipV="1" rot="5400000">
            <a:off x="5452920" y="3193200"/>
            <a:ext cx="153000" cy="2042280"/>
          </a:xfrm>
          <a:prstGeom prst="curvedConnector5">
            <a:avLst>
              <a:gd name="adj1" fmla="val 271698"/>
              <a:gd name="adj2" fmla="val 50000"/>
              <a:gd name="adj3" fmla="val 271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2" name="AutoShape 18"/>
          <p:cNvCxnSpPr>
            <a:stCxn id="995" idx="1"/>
            <a:endCxn id="996" idx="5"/>
          </p:cNvCxnSpPr>
          <p:nvPr/>
        </p:nvCxnSpPr>
        <p:spPr>
          <a:xfrm flipV="1" rot="16200000">
            <a:off x="5785920" y="2021760"/>
            <a:ext cx="2116800" cy="3050280"/>
          </a:xfrm>
          <a:prstGeom prst="curvedConnector5">
            <a:avLst>
              <a:gd name="adj1" fmla="val 49957"/>
              <a:gd name="adj2" fmla="val 50000"/>
              <a:gd name="adj3" fmla="val 499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3" name="AutoShape 19"/>
          <p:cNvCxnSpPr>
            <a:stCxn id="997" idx="0"/>
            <a:endCxn id="998" idx="0"/>
          </p:cNvCxnSpPr>
          <p:nvPr/>
        </p:nvCxnSpPr>
        <p:spPr>
          <a:xfrm flipV="1" rot="16200000">
            <a:off x="4382640" y="-218520"/>
            <a:ext cx="423000" cy="4998240"/>
          </a:xfrm>
          <a:prstGeom prst="curvedConnector5">
            <a:avLst>
              <a:gd name="adj1" fmla="val 154088"/>
              <a:gd name="adj2" fmla="val 49996"/>
              <a:gd name="adj3" fmla="val 15408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4" name="Straight Arrow Connector 25"/>
          <p:cNvCxnSpPr/>
          <p:nvPr/>
        </p:nvCxnSpPr>
        <p:spPr>
          <a:xfrm flipH="1">
            <a:off x="2069280" y="2428920"/>
            <a:ext cx="2520" cy="286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05" name="Rectangle 26"/>
          <p:cNvSpPr/>
          <p:nvPr/>
        </p:nvSpPr>
        <p:spPr>
          <a:xfrm>
            <a:off x="4500720" y="2857680"/>
            <a:ext cx="785520" cy="3571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6" name="AutoShape 19"/>
          <p:cNvCxnSpPr>
            <a:stCxn id="1005" idx="3"/>
          </p:cNvCxnSpPr>
          <p:nvPr/>
        </p:nvCxnSpPr>
        <p:spPr>
          <a:xfrm>
            <a:off x="5286240" y="3035160"/>
            <a:ext cx="643320" cy="17517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7" name="Rectangle 30"/>
          <p:cNvSpPr/>
          <p:nvPr/>
        </p:nvSpPr>
        <p:spPr>
          <a:xfrm>
            <a:off x="5929200" y="4714920"/>
            <a:ext cx="819360" cy="2858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Rectangle 33"/>
          <p:cNvSpPr/>
          <p:nvPr/>
        </p:nvSpPr>
        <p:spPr>
          <a:xfrm>
            <a:off x="1285920" y="2714760"/>
            <a:ext cx="2143080" cy="3571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9" name="AutoShape 19"/>
          <p:cNvCxnSpPr>
            <a:endCxn id="1005" idx="1"/>
          </p:cNvCxnSpPr>
          <p:nvPr/>
        </p:nvCxnSpPr>
        <p:spPr>
          <a:xfrm>
            <a:off x="3428640" y="2928600"/>
            <a:ext cx="1072440" cy="1069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CF5D1-9D5E-4669-A57D-78C98A558AB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394920" y="566640"/>
            <a:ext cx="8350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: </a:t>
            </a: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Encapsulation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900000" y="1803240"/>
            <a:ext cx="7344000" cy="479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onceals the exact details of how a particular class works from objects that use its cod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allow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acces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o a member there are various access level definition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7064-1E12-40C1-852C-14B933BC248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321840" y="1844640"/>
            <a:ext cx="8713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expose a member you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mus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make it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public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a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property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or a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metho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(function) you must use the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:Access public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tatemen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a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fiel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(var) you must use this statement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	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:Fiel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public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MyFiel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title"/>
          </p:nvPr>
        </p:nvSpPr>
        <p:spPr>
          <a:xfrm>
            <a:off x="394920" y="549000"/>
            <a:ext cx="8350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: </a:t>
            </a: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Encapsulation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ECE45-101F-4844-83AF-689DA3B3D62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250560" y="1630080"/>
            <a:ext cx="3313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class to the right shows a few fields (vars) and their acces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access is the same for methods (fns) and properti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title"/>
          </p:nvPr>
        </p:nvSpPr>
        <p:spPr>
          <a:xfrm>
            <a:off x="394920" y="493560"/>
            <a:ext cx="8350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: </a:t>
            </a: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Encapsulation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1025" name="Group 15"/>
          <p:cNvGrpSpPr/>
          <p:nvPr/>
        </p:nvGrpSpPr>
        <p:grpSpPr>
          <a:xfrm>
            <a:off x="3695760" y="1860480"/>
            <a:ext cx="5268960" cy="4232160"/>
            <a:chOff x="3695760" y="1860480"/>
            <a:chExt cx="5268960" cy="4232160"/>
          </a:xfrm>
        </p:grpSpPr>
        <p:pic>
          <p:nvPicPr>
            <p:cNvPr id="1026" name="Picture 4" descr=""/>
            <p:cNvPicPr/>
            <p:nvPr/>
          </p:nvPicPr>
          <p:blipFill>
            <a:blip r:embed="rId1"/>
            <a:stretch/>
          </p:blipFill>
          <p:spPr>
            <a:xfrm>
              <a:off x="3695760" y="1860480"/>
              <a:ext cx="5268960" cy="423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7" name="Rectangle 7"/>
            <p:cNvSpPr/>
            <p:nvPr/>
          </p:nvSpPr>
          <p:spPr>
            <a:xfrm>
              <a:off x="4716360" y="3371760"/>
              <a:ext cx="36036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Rectangle 8"/>
            <p:cNvSpPr/>
            <p:nvPr/>
          </p:nvSpPr>
          <p:spPr>
            <a:xfrm>
              <a:off x="5508720" y="3589200"/>
              <a:ext cx="303120" cy="21600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Rectangle 9"/>
            <p:cNvSpPr/>
            <p:nvPr/>
          </p:nvSpPr>
          <p:spPr>
            <a:xfrm>
              <a:off x="7308720" y="3805200"/>
              <a:ext cx="36036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Rectangle 10"/>
            <p:cNvSpPr/>
            <p:nvPr/>
          </p:nvSpPr>
          <p:spPr>
            <a:xfrm>
              <a:off x="5508720" y="4020840"/>
              <a:ext cx="303120" cy="21600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Rectangle 11"/>
            <p:cNvSpPr/>
            <p:nvPr/>
          </p:nvSpPr>
          <p:spPr>
            <a:xfrm>
              <a:off x="6227640" y="4236840"/>
              <a:ext cx="303480" cy="21600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Rectangle 12"/>
            <p:cNvSpPr/>
            <p:nvPr/>
          </p:nvSpPr>
          <p:spPr>
            <a:xfrm>
              <a:off x="6227640" y="4452840"/>
              <a:ext cx="30348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Rectangle 13"/>
            <p:cNvSpPr/>
            <p:nvPr/>
          </p:nvSpPr>
          <p:spPr>
            <a:xfrm>
              <a:off x="6227640" y="4668480"/>
              <a:ext cx="303480" cy="21600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Rectangle 14"/>
            <p:cNvSpPr/>
            <p:nvPr/>
          </p:nvSpPr>
          <p:spPr>
            <a:xfrm>
              <a:off x="7913520" y="4865400"/>
              <a:ext cx="303480" cy="21600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4FE85-C235-4355-BD76-7537C53BC33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/>
          </p:nvPr>
        </p:nvSpPr>
        <p:spPr>
          <a:xfrm>
            <a:off x="936720" y="1977840"/>
            <a:ext cx="7488000" cy="36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Shared vs instan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ch instance gets a copy of each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instanc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member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a </a:t>
            </a:r>
            <a:r>
              <a:rPr b="0" i="1" lang="en-GB" sz="3200" spc="-1" strike="noStrike">
                <a:solidFill>
                  <a:srgbClr val="000000"/>
                </a:solidFill>
                <a:latin typeface="Geneva"/>
              </a:rPr>
              <a:t>member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s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share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t is kept in the class for all instances to see (and use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title"/>
          </p:nvPr>
        </p:nvSpPr>
        <p:spPr>
          <a:xfrm>
            <a:off x="394920" y="566640"/>
            <a:ext cx="8350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: </a:t>
            </a: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Encapsulation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1642680"/>
            <a:ext cx="777240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The workspace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ontains everything needed to run an applica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an be initialized (via []LX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441CC-B230-4AFB-A9F6-06A02E40F42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615960" y="3319560"/>
            <a:ext cx="5813280" cy="5713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986C1-9795-4467-9960-6BF2F6C0B81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609120" y="1773000"/>
            <a:ext cx="821052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Shared vs instan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xample: keepCoun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Here each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instanc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has its own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privat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D and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public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am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class keeps track of the number of instances created privatel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title"/>
          </p:nvPr>
        </p:nvSpPr>
        <p:spPr>
          <a:xfrm>
            <a:off x="394920" y="566640"/>
            <a:ext cx="8350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: </a:t>
            </a: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Encapsulation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F3EB3-1356-4580-9C9D-18FC3612255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1"/>
          <p:cNvSpPr>
            <a:spLocks noGrp="1"/>
          </p:cNvSpPr>
          <p:nvPr>
            <p:ph/>
          </p:nvPr>
        </p:nvSpPr>
        <p:spPr>
          <a:xfrm>
            <a:off x="394920" y="1588680"/>
            <a:ext cx="4824360" cy="83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Shared vs instan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49" name="Rectangle 4"/>
          <p:cNvSpPr/>
          <p:nvPr/>
        </p:nvSpPr>
        <p:spPr>
          <a:xfrm>
            <a:off x="3562200" y="2565360"/>
            <a:ext cx="194472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eepCoun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nt←0,1,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MyID MyNam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Text Box 5"/>
          <p:cNvSpPr/>
          <p:nvPr/>
        </p:nvSpPr>
        <p:spPr>
          <a:xfrm>
            <a:off x="1137600" y="2462040"/>
            <a:ext cx="227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'Count' remai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e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Rectangle 6"/>
          <p:cNvSpPr/>
          <p:nvPr/>
        </p:nvSpPr>
        <p:spPr>
          <a:xfrm>
            <a:off x="1042920" y="4510080"/>
            <a:ext cx="1944720" cy="1295280"/>
          </a:xfrm>
          <a:prstGeom prst="rect">
            <a:avLst/>
          </a:prstGeom>
          <a:solidFill>
            <a:srgbClr val="8fff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Cou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MyID=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yName=XYZ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Rectangle 7"/>
          <p:cNvSpPr/>
          <p:nvPr/>
        </p:nvSpPr>
        <p:spPr>
          <a:xfrm>
            <a:off x="3562200" y="4510080"/>
            <a:ext cx="1944720" cy="1295280"/>
          </a:xfrm>
          <a:prstGeom prst="rect">
            <a:avLst/>
          </a:prstGeom>
          <a:solidFill>
            <a:srgbClr val="8fff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Cou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MyID=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yName=XYZ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Text Box 9"/>
          <p:cNvSpPr/>
          <p:nvPr/>
        </p:nvSpPr>
        <p:spPr>
          <a:xfrm>
            <a:off x="5900040" y="3033720"/>
            <a:ext cx="277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tance member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e created in t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t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4" name="AutoShape 10"/>
          <p:cNvCxnSpPr>
            <a:stCxn id="1049" idx="2"/>
            <a:endCxn id="1051" idx="0"/>
          </p:cNvCxnSpPr>
          <p:nvPr/>
        </p:nvCxnSpPr>
        <p:spPr>
          <a:xfrm flipH="1">
            <a:off x="2015280" y="3860640"/>
            <a:ext cx="2520360" cy="650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055" name="AutoShape 11"/>
          <p:cNvCxnSpPr>
            <a:stCxn id="1049" idx="2"/>
            <a:endCxn id="1052" idx="0"/>
          </p:cNvCxnSpPr>
          <p:nvPr/>
        </p:nvCxnSpPr>
        <p:spPr>
          <a:xfrm>
            <a:off x="4535280" y="3860640"/>
            <a:ext cx="1080" cy="650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056" name="AutoShape 12"/>
          <p:cNvCxnSpPr>
            <a:stCxn id="1049" idx="2"/>
            <a:endCxn id="1057" idx="0"/>
          </p:cNvCxnSpPr>
          <p:nvPr/>
        </p:nvCxnSpPr>
        <p:spPr>
          <a:xfrm>
            <a:off x="4535280" y="3860640"/>
            <a:ext cx="2523240" cy="6483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058" name="PlaceHolder 2"/>
          <p:cNvSpPr>
            <a:spLocks noGrp="1"/>
          </p:cNvSpPr>
          <p:nvPr>
            <p:ph type="title"/>
          </p:nvPr>
        </p:nvSpPr>
        <p:spPr>
          <a:xfrm>
            <a:off x="394920" y="566640"/>
            <a:ext cx="8350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: </a:t>
            </a: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Encapsulation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57" name="Rectangle 15"/>
          <p:cNvSpPr/>
          <p:nvPr/>
        </p:nvSpPr>
        <p:spPr>
          <a:xfrm>
            <a:off x="6084720" y="4508640"/>
            <a:ext cx="1944720" cy="1295280"/>
          </a:xfrm>
          <a:prstGeom prst="rect">
            <a:avLst/>
          </a:prstGeom>
          <a:solidFill>
            <a:srgbClr val="8fff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Cou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MyID=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yName=XYZ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5710D-EBD6-4618-ADD6-495577EFCD6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4464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Shared vs instan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 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in1←⎕new keepCount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I am XYZ1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      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in2←⎕new keepCount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I am XYZ2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      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in3←⎕new keepCount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I am XYZ3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      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keepCount.Count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3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      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keepCount.⎕nl-2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 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Count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      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in2.⎕nl-2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 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Count  MyName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      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in1.Count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3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title"/>
          </p:nvPr>
        </p:nvSpPr>
        <p:spPr>
          <a:xfrm>
            <a:off x="394920" y="566640"/>
            <a:ext cx="8350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: </a:t>
            </a: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Encapsulation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1064" name="Group 10"/>
          <p:cNvGrpSpPr/>
          <p:nvPr/>
        </p:nvGrpSpPr>
        <p:grpSpPr>
          <a:xfrm>
            <a:off x="5035680" y="1460520"/>
            <a:ext cx="3929040" cy="4751280"/>
            <a:chOff x="5035680" y="1460520"/>
            <a:chExt cx="3929040" cy="4751280"/>
          </a:xfrm>
        </p:grpSpPr>
        <p:pic>
          <p:nvPicPr>
            <p:cNvPr id="1065" name="Picture 5" descr=""/>
            <p:cNvPicPr/>
            <p:nvPr/>
          </p:nvPicPr>
          <p:blipFill>
            <a:blip r:embed="rId1"/>
            <a:stretch/>
          </p:blipFill>
          <p:spPr>
            <a:xfrm>
              <a:off x="5035680" y="1460520"/>
              <a:ext cx="3929040" cy="475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6" name="Rectangle 6"/>
            <p:cNvSpPr/>
            <p:nvPr/>
          </p:nvSpPr>
          <p:spPr>
            <a:xfrm>
              <a:off x="6162840" y="2520720"/>
              <a:ext cx="201600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Rectangle 7"/>
            <p:cNvSpPr/>
            <p:nvPr/>
          </p:nvSpPr>
          <p:spPr>
            <a:xfrm>
              <a:off x="5683320" y="4339800"/>
              <a:ext cx="57636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Rectangle 8"/>
            <p:cNvSpPr/>
            <p:nvPr/>
          </p:nvSpPr>
          <p:spPr>
            <a:xfrm>
              <a:off x="6188040" y="3116160"/>
              <a:ext cx="2374920" cy="21528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Rectangle 9"/>
            <p:cNvSpPr/>
            <p:nvPr/>
          </p:nvSpPr>
          <p:spPr>
            <a:xfrm>
              <a:off x="5683320" y="4700160"/>
              <a:ext cx="647640" cy="28728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E05B5-8C91-4AE6-BF04-89695847FE1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1"/>
          <p:cNvSpPr>
            <a:spLocks noGrp="1"/>
          </p:cNvSpPr>
          <p:nvPr>
            <p:ph/>
          </p:nvPr>
        </p:nvSpPr>
        <p:spPr>
          <a:xfrm>
            <a:off x="323640" y="1844280"/>
            <a:ext cx="8065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APL a function CANNOT have different definitions using a single nam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TOH, a constructor MAY have several definition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ince APL is typeless the only way to tell which function to use is by the NUMBER of arguments, from 0 (niladic) to any number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 type="title"/>
          </p:nvPr>
        </p:nvSpPr>
        <p:spPr>
          <a:xfrm>
            <a:off x="144360" y="566640"/>
            <a:ext cx="9036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</a:t>
            </a: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Polymorphis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/>
          </p:nvPr>
        </p:nvSpPr>
        <p:spPr>
          <a:xfrm>
            <a:off x="5363640" y="1483920"/>
            <a:ext cx="3025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:Class manyCtors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∇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general x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⍝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This ctor any arg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⍝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It can be anything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:Implements constructor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:Access public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∇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∇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nil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⍝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This ctor takes no arg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:Implements constructor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:Access public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∇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∇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mon1(a1)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⍝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This ctor takes 1 arg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⍝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It MUST be a vector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:Implements constructor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:Access public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∇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∇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mon5(a1 a2 a3 a4 a5)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⍝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This ctor takes 5 arg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⍝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It MUST be exactly 5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:Implements constructor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:Access public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∇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:EndClass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7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1951F-CB65-4F42-9984-CAB6A852C31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title"/>
          </p:nvPr>
        </p:nvSpPr>
        <p:spPr>
          <a:xfrm>
            <a:off x="144360" y="566640"/>
            <a:ext cx="9036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</a:t>
            </a: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Polymorphis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80" name="Text Box 4"/>
          <p:cNvSpPr/>
          <p:nvPr/>
        </p:nvSpPr>
        <p:spPr>
          <a:xfrm>
            <a:off x="395280" y="1892160"/>
            <a:ext cx="468144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pending on the number of arguments, the proper fn will be used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1" name="Group 16"/>
          <p:cNvGrpSpPr/>
          <p:nvPr/>
        </p:nvGrpSpPr>
        <p:grpSpPr>
          <a:xfrm>
            <a:off x="5715000" y="1857240"/>
            <a:ext cx="2655720" cy="4214880"/>
            <a:chOff x="5715000" y="1857240"/>
            <a:chExt cx="2655720" cy="4214880"/>
          </a:xfrm>
        </p:grpSpPr>
        <p:sp>
          <p:nvSpPr>
            <p:cNvPr id="1082" name="Rectangle 5"/>
            <p:cNvSpPr/>
            <p:nvPr/>
          </p:nvSpPr>
          <p:spPr>
            <a:xfrm>
              <a:off x="5838840" y="2420640"/>
              <a:ext cx="237708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Rectangle 6"/>
            <p:cNvSpPr/>
            <p:nvPr/>
          </p:nvSpPr>
          <p:spPr>
            <a:xfrm>
              <a:off x="5838840" y="3328920"/>
              <a:ext cx="237708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Rectangle 7"/>
            <p:cNvSpPr/>
            <p:nvPr/>
          </p:nvSpPr>
          <p:spPr>
            <a:xfrm>
              <a:off x="5838840" y="4417920"/>
              <a:ext cx="237708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Rectangle 8"/>
            <p:cNvSpPr/>
            <p:nvPr/>
          </p:nvSpPr>
          <p:spPr>
            <a:xfrm>
              <a:off x="5838840" y="5497560"/>
              <a:ext cx="2377080" cy="2174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Rectangle 11"/>
            <p:cNvSpPr/>
            <p:nvPr/>
          </p:nvSpPr>
          <p:spPr>
            <a:xfrm>
              <a:off x="5715000" y="1857240"/>
              <a:ext cx="2643840" cy="421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Straight Connector 13"/>
            <p:cNvSpPr/>
            <p:nvPr/>
          </p:nvSpPr>
          <p:spPr>
            <a:xfrm>
              <a:off x="5715000" y="2948040"/>
              <a:ext cx="2643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Straight Connector 14"/>
            <p:cNvSpPr/>
            <p:nvPr/>
          </p:nvSpPr>
          <p:spPr>
            <a:xfrm>
              <a:off x="5715000" y="3857400"/>
              <a:ext cx="2643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Straight Connector 15"/>
            <p:cNvSpPr/>
            <p:nvPr/>
          </p:nvSpPr>
          <p:spPr>
            <a:xfrm>
              <a:off x="5726880" y="4967640"/>
              <a:ext cx="2643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1C666-390B-4E14-8923-6F6254FD1C1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summary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061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yalog follows C# rules closel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ED to edit class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lasses are much like namespac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ir members (vars &amp; fns) can all be accessed using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public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cces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EW makes an instan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lasses can be based on another on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use constructors to initialize the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106E3-04DF-40C9-832A-9DA6B82E9D0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971280" y="609120"/>
            <a:ext cx="683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nd of implementat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714240" y="1933560"/>
            <a:ext cx="778680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ere are MANY other things related to OO that have been implemented but are out of the scope of this presentati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o find more visit Dyalog’s website at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Geneva"/>
                <a:hlinkClick r:id="rId1"/>
              </a:rPr>
              <a:t>www.dyalog.com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and grab the free documentati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CEDAD-0A53-4E7B-B781-E41FC163D43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971280" y="609120"/>
            <a:ext cx="683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nd of implementat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3131640" y="2719440"/>
            <a:ext cx="2590920" cy="277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QUEST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5360" indent="0" algn="ctr"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200" spc="-1" strike="noStrike">
                <a:solidFill>
                  <a:srgbClr val="333333"/>
                </a:solidFill>
                <a:latin typeface="Geneva"/>
              </a:rPr>
              <a:t>?</a:t>
            </a:r>
            <a:endParaRPr b="0" lang="en-US" sz="1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C2DBF-8B79-4C96-94F6-3C902E7B879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hoice of exercise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imple </a:t>
            </a:r>
            <a:r>
              <a:rPr b="0" lang="en-GB" sz="3200" spc="-1" strike="noStrike" u="sng">
                <a:solidFill>
                  <a:srgbClr val="009999"/>
                </a:solidFill>
                <a:uFillTx/>
                <a:latin typeface="Geneva"/>
                <a:hlinkClick r:id="rId1" action="ppaction://hlinksldjump"/>
              </a:rPr>
              <a:t>numb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mplex </a:t>
            </a:r>
            <a:r>
              <a:rPr b="0" lang="en-GB" sz="3200" spc="-1" strike="noStrike" u="sng">
                <a:solidFill>
                  <a:srgbClr val="009999"/>
                </a:solidFill>
                <a:uFillTx/>
                <a:latin typeface="Geneva"/>
                <a:hlinkClick r:id="rId2" action="ppaction://hlinksldjump"/>
              </a:rPr>
              <a:t>numb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Parse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Pre formatted </a:t>
            </a:r>
            <a:r>
              <a:rPr b="0" lang="en-GB" sz="3200" spc="-1" strike="noStrike" u="sng">
                <a:solidFill>
                  <a:srgbClr val="009999"/>
                </a:solidFill>
                <a:uFillTx/>
                <a:latin typeface="Geneva"/>
                <a:hlinkClick r:id="rId3" action="ppaction://hlinksldjump"/>
              </a:rPr>
              <a:t>form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Graphical objec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elnet clien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10" name="Rectangle 6">
            <a:hlinkClick r:id="rId4" action="ppaction://hlinksldjump"/>
          </p:cNvPr>
          <p:cNvSpPr/>
          <p:nvPr/>
        </p:nvSpPr>
        <p:spPr>
          <a:xfrm>
            <a:off x="6357960" y="5429160"/>
            <a:ext cx="1785960" cy="571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81D82-2BF1-4099-9C40-D4C433C9E2A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3567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 – Preformatted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eriving from Dyalog GUI class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Besides classes you can write classes derived fro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m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LE servers/control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Net class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1642680"/>
            <a:ext cx="777240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The workspace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an be initialized (via []LX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an be viewed as an objec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346E4-D2E4-427A-932E-606C3CBD8A6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1428840" y="3500280"/>
            <a:ext cx="6357960" cy="267516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8"/>
          <p:cNvSpPr/>
          <p:nvPr/>
        </p:nvSpPr>
        <p:spPr>
          <a:xfrm>
            <a:off x="642960" y="2857680"/>
            <a:ext cx="5929200" cy="5713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F1C54-F198-46D8-8B1E-E54999CE318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3567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 – Preformatted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x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1←⎕new 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'form'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(('caption' 'zzz')('size'(100 200))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XL←⎕new 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'oleclient'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(⊂'classname' 'Excel.application'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ing←''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present←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System.DateTime.Now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9665D-0403-48B1-B455-A02E80DC9F8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3567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 – Preformatted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need to write a class that will create a form, just lik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1←⎕new 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'form'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(('caption' 'zzz')('size'(100 200))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But with 2 buttons already setup for SAVE and QUIT so we can do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1←⎕new 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myForm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((…)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FCA86-218C-403A-AFAF-33B92A510BD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3567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 – Preformatted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130" name="Picture 2" descr=""/>
          <p:cNvPicPr/>
          <p:nvPr/>
        </p:nvPicPr>
        <p:blipFill>
          <a:blip r:embed="rId1"/>
          <a:stretch/>
        </p:blipFill>
        <p:spPr>
          <a:xfrm>
            <a:off x="1390680" y="1657440"/>
            <a:ext cx="6362640" cy="4629240"/>
          </a:xfrm>
          <a:prstGeom prst="rect">
            <a:avLst/>
          </a:prstGeom>
          <a:ln w="0">
            <a:noFill/>
          </a:ln>
        </p:spPr>
      </p:pic>
      <p:sp>
        <p:nvSpPr>
          <p:cNvPr id="1131" name="Oval 6"/>
          <p:cNvSpPr/>
          <p:nvPr/>
        </p:nvSpPr>
        <p:spPr>
          <a:xfrm>
            <a:off x="4010040" y="3857760"/>
            <a:ext cx="1133640" cy="407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C434B-9E80-4976-B598-DDE653DCC10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3567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 – Preformatted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36" name="TextBox 6"/>
          <p:cNvSpPr/>
          <p:nvPr/>
        </p:nvSpPr>
        <p:spPr>
          <a:xfrm>
            <a:off x="627480" y="2000160"/>
            <a:ext cx="76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1←⎕new Dialog(‘pref form' (100 500) ⍬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1"/>
          <a:stretch/>
        </p:blipFill>
        <p:spPr>
          <a:xfrm>
            <a:off x="1714680" y="3071880"/>
            <a:ext cx="573696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1EA2B-2FA9-4FB2-B968-506348FCC40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3567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 – Preformatted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1"/>
          <a:stretch/>
        </p:blipFill>
        <p:spPr>
          <a:xfrm>
            <a:off x="428760" y="2786040"/>
            <a:ext cx="8288280" cy="2857680"/>
          </a:xfrm>
          <a:prstGeom prst="rect">
            <a:avLst/>
          </a:prstGeom>
          <a:ln w="0">
            <a:noFill/>
          </a:ln>
        </p:spPr>
      </p:pic>
      <p:sp>
        <p:nvSpPr>
          <p:cNvPr id="1143" name="TextBox 8"/>
          <p:cNvSpPr/>
          <p:nvPr/>
        </p:nvSpPr>
        <p:spPr>
          <a:xfrm>
            <a:off x="598320" y="1857240"/>
            <a:ext cx="607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class creates an edit objec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Oval 9"/>
          <p:cNvSpPr/>
          <p:nvPr/>
        </p:nvSpPr>
        <p:spPr>
          <a:xfrm>
            <a:off x="3795840" y="4021200"/>
            <a:ext cx="5000400" cy="500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585B4-9A2D-4978-8C0D-5D430EF6C30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3567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 – Preformatted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49" name="TextBox 6"/>
          <p:cNvSpPr/>
          <p:nvPr/>
        </p:nvSpPr>
        <p:spPr>
          <a:xfrm>
            <a:off x="183960" y="1571760"/>
            <a:ext cx="88660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1←⎕new Dialog('pref form' (200 300) ⍬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1.fn←f1.⎕new EditField ('First name:' '' (10 60) (⍬ 100) ⍬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1.ln←f1.⎕new EditField ('Last name:' '' (38 60) (⍬ 100) ⍬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1.ad←f1.⎕new EditField ('Address:' '' (66 60) (90 230) (⊂'style' 'multi')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1.(fn ln ad).Text←'Jeremy' 'Cricket'('TopFlower' 'last field'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0" name="Picture 2" descr=""/>
          <p:cNvPicPr/>
          <p:nvPr/>
        </p:nvPicPr>
        <p:blipFill>
          <a:blip r:embed="rId1">
            <a:alphaModFix amt="26000"/>
          </a:blip>
          <a:stretch/>
        </p:blipFill>
        <p:spPr>
          <a:xfrm>
            <a:off x="2286000" y="3360600"/>
            <a:ext cx="4714920" cy="348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8C0A5-E7BB-44DE-8026-FD3142D1F1F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mprovemen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e an interfa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Geneva"/>
                <a:hlinkClick r:id="rId1" action="ppaction://hlinksldjump"/>
              </a:rPr>
              <a:t>Back to exercise choic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1A9A7-2FF2-4635-A3B0-84310D8BBAA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2840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 – Complex number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01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reate a class to do complex math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rational or “normal number” is a decimal number that can be viewed on the line of “real” number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-10                     -5                       0                     </a:t>
            </a:r>
            <a:r>
              <a:rPr b="0" lang="en-GB" sz="2800" spc="-1" strike="noStrike">
                <a:solidFill>
                  <a:srgbClr val="ff0000"/>
                </a:solidFill>
                <a:latin typeface="Geneva"/>
              </a:rPr>
              <a:t>+5.3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              +10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1161" name="Group 47"/>
          <p:cNvGrpSpPr/>
          <p:nvPr/>
        </p:nvGrpSpPr>
        <p:grpSpPr>
          <a:xfrm>
            <a:off x="785880" y="4925880"/>
            <a:ext cx="7787160" cy="146160"/>
            <a:chOff x="785880" y="4925880"/>
            <a:chExt cx="7787160" cy="146160"/>
          </a:xfrm>
        </p:grpSpPr>
        <p:cxnSp>
          <p:nvCxnSpPr>
            <p:cNvPr id="1162" name="Straight Arrow Connector 7"/>
            <p:cNvCxnSpPr/>
            <p:nvPr/>
          </p:nvCxnSpPr>
          <p:spPr>
            <a:xfrm>
              <a:off x="785880" y="4999680"/>
              <a:ext cx="77875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1163" name="Straight Connector 10"/>
            <p:cNvSpPr/>
            <p:nvPr/>
          </p:nvSpPr>
          <p:spPr>
            <a:xfrm flipH="1">
              <a:off x="4642920" y="492876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Straight Connector 11"/>
            <p:cNvSpPr/>
            <p:nvPr/>
          </p:nvSpPr>
          <p:spPr>
            <a:xfrm flipH="1">
              <a:off x="5000760" y="492804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Straight Connector 12"/>
            <p:cNvSpPr/>
            <p:nvPr/>
          </p:nvSpPr>
          <p:spPr>
            <a:xfrm flipH="1">
              <a:off x="5355720" y="492804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Straight Connector 13"/>
            <p:cNvSpPr/>
            <p:nvPr/>
          </p:nvSpPr>
          <p:spPr>
            <a:xfrm flipH="1">
              <a:off x="5713560" y="492732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Straight Connector 14"/>
            <p:cNvSpPr/>
            <p:nvPr/>
          </p:nvSpPr>
          <p:spPr>
            <a:xfrm flipH="1">
              <a:off x="6071760" y="492804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Straight Connector 15"/>
            <p:cNvSpPr/>
            <p:nvPr/>
          </p:nvSpPr>
          <p:spPr>
            <a:xfrm flipH="1">
              <a:off x="6429600" y="492732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Straight Connector 16"/>
            <p:cNvSpPr/>
            <p:nvPr/>
          </p:nvSpPr>
          <p:spPr>
            <a:xfrm flipH="1">
              <a:off x="6784560" y="492732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Straight Connector 17"/>
            <p:cNvSpPr/>
            <p:nvPr/>
          </p:nvSpPr>
          <p:spPr>
            <a:xfrm flipH="1">
              <a:off x="7142400" y="492660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Straight Connector 32"/>
            <p:cNvSpPr/>
            <p:nvPr/>
          </p:nvSpPr>
          <p:spPr>
            <a:xfrm flipH="1">
              <a:off x="1785960" y="492804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Straight Connector 33"/>
            <p:cNvSpPr/>
            <p:nvPr/>
          </p:nvSpPr>
          <p:spPr>
            <a:xfrm flipH="1">
              <a:off x="2143800" y="492732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Straight Connector 34"/>
            <p:cNvSpPr/>
            <p:nvPr/>
          </p:nvSpPr>
          <p:spPr>
            <a:xfrm flipH="1">
              <a:off x="2498760" y="492732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Straight Connector 35"/>
            <p:cNvSpPr/>
            <p:nvPr/>
          </p:nvSpPr>
          <p:spPr>
            <a:xfrm flipH="1">
              <a:off x="2856600" y="492660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Straight Connector 36"/>
            <p:cNvSpPr/>
            <p:nvPr/>
          </p:nvSpPr>
          <p:spPr>
            <a:xfrm flipH="1">
              <a:off x="3214800" y="492732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Straight Connector 37"/>
            <p:cNvSpPr/>
            <p:nvPr/>
          </p:nvSpPr>
          <p:spPr>
            <a:xfrm flipH="1">
              <a:off x="3572640" y="492660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Straight Connector 38"/>
            <p:cNvSpPr/>
            <p:nvPr/>
          </p:nvSpPr>
          <p:spPr>
            <a:xfrm flipH="1">
              <a:off x="3927600" y="492660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Straight Connector 39"/>
            <p:cNvSpPr/>
            <p:nvPr/>
          </p:nvSpPr>
          <p:spPr>
            <a:xfrm flipH="1">
              <a:off x="4285440" y="492588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Straight Connector 40"/>
            <p:cNvSpPr/>
            <p:nvPr/>
          </p:nvSpPr>
          <p:spPr>
            <a:xfrm flipH="1">
              <a:off x="1428840" y="492804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Straight Connector 41"/>
            <p:cNvSpPr/>
            <p:nvPr/>
          </p:nvSpPr>
          <p:spPr>
            <a:xfrm flipH="1">
              <a:off x="7501320" y="492804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Straight Connector 42"/>
            <p:cNvSpPr/>
            <p:nvPr/>
          </p:nvSpPr>
          <p:spPr>
            <a:xfrm flipH="1">
              <a:off x="7858440" y="492804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Straight Connector 43"/>
            <p:cNvSpPr/>
            <p:nvPr/>
          </p:nvSpPr>
          <p:spPr>
            <a:xfrm flipH="1">
              <a:off x="8214120" y="492804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Straight Connector 44"/>
            <p:cNvSpPr/>
            <p:nvPr/>
          </p:nvSpPr>
          <p:spPr>
            <a:xfrm flipH="1">
              <a:off x="1071360" y="492804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4" name="Oval 48"/>
          <p:cNvSpPr/>
          <p:nvPr/>
        </p:nvSpPr>
        <p:spPr>
          <a:xfrm>
            <a:off x="6429240" y="4857840"/>
            <a:ext cx="285840" cy="285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0815B-9CE4-43E5-A699-DA3DB4B2D66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24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285480" y="1671120"/>
            <a:ext cx="378612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complex numbe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18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s a number in th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18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mplex plan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18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2 rational numb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18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re used to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18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represent i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1190" name="Group 99"/>
          <p:cNvGrpSpPr/>
          <p:nvPr/>
        </p:nvGrpSpPr>
        <p:grpSpPr>
          <a:xfrm>
            <a:off x="1734120" y="1455480"/>
            <a:ext cx="6338520" cy="5045400"/>
            <a:chOff x="1734120" y="1455480"/>
            <a:chExt cx="6338520" cy="5045400"/>
          </a:xfrm>
        </p:grpSpPr>
        <p:grpSp>
          <p:nvGrpSpPr>
            <p:cNvPr id="1191" name="Group 28"/>
            <p:cNvGrpSpPr/>
            <p:nvPr/>
          </p:nvGrpSpPr>
          <p:grpSpPr>
            <a:xfrm>
              <a:off x="2143080" y="5315400"/>
              <a:ext cx="5929560" cy="142560"/>
              <a:chOff x="2143080" y="5315400"/>
              <a:chExt cx="5929560" cy="142560"/>
            </a:xfrm>
          </p:grpSpPr>
          <p:cxnSp>
            <p:nvCxnSpPr>
              <p:cNvPr id="1192" name="Straight Arrow Connector 29"/>
              <p:cNvCxnSpPr/>
              <p:nvPr/>
            </p:nvCxnSpPr>
            <p:spPr>
              <a:xfrm>
                <a:off x="2143080" y="5387400"/>
                <a:ext cx="592992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</p:cxnSp>
          <p:sp>
            <p:nvSpPr>
              <p:cNvPr id="1193" name="Straight Connector 30"/>
              <p:cNvSpPr/>
              <p:nvPr/>
            </p:nvSpPr>
            <p:spPr>
              <a:xfrm flipH="1">
                <a:off x="5079600" y="531828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Straight Connector 31"/>
              <p:cNvSpPr/>
              <p:nvPr/>
            </p:nvSpPr>
            <p:spPr>
              <a:xfrm flipH="1">
                <a:off x="5352120" y="531756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Straight Connector 45"/>
              <p:cNvSpPr/>
              <p:nvPr/>
            </p:nvSpPr>
            <p:spPr>
              <a:xfrm flipH="1">
                <a:off x="5622480" y="531756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Straight Connector 46"/>
              <p:cNvSpPr/>
              <p:nvPr/>
            </p:nvSpPr>
            <p:spPr>
              <a:xfrm flipH="1">
                <a:off x="5895000" y="531684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Straight Connector 47"/>
              <p:cNvSpPr/>
              <p:nvPr/>
            </p:nvSpPr>
            <p:spPr>
              <a:xfrm flipH="1">
                <a:off x="6167520" y="531756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Straight Connector 48"/>
              <p:cNvSpPr/>
              <p:nvPr/>
            </p:nvSpPr>
            <p:spPr>
              <a:xfrm flipH="1">
                <a:off x="6440040" y="531684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Straight Connector 49"/>
              <p:cNvSpPr/>
              <p:nvPr/>
            </p:nvSpPr>
            <p:spPr>
              <a:xfrm flipH="1">
                <a:off x="6710400" y="531684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Straight Connector 50"/>
              <p:cNvSpPr/>
              <p:nvPr/>
            </p:nvSpPr>
            <p:spPr>
              <a:xfrm flipH="1">
                <a:off x="6982920" y="531612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Straight Connector 51"/>
              <p:cNvSpPr/>
              <p:nvPr/>
            </p:nvSpPr>
            <p:spPr>
              <a:xfrm flipH="1">
                <a:off x="2904120" y="531756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Straight Connector 52"/>
              <p:cNvSpPr/>
              <p:nvPr/>
            </p:nvSpPr>
            <p:spPr>
              <a:xfrm flipH="1">
                <a:off x="3176640" y="531684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Straight Connector 53"/>
              <p:cNvSpPr/>
              <p:nvPr/>
            </p:nvSpPr>
            <p:spPr>
              <a:xfrm flipH="1">
                <a:off x="3447000" y="531684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Straight Connector 54"/>
              <p:cNvSpPr/>
              <p:nvPr/>
            </p:nvSpPr>
            <p:spPr>
              <a:xfrm flipH="1">
                <a:off x="3719520" y="531612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Straight Connector 55"/>
              <p:cNvSpPr/>
              <p:nvPr/>
            </p:nvSpPr>
            <p:spPr>
              <a:xfrm flipH="1">
                <a:off x="3992040" y="531684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Straight Connector 56"/>
              <p:cNvSpPr/>
              <p:nvPr/>
            </p:nvSpPr>
            <p:spPr>
              <a:xfrm flipH="1">
                <a:off x="4264560" y="531612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Straight Connector 57"/>
              <p:cNvSpPr/>
              <p:nvPr/>
            </p:nvSpPr>
            <p:spPr>
              <a:xfrm flipH="1">
                <a:off x="4534920" y="531612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Straight Connector 58"/>
              <p:cNvSpPr/>
              <p:nvPr/>
            </p:nvSpPr>
            <p:spPr>
              <a:xfrm flipH="1">
                <a:off x="4807440" y="531540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Straight Connector 59"/>
              <p:cNvSpPr/>
              <p:nvPr/>
            </p:nvSpPr>
            <p:spPr>
              <a:xfrm flipH="1">
                <a:off x="2631960" y="531756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Straight Connector 60"/>
              <p:cNvSpPr/>
              <p:nvPr/>
            </p:nvSpPr>
            <p:spPr>
              <a:xfrm flipH="1">
                <a:off x="7256160" y="531756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Straight Connector 61"/>
              <p:cNvSpPr/>
              <p:nvPr/>
            </p:nvSpPr>
            <p:spPr>
              <a:xfrm flipH="1">
                <a:off x="7527960" y="531756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Straight Connector 62"/>
              <p:cNvSpPr/>
              <p:nvPr/>
            </p:nvSpPr>
            <p:spPr>
              <a:xfrm flipH="1">
                <a:off x="7799040" y="531756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Straight Connector 63"/>
              <p:cNvSpPr/>
              <p:nvPr/>
            </p:nvSpPr>
            <p:spPr>
              <a:xfrm flipH="1">
                <a:off x="2360160" y="531756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4" name="Group 64"/>
            <p:cNvGrpSpPr/>
            <p:nvPr/>
          </p:nvGrpSpPr>
          <p:grpSpPr>
            <a:xfrm>
              <a:off x="4439880" y="1455480"/>
              <a:ext cx="189360" cy="5045400"/>
              <a:chOff x="4439880" y="1455480"/>
              <a:chExt cx="189360" cy="5045400"/>
            </a:xfrm>
          </p:grpSpPr>
          <p:cxnSp>
            <p:nvCxnSpPr>
              <p:cNvPr id="1215" name="Straight Arrow Connector 65"/>
              <p:cNvCxnSpPr/>
              <p:nvPr/>
            </p:nvCxnSpPr>
            <p:spPr>
              <a:xfrm flipV="1">
                <a:off x="4535280" y="1455480"/>
                <a:ext cx="2520" cy="5045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</p:cxnSp>
          <p:sp>
            <p:nvSpPr>
              <p:cNvPr id="1216" name="Straight Connector 66"/>
              <p:cNvSpPr/>
              <p:nvPr/>
            </p:nvSpPr>
            <p:spPr>
              <a:xfrm>
                <a:off x="4443840" y="400140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Straight Connector 67"/>
              <p:cNvSpPr/>
              <p:nvPr/>
            </p:nvSpPr>
            <p:spPr>
              <a:xfrm>
                <a:off x="4442760" y="376920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Straight Connector 68"/>
              <p:cNvSpPr/>
              <p:nvPr/>
            </p:nvSpPr>
            <p:spPr>
              <a:xfrm>
                <a:off x="4442760" y="353952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Straight Connector 69"/>
              <p:cNvSpPr/>
              <p:nvPr/>
            </p:nvSpPr>
            <p:spPr>
              <a:xfrm>
                <a:off x="4441680" y="330732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Straight Connector 70"/>
              <p:cNvSpPr/>
              <p:nvPr/>
            </p:nvSpPr>
            <p:spPr>
              <a:xfrm>
                <a:off x="4442760" y="307548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Straight Connector 71"/>
              <p:cNvSpPr/>
              <p:nvPr/>
            </p:nvSpPr>
            <p:spPr>
              <a:xfrm>
                <a:off x="4441680" y="284364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Straight Connector 72"/>
              <p:cNvSpPr/>
              <p:nvPr/>
            </p:nvSpPr>
            <p:spPr>
              <a:xfrm>
                <a:off x="4441680" y="261360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Straight Connector 73"/>
              <p:cNvSpPr/>
              <p:nvPr/>
            </p:nvSpPr>
            <p:spPr>
              <a:xfrm>
                <a:off x="4440600" y="238176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Straight Connector 74"/>
              <p:cNvSpPr/>
              <p:nvPr/>
            </p:nvSpPr>
            <p:spPr>
              <a:xfrm>
                <a:off x="4442760" y="585216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Straight Connector 75"/>
              <p:cNvSpPr/>
              <p:nvPr/>
            </p:nvSpPr>
            <p:spPr>
              <a:xfrm>
                <a:off x="4441680" y="562032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Straight Connector 76"/>
              <p:cNvSpPr/>
              <p:nvPr/>
            </p:nvSpPr>
            <p:spPr>
              <a:xfrm>
                <a:off x="4441680" y="539028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Straight Connector 77"/>
              <p:cNvSpPr/>
              <p:nvPr/>
            </p:nvSpPr>
            <p:spPr>
              <a:xfrm>
                <a:off x="4440600" y="515844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Straight Connector 78"/>
              <p:cNvSpPr/>
              <p:nvPr/>
            </p:nvSpPr>
            <p:spPr>
              <a:xfrm>
                <a:off x="4441680" y="492660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Straight Connector 79"/>
              <p:cNvSpPr/>
              <p:nvPr/>
            </p:nvSpPr>
            <p:spPr>
              <a:xfrm>
                <a:off x="4440600" y="469476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Straight Connector 80"/>
              <p:cNvSpPr/>
              <p:nvPr/>
            </p:nvSpPr>
            <p:spPr>
              <a:xfrm>
                <a:off x="4440600" y="446472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Straight Connector 81"/>
              <p:cNvSpPr/>
              <p:nvPr/>
            </p:nvSpPr>
            <p:spPr>
              <a:xfrm>
                <a:off x="4439880" y="423288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Straight Connector 82"/>
              <p:cNvSpPr/>
              <p:nvPr/>
            </p:nvSpPr>
            <p:spPr>
              <a:xfrm>
                <a:off x="4442760" y="608364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Straight Connector 83"/>
              <p:cNvSpPr/>
              <p:nvPr/>
            </p:nvSpPr>
            <p:spPr>
              <a:xfrm>
                <a:off x="4442760" y="214920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Straight Connector 84"/>
              <p:cNvSpPr/>
              <p:nvPr/>
            </p:nvSpPr>
            <p:spPr>
              <a:xfrm>
                <a:off x="4442760" y="191772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Straight Connector 85"/>
              <p:cNvSpPr/>
              <p:nvPr/>
            </p:nvSpPr>
            <p:spPr>
              <a:xfrm>
                <a:off x="4442760" y="168732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Straight Connector 86"/>
              <p:cNvSpPr/>
              <p:nvPr/>
            </p:nvSpPr>
            <p:spPr>
              <a:xfrm>
                <a:off x="4442760" y="631512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7" name="TextBox 87"/>
            <p:cNvSpPr/>
            <p:nvPr/>
          </p:nvSpPr>
          <p:spPr>
            <a:xfrm>
              <a:off x="1734120" y="5600880"/>
              <a:ext cx="633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-4                   -2                    0                   +2                  +4                  +6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TextBox 88"/>
            <p:cNvSpPr/>
            <p:nvPr/>
          </p:nvSpPr>
          <p:spPr>
            <a:xfrm>
              <a:off x="3931200" y="4314960"/>
              <a:ext cx="383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+2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TextBox 89"/>
            <p:cNvSpPr/>
            <p:nvPr/>
          </p:nvSpPr>
          <p:spPr>
            <a:xfrm>
              <a:off x="3971520" y="3386160"/>
              <a:ext cx="383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+4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TextBox 90"/>
            <p:cNvSpPr/>
            <p:nvPr/>
          </p:nvSpPr>
          <p:spPr>
            <a:xfrm>
              <a:off x="3971520" y="2457000"/>
              <a:ext cx="383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+6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Straight Connector 92"/>
            <p:cNvSpPr/>
            <p:nvPr/>
          </p:nvSpPr>
          <p:spPr>
            <a:xfrm flipV="1">
              <a:off x="6164280" y="2814840"/>
              <a:ext cx="1440" cy="2929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Straight Connector 94"/>
            <p:cNvSpPr/>
            <p:nvPr/>
          </p:nvSpPr>
          <p:spPr>
            <a:xfrm flipH="1" flipV="1">
              <a:off x="3999960" y="3538800"/>
              <a:ext cx="257148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Oval 97"/>
            <p:cNvSpPr/>
            <p:nvPr/>
          </p:nvSpPr>
          <p:spPr>
            <a:xfrm>
              <a:off x="6019920" y="3405240"/>
              <a:ext cx="285480" cy="285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4" name="TextBox 98"/>
          <p:cNvSpPr/>
          <p:nvPr/>
        </p:nvSpPr>
        <p:spPr>
          <a:xfrm>
            <a:off x="5871600" y="1957320"/>
            <a:ext cx="239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number 3J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3661F-4882-4406-AE3F-78FC58D13F8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reate a class to do complex math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class will contain 2 real numbers and 3 methods to perform Add, Multiply and return the Reciprocal of a complex number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642680"/>
            <a:ext cx="767232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The workspace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an serve as base and be copied into another workspa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805BF-3076-4391-BAE1-FE95888E9DE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1143000" y="3571920"/>
            <a:ext cx="2071800" cy="25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sp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mory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ounded Rectangle 7"/>
          <p:cNvSpPr/>
          <p:nvPr/>
        </p:nvSpPr>
        <p:spPr>
          <a:xfrm>
            <a:off x="6072120" y="3571920"/>
            <a:ext cx="2071800" cy="92880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lesUti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8"/>
          <p:cNvSpPr/>
          <p:nvPr/>
        </p:nvSpPr>
        <p:spPr>
          <a:xfrm>
            <a:off x="3500280" y="3786120"/>
            <a:ext cx="23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COPY  FilesUt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ounded Rectangle 9"/>
          <p:cNvSpPr/>
          <p:nvPr/>
        </p:nvSpPr>
        <p:spPr>
          <a:xfrm>
            <a:off x="6072120" y="3571920"/>
            <a:ext cx="2071800" cy="92880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lesUti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0"/>
          <p:cNvSpPr/>
          <p:nvPr/>
        </p:nvSpPr>
        <p:spPr>
          <a:xfrm>
            <a:off x="642960" y="2214720"/>
            <a:ext cx="7643880" cy="107136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0.00833 L -0.5382 0.16123 E">
                                      <p:cBhvr>
                                        <p:cTn id="38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B3A3D-2360-4FFE-B799-1A454DE241F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reate a class to do complex math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methods to perform Add and Multiply will be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share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(in the class) methods and the Reciprocal will be an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instanc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metho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19927-A340-4C59-B689-CE15A8B5960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mplex math definition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 = </a:t>
            </a: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a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+ 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b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,  where i = ¯1 * 0.5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ngineers use the J notation, like thi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3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j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4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o denote the complex number with a real value of </a:t>
            </a: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3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nd an imaginary value of 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4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E22C0-D12C-4EC1-9F7D-8BE37D8269E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mplex math definition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ddition of 2 complex numb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1 + C2 = (</a:t>
            </a: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a1+a2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 + (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b1+b2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 i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01E17-8A2D-4DB7-BCB8-3F6C4A7C8D0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685800" y="1805040"/>
            <a:ext cx="820728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mplex math definition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Multiplication of 2 complex numb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1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a1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   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b1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x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2          </a:t>
            </a: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a2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   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b2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=(a1×a2) + (b1i × b2i) + (a1×b2i) + (b1i×a2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=</a:t>
            </a: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((a1×a2) - (b1 × b2))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+ 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((a1×b2) + (b1×a2))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1270" name="Group 9"/>
          <p:cNvGrpSpPr/>
          <p:nvPr/>
        </p:nvGrpSpPr>
        <p:grpSpPr>
          <a:xfrm>
            <a:off x="2700360" y="3518280"/>
            <a:ext cx="1295280" cy="705240"/>
            <a:chOff x="2700360" y="3518280"/>
            <a:chExt cx="1295280" cy="705240"/>
          </a:xfrm>
        </p:grpSpPr>
        <p:sp>
          <p:nvSpPr>
            <p:cNvPr id="1271" name="AutoShape 5"/>
            <p:cNvSpPr/>
            <p:nvPr/>
          </p:nvSpPr>
          <p:spPr>
            <a:xfrm rot="5400000">
              <a:off x="2541600" y="3730320"/>
              <a:ext cx="565200" cy="247680"/>
            </a:xfrm>
            <a:prstGeom prst="rightArrow">
              <a:avLst>
                <a:gd name="adj1" fmla="val 50000"/>
                <a:gd name="adj2" fmla="val 5704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AutoShape 6"/>
            <p:cNvSpPr/>
            <p:nvPr/>
          </p:nvSpPr>
          <p:spPr>
            <a:xfrm rot="5400000">
              <a:off x="3589200" y="3741480"/>
              <a:ext cx="565200" cy="247680"/>
            </a:xfrm>
            <a:prstGeom prst="rightArrow">
              <a:avLst>
                <a:gd name="adj1" fmla="val 50000"/>
                <a:gd name="adj2" fmla="val 5704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AutoShape 7"/>
            <p:cNvSpPr/>
            <p:nvPr/>
          </p:nvSpPr>
          <p:spPr>
            <a:xfrm rot="2700000">
              <a:off x="3012840" y="3736800"/>
              <a:ext cx="720720" cy="247680"/>
            </a:xfrm>
            <a:prstGeom prst="rightArrow">
              <a:avLst>
                <a:gd name="adj1" fmla="val 50000"/>
                <a:gd name="adj2" fmla="val 7274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AutoShape 8"/>
            <p:cNvSpPr/>
            <p:nvPr/>
          </p:nvSpPr>
          <p:spPr>
            <a:xfrm rot="8100000">
              <a:off x="2963520" y="3756960"/>
              <a:ext cx="720720" cy="247680"/>
            </a:xfrm>
            <a:prstGeom prst="rightArrow">
              <a:avLst>
                <a:gd name="adj1" fmla="val 50000"/>
                <a:gd name="adj2" fmla="val 7274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38B79-DB0C-40C3-B280-A1F5F1F6762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mplex math definition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Reciprocal of a complex number is 1÷C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uch that        C × R = 1 = </a:t>
            </a: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1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+ 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0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real 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=</a:t>
            </a: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 ((a1×a2) - (b1 × b2)) 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=</a:t>
            </a: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 1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img 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=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 ((a1×b2) + (b1×a2)) 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i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=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 0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olving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Ra 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=</a:t>
            </a: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  Ca÷((Ca×Ca)-(Cb×Cb)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Rb 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=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 -Cb÷((Ca×Ca)-(Cb×Cb)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7F8AA-89A0-47FC-948F-A166B6AE70D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first thing to do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)ED ○ complex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285" name="Picture 4" descr=""/>
          <p:cNvPicPr/>
          <p:nvPr/>
        </p:nvPicPr>
        <p:blipFill>
          <a:blip r:embed="rId1"/>
          <a:stretch/>
        </p:blipFill>
        <p:spPr>
          <a:xfrm>
            <a:off x="2195640" y="3362400"/>
            <a:ext cx="439236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493C4-E762-4420-BD8F-AD8679C67DA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nter the field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291" name="Picture 5" descr=""/>
          <p:cNvPicPr/>
          <p:nvPr/>
        </p:nvPicPr>
        <p:blipFill>
          <a:blip r:embed="rId1"/>
          <a:stretch/>
        </p:blipFill>
        <p:spPr>
          <a:xfrm>
            <a:off x="1979640" y="2844720"/>
            <a:ext cx="4824360" cy="296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BF6A2-EA29-4745-B7F1-3C8A4CB3516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nter the constructor, it takes 2 numbers as arguments, it merely sets the 2 field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297" name="Picture 6" descr=""/>
          <p:cNvPicPr/>
          <p:nvPr/>
        </p:nvPicPr>
        <p:blipFill>
          <a:blip r:embed="rId1"/>
          <a:stretch/>
        </p:blipFill>
        <p:spPr>
          <a:xfrm>
            <a:off x="2556000" y="2852640"/>
            <a:ext cx="5256000" cy="33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F67A4-5834-4148-AEA1-C26795D9ED6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685800" y="14922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es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c1←⎕NEW complex (3,4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c1.rea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ease creation of complex number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j←{⎕new complex (⍺ ⍵)}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c2←5 j 12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c2.img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38B9B-FFFC-48A7-92B0-2CA73F96DE6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685800" y="1563480"/>
            <a:ext cx="7772400" cy="48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es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yping c1 does not provide useful informati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It would be nice if we could find what the numbers are without having to us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c1.(real img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642680"/>
            <a:ext cx="777240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The workspace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ontains everything needed to run an applica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an be initialized (via []LX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an be viewed as an objec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an serve as base and be copied into another workspa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an be modifi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264DD-76EF-4CF0-907E-D98559AD246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642960" y="5572080"/>
            <a:ext cx="4214880" cy="57168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AACE1-0F14-4D5B-B14F-19937E0038A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isplay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display form can be improv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use 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F to show a different string, e.g. 3J4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ry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c1. ⎕DF '3J4'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(or whatever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ry including the setting in the constructo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A5AFF-D876-426B-B6C0-DF07DD4054A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isplay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ssignment does not change the displa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ry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c1.img←22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nd verify that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⎕←c1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has the same display for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e properties to change th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reate 2 properti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e 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⎕DF to change the display in the &lt;set&gt; function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3C1BA-CAF0-4FD5-8B7C-3703048D62C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nter the methods, first, &lt;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plus&gt;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323" name="Picture 6" descr=""/>
          <p:cNvPicPr/>
          <p:nvPr/>
        </p:nvPicPr>
        <p:blipFill>
          <a:blip r:embed="rId1"/>
          <a:stretch/>
        </p:blipFill>
        <p:spPr>
          <a:xfrm>
            <a:off x="2124000" y="2847960"/>
            <a:ext cx="453564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2739A-3C31-4FA9-92CD-05CE4627135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est &lt;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plus&gt;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cs←c1  complex.plus  c2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s.real ?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5F422-98CD-4372-B516-CB31D810E00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nter the methods, 2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n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, &lt;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imes&gt;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334" name="Picture 4" descr=""/>
          <p:cNvPicPr/>
          <p:nvPr/>
        </p:nvPicPr>
        <p:blipFill>
          <a:blip r:embed="rId1"/>
          <a:stretch/>
        </p:blipFill>
        <p:spPr>
          <a:xfrm>
            <a:off x="1763640" y="2954160"/>
            <a:ext cx="5472360" cy="285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2EAA4-AEE7-4C71-8987-6CFB13FB931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est &lt;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imes&gt;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ct←c1  complex.times  c2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t.real ?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B99AA-1C9A-41BB-9159-48E89B2E3A8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nter the methods, 3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r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, &lt;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reciprocal&gt;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345" name="Picture 5" descr=""/>
          <p:cNvPicPr/>
          <p:nvPr/>
        </p:nvPicPr>
        <p:blipFill>
          <a:blip r:embed="rId1"/>
          <a:stretch/>
        </p:blipFill>
        <p:spPr>
          <a:xfrm>
            <a:off x="1835280" y="3284640"/>
            <a:ext cx="5113080" cy="24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676CB-8961-43F8-AA89-E01617B6F62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ry it!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complex.plus/4⍴c1 ⍝ if funny display, use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←{⍵.(real  img)}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 complex.plus/4⍴c1     ⍝ 12 16?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 complex.times\3⍴c1   ⍝ 3 4  ¯7 24..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 complex.plus/c1 complex.times¨4⍴c1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01FE5-B999-4299-936A-4D6FAC0FE7E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ry it!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 c1.reciproca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⍝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c1 ÷ c1   or   c1 × ÷c1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 c1 complex.times c1.reciproca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 c2 complex.times c1.reciproca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2.52   0.64?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FA99-970F-4FB1-A745-4B01B4CBADF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mprovemen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ther functions (magnitude?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ccept a single (real) numbe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Geneva"/>
                <a:hlinkClick r:id="rId1" action="ppaction://hlinksldjump"/>
              </a:rPr>
              <a:t>Back to exercise choic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The workspace problem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ame clashing (using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)COPY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FA24A-03DE-495C-BF09-23978E01906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1143000" y="3571920"/>
            <a:ext cx="2071800" cy="25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n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n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r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var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ounded Rectangle 7"/>
          <p:cNvSpPr/>
          <p:nvPr/>
        </p:nvSpPr>
        <p:spPr>
          <a:xfrm>
            <a:off x="6072120" y="3571920"/>
            <a:ext cx="2071800" cy="92880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n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r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8"/>
          <p:cNvSpPr/>
          <p:nvPr/>
        </p:nvSpPr>
        <p:spPr>
          <a:xfrm>
            <a:off x="3500280" y="3786120"/>
            <a:ext cx="23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COPY  FilesUt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ounded Rectangle 9"/>
          <p:cNvSpPr/>
          <p:nvPr/>
        </p:nvSpPr>
        <p:spPr>
          <a:xfrm>
            <a:off x="6072120" y="3571920"/>
            <a:ext cx="2071800" cy="92880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n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var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8 2.41962E-006 L -0.54132 0.21582 E">
                                      <p:cBhvr>
                                        <p:cTn id="48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8DBCA-459B-47E9-AAC4-012C74D501B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01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reate a class to do simple math with 2 integers representing fraction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ing a Numerator &amp; a Denominato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x.:  3 / 7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th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BD803-837B-4240-80D5-0D1F3221930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reate a class to do simple math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class will contain 2 integer numbers and 3 methods to perform Add, Multiply and return the Reciprocal of a pair of simple numbers representing a fracti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D4EE0-8C4A-4F03-9A8B-BBD2B510E80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reate a class to do simple math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methods to perform Add and Multiply will be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share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(in the class) methods and the Reciprocal will be an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instanc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metho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4FF27-4A06-44D0-9D7F-988DFC26862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imple math definition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1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s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number will be called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2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n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number will be called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will be stored in a vector (2 elem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will be two properties to access them individuall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1AB78-0D02-4748-8AEE-182673D5F7A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6858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imple math definition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ddition of 2 simple numbers (fractions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1 + S2 = (</a:t>
            </a: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n1 x d2 + n2 x d1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 , (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d1 x d2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Multiplication of 2 simple numb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1 x S2 = (</a:t>
            </a: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n1 x n2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 , (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d1 x d2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Reciprocal of a simple numbe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÷S1 = (</a:t>
            </a: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d1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 , (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n1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BE44A-CC72-48DD-870B-50A7532665A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first thing to do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)ED ○ simpl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391" name="Picture 2" descr=""/>
          <p:cNvPicPr/>
          <p:nvPr/>
        </p:nvPicPr>
        <p:blipFill>
          <a:blip r:embed="rId1"/>
          <a:stretch/>
        </p:blipFill>
        <p:spPr>
          <a:xfrm>
            <a:off x="2571840" y="3286080"/>
            <a:ext cx="4071960" cy="229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D8349-3957-4224-9E29-B7F56F5ED4D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nter the field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397" name="Picture 2" descr=""/>
          <p:cNvPicPr/>
          <p:nvPr/>
        </p:nvPicPr>
        <p:blipFill>
          <a:blip r:embed="rId1"/>
          <a:stretch/>
        </p:blipFill>
        <p:spPr>
          <a:xfrm>
            <a:off x="2500200" y="2857680"/>
            <a:ext cx="4437000" cy="25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0C1DD-84C1-43B5-BB01-E5F29CCBA65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nter the constructor, it takes 2 numbers as arguments, it merely sets the field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403" name="Picture 2" descr=""/>
          <p:cNvPicPr/>
          <p:nvPr/>
        </p:nvPicPr>
        <p:blipFill>
          <a:blip r:embed="rId1"/>
          <a:stretch/>
        </p:blipFill>
        <p:spPr>
          <a:xfrm>
            <a:off x="2643120" y="2928960"/>
            <a:ext cx="4429080" cy="31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56C66-D7D0-4B6F-843A-8D87EEEA83D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685800" y="14922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t this point the class does not do anything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‘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Numbers’ 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is private and cannot be accessed from outsid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Let’s create properties to access i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64390-A305-42AF-A359-D29C2764113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nter the properties, they take 1 number to set a value in the field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414" name="Picture 2" descr=""/>
          <p:cNvPicPr/>
          <p:nvPr/>
        </p:nvPicPr>
        <p:blipFill>
          <a:blip r:embed="rId1"/>
          <a:stretch/>
        </p:blipFill>
        <p:spPr>
          <a:xfrm>
            <a:off x="2000160" y="2906640"/>
            <a:ext cx="5072040" cy="3094200"/>
          </a:xfrm>
          <a:prstGeom prst="rect">
            <a:avLst/>
          </a:prstGeom>
          <a:ln w="0">
            <a:noFill/>
          </a:ln>
        </p:spPr>
      </p:pic>
      <p:sp>
        <p:nvSpPr>
          <p:cNvPr id="1415" name="Rectangle 7"/>
          <p:cNvSpPr/>
          <p:nvPr/>
        </p:nvSpPr>
        <p:spPr>
          <a:xfrm>
            <a:off x="4062240" y="3684600"/>
            <a:ext cx="28584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The workspace problem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ame clashing (using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)COPY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cannot be stored as a unit on fil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nly 1 workspace item (variable or function) per component in APL fil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eed to cleanup when finish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2C43F-8FD2-4C1F-972C-083CE469F24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08393-D455-4725-9448-DD8E7F90850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685800" y="14922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es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s1←⎕NEW simple(3,4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s1.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ease creation of simple number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s←{⎕new simple (⍺ ⍵)}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s2←5 s 12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s2.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"/>
          <p:cNvSpPr txBox="1"/>
          <p:nvPr/>
        </p:nvSpPr>
        <p:spPr>
          <a:xfrm>
            <a:off x="685800" y="198072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ow enter the second property…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2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67598-89BA-42BC-AA59-60390DE909D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6" name="Picture 9" descr=""/>
          <p:cNvPicPr/>
          <p:nvPr/>
        </p:nvPicPr>
        <p:blipFill>
          <a:blip r:embed="rId1"/>
          <a:stretch/>
        </p:blipFill>
        <p:spPr>
          <a:xfrm>
            <a:off x="1500120" y="2786040"/>
            <a:ext cx="614376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182E0-B785-4847-9FB9-1BA97251434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685800" y="1563480"/>
            <a:ext cx="7772400" cy="48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es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yping s1 does not provide useful informati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It would be nice if we could find what the numbers are without having to us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s1.(N  D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3A977-9463-4274-BB5E-C9AD0C97FED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isplay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display form can be improv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use 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F to show a different string, e.g. 3/4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ry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s1. ⎕DF '3/4'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ry including the setting in the constructo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C3879-EEED-4C7B-84E9-FE37871722D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isplay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ssignment does not change the displa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ry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s1.N←22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nd verify that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⎕←s1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has the same display form it had befor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e the properties’ code to change th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e ⎕DF to change the display in the &lt;set&gt; function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9CEFD-3133-45C3-8577-7D6F3255B56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nter the methods, first, &lt;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plus&gt;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447" name="Picture 8" descr=""/>
          <p:cNvPicPr/>
          <p:nvPr/>
        </p:nvPicPr>
        <p:blipFill>
          <a:blip r:embed="rId1"/>
          <a:stretch/>
        </p:blipFill>
        <p:spPr>
          <a:xfrm>
            <a:off x="2143080" y="2705040"/>
            <a:ext cx="4786200" cy="329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E2D87-1140-47BF-99E1-C35952955B4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est &lt;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plus&gt;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cs←s1  simple.plus  s2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s.N ?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B58AF-385D-4E45-906A-3735C2CC429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nter the 2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nd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method, &lt;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imes&gt;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458" name="Picture 8" descr=""/>
          <p:cNvPicPr/>
          <p:nvPr/>
        </p:nvPicPr>
        <p:blipFill>
          <a:blip r:embed="rId1"/>
          <a:stretch/>
        </p:blipFill>
        <p:spPr>
          <a:xfrm>
            <a:off x="1785960" y="2714760"/>
            <a:ext cx="5500800" cy="325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CB7F3-A34B-4320-AD1A-F05634416CF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est &lt;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imes&gt;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ct←s1  simple.times  s2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t.N ?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77E31-06BC-4B13-B8AD-75E5020CCCF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nter the methods, 3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r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, &lt;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reciprocal&gt;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469" name="Picture 8" descr=""/>
          <p:cNvPicPr/>
          <p:nvPr/>
        </p:nvPicPr>
        <p:blipFill>
          <a:blip r:embed="rId1"/>
          <a:stretch/>
        </p:blipFill>
        <p:spPr>
          <a:xfrm>
            <a:off x="1857240" y="2786040"/>
            <a:ext cx="5429520" cy="321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The workspace (solutions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packag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or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overla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group items (vars &amp; fns) togethe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act as a (static) uni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can be stored on fil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can be copied, like wss, into existing code and dispersed in i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1CF7F-B113-4D0B-B088-E8E8C58454E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AE274-AF43-410B-8BF7-6571A9F0C23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ry it!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simple.plus/4⍴s1 ⍝ if funny display, use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←{⍵.(N ‘/’ D)}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 simple.plus/4⍴s1     ⍝ 22/1?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 simple.times\3⍴s1   ⍝ 11/2 121/4…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 simple.plus/s1 simple.times¨4⍴s1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13309-0E9D-4092-8505-2BA8A1DAF10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ry it!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 s1.reciproca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⍝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s1 ÷ s1   or   s1 × ÷s1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 s1 simple.times s1.reciproca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 s2 simple.times s1.reciproca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5/66?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B379F-7FA6-43B3-BF09-EBF77954228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mprovemen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ther functions (square, abs?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ccept a single (real) numbe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make this into a complex number clas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Geneva"/>
                <a:hlinkClick r:id="rId1" action="ppaction://hlinksldjump"/>
              </a:rPr>
              <a:t>Back to exercise choic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AAD94-A2D0-4F1D-80D3-23EB8B4C1D5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1"/>
          <p:cNvSpPr>
            <a:spLocks noGrp="1"/>
          </p:cNvSpPr>
          <p:nvPr>
            <p:ph/>
          </p:nvPr>
        </p:nvSpPr>
        <p:spPr>
          <a:xfrm>
            <a:off x="610920" y="1876320"/>
            <a:ext cx="8064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are many advantages to using OO languages over procedural language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se of modifica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reduced maintenance cos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sier to mod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an speed up development tim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tc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lu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FE261-665F-4DE0-8E13-34860A35B4C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1"/>
          <p:cNvSpPr>
            <a:spLocks noGrp="1"/>
          </p:cNvSpPr>
          <p:nvPr>
            <p:ph/>
          </p:nvPr>
        </p:nvSpPr>
        <p:spPr>
          <a:xfrm>
            <a:off x="395280" y="1700280"/>
            <a:ext cx="8569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OO languages make abstraction eas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ey encourage architectures with elaborate layers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ey can be good when the problem domain is truly complex and demands a lot of abstracti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lu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21054-27B8-4279-82E3-419D3B99578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/>
          </p:nvPr>
        </p:nvSpPr>
        <p:spPr>
          <a:xfrm>
            <a:off x="250560" y="1917360"/>
            <a:ext cx="84582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ll OO languages show some tendency to suck programmers into the trap of excessive layering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Object frameworks and object browsers are not a substitute for good design or documenta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areful!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C69AC-FAFB-4FF5-BBC1-DCCA95B8258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1"/>
          <p:cNvSpPr>
            <a:spLocks noGrp="1"/>
          </p:cNvSpPr>
          <p:nvPr>
            <p:ph/>
          </p:nvPr>
        </p:nvSpPr>
        <p:spPr>
          <a:xfrm>
            <a:off x="250560" y="1773000"/>
            <a:ext cx="84582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oo many layers destroy transparency: It becomes too difficult to see down through them and mentally model what the code is actually doing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e Rules of Simplicity, Clarity, and Transparency can get violated wholesale, and the result is code full of obscure bugs and continuing maintenance problem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areful!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E130E-3EB4-4320-9ECB-96140C03C3A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1"/>
          <p:cNvSpPr>
            <a:spLocks noGrp="1"/>
          </p:cNvSpPr>
          <p:nvPr>
            <p:ph/>
          </p:nvPr>
        </p:nvSpPr>
        <p:spPr>
          <a:xfrm>
            <a:off x="3059280" y="3610080"/>
            <a:ext cx="3457440" cy="89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Buyer beware!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areful!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The workspace – packag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were only a partial solution to a more general proble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ame clashing still happen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lean up was still need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541DC-DF93-4698-AED6-1E112688701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The workspace – namespace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the 80s a Dyalog came up with the concept of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namespac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, probably from other languages like C++ and Java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amespaces are like workspaces but nest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C1B99-01E6-42AD-B3B9-3062167FC7C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F0240-3DF7-4EAE-BEA4-35AA1622669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68000" y="3068640"/>
            <a:ext cx="8134200" cy="14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3333"/>
                </a:solidFill>
                <a:latin typeface="Geneva"/>
              </a:rPr>
              <a:t>Object Orientation</a:t>
            </a:r>
            <a:endParaRPr b="0" lang="en-US" sz="4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1258920" y="1714680"/>
            <a:ext cx="64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yalog V11 was released in 2006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of the major features wa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714240" y="16426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OS V1.0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PL V1.0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ile1,ex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var1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ile2.ex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n1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bc.dw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var2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ote.tx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unction_2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tc.doc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tc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lat structure for files and a workspa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0727A-9E07-4F0D-BA9E-9B894F4F197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4286160" y="2286000"/>
            <a:ext cx="2286000" cy="300024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642960" y="2286000"/>
            <a:ext cx="2286000" cy="300024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703440" y="1571400"/>
            <a:ext cx="777240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OS V2.0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PL V8.0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Dir1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ns1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File2.ext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var1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Abc.dws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var2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Note.txt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function_2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Folder2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namespace2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Etc.doc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fna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subf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subn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file1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fna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filex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opb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Fich.log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objxv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ree (nested) structur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E72F3-19F5-416C-8C7F-9B0370C97F1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4357800" y="2143080"/>
            <a:ext cx="2643120" cy="371484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714240" y="2143080"/>
            <a:ext cx="2643480" cy="371484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9"/>
          <p:cNvSpPr/>
          <p:nvPr/>
        </p:nvSpPr>
        <p:spPr>
          <a:xfrm>
            <a:off x="4429080" y="2193840"/>
            <a:ext cx="1571760" cy="100008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0"/>
          <p:cNvSpPr/>
          <p:nvPr/>
        </p:nvSpPr>
        <p:spPr>
          <a:xfrm>
            <a:off x="776160" y="2184480"/>
            <a:ext cx="1571760" cy="100008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1"/>
          <p:cNvSpPr/>
          <p:nvPr/>
        </p:nvSpPr>
        <p:spPr>
          <a:xfrm>
            <a:off x="5286240" y="4357800"/>
            <a:ext cx="1490760" cy="1041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2"/>
          <p:cNvSpPr/>
          <p:nvPr/>
        </p:nvSpPr>
        <p:spPr>
          <a:xfrm>
            <a:off x="1071720" y="4357800"/>
            <a:ext cx="1490400" cy="107136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3"/>
          <p:cNvSpPr/>
          <p:nvPr/>
        </p:nvSpPr>
        <p:spPr>
          <a:xfrm>
            <a:off x="4429080" y="3643200"/>
            <a:ext cx="2428920" cy="181296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4"/>
          <p:cNvSpPr/>
          <p:nvPr/>
        </p:nvSpPr>
        <p:spPr>
          <a:xfrm>
            <a:off x="765000" y="3602160"/>
            <a:ext cx="2021040" cy="187776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499680" y="1500120"/>
            <a:ext cx="83581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ch namespace is similar to a workspa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- It contains functions, variables (including some system variables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- It can contain an entire applica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- It acts as a unit: it can be put as a single item on fil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- It is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dynamic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: it can be moved into to execute code, no need to disperse conten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72275-7FC0-415F-BD93-91438A33503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85840" y="1690560"/>
            <a:ext cx="885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ch namespace is similar to a workspa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Like a workspace, if you need to tweak one you take a copy and modify it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orkspace: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 Namespac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LOAD myApp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 newApp&lt;-[]NS []OR ’myApp’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&lt;-3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 newApp.A&lt;-3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SAVE newApp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8A5F7-DBBD-4D1F-92F3-F91C51ED264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499680" y="1619280"/>
            <a:ext cx="82868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Reusability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is one of the key concep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rom a template you create a new version possibly modifying it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1 namespace      many possibly different vers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FBABE-130D-4E37-8F09-3D1F85FEDB0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4" name="Right Arrow 7"/>
          <p:cNvSpPr/>
          <p:nvPr/>
        </p:nvSpPr>
        <p:spPr>
          <a:xfrm>
            <a:off x="3124080" y="4029120"/>
            <a:ext cx="42876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99680" y="1619280"/>
            <a:ext cx="82868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Classes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lasses are very much like namespaces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rom a class you create a new version possibly modifying it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1 class      many possibly different vers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6A159-2945-4126-ADF6-7E0D46491F1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0" name="Right Arrow 7"/>
          <p:cNvSpPr/>
          <p:nvPr/>
        </p:nvSpPr>
        <p:spPr>
          <a:xfrm>
            <a:off x="1928880" y="4024440"/>
            <a:ext cx="428400" cy="28548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OO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Net is based on namespaces and supports many OO concept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yalog APL is based on namespaces and supports many OO concepts.</a:t>
            </a:r>
            <a:br>
              <a:rPr sz="3200"/>
            </a:b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go well hand in hand together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E8B6C-EC11-4E86-8282-FD85355E19E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69EA1-BC66-4E9C-BF5C-F08FDD30E64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Dyalog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68000" y="1588680"/>
            <a:ext cx="8388360" cy="27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is not new! The ability to use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.Net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create classes was already in V10 but it was more difficult to us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251" name="Group 8"/>
          <p:cNvGrpSpPr/>
          <p:nvPr/>
        </p:nvGrpSpPr>
        <p:grpSpPr>
          <a:xfrm>
            <a:off x="250920" y="3200400"/>
            <a:ext cx="8713800" cy="3036960"/>
            <a:chOff x="250920" y="3200400"/>
            <a:chExt cx="8713800" cy="3036960"/>
          </a:xfrm>
        </p:grpSpPr>
        <p:pic>
          <p:nvPicPr>
            <p:cNvPr id="252" name="Picture 4" descr=""/>
            <p:cNvPicPr/>
            <p:nvPr/>
          </p:nvPicPr>
          <p:blipFill>
            <a:blip r:embed="rId1"/>
            <a:stretch/>
          </p:blipFill>
          <p:spPr>
            <a:xfrm>
              <a:off x="250920" y="3200400"/>
              <a:ext cx="2914560" cy="302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Picture 6" descr=""/>
            <p:cNvPicPr/>
            <p:nvPr/>
          </p:nvPicPr>
          <p:blipFill>
            <a:blip r:embed="rId2"/>
            <a:stretch/>
          </p:blipFill>
          <p:spPr>
            <a:xfrm>
              <a:off x="3316320" y="3200400"/>
              <a:ext cx="2192400" cy="302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7" descr=""/>
            <p:cNvPicPr/>
            <p:nvPr/>
          </p:nvPicPr>
          <p:blipFill>
            <a:blip r:embed="rId3"/>
            <a:stretch/>
          </p:blipFill>
          <p:spPr>
            <a:xfrm>
              <a:off x="5707080" y="3200400"/>
              <a:ext cx="3257640" cy="30369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4D37E-BA16-4890-B235-EA9A0AF5654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he evolution of data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80978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1749"/>
              </a:spcBef>
              <a:buClr>
                <a:srgbClr val="000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Elementary data elements (like int) and arrays of them (all the same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578880" indent="-578880">
              <a:spcBef>
                <a:spcPts val="1749"/>
              </a:spcBef>
              <a:buClr>
                <a:srgbClr val="000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tructures (like {i: int; d: date}), many elementary elements or structures (recursive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578880" indent="-578880">
              <a:spcBef>
                <a:spcPts val="1749"/>
              </a:spcBef>
              <a:buClr>
                <a:srgbClr val="000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Namespaces (structures whose elements are referred to by name). They include code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578880" indent="-578880">
              <a:spcBef>
                <a:spcPts val="1749"/>
              </a:spcBef>
              <a:buClr>
                <a:srgbClr val="000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Classes (namespaces with initializers &amp; cleaners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E4509-3C1C-4310-AD3F-4BA0ED4761D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ata in Dyalog APL (DYW)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4360" y="2207880"/>
            <a:ext cx="7772400" cy="29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DYW all these objects exis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can often simulate one by another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ex: a table of names &amp; values can represent a namespace of variabl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YW can also store the ⎕OR of a namespac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2DF59-B14F-457B-86B6-0539CD55831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Geneva"/>
              </a:rPr>
              <a:t>This presentation is based on two things: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42600" y="2852640"/>
            <a:ext cx="828684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33"/>
                </a:solidFill>
                <a:latin typeface="Geneva"/>
              </a:rPr>
              <a:t>What is Object Orientation programming? </a:t>
            </a:r>
            <a:endParaRPr b="0" lang="en-US" sz="4400" spc="-1" strike="noStrike">
              <a:solidFill>
                <a:srgbClr val="333333"/>
              </a:solidFill>
              <a:latin typeface="Geneva"/>
            </a:endParaRPr>
          </a:p>
          <a:p>
            <a:pPr marL="609480" indent="-609480">
              <a:spcBef>
                <a:spcPts val="1100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33"/>
                </a:solidFill>
                <a:latin typeface="Geneva"/>
              </a:rPr>
              <a:t>How do I use it in APL?</a:t>
            </a:r>
            <a:endParaRPr b="0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468360" y="1557360"/>
            <a:ext cx="8136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AF3A3-5895-42B7-B07C-803E9FF6AF3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he evolution of data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4360" y="1515600"/>
            <a:ext cx="8278560" cy="133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traditional (procedural) systems, data is separated from cod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270" name="Group 24"/>
          <p:cNvGrpSpPr/>
          <p:nvPr/>
        </p:nvGrpSpPr>
        <p:grpSpPr>
          <a:xfrm>
            <a:off x="1116000" y="2492280"/>
            <a:ext cx="6624720" cy="3744720"/>
            <a:chOff x="1116000" y="2492280"/>
            <a:chExt cx="6624720" cy="3744720"/>
          </a:xfrm>
        </p:grpSpPr>
        <p:sp>
          <p:nvSpPr>
            <p:cNvPr id="271" name="Line 11"/>
            <p:cNvSpPr/>
            <p:nvPr/>
          </p:nvSpPr>
          <p:spPr>
            <a:xfrm>
              <a:off x="4322880" y="249228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utoShape 4"/>
            <p:cNvSpPr/>
            <p:nvPr/>
          </p:nvSpPr>
          <p:spPr>
            <a:xfrm>
              <a:off x="1116000" y="2852640"/>
              <a:ext cx="720720" cy="108108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5"/>
            <p:cNvSpPr/>
            <p:nvPr/>
          </p:nvSpPr>
          <p:spPr>
            <a:xfrm>
              <a:off x="1116000" y="4005000"/>
              <a:ext cx="720720" cy="108108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AutoShape 6"/>
            <p:cNvSpPr/>
            <p:nvPr/>
          </p:nvSpPr>
          <p:spPr>
            <a:xfrm>
              <a:off x="2484360" y="5013000"/>
              <a:ext cx="720720" cy="108108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utoShape 7"/>
            <p:cNvSpPr/>
            <p:nvPr/>
          </p:nvSpPr>
          <p:spPr>
            <a:xfrm>
              <a:off x="7020000" y="2852640"/>
              <a:ext cx="720720" cy="108108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AutoShape 8"/>
            <p:cNvSpPr/>
            <p:nvPr/>
          </p:nvSpPr>
          <p:spPr>
            <a:xfrm>
              <a:off x="3780000" y="2997000"/>
              <a:ext cx="1081080" cy="720720"/>
            </a:xfrm>
            <a:prstGeom prst="flowChartProcess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utoShape 9"/>
            <p:cNvSpPr/>
            <p:nvPr/>
          </p:nvSpPr>
          <p:spPr>
            <a:xfrm>
              <a:off x="3778200" y="4005000"/>
              <a:ext cx="1081080" cy="720720"/>
            </a:xfrm>
            <a:prstGeom prst="flowChartProcess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10"/>
            <p:cNvSpPr/>
            <p:nvPr/>
          </p:nvSpPr>
          <p:spPr>
            <a:xfrm>
              <a:off x="3780000" y="5013000"/>
              <a:ext cx="1081080" cy="720720"/>
            </a:xfrm>
            <a:prstGeom prst="flowChartProcess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12"/>
            <p:cNvSpPr/>
            <p:nvPr/>
          </p:nvSpPr>
          <p:spPr>
            <a:xfrm>
              <a:off x="4327560" y="573228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13"/>
            <p:cNvSpPr/>
            <p:nvPr/>
          </p:nvSpPr>
          <p:spPr>
            <a:xfrm>
              <a:off x="4327560" y="3715920"/>
              <a:ext cx="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4"/>
            <p:cNvSpPr/>
            <p:nvPr/>
          </p:nvSpPr>
          <p:spPr>
            <a:xfrm>
              <a:off x="4313160" y="472428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2" name="AutoShape 15"/>
            <p:cNvCxnSpPr>
              <a:stCxn id="272" idx="5"/>
              <a:endCxn id="276" idx="1"/>
            </p:cNvCxnSpPr>
            <p:nvPr/>
          </p:nvCxnSpPr>
          <p:spPr>
            <a:xfrm flipV="1">
              <a:off x="1763280" y="3356640"/>
              <a:ext cx="2017080" cy="3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83" name="AutoShape 16"/>
            <p:cNvCxnSpPr>
              <a:stCxn id="276" idx="3"/>
              <a:endCxn id="275" idx="2"/>
            </p:cNvCxnSpPr>
            <p:nvPr/>
          </p:nvCxnSpPr>
          <p:spPr>
            <a:xfrm>
              <a:off x="4860720" y="3357000"/>
              <a:ext cx="2230920" cy="3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84" name="AutoShape 17"/>
            <p:cNvCxnSpPr>
              <a:stCxn id="273" idx="5"/>
              <a:endCxn id="276" idx="1"/>
            </p:cNvCxnSpPr>
            <p:nvPr/>
          </p:nvCxnSpPr>
          <p:spPr>
            <a:xfrm flipV="1">
              <a:off x="1763280" y="3356640"/>
              <a:ext cx="2017080" cy="1189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5" name="AutoShape 18"/>
            <p:cNvCxnSpPr>
              <a:stCxn id="273" idx="5"/>
              <a:endCxn id="277" idx="1"/>
            </p:cNvCxnSpPr>
            <p:nvPr/>
          </p:nvCxnSpPr>
          <p:spPr>
            <a:xfrm flipV="1">
              <a:off x="1763640" y="4364640"/>
              <a:ext cx="2015280" cy="181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AutoShape 19"/>
            <p:cNvCxnSpPr>
              <a:stCxn id="277" idx="3"/>
              <a:endCxn id="275" idx="2"/>
            </p:cNvCxnSpPr>
            <p:nvPr/>
          </p:nvCxnSpPr>
          <p:spPr>
            <a:xfrm flipV="1">
              <a:off x="4859280" y="3393000"/>
              <a:ext cx="2232720" cy="972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AutoShape 20"/>
            <p:cNvCxnSpPr>
              <a:stCxn id="274" idx="5"/>
              <a:endCxn id="278" idx="1"/>
            </p:cNvCxnSpPr>
            <p:nvPr/>
          </p:nvCxnSpPr>
          <p:spPr>
            <a:xfrm flipV="1">
              <a:off x="3132000" y="5372640"/>
              <a:ext cx="648360" cy="181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DE6F7-650F-49BC-AB91-8680F741D8E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he evolution of data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4360" y="1660320"/>
            <a:ext cx="8278560" cy="133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is the same in traditional APL systems, data is separated from cod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293" name="Group 33"/>
          <p:cNvGrpSpPr/>
          <p:nvPr/>
        </p:nvGrpSpPr>
        <p:grpSpPr>
          <a:xfrm>
            <a:off x="1042920" y="3068640"/>
            <a:ext cx="4321080" cy="1944720"/>
            <a:chOff x="1042920" y="3068640"/>
            <a:chExt cx="4321080" cy="1944720"/>
          </a:xfrm>
        </p:grpSpPr>
        <p:pic>
          <p:nvPicPr>
            <p:cNvPr id="294" name="Picture 25" descr=""/>
            <p:cNvPicPr/>
            <p:nvPr/>
          </p:nvPicPr>
          <p:blipFill>
            <a:blip r:embed="rId1"/>
            <a:stretch/>
          </p:blipFill>
          <p:spPr>
            <a:xfrm>
              <a:off x="1042920" y="3068640"/>
              <a:ext cx="4321080" cy="19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Rectangle 26"/>
            <p:cNvSpPr/>
            <p:nvPr/>
          </p:nvSpPr>
          <p:spPr>
            <a:xfrm>
              <a:off x="1090800" y="4057200"/>
              <a:ext cx="756360" cy="329400"/>
            </a:xfrm>
            <a:prstGeom prst="rect">
              <a:avLst/>
            </a:prstGeom>
            <a:solidFill>
              <a:srgbClr val="fbcdff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27"/>
            <p:cNvSpPr/>
            <p:nvPr/>
          </p:nvSpPr>
          <p:spPr>
            <a:xfrm>
              <a:off x="2432880" y="4411440"/>
              <a:ext cx="756720" cy="329400"/>
            </a:xfrm>
            <a:prstGeom prst="rect">
              <a:avLst/>
            </a:prstGeom>
            <a:solidFill>
              <a:srgbClr val="fbcdff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28"/>
            <p:cNvSpPr/>
            <p:nvPr/>
          </p:nvSpPr>
          <p:spPr>
            <a:xfrm>
              <a:off x="1090800" y="3705840"/>
              <a:ext cx="756360" cy="329400"/>
            </a:xfrm>
            <a:prstGeom prst="rect">
              <a:avLst/>
            </a:prstGeom>
            <a:solidFill>
              <a:srgbClr val="fbcdff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29"/>
            <p:cNvSpPr/>
            <p:nvPr/>
          </p:nvSpPr>
          <p:spPr>
            <a:xfrm>
              <a:off x="2584080" y="3711240"/>
              <a:ext cx="756360" cy="329400"/>
            </a:xfrm>
            <a:prstGeom prst="rect">
              <a:avLst/>
            </a:prstGeom>
            <a:solidFill>
              <a:srgbClr val="fbcdff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30"/>
            <p:cNvSpPr/>
            <p:nvPr/>
          </p:nvSpPr>
          <p:spPr>
            <a:xfrm>
              <a:off x="3489120" y="3708720"/>
              <a:ext cx="756360" cy="329400"/>
            </a:xfrm>
            <a:prstGeom prst="rect">
              <a:avLst/>
            </a:prstGeom>
            <a:solidFill>
              <a:srgbClr val="fbcdff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31"/>
            <p:cNvSpPr/>
            <p:nvPr/>
          </p:nvSpPr>
          <p:spPr>
            <a:xfrm>
              <a:off x="3785040" y="4057200"/>
              <a:ext cx="756360" cy="329400"/>
            </a:xfrm>
            <a:prstGeom prst="rect">
              <a:avLst/>
            </a:prstGeom>
            <a:solidFill>
              <a:srgbClr val="fbcdff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32"/>
            <p:cNvSpPr/>
            <p:nvPr/>
          </p:nvSpPr>
          <p:spPr>
            <a:xfrm>
              <a:off x="4387320" y="3703320"/>
              <a:ext cx="756360" cy="329400"/>
            </a:xfrm>
            <a:prstGeom prst="rect">
              <a:avLst/>
            </a:prstGeom>
            <a:solidFill>
              <a:srgbClr val="fbcdff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51"/>
          <p:cNvGrpSpPr/>
          <p:nvPr/>
        </p:nvGrpSpPr>
        <p:grpSpPr>
          <a:xfrm>
            <a:off x="6299280" y="2421000"/>
            <a:ext cx="2376360" cy="3600000"/>
            <a:chOff x="6299280" y="2421000"/>
            <a:chExt cx="2376360" cy="3600000"/>
          </a:xfrm>
        </p:grpSpPr>
        <p:sp>
          <p:nvSpPr>
            <p:cNvPr id="303" name="Line 52"/>
            <p:cNvSpPr/>
            <p:nvPr/>
          </p:nvSpPr>
          <p:spPr>
            <a:xfrm>
              <a:off x="7449480" y="2421000"/>
              <a:ext cx="0" cy="48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AutoShape 53"/>
            <p:cNvSpPr/>
            <p:nvPr/>
          </p:nvSpPr>
          <p:spPr>
            <a:xfrm>
              <a:off x="6299280" y="2767320"/>
              <a:ext cx="258480" cy="103932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AutoShape 54"/>
            <p:cNvSpPr/>
            <p:nvPr/>
          </p:nvSpPr>
          <p:spPr>
            <a:xfrm>
              <a:off x="6299280" y="3875400"/>
              <a:ext cx="258480" cy="103932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AutoShape 55"/>
            <p:cNvSpPr/>
            <p:nvPr/>
          </p:nvSpPr>
          <p:spPr>
            <a:xfrm>
              <a:off x="6789960" y="4844520"/>
              <a:ext cx="258480" cy="103932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AutoShape 56"/>
            <p:cNvSpPr/>
            <p:nvPr/>
          </p:nvSpPr>
          <p:spPr>
            <a:xfrm>
              <a:off x="8417160" y="2767320"/>
              <a:ext cx="258480" cy="103932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AutoShape 57"/>
            <p:cNvSpPr/>
            <p:nvPr/>
          </p:nvSpPr>
          <p:spPr>
            <a:xfrm>
              <a:off x="7254720" y="2905920"/>
              <a:ext cx="387720" cy="692640"/>
            </a:xfrm>
            <a:prstGeom prst="flowChartProcess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AutoShape 58"/>
            <p:cNvSpPr/>
            <p:nvPr/>
          </p:nvSpPr>
          <p:spPr>
            <a:xfrm>
              <a:off x="7254000" y="3875400"/>
              <a:ext cx="387720" cy="692640"/>
            </a:xfrm>
            <a:prstGeom prst="flowChartProcess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AutoShape 59"/>
            <p:cNvSpPr/>
            <p:nvPr/>
          </p:nvSpPr>
          <p:spPr>
            <a:xfrm>
              <a:off x="7254720" y="4844520"/>
              <a:ext cx="387720" cy="692640"/>
            </a:xfrm>
            <a:prstGeom prst="flowChartProcess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60"/>
            <p:cNvSpPr/>
            <p:nvPr/>
          </p:nvSpPr>
          <p:spPr>
            <a:xfrm>
              <a:off x="7451280" y="5536080"/>
              <a:ext cx="0" cy="48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61"/>
            <p:cNvSpPr/>
            <p:nvPr/>
          </p:nvSpPr>
          <p:spPr>
            <a:xfrm>
              <a:off x="7451280" y="3597120"/>
              <a:ext cx="0" cy="27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62"/>
            <p:cNvSpPr/>
            <p:nvPr/>
          </p:nvSpPr>
          <p:spPr>
            <a:xfrm>
              <a:off x="7446240" y="4566960"/>
              <a:ext cx="0" cy="27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4" name="AutoShape 63"/>
            <p:cNvCxnSpPr>
              <a:stCxn id="304" idx="5"/>
              <a:endCxn id="308" idx="1"/>
            </p:cNvCxnSpPr>
            <p:nvPr/>
          </p:nvCxnSpPr>
          <p:spPr>
            <a:xfrm flipV="1">
              <a:off x="6531120" y="3251880"/>
              <a:ext cx="723960" cy="3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15" name="AutoShape 64"/>
            <p:cNvCxnSpPr>
              <a:stCxn id="308" idx="3"/>
              <a:endCxn id="307" idx="2"/>
            </p:cNvCxnSpPr>
            <p:nvPr/>
          </p:nvCxnSpPr>
          <p:spPr>
            <a:xfrm>
              <a:off x="7642800" y="3252240"/>
              <a:ext cx="800640" cy="3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16" name="AutoShape 65"/>
            <p:cNvCxnSpPr>
              <a:stCxn id="305" idx="5"/>
              <a:endCxn id="308" idx="1"/>
            </p:cNvCxnSpPr>
            <p:nvPr/>
          </p:nvCxnSpPr>
          <p:spPr>
            <a:xfrm flipV="1">
              <a:off x="6531120" y="3251880"/>
              <a:ext cx="723960" cy="1143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7" name="AutoShape 66"/>
            <p:cNvCxnSpPr>
              <a:stCxn id="305" idx="5"/>
              <a:endCxn id="309" idx="1"/>
            </p:cNvCxnSpPr>
            <p:nvPr/>
          </p:nvCxnSpPr>
          <p:spPr>
            <a:xfrm flipV="1">
              <a:off x="6531120" y="4221000"/>
              <a:ext cx="723240" cy="17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8" name="AutoShape 67"/>
            <p:cNvCxnSpPr>
              <a:stCxn id="309" idx="3"/>
              <a:endCxn id="307" idx="2"/>
            </p:cNvCxnSpPr>
            <p:nvPr/>
          </p:nvCxnSpPr>
          <p:spPr>
            <a:xfrm flipV="1">
              <a:off x="7642080" y="3287160"/>
              <a:ext cx="801360" cy="934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9" name="AutoShape 68"/>
            <p:cNvCxnSpPr>
              <a:stCxn id="306" idx="5"/>
              <a:endCxn id="310" idx="1"/>
            </p:cNvCxnSpPr>
            <p:nvPr/>
          </p:nvCxnSpPr>
          <p:spPr>
            <a:xfrm flipV="1">
              <a:off x="7021800" y="5190120"/>
              <a:ext cx="232920" cy="17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A5029-50A2-4F55-B4C5-7955A4775D4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he evolution of data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4360" y="1587240"/>
            <a:ext cx="8278560" cy="133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OO systems, data is more tightly coupled with cod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325" name="Group 26"/>
          <p:cNvGrpSpPr/>
          <p:nvPr/>
        </p:nvGrpSpPr>
        <p:grpSpPr>
          <a:xfrm>
            <a:off x="1000080" y="3500280"/>
            <a:ext cx="3024360" cy="1656000"/>
            <a:chOff x="1000080" y="3500280"/>
            <a:chExt cx="3024360" cy="1656000"/>
          </a:xfrm>
        </p:grpSpPr>
        <p:sp>
          <p:nvSpPr>
            <p:cNvPr id="326" name="AutoShape 8"/>
            <p:cNvSpPr/>
            <p:nvPr/>
          </p:nvSpPr>
          <p:spPr>
            <a:xfrm>
              <a:off x="1000080" y="3500280"/>
              <a:ext cx="3024360" cy="1656000"/>
            </a:xfrm>
            <a:prstGeom prst="flowChartProcess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rivat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AutoShape 4"/>
            <p:cNvSpPr/>
            <p:nvPr/>
          </p:nvSpPr>
          <p:spPr>
            <a:xfrm>
              <a:off x="1215720" y="3787560"/>
              <a:ext cx="720720" cy="108144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AutoShape 7"/>
            <p:cNvSpPr/>
            <p:nvPr/>
          </p:nvSpPr>
          <p:spPr>
            <a:xfrm>
              <a:off x="3089520" y="3787560"/>
              <a:ext cx="720720" cy="108144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AutoShape 9"/>
          <p:cNvSpPr/>
          <p:nvPr/>
        </p:nvSpPr>
        <p:spPr>
          <a:xfrm>
            <a:off x="6804000" y="3141720"/>
            <a:ext cx="1081080" cy="720720"/>
          </a:xfrm>
          <a:prstGeom prst="flowChart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27"/>
          <p:cNvSpPr/>
          <p:nvPr/>
        </p:nvSpPr>
        <p:spPr>
          <a:xfrm>
            <a:off x="6804000" y="4043520"/>
            <a:ext cx="1081080" cy="720720"/>
          </a:xfrm>
          <a:prstGeom prst="flowChart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28"/>
          <p:cNvSpPr/>
          <p:nvPr/>
        </p:nvSpPr>
        <p:spPr>
          <a:xfrm>
            <a:off x="6804000" y="4970520"/>
            <a:ext cx="1081080" cy="720720"/>
          </a:xfrm>
          <a:prstGeom prst="flowChart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29"/>
          <p:cNvSpPr/>
          <p:nvPr/>
        </p:nvSpPr>
        <p:spPr>
          <a:xfrm>
            <a:off x="7307280" y="38908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30"/>
          <p:cNvSpPr/>
          <p:nvPr/>
        </p:nvSpPr>
        <p:spPr>
          <a:xfrm>
            <a:off x="7307280" y="4789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31"/>
          <p:cNvSpPr/>
          <p:nvPr/>
        </p:nvSpPr>
        <p:spPr>
          <a:xfrm>
            <a:off x="7307280" y="56912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32"/>
          <p:cNvSpPr/>
          <p:nvPr/>
        </p:nvSpPr>
        <p:spPr>
          <a:xfrm>
            <a:off x="7307280" y="27576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43"/>
          <p:cNvSpPr/>
          <p:nvPr/>
        </p:nvSpPr>
        <p:spPr>
          <a:xfrm>
            <a:off x="3714840" y="4286160"/>
            <a:ext cx="3313080" cy="216000"/>
          </a:xfrm>
          <a:prstGeom prst="leftRightArrow">
            <a:avLst>
              <a:gd name="adj1" fmla="val 50000"/>
              <a:gd name="adj2" fmla="val 305346"/>
            </a:avLst>
          </a:prstGeom>
          <a:solidFill>
            <a:srgbClr val="790082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7"/>
          <p:cNvSpPr/>
          <p:nvPr/>
        </p:nvSpPr>
        <p:spPr>
          <a:xfrm>
            <a:off x="7000920" y="4143240"/>
            <a:ext cx="261720" cy="481320"/>
          </a:xfrm>
          <a:prstGeom prst="flowChartInputOutput">
            <a:avLst/>
          </a:prstGeom>
          <a:solidFill>
            <a:srgbClr val="f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7"/>
          <p:cNvSpPr/>
          <p:nvPr/>
        </p:nvSpPr>
        <p:spPr>
          <a:xfrm>
            <a:off x="7462800" y="4143240"/>
            <a:ext cx="260280" cy="481320"/>
          </a:xfrm>
          <a:prstGeom prst="flowChartInputOutput">
            <a:avLst/>
          </a:prstGeom>
          <a:solidFill>
            <a:srgbClr val="f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C0095-48FD-4887-9CA1-252A683C524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he evolution of data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4360" y="1660320"/>
            <a:ext cx="8278560" cy="133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me thing in OO APL system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344" name="Group 21"/>
          <p:cNvGrpSpPr/>
          <p:nvPr/>
        </p:nvGrpSpPr>
        <p:grpSpPr>
          <a:xfrm>
            <a:off x="1000080" y="3143160"/>
            <a:ext cx="3457800" cy="2008440"/>
            <a:chOff x="1000080" y="3143160"/>
            <a:chExt cx="3457800" cy="2008440"/>
          </a:xfrm>
        </p:grpSpPr>
        <p:sp>
          <p:nvSpPr>
            <p:cNvPr id="345" name="AutoShape 5"/>
            <p:cNvSpPr/>
            <p:nvPr/>
          </p:nvSpPr>
          <p:spPr>
            <a:xfrm>
              <a:off x="1000080" y="3143160"/>
              <a:ext cx="3457800" cy="2008440"/>
            </a:xfrm>
            <a:prstGeom prst="flowChartProcess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rivat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AutoShape 6"/>
            <p:cNvSpPr/>
            <p:nvPr/>
          </p:nvSpPr>
          <p:spPr>
            <a:xfrm>
              <a:off x="1246680" y="3491640"/>
              <a:ext cx="824040" cy="131148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AutoShape 7"/>
            <p:cNvSpPr/>
            <p:nvPr/>
          </p:nvSpPr>
          <p:spPr>
            <a:xfrm>
              <a:off x="3388680" y="3491640"/>
              <a:ext cx="824040" cy="131148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AutoShape 8"/>
          <p:cNvSpPr/>
          <p:nvPr/>
        </p:nvSpPr>
        <p:spPr>
          <a:xfrm>
            <a:off x="5076720" y="2824200"/>
            <a:ext cx="1081080" cy="720720"/>
          </a:xfrm>
          <a:prstGeom prst="flowChart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13"/>
          <p:cNvSpPr/>
          <p:nvPr/>
        </p:nvSpPr>
        <p:spPr>
          <a:xfrm>
            <a:off x="5076720" y="3726000"/>
            <a:ext cx="1081080" cy="720720"/>
          </a:xfrm>
          <a:prstGeom prst="flowChart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14"/>
          <p:cNvSpPr/>
          <p:nvPr/>
        </p:nvSpPr>
        <p:spPr>
          <a:xfrm>
            <a:off x="5076720" y="4653000"/>
            <a:ext cx="1081080" cy="720720"/>
          </a:xfrm>
          <a:prstGeom prst="flowChart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15"/>
          <p:cNvSpPr/>
          <p:nvPr/>
        </p:nvSpPr>
        <p:spPr>
          <a:xfrm>
            <a:off x="5580000" y="3573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17"/>
          <p:cNvSpPr/>
          <p:nvPr/>
        </p:nvSpPr>
        <p:spPr>
          <a:xfrm>
            <a:off x="5580000" y="5373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18"/>
          <p:cNvSpPr/>
          <p:nvPr/>
        </p:nvSpPr>
        <p:spPr>
          <a:xfrm>
            <a:off x="5580000" y="24400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16"/>
          <p:cNvSpPr/>
          <p:nvPr/>
        </p:nvSpPr>
        <p:spPr>
          <a:xfrm>
            <a:off x="5464080" y="4303800"/>
            <a:ext cx="0" cy="11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5"/>
          <p:cNvSpPr/>
          <p:nvPr/>
        </p:nvSpPr>
        <p:spPr>
          <a:xfrm>
            <a:off x="5072040" y="3714840"/>
            <a:ext cx="1096920" cy="736560"/>
          </a:xfrm>
          <a:prstGeom prst="flowChart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6"/>
          <p:cNvSpPr/>
          <p:nvPr/>
        </p:nvSpPr>
        <p:spPr>
          <a:xfrm>
            <a:off x="5149800" y="3843360"/>
            <a:ext cx="262080" cy="479520"/>
          </a:xfrm>
          <a:prstGeom prst="flowChartInputOutput">
            <a:avLst/>
          </a:prstGeom>
          <a:solidFill>
            <a:srgbClr val="f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7"/>
          <p:cNvSpPr/>
          <p:nvPr/>
        </p:nvSpPr>
        <p:spPr>
          <a:xfrm>
            <a:off x="5829480" y="3843360"/>
            <a:ext cx="261720" cy="479520"/>
          </a:xfrm>
          <a:prstGeom prst="flowChartInputOutput">
            <a:avLst/>
          </a:prstGeom>
          <a:solidFill>
            <a:srgbClr val="f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traight Connector 28"/>
          <p:cNvSpPr/>
          <p:nvPr/>
        </p:nvSpPr>
        <p:spPr>
          <a:xfrm>
            <a:off x="4456080" y="3147840"/>
            <a:ext cx="615960" cy="56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traight Connector 30"/>
          <p:cNvSpPr/>
          <p:nvPr/>
        </p:nvSpPr>
        <p:spPr>
          <a:xfrm flipV="1">
            <a:off x="4471200" y="4446720"/>
            <a:ext cx="590760" cy="72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15"/>
          <p:cNvSpPr/>
          <p:nvPr/>
        </p:nvSpPr>
        <p:spPr>
          <a:xfrm>
            <a:off x="5572080" y="450072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246FD-91FB-4BDE-9336-C30E20DA113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WordArt 4"/>
          <p:cNvSpPr txBox="1"/>
          <p:nvPr/>
        </p:nvSpPr>
        <p:spPr>
          <a:xfrm>
            <a:off x="826920" y="2708280"/>
            <a:ext cx="763272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dfc20"/>
                    </a:gs>
                    <a:gs pos="100000">
                      <a:srgbClr val="bed81b"/>
                    </a:gs>
                  </a:gsLst>
                  <a:lin ang="5400000"/>
                </a:gradFill>
                <a:latin typeface="Times New Roman"/>
              </a:rPr>
              <a:t>Definitions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dfc20"/>
                  </a:gs>
                  <a:gs pos="100000">
                    <a:srgbClr val="bed81b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65" name="Text Box 5"/>
          <p:cNvSpPr/>
          <p:nvPr/>
        </p:nvSpPr>
        <p:spPr>
          <a:xfrm>
            <a:off x="808200" y="281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24000" y="1069920"/>
            <a:ext cx="8712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he Object Oriented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1A328-C481-4AB7-B34C-9C50496F725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68360" y="1660320"/>
            <a:ext cx="7989840" cy="68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Object Oriented paradigm is based on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2" name="Text Box 4"/>
          <p:cNvSpPr/>
          <p:nvPr/>
        </p:nvSpPr>
        <p:spPr>
          <a:xfrm>
            <a:off x="2338560" y="2517840"/>
            <a:ext cx="4465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es &amp; Interfa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ance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mb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ssage pass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capsul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lymorphis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4BE79-3ACE-406B-A380-A9F959BB7AE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14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68000" y="1750680"/>
            <a:ext cx="835164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1. Classe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 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class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defines the abstract characteristics of some </a:t>
            </a:r>
            <a:r>
              <a:rPr b="0" i="1" lang="en-US" sz="3200" spc="-1" strike="noStrike">
                <a:solidFill>
                  <a:srgbClr val="333333"/>
                </a:solidFill>
                <a:latin typeface="Geneva"/>
              </a:rPr>
              <a:t>object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, akin to a blueprin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It describes a collection of </a:t>
            </a:r>
            <a:r>
              <a:rPr b="0" i="1" lang="en-US" sz="3200" spc="-1" strike="noStrike">
                <a:solidFill>
                  <a:srgbClr val="333333"/>
                </a:solidFill>
                <a:latin typeface="Geneva"/>
              </a:rPr>
              <a:t>members (data and code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asses can be nest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F51AD-AC1D-4783-ABDE-07405FFB255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68000" y="1733040"/>
            <a:ext cx="8351640" cy="21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Classe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Geneva"/>
              </a:rPr>
              <a:t>ex: House blueprint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383" name="Group 11"/>
          <p:cNvGrpSpPr/>
          <p:nvPr/>
        </p:nvGrpSpPr>
        <p:grpSpPr>
          <a:xfrm>
            <a:off x="3203280" y="3860640"/>
            <a:ext cx="3097440" cy="1944720"/>
            <a:chOff x="3203280" y="3860640"/>
            <a:chExt cx="3097440" cy="1944720"/>
          </a:xfrm>
        </p:grpSpPr>
        <p:sp>
          <p:nvSpPr>
            <p:cNvPr id="384" name="Rectangle 4"/>
            <p:cNvSpPr/>
            <p:nvPr/>
          </p:nvSpPr>
          <p:spPr>
            <a:xfrm>
              <a:off x="3564000" y="4581360"/>
              <a:ext cx="2376360" cy="122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5"/>
            <p:cNvSpPr/>
            <p:nvPr/>
          </p:nvSpPr>
          <p:spPr>
            <a:xfrm flipH="1">
              <a:off x="3203280" y="3860640"/>
              <a:ext cx="158436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6"/>
            <p:cNvSpPr/>
            <p:nvPr/>
          </p:nvSpPr>
          <p:spPr>
            <a:xfrm flipH="1" flipV="1">
              <a:off x="4788000" y="3860640"/>
              <a:ext cx="151272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9"/>
            <p:cNvSpPr/>
            <p:nvPr/>
          </p:nvSpPr>
          <p:spPr>
            <a:xfrm>
              <a:off x="3786120" y="5000400"/>
              <a:ext cx="857160" cy="35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10"/>
            <p:cNvSpPr/>
            <p:nvPr/>
          </p:nvSpPr>
          <p:spPr>
            <a:xfrm>
              <a:off x="5143680" y="5143320"/>
              <a:ext cx="35712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547CF-267A-4189-9715-861E99BBF74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68000" y="1733400"/>
            <a:ext cx="8351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Classe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 </a:t>
            </a:r>
            <a:r>
              <a:rPr b="0" i="1" lang="en-US" sz="3200" spc="-1" strike="noStrike">
                <a:solidFill>
                  <a:srgbClr val="333333"/>
                </a:solidFill>
                <a:latin typeface="Geneva"/>
              </a:rPr>
              <a:t>class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3200" spc="-1" strike="noStrike" u="sng">
                <a:solidFill>
                  <a:srgbClr val="333333"/>
                </a:solidFill>
                <a:uFillTx/>
                <a:latin typeface="Geneva"/>
              </a:rPr>
              <a:t>can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implement one or more </a:t>
            </a:r>
            <a:r>
              <a:rPr b="0" i="1" lang="en-US" sz="3200" spc="-1" strike="noStrike">
                <a:solidFill>
                  <a:srgbClr val="000000"/>
                </a:solidFill>
                <a:latin typeface="Geneva"/>
              </a:rPr>
              <a:t>interfaces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n 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interface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describes </a:t>
            </a: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what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it should do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clas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describes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how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t should be don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a class implements an interface it should do it completely, no partial implementation is allow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0E286-1BA8-4E9D-B6AC-6CC13D5D12C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68000" y="1733040"/>
            <a:ext cx="8351640" cy="27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Interface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n 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interface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describes how to communicate with an objec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x: electrical system &amp; electrical outle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399" name="Picture 7" descr="C:\Users\Danb\Pictures\outlet.jpg"/>
          <p:cNvPicPr/>
          <p:nvPr/>
        </p:nvPicPr>
        <p:blipFill>
          <a:blip r:embed="rId1"/>
          <a:stretch/>
        </p:blipFill>
        <p:spPr>
          <a:xfrm>
            <a:off x="3049560" y="4043520"/>
            <a:ext cx="2808360" cy="169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56C9C-17B1-4EC2-8AAC-CDA9D74C41C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verag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339640" y="2449440"/>
            <a:ext cx="4103640" cy="28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Genev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Geneva"/>
              </a:rPr>
              <a:t>History of OO</a:t>
            </a:r>
            <a:endParaRPr b="0" lang="en-US" sz="4000" spc="-1" strike="noStrike">
              <a:solidFill>
                <a:srgbClr val="333333"/>
              </a:solidFill>
              <a:latin typeface="Geneva"/>
            </a:endParaRPr>
          </a:p>
          <a:p>
            <a:pPr marL="711360" indent="-711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Genev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Geneva"/>
              </a:rPr>
              <a:t>Definitions</a:t>
            </a:r>
            <a:endParaRPr b="0" lang="en-US" sz="4000" spc="-1" strike="noStrike">
              <a:solidFill>
                <a:srgbClr val="333333"/>
              </a:solidFill>
              <a:latin typeface="Geneva"/>
            </a:endParaRPr>
          </a:p>
          <a:p>
            <a:pPr marL="711360" indent="-711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Genev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Geneva"/>
              </a:rPr>
              <a:t>The APL way</a:t>
            </a:r>
            <a:endParaRPr b="0" lang="en-US" sz="4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B391A-6141-42BC-8591-3FE4AEE8006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nterfaces -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94920" y="1820520"/>
            <a:ext cx="80643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following 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maneuvering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interface describes what 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HA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to be done with a machine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Method 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Steer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(direction);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 // where to go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Method 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Accellerate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(power);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 // go faster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Method 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SlowDown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(strength); // go slower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t does NOT specify 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HOW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it should be done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DF948-6A82-4916-A96F-4E3223E5E7E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7" descr="carcockpit3"/>
          <p:cNvPicPr/>
          <p:nvPr/>
        </p:nvPicPr>
        <p:blipFill>
          <a:blip r:embed="rId1"/>
          <a:stretch/>
        </p:blipFill>
        <p:spPr>
          <a:xfrm>
            <a:off x="5943600" y="1916280"/>
            <a:ext cx="3205080" cy="424944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nterfaces -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81080" y="1371240"/>
            <a:ext cx="8207280" cy="6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car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bject implements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 maneuvering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1" name="Text Box 4"/>
          <p:cNvSpPr/>
          <p:nvPr/>
        </p:nvSpPr>
        <p:spPr>
          <a:xfrm>
            <a:off x="179280" y="2085840"/>
            <a:ext cx="6264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car : maneuverin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SteeringWhee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imple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maneuvering.Ste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turn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GasPeda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imple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maneuvering.Accellerat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push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BreakPeda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imple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maneuvering.SlowDow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hit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B7EC8-A2F1-40B1-905A-1F5AE828E48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5" descr="cockpit2"/>
          <p:cNvPicPr/>
          <p:nvPr/>
        </p:nvPicPr>
        <p:blipFill>
          <a:blip r:embed="rId1"/>
          <a:stretch/>
        </p:blipFill>
        <p:spPr>
          <a:xfrm>
            <a:off x="5722920" y="2060640"/>
            <a:ext cx="3421080" cy="403236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nterfaces -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78920" y="1371240"/>
            <a:ext cx="8533080" cy="6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plane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bject implements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 maneuvering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8" name="Text Box 4"/>
          <p:cNvSpPr/>
          <p:nvPr/>
        </p:nvSpPr>
        <p:spPr>
          <a:xfrm>
            <a:off x="250920" y="2157480"/>
            <a:ext cx="5761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pla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maneuverin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Yok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implement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maneuvering.Ste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move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Hand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implement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maneuvering.Accellerat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pp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lap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implement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maneuvering.SlowDow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degree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C5DD8-5C2E-4FC7-9AA3-9747199EF92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68360" y="1589040"/>
            <a:ext cx="7989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2. Instance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ose are tangible </a:t>
            </a:r>
            <a:r>
              <a:rPr b="0" i="1" lang="en-US" sz="3200" spc="-1" strike="noStrike">
                <a:solidFill>
                  <a:srgbClr val="333333"/>
                </a:solidFill>
                <a:latin typeface="Geneva"/>
              </a:rPr>
              <a:t>objects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created from a specific clas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pon creation any specific action is carried out by the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constructor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(code) of the class if some sort of initialization is requir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pon destruction, the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destructor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s responsible for cleaning up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BAC75-DC58-4733-BB42-1D18ACEDF6F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68000" y="1588680"/>
            <a:ext cx="3817800" cy="15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2. Instance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New House (Blue)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429" name="Group 11" descr=""/>
          <p:cNvPicPr/>
          <p:nvPr/>
        </p:nvPicPr>
        <p:blipFill>
          <a:blip r:embed="rId1"/>
          <a:stretch/>
        </p:blipFill>
        <p:spPr>
          <a:xfrm>
            <a:off x="3054240" y="2981160"/>
            <a:ext cx="3121200" cy="1968840"/>
          </a:xfrm>
          <a:prstGeom prst="rect">
            <a:avLst/>
          </a:prstGeom>
          <a:ln w="0">
            <a:noFill/>
          </a:ln>
        </p:spPr>
      </p:pic>
      <p:sp>
        <p:nvSpPr>
          <p:cNvPr id="430" name="Isosceles Triangle 12"/>
          <p:cNvSpPr/>
          <p:nvPr/>
        </p:nvSpPr>
        <p:spPr>
          <a:xfrm>
            <a:off x="3429000" y="2998800"/>
            <a:ext cx="2428920" cy="716040"/>
          </a:xfrm>
          <a:prstGeom prst="triangle">
            <a:avLst>
              <a:gd name="adj" fmla="val 49574"/>
            </a:avLst>
          </a:prstGeom>
          <a:solidFill>
            <a:srgbClr val="72bfc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13"/>
          <p:cNvSpPr/>
          <p:nvPr/>
        </p:nvSpPr>
        <p:spPr>
          <a:xfrm>
            <a:off x="605520" y="5072040"/>
            <a:ext cx="740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fter the creation of the new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ous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structor paints it in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C7AF6-00E0-4C65-802C-EE40995A2BD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55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94920" y="1660320"/>
            <a:ext cx="8280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3. Member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s is the code and the data of a clas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code is divided into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Method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(functions) and data is divided into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Field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(variables)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are also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Propertie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which are Fields implemented via functions to read/set them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7A96D-CAE3-4732-9A3F-A1C7DDBE9AF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95280" y="1589040"/>
            <a:ext cx="8640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Member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se can reside inside the class if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share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or in the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instance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therwis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x: the .Net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clas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ateTim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has a member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Now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hat does not require an instance to be called. e.g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ateTime.Now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⍝ straight from the clas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2007/10/21  9:12:04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6E023-E730-4E9F-A658-B554F6AAF1E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94920" y="1589040"/>
            <a:ext cx="4824360" cy="126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Shared vs Instance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3562200" y="2565360"/>
            <a:ext cx="194472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1 S2 S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I1 I2 I3 I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695160" y="2462040"/>
            <a:ext cx="27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ared memb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main in the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6"/>
          <p:cNvSpPr/>
          <p:nvPr/>
        </p:nvSpPr>
        <p:spPr>
          <a:xfrm>
            <a:off x="1042920" y="4510080"/>
            <a:ext cx="1944720" cy="1295280"/>
          </a:xfrm>
          <a:prstGeom prst="rect">
            <a:avLst/>
          </a:prstGeom>
          <a:solidFill>
            <a:srgbClr val="8fff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S1 S2 S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1 I2 I3 I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7"/>
          <p:cNvSpPr/>
          <p:nvPr/>
        </p:nvSpPr>
        <p:spPr>
          <a:xfrm>
            <a:off x="3562200" y="4510080"/>
            <a:ext cx="1944720" cy="1295280"/>
          </a:xfrm>
          <a:prstGeom prst="rect">
            <a:avLst/>
          </a:prstGeom>
          <a:solidFill>
            <a:srgbClr val="8fff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S1 S2 S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1 I2 I3 I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8"/>
          <p:cNvSpPr/>
          <p:nvPr/>
        </p:nvSpPr>
        <p:spPr>
          <a:xfrm>
            <a:off x="6083280" y="4510080"/>
            <a:ext cx="1944720" cy="1295280"/>
          </a:xfrm>
          <a:prstGeom prst="rect">
            <a:avLst/>
          </a:prstGeom>
          <a:solidFill>
            <a:srgbClr val="8fff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S1 S2 S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1 I2 I3 I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9"/>
          <p:cNvSpPr/>
          <p:nvPr/>
        </p:nvSpPr>
        <p:spPr>
          <a:xfrm>
            <a:off x="5900040" y="3033720"/>
            <a:ext cx="277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tance member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e created in t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t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AutoShape 10"/>
          <p:cNvCxnSpPr>
            <a:stCxn id="447" idx="2"/>
            <a:endCxn id="449" idx="0"/>
          </p:cNvCxnSpPr>
          <p:nvPr/>
        </p:nvCxnSpPr>
        <p:spPr>
          <a:xfrm flipH="1">
            <a:off x="2015280" y="3860640"/>
            <a:ext cx="2520360" cy="650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454" name="AutoShape 12"/>
          <p:cNvCxnSpPr>
            <a:stCxn id="447" idx="2"/>
            <a:endCxn id="450" idx="0"/>
          </p:cNvCxnSpPr>
          <p:nvPr/>
        </p:nvCxnSpPr>
        <p:spPr>
          <a:xfrm>
            <a:off x="4535280" y="3860640"/>
            <a:ext cx="1080" cy="650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455" name="AutoShape 13"/>
          <p:cNvCxnSpPr>
            <a:stCxn id="447" idx="2"/>
            <a:endCxn id="451" idx="0"/>
          </p:cNvCxnSpPr>
          <p:nvPr/>
        </p:nvCxnSpPr>
        <p:spPr>
          <a:xfrm>
            <a:off x="4535640" y="3860640"/>
            <a:ext cx="2521440" cy="650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212D7-0B3A-4508-A7A2-17453A88432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660320"/>
            <a:ext cx="7989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Members: </a:t>
            </a:r>
            <a:r>
              <a:rPr b="0" i="1" lang="en-US" sz="3600" spc="-1" strike="noStrike">
                <a:solidFill>
                  <a:srgbClr val="333333"/>
                </a:solidFill>
                <a:latin typeface="Geneva"/>
              </a:rPr>
              <a:t>Method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ose can either reside in the class (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shared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method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) or in the instance (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instance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method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)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are also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abstrac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methods (e.g. in interfaces) with no code, only calling syntax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Constructor</a:t>
            </a:r>
            <a:r>
              <a:rPr b="0" i="1" lang="en-GB" sz="3200" spc="-1" strike="noStrike">
                <a:solidFill>
                  <a:srgbClr val="000000"/>
                </a:solidFill>
                <a:latin typeface="Geneva"/>
              </a:rPr>
              <a:t>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nd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destructor</a:t>
            </a:r>
            <a:r>
              <a:rPr b="0" i="1" lang="en-GB" sz="3200" spc="-1" strike="noStrike">
                <a:solidFill>
                  <a:srgbClr val="000000"/>
                </a:solidFill>
                <a:latin typeface="Geneva"/>
              </a:rPr>
              <a:t>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re method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BAF6A-F697-42C9-8FEC-1ABE4BB7BB5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805040"/>
            <a:ext cx="7989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Members: </a:t>
            </a:r>
            <a:r>
              <a:rPr b="0" i="1" lang="en-US" sz="3600" spc="-1" strike="noStrike">
                <a:solidFill>
                  <a:srgbClr val="333333"/>
                </a:solidFill>
                <a:latin typeface="Geneva"/>
              </a:rPr>
              <a:t>Field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ose can either reside in the class (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shared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field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) or in the instance (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instance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field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)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can also be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read only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17839-3D24-4C07-9633-164D7E77999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Reasons: why do this?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7632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Because Object Orientation is a Valuable Tool of Thought!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-609480"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To be able to Share Tools and Components more Easil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-609480"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To help us Manage Complexity in all Project Phas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-609480"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use .Net more easil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D76D9-6B8B-41EE-B144-7773950E098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12720" y="1660320"/>
            <a:ext cx="8352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Members: </a:t>
            </a:r>
            <a:r>
              <a:rPr b="0" i="1" lang="en-US" sz="3600" spc="-1" strike="noStrike">
                <a:solidFill>
                  <a:srgbClr val="333333"/>
                </a:solidFill>
                <a:latin typeface="Geneva"/>
              </a:rPr>
              <a:t>Propertie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ose are </a:t>
            </a:r>
            <a:r>
              <a:rPr b="0" i="1" lang="en-US" sz="3200" spc="-1" strike="noStrike">
                <a:solidFill>
                  <a:srgbClr val="333333"/>
                </a:solidFill>
                <a:latin typeface="Geneva"/>
              </a:rPr>
              <a:t>Fields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mplemented by </a:t>
            </a:r>
            <a:r>
              <a:rPr b="0" i="1" lang="en-GB" sz="3200" spc="-1" strike="noStrike">
                <a:solidFill>
                  <a:srgbClr val="000000"/>
                </a:solidFill>
                <a:latin typeface="Geneva"/>
              </a:rPr>
              <a:t>accessing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methods, i.e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 </a:t>
            </a:r>
            <a:r>
              <a:rPr b="0" lang="en-GB" sz="2800" spc="-1" strike="noStrike">
                <a:solidFill>
                  <a:srgbClr val="333333"/>
                </a:solidFill>
                <a:latin typeface="APL385 Unicode"/>
              </a:rPr>
              <a:t>PropX←</a:t>
            </a:r>
            <a:r>
              <a:rPr b="0" lang="fr-CA" sz="2800" spc="-1" strike="noStrike">
                <a:solidFill>
                  <a:srgbClr val="333333"/>
                </a:solidFill>
                <a:latin typeface="APL385 Unicode"/>
              </a:rPr>
              <a:t>value </a:t>
            </a:r>
            <a:r>
              <a:rPr b="0" lang="fr-CA" sz="2800" spc="-1" strike="noStrike">
                <a:solidFill>
                  <a:srgbClr val="333333"/>
                </a:solidFill>
                <a:latin typeface="APL385 Unicode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⍝ </a:t>
            </a:r>
            <a:r>
              <a:rPr b="0" lang="fr-CA" sz="2800" spc="-1" strike="noStrike">
                <a:solidFill>
                  <a:srgbClr val="333333"/>
                </a:solidFill>
                <a:latin typeface="Geneva"/>
              </a:rPr>
              <a:t>is implemented by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333333"/>
                </a:solidFill>
                <a:latin typeface="APL385 Unicode"/>
              </a:rPr>
              <a:t> </a:t>
            </a:r>
            <a:r>
              <a:rPr b="0" lang="fr-CA" sz="2800" spc="-1" strike="noStrike">
                <a:solidFill>
                  <a:srgbClr val="333333"/>
                </a:solidFill>
                <a:latin typeface="APL385 Unicode"/>
              </a:rPr>
              <a:t>SET valu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ey can either reside in the class (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shared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property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) or in the instance (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instance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property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)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3729E-AD07-4645-8A54-16627C1128C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39640" y="1805040"/>
            <a:ext cx="8640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4. Message passing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s is the (usually asynchronous) sending (often by copy) of a data item to a communication endpoint (process, thread, socket, etc.)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a procedural language (like Dyalog), it corresponds to a call made to a routin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35270-B12C-4245-81A2-3D1E94864A2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66560" y="1589040"/>
            <a:ext cx="839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5. Inheritance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This is a way to avoid rewriting code by writing general classes and classes that </a:t>
            </a:r>
            <a:r>
              <a:rPr b="0" i="1" lang="fr-CA" sz="3200" spc="-1" strike="noStrike">
                <a:solidFill>
                  <a:srgbClr val="333333"/>
                </a:solidFill>
                <a:latin typeface="Geneva"/>
              </a:rPr>
              <a:t>derive</a:t>
            </a: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 from them and </a:t>
            </a:r>
            <a:r>
              <a:rPr b="0" i="1" lang="fr-CA" sz="3200" spc="-1" strike="noStrike">
                <a:solidFill>
                  <a:srgbClr val="333333"/>
                </a:solidFill>
                <a:latin typeface="Geneva"/>
              </a:rPr>
              <a:t>inherit</a:t>
            </a: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 their </a:t>
            </a:r>
            <a:r>
              <a:rPr b="0" i="1" lang="fr-CA" sz="3200" spc="-1" strike="noStrike">
                <a:solidFill>
                  <a:srgbClr val="333333"/>
                </a:solidFill>
                <a:latin typeface="Geneva"/>
              </a:rPr>
              <a:t>members</a:t>
            </a: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This helps achieve </a:t>
            </a:r>
            <a:r>
              <a:rPr b="0" i="1" lang="fr-CA" sz="3200" spc="-1" strike="noStrike">
                <a:solidFill>
                  <a:srgbClr val="333333"/>
                </a:solidFill>
                <a:latin typeface="Geneva"/>
              </a:rPr>
              <a:t>reusability, </a:t>
            </a: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a cornerstone of OO by avoiding to rewrite code and use what already exist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9DC80-8312-4A60-AC90-CDC057B84F2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95280" y="1733400"/>
            <a:ext cx="8640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Inheritance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We say that a (</a:t>
            </a:r>
            <a:r>
              <a:rPr b="0" i="1" lang="fr-CA" sz="3200" spc="-1" strike="noStrike">
                <a:solidFill>
                  <a:srgbClr val="333333"/>
                </a:solidFill>
                <a:latin typeface="Geneva"/>
              </a:rPr>
              <a:t>derived)</a:t>
            </a: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 class is </a:t>
            </a:r>
            <a:r>
              <a:rPr b="0" i="1" lang="fr-CA" sz="3200" spc="-1" strike="noStrike">
                <a:solidFill>
                  <a:srgbClr val="99cc00"/>
                </a:solidFill>
                <a:latin typeface="Geneva"/>
              </a:rPr>
              <a:t>based</a:t>
            </a: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 on another on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333333"/>
                </a:solidFill>
                <a:latin typeface="Geneva"/>
              </a:rPr>
              <a:t>All</a:t>
            </a: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 classes (but one) are derived from another one or from </a:t>
            </a:r>
            <a:r>
              <a:rPr b="0" i="1" lang="fr-CA" sz="3200" spc="-1" strike="noStrike">
                <a:solidFill>
                  <a:srgbClr val="333333"/>
                </a:solidFill>
                <a:latin typeface="Geneva"/>
              </a:rPr>
              <a:t>System.Object</a:t>
            </a: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 (the default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0B02C-1E6F-4FD6-9CA8-B85FAF8CF3E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31280" y="1660320"/>
            <a:ext cx="8388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Inheritance: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Based classes (</a:t>
            </a:r>
            <a:r>
              <a:rPr b="0" i="1" lang="en-GB" sz="2800" spc="-1" strike="noStrike">
                <a:solidFill>
                  <a:srgbClr val="333333"/>
                </a:solidFill>
                <a:latin typeface="Geneva"/>
              </a:rPr>
              <a:t>reusability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A </a:t>
            </a:r>
            <a:r>
              <a:rPr b="0" lang="en-GB" sz="2800" spc="-1" strike="noStrike">
                <a:solidFill>
                  <a:srgbClr val="00ccff"/>
                </a:solidFill>
                <a:latin typeface="Geneva"/>
              </a:rPr>
              <a:t>clas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can be based on another based class. See </a:t>
            </a:r>
            <a:r>
              <a:rPr b="0" lang="en-GB" sz="2800" spc="-1" strike="noStrike">
                <a:solidFill>
                  <a:srgbClr val="00ccff"/>
                </a:solidFill>
                <a:latin typeface="Geneva"/>
              </a:rPr>
              <a:t>clas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Collie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based on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 Dog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based on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 Animal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491" name="Group 24"/>
          <p:cNvGrpSpPr/>
          <p:nvPr/>
        </p:nvGrpSpPr>
        <p:grpSpPr>
          <a:xfrm>
            <a:off x="322200" y="3287880"/>
            <a:ext cx="8353440" cy="2877480"/>
            <a:chOff x="322200" y="3287880"/>
            <a:chExt cx="8353440" cy="2877480"/>
          </a:xfrm>
        </p:grpSpPr>
        <p:sp>
          <p:nvSpPr>
            <p:cNvPr id="492" name="Rectangle 4"/>
            <p:cNvSpPr/>
            <p:nvPr/>
          </p:nvSpPr>
          <p:spPr>
            <a:xfrm>
              <a:off x="827280" y="4366800"/>
              <a:ext cx="158400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nimal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5"/>
            <p:cNvSpPr/>
            <p:nvPr/>
          </p:nvSpPr>
          <p:spPr>
            <a:xfrm>
              <a:off x="2914560" y="3574800"/>
              <a:ext cx="1584360" cy="100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og: Animal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ectangle 6"/>
            <p:cNvSpPr/>
            <p:nvPr/>
          </p:nvSpPr>
          <p:spPr>
            <a:xfrm>
              <a:off x="7091280" y="5157360"/>
              <a:ext cx="1584360" cy="1008000"/>
            </a:xfrm>
            <a:prstGeom prst="rect">
              <a:avLst/>
            </a:prstGeom>
            <a:solidFill>
              <a:srgbClr val="6bfd8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x (Collie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ectangle 7"/>
            <p:cNvSpPr/>
            <p:nvPr/>
          </p:nvSpPr>
          <p:spPr>
            <a:xfrm>
              <a:off x="2914560" y="4943160"/>
              <a:ext cx="1584360" cy="100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ish: Animal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Rectangle 8"/>
            <p:cNvSpPr/>
            <p:nvPr/>
          </p:nvSpPr>
          <p:spPr>
            <a:xfrm>
              <a:off x="7091280" y="4006440"/>
              <a:ext cx="1584360" cy="1008000"/>
            </a:xfrm>
            <a:prstGeom prst="rect">
              <a:avLst/>
            </a:prstGeom>
            <a:solidFill>
              <a:srgbClr val="6bfd8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ido (Collie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13"/>
            <p:cNvSpPr/>
            <p:nvPr/>
          </p:nvSpPr>
          <p:spPr>
            <a:xfrm>
              <a:off x="5002200" y="3287880"/>
              <a:ext cx="1944720" cy="100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Great Dane: Dog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Rectangle 14"/>
            <p:cNvSpPr/>
            <p:nvPr/>
          </p:nvSpPr>
          <p:spPr>
            <a:xfrm>
              <a:off x="5002200" y="4654440"/>
              <a:ext cx="1584360" cy="100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llie: Dog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9" name="AutoShape 15"/>
            <p:cNvCxnSpPr>
              <a:stCxn id="492" idx="3"/>
              <a:endCxn id="493" idx="1"/>
            </p:cNvCxnSpPr>
            <p:nvPr/>
          </p:nvCxnSpPr>
          <p:spPr>
            <a:xfrm flipV="1">
              <a:off x="2411280" y="4079160"/>
              <a:ext cx="504000" cy="79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0" name="AutoShape 16"/>
            <p:cNvCxnSpPr>
              <a:stCxn id="492" idx="3"/>
              <a:endCxn id="495" idx="1"/>
            </p:cNvCxnSpPr>
            <p:nvPr/>
          </p:nvCxnSpPr>
          <p:spPr>
            <a:xfrm>
              <a:off x="2411280" y="4871520"/>
              <a:ext cx="504000" cy="57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1" name="AutoShape 17"/>
            <p:cNvCxnSpPr>
              <a:stCxn id="493" idx="3"/>
              <a:endCxn id="497" idx="1"/>
            </p:cNvCxnSpPr>
            <p:nvPr/>
          </p:nvCxnSpPr>
          <p:spPr>
            <a:xfrm flipV="1">
              <a:off x="4498920" y="3791520"/>
              <a:ext cx="504000" cy="287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2" name="AutoShape 18"/>
            <p:cNvCxnSpPr>
              <a:stCxn id="493" idx="3"/>
              <a:endCxn id="498" idx="1"/>
            </p:cNvCxnSpPr>
            <p:nvPr/>
          </p:nvCxnSpPr>
          <p:spPr>
            <a:xfrm>
              <a:off x="4498920" y="4079520"/>
              <a:ext cx="504000" cy="108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3" name="AutoShape 19"/>
            <p:cNvCxnSpPr>
              <a:stCxn id="498" idx="3"/>
              <a:endCxn id="496" idx="1"/>
            </p:cNvCxnSpPr>
            <p:nvPr/>
          </p:nvCxnSpPr>
          <p:spPr>
            <a:xfrm flipV="1">
              <a:off x="6586560" y="4511160"/>
              <a:ext cx="505440" cy="648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4" name="AutoShape 20"/>
            <p:cNvCxnSpPr>
              <a:stCxn id="498" idx="3"/>
              <a:endCxn id="494" idx="1"/>
            </p:cNvCxnSpPr>
            <p:nvPr/>
          </p:nvCxnSpPr>
          <p:spPr>
            <a:xfrm>
              <a:off x="6586560" y="5158800"/>
              <a:ext cx="505440" cy="503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5" name="Text Box 21"/>
            <p:cNvSpPr/>
            <p:nvPr/>
          </p:nvSpPr>
          <p:spPr>
            <a:xfrm>
              <a:off x="7164720" y="3549240"/>
              <a:ext cx="148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6bfd87"/>
                  </a:solidFill>
                  <a:latin typeface="Arial"/>
                </a:rPr>
                <a:t>Instances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 Box 22"/>
            <p:cNvSpPr/>
            <p:nvPr/>
          </p:nvSpPr>
          <p:spPr>
            <a:xfrm>
              <a:off x="3193920" y="4546440"/>
              <a:ext cx="108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ccff"/>
                  </a:solidFill>
                  <a:latin typeface="Arial"/>
                </a:rPr>
                <a:t>Classe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23"/>
            <p:cNvSpPr/>
            <p:nvPr/>
          </p:nvSpPr>
          <p:spPr>
            <a:xfrm>
              <a:off x="322200" y="487008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42EC3-8FF2-4CB3-AAFF-7CDC45FA336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324000" y="1589040"/>
            <a:ext cx="8640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Inheritance: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multiple inheritan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</a:t>
            </a:r>
            <a:r>
              <a:rPr b="0" lang="en-GB" sz="3200" spc="-1" strike="noStrike">
                <a:solidFill>
                  <a:srgbClr val="00ccff"/>
                </a:solidFill>
                <a:latin typeface="Geneva"/>
              </a:rPr>
              <a:t>clas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can be based on several other classes Here </a:t>
            </a:r>
            <a:r>
              <a:rPr b="0" lang="en-GB" sz="3200" spc="-1" strike="noStrike">
                <a:solidFill>
                  <a:srgbClr val="00ccff"/>
                </a:solidFill>
                <a:latin typeface="Geneva"/>
              </a:rPr>
              <a:t>class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Mule is made out of 2 different class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513" name="Group 21"/>
          <p:cNvGrpSpPr/>
          <p:nvPr/>
        </p:nvGrpSpPr>
        <p:grpSpPr>
          <a:xfrm>
            <a:off x="2771640" y="3429000"/>
            <a:ext cx="3889440" cy="2374920"/>
            <a:chOff x="2771640" y="3429000"/>
            <a:chExt cx="3889440" cy="2374920"/>
          </a:xfrm>
        </p:grpSpPr>
        <p:sp>
          <p:nvSpPr>
            <p:cNvPr id="514" name="Rectangle 9"/>
            <p:cNvSpPr/>
            <p:nvPr/>
          </p:nvSpPr>
          <p:spPr>
            <a:xfrm>
              <a:off x="2771640" y="3429000"/>
              <a:ext cx="158436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Hors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10"/>
            <p:cNvSpPr/>
            <p:nvPr/>
          </p:nvSpPr>
          <p:spPr>
            <a:xfrm>
              <a:off x="2771640" y="4795920"/>
              <a:ext cx="158436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onkey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6" name="AutoShape 15"/>
            <p:cNvCxnSpPr>
              <a:stCxn id="515" idx="3"/>
              <a:endCxn id="517" idx="1"/>
            </p:cNvCxnSpPr>
            <p:nvPr/>
          </p:nvCxnSpPr>
          <p:spPr>
            <a:xfrm flipV="1">
              <a:off x="4356000" y="4725720"/>
              <a:ext cx="721440" cy="575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8" name="AutoShape 19"/>
            <p:cNvCxnSpPr>
              <a:stCxn id="514" idx="3"/>
              <a:endCxn id="517" idx="1"/>
            </p:cNvCxnSpPr>
            <p:nvPr/>
          </p:nvCxnSpPr>
          <p:spPr>
            <a:xfrm>
              <a:off x="4356000" y="3933360"/>
              <a:ext cx="721440" cy="793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7" name="Rectangle 20"/>
            <p:cNvSpPr/>
            <p:nvPr/>
          </p:nvSpPr>
          <p:spPr>
            <a:xfrm>
              <a:off x="5076720" y="4221000"/>
              <a:ext cx="158436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ul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F9AEE-4C20-4480-B5A5-CEA825911B8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04720" y="1660320"/>
            <a:ext cx="8460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Inheritance: 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mulate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multiple inheritan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</a:t>
            </a:r>
            <a:r>
              <a:rPr b="0" lang="en-GB" sz="3200" spc="-1" strike="noStrike">
                <a:solidFill>
                  <a:srgbClr val="00ccff"/>
                </a:solidFill>
                <a:latin typeface="Geneva"/>
              </a:rPr>
              <a:t>clas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can implement several interfaces. Here </a:t>
            </a:r>
            <a:r>
              <a:rPr b="0" lang="en-GB" sz="3200" spc="-1" strike="noStrike">
                <a:solidFill>
                  <a:srgbClr val="00ccff"/>
                </a:solidFill>
                <a:latin typeface="Geneva"/>
              </a:rPr>
              <a:t>class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Penguin implements 2 different behaviours (interfaces)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4" name="Rectangle 5"/>
          <p:cNvSpPr/>
          <p:nvPr/>
        </p:nvSpPr>
        <p:spPr>
          <a:xfrm>
            <a:off x="2556000" y="4005360"/>
            <a:ext cx="1584360" cy="1008000"/>
          </a:xfrm>
          <a:prstGeom prst="rect">
            <a:avLst/>
          </a:prstGeom>
          <a:solidFill>
            <a:srgbClr val="ddfc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swim,egg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6"/>
          <p:cNvSpPr/>
          <p:nvPr/>
        </p:nvSpPr>
        <p:spPr>
          <a:xfrm>
            <a:off x="2556000" y="5156280"/>
            <a:ext cx="1584360" cy="1008000"/>
          </a:xfrm>
          <a:prstGeom prst="rect">
            <a:avLst/>
          </a:prstGeom>
          <a:solidFill>
            <a:srgbClr val="ddfc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ir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fly,eggs,sing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6" name="AutoShape 7"/>
          <p:cNvCxnSpPr>
            <a:stCxn id="525" idx="3"/>
            <a:endCxn id="527" idx="1"/>
          </p:cNvCxnSpPr>
          <p:nvPr/>
        </p:nvCxnSpPr>
        <p:spPr>
          <a:xfrm flipV="1">
            <a:off x="4140360" y="5086080"/>
            <a:ext cx="721440" cy="57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8" name="AutoShape 8"/>
          <p:cNvCxnSpPr>
            <a:stCxn id="524" idx="3"/>
            <a:endCxn id="527" idx="1"/>
          </p:cNvCxnSpPr>
          <p:nvPr/>
        </p:nvCxnSpPr>
        <p:spPr>
          <a:xfrm>
            <a:off x="4140360" y="4509720"/>
            <a:ext cx="721440" cy="57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7" name="Rectangle 9"/>
          <p:cNvSpPr/>
          <p:nvPr/>
        </p:nvSpPr>
        <p:spPr>
          <a:xfrm>
            <a:off x="4861080" y="4365720"/>
            <a:ext cx="215892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ngui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wims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lies no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 egg/y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roaks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3A799-0C62-4777-9D20-7AE7AF83CED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24000" y="1805040"/>
            <a:ext cx="8640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Inheritance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When an </a:t>
            </a:r>
            <a:r>
              <a:rPr b="0" i="1" lang="fr-CA" sz="3200" spc="-1" strike="noStrike">
                <a:solidFill>
                  <a:srgbClr val="99cc00"/>
                </a:solidFill>
                <a:latin typeface="Geneva"/>
              </a:rPr>
              <a:t>instance</a:t>
            </a: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 is created from a class </a:t>
            </a:r>
            <a:r>
              <a:rPr b="0" i="1" lang="fr-CA" sz="3200" spc="-1" strike="noStrike">
                <a:solidFill>
                  <a:srgbClr val="99cc00"/>
                </a:solidFill>
                <a:latin typeface="Geneva"/>
              </a:rPr>
              <a:t>based</a:t>
            </a: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 on another one it inherits all its members automaticall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Members can be redefined but </a:t>
            </a:r>
            <a:r>
              <a:rPr b="0" lang="fr-CA" sz="3200" spc="-1" strike="noStrike" u="sng">
                <a:solidFill>
                  <a:srgbClr val="333333"/>
                </a:solidFill>
                <a:uFillTx/>
                <a:latin typeface="Geneva"/>
              </a:rPr>
              <a:t>subroutines</a:t>
            </a: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 must be specifically set to </a:t>
            </a:r>
            <a:r>
              <a:rPr b="0" i="1" lang="fr-CA" sz="3200" spc="-1" strike="noStrike">
                <a:solidFill>
                  <a:srgbClr val="99cc00"/>
                </a:solidFill>
                <a:latin typeface="Geneva"/>
              </a:rPr>
              <a:t>override</a:t>
            </a: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 base class subroutin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B1C10-1152-4EEE-9BFD-5E52E5502DC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24000" y="1805040"/>
            <a:ext cx="8640720" cy="24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Inheritance: a </a:t>
            </a:r>
            <a:r>
              <a:rPr b="0" i="1" lang="en-US" sz="3600" spc="-1" strike="noStrike">
                <a:solidFill>
                  <a:srgbClr val="333333"/>
                </a:solidFill>
                <a:latin typeface="Geneva"/>
              </a:rPr>
              <a:t>derived</a:t>
            </a: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 class inherits all the base member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9" name="Rectangle 4"/>
          <p:cNvSpPr/>
          <p:nvPr/>
        </p:nvSpPr>
        <p:spPr>
          <a:xfrm>
            <a:off x="900000" y="3355920"/>
            <a:ext cx="1727280" cy="216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ember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ember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5"/>
          <p:cNvSpPr/>
          <p:nvPr/>
        </p:nvSpPr>
        <p:spPr>
          <a:xfrm>
            <a:off x="6156360" y="3355920"/>
            <a:ext cx="1727280" cy="2160720"/>
          </a:xfrm>
          <a:prstGeom prst="rect">
            <a:avLst/>
          </a:prstGeom>
          <a:solidFill>
            <a:srgbClr val="bbe0e3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2: C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ember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embe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75341E-006 L -0.29254 -0.00023 E">
                                      <p:cBhvr>
                                        <p:cTn id="54" dur="2000" fill="hold"/>
                                        <p:tgtEl>
                                          <p:spTgt spid="5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4.3257E-007 L 0.28351 0.00023 E">
                                      <p:cBhvr>
                                        <p:cTn id="56" dur="2000" fill="hold"/>
                                        <p:tgtEl>
                                          <p:spTgt spid="5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35910-4CB0-4C9A-B1F3-CA85566DEE6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24000" y="1805040"/>
            <a:ext cx="8640720" cy="24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Inheritance: a </a:t>
            </a:r>
            <a:r>
              <a:rPr b="0" i="1" lang="en-US" sz="3600" spc="-1" strike="noStrike">
                <a:solidFill>
                  <a:srgbClr val="333333"/>
                </a:solidFill>
                <a:latin typeface="Geneva"/>
              </a:rPr>
              <a:t>derived</a:t>
            </a: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 class inherits all the base member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6" name="Rectangle 4"/>
          <p:cNvSpPr/>
          <p:nvPr/>
        </p:nvSpPr>
        <p:spPr>
          <a:xfrm>
            <a:off x="900000" y="3355920"/>
            <a:ext cx="1727280" cy="216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469ff"/>
                </a:solidFill>
                <a:latin typeface="Arial"/>
              </a:rPr>
              <a:t>member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469ff"/>
                </a:solidFill>
                <a:latin typeface="Arial"/>
              </a:rPr>
              <a:t>member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469ff"/>
                </a:solidFill>
                <a:latin typeface="Arial"/>
              </a:rPr>
              <a:t>member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5"/>
          <p:cNvSpPr/>
          <p:nvPr/>
        </p:nvSpPr>
        <p:spPr>
          <a:xfrm>
            <a:off x="6156360" y="3355920"/>
            <a:ext cx="1727280" cy="2160720"/>
          </a:xfrm>
          <a:prstGeom prst="rect">
            <a:avLst/>
          </a:prstGeom>
          <a:solidFill>
            <a:srgbClr val="bbe0e3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2: C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ember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embe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75341E-006 L -0.29254 -0.00023 E">
                                      <p:cBhvr>
                                        <p:cTn id="62" dur="2000" fill="hold"/>
                                        <p:tgtEl>
                                          <p:spTgt spid="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4.3257E-007 L 0.28351 0.00023 E">
                                      <p:cBhvr>
                                        <p:cTn id="64" dur="2000" fill="hold"/>
                                        <p:tgtEl>
                                          <p:spTgt spid="5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43CD7-6221-487D-BF44-65ADE76206C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96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History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89040"/>
            <a:ext cx="8207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O is not new, it’s been around for a whil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Pretty much the same story as AP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50s: concep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60s: 1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s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mplementation (SIMULA compiler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70s: 1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s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user base, Smalltalk compile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80s: starts to be used more seriousl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90s: popularity grows (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≠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PL) thanks to C++ and Java &amp; the Interne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53165-13EA-475B-B4BF-F5592DF8B44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407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Geneva"/>
              </a:rPr>
              <a:t>Inheritance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Initialization</a:t>
            </a:r>
            <a:r>
              <a:rPr b="0" lang="en-GB" sz="3600" spc="-1" strike="noStrike">
                <a:solidFill>
                  <a:srgbClr val="333333"/>
                </a:solidFill>
                <a:latin typeface="Geneva"/>
              </a:rPr>
              <a:t> is performed by the </a:t>
            </a:r>
            <a:r>
              <a:rPr b="0" i="1" lang="en-GB" sz="3600" spc="-1" strike="noStrike">
                <a:solidFill>
                  <a:srgbClr val="99cc00"/>
                </a:solidFill>
                <a:latin typeface="Geneva"/>
              </a:rPr>
              <a:t>constructor</a:t>
            </a:r>
            <a:r>
              <a:rPr b="0" lang="en-GB" sz="36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Geneva"/>
              </a:rPr>
              <a:t>If a class is derived, the </a:t>
            </a:r>
            <a:r>
              <a:rPr b="0" lang="en-GB" sz="3600" spc="-1" strike="noStrike">
                <a:solidFill>
                  <a:srgbClr val="99cc00"/>
                </a:solidFill>
                <a:latin typeface="Geneva"/>
              </a:rPr>
              <a:t>base</a:t>
            </a:r>
            <a:r>
              <a:rPr b="0" lang="en-GB" sz="3600" spc="-1" strike="noStrike">
                <a:solidFill>
                  <a:srgbClr val="333333"/>
                </a:solidFill>
                <a:latin typeface="Geneva"/>
              </a:rPr>
              <a:t> class' </a:t>
            </a:r>
            <a:r>
              <a:rPr b="0" i="1" lang="en-GB" sz="3600" spc="-1" strike="noStrike">
                <a:solidFill>
                  <a:srgbClr val="99cc00"/>
                </a:solidFill>
                <a:latin typeface="Geneva"/>
              </a:rPr>
              <a:t>constructor</a:t>
            </a:r>
            <a:r>
              <a:rPr b="0" lang="en-GB" sz="3600" spc="-1" strike="noStrike">
                <a:solidFill>
                  <a:srgbClr val="333333"/>
                </a:solidFill>
                <a:latin typeface="Geneva"/>
              </a:rPr>
              <a:t> will also be called if there is one.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C54AF-BC16-4132-8C29-69460A98F84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324000" y="1660680"/>
            <a:ext cx="8640720" cy="32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Inheritance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Some classes may be </a:t>
            </a:r>
            <a:r>
              <a:rPr b="0" i="1" lang="fr-CA" sz="3200" spc="-1" strike="noStrike">
                <a:solidFill>
                  <a:srgbClr val="333333"/>
                </a:solidFill>
                <a:latin typeface="Geneva"/>
              </a:rPr>
              <a:t>sealed</a:t>
            </a: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 to prevent other classes from inheriting them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348E5-F5C4-43A1-8852-C8F56C7E3C0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verride concep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2" name="Text Box 3"/>
          <p:cNvSpPr/>
          <p:nvPr/>
        </p:nvSpPr>
        <p:spPr>
          <a:xfrm>
            <a:off x="1122480" y="4460760"/>
            <a:ext cx="2506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/ M1 calls A’s M2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EW   A).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4"/>
          <p:cNvSpPr/>
          <p:nvPr/>
        </p:nvSpPr>
        <p:spPr>
          <a:xfrm>
            <a:off x="5376960" y="4437000"/>
            <a:ext cx="2506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/ M1 calls B’s M2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EW   B).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5"/>
          <p:cNvSpPr/>
          <p:nvPr/>
        </p:nvSpPr>
        <p:spPr>
          <a:xfrm>
            <a:off x="900000" y="2205000"/>
            <a:ext cx="129708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6"/>
          <p:cNvSpPr/>
          <p:nvPr/>
        </p:nvSpPr>
        <p:spPr>
          <a:xfrm>
            <a:off x="2411280" y="292572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’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7"/>
          <p:cNvSpPr/>
          <p:nvPr/>
        </p:nvSpPr>
        <p:spPr>
          <a:xfrm>
            <a:off x="1835280" y="3141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8"/>
          <p:cNvSpPr/>
          <p:nvPr/>
        </p:nvSpPr>
        <p:spPr>
          <a:xfrm>
            <a:off x="1547640" y="2781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9"/>
          <p:cNvSpPr/>
          <p:nvPr/>
        </p:nvSpPr>
        <p:spPr>
          <a:xfrm flipH="1">
            <a:off x="1619280" y="35020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10"/>
          <p:cNvSpPr/>
          <p:nvPr/>
        </p:nvSpPr>
        <p:spPr>
          <a:xfrm>
            <a:off x="1547640" y="3502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11"/>
          <p:cNvSpPr/>
          <p:nvPr/>
        </p:nvSpPr>
        <p:spPr>
          <a:xfrm>
            <a:off x="4788000" y="2181240"/>
            <a:ext cx="129672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12"/>
          <p:cNvSpPr/>
          <p:nvPr/>
        </p:nvSpPr>
        <p:spPr>
          <a:xfrm>
            <a:off x="6299280" y="290196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B’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13"/>
          <p:cNvSpPr/>
          <p:nvPr/>
        </p:nvSpPr>
        <p:spPr>
          <a:xfrm>
            <a:off x="5722920" y="31179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14"/>
          <p:cNvSpPr/>
          <p:nvPr/>
        </p:nvSpPr>
        <p:spPr>
          <a:xfrm>
            <a:off x="5435640" y="27576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15"/>
          <p:cNvSpPr/>
          <p:nvPr/>
        </p:nvSpPr>
        <p:spPr>
          <a:xfrm flipH="1">
            <a:off x="5506920" y="34783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16"/>
          <p:cNvSpPr/>
          <p:nvPr/>
        </p:nvSpPr>
        <p:spPr>
          <a:xfrm>
            <a:off x="5435640" y="34783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17"/>
          <p:cNvSpPr/>
          <p:nvPr/>
        </p:nvSpPr>
        <p:spPr>
          <a:xfrm>
            <a:off x="1890360" y="14320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18"/>
          <p:cNvSpPr/>
          <p:nvPr/>
        </p:nvSpPr>
        <p:spPr>
          <a:xfrm>
            <a:off x="5870160" y="141120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9"/>
          <p:cNvSpPr/>
          <p:nvPr/>
        </p:nvSpPr>
        <p:spPr>
          <a:xfrm>
            <a:off x="1042920" y="5013360"/>
            <a:ext cx="935280" cy="360360"/>
          </a:xfrm>
          <a:prstGeom prst="rect">
            <a:avLst/>
          </a:prstGeom>
          <a:solidFill>
            <a:srgbClr val="ffff33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20"/>
          <p:cNvSpPr/>
          <p:nvPr/>
        </p:nvSpPr>
        <p:spPr>
          <a:xfrm>
            <a:off x="5292720" y="5013360"/>
            <a:ext cx="934920" cy="360360"/>
          </a:xfrm>
          <a:prstGeom prst="rect">
            <a:avLst/>
          </a:prstGeom>
          <a:solidFill>
            <a:srgbClr val="ffff33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F5087-5E58-4680-A702-A50D2CB983D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Based clas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4" name="Text Box 3"/>
          <p:cNvSpPr/>
          <p:nvPr/>
        </p:nvSpPr>
        <p:spPr>
          <a:xfrm>
            <a:off x="1117440" y="4460760"/>
            <a:ext cx="237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/ M1 calls A’s M2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EW A).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4"/>
          <p:cNvSpPr/>
          <p:nvPr/>
        </p:nvSpPr>
        <p:spPr>
          <a:xfrm>
            <a:off x="5365440" y="4437000"/>
            <a:ext cx="237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/ M1 calls A’s M2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EW B).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5"/>
          <p:cNvSpPr/>
          <p:nvPr/>
        </p:nvSpPr>
        <p:spPr>
          <a:xfrm>
            <a:off x="900000" y="2205000"/>
            <a:ext cx="129708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utoShape 6"/>
          <p:cNvSpPr/>
          <p:nvPr/>
        </p:nvSpPr>
        <p:spPr>
          <a:xfrm>
            <a:off x="2411280" y="292572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’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7"/>
          <p:cNvSpPr/>
          <p:nvPr/>
        </p:nvSpPr>
        <p:spPr>
          <a:xfrm>
            <a:off x="1835280" y="3141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8"/>
          <p:cNvSpPr/>
          <p:nvPr/>
        </p:nvSpPr>
        <p:spPr>
          <a:xfrm>
            <a:off x="1547640" y="2781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9"/>
          <p:cNvSpPr/>
          <p:nvPr/>
        </p:nvSpPr>
        <p:spPr>
          <a:xfrm flipH="1">
            <a:off x="1619280" y="35020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10"/>
          <p:cNvSpPr/>
          <p:nvPr/>
        </p:nvSpPr>
        <p:spPr>
          <a:xfrm>
            <a:off x="1547640" y="3502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1"/>
          <p:cNvSpPr/>
          <p:nvPr/>
        </p:nvSpPr>
        <p:spPr>
          <a:xfrm flipH="1">
            <a:off x="1547640" y="206064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12"/>
          <p:cNvSpPr/>
          <p:nvPr/>
        </p:nvSpPr>
        <p:spPr>
          <a:xfrm>
            <a:off x="1547640" y="206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13"/>
          <p:cNvSpPr/>
          <p:nvPr/>
        </p:nvSpPr>
        <p:spPr>
          <a:xfrm>
            <a:off x="1547640" y="393372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4"/>
          <p:cNvSpPr/>
          <p:nvPr/>
        </p:nvSpPr>
        <p:spPr>
          <a:xfrm>
            <a:off x="5292720" y="2027160"/>
            <a:ext cx="232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re is no M1 in 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 A’s (on which B is based) M1 is us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15"/>
          <p:cNvSpPr/>
          <p:nvPr/>
        </p:nvSpPr>
        <p:spPr>
          <a:xfrm>
            <a:off x="5651640" y="2962440"/>
            <a:ext cx="129672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B’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16"/>
          <p:cNvSpPr/>
          <p:nvPr/>
        </p:nvSpPr>
        <p:spPr>
          <a:xfrm>
            <a:off x="1890360" y="14320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17"/>
          <p:cNvSpPr/>
          <p:nvPr/>
        </p:nvSpPr>
        <p:spPr>
          <a:xfrm>
            <a:off x="5510520" y="141300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B: 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18"/>
          <p:cNvSpPr/>
          <p:nvPr/>
        </p:nvSpPr>
        <p:spPr>
          <a:xfrm>
            <a:off x="1042920" y="5013360"/>
            <a:ext cx="935280" cy="360360"/>
          </a:xfrm>
          <a:prstGeom prst="rect">
            <a:avLst/>
          </a:prstGeom>
          <a:solidFill>
            <a:srgbClr val="ffff33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19"/>
          <p:cNvSpPr/>
          <p:nvPr/>
        </p:nvSpPr>
        <p:spPr>
          <a:xfrm>
            <a:off x="5292720" y="5013360"/>
            <a:ext cx="934920" cy="360360"/>
          </a:xfrm>
          <a:prstGeom prst="rect">
            <a:avLst/>
          </a:prstGeom>
          <a:solidFill>
            <a:srgbClr val="ffff33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36945-1643-424F-9572-1BC03C4181A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Based clas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5" name="AutoShape 5"/>
          <p:cNvSpPr/>
          <p:nvPr/>
        </p:nvSpPr>
        <p:spPr>
          <a:xfrm>
            <a:off x="900000" y="2205000"/>
            <a:ext cx="129708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utoShape 6"/>
          <p:cNvSpPr/>
          <p:nvPr/>
        </p:nvSpPr>
        <p:spPr>
          <a:xfrm>
            <a:off x="2411280" y="292572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’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7"/>
          <p:cNvSpPr/>
          <p:nvPr/>
        </p:nvSpPr>
        <p:spPr>
          <a:xfrm>
            <a:off x="1835280" y="3141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8"/>
          <p:cNvSpPr/>
          <p:nvPr/>
        </p:nvSpPr>
        <p:spPr>
          <a:xfrm>
            <a:off x="1547640" y="2781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9"/>
          <p:cNvSpPr/>
          <p:nvPr/>
        </p:nvSpPr>
        <p:spPr>
          <a:xfrm flipH="1">
            <a:off x="1619280" y="35020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10"/>
          <p:cNvSpPr/>
          <p:nvPr/>
        </p:nvSpPr>
        <p:spPr>
          <a:xfrm>
            <a:off x="1547640" y="3502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11"/>
          <p:cNvSpPr/>
          <p:nvPr/>
        </p:nvSpPr>
        <p:spPr>
          <a:xfrm flipH="1">
            <a:off x="1547640" y="206064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12"/>
          <p:cNvSpPr/>
          <p:nvPr/>
        </p:nvSpPr>
        <p:spPr>
          <a:xfrm>
            <a:off x="1547640" y="206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13"/>
          <p:cNvSpPr/>
          <p:nvPr/>
        </p:nvSpPr>
        <p:spPr>
          <a:xfrm>
            <a:off x="1547640" y="393372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14"/>
          <p:cNvSpPr/>
          <p:nvPr/>
        </p:nvSpPr>
        <p:spPr>
          <a:xfrm>
            <a:off x="5292720" y="2008080"/>
            <a:ext cx="232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re is no M1 in 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 A’s (on which B is based) M1 is us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AutoShape 15"/>
          <p:cNvSpPr/>
          <p:nvPr/>
        </p:nvSpPr>
        <p:spPr>
          <a:xfrm>
            <a:off x="5580000" y="2924280"/>
            <a:ext cx="15112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: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verri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B’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16"/>
          <p:cNvSpPr/>
          <p:nvPr/>
        </p:nvSpPr>
        <p:spPr>
          <a:xfrm>
            <a:off x="1890360" y="14320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17"/>
          <p:cNvSpPr/>
          <p:nvPr/>
        </p:nvSpPr>
        <p:spPr>
          <a:xfrm>
            <a:off x="5510520" y="141300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B: 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18"/>
          <p:cNvSpPr/>
          <p:nvPr/>
        </p:nvSpPr>
        <p:spPr>
          <a:xfrm>
            <a:off x="1117440" y="4460760"/>
            <a:ext cx="237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/ M1 calls A’s M2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EW A).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19"/>
          <p:cNvSpPr/>
          <p:nvPr/>
        </p:nvSpPr>
        <p:spPr>
          <a:xfrm>
            <a:off x="5365440" y="4437000"/>
            <a:ext cx="237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/ M1 calls A’s M2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EW B).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20"/>
          <p:cNvSpPr/>
          <p:nvPr/>
        </p:nvSpPr>
        <p:spPr>
          <a:xfrm>
            <a:off x="1042920" y="5013360"/>
            <a:ext cx="935280" cy="360360"/>
          </a:xfrm>
          <a:prstGeom prst="rect">
            <a:avLst/>
          </a:prstGeom>
          <a:solidFill>
            <a:srgbClr val="ffff33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21"/>
          <p:cNvSpPr/>
          <p:nvPr/>
        </p:nvSpPr>
        <p:spPr>
          <a:xfrm>
            <a:off x="5292720" y="5013360"/>
            <a:ext cx="934920" cy="360360"/>
          </a:xfrm>
          <a:prstGeom prst="rect">
            <a:avLst/>
          </a:prstGeom>
          <a:solidFill>
            <a:srgbClr val="ffff33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2"/>
          <p:cNvSpPr/>
          <p:nvPr/>
        </p:nvSpPr>
        <p:spPr>
          <a:xfrm>
            <a:off x="2055600" y="5589720"/>
            <a:ext cx="39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:M2 does not allow to be overridd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BAF85-B622-4631-9A32-203FB9F3BAF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22"/>
          <p:cNvSpPr/>
          <p:nvPr/>
        </p:nvSpPr>
        <p:spPr>
          <a:xfrm>
            <a:off x="5580000" y="2924280"/>
            <a:ext cx="15112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: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verri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B’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Based clas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8" name="AutoShape 6"/>
          <p:cNvSpPr/>
          <p:nvPr/>
        </p:nvSpPr>
        <p:spPr>
          <a:xfrm>
            <a:off x="900000" y="2205000"/>
            <a:ext cx="129708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7"/>
          <p:cNvSpPr/>
          <p:nvPr/>
        </p:nvSpPr>
        <p:spPr>
          <a:xfrm>
            <a:off x="2411280" y="2925720"/>
            <a:ext cx="1297080" cy="720720"/>
          </a:xfrm>
          <a:prstGeom prst="flowChartProcess">
            <a:avLst/>
          </a:prstGeom>
          <a:solidFill>
            <a:srgbClr val="bbe0e3">
              <a:alpha val="3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M2: Overrid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I am A’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8"/>
          <p:cNvSpPr/>
          <p:nvPr/>
        </p:nvSpPr>
        <p:spPr>
          <a:xfrm>
            <a:off x="1835280" y="314172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9"/>
          <p:cNvSpPr/>
          <p:nvPr/>
        </p:nvSpPr>
        <p:spPr>
          <a:xfrm>
            <a:off x="1547640" y="26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10"/>
          <p:cNvSpPr/>
          <p:nvPr/>
        </p:nvSpPr>
        <p:spPr>
          <a:xfrm>
            <a:off x="1547640" y="3502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11"/>
          <p:cNvSpPr/>
          <p:nvPr/>
        </p:nvSpPr>
        <p:spPr>
          <a:xfrm>
            <a:off x="1890360" y="14320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12"/>
          <p:cNvSpPr/>
          <p:nvPr/>
        </p:nvSpPr>
        <p:spPr>
          <a:xfrm>
            <a:off x="5510520" y="141300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B: 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13"/>
          <p:cNvSpPr/>
          <p:nvPr/>
        </p:nvSpPr>
        <p:spPr>
          <a:xfrm flipH="1">
            <a:off x="1547640" y="206064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14"/>
          <p:cNvSpPr/>
          <p:nvPr/>
        </p:nvSpPr>
        <p:spPr>
          <a:xfrm>
            <a:off x="154764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15"/>
          <p:cNvSpPr/>
          <p:nvPr/>
        </p:nvSpPr>
        <p:spPr>
          <a:xfrm>
            <a:off x="1547640" y="393372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16"/>
          <p:cNvSpPr/>
          <p:nvPr/>
        </p:nvSpPr>
        <p:spPr>
          <a:xfrm>
            <a:off x="5272200" y="2027160"/>
            <a:ext cx="232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re is no M1 in 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 A’s (on which B is based) M1 is us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17"/>
          <p:cNvSpPr/>
          <p:nvPr/>
        </p:nvSpPr>
        <p:spPr>
          <a:xfrm flipH="1">
            <a:off x="1547280" y="3500280"/>
            <a:ext cx="424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18"/>
          <p:cNvSpPr/>
          <p:nvPr/>
        </p:nvSpPr>
        <p:spPr>
          <a:xfrm>
            <a:off x="1117440" y="4460760"/>
            <a:ext cx="237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/ M1 calls A’s M2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EW A).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19"/>
          <p:cNvSpPr/>
          <p:nvPr/>
        </p:nvSpPr>
        <p:spPr>
          <a:xfrm>
            <a:off x="5365440" y="4437000"/>
            <a:ext cx="237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/ M1 calls B’s M2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EW B).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20"/>
          <p:cNvSpPr/>
          <p:nvPr/>
        </p:nvSpPr>
        <p:spPr>
          <a:xfrm>
            <a:off x="1042920" y="5013360"/>
            <a:ext cx="935280" cy="360360"/>
          </a:xfrm>
          <a:prstGeom prst="rect">
            <a:avLst/>
          </a:prstGeom>
          <a:solidFill>
            <a:srgbClr val="ffff33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21"/>
          <p:cNvSpPr/>
          <p:nvPr/>
        </p:nvSpPr>
        <p:spPr>
          <a:xfrm>
            <a:off x="5292720" y="5013360"/>
            <a:ext cx="934920" cy="360360"/>
          </a:xfrm>
          <a:prstGeom prst="rect">
            <a:avLst/>
          </a:prstGeom>
          <a:solidFill>
            <a:srgbClr val="ffff33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23"/>
          <p:cNvSpPr/>
          <p:nvPr/>
        </p:nvSpPr>
        <p:spPr>
          <a:xfrm>
            <a:off x="1481040" y="5589720"/>
            <a:ext cx="634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:M2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o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llow to be overridden AND B wants to override 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617CE-2775-49AF-BCCC-8A6AA093736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82692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6. Encapsula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Hides the underlying functionality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It conceals the exact details of how a particular class works from objects (external or internal) that use its code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This allows to modify </a:t>
            </a: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the internal implementation of a class without requiring changes to its services (i.e. methods).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52052-0BFC-45F4-8931-78A4D201998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ample: a car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324000" y="155412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Consider a car: the functionality is hidden, it is encapsulated, you don’t see all the wiring inside, you’re only given specific controls to manipulate the car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655" name="Picture 4" descr="dash-wiring4"/>
          <p:cNvPicPr/>
          <p:nvPr/>
        </p:nvPicPr>
        <p:blipFill>
          <a:blip r:embed="rId1"/>
          <a:stretch/>
        </p:blipFill>
        <p:spPr>
          <a:xfrm>
            <a:off x="2195640" y="3284640"/>
            <a:ext cx="4608360" cy="307332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5" descr="closeddash1"/>
          <p:cNvPicPr/>
          <p:nvPr/>
        </p:nvPicPr>
        <p:blipFill>
          <a:blip r:embed="rId2"/>
          <a:stretch/>
        </p:blipFill>
        <p:spPr>
          <a:xfrm>
            <a:off x="2077920" y="3068640"/>
            <a:ext cx="4799160" cy="351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6AE63-1742-4240-934F-61F344E5ACF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ncapsulation (access)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allow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acces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o a member there are various level definition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example, to expose a member you must use some syntax that will declare it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public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By default,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privat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s the norm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4ED83-96A4-4554-8DB4-372ED935DF8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Oval 5"/>
          <p:cNvSpPr/>
          <p:nvPr/>
        </p:nvSpPr>
        <p:spPr>
          <a:xfrm>
            <a:off x="1908000" y="4214880"/>
            <a:ext cx="4969080" cy="1950840"/>
          </a:xfrm>
          <a:prstGeom prst="ellipse">
            <a:avLst/>
          </a:prstGeom>
          <a:solidFill>
            <a:srgbClr val="72bf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24000" y="1517760"/>
            <a:ext cx="8640720" cy="29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Encapsulation: </a:t>
            </a:r>
            <a:r>
              <a:rPr b="0" i="1" lang="en-US" sz="3600" spc="-1" strike="noStrike">
                <a:solidFill>
                  <a:srgbClr val="333333"/>
                </a:solidFill>
                <a:latin typeface="Geneva"/>
              </a:rPr>
              <a:t>private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privat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member cannot be seen from anywhere. Methods can only access it from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insid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he clas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ested or derived objects can't see it either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8" name="Rectangle 4"/>
          <p:cNvSpPr/>
          <p:nvPr/>
        </p:nvSpPr>
        <p:spPr>
          <a:xfrm>
            <a:off x="3348000" y="4581360"/>
            <a:ext cx="2016000" cy="1079640"/>
          </a:xfrm>
          <a:prstGeom prst="rect">
            <a:avLst/>
          </a:prstGeom>
          <a:solidFill>
            <a:srgbClr val="ddddd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n in th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ite are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6"/>
          <p:cNvSpPr/>
          <p:nvPr/>
        </p:nvSpPr>
        <p:spPr>
          <a:xfrm>
            <a:off x="4572000" y="4724280"/>
            <a:ext cx="647640" cy="287280"/>
          </a:xfrm>
          <a:prstGeom prst="rect">
            <a:avLst/>
          </a:prstGeom>
          <a:solidFill>
            <a:srgbClr val="72bfc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7"/>
          <p:cNvSpPr/>
          <p:nvPr/>
        </p:nvSpPr>
        <p:spPr>
          <a:xfrm>
            <a:off x="4572000" y="5229360"/>
            <a:ext cx="647640" cy="287280"/>
          </a:xfrm>
          <a:prstGeom prst="rect">
            <a:avLst/>
          </a:prstGeom>
          <a:solidFill>
            <a:srgbClr val="72bfc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4C829-D1FB-4C04-A4FA-82C6A6A18A8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Another to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bject Orientation is another tool for programmers. Users won’t see any differenc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is a way for programmers to simplify their lives by supplying each other with already made objects (almost) ready to us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4B8F8-41B2-4832-BD64-CBA1160447A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324000" y="1517760"/>
            <a:ext cx="8640720" cy="29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Encapsulation: </a:t>
            </a:r>
            <a:r>
              <a:rPr b="0" i="1" lang="en-US" sz="3600" spc="-1" strike="noStrike">
                <a:solidFill>
                  <a:srgbClr val="333333"/>
                </a:solidFill>
                <a:latin typeface="Geneva"/>
              </a:rPr>
              <a:t>private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209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nalogy names are private in a D-fn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209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←{</a:t>
            </a: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z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←99 ⋄ b ⍵}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209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     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b←{</a:t>
            </a: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z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+⍵}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209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     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 2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209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VALUE ERRO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209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b[0] b←{z+⍵}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209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      ∧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209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AA5DF-4251-4E1B-BC2F-164E8C61C01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407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Encapsulation: protected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protecte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member can only be seen from within the instance of from nested or derived object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1" name="Oval 4"/>
          <p:cNvSpPr/>
          <p:nvPr/>
        </p:nvSpPr>
        <p:spPr>
          <a:xfrm>
            <a:off x="1908000" y="4221000"/>
            <a:ext cx="4969080" cy="1872000"/>
          </a:xfrm>
          <a:prstGeom prst="ellipse">
            <a:avLst/>
          </a:prstGeom>
          <a:solidFill>
            <a:srgbClr val="72bf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3348000" y="4581360"/>
            <a:ext cx="2016000" cy="1079640"/>
          </a:xfrm>
          <a:prstGeom prst="rect">
            <a:avLst/>
          </a:prstGeom>
          <a:solidFill>
            <a:srgbClr val="ddddd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n in th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ite are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6"/>
          <p:cNvSpPr/>
          <p:nvPr/>
        </p:nvSpPr>
        <p:spPr>
          <a:xfrm>
            <a:off x="4572000" y="4724280"/>
            <a:ext cx="647640" cy="28728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7"/>
          <p:cNvSpPr/>
          <p:nvPr/>
        </p:nvSpPr>
        <p:spPr>
          <a:xfrm>
            <a:off x="4572000" y="5229360"/>
            <a:ext cx="647640" cy="28728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750CC-85AC-43E1-9C8D-F3C8F686B88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407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Encapsulation: protected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nalogy names are protected in a T-function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      ∇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r←a x;</a:t>
            </a:r>
            <a:r>
              <a:rPr b="1" lang="en-US" sz="2400" spc="-1" strike="noStrike">
                <a:solidFill>
                  <a:srgbClr val="333333"/>
                </a:solidFill>
                <a:latin typeface="Geneva"/>
              </a:rPr>
              <a:t>z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[1]  </a:t>
            </a:r>
            <a:r>
              <a:rPr b="1" lang="en-US" sz="2400" spc="-1" strike="noStrike">
                <a:solidFill>
                  <a:srgbClr val="333333"/>
                </a:solidFill>
                <a:latin typeface="Geneva"/>
              </a:rPr>
              <a:t>z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←99 ⋄ r←b x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      ∇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      ∇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r←b x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[1]  r←</a:t>
            </a:r>
            <a:r>
              <a:rPr b="1" lang="en-US" sz="2400" spc="-1" strike="noStrike">
                <a:solidFill>
                  <a:srgbClr val="333333"/>
                </a:solidFill>
                <a:latin typeface="Geneva"/>
              </a:rPr>
              <a:t>z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+x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      ∇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      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a 2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101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C15D5-C114-41D2-8B7D-59C0BB3A735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64072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Encapsulation: public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public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member can be seen from anywhere. All Methods can access it from anywhere whether it is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public share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or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public instanc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5" name="Oval 4"/>
          <p:cNvSpPr/>
          <p:nvPr/>
        </p:nvSpPr>
        <p:spPr>
          <a:xfrm>
            <a:off x="1908000" y="4221000"/>
            <a:ext cx="4969080" cy="18720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5"/>
          <p:cNvSpPr/>
          <p:nvPr/>
        </p:nvSpPr>
        <p:spPr>
          <a:xfrm>
            <a:off x="3348000" y="4581360"/>
            <a:ext cx="2016000" cy="1079640"/>
          </a:xfrm>
          <a:prstGeom prst="rect">
            <a:avLst/>
          </a:prstGeom>
          <a:solidFill>
            <a:srgbClr val="ddddd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 is se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all th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le are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6"/>
          <p:cNvSpPr/>
          <p:nvPr/>
        </p:nvSpPr>
        <p:spPr>
          <a:xfrm>
            <a:off x="4572000" y="4724280"/>
            <a:ext cx="647640" cy="28728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7"/>
          <p:cNvSpPr/>
          <p:nvPr/>
        </p:nvSpPr>
        <p:spPr>
          <a:xfrm>
            <a:off x="4572000" y="5229360"/>
            <a:ext cx="647640" cy="28728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038C6-620D-44F2-B393-1C198C159C4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6407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Encapsulation: friend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class declared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frien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can see the offerer’s private and public member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4" name="AutoShape 14"/>
          <p:cNvSpPr/>
          <p:nvPr/>
        </p:nvSpPr>
        <p:spPr>
          <a:xfrm>
            <a:off x="5508720" y="4149720"/>
            <a:ext cx="2160360" cy="1727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vate Bpv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blic Bp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iend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20"/>
          <p:cNvSpPr/>
          <p:nvPr/>
        </p:nvSpPr>
        <p:spPr>
          <a:xfrm>
            <a:off x="1890360" y="35211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21"/>
          <p:cNvSpPr/>
          <p:nvPr/>
        </p:nvSpPr>
        <p:spPr>
          <a:xfrm>
            <a:off x="5870160" y="35002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AutoShape 22"/>
          <p:cNvSpPr/>
          <p:nvPr/>
        </p:nvSpPr>
        <p:spPr>
          <a:xfrm>
            <a:off x="1547640" y="4148280"/>
            <a:ext cx="2160720" cy="936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vate Apv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blic Ap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23"/>
          <p:cNvSpPr/>
          <p:nvPr/>
        </p:nvSpPr>
        <p:spPr>
          <a:xfrm>
            <a:off x="5508720" y="472428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24"/>
          <p:cNvSpPr/>
          <p:nvPr/>
        </p:nvSpPr>
        <p:spPr>
          <a:xfrm flipH="1">
            <a:off x="3595680" y="4508640"/>
            <a:ext cx="2200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25"/>
          <p:cNvSpPr/>
          <p:nvPr/>
        </p:nvSpPr>
        <p:spPr>
          <a:xfrm flipH="1" flipV="1">
            <a:off x="3564000" y="4724280"/>
            <a:ext cx="22334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26"/>
          <p:cNvSpPr/>
          <p:nvPr/>
        </p:nvSpPr>
        <p:spPr>
          <a:xfrm>
            <a:off x="919800" y="5270400"/>
            <a:ext cx="372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re A sees B’s memb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 its own memb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54BFD-A0F2-4895-8286-45499E2C909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324000" y="1733400"/>
            <a:ext cx="8640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7. Polymorphism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It is behavior that allows a single definition to be used with different </a:t>
            </a:r>
            <a:r>
              <a:rPr b="0" i="1" lang="en-US" sz="3200" spc="-1" strike="noStrike">
                <a:solidFill>
                  <a:srgbClr val="333333"/>
                </a:solidFill>
                <a:latin typeface="Geneva"/>
              </a:rPr>
              <a:t>types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of data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is a way to call various sections of code using the same nam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yped languages can tell the difference by looking at the “signature” of the functions (their number of arguments and their types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81E2A-C874-47BE-8723-57DDBD8868A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324000" y="1442880"/>
            <a:ext cx="8640720" cy="8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Polymorphism example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22" name="Text Box 4"/>
          <p:cNvSpPr/>
          <p:nvPr/>
        </p:nvSpPr>
        <p:spPr>
          <a:xfrm>
            <a:off x="539640" y="2284560"/>
            <a:ext cx="3600720" cy="3018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o (integer arg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/ fn called wit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/ an integer ar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nt 42 //“Int arg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5"/>
          <p:cNvSpPr/>
          <p:nvPr/>
        </p:nvSpPr>
        <p:spPr>
          <a:xfrm>
            <a:off x="4788000" y="2284560"/>
            <a:ext cx="3600360" cy="3018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o (string arg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/ fn called wit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/ a string ar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nt “String arg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7"/>
          <p:cNvSpPr/>
          <p:nvPr/>
        </p:nvSpPr>
        <p:spPr>
          <a:xfrm>
            <a:off x="1621440" y="5430960"/>
            <a:ext cx="580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me function name, different co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91EE-AA30-4829-A8D4-17C4568184F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324000" y="1442880"/>
            <a:ext cx="8640720" cy="8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Polymorphism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0" name="Text Box 6"/>
          <p:cNvSpPr/>
          <p:nvPr/>
        </p:nvSpPr>
        <p:spPr>
          <a:xfrm>
            <a:off x="395280" y="2122560"/>
            <a:ext cx="7993080" cy="41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program that accepts multiple defini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said to b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overloaded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sic language example: + is used to add and catena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nt 2+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nt ‘aaa’+’bbb’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aabb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D5AAE-358F-4BF9-81BC-B5C8E4AC968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324000" y="1658520"/>
            <a:ext cx="8640720" cy="8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More concept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6" name="Text Box 4"/>
          <p:cNvSpPr/>
          <p:nvPr/>
        </p:nvSpPr>
        <p:spPr>
          <a:xfrm>
            <a:off x="395280" y="2717640"/>
            <a:ext cx="842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re are many more concept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ose presented here are the most common on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xample,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Casti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s not an OO concept but it is often used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D8D49-6677-4ED2-9175-DA8FA94F670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OO C</a:t>
            </a: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ncepts</a:t>
            </a: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 Summary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68000" y="1701360"/>
            <a:ext cx="82803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O is based on +-7 key concep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lasses are blueprin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stances are objects created from class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contain members (data &amp; code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ir access is restrict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relation between classes is based on inheritance and/or specific acces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What is an object?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 object contains </a:t>
            </a:r>
            <a:r>
              <a:rPr b="1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data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 </a:t>
            </a:r>
            <a:r>
              <a:rPr b="0" lang="en-GB" sz="2400" spc="-1" strike="noStrike" u="sng">
                <a:solidFill>
                  <a:srgbClr val="333333"/>
                </a:solidFill>
                <a:uFillTx/>
                <a:latin typeface="Geneva"/>
              </a:rPr>
              <a:t>and </a:t>
            </a:r>
            <a:r>
              <a:rPr b="0" i="1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code to handle i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.g. Name and surname and a function to show them nicel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A11B5-5266-4D2E-8F48-D8597FA98C3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89748-6C2D-47E4-9DBB-06D3BF703DE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nd of OO basic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3131640" y="2719440"/>
            <a:ext cx="2590920" cy="277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QUEST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5360" indent="0" algn="ctr"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200" spc="-1" strike="noStrike">
                <a:solidFill>
                  <a:srgbClr val="333333"/>
                </a:solidFill>
                <a:latin typeface="Geneva"/>
              </a:rPr>
              <a:t>?</a:t>
            </a:r>
            <a:endParaRPr b="0" lang="en-US" sz="1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D003C-795A-4201-AD13-13C30212633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WordArt 5"/>
          <p:cNvSpPr txBox="1"/>
          <p:nvPr/>
        </p:nvSpPr>
        <p:spPr>
          <a:xfrm>
            <a:off x="900000" y="1844640"/>
            <a:ext cx="727236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33">
                    <a:alpha val="86000"/>
                  </a:srgbClr>
                </a:solidFill>
                <a:latin typeface="Times New Roman"/>
              </a:rPr>
              <a:t>The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33">
                  <a:alpha val="86000"/>
                </a:srgbClr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33">
                    <a:alpha val="86000"/>
                  </a:srgbClr>
                </a:solidFill>
                <a:latin typeface="Times New Roman"/>
              </a:rPr>
              <a:t>Dyalog APL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33">
                  <a:alpha val="86000"/>
                </a:srgbClr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33">
                    <a:alpha val="86000"/>
                  </a:srgbClr>
                </a:solidFill>
                <a:latin typeface="Times New Roman"/>
              </a:rPr>
              <a:t>way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33">
                  <a:alpha val="86000"/>
                </a:srgbClr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F9387-4592-41EB-9DE0-FB1B195A65E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061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yalog follows C# rules closel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extensions to the language have been made in following with the </a:t>
            </a:r>
            <a:r>
              <a:rPr b="1" lang="en-GB" sz="3200" spc="-1" strike="noStrike">
                <a:solidFill>
                  <a:srgbClr val="99cc00"/>
                </a:solidFill>
                <a:latin typeface="Geneva"/>
              </a:rPr>
              <a:t>: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Keyword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scheme introduced in the 90s (All new keywords start with ‘</a:t>
            </a:r>
            <a:r>
              <a:rPr b="1" lang="en-GB" sz="3200" spc="-1" strike="noStrike">
                <a:solidFill>
                  <a:srgbClr val="99cc00"/>
                </a:solidFill>
                <a:latin typeface="Geneva"/>
              </a:rPr>
              <a:t>: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’ 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ome new system functions have been added an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ome new system command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0AE7F-FE19-48CF-B987-89AB47F2073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85800" y="1731960"/>
            <a:ext cx="7989840" cy="6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Let’s see how Dyalog APL does thi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1" name="Text Box 4"/>
          <p:cNvSpPr/>
          <p:nvPr/>
        </p:nvSpPr>
        <p:spPr>
          <a:xfrm>
            <a:off x="2554200" y="2589120"/>
            <a:ext cx="4681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es and interfa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ance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mb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ssage pass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capsul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lymorphis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7C4D9-D78B-48DA-9DA5-8E3B75877C4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clas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85800" y="1690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class can be defined using the )EDitor as in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)ED ○ MyClas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pon exiting, MyClass will be defined in the current namespace (e.g. #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67" name="Picture 4" descr=""/>
          <p:cNvPicPr/>
          <p:nvPr/>
        </p:nvPicPr>
        <p:blipFill>
          <a:blip r:embed="rId1"/>
          <a:stretch/>
        </p:blipFill>
        <p:spPr>
          <a:xfrm>
            <a:off x="5075280" y="2357280"/>
            <a:ext cx="3313080" cy="28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29223-B257-447D-A5BE-5583C5ABFFF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clas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the workspace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MyClas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ppears as a namespac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⎕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NC ‘MyClass’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9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)CLASS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MyClas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B37DC-29BA-4393-A99B-C095FA2C13C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member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members in a class ar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Fiel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: same as a variabl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Metho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: same as a func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Property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: looks and feels like a variable but implemented as a (pair of) funct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ll can be either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public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or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privat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(the default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DA460-D2BC-498D-AE02-D9E83373C86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48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member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50560" y="1701720"/>
            <a:ext cx="3313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class to the right shows a few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field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(vars) and their acces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acces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s the same for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method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(fns) and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propertie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783" name="Group 10"/>
          <p:cNvGrpSpPr/>
          <p:nvPr/>
        </p:nvGrpSpPr>
        <p:grpSpPr>
          <a:xfrm>
            <a:off x="3635280" y="1933560"/>
            <a:ext cx="5268960" cy="4232160"/>
            <a:chOff x="3635280" y="1933560"/>
            <a:chExt cx="5268960" cy="4232160"/>
          </a:xfrm>
        </p:grpSpPr>
        <p:pic>
          <p:nvPicPr>
            <p:cNvPr id="784" name="Picture 6" descr=""/>
            <p:cNvPicPr/>
            <p:nvPr/>
          </p:nvPicPr>
          <p:blipFill>
            <a:blip r:embed="rId1"/>
            <a:stretch/>
          </p:blipFill>
          <p:spPr>
            <a:xfrm>
              <a:off x="3635280" y="1933560"/>
              <a:ext cx="5268960" cy="423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5" name="Rectangle 7"/>
            <p:cNvSpPr/>
            <p:nvPr/>
          </p:nvSpPr>
          <p:spPr>
            <a:xfrm>
              <a:off x="5419440" y="4319280"/>
              <a:ext cx="792360" cy="82872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Rectangle 8"/>
            <p:cNvSpPr/>
            <p:nvPr/>
          </p:nvSpPr>
          <p:spPr>
            <a:xfrm>
              <a:off x="5448240" y="3878280"/>
              <a:ext cx="180000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Rectangle 9"/>
            <p:cNvSpPr/>
            <p:nvPr/>
          </p:nvSpPr>
          <p:spPr>
            <a:xfrm>
              <a:off x="6211800" y="4929120"/>
              <a:ext cx="718920" cy="21600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B43EA-2316-44C6-ADE6-8547894E857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member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826920" y="1844640"/>
            <a:ext cx="3168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class to the right shows a few </a:t>
            </a:r>
            <a:r>
              <a:rPr b="0" lang="en-GB" sz="2800" spc="-1" strike="noStrike">
                <a:solidFill>
                  <a:srgbClr val="99cc00"/>
                </a:solidFill>
                <a:latin typeface="Geneva"/>
              </a:rPr>
              <a:t>method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(fns) and their </a:t>
            </a:r>
            <a:r>
              <a:rPr b="0" lang="en-GB" sz="2800" spc="-1" strike="noStrike">
                <a:solidFill>
                  <a:srgbClr val="99cc00"/>
                </a:solidFill>
                <a:latin typeface="Geneva"/>
              </a:rPr>
              <a:t>acces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&lt;mon1&gt; is used as a </a:t>
            </a:r>
            <a:r>
              <a:rPr b="0" lang="en-GB" sz="2800" spc="-1" strike="noStrike">
                <a:solidFill>
                  <a:srgbClr val="99cc00"/>
                </a:solidFill>
                <a:latin typeface="Geneva"/>
              </a:rPr>
              <a:t>constructor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. It MUST be public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793" name="Group 9"/>
          <p:cNvGrpSpPr/>
          <p:nvPr/>
        </p:nvGrpSpPr>
        <p:grpSpPr>
          <a:xfrm>
            <a:off x="4459320" y="1557360"/>
            <a:ext cx="4289400" cy="4608360"/>
            <a:chOff x="4459320" y="1557360"/>
            <a:chExt cx="4289400" cy="4608360"/>
          </a:xfrm>
        </p:grpSpPr>
        <p:pic>
          <p:nvPicPr>
            <p:cNvPr id="794" name="Picture 5" descr=""/>
            <p:cNvPicPr/>
            <p:nvPr/>
          </p:nvPicPr>
          <p:blipFill>
            <a:blip r:embed="rId1"/>
            <a:stretch/>
          </p:blipFill>
          <p:spPr>
            <a:xfrm>
              <a:off x="4459320" y="1557360"/>
              <a:ext cx="4289400" cy="46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5" name="Rectangle 6"/>
            <p:cNvSpPr/>
            <p:nvPr/>
          </p:nvSpPr>
          <p:spPr>
            <a:xfrm>
              <a:off x="5600880" y="3601800"/>
              <a:ext cx="215892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Rectangle 7"/>
            <p:cNvSpPr/>
            <p:nvPr/>
          </p:nvSpPr>
          <p:spPr>
            <a:xfrm>
              <a:off x="5599080" y="4336920"/>
              <a:ext cx="1944720" cy="21528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Rectangle 8"/>
            <p:cNvSpPr/>
            <p:nvPr/>
          </p:nvSpPr>
          <p:spPr>
            <a:xfrm>
              <a:off x="5599080" y="3420720"/>
              <a:ext cx="1368360" cy="18072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B5194-BA86-4E08-8DFD-9CCC273B50C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member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82560" y="1557000"/>
            <a:ext cx="3168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class to the right shows 2 </a:t>
            </a:r>
            <a:r>
              <a:rPr b="0" lang="en-GB" sz="2800" spc="-1" strike="noStrike">
                <a:solidFill>
                  <a:srgbClr val="99cc00"/>
                </a:solidFill>
                <a:latin typeface="Geneva"/>
              </a:rPr>
              <a:t>propertie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and their access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1</a:t>
            </a:r>
            <a:r>
              <a:rPr b="0" lang="en-GB" sz="2800" spc="-1" strike="noStrike" baseline="30000">
                <a:solidFill>
                  <a:srgbClr val="333333"/>
                </a:solidFill>
                <a:latin typeface="Geneva"/>
              </a:rPr>
              <a:t>st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one is private and readonly (it has no </a:t>
            </a:r>
            <a:r>
              <a:rPr b="0" i="1" lang="en-GB" sz="2800" spc="-1" strike="noStrike">
                <a:solidFill>
                  <a:srgbClr val="99cc00"/>
                </a:solidFill>
                <a:latin typeface="Geneva"/>
              </a:rPr>
              <a:t>set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fn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2</a:t>
            </a:r>
            <a:r>
              <a:rPr b="0" lang="en-GB" sz="2800" spc="-1" strike="noStrike" baseline="30000">
                <a:solidFill>
                  <a:srgbClr val="333333"/>
                </a:solidFill>
                <a:latin typeface="Geneva"/>
              </a:rPr>
              <a:t>nd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one is public read/writ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803" name="Group 9"/>
          <p:cNvGrpSpPr/>
          <p:nvPr/>
        </p:nvGrpSpPr>
        <p:grpSpPr>
          <a:xfrm>
            <a:off x="4776840" y="1557360"/>
            <a:ext cx="3682800" cy="4608360"/>
            <a:chOff x="4776840" y="1557360"/>
            <a:chExt cx="3682800" cy="4608360"/>
          </a:xfrm>
        </p:grpSpPr>
        <p:pic>
          <p:nvPicPr>
            <p:cNvPr id="804" name="Picture 5" descr=""/>
            <p:cNvPicPr/>
            <p:nvPr/>
          </p:nvPicPr>
          <p:blipFill>
            <a:blip r:embed="rId1"/>
            <a:stretch/>
          </p:blipFill>
          <p:spPr>
            <a:xfrm>
              <a:off x="4776840" y="1557360"/>
              <a:ext cx="3682800" cy="46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5" name="Rectangle 6"/>
            <p:cNvSpPr/>
            <p:nvPr/>
          </p:nvSpPr>
          <p:spPr>
            <a:xfrm>
              <a:off x="5640120" y="2421000"/>
              <a:ext cx="2520720" cy="865080"/>
            </a:xfrm>
            <a:prstGeom prst="rect">
              <a:avLst/>
            </a:prstGeom>
            <a:solidFill>
              <a:srgbClr val="ff0000">
                <a:alpha val="3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Rectangle 7"/>
            <p:cNvSpPr/>
            <p:nvPr/>
          </p:nvSpPr>
          <p:spPr>
            <a:xfrm>
              <a:off x="5640120" y="3429000"/>
              <a:ext cx="2520720" cy="2160360"/>
            </a:xfrm>
            <a:prstGeom prst="rect">
              <a:avLst/>
            </a:prstGeom>
            <a:solidFill>
              <a:srgbClr val="ff0000">
                <a:alpha val="3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Rectangle 8"/>
            <p:cNvSpPr/>
            <p:nvPr/>
          </p:nvSpPr>
          <p:spPr>
            <a:xfrm>
              <a:off x="5713200" y="3573360"/>
              <a:ext cx="1150560" cy="21600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The namespace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rom the beginning APL had this kind of notion in the form of the workspa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Geneva"/>
              </a:rPr>
              <a:t>Namespace = Workspace?</a:t>
            </a:r>
            <a:endParaRPr b="0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2BEDE-60F9-4D82-BF9F-35FB8416CA5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4C294-064C-40C3-B8AB-2DC99376967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/>
          </p:nvPr>
        </p:nvSpPr>
        <p:spPr>
          <a:xfrm>
            <a:off x="614160" y="1589040"/>
            <a:ext cx="8134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lasses are like blueprints: they define how things should b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⎕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NEW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is a new system function that creates an object using a class as an instance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atever is in the class will appear in the instance as a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copy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, not a referen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instanc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7FE44-42A1-45BC-BCA5-9D0433C278B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/>
          </p:nvPr>
        </p:nvSpPr>
        <p:spPr>
          <a:xfrm>
            <a:off x="685440" y="1874520"/>
            <a:ext cx="813420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⎕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NEW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ccepts a one or two elements argumen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1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s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one is the class (not in quotes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2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n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, if present, is what to start/initialize the instance with. It can only be supplied if the class allows i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title"/>
          </p:nvPr>
        </p:nvSpPr>
        <p:spPr>
          <a:xfrm>
            <a:off x="685800" y="56664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⎕N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BFD49-E7AA-4CEF-93BB-1AA813986BA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/>
          </p:nvPr>
        </p:nvSpPr>
        <p:spPr>
          <a:xfrm>
            <a:off x="685440" y="1733400"/>
            <a:ext cx="8134200" cy="435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xampl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myInstance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← ⎕NEW  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MyClas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display form includes [brackets] by defaul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myInstanc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#.[MyClass]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t is another type of namespac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⎕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NC 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‘myInstance’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9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⎕N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7F802-FD05-4563-BE9C-7C2F125243D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/>
          </p:nvPr>
        </p:nvSpPr>
        <p:spPr>
          <a:xfrm>
            <a:off x="685440" y="1733400"/>
            <a:ext cx="8134200" cy="435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F allows to change the default Display Form of a namespac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xampl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⎕←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obj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←⎕NEW  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MyClas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#.[MyClass]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obj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.⎕DF 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‘OO class’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obj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OO clas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⎕DF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C861E-3F73-4A90-B47C-32318196F3E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/>
          </p:nvPr>
        </p:nvSpPr>
        <p:spPr>
          <a:xfrm>
            <a:off x="323640" y="1587240"/>
            <a:ext cx="8134200" cy="17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Classes may require </a:t>
            </a:r>
            <a:r>
              <a:rPr b="0" i="1" lang="en-GB" sz="2800" spc="-1" strike="noStrike">
                <a:solidFill>
                  <a:srgbClr val="333333"/>
                </a:solidFill>
                <a:latin typeface="Geneva"/>
              </a:rPr>
              <a:t>something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to initialize the instance. Ex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)ED ○ Animal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title"/>
          </p:nvPr>
        </p:nvSpPr>
        <p:spPr>
          <a:xfrm>
            <a:off x="323640" y="58104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constructor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33" name="Text Box 5"/>
          <p:cNvSpPr/>
          <p:nvPr/>
        </p:nvSpPr>
        <p:spPr>
          <a:xfrm>
            <a:off x="166680" y="3506760"/>
            <a:ext cx="4151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ere an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nima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u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at least tw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aracteristic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# of leg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ounds it mak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4" name="Group 8"/>
          <p:cNvGrpSpPr/>
          <p:nvPr/>
        </p:nvGrpSpPr>
        <p:grpSpPr>
          <a:xfrm>
            <a:off x="4500720" y="2440080"/>
            <a:ext cx="4248000" cy="3652920"/>
            <a:chOff x="4500720" y="2440080"/>
            <a:chExt cx="4248000" cy="3652920"/>
          </a:xfrm>
        </p:grpSpPr>
        <p:pic>
          <p:nvPicPr>
            <p:cNvPr id="835" name="Picture 4" descr=""/>
            <p:cNvPicPr/>
            <p:nvPr/>
          </p:nvPicPr>
          <p:blipFill>
            <a:blip r:embed="rId1"/>
            <a:stretch/>
          </p:blipFill>
          <p:spPr>
            <a:xfrm>
              <a:off x="4500720" y="2440080"/>
              <a:ext cx="4248000" cy="365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Rectangle 6"/>
            <p:cNvSpPr/>
            <p:nvPr/>
          </p:nvSpPr>
          <p:spPr>
            <a:xfrm>
              <a:off x="5651640" y="3616560"/>
              <a:ext cx="2233800" cy="36036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Rectangle 7"/>
            <p:cNvSpPr/>
            <p:nvPr/>
          </p:nvSpPr>
          <p:spPr>
            <a:xfrm>
              <a:off x="5437440" y="4743720"/>
              <a:ext cx="2016000" cy="36036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EFFFB-2FD5-4EDC-A012-42E85842C94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/>
          </p:nvPr>
        </p:nvSpPr>
        <p:spPr>
          <a:xfrm>
            <a:off x="323640" y="1587240"/>
            <a:ext cx="8134200" cy="17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everal instances can be made up of the same Animal class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title"/>
          </p:nvPr>
        </p:nvSpPr>
        <p:spPr>
          <a:xfrm>
            <a:off x="323640" y="49356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constructor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43" name="Picture 6" descr=""/>
          <p:cNvPicPr/>
          <p:nvPr/>
        </p:nvPicPr>
        <p:blipFill>
          <a:blip r:embed="rId1"/>
          <a:stretch/>
        </p:blipFill>
        <p:spPr>
          <a:xfrm>
            <a:off x="3429000" y="2135160"/>
            <a:ext cx="5175360" cy="2293920"/>
          </a:xfrm>
          <a:prstGeom prst="rect">
            <a:avLst/>
          </a:prstGeom>
          <a:ln w="0">
            <a:noFill/>
          </a:ln>
        </p:spPr>
      </p:pic>
      <p:sp>
        <p:nvSpPr>
          <p:cNvPr id="844" name="Text Box 7"/>
          <p:cNvSpPr/>
          <p:nvPr/>
        </p:nvSpPr>
        <p:spPr>
          <a:xfrm>
            <a:off x="167040" y="2930400"/>
            <a:ext cx="8567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fter running th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ction in a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ace we hav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)ob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fish monkey snake tiger Anim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⎕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NC ‘animals’   ⍝ this is a variable holding 4 instan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animals.Nlegs   ⍝ how many legs for each animal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4 0 0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DA085-071A-4CD6-9B63-50B64E41B2E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79280" y="566640"/>
            <a:ext cx="8856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: message passing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APL this merely consists in calling the methods directly either from the instance or from the class if shared, e.g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Myclass.sharedFn   arg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myInstance.Fn   args ⍝ args if requir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9B160-3B93-4BF5-BE4C-4C6B96F0037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395280" y="566640"/>
            <a:ext cx="85694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inheritan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835164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Inheritance: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Based class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A </a:t>
            </a:r>
            <a:r>
              <a:rPr b="0" lang="en-GB" sz="2800" spc="-1" strike="noStrike">
                <a:solidFill>
                  <a:srgbClr val="00ccff"/>
                </a:solidFill>
                <a:latin typeface="Geneva"/>
              </a:rPr>
              <a:t>clas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can be based on another based class. See </a:t>
            </a:r>
            <a:r>
              <a:rPr b="0" lang="en-GB" sz="2800" spc="-1" strike="noStrike">
                <a:solidFill>
                  <a:srgbClr val="00ccff"/>
                </a:solidFill>
                <a:latin typeface="Geneva"/>
              </a:rPr>
              <a:t>clas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Collie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based on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 Dog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based on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 Animal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855" name="Group 21"/>
          <p:cNvGrpSpPr/>
          <p:nvPr/>
        </p:nvGrpSpPr>
        <p:grpSpPr>
          <a:xfrm>
            <a:off x="179280" y="3359160"/>
            <a:ext cx="8353440" cy="2806200"/>
            <a:chOff x="179280" y="3359160"/>
            <a:chExt cx="8353440" cy="2806200"/>
          </a:xfrm>
        </p:grpSpPr>
        <p:sp>
          <p:nvSpPr>
            <p:cNvPr id="856" name="Rectangle 4"/>
            <p:cNvSpPr/>
            <p:nvPr/>
          </p:nvSpPr>
          <p:spPr>
            <a:xfrm>
              <a:off x="684360" y="4366800"/>
              <a:ext cx="158400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nimal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Rectangle 5"/>
            <p:cNvSpPr/>
            <p:nvPr/>
          </p:nvSpPr>
          <p:spPr>
            <a:xfrm>
              <a:off x="2771640" y="3574800"/>
              <a:ext cx="1584360" cy="100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Dog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: Animal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Rectangle 6"/>
            <p:cNvSpPr/>
            <p:nvPr/>
          </p:nvSpPr>
          <p:spPr>
            <a:xfrm>
              <a:off x="6948360" y="5157360"/>
              <a:ext cx="1584360" cy="1008000"/>
            </a:xfrm>
            <a:prstGeom prst="rect">
              <a:avLst/>
            </a:prstGeom>
            <a:solidFill>
              <a:srgbClr val="6bfd8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Rex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(Collie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Rectangle 7"/>
            <p:cNvSpPr/>
            <p:nvPr/>
          </p:nvSpPr>
          <p:spPr>
            <a:xfrm>
              <a:off x="2771640" y="4943160"/>
              <a:ext cx="1584360" cy="100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ish: Animal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Rectangle 8"/>
            <p:cNvSpPr/>
            <p:nvPr/>
          </p:nvSpPr>
          <p:spPr>
            <a:xfrm>
              <a:off x="6948360" y="4006440"/>
              <a:ext cx="1584360" cy="1008000"/>
            </a:xfrm>
            <a:prstGeom prst="rect">
              <a:avLst/>
            </a:prstGeom>
            <a:solidFill>
              <a:srgbClr val="6bfd8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ido (Collie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Rectangle 10"/>
            <p:cNvSpPr/>
            <p:nvPr/>
          </p:nvSpPr>
          <p:spPr>
            <a:xfrm>
              <a:off x="4859280" y="4727160"/>
              <a:ext cx="158436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ollie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: Dog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2" name="AutoShape 11"/>
            <p:cNvCxnSpPr>
              <a:stCxn id="856" idx="3"/>
              <a:endCxn id="857" idx="1"/>
            </p:cNvCxnSpPr>
            <p:nvPr/>
          </p:nvCxnSpPr>
          <p:spPr>
            <a:xfrm flipV="1">
              <a:off x="2268360" y="4079160"/>
              <a:ext cx="504000" cy="792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63" name="AutoShape 12"/>
            <p:cNvCxnSpPr>
              <a:stCxn id="856" idx="3"/>
              <a:endCxn id="859" idx="1"/>
            </p:cNvCxnSpPr>
            <p:nvPr/>
          </p:nvCxnSpPr>
          <p:spPr>
            <a:xfrm>
              <a:off x="2268360" y="4871520"/>
              <a:ext cx="504000" cy="57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64" name="AutoShape 13"/>
            <p:cNvCxnSpPr>
              <a:stCxn id="857" idx="3"/>
              <a:endCxn id="865" idx="1"/>
            </p:cNvCxnSpPr>
            <p:nvPr/>
          </p:nvCxnSpPr>
          <p:spPr>
            <a:xfrm flipV="1">
              <a:off x="4355640" y="3863520"/>
              <a:ext cx="361080" cy="216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66" name="AutoShape 14"/>
            <p:cNvCxnSpPr>
              <a:stCxn id="857" idx="3"/>
              <a:endCxn id="861" idx="1"/>
            </p:cNvCxnSpPr>
            <p:nvPr/>
          </p:nvCxnSpPr>
          <p:spPr>
            <a:xfrm>
              <a:off x="4356000" y="4079160"/>
              <a:ext cx="504000" cy="1152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67" name="AutoShape 15"/>
            <p:cNvCxnSpPr>
              <a:stCxn id="861" idx="3"/>
              <a:endCxn id="860" idx="1"/>
            </p:cNvCxnSpPr>
            <p:nvPr/>
          </p:nvCxnSpPr>
          <p:spPr>
            <a:xfrm flipV="1">
              <a:off x="6443640" y="4510800"/>
              <a:ext cx="505440" cy="72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68" name="AutoShape 16"/>
            <p:cNvCxnSpPr>
              <a:stCxn id="861" idx="3"/>
              <a:endCxn id="858" idx="1"/>
            </p:cNvCxnSpPr>
            <p:nvPr/>
          </p:nvCxnSpPr>
          <p:spPr>
            <a:xfrm>
              <a:off x="6443640" y="5232240"/>
              <a:ext cx="505440" cy="430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69" name="Text Box 17"/>
            <p:cNvSpPr/>
            <p:nvPr/>
          </p:nvSpPr>
          <p:spPr>
            <a:xfrm>
              <a:off x="7021800" y="3549240"/>
              <a:ext cx="148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6bfd87"/>
                  </a:solidFill>
                  <a:latin typeface="Arial"/>
                </a:rPr>
                <a:t>Instances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Text Box 18"/>
            <p:cNvSpPr/>
            <p:nvPr/>
          </p:nvSpPr>
          <p:spPr>
            <a:xfrm>
              <a:off x="3051000" y="4546440"/>
              <a:ext cx="108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ccff"/>
                  </a:solidFill>
                  <a:latin typeface="Arial"/>
                </a:rPr>
                <a:t>Classe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Line 19"/>
            <p:cNvSpPr/>
            <p:nvPr/>
          </p:nvSpPr>
          <p:spPr>
            <a:xfrm>
              <a:off x="179280" y="487008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Rectangle 20"/>
            <p:cNvSpPr/>
            <p:nvPr/>
          </p:nvSpPr>
          <p:spPr>
            <a:xfrm>
              <a:off x="4716360" y="3359160"/>
              <a:ext cx="1944720" cy="100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Great Dane: Dog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A28B3-8E80-4CD0-8CAA-4A5C72FA579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/>
          </p:nvPr>
        </p:nvSpPr>
        <p:spPr>
          <a:xfrm>
            <a:off x="323640" y="1803240"/>
            <a:ext cx="8134200" cy="8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4000"/>
          </a:bodyPr>
          <a:p>
            <a:pPr marL="11664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Example: a bird’s generic description is ‘plain Bird’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116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Birdy←⎕NEW Bir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116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Birdy.Desc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116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plain Bir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title"/>
          </p:nvPr>
        </p:nvSpPr>
        <p:spPr>
          <a:xfrm>
            <a:off x="468360" y="566640"/>
            <a:ext cx="8207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inheritan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877" name="Group 27"/>
          <p:cNvGrpSpPr/>
          <p:nvPr/>
        </p:nvGrpSpPr>
        <p:grpSpPr>
          <a:xfrm>
            <a:off x="754200" y="4149720"/>
            <a:ext cx="3888720" cy="1008000"/>
            <a:chOff x="754200" y="4149720"/>
            <a:chExt cx="3888720" cy="1008000"/>
          </a:xfrm>
        </p:grpSpPr>
        <p:sp>
          <p:nvSpPr>
            <p:cNvPr id="878" name="Rectangle 4"/>
            <p:cNvSpPr/>
            <p:nvPr/>
          </p:nvSpPr>
          <p:spPr>
            <a:xfrm>
              <a:off x="1114200" y="4149720"/>
              <a:ext cx="158400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ir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9" name="AutoShape 12"/>
            <p:cNvCxnSpPr>
              <a:stCxn id="878" idx="3"/>
              <a:endCxn id="880" idx="1"/>
            </p:cNvCxnSpPr>
            <p:nvPr/>
          </p:nvCxnSpPr>
          <p:spPr>
            <a:xfrm>
              <a:off x="2698560" y="4654080"/>
              <a:ext cx="360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80" name="Rectangle 19"/>
            <p:cNvSpPr/>
            <p:nvPr/>
          </p:nvSpPr>
          <p:spPr>
            <a:xfrm>
              <a:off x="3058920" y="4149720"/>
              <a:ext cx="1584000" cy="1008000"/>
            </a:xfrm>
            <a:prstGeom prst="rect">
              <a:avLst/>
            </a:prstGeom>
            <a:solidFill>
              <a:srgbClr val="6bfd8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irdy (Bird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Line 20"/>
            <p:cNvSpPr/>
            <p:nvPr/>
          </p:nvSpPr>
          <p:spPr>
            <a:xfrm>
              <a:off x="754200" y="4654440"/>
              <a:ext cx="360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2" name="Rectangle 23"/>
          <p:cNvSpPr/>
          <p:nvPr/>
        </p:nvSpPr>
        <p:spPr>
          <a:xfrm>
            <a:off x="324000" y="3573360"/>
            <a:ext cx="1511280" cy="50328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3" name="Group 26"/>
          <p:cNvGrpSpPr/>
          <p:nvPr/>
        </p:nvGrpSpPr>
        <p:grpSpPr>
          <a:xfrm>
            <a:off x="4932360" y="2749680"/>
            <a:ext cx="3887640" cy="2766960"/>
            <a:chOff x="4932360" y="2749680"/>
            <a:chExt cx="3887640" cy="2766960"/>
          </a:xfrm>
        </p:grpSpPr>
        <p:pic>
          <p:nvPicPr>
            <p:cNvPr id="884" name="Picture 22" descr=""/>
            <p:cNvPicPr/>
            <p:nvPr/>
          </p:nvPicPr>
          <p:blipFill>
            <a:blip r:embed="rId1"/>
            <a:stretch/>
          </p:blipFill>
          <p:spPr>
            <a:xfrm>
              <a:off x="4932360" y="2749680"/>
              <a:ext cx="3887640" cy="27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5" name="Rectangle 24"/>
            <p:cNvSpPr/>
            <p:nvPr/>
          </p:nvSpPr>
          <p:spPr>
            <a:xfrm>
              <a:off x="6661080" y="4314960"/>
              <a:ext cx="1224000" cy="288720"/>
            </a:xfrm>
            <a:prstGeom prst="rect">
              <a:avLst/>
            </a:prstGeom>
            <a:solidFill>
              <a:srgbClr val="ff0000">
                <a:alpha val="5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6" name="Text Box 25"/>
          <p:cNvSpPr/>
          <p:nvPr/>
        </p:nvSpPr>
        <p:spPr>
          <a:xfrm>
            <a:off x="591840" y="5573880"/>
            <a:ext cx="800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n Birdy is created, Bird’s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construct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call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37EA3-205D-4CEB-8066-B8827040D51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/>
          </p:nvPr>
        </p:nvSpPr>
        <p:spPr>
          <a:xfrm>
            <a:off x="323640" y="1699920"/>
            <a:ext cx="813420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a base class has a constructor it must be call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Base constructors are called when the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:Implements constructor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statement is reach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several classes are based one on another their constructors’ call are made in the same fashi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 type="title"/>
          </p:nvPr>
        </p:nvSpPr>
        <p:spPr>
          <a:xfrm>
            <a:off x="468360" y="637920"/>
            <a:ext cx="82072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inheritan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6T02:30:52Z</dcterms:created>
  <dc:creator>DanB</dc:creator>
  <dc:description/>
  <dc:language>en-US</dc:language>
  <cp:lastModifiedBy>danb</cp:lastModifiedBy>
  <dcterms:modified xsi:type="dcterms:W3CDTF">2011-09-02T01:53:25Z</dcterms:modified>
  <cp:revision>614</cp:revision>
  <dc:subject/>
  <dc:title>OO Obj OR pgm</dc:title>
</cp:coreProperties>
</file>