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B7FD-AC9B-4766-B35D-203B328CF88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9050-FE15-4DA7-8725-B0AEC72CAD66}"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6EA4-D73A-4175-B2D4-470BDF2F38C0}"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ake effect until you reload APL th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E100-C150-4AB1-B4E2-4A2AD0431425}"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56A6-54CB-4DEB-9286-7CCBBACF824F}"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A226-9AC6-46D4-860A-C57C1B3FDFE3}"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8C74-4011-48C4-8973-654D27CFAE77}"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E2024-82E1-4817-A47C-ABD35103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60FF-3CAD-4E13-A92F-65A23A1B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3861BFD-53DD-4669-B35C-084AFAB9B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3880B98-9567-4879-8AA0-53E9C5E663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CDA9309-391F-407B-B36B-9C9BF887A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55572A7-0769-4C9D-95BF-031AF908D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8D9184C-C36F-414F-AE76-F7FCEA8741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B6B8CC-3CF8-4CD0-953B-9D067C2D0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F391142-730B-494F-B93A-CC5D911FB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FCC25C5-9AF2-4CAA-B784-063382F727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614C777-9DE0-47AE-B610-149B4646A9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A42588-8455-4ABD-ACDD-37873F769D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A6E72-4439-4FCB-A7F3-AEAF2DF48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FF9C90-7373-4A3E-A8E8-3E7575D1FF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CF6148-1B08-461D-A4B6-5CC8EEF116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784F6A-1AFE-4EE7-A0BB-E5C39D588D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DE3E80-5EC0-4F67-9537-18BB3A7340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DA5883-467D-40A9-8886-8A73244117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7A0DA9-B20F-47DA-B4F8-BDC0D52BCD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1A0C6B-C2FF-4311-8FF4-7D514230D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DBA0E6-B161-40FA-BA7A-C957B007A9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762C85-EE1A-4EEE-8049-E58DB2CB08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AC8434-1909-460C-B1B3-AF60D346DF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D3B49-4C2B-4B38-806B-9E380FCA7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E7C9F6-E60F-48DA-B95D-918ED6EAF3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71607D-8609-485B-84EB-A85A51FF52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BAB65A-185C-4A80-8947-2FBDE75681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B7F83A-0356-4831-A3EE-31A347F865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9A04D5-7C1C-40E9-A344-3CB932740F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5091CE-ED5B-4CFE-89AC-76B61EB9B2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E0EB3C-6120-4115-B7B5-274144418C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547C16-B127-4B73-92A4-AD8A29B485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9CD50-D116-4881-808B-DA5434AA9B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F26424-572B-44EB-AF75-83919D0F82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1C9AC-0C80-4232-839E-CED653C52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C5D274-1F9F-4CB7-BACD-4A5115765D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1B243A-23BC-445D-B1A4-59B9DD0FA4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629781-15C7-45FF-8321-D65B243220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140EF2-FC5D-43C9-9A88-7A0F4C10A0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1C08EC-C460-450B-994E-2C5017E238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E1BF45-028A-4BE1-A3AE-0DC00B8CF7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4232DA-BAAB-4A7E-A849-DBCB21A195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133C74-5C00-4070-B8F4-57AE94E759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BD4032-C95D-477F-9970-1E697F28E1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56AEA1-A6E6-4803-AD4C-35582FB5E0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E33A4-9B68-45AE-B1A4-5434F453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6F253D-B497-4446-B7F2-7176196EEA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194D19-E2AF-49F6-8EF8-64A7700B26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BDA1F1-BBB4-4B59-94C4-276DC665DA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AFCF0D-C641-494D-A489-55F760137B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FDF2C4-77B7-4EFB-8FF9-7DD1FB2DA9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AECBA8-1CE5-493D-9738-8A849E6D10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31BD0C-D130-4D43-A8A6-611222DD94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08AF10-B15C-420D-9E16-BA513CE3EF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7A5919-5DAA-4A2A-A290-1235D39744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EC5AF1-832E-44EA-9DEF-7E863B77B1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BCFB2-3DCF-4120-91EA-DB0405035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E03FDC-5432-4C40-BDC3-6362570849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8E3A77-E67E-407C-82C8-15B7BD8E25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B835FA-D97E-4775-9201-CE52CBF866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849675-14B3-4452-8372-A5113D35D4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63E873-E0E8-485D-9196-6F46CA8C30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0448FA-F0C2-4BC9-A1B4-1CE22B0E36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648C42-A83D-49E1-B6CD-6AD210E6BF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3BE5D3A-25BA-412F-9B4E-5D795AB271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481B5C-124A-4956-B0FE-283D5C3BA7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53CF9E-7E20-4BDF-8ACB-920716A07A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A49A5-1E62-4302-8BB9-B33B8F4EE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70DEEB-988E-4956-89F4-17BF30B6BC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989FC0-B68B-48DA-AD2B-314AF5557A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77960B-26EE-4AB2-8AB0-9A70CDE513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71CC26-E851-474A-9D20-9EF45BC37D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2D736F-0A8B-4B73-A38E-2DB39B3DB0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18AA2F-A029-4D56-B257-F5DC2891B1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F007E7-6BA1-43C2-8C99-14CBC2A9C7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9DEA67-AFC0-4796-B10E-394200B795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41F7F3-7D0E-4058-A153-FE185C0CC7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5995E-D041-453B-9FAD-9B87B3576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E1805-93DE-4DDF-A49E-815A9C982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32B6E-8B79-41B3-8A44-C71EA9D9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FF1C1-3CBE-4A66-9172-3E47E1DB1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B9BA-986C-457D-8A68-1DBAB48FF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C00DD-6969-4990-98FB-768E3FD0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1D024-A730-44BE-A4DC-75F47F80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865BC-4490-411B-8E77-65127F9D3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71439-D191-4A03-B4C4-CDDF8257A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F9D8F6-F8D3-4A2B-A59A-2F273C904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B107E-20F1-4985-B1B3-9CFB67C8F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84A77-F3BE-4F9F-AD02-7E039E16D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F9398-2389-40B1-9E0F-782D03455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086D9-8D21-42C3-834A-F659D3D61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4DEF8-7454-4564-BB71-6A5FBADE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174F19-0461-45DC-89F9-E7CC9916B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712F5-1A62-4E2A-88FF-9A82D05B9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F648A-77B1-468D-A9E1-1558A7E57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0BC48-0400-4BB6-A846-966FA9107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2921E-9372-494C-8432-0A056A16C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854164-869F-471A-912C-FD21A5A39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1BED6-D648-410D-9608-B46760958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FBD7F-17F9-4F71-983B-BF230B71D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559F8-6425-46A4-A2BB-C67DFF988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14413-4FA9-4B29-8B58-BE2BBA65A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5393E-B5A4-48B4-BE20-B20F6512D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BCE7B-B6F3-4A06-823E-ED107E324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60AB3-6DD1-424F-8507-C7B8D70B8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A0632-97C0-4BC1-9A5B-83D50783D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C5239-AB99-4DCE-9B7E-A46ACC28B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DB35A-5E0C-4147-896C-576CAE1DB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425C2-3400-47E0-8427-22B2651CE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22D5DB-00D3-43FE-9AB0-0C94FE352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ECD22-626F-499B-A4EC-EF62A1582A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290640-F1F5-4E1E-8FD2-0CA64DAA9A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EAD1BB-C47E-4B74-9932-6FF3333A9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93E2A-84DB-4B55-AFD9-841BFAC2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6A51C-71B2-4C47-8D8A-F95A393A3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99949-4F3D-4958-82E2-3EC56635B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A090F8-AFBC-4996-8CD0-89BB184B4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85FB9-4048-46F9-AD8A-7E0C3C71E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9C597-DFC6-4E5F-AED7-46996B821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3DC75-0A46-4DF3-BAE6-8E757C30B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98C58-CDFE-4623-AE42-80AD2326F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22889-8BED-4F30-8881-CEB8B639B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C06AD-58CC-43D4-92FE-B1766AE1C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7DAF5-4B9B-4D37-96B3-F48A84A17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6ED8-5D2C-4B5B-98CD-CD9BA677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563AEB-1026-4B5B-9154-F63F27623B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6492AA-46B5-4757-9906-5CBDD72F2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6547D-0F96-4024-96D8-0C4FDBC12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B12CA-F330-4064-A1AE-1BBCD1547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09A01-D04F-4408-AC8E-0A231FFBD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01ACE-CAA3-46BE-B5F3-ADABF3662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9D872-429D-49BA-B0B7-583BB7265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5F51E-EB1E-4CCC-991F-6F539C73F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E2F17-E6A4-4391-AAFA-6B6AD00FA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746F6-E1D4-4F4F-8185-2B080B004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2E09-FF17-4396-887E-69F0E411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7E364-D6B4-4AE9-8A61-C74999A51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D9A051-F1E7-4AB0-995A-D37550DDF3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6F6F43-0574-4A51-AA56-D50D92295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874813-6555-4247-94BD-05C78E327F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226EE-322E-4A8C-92C1-A9D1B8D72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7526B-6DB8-4DF2-8B7B-77191594C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76342-C01E-4836-BCA9-1E4C44EE5E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BCA88-859C-4C20-A89B-CC128A4E5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7918D-B38C-4F02-9029-5BBFCF5FD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CA7F9-E0CE-48D1-AADC-B136E3F19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4E3A-3479-4278-A43D-3DFCE802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4B3C4-098F-47C5-B073-95852EDB9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692E50-59EF-4C74-8946-1EF2BF014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5F386-37B9-4741-87F8-56E36CB186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A9BC19-1868-4DB9-A55F-0402EB31E8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F80366-46F8-41F1-BCDF-A9F126D760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CF2272-C000-4472-B6F3-3F94ACB6C5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BF69C-33C8-4531-A726-7D2C82290E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8BA76-4C5D-4593-B5A0-5ABC8A8CF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D05E3-C6B7-4C3F-878D-335D9BD5C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D0A61-F572-4EBB-954A-258DAAECC6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7D7B-CCB5-47EE-B4B0-DE6117D56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07D21-356D-4798-8D2D-529221CD2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08903-CCBE-4238-A4D2-8EB5BF41A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F95A4-731A-447B-B9AF-8A2999A81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2B3C9-21ED-46A6-B72F-1AA20663C7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1A944-CF9B-4A56-9A47-6DFF73C8D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9C4EF5-DAC6-46E6-A838-5321C97A5B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8595D-A524-4286-BA5D-D3E473DE0E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CC744F8-4842-4C64-8939-841B25B897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5E161E3-4422-4183-9D5C-99F85A64F4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0612125-D8CA-4E46-82C2-C3FE10BA38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C041-F90C-49D1-8F5D-4CD18FEC3BEC}"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9851-CA06-4F63-9320-D268B08B0C7D}"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CA03-0D59-4287-9BB1-3F79BE86E2A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B59A-E44F-4182-A2CE-D2AEABFF12F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4521-A661-4E92-92CD-A147DD04490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5F97-8C5B-4F27-ACE5-800C604DF38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2FC9-A1CE-44E2-B137-5A0D51630D21}"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7E89-B953-4F5D-B412-E476F608879F}"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D77E-33EE-4365-ACDB-D1D6373DB493}"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56B1-AC80-4DBD-B83B-1F48C128A5F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94E4-CEE4-4928-846B-2A914B09FE5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CE2D-B799-40F7-ADAF-3D5E744F121F}"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2A62-8662-4B60-8AB9-919A78594C72}"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22B8-4DAF-4FB1-A54C-A7EE26E08FD8}"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br>
              <a:rPr sz="4400"/>
            </a:br>
            <a:r>
              <a:rPr b="1" lang="en-GB" sz="4400" spc="-1" strike="noStrike">
                <a:solidFill>
                  <a:srgbClr val="333333"/>
                </a:solidFill>
                <a:latin typeface="Geneva"/>
              </a:rPr>
              <a:t>in Dyalog APL</a:t>
            </a:r>
            <a:br>
              <a:rPr sz="4400"/>
            </a:br>
            <a:r>
              <a:rPr b="1" lang="en-GB" sz="2400" spc="-1" strike="noStrike">
                <a:solidFill>
                  <a:srgbClr val="333333"/>
                </a:solidFill>
                <a:latin typeface="Geneva"/>
              </a:rPr>
              <a:t>By Dan Baronet</a:t>
            </a:r>
            <a:endParaRPr b="1" lang="en-US" sz="2400" spc="-1" strike="noStrike">
              <a:solidFill>
                <a:srgbClr val="333333"/>
              </a:solidFill>
              <a:latin typeface="Geneva"/>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 - V1.03</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5" name=""/>
          <p:cNvSpPr txBox="1"/>
          <p:nvPr/>
        </p:nvSpPr>
        <p:spPr>
          <a:xfrm>
            <a:off x="324000" y="1700280"/>
            <a:ext cx="8496000" cy="4681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command ]SAVE , which saves an OBJECT (not a workspace), takes up to 2 arguments, saving the object named in the 1</a:t>
            </a:r>
            <a:r>
              <a:rPr b="0" lang="en-GB" sz="3200" spc="-1" strike="noStrike" baseline="30000">
                <a:solidFill>
                  <a:srgbClr val="333333"/>
                </a:solidFill>
                <a:latin typeface="Geneva"/>
              </a:rPr>
              <a:t>st</a:t>
            </a:r>
            <a:r>
              <a:rPr b="0" lang="en-GB" sz="3200" spc="-1" strike="noStrike">
                <a:solidFill>
                  <a:srgbClr val="333333"/>
                </a:solidFill>
                <a:latin typeface="Geneva"/>
              </a:rPr>
              <a:t> argument to, if present, the location named in the 2</a:t>
            </a:r>
            <a:r>
              <a:rPr b="0" lang="en-GB" sz="3200" spc="-1" strike="noStrike" baseline="30000">
                <a:solidFill>
                  <a:srgbClr val="333333"/>
                </a:solidFill>
                <a:latin typeface="Geneva"/>
              </a:rPr>
              <a:t>nd</a:t>
            </a:r>
            <a:r>
              <a:rPr b="0" lang="en-GB" sz="3200" spc="-1" strike="noStrike">
                <a:solidFill>
                  <a:srgbClr val="333333"/>
                </a:solidFill>
                <a:latin typeface="Geneva"/>
              </a:rPr>
              <a:t> argument. Ex:</a:t>
            </a:r>
            <a:endParaRPr b="0" lang="en-US" sz="32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save</a:t>
            </a:r>
            <a:r>
              <a:rPr b="0" lang="en-GB" sz="2400" spc="-1" strike="noStrike">
                <a:solidFill>
                  <a:srgbClr val="333333"/>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LOAD:</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load</a:t>
            </a:r>
            <a:r>
              <a:rPr b="0" lang="en-GB" sz="2400" spc="-1" strike="noStrike">
                <a:solidFill>
                  <a:srgbClr val="333333"/>
                </a:solidFill>
                <a:latin typeface="Geneva"/>
              </a:rPr>
              <a:t>  my\location\myfn</a:t>
            </a:r>
            <a:endParaRPr b="0" lang="en-US" sz="24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17"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 And ]?+</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path\to\file\containing\a\user\cmd</a:t>
            </a:r>
            <a:endParaRPr b="0" lang="en-US" sz="2700" spc="-1" strike="noStrike">
              <a:solidFill>
                <a:srgbClr val="333333"/>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19" name=""/>
          <p:cNvSpPr txBox="1"/>
          <p:nvPr/>
        </p:nvSpPr>
        <p:spPr>
          <a:xfrm>
            <a:off x="395280" y="1699920"/>
            <a:ext cx="8229600" cy="4753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Dyalog comes pre-packaged with some already defined UCMD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y are divided into some 7 group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LT</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pice (UCMD)</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v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mo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o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ransfer</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wsuti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21" name=""/>
          <p:cNvSpPr txBox="1"/>
          <p:nvPr/>
        </p:nvSpPr>
        <p:spPr>
          <a:xfrm>
            <a:off x="468360" y="1699920"/>
            <a:ext cx="8229600" cy="4753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se are the same as their SALT functions:</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v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object</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oad</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Compare</a:t>
            </a:r>
            <a:r>
              <a:rPr b="0" lang="en-GB" sz="3000" spc="-1" strike="noStrike">
                <a:solidFill>
                  <a:srgbClr val="333333"/>
                </a:solidFill>
                <a:latin typeface="Geneva"/>
              </a:rPr>
              <a:t>	</a:t>
            </a:r>
            <a:r>
              <a:rPr b="0" lang="en-GB" sz="3000" spc="-1" strike="noStrike">
                <a:solidFill>
                  <a:srgbClr val="333333"/>
                </a:solidFill>
                <a:latin typeface="Geneva"/>
              </a:rPr>
              <a:t>file1</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ile2]</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ettings</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yp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valu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Explor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fil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ist</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nap</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Removeversions</a:t>
            </a:r>
            <a:r>
              <a:rPr b="0" lang="en-GB" sz="3000" spc="-1" strike="noStrike">
                <a:solidFill>
                  <a:srgbClr val="333333"/>
                </a:solidFill>
                <a:latin typeface="Geneva"/>
              </a:rPr>
              <a:t>	</a:t>
            </a:r>
            <a:r>
              <a:rPr b="0" lang="en-GB" sz="3000" spc="-1" strike="noStrike">
                <a:solidFill>
                  <a:srgbClr val="333333"/>
                </a:solidFill>
                <a:latin typeface="Geneva"/>
              </a:rPr>
              <a:t>file</a:t>
            </a:r>
            <a:endParaRPr b="0" lang="en-US" sz="3000" spc="-1" strike="noStrike">
              <a:solidFill>
                <a:srgbClr val="333333"/>
              </a:solidFill>
              <a:latin typeface="Genev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23" name=""/>
          <p:cNvSpPr txBox="1"/>
          <p:nvPr/>
        </p:nvSpPr>
        <p:spPr>
          <a:xfrm>
            <a:off x="68436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ON|OFF</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clean</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new</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rese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version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monitor</a:t>
            </a:r>
            <a:endParaRPr b="0" lang="en-US" sz="28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25"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i: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o: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add/delete: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diff: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update: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27" name=""/>
          <p:cNvSpPr txBox="1"/>
          <p:nvPr/>
        </p:nvSpPr>
        <p:spPr>
          <a:xfrm>
            <a:off x="457200" y="1934640"/>
            <a:ext cx="86868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is group is used to monitor the system:</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APLMON: used to monitor expressions by primitive,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aplmon  {+/1=⍵∨⍳⍵}¨⍳1000   –file=\tmp\dat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LOAD APLMON</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InitMon  '\tmp\data.csv'</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PUtime: used to find CPU used for expressions,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cputime  {+/1=⍵∨⍳⍵}¨⍳1000</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Monitor: used to find lines consuming the most CPU</a:t>
            </a:r>
            <a:endParaRPr b="0" lang="en-US" sz="25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2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31" name=""/>
          <p:cNvSpPr txBox="1"/>
          <p:nvPr/>
        </p:nvSpPr>
        <p:spPr>
          <a:xfrm>
            <a:off x="468000" y="1268280"/>
            <a:ext cx="828036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333333"/>
                </a:solidFill>
                <a:latin typeface="Geneva"/>
              </a:rPr>
              <a:t>]fnslike   GUI*  -date=&gt;20090307</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fncalls   MainProgram   -details    -treeview</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wsloc    \babc[∧\w]←     -pattern   -recursive</a:t>
            </a:r>
            <a:endParaRPr b="0" lang="en-US" sz="30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ode to run a UCMD is contained in a class or namespace in a SALT (text, Unicode)fil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at file may be host to several UCMD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ommand names are case insensitive, e.g. ‘find’ and ‘FIND’ call the same cod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witches names </a:t>
            </a:r>
            <a:r>
              <a:rPr b="0" lang="en-GB" sz="2500" spc="-1" strike="noStrike" u="sng">
                <a:solidFill>
                  <a:srgbClr val="333333"/>
                </a:solidFill>
                <a:uFillTx/>
                <a:latin typeface="Geneva"/>
              </a:rPr>
              <a:t>are</a:t>
            </a:r>
            <a:r>
              <a:rPr b="0" lang="en-GB" sz="2500" spc="-1" strike="noStrike">
                <a:solidFill>
                  <a:srgbClr val="333333"/>
                </a:solidFill>
                <a:latin typeface="Geneva"/>
              </a:rPr>
              <a:t> case sensitiv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UCMDs are grouped together, e.g. utilities can be grouped under the group ‘wsutil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lass or namespace must contain at least 3 public functions: ‘List’, ‘Run’ and ‘Help’</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rocedure</a:t>
            </a:r>
            <a:endParaRPr b="1" lang="en-US" sz="4400" spc="-1" strike="noStrike">
              <a:solidFill>
                <a:srgbClr val="333333"/>
              </a:solidFill>
              <a:latin typeface="Geneva"/>
            </a:endParaRPr>
          </a:p>
        </p:txBody>
      </p:sp>
      <p:sp>
        <p:nvSpPr>
          <p:cNvPr id="5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tutorial is divided into 4 area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y UCMDs and introdu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s UCM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the UCMD framework</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r UCMDs: how to write them</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ist’ function is used to gather basic info displayed when using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 is used to display more complete info when using ]?cmdx or ]??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 is the one doing the work.</a:t>
            </a:r>
            <a:endParaRPr b="0" lang="en-US" sz="32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7"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3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et’s assume we have a simple function we wish to call once in a while without having to copy/call/erase it each time:</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18960" indent="-31896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Class  dat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t>
            </a:r>
            <a:r>
              <a:rPr b="0" lang="en-GB" sz="1800" spc="-1" strike="noStrike">
                <a:solidFill>
                  <a:srgbClr val="333333"/>
                </a:solidFill>
                <a:latin typeface="APL385 Unicode"/>
              </a:rPr>
              <a:t>IO←1 ⋄ ⎕ML←1</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List</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ccess Shared Public</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Name, group, short description and parsing rul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ame← 'cal'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Group←'date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Desc← 'returns the calendar for a given month'</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Parse←''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Help dummy</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Access Shared Public</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Enter a month as argumen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5" name=""/>
          <p:cNvSpPr txBox="1"/>
          <p:nvPr/>
        </p:nvSpPr>
        <p:spPr>
          <a:xfrm>
            <a:off x="684360" y="1557360"/>
            <a:ext cx="7772400" cy="4114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a:t>
            </a:r>
            <a:endParaRPr b="0" lang="en-US" sz="3000" spc="-1" strike="noStrike">
              <a:solidFill>
                <a:srgbClr val="333333"/>
              </a:solidFill>
              <a:latin typeface="Geneva"/>
            </a:endParaRPr>
          </a:p>
          <a:p>
            <a:pPr marL="339480" indent="-3394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Run(a1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Access Shared Public</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calendar' ⎕CY 'myutils'</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calendar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endclass</a:t>
            </a:r>
            <a:endParaRPr b="0" lang="en-US" sz="30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HELP and RUN functions should really account for that.</a:t>
            </a:r>
            <a:endParaRPr b="0" lang="en-US" sz="3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HELP function for more than one comman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r>
              <a:rPr b="0" lang="en-GB" sz="2500" spc="-1" strike="noStrike">
                <a:solidFill>
                  <a:srgbClr val="333333"/>
                </a:solidFill>
                <a:latin typeface="APL385 Unicode"/>
              </a:rPr>
              <a:t>r←Help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Access Shared Public</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Select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cal'</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r← 'Enter a month as argumen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other'</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EndSelec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1" name=""/>
          <p:cNvSpPr txBox="1"/>
          <p:nvPr/>
        </p:nvSpPr>
        <p:spPr>
          <a:xfrm>
            <a:off x="468360" y="1628280"/>
            <a:ext cx="8229600" cy="4923000"/>
          </a:xfrm>
          <a:prstGeom prst="rect">
            <a:avLst/>
          </a:prstGeom>
          <a:noFill/>
          <a:ln w="0">
            <a:noFill/>
          </a:ln>
        </p:spPr>
        <p:txBody>
          <a:bodyPr anchor="t">
            <a:normAutofit/>
          </a:bodyPr>
          <a:p>
            <a:pPr marL="343080" indent="-34308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RUN function for more than one comman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r←Run(Cmd Arg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ccess Shared Public</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Select Cm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cal'</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 ⎕CY 'myutil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r←calendar ⍎Argument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othe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EndSelec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endParaRPr b="0" lang="en-US" sz="27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rguments'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Run&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Parse' (in function &lt;Lis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Parse' empty.</a:t>
            </a:r>
            <a:endParaRPr b="0" lang="en-US" sz="28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idea is to provide a mechanism for accessing tools anywhere b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utilities from the common workspa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ake them available at any time</a:t>
            </a:r>
            <a:endParaRPr b="0" lang="en-US" sz="32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If we wish the system to check the number of arguments (here  1) for us we tell it in &lt;List&gt;:</a:t>
            </a:r>
            <a:endParaRPr b="0" lang="en-US" sz="1800" spc="-1" strike="noStrike">
              <a:solidFill>
                <a:srgbClr val="333333"/>
              </a:solidFill>
              <a:latin typeface="Geneva"/>
            </a:endParaRPr>
          </a:p>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r.Parse← '1'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In that case the 2</a:t>
            </a:r>
            <a:r>
              <a:rPr b="0" lang="en-GB" sz="1800" spc="-1" strike="noStrike" baseline="30000">
                <a:solidFill>
                  <a:srgbClr val="333333"/>
                </a:solidFill>
                <a:latin typeface="APL385 Unicode"/>
              </a:rPr>
              <a:t>nd</a:t>
            </a:r>
            <a:r>
              <a:rPr b="0" lang="en-GB" sz="1800" spc="-1" strike="noStrike">
                <a:solidFill>
                  <a:srgbClr val="333333"/>
                </a:solidFill>
                <a:latin typeface="APL385 Unicode"/>
              </a:rPr>
              <a:t> argument in &lt;Run&gt; will contain a namespace:</a:t>
            </a:r>
            <a:endParaRPr b="0" lang="en-US" sz="18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7" name=""/>
          <p:cNvSpPr txBox="1"/>
          <p:nvPr/>
        </p:nvSpPr>
        <p:spPr>
          <a:xfrm>
            <a:off x="684360" y="1341360"/>
            <a:ext cx="7772400" cy="411480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 </a:t>
            </a:r>
            <a:r>
              <a:rPr b="0" lang="en-GB" sz="2800" spc="-1" strike="noStrike">
                <a:solidFill>
                  <a:srgbClr val="333333"/>
                </a:solidFill>
                <a:latin typeface="APL385 Unicode"/>
              </a:rPr>
              <a:t>r←Run(Cmd a2)</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ccess Shared Public</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Select Cmd</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se 'cal'</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lendar' ⎕CY 'myutil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r←calendar ⍎1⊃a2.Argument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EndSelect</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t>
            </a:r>
            <a:endParaRPr b="0" lang="en-US" sz="2800" spc="-1" strike="noStrike">
              <a:solidFill>
                <a:srgbClr val="333333"/>
              </a:solidFill>
              <a:latin typeface="Genev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a:t>
            </a:r>
            <a:endParaRPr b="0" lang="en-US" sz="28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9">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5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333333"/>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7"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You can reset it too.</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It follows the same rule as SALT's workdir setting, i.e. it is a series of paths separated by semicolons, e.g.</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7f7f7f"/>
                </a:solidFill>
                <a:latin typeface="Geneva"/>
              </a:rPr>
              <a:t>\my\own\path</a:t>
            </a:r>
            <a:r>
              <a:rPr b="1" lang="en-GB" sz="3100" spc="-1" strike="noStrike">
                <a:solidFill>
                  <a:srgbClr val="333333"/>
                </a:solidFill>
                <a:latin typeface="Geneva"/>
              </a:rPr>
              <a:t>;</a:t>
            </a:r>
            <a:r>
              <a:rPr b="0" lang="en-GB" sz="2500" spc="-1" strike="noStrike">
                <a:solidFill>
                  <a:srgbClr val="7f7f7f"/>
                </a:solidFill>
                <a:latin typeface="Geneva"/>
              </a:rPr>
              <a:t>C:\program files\Dyalog\V121\SALT\Spice</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o add "\my\own\path" to the existing path:</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note the comm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	</a:t>
            </a:r>
            <a:r>
              <a:rPr b="0" lang="en-GB" sz="2500" spc="-1" strike="noStrike">
                <a:solidFill>
                  <a:srgbClr val="333333"/>
                </a:solidFill>
                <a:latin typeface="Geneva"/>
              </a:rPr>
              <a:t>]settings cmddir  ,\my\own\path</a:t>
            </a:r>
            <a:endParaRPr b="0" lang="en-US" sz="25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9"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71" name="Picture 2" descr=""/>
          <p:cNvPicPr/>
          <p:nvPr/>
        </p:nvPicPr>
        <p:blipFill>
          <a:blip r:embed="rId1"/>
          <a:stretch/>
        </p:blipFill>
        <p:spPr>
          <a:xfrm>
            <a:off x="1428840" y="1928880"/>
            <a:ext cx="6357960" cy="4629240"/>
          </a:xfrm>
          <a:prstGeom prst="rect">
            <a:avLst/>
          </a:prstGeom>
          <a:ln w="0">
            <a:noFill/>
          </a:ln>
        </p:spPr>
      </p:pic>
      <p:sp>
        <p:nvSpPr>
          <p:cNvPr id="672"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74"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NO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PL/PC had them in the 90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IPSharp users had them (through S-Task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6"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Debugging code</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udebug ON|OFF</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8" name=""/>
          <p:cNvSpPr txBox="1"/>
          <p:nvPr/>
        </p:nvSpPr>
        <p:spPr>
          <a:xfrm>
            <a:off x="684360" y="14842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ybe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witch delimiter (here /)</a:t>
            </a:r>
            <a:endParaRPr b="0" lang="en-US" sz="2800" spc="-1" strike="noStrike">
              <a:solidFill>
                <a:srgbClr val="333333"/>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0" name=""/>
          <p:cNvSpPr txBox="1"/>
          <p:nvPr/>
        </p:nvSpPr>
        <p:spPr>
          <a:xfrm>
            <a:off x="684360" y="1628640"/>
            <a:ext cx="7772400" cy="4114800"/>
          </a:xfrm>
          <a:prstGeom prst="rect">
            <a:avLst/>
          </a:prstGeom>
          <a:noFill/>
          <a:ln w="0">
            <a:noFill/>
          </a:ln>
        </p:spPr>
        <p:txBody>
          <a:bodyPr anchor="t">
            <a:normAutofit fontScale="92000"/>
          </a:bodyPr>
          <a:p>
            <a:pPr marL="315360" indent="-315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2"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 Example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 </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 ←'2  -offset='</a:t>
            </a: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6" name=""/>
          <p:cNvSpPr txBox="1"/>
          <p:nvPr/>
        </p:nvSpPr>
        <p:spPr>
          <a:xfrm>
            <a:off x="685800" y="1981080"/>
            <a:ext cx="7772400" cy="4114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mycmd   'arg 1'   '2001/4/5'   OK   "I'm"  /lights=on</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8" name=""/>
          <p:cNvSpPr txBox="1"/>
          <p:nvPr/>
        </p:nvSpPr>
        <p:spPr>
          <a:xfrm>
            <a:off x="394920" y="1341360"/>
            <a:ext cx="8497800" cy="411480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ong Arguments</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addrec  Joe Blow 42 main st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Parse ←'3L'</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hort Argument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692"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A user command (UCMD) is similar to a system command like )LOAD or )WSID.</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t is a call to an independent routine written by a user, not a routine provided by the system.</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tem commands start with a ), e.g. )SAVE</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User commands start with a ], e.g. ]WSLOC</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7"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WSID [</a:t>
            </a:r>
            <a:r>
              <a:rPr b="1" i="1" lang="en-GB" sz="3200" spc="-1" strike="noStrike">
                <a:solidFill>
                  <a:srgbClr val="333333"/>
                </a:solidFill>
                <a:latin typeface="Geneva"/>
              </a:rPr>
              <a:t>newname</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a:t>
            </a:r>
            <a:r>
              <a:rPr b="1" i="1" lang="en-GB" sz="3200" spc="-1" strike="noStrike">
                <a:solidFill>
                  <a:srgbClr val="333333"/>
                </a:solidFill>
                <a:latin typeface="Geneva"/>
              </a:rPr>
              <a:t>pattern</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system commands they are no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Pattern] </a:t>
            </a:r>
            <a:r>
              <a:rPr b="1" lang="en-GB" sz="3200" spc="-1" strike="noStrike">
                <a:solidFill>
                  <a:srgbClr val="333333"/>
                </a:solidFill>
                <a:latin typeface="Geneva"/>
              </a:rPr>
              <a:t>–</a:t>
            </a:r>
            <a:r>
              <a:rPr b="1" i="1" lang="en-GB" sz="3200" spc="-1" strike="noStrike">
                <a:solidFill>
                  <a:srgbClr val="333333"/>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fact, 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 SAL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cp:lastModifiedBy>
  <dcterms:modified xsi:type="dcterms:W3CDTF">2011-09-30T20:03:01Z</dcterms:modified>
  <cp:revision>51</cp:revision>
  <dc:subject/>
  <dc:title>User Commands  in Dyalog APL</dc:title>
</cp:coreProperties>
</file>