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15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7.png" ContentType="image/png"/>
  <Override PartName="/ppt/media/image37.png" ContentType="image/png"/>
  <Override PartName="/ppt/media/image28.png" ContentType="image/png"/>
  <Override PartName="/ppt/media/image30.png" ContentType="image/png"/>
  <Override PartName="/ppt/media/image8.jpeg" ContentType="image/jpeg"/>
  <Override PartName="/ppt/media/image38.png" ContentType="image/png"/>
  <Override PartName="/ppt/media/image40.png" ContentType="image/png"/>
  <Override PartName="/ppt/media/image5.png" ContentType="image/png"/>
  <Override PartName="/ppt/media/image35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media/image32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32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56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45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167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70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177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  <p:sldId id="412" r:id="rId161"/>
    <p:sldId id="413" r:id="rId162"/>
    <p:sldId id="414" r:id="rId163"/>
    <p:sldId id="415" r:id="rId164"/>
    <p:sldId id="416" r:id="rId165"/>
    <p:sldId id="417" r:id="rId166"/>
    <p:sldId id="418" r:id="rId167"/>
    <p:sldId id="419" r:id="rId168"/>
    <p:sldId id="420" r:id="rId169"/>
    <p:sldId id="421" r:id="rId170"/>
    <p:sldId id="422" r:id="rId171"/>
    <p:sldId id="423" r:id="rId172"/>
    <p:sldId id="424" r:id="rId173"/>
    <p:sldId id="425" r:id="rId174"/>
    <p:sldId id="426" r:id="rId175"/>
    <p:sldId id="427" r:id="rId176"/>
    <p:sldId id="428" r:id="rId177"/>
    <p:sldId id="429" r:id="rId178"/>
    <p:sldId id="430" r:id="rId179"/>
    <p:sldId id="431" r:id="rId180"/>
    <p:sldId id="432" r:id="rId1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slide" Target="slides/slide157.xml"/><Relationship Id="rId162" Type="http://schemas.openxmlformats.org/officeDocument/2006/relationships/slide" Target="slides/slide158.xml"/><Relationship Id="rId163" Type="http://schemas.openxmlformats.org/officeDocument/2006/relationships/slide" Target="slides/slide159.xml"/><Relationship Id="rId164" Type="http://schemas.openxmlformats.org/officeDocument/2006/relationships/slide" Target="slides/slide160.xml"/><Relationship Id="rId165" Type="http://schemas.openxmlformats.org/officeDocument/2006/relationships/slide" Target="slides/slide161.xml"/><Relationship Id="rId166" Type="http://schemas.openxmlformats.org/officeDocument/2006/relationships/slide" Target="slides/slide162.xml"/><Relationship Id="rId167" Type="http://schemas.openxmlformats.org/officeDocument/2006/relationships/slide" Target="slides/slide163.xml"/><Relationship Id="rId168" Type="http://schemas.openxmlformats.org/officeDocument/2006/relationships/slide" Target="slides/slide164.xml"/><Relationship Id="rId169" Type="http://schemas.openxmlformats.org/officeDocument/2006/relationships/slide" Target="slides/slide165.xml"/><Relationship Id="rId170" Type="http://schemas.openxmlformats.org/officeDocument/2006/relationships/slide" Target="slides/slide166.xml"/><Relationship Id="rId171" Type="http://schemas.openxmlformats.org/officeDocument/2006/relationships/slide" Target="slides/slide167.xml"/><Relationship Id="rId172" Type="http://schemas.openxmlformats.org/officeDocument/2006/relationships/slide" Target="slides/slide168.xml"/><Relationship Id="rId173" Type="http://schemas.openxmlformats.org/officeDocument/2006/relationships/slide" Target="slides/slide169.xml"/><Relationship Id="rId174" Type="http://schemas.openxmlformats.org/officeDocument/2006/relationships/slide" Target="slides/slide170.xml"/><Relationship Id="rId175" Type="http://schemas.openxmlformats.org/officeDocument/2006/relationships/slide" Target="slides/slide171.xml"/><Relationship Id="rId176" Type="http://schemas.openxmlformats.org/officeDocument/2006/relationships/slide" Target="slides/slide172.xml"/><Relationship Id="rId177" Type="http://schemas.openxmlformats.org/officeDocument/2006/relationships/slide" Target="slides/slide173.xml"/><Relationship Id="rId178" Type="http://schemas.openxmlformats.org/officeDocument/2006/relationships/slide" Target="slides/slide174.xml"/><Relationship Id="rId179" Type="http://schemas.openxmlformats.org/officeDocument/2006/relationships/slide" Target="slides/slide175.xml"/><Relationship Id="rId180" Type="http://schemas.openxmlformats.org/officeDocument/2006/relationships/slide" Target="slides/slide176.xml"/><Relationship Id="rId181" Type="http://schemas.openxmlformats.org/officeDocument/2006/relationships/slide" Target="slides/slide177.xml"/><Relationship Id="rId18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-36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388584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CE45-AB5A-4D29-A1C9-29C0E1C78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of the time this has worked fairly well – and there was no alternativ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BB70-4BF1-4D32-BDF0-E19113EF4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FF16-AAF1-4692-B042-DC33BB97D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arrot  calls Bird’s constructor to create Desc, then, upon return, Desc is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base call is made at the statement’s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AADD-042B-4B53-8426-9CACC3DBA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not specific to Dya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7850-68EB-4841-9843-B8334B5B1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time constructors will take arg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DD7A-F4F8-4EE8-BB0D-996113BFC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llie inherits 3 members (fields) and creates 1 of its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[]NL -2 and the vector format returned. ‘minus’ means ‘Public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1726-BC9D-4D35-B231-0A0873C4D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llie inherits 3 members (fields) and creates 1 of its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[]NL -2 and the vector format returned. ‘minus’ means ‘Public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C163-405A-4DCC-81DA-1DC7EA97B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 of called constructors. Before setting it Name, Collie calls the Dog ctor which, before setting its Type, calls the Animal 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5559-EBF7-4334-AB2B-0B352B125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A88C-45F7-4B54-A5D2-9C7B23D9B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these statements are not used the default is </a:t>
            </a:r>
            <a:r>
              <a:rPr b="0" i="1" lang="en-GB" sz="1200" spc="-1" strike="noStrike">
                <a:solidFill>
                  <a:srgbClr val="99cc00"/>
                </a:solidFill>
                <a:latin typeface="Arial"/>
              </a:rPr>
              <a:t>pri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39A7-1D32-4636-82C8-563D683FE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ST word in the :FIELD statements is the var n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is a slight difference between a variable and a private instance field: their []N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CF1D0-F1F0-4C78-BB52-AFDCD8EDB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0447-03C2-4778-9C22-77918CFEB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1969-7D4E-42F8-8157-B3468AC33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B982-DADD-4E7D-8C57-8A19E83FF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yID is pri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499D-8E0D-497A-913C-38187FCBC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83FA-C7E8-4CAB-98EB-F190B2FFB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1C25-2BEE-4924-A571-4CB1272CD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rder is unimportant; if &lt;general&gt; is not there and there is no match on the length a LENGTH error will be repo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B6AF-69F7-410A-B858-6BCE83B9A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AVE button is a dud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E2BE-4AF8-4BA3-9F5D-4AD078A76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DE92-E9FB-4D3A-A0E4-0CBAF7384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AVE button is still a dud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FFF0-D619-4AA4-B02F-CDCBBDF56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7688-AFAD-41A0-97DC-A4906E8F4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C1A2-2DB6-42CE-811D-E2B80CF30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36B2-267A-495A-9DA9-216FAF22D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 trig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D9BD-875F-43C1-AECD-EA7FC8BE1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ABD8-C7E5-469D-A5AB-E61DDC48E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is no real need to make that a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FEF6-4592-405B-9113-075ACA4AC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cies came up with a solution to this problem and invented their own Code Management Systems to group code &amp; data into units but this took a lot of man-days of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2 had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0BD9-24B8-4E07-8445-C781663B1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eate the other property I. There are 2 ways to do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B30D-4671-438D-B4E7-74968CB44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T returns a sca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510F-4C82-40B4-8605-BF0D04F03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4832-AB74-4C77-B36B-C5614BE71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returns an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e use of []TH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948F-F6F2-4BF4-A5D1-BEC7AFA17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no []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FABC-AEA4-4FB1-9697-915363242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oblems are still the same tho: name clashing &amp; cleaning afterwa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B19F-2491-40F7-8022-A826A59BD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00F1-D13C-4C7B-A1A7-1B0AA8764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if coders end up doing simple things in complex ways just because they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programmers invented tricks to shadow the names and execute code hidden on the stack but that was like a crutch, something better wa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BD49-D14B-460B-8A72-E932AD2F4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E476-E7E6-47EB-91F5-1C0A4D76A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A4BE-FB14-4C7D-8966-CCF2866CC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workspace releases memory when unused. New prim are squash, power, enhancements are to LCM &amp; G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532B-7E7E-4250-8663-ED3211A18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had to use the Properties windows on fns and to export the 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9B43-9670-4FE7-B218-8BE08FE12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es can include pointers to functions in languages that support it (like C). All these structures are in DY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B9D6-4515-47DA-901A-2761921BE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will be interactive, stop and ask questions any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21D4-C2FD-4E0F-9DB1-EF341634D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tion of passing messages is omni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1226-1D86-44D4-A1FE-92DB4E488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st like Basic had no concept of function &amp; local variable, trad system have no concept of objects and their "local"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5FB8-EE75-44D7-A986-79095B7CD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fine terms to be used in order to speak the same "LANGUAG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C044-782C-4F23-A907-A733F6D15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t a single, widely-agreed upon definition of object-oriented programm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a survey of nearly 40 years of computing literature identified a number of fundamental concepts, identified in the strong majority of definitions of OO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able research supporting or dismissing OOP has been difficult to come b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following slides some of the terms used (e.g. SHARED=STATIC) vary from one implementation/language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3BD2-6DCB-4C22-AB3A-0C2E560F3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like a “struct”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ext in green refers to items already implemented in Dyalog AP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25E7-8325-430B-8D98-B105C12D4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4A7F-C608-43EE-AF36-A5DCF27FF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E35C-9B29-4414-A2EF-100A7A974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1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utlet is the interface to use to connect into the electrical net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ances must conform to be able to plug into it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5037-EB3D-4B3D-B45B-671C66636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time permits show OO implementation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F220-A3FB-4C02-803D-FE9FE3891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nctions are said to be abstract because they do not have code, only synta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classes are ABSTRACT and cannot be instantiated. Just like an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7995-99A2-4D9D-B3F9-BA77DA618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for others – ex: photoshop plugins which state how to access their inna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how you present yourself to outsi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EC0C-071D-4EAF-BE20-DBAB5995A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rfaces allow to map some names (from the class) onto another set of names (of the instanc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6144-5AD7-473D-B217-D5389BC45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a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Volv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ould be an instance of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essn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n instance of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a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In OO there are many types of objects, they are not listed here (e.g. singleton, immutable, prototyp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all OO languages support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structor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or eve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onstructor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.  Instances are also called ‘actors’ in some lit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ured words in italic are found in DYW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. of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struct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file to be unt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D364-7122-472D-BF03-4F5058DBD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nk of an object (namespace) as a mini workspace which can be initialized ([]LX) via a 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CEFB-DBD4-4D23-A5E3-1B0B3CB92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3416-03B4-4361-B9FF-C55F8FD26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RED=STATIC in C#. Shared members are common to all instances and do not need or cannot be copied, e.g. global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B6CD-A5C1-4949-9855-EE6D8D6A0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practice APL does not copy the me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5617-39B7-4A20-96AA-1BBDA40E1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har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lso calle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s i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ethod). Shared code can be called directly via the class, no instance requi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8B35-8735-4EC2-A584-6CFB340B6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languages use the term FINAL instead of READONLY; the terms vary from one language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3095-4C5C-4814-894A-FB4CCDFC1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because everyone else is doing it or MS$ (or anyone else) sets the trend or... Explain in more detail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9A99-7A9B-49A3-95FF-94408B1AD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har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lso calle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s i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ethod). Ex: VISIBL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9DAE-4332-4FF8-8AFA-8DC1CCD90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ssages are commonly used as a means of interprocess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BD2F-33CD-45E6-980C-4796DCA56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hing to do with money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 Not all languages support it, e.g. VB, which is an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bject-bas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something we (programmers) are familiar with: modify code to get new code OR rather call existing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4790-21E5-4B18-99B8-34FEEECC7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2C75-4900-453E-B77A-EF10626D6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ue is a class, green is an instance. Fido is an instance of a Collie. It also has all the characteristics of a Dog and an An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87C6-2341-4A77-8CEE-50AD9BF77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many ways to do this and not all languages do it in a consistent manner. There is a lot is disagreement in that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8B7A-8AE1-4AD2-96B4-B9FC149D3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other way to achieve (some sort of) multiple inheritance is by using multiple implemen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8785-6718-4D5C-BB73-93612077A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C7EE-78D5-4BA3-981E-3AC50545F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0CAA-4D5B-4FE7-BD8C-1252A46A7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C379-58AD-4758-AB0C-D1072758D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ew discipline, paradigm, technology, methodology.  SIMULA was the 1</a:t>
            </a:r>
            <a:r>
              <a:rPr b="0" lang="fr-CA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 object language. Others; Eiffel, CLOS, SELF, Java, BE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Unlike APL it has been GROWING since the 9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he acceptance was due a lot to C-&gt;C++ by not having programmers to learn a new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F6B5-9A1F-4E42-B669-0AE4D2C68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d so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FC3A-DDA3-46D4-A16C-629462268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done in DY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37C4-CC5C-4D2D-B9DF-41F949555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RIDE is also known as VIRTUAL in some cir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 A and B ar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independ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&lt;M2&gt; is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ubrouti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of &lt;M1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8304-3373-4650-B091-60E83CE4E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 B is based on A. When it calls M1, M2 is not seen from M1. M2 could be called by other f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24DE-34A0-416D-A635-9EEE8DFBF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 wants to override M2 but A does not allow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4432-0D59-4CAD-89A2-69EDCCDF8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2 can be overridden and it is effectively don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076B-494C-451A-A997-30C0AD3D2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9205-41B6-4D2E-95A3-BAFE2C450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OO languages do NOT offer encapsulation. private=local for a function,public=global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F9B9-95EE-4CB4-82AB-C697E9DEC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quares are classes. It’s like localized vars in APL (except that they cannot be seen in subfns). SHARED is also called STATIC someti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CFE9-0D25-4B75-9178-775C59DD9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st like ctrl struct were a new concept for programmers, oo is another step in the sam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6FCF-4549-4571-9350-C294B695A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quares are classes. It’s like localized vars in APL (except that they cannot be seen in subfns). SHARED is also called STATIC someti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ED8F-E105-4515-8F00-FDB99F959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akin to localized vars in APL, they can be reached up the stack by called functions. Protected is not supported yet in DY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9EA0-B1DF-4467-AC88-9EB4B771F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akin to localized vars in APL, they can be reached up the stack by called functions. Protected is not supported yet in DY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FAB7-483C-4A00-8312-EF8FAB0A7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ke glob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EB0D-BD1A-4064-9DE0-A20BC0C44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elevator &amp; its repairman. He has access to the inner workings of the elev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also other possibilities. Not all languages support these concepts. DYW does not.  This one is, among others, seen in C++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pled with nesting the complexity of a system can become overwhelm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F0C7-D8A4-4DB5-A85E-AF57B3F7E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can do that in APL using :case on []DR of the arg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928E-F5ED-42E5-9CBF-605B7FEAA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Foo is called with an integer the left fn is used. If it is called with a string the right one is used. Else an error occu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APL polymorphism is basic (typeless argu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CF5F-72EF-4F5D-A41F-B7E40B708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mmon example is the primitive ‘+’ which is overloaded in most languages. Its args have to be often coerced (e.g. 1+0.5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APL most fns are overloa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564A-AA0C-443A-83BF-0D9C8CBC5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times arguments have to be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coerced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o a new type to achieve proper behavi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mmon example is the primitive ‘+’ which is overloaded in most languages. Its args have to be often coerced (e.g. 1+0.5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66E5-9990-4647-AF5F-52B06EB31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ample: object to hold 2 strings (e.g. name, surname) and a method (function, pgm) to  display them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an become more elaborate with ctors,  etc. to initialize (and verify) the initial val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848F-825F-47E7-86CC-F90C8E3C3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9946-68EE-4C3E-9802-C486CF2DF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will now go over each one of these, not necessarily in the same 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C3F6-8B69-4CA0-84A8-197F5E870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e circle to denote editing a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D855-6603-486E-B78C-EA791589D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CLASSES is a new system 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AE04-12A8-48D5-9814-5459D506F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od is a fn, op or Dfn/op. Only regular fns can be public. Properties are like variables whose assignment (or reading) is caught via a fn BEFORE being done.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C5E5-D050-43F2-8D0D-60F901F75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’ll see this in more details in the Encapsulatio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3E4E-F317-436C-9CBC-F74D09C9B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may be more than 1 constructor. D-fns &amp; ops cannot be public (they cannot use the :access state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89CA-E663-4A87-A04F-3E66EB0D6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erties can be shared too; ra contains Name (there can be many!), NewValue is set &amp; maybe Index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sing of &lt;G/Set&gt; unimpor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order to delve into the OO paradigm we need to understand a few concep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adigm=theoretical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83B7-6108-47EF-A20C-C6B16E47C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9685-B338-4046-957A-2AA72AB65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ns are not really cop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me as []NS []OR ‘class’ then call the constructor is per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01BC-A189-4767-AF2B-C67770E79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9682-D0CF-4CB8-BA4B-CEA76D8EF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ide the brackets is the name of the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6A37-05BB-4668-AAA4-4F17C9290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sometimes useful to known who is wh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E589-4C73-4EFD-8DEE-B192E4F97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l.Nlegs is not new, it’s been there since refs were introduced. ‘Nlegs’ needs to be in every item of ‘Animal’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3592-6979-4853-9A19-52EB3152C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fancy naming (“message passing”) scheme does not apply here – its use is kept to stay synchronized with the fundamental concepts s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7D46-8B88-4813-AD4A-FB1A201ED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ember this? Rex is a Collie, a Dog, an A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9317-C0F4-4522-BF8B-54F2CF4CF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’s a simpler exam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F263-872A-4F71-8AE0-97642BBA5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’s a simpler exam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E8C1-ACB2-451F-A96F-27703E1F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2FFD-0401-45D6-ABC6-5C2BB34E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410E-445B-4D16-8A76-84CEEE9FD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BFFB-F242-41E1-8CC1-9563E1A8D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1B8B-85AC-486F-B954-979AC73E5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85D4-5049-49A9-B1B9-A4108EA1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D507-7909-41AA-B14F-958101DD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3130-FB92-4BE9-B126-BF5B1614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301A-6F14-4924-A3BE-BD58FF26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EB0B-274A-488C-89FD-26A85E5B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6927-69E9-477B-B661-A8352AE3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4866-2301-4C3C-8902-8E7B70BD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BCE9-2C16-4609-9BBA-CC97817F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9304-8F8E-4421-B9DC-D6839BF0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87E9-24C8-4EBC-B25F-3AE38332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1DAE-493F-4042-86B4-4F792BB6D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3D2E-880F-442C-871F-8AC76AA3B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84A4-988B-4E37-BD6F-26B3EEEF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A8AC-1163-492A-9306-F0E37439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835B-7F0B-4B36-9830-86792315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E767-8617-447B-909D-1A155687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1A6B-AE82-43F3-8688-19824F76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E81D-B75D-4C6F-9888-D3F3BBB5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1BDA-C447-4008-A0EE-938F75A8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2870-DCD7-40F2-842F-8B748B2EFEE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77BE-97EB-4AE4-B73A-1A435A3B3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hyperlink" Target="http://www.dyalog.com/" TargetMode="External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" Target="slide150.xml"/><Relationship Id="rId2" Type="http://schemas.openxmlformats.org/officeDocument/2006/relationships/slide" Target="slide127.xml"/><Relationship Id="rId3" Type="http://schemas.openxmlformats.org/officeDocument/2006/relationships/slide" Target="slide119.xml"/><Relationship Id="rId4" Type="http://schemas.openxmlformats.org/officeDocument/2006/relationships/slide" Target="slide173.xml"/><Relationship Id="rId5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" Target="slide118.xml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" Target="slide118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" Target="slide118.xml"/><Relationship Id="rId2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ight Arrow 3"/>
          <p:cNvSpPr/>
          <p:nvPr/>
        </p:nvSpPr>
        <p:spPr>
          <a:xfrm>
            <a:off x="2714760" y="2827440"/>
            <a:ext cx="4000320" cy="128592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ee821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3080" y="1096560"/>
            <a:ext cx="8459640" cy="17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b469ff"/>
                </a:solidFill>
                <a:latin typeface="Geneva"/>
              </a:rPr>
              <a:t>Object Oriented Programming in AP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50920" y="3212640"/>
            <a:ext cx="511344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New Direc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Dan Barone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201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Geneva"/>
              </a:rPr>
              <a:t>V1.24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642680"/>
            <a:ext cx="77724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ontains everything needed to run an applic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28C7-B76F-4673-BA33-CC96711F246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1071720" y="3357720"/>
            <a:ext cx="7200720" cy="26762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9"/>
          <p:cNvSpPr/>
          <p:nvPr/>
        </p:nvSpPr>
        <p:spPr>
          <a:xfrm>
            <a:off x="642960" y="2286000"/>
            <a:ext cx="7715160" cy="92880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B33D-B919-4A5F-AAC4-D7A2DEA5FAD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17" descr=""/>
          <p:cNvPicPr/>
          <p:nvPr/>
        </p:nvPicPr>
        <p:blipFill>
          <a:blip r:embed="rId1"/>
          <a:stretch/>
        </p:blipFill>
        <p:spPr>
          <a:xfrm>
            <a:off x="5076720" y="1420920"/>
            <a:ext cx="3888000" cy="276696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39" descr=""/>
          <p:cNvPicPr/>
          <p:nvPr/>
        </p:nvPicPr>
        <p:blipFill>
          <a:blip r:embed="rId2"/>
          <a:stretch/>
        </p:blipFill>
        <p:spPr>
          <a:xfrm>
            <a:off x="5364000" y="3292560"/>
            <a:ext cx="3637080" cy="3449520"/>
          </a:xfrm>
          <a:prstGeom prst="rect">
            <a:avLst/>
          </a:prstGeom>
          <a:ln w="0">
            <a:noFill/>
          </a:ln>
        </p:spPr>
      </p:pic>
      <p:sp>
        <p:nvSpPr>
          <p:cNvPr id="897" name="PlaceHolder 1"/>
          <p:cNvSpPr>
            <a:spLocks noGrp="1"/>
          </p:cNvSpPr>
          <p:nvPr>
            <p:ph/>
          </p:nvPr>
        </p:nvSpPr>
        <p:spPr>
          <a:xfrm>
            <a:off x="323640" y="1564920"/>
            <a:ext cx="46796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ample: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parrot is a bir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Coco←⎕NEW Parro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Coco.Desc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Geneva"/>
              </a:rPr>
              <a:t>Not a plain Bird, a Parro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title"/>
          </p:nvPr>
        </p:nvSpPr>
        <p:spPr>
          <a:xfrm>
            <a:off x="468360" y="493560"/>
            <a:ext cx="8207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899" name="Group 16"/>
          <p:cNvGrpSpPr/>
          <p:nvPr/>
        </p:nvGrpSpPr>
        <p:grpSpPr>
          <a:xfrm>
            <a:off x="395280" y="4157640"/>
            <a:ext cx="5256000" cy="1942920"/>
            <a:chOff x="395280" y="4157640"/>
            <a:chExt cx="5256000" cy="1942920"/>
          </a:xfrm>
        </p:grpSpPr>
        <p:sp>
          <p:nvSpPr>
            <p:cNvPr id="900" name="Rectangle 4"/>
            <p:cNvSpPr/>
            <p:nvPr/>
          </p:nvSpPr>
          <p:spPr>
            <a:xfrm>
              <a:off x="715680" y="4957560"/>
              <a:ext cx="1410120" cy="799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ir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1" name="AutoShape 5"/>
            <p:cNvCxnSpPr>
              <a:stCxn id="900" idx="3"/>
              <a:endCxn id="902" idx="1"/>
            </p:cNvCxnSpPr>
            <p:nvPr/>
          </p:nvCxnSpPr>
          <p:spPr>
            <a:xfrm flipV="1">
              <a:off x="2126160" y="4557600"/>
              <a:ext cx="321120" cy="80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02" name="Rectangle 6"/>
            <p:cNvSpPr/>
            <p:nvPr/>
          </p:nvSpPr>
          <p:spPr>
            <a:xfrm>
              <a:off x="2446920" y="4157640"/>
              <a:ext cx="1410120" cy="79992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irdy (Bird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Line 7"/>
            <p:cNvSpPr/>
            <p:nvPr/>
          </p:nvSpPr>
          <p:spPr>
            <a:xfrm>
              <a:off x="395280" y="5358240"/>
              <a:ext cx="320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10"/>
            <p:cNvSpPr/>
            <p:nvPr/>
          </p:nvSpPr>
          <p:spPr>
            <a:xfrm>
              <a:off x="2446920" y="5300640"/>
              <a:ext cx="1410120" cy="799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arrot: Bir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5" name="AutoShape 11"/>
            <p:cNvCxnSpPr>
              <a:stCxn id="900" idx="3"/>
              <a:endCxn id="904" idx="1"/>
            </p:cNvCxnSpPr>
            <p:nvPr/>
          </p:nvCxnSpPr>
          <p:spPr>
            <a:xfrm>
              <a:off x="2126160" y="5358240"/>
              <a:ext cx="32112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06" name="Rectangle 13"/>
            <p:cNvSpPr/>
            <p:nvPr/>
          </p:nvSpPr>
          <p:spPr>
            <a:xfrm>
              <a:off x="4241160" y="5300640"/>
              <a:ext cx="1410120" cy="79992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co (Parrot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7" name="AutoShape 15"/>
            <p:cNvCxnSpPr>
              <a:stCxn id="904" idx="3"/>
              <a:endCxn id="906" idx="1"/>
            </p:cNvCxnSpPr>
            <p:nvPr/>
          </p:nvCxnSpPr>
          <p:spPr>
            <a:xfrm>
              <a:off x="3856680" y="5700960"/>
              <a:ext cx="384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08" name="Rectangle 18"/>
          <p:cNvSpPr/>
          <p:nvPr/>
        </p:nvSpPr>
        <p:spPr>
          <a:xfrm>
            <a:off x="6804000" y="3005280"/>
            <a:ext cx="1224000" cy="25380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9"/>
          <p:cNvSpPr/>
          <p:nvPr/>
        </p:nvSpPr>
        <p:spPr>
          <a:xfrm>
            <a:off x="6408720" y="5603760"/>
            <a:ext cx="2340000" cy="21744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20"/>
          <p:cNvSpPr/>
          <p:nvPr/>
        </p:nvSpPr>
        <p:spPr>
          <a:xfrm>
            <a:off x="395280" y="3292560"/>
            <a:ext cx="3960720" cy="43164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Oval 21"/>
          <p:cNvSpPr/>
          <p:nvPr/>
        </p:nvSpPr>
        <p:spPr>
          <a:xfrm>
            <a:off x="4140360" y="2428920"/>
            <a:ext cx="71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Oval 22"/>
          <p:cNvSpPr/>
          <p:nvPr/>
        </p:nvSpPr>
        <p:spPr>
          <a:xfrm>
            <a:off x="6118200" y="4229280"/>
            <a:ext cx="7164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Oval 23"/>
          <p:cNvSpPr/>
          <p:nvPr/>
        </p:nvSpPr>
        <p:spPr>
          <a:xfrm>
            <a:off x="8028000" y="5021280"/>
            <a:ext cx="71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Oval 24"/>
          <p:cNvSpPr/>
          <p:nvPr/>
        </p:nvSpPr>
        <p:spPr>
          <a:xfrm>
            <a:off x="6443640" y="2500200"/>
            <a:ext cx="7164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5" name="AutoShape 25"/>
          <p:cNvCxnSpPr>
            <a:stCxn id="911" idx="1"/>
            <a:endCxn id="912" idx="7"/>
          </p:cNvCxnSpPr>
          <p:nvPr/>
        </p:nvCxnSpPr>
        <p:spPr>
          <a:xfrm flipH="1" rot="16200000">
            <a:off x="4264920" y="2325960"/>
            <a:ext cx="1800720" cy="2028240"/>
          </a:xfrm>
          <a:prstGeom prst="curvedConnector5">
            <a:avLst>
              <a:gd name="adj1" fmla="val -439"/>
              <a:gd name="adj2" fmla="val 49991"/>
              <a:gd name="adj3" fmla="val -43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6" name="AutoShape 26"/>
          <p:cNvCxnSpPr>
            <a:stCxn id="913" idx="1"/>
            <a:endCxn id="914" idx="1"/>
          </p:cNvCxnSpPr>
          <p:nvPr/>
        </p:nvCxnSpPr>
        <p:spPr>
          <a:xfrm flipV="1" rot="16200000">
            <a:off x="5985720" y="2979000"/>
            <a:ext cx="2521800" cy="1585080"/>
          </a:xfrm>
          <a:prstGeom prst="curvedConnector5">
            <a:avLst>
              <a:gd name="adj1" fmla="val 129711"/>
              <a:gd name="adj2" fmla="val 50000"/>
              <a:gd name="adj3" fmla="val 129711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7" name="Freeform 30"/>
          <p:cNvSpPr/>
          <p:nvPr/>
        </p:nvSpPr>
        <p:spPr>
          <a:xfrm>
            <a:off x="6443640" y="3141720"/>
            <a:ext cx="2089080" cy="215892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1316" h="2087">
                <a:moveTo>
                  <a:pt x="0" y="0"/>
                </a:moveTo>
                <a:cubicBezTo>
                  <a:pt x="26" y="128"/>
                  <a:pt x="53" y="257"/>
                  <a:pt x="227" y="317"/>
                </a:cubicBezTo>
                <a:cubicBezTo>
                  <a:pt x="401" y="377"/>
                  <a:pt x="885" y="159"/>
                  <a:pt x="1044" y="363"/>
                </a:cubicBezTo>
                <a:cubicBezTo>
                  <a:pt x="1203" y="567"/>
                  <a:pt x="1316" y="1338"/>
                  <a:pt x="1180" y="1542"/>
                </a:cubicBezTo>
                <a:cubicBezTo>
                  <a:pt x="1044" y="1746"/>
                  <a:pt x="424" y="1497"/>
                  <a:pt x="227" y="1588"/>
                </a:cubicBezTo>
                <a:cubicBezTo>
                  <a:pt x="30" y="1679"/>
                  <a:pt x="15" y="1883"/>
                  <a:pt x="0" y="2087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31"/>
          <p:cNvSpPr/>
          <p:nvPr/>
        </p:nvSpPr>
        <p:spPr>
          <a:xfrm>
            <a:off x="6189840" y="4373640"/>
            <a:ext cx="7128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38"/>
          <p:cNvSpPr/>
          <p:nvPr/>
        </p:nvSpPr>
        <p:spPr>
          <a:xfrm>
            <a:off x="6443640" y="537372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BDF8-935A-495E-AA75-0E94A7085EA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/>
          </p:nvPr>
        </p:nvSpPr>
        <p:spPr>
          <a:xfrm>
            <a:off x="323640" y="1844280"/>
            <a:ext cx="8351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create classes and instances at all level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title"/>
          </p:nvPr>
        </p:nvSpPr>
        <p:spPr>
          <a:xfrm>
            <a:off x="468360" y="637920"/>
            <a:ext cx="8207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5" name="Rectangle 4"/>
          <p:cNvSpPr/>
          <p:nvPr/>
        </p:nvSpPr>
        <p:spPr>
          <a:xfrm>
            <a:off x="611280" y="342900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5"/>
          <p:cNvSpPr/>
          <p:nvPr/>
        </p:nvSpPr>
        <p:spPr>
          <a:xfrm>
            <a:off x="2556000" y="433080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rot: Bi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7"/>
          <p:cNvSpPr/>
          <p:nvPr/>
        </p:nvSpPr>
        <p:spPr>
          <a:xfrm>
            <a:off x="6877080" y="4724280"/>
            <a:ext cx="1800360" cy="936720"/>
          </a:xfrm>
          <a:prstGeom prst="rect">
            <a:avLst/>
          </a:prstGeom>
          <a:solidFill>
            <a:srgbClr val="6bf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weety (Macaw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9"/>
          <p:cNvSpPr/>
          <p:nvPr/>
        </p:nvSpPr>
        <p:spPr>
          <a:xfrm>
            <a:off x="4643280" y="501336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caw: Parro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9" name="AutoShape 10"/>
          <p:cNvCxnSpPr>
            <a:stCxn id="925" idx="3"/>
            <a:endCxn id="926" idx="1"/>
          </p:cNvCxnSpPr>
          <p:nvPr/>
        </p:nvCxnSpPr>
        <p:spPr>
          <a:xfrm>
            <a:off x="2195280" y="3933360"/>
            <a:ext cx="361080" cy="90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AutoShape 11"/>
          <p:cNvCxnSpPr>
            <a:stCxn id="925" idx="3"/>
            <a:endCxn id="931" idx="1"/>
          </p:cNvCxnSpPr>
          <p:nvPr/>
        </p:nvCxnSpPr>
        <p:spPr>
          <a:xfrm flipV="1">
            <a:off x="2195280" y="3069360"/>
            <a:ext cx="361080" cy="86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2" name="AutoShape 13"/>
          <p:cNvCxnSpPr>
            <a:stCxn id="926" idx="3"/>
            <a:endCxn id="928" idx="1"/>
          </p:cNvCxnSpPr>
          <p:nvPr/>
        </p:nvCxnSpPr>
        <p:spPr>
          <a:xfrm>
            <a:off x="4140000" y="4835520"/>
            <a:ext cx="503640" cy="68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3" name="AutoShape 14"/>
          <p:cNvCxnSpPr>
            <a:stCxn id="928" idx="3"/>
            <a:endCxn id="927" idx="1"/>
          </p:cNvCxnSpPr>
          <p:nvPr/>
        </p:nvCxnSpPr>
        <p:spPr>
          <a:xfrm flipV="1">
            <a:off x="6227640" y="5192280"/>
            <a:ext cx="65016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4" name="Text Box 16"/>
          <p:cNvSpPr/>
          <p:nvPr/>
        </p:nvSpPr>
        <p:spPr>
          <a:xfrm>
            <a:off x="7021800" y="426708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bfd87"/>
                </a:solidFill>
                <a:latin typeface="Arial"/>
              </a:rPr>
              <a:t>Inst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7"/>
          <p:cNvSpPr/>
          <p:nvPr/>
        </p:nvSpPr>
        <p:spPr>
          <a:xfrm>
            <a:off x="2762280" y="393372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Arial"/>
              </a:rPr>
              <a:t>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18"/>
          <p:cNvSpPr/>
          <p:nvPr/>
        </p:nvSpPr>
        <p:spPr>
          <a:xfrm>
            <a:off x="2556000" y="2565360"/>
            <a:ext cx="1584360" cy="1008000"/>
          </a:xfrm>
          <a:prstGeom prst="rect">
            <a:avLst/>
          </a:prstGeom>
          <a:solidFill>
            <a:srgbClr val="6bf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rdy (Bir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9"/>
          <p:cNvSpPr/>
          <p:nvPr/>
        </p:nvSpPr>
        <p:spPr>
          <a:xfrm>
            <a:off x="25092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20"/>
          <p:cNvSpPr/>
          <p:nvPr/>
        </p:nvSpPr>
        <p:spPr>
          <a:xfrm>
            <a:off x="4788000" y="350028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co (Parro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8" name="AutoShape 21"/>
          <p:cNvCxnSpPr>
            <a:stCxn id="926" idx="3"/>
            <a:endCxn id="937" idx="1"/>
          </p:cNvCxnSpPr>
          <p:nvPr/>
        </p:nvCxnSpPr>
        <p:spPr>
          <a:xfrm flipV="1">
            <a:off x="4140000" y="4005000"/>
            <a:ext cx="648360" cy="83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75AA-104A-4DE5-868E-B9C23132131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395280" y="637920"/>
            <a:ext cx="85694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8200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onstructors with argument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Using the animal kingdom as exampl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4" name="Rectangle 4"/>
          <p:cNvSpPr/>
          <p:nvPr/>
        </p:nvSpPr>
        <p:spPr>
          <a:xfrm>
            <a:off x="684360" y="4221000"/>
            <a:ext cx="158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5"/>
          <p:cNvSpPr/>
          <p:nvPr/>
        </p:nvSpPr>
        <p:spPr>
          <a:xfrm>
            <a:off x="2771640" y="342900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o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Anim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6"/>
          <p:cNvSpPr/>
          <p:nvPr/>
        </p:nvSpPr>
        <p:spPr>
          <a:xfrm>
            <a:off x="6948360" y="501156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Colli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7"/>
          <p:cNvSpPr/>
          <p:nvPr/>
        </p:nvSpPr>
        <p:spPr>
          <a:xfrm>
            <a:off x="2771640" y="479736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sh: Anim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8"/>
          <p:cNvSpPr/>
          <p:nvPr/>
        </p:nvSpPr>
        <p:spPr>
          <a:xfrm>
            <a:off x="6948360" y="386064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do (Colli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9"/>
          <p:cNvSpPr/>
          <p:nvPr/>
        </p:nvSpPr>
        <p:spPr>
          <a:xfrm>
            <a:off x="4859280" y="314172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g Dane: Do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10"/>
          <p:cNvSpPr/>
          <p:nvPr/>
        </p:nvSpPr>
        <p:spPr>
          <a:xfrm>
            <a:off x="4859280" y="450864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lli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Do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1" name="AutoShape 11"/>
          <p:cNvCxnSpPr>
            <a:stCxn id="944" idx="3"/>
            <a:endCxn id="945" idx="1"/>
          </p:cNvCxnSpPr>
          <p:nvPr/>
        </p:nvCxnSpPr>
        <p:spPr>
          <a:xfrm flipV="1">
            <a:off x="2268360" y="3933000"/>
            <a:ext cx="504000" cy="793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2" name="AutoShape 12"/>
          <p:cNvCxnSpPr>
            <a:stCxn id="944" idx="3"/>
            <a:endCxn id="947" idx="1"/>
          </p:cNvCxnSpPr>
          <p:nvPr/>
        </p:nvCxnSpPr>
        <p:spPr>
          <a:xfrm>
            <a:off x="2268360" y="4726080"/>
            <a:ext cx="504000" cy="57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3" name="AutoShape 13"/>
          <p:cNvCxnSpPr>
            <a:stCxn id="945" idx="3"/>
            <a:endCxn id="949" idx="1"/>
          </p:cNvCxnSpPr>
          <p:nvPr/>
        </p:nvCxnSpPr>
        <p:spPr>
          <a:xfrm flipV="1">
            <a:off x="4356000" y="3646080"/>
            <a:ext cx="50400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4" name="AutoShape 14"/>
          <p:cNvCxnSpPr>
            <a:stCxn id="945" idx="3"/>
            <a:endCxn id="950" idx="1"/>
          </p:cNvCxnSpPr>
          <p:nvPr/>
        </p:nvCxnSpPr>
        <p:spPr>
          <a:xfrm>
            <a:off x="4356000" y="3933360"/>
            <a:ext cx="504000" cy="1080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5" name="AutoShape 15"/>
          <p:cNvCxnSpPr>
            <a:stCxn id="950" idx="3"/>
            <a:endCxn id="948" idx="1"/>
          </p:cNvCxnSpPr>
          <p:nvPr/>
        </p:nvCxnSpPr>
        <p:spPr>
          <a:xfrm flipV="1">
            <a:off x="6443640" y="4365000"/>
            <a:ext cx="50544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6" name="AutoShape 16"/>
          <p:cNvCxnSpPr>
            <a:stCxn id="950" idx="3"/>
            <a:endCxn id="946" idx="1"/>
          </p:cNvCxnSpPr>
          <p:nvPr/>
        </p:nvCxnSpPr>
        <p:spPr>
          <a:xfrm>
            <a:off x="6443640" y="5013360"/>
            <a:ext cx="505440" cy="504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7" name="Text Box 17"/>
          <p:cNvSpPr/>
          <p:nvPr/>
        </p:nvSpPr>
        <p:spPr>
          <a:xfrm>
            <a:off x="7021800" y="340344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bfd87"/>
                </a:solidFill>
                <a:latin typeface="Arial"/>
              </a:rPr>
              <a:t>Inst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18"/>
          <p:cNvSpPr/>
          <p:nvPr/>
        </p:nvSpPr>
        <p:spPr>
          <a:xfrm>
            <a:off x="3051000" y="440064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Arial"/>
              </a:rPr>
              <a:t>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9"/>
          <p:cNvSpPr/>
          <p:nvPr/>
        </p:nvSpPr>
        <p:spPr>
          <a:xfrm>
            <a:off x="179280" y="4724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20"/>
          <p:cNvSpPr/>
          <p:nvPr/>
        </p:nvSpPr>
        <p:spPr>
          <a:xfrm>
            <a:off x="4859280" y="3141720"/>
            <a:ext cx="194472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eat Dane: Do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Date Placeholder 5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78B9-7420-422C-8312-80DA4DAA258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80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65" name="Picture 13" descr=""/>
          <p:cNvPicPr/>
          <p:nvPr/>
        </p:nvPicPr>
        <p:blipFill>
          <a:blip r:embed="rId1"/>
          <a:stretch/>
        </p:blipFill>
        <p:spPr>
          <a:xfrm>
            <a:off x="4067280" y="1341360"/>
            <a:ext cx="3400200" cy="251460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5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2791080" cy="2828880"/>
          </a:xfrm>
          <a:prstGeom prst="rect">
            <a:avLst/>
          </a:prstGeom>
          <a:ln w="0">
            <a:noFill/>
          </a:ln>
        </p:spPr>
      </p:pic>
      <p:sp>
        <p:nvSpPr>
          <p:cNvPr id="967" name="Text Box 16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17"/>
          <p:cNvSpPr/>
          <p:nvPr/>
        </p:nvSpPr>
        <p:spPr>
          <a:xfrm>
            <a:off x="257040" y="4221000"/>
            <a:ext cx="4321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←⎕NEW Collie ‘Rex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.⎕nl 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Name  Nlegs  Sounds 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.(Name Typ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Rex  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nis familiari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Picture 18" descr=""/>
          <p:cNvPicPr/>
          <p:nvPr/>
        </p:nvPicPr>
        <p:blipFill>
          <a:blip r:embed="rId3"/>
          <a:stretch/>
        </p:blipFill>
        <p:spPr>
          <a:xfrm>
            <a:off x="5580000" y="3068640"/>
            <a:ext cx="3191040" cy="2705040"/>
          </a:xfrm>
          <a:prstGeom prst="rect">
            <a:avLst/>
          </a:prstGeom>
          <a:ln w="0">
            <a:noFill/>
          </a:ln>
        </p:spPr>
      </p:pic>
      <p:sp>
        <p:nvSpPr>
          <p:cNvPr id="970" name="Rectangle 31"/>
          <p:cNvSpPr/>
          <p:nvPr/>
        </p:nvSpPr>
        <p:spPr>
          <a:xfrm>
            <a:off x="2195640" y="3220920"/>
            <a:ext cx="576000" cy="28728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32"/>
          <p:cNvSpPr/>
          <p:nvPr/>
        </p:nvSpPr>
        <p:spPr>
          <a:xfrm>
            <a:off x="5435640" y="2109960"/>
            <a:ext cx="431640" cy="21564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33"/>
          <p:cNvSpPr/>
          <p:nvPr/>
        </p:nvSpPr>
        <p:spPr>
          <a:xfrm>
            <a:off x="6948360" y="3844800"/>
            <a:ext cx="432000" cy="21600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34"/>
          <p:cNvSpPr/>
          <p:nvPr/>
        </p:nvSpPr>
        <p:spPr>
          <a:xfrm>
            <a:off x="324000" y="5084640"/>
            <a:ext cx="4103640" cy="36036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35"/>
          <p:cNvSpPr/>
          <p:nvPr/>
        </p:nvSpPr>
        <p:spPr>
          <a:xfrm>
            <a:off x="2411280" y="1708200"/>
            <a:ext cx="2089440" cy="384120"/>
          </a:xfrm>
          <a:prstGeom prst="leftArrow">
            <a:avLst>
              <a:gd name="adj1" fmla="val 50000"/>
              <a:gd name="adj2" fmla="val 135989"/>
            </a:avLst>
          </a:prstGeom>
          <a:solidFill>
            <a:srgbClr val="790082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AutoShape 36"/>
          <p:cNvSpPr/>
          <p:nvPr/>
        </p:nvSpPr>
        <p:spPr>
          <a:xfrm rot="3022200">
            <a:off x="4621680" y="2540520"/>
            <a:ext cx="1871640" cy="384120"/>
          </a:xfrm>
          <a:prstGeom prst="leftArrow">
            <a:avLst>
              <a:gd name="adj1" fmla="val 50000"/>
              <a:gd name="adj2" fmla="val 121813"/>
            </a:avLst>
          </a:prstGeom>
          <a:solidFill>
            <a:srgbClr val="790082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AutoShape 37"/>
          <p:cNvSpPr/>
          <p:nvPr/>
        </p:nvSpPr>
        <p:spPr>
          <a:xfrm flipH="1" rot="20800200">
            <a:off x="3634920" y="3860280"/>
            <a:ext cx="2376720" cy="384480"/>
          </a:xfrm>
          <a:prstGeom prst="leftArrow">
            <a:avLst>
              <a:gd name="adj1" fmla="val 50000"/>
              <a:gd name="adj2" fmla="val 154541"/>
            </a:avLst>
          </a:prstGeom>
          <a:solidFill>
            <a:srgbClr val="790082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Date Placeholder 5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766E-E646-4438-8FFD-A0D6203194B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81" name="Text Box 17"/>
          <p:cNvSpPr/>
          <p:nvPr/>
        </p:nvSpPr>
        <p:spPr>
          <a:xfrm>
            <a:off x="257040" y="4221000"/>
            <a:ext cx="4321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←⎕NEW Collie ‘Rex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.⎕nl 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Name  Nlegs  Sounds 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.(Name Typ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Rex  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nis familiari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Box 17"/>
          <p:cNvSpPr/>
          <p:nvPr/>
        </p:nvSpPr>
        <p:spPr>
          <a:xfrm>
            <a:off x="605880" y="2714760"/>
            <a:ext cx="743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et’s go over this again slowl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Date Placeholder 5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2D49-3940-4426-BCEC-1E0E1B84F41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36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87" name="Picture 3" descr=""/>
          <p:cNvPicPr/>
          <p:nvPr/>
        </p:nvPicPr>
        <p:blipFill>
          <a:blip r:embed="rId1"/>
          <a:stretch/>
        </p:blipFill>
        <p:spPr>
          <a:xfrm>
            <a:off x="4067280" y="1341360"/>
            <a:ext cx="3400200" cy="25146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4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2791080" cy="2828880"/>
          </a:xfrm>
          <a:prstGeom prst="rect">
            <a:avLst/>
          </a:prstGeom>
          <a:ln w="0">
            <a:noFill/>
          </a:ln>
        </p:spPr>
      </p:pic>
      <p:sp>
        <p:nvSpPr>
          <p:cNvPr id="989" name="Text Box 5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6"/>
          <p:cNvSpPr/>
          <p:nvPr/>
        </p:nvSpPr>
        <p:spPr>
          <a:xfrm>
            <a:off x="257040" y="4221000"/>
            <a:ext cx="4321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←⎕NEW Collie ‘Rex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.⎕nl 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Name  Nlegs  Sounds 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.(Name Typ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Rex  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nis familiari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Picture 7" descr=""/>
          <p:cNvPicPr/>
          <p:nvPr/>
        </p:nvPicPr>
        <p:blipFill>
          <a:blip r:embed="rId3"/>
          <a:stretch/>
        </p:blipFill>
        <p:spPr>
          <a:xfrm>
            <a:off x="5580000" y="3068640"/>
            <a:ext cx="3191040" cy="2705040"/>
          </a:xfrm>
          <a:prstGeom prst="rect">
            <a:avLst/>
          </a:prstGeom>
          <a:ln w="0">
            <a:noFill/>
          </a:ln>
        </p:spPr>
      </p:pic>
      <p:sp>
        <p:nvSpPr>
          <p:cNvPr id="992" name="Rectangle 8"/>
          <p:cNvSpPr/>
          <p:nvPr/>
        </p:nvSpPr>
        <p:spPr>
          <a:xfrm>
            <a:off x="6012000" y="4437000"/>
            <a:ext cx="2663640" cy="36036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9"/>
          <p:cNvSpPr/>
          <p:nvPr/>
        </p:nvSpPr>
        <p:spPr>
          <a:xfrm>
            <a:off x="4500720" y="2421000"/>
            <a:ext cx="2879640" cy="36036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0"/>
          <p:cNvSpPr/>
          <p:nvPr/>
        </p:nvSpPr>
        <p:spPr>
          <a:xfrm>
            <a:off x="1332000" y="2276640"/>
            <a:ext cx="180000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11"/>
          <p:cNvSpPr/>
          <p:nvPr/>
        </p:nvSpPr>
        <p:spPr>
          <a:xfrm>
            <a:off x="8317080" y="4572000"/>
            <a:ext cx="3585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Oval 12"/>
          <p:cNvSpPr/>
          <p:nvPr/>
        </p:nvSpPr>
        <p:spPr>
          <a:xfrm>
            <a:off x="4951440" y="2233440"/>
            <a:ext cx="431640" cy="289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Oval 13"/>
          <p:cNvSpPr/>
          <p:nvPr/>
        </p:nvSpPr>
        <p:spPr>
          <a:xfrm>
            <a:off x="6804000" y="2492280"/>
            <a:ext cx="576360" cy="358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Oval 14"/>
          <p:cNvSpPr/>
          <p:nvPr/>
        </p:nvSpPr>
        <p:spPr>
          <a:xfrm>
            <a:off x="1590840" y="2070000"/>
            <a:ext cx="100800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Oval 15"/>
          <p:cNvSpPr/>
          <p:nvPr/>
        </p:nvSpPr>
        <p:spPr>
          <a:xfrm>
            <a:off x="6497640" y="4105440"/>
            <a:ext cx="35892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Oval 16"/>
          <p:cNvSpPr/>
          <p:nvPr/>
        </p:nvSpPr>
        <p:spPr>
          <a:xfrm>
            <a:off x="3708360" y="4221000"/>
            <a:ext cx="93672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1" name="AutoShape 17"/>
          <p:cNvCxnSpPr>
            <a:stCxn id="1000" idx="7"/>
            <a:endCxn id="999" idx="1"/>
          </p:cNvCxnSpPr>
          <p:nvPr/>
        </p:nvCxnSpPr>
        <p:spPr>
          <a:xfrm flipH="1" flipV="1" rot="5400000">
            <a:off x="5452920" y="3193200"/>
            <a:ext cx="153000" cy="2042280"/>
          </a:xfrm>
          <a:prstGeom prst="curvedConnector5">
            <a:avLst>
              <a:gd name="adj1" fmla="val 271698"/>
              <a:gd name="adj2" fmla="val 50000"/>
              <a:gd name="adj3" fmla="val 271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2" name="AutoShape 18"/>
          <p:cNvCxnSpPr>
            <a:stCxn id="995" idx="1"/>
            <a:endCxn id="996" idx="5"/>
          </p:cNvCxnSpPr>
          <p:nvPr/>
        </p:nvCxnSpPr>
        <p:spPr>
          <a:xfrm flipV="1" rot="16200000">
            <a:off x="5785920" y="2021760"/>
            <a:ext cx="2116800" cy="3050280"/>
          </a:xfrm>
          <a:prstGeom prst="curvedConnector5">
            <a:avLst>
              <a:gd name="adj1" fmla="val 49957"/>
              <a:gd name="adj2" fmla="val 50000"/>
              <a:gd name="adj3" fmla="val 499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3" name="AutoShape 19"/>
          <p:cNvCxnSpPr>
            <a:stCxn id="997" idx="0"/>
            <a:endCxn id="998" idx="0"/>
          </p:cNvCxnSpPr>
          <p:nvPr/>
        </p:nvCxnSpPr>
        <p:spPr>
          <a:xfrm flipV="1" rot="16200000">
            <a:off x="4382640" y="-218520"/>
            <a:ext cx="423000" cy="4998240"/>
          </a:xfrm>
          <a:prstGeom prst="curvedConnector5">
            <a:avLst>
              <a:gd name="adj1" fmla="val 154088"/>
              <a:gd name="adj2" fmla="val 49996"/>
              <a:gd name="adj3" fmla="val 1540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4" name="Straight Arrow Connector 25"/>
          <p:cNvCxnSpPr/>
          <p:nvPr/>
        </p:nvCxnSpPr>
        <p:spPr>
          <a:xfrm flipH="1">
            <a:off x="2069280" y="2428920"/>
            <a:ext cx="2520" cy="28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5" name="Rectangle 26"/>
          <p:cNvSpPr/>
          <p:nvPr/>
        </p:nvSpPr>
        <p:spPr>
          <a:xfrm>
            <a:off x="4500720" y="2857680"/>
            <a:ext cx="78552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6" name="AutoShape 19"/>
          <p:cNvCxnSpPr>
            <a:stCxn id="1005" idx="3"/>
          </p:cNvCxnSpPr>
          <p:nvPr/>
        </p:nvCxnSpPr>
        <p:spPr>
          <a:xfrm>
            <a:off x="5286240" y="3035160"/>
            <a:ext cx="643320" cy="1751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7" name="Rectangle 30"/>
          <p:cNvSpPr/>
          <p:nvPr/>
        </p:nvSpPr>
        <p:spPr>
          <a:xfrm>
            <a:off x="5929200" y="4714920"/>
            <a:ext cx="819360" cy="285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33"/>
          <p:cNvSpPr/>
          <p:nvPr/>
        </p:nvSpPr>
        <p:spPr>
          <a:xfrm>
            <a:off x="1285920" y="2714760"/>
            <a:ext cx="214308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9" name="AutoShape 19"/>
          <p:cNvCxnSpPr>
            <a:endCxn id="1005" idx="1"/>
          </p:cNvCxnSpPr>
          <p:nvPr/>
        </p:nvCxnSpPr>
        <p:spPr>
          <a:xfrm>
            <a:off x="3428640" y="2928600"/>
            <a:ext cx="1072440" cy="1069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9886-736C-46B8-8066-45E0C9DA1DF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94920" y="56664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900000" y="1803240"/>
            <a:ext cx="7344000" cy="47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onceals the exact details of how a particular class works from objects that use its cod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allow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acce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a member there are various access level definit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7786-7742-440D-BC64-18CB4F63BD0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321840" y="1844640"/>
            <a:ext cx="8713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expose a member you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mu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ake it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a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propert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r a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metho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function) you must use th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:Access public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ateme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a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fiel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var) you must use this statemen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	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:Fiel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yFiel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title"/>
          </p:nvPr>
        </p:nvSpPr>
        <p:spPr>
          <a:xfrm>
            <a:off x="394920" y="549000"/>
            <a:ext cx="8350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A657-57FE-4378-BD61-9F857C1FC35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250560" y="1630080"/>
            <a:ext cx="331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lass to the right shows a few fields (vars) and their acce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access is the same for methods (fns) and properti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title"/>
          </p:nvPr>
        </p:nvSpPr>
        <p:spPr>
          <a:xfrm>
            <a:off x="394920" y="49356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025" name="Group 15"/>
          <p:cNvGrpSpPr/>
          <p:nvPr/>
        </p:nvGrpSpPr>
        <p:grpSpPr>
          <a:xfrm>
            <a:off x="3695760" y="1860480"/>
            <a:ext cx="5268960" cy="4232160"/>
            <a:chOff x="3695760" y="1860480"/>
            <a:chExt cx="5268960" cy="4232160"/>
          </a:xfrm>
        </p:grpSpPr>
        <p:pic>
          <p:nvPicPr>
            <p:cNvPr id="1026" name="Picture 4" descr=""/>
            <p:cNvPicPr/>
            <p:nvPr/>
          </p:nvPicPr>
          <p:blipFill>
            <a:blip r:embed="rId1"/>
            <a:stretch/>
          </p:blipFill>
          <p:spPr>
            <a:xfrm>
              <a:off x="3695760" y="1860480"/>
              <a:ext cx="5268960" cy="423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7" name="Rectangle 7"/>
            <p:cNvSpPr/>
            <p:nvPr/>
          </p:nvSpPr>
          <p:spPr>
            <a:xfrm>
              <a:off x="4716360" y="3371760"/>
              <a:ext cx="36036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8"/>
            <p:cNvSpPr/>
            <p:nvPr/>
          </p:nvSpPr>
          <p:spPr>
            <a:xfrm>
              <a:off x="5508720" y="3589200"/>
              <a:ext cx="30312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9"/>
            <p:cNvSpPr/>
            <p:nvPr/>
          </p:nvSpPr>
          <p:spPr>
            <a:xfrm>
              <a:off x="7308720" y="3805200"/>
              <a:ext cx="36036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Rectangle 10"/>
            <p:cNvSpPr/>
            <p:nvPr/>
          </p:nvSpPr>
          <p:spPr>
            <a:xfrm>
              <a:off x="5508720" y="4020840"/>
              <a:ext cx="30312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Rectangle 11"/>
            <p:cNvSpPr/>
            <p:nvPr/>
          </p:nvSpPr>
          <p:spPr>
            <a:xfrm>
              <a:off x="6227640" y="4236840"/>
              <a:ext cx="30348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Rectangle 12"/>
            <p:cNvSpPr/>
            <p:nvPr/>
          </p:nvSpPr>
          <p:spPr>
            <a:xfrm>
              <a:off x="6227640" y="4452840"/>
              <a:ext cx="30348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Rectangle 13"/>
            <p:cNvSpPr/>
            <p:nvPr/>
          </p:nvSpPr>
          <p:spPr>
            <a:xfrm>
              <a:off x="6227640" y="4668480"/>
              <a:ext cx="30348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Rectangle 14"/>
            <p:cNvSpPr/>
            <p:nvPr/>
          </p:nvSpPr>
          <p:spPr>
            <a:xfrm>
              <a:off x="7913520" y="4865400"/>
              <a:ext cx="30348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B106-7D36-42BC-ACDD-044F55E0B95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/>
          </p:nvPr>
        </p:nvSpPr>
        <p:spPr>
          <a:xfrm>
            <a:off x="936720" y="1977840"/>
            <a:ext cx="7488000" cy="36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hared vs ins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ch instance gets a copy of each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mb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a </a:t>
            </a:r>
            <a:r>
              <a:rPr b="0" i="1" lang="en-GB" sz="3200" spc="-1" strike="noStrike">
                <a:solidFill>
                  <a:srgbClr val="000000"/>
                </a:solidFill>
                <a:latin typeface="Geneva"/>
              </a:rPr>
              <a:t>member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t is kept in the class for all instances to see (and use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title"/>
          </p:nvPr>
        </p:nvSpPr>
        <p:spPr>
          <a:xfrm>
            <a:off x="394920" y="56664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642680"/>
            <a:ext cx="77724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ontains everything needed to run an applic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initialized (via []LX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163F-2ECE-4B8E-8D21-7E22B609AA4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615960" y="3319560"/>
            <a:ext cx="5813280" cy="5713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6E0A-FA25-4ECA-A5C1-2999ACAA120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609120" y="1773000"/>
            <a:ext cx="82105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hared vs ins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ample: keepCou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re each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has its own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riv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D and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lass keeps track of the number of instances created private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title"/>
          </p:nvPr>
        </p:nvSpPr>
        <p:spPr>
          <a:xfrm>
            <a:off x="394920" y="56664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D97A-1C18-4442-9B1E-DF5D1C4981B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/>
          </p:nvPr>
        </p:nvSpPr>
        <p:spPr>
          <a:xfrm>
            <a:off x="394920" y="1588680"/>
            <a:ext cx="4824360" cy="83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hared vs ins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49" name="Rectangle 4"/>
          <p:cNvSpPr/>
          <p:nvPr/>
        </p:nvSpPr>
        <p:spPr>
          <a:xfrm>
            <a:off x="3562200" y="2565360"/>
            <a:ext cx="19447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epCoun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nt←0,1,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MyID MyNam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5"/>
          <p:cNvSpPr/>
          <p:nvPr/>
        </p:nvSpPr>
        <p:spPr>
          <a:xfrm>
            <a:off x="1137600" y="2462040"/>
            <a:ext cx="227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'Count' remai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6"/>
          <p:cNvSpPr/>
          <p:nvPr/>
        </p:nvSpPr>
        <p:spPr>
          <a:xfrm>
            <a:off x="1042920" y="4510080"/>
            <a:ext cx="1944720" cy="1295280"/>
          </a:xfrm>
          <a:prstGeom prst="rect">
            <a:avLst/>
          </a:prstGeom>
          <a:solidFill>
            <a:srgbClr val="8ff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Cou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MyID=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yName=XYZ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7"/>
          <p:cNvSpPr/>
          <p:nvPr/>
        </p:nvSpPr>
        <p:spPr>
          <a:xfrm>
            <a:off x="3562200" y="4510080"/>
            <a:ext cx="1944720" cy="1295280"/>
          </a:xfrm>
          <a:prstGeom prst="rect">
            <a:avLst/>
          </a:prstGeom>
          <a:solidFill>
            <a:srgbClr val="8ff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Cou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MyID=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yName=XYZ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9"/>
          <p:cNvSpPr/>
          <p:nvPr/>
        </p:nvSpPr>
        <p:spPr>
          <a:xfrm>
            <a:off x="5900040" y="3033720"/>
            <a:ext cx="27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nce membe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created in t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4" name="AutoShape 10"/>
          <p:cNvCxnSpPr>
            <a:stCxn id="1049" idx="2"/>
            <a:endCxn id="1051" idx="0"/>
          </p:cNvCxnSpPr>
          <p:nvPr/>
        </p:nvCxnSpPr>
        <p:spPr>
          <a:xfrm flipH="1">
            <a:off x="2015280" y="3860640"/>
            <a:ext cx="2520360" cy="650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55" name="AutoShape 11"/>
          <p:cNvCxnSpPr>
            <a:stCxn id="1049" idx="2"/>
            <a:endCxn id="1052" idx="0"/>
          </p:cNvCxnSpPr>
          <p:nvPr/>
        </p:nvCxnSpPr>
        <p:spPr>
          <a:xfrm>
            <a:off x="4535280" y="3860640"/>
            <a:ext cx="1080" cy="650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56" name="AutoShape 12"/>
          <p:cNvCxnSpPr>
            <a:stCxn id="1049" idx="2"/>
            <a:endCxn id="1057" idx="0"/>
          </p:cNvCxnSpPr>
          <p:nvPr/>
        </p:nvCxnSpPr>
        <p:spPr>
          <a:xfrm>
            <a:off x="4535280" y="3860640"/>
            <a:ext cx="2523240" cy="648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058" name="PlaceHolder 2"/>
          <p:cNvSpPr>
            <a:spLocks noGrp="1"/>
          </p:cNvSpPr>
          <p:nvPr>
            <p:ph type="title"/>
          </p:nvPr>
        </p:nvSpPr>
        <p:spPr>
          <a:xfrm>
            <a:off x="394920" y="56664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57" name="Rectangle 15"/>
          <p:cNvSpPr/>
          <p:nvPr/>
        </p:nvSpPr>
        <p:spPr>
          <a:xfrm>
            <a:off x="6084720" y="4508640"/>
            <a:ext cx="1944720" cy="1295280"/>
          </a:xfrm>
          <a:prstGeom prst="rect">
            <a:avLst/>
          </a:prstGeom>
          <a:solidFill>
            <a:srgbClr val="8ff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Cou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MyID=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yName=XYZ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25E6-0732-4D6A-A685-0A8A0303771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4464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hared vs ins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n1←⎕new keepCoun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 am XYZ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n2←⎕new keepCoun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 am XYZ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n3←⎕new keepCoun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 am XYZ3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keepCount.Coun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3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keepCount.⎕nl-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Count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n2.⎕nl-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Count  MyName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n1.Coun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3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title"/>
          </p:nvPr>
        </p:nvSpPr>
        <p:spPr>
          <a:xfrm>
            <a:off x="394920" y="56664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064" name="Group 10"/>
          <p:cNvGrpSpPr/>
          <p:nvPr/>
        </p:nvGrpSpPr>
        <p:grpSpPr>
          <a:xfrm>
            <a:off x="5035680" y="1460520"/>
            <a:ext cx="3929040" cy="4751280"/>
            <a:chOff x="5035680" y="1460520"/>
            <a:chExt cx="3929040" cy="4751280"/>
          </a:xfrm>
        </p:grpSpPr>
        <p:pic>
          <p:nvPicPr>
            <p:cNvPr id="1065" name="Picture 5" descr=""/>
            <p:cNvPicPr/>
            <p:nvPr/>
          </p:nvPicPr>
          <p:blipFill>
            <a:blip r:embed="rId1"/>
            <a:stretch/>
          </p:blipFill>
          <p:spPr>
            <a:xfrm>
              <a:off x="5035680" y="1460520"/>
              <a:ext cx="3929040" cy="47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6" name="Rectangle 6"/>
            <p:cNvSpPr/>
            <p:nvPr/>
          </p:nvSpPr>
          <p:spPr>
            <a:xfrm>
              <a:off x="6162840" y="2520720"/>
              <a:ext cx="201600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Rectangle 7"/>
            <p:cNvSpPr/>
            <p:nvPr/>
          </p:nvSpPr>
          <p:spPr>
            <a:xfrm>
              <a:off x="5683320" y="4339800"/>
              <a:ext cx="57636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Rectangle 8"/>
            <p:cNvSpPr/>
            <p:nvPr/>
          </p:nvSpPr>
          <p:spPr>
            <a:xfrm>
              <a:off x="6188040" y="3116160"/>
              <a:ext cx="2374920" cy="21528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9"/>
            <p:cNvSpPr/>
            <p:nvPr/>
          </p:nvSpPr>
          <p:spPr>
            <a:xfrm>
              <a:off x="5683320" y="4700160"/>
              <a:ext cx="647640" cy="28728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079D-8C17-4CA6-A531-3F64EB2EEBB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/>
          </p:nvPr>
        </p:nvSpPr>
        <p:spPr>
          <a:xfrm>
            <a:off x="323640" y="1844280"/>
            <a:ext cx="8065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APL a function CANNOT have different definitions using a single nam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TOH, a constructor MAY have several definit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ince APL is typeless the only way to tell which function to use is by the NUMBER of arguments, from 0 (niladic) to any numb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title"/>
          </p:nvPr>
        </p:nvSpPr>
        <p:spPr>
          <a:xfrm>
            <a:off x="144360" y="566640"/>
            <a:ext cx="9036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Polymorphis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/>
          </p:nvPr>
        </p:nvSpPr>
        <p:spPr>
          <a:xfrm>
            <a:off x="5363640" y="1483920"/>
            <a:ext cx="3025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Class manyCtors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general x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This ctor any arg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It can be anything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Implements constructor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nil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This ctor takes no arg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Implements constructor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mon1(a1)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This ctor takes 1 arg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It MUST be a vector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Implements constructor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mon5(a1 a2 a3 a4 a5)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This ctor takes 5 arg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It MUST be exactly 5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Implements constructor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EndClass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7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23A2-2BA1-4C46-9FDA-4BFDC79E392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title"/>
          </p:nvPr>
        </p:nvSpPr>
        <p:spPr>
          <a:xfrm>
            <a:off x="144360" y="566640"/>
            <a:ext cx="9036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Polymorphis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80" name="Text Box 4"/>
          <p:cNvSpPr/>
          <p:nvPr/>
        </p:nvSpPr>
        <p:spPr>
          <a:xfrm>
            <a:off x="395280" y="1892160"/>
            <a:ext cx="468144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pending on the number of arguments, the proper fn will be us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1" name="Group 16"/>
          <p:cNvGrpSpPr/>
          <p:nvPr/>
        </p:nvGrpSpPr>
        <p:grpSpPr>
          <a:xfrm>
            <a:off x="5715000" y="1857240"/>
            <a:ext cx="2655720" cy="4214880"/>
            <a:chOff x="5715000" y="1857240"/>
            <a:chExt cx="2655720" cy="4214880"/>
          </a:xfrm>
        </p:grpSpPr>
        <p:sp>
          <p:nvSpPr>
            <p:cNvPr id="1082" name="Rectangle 5"/>
            <p:cNvSpPr/>
            <p:nvPr/>
          </p:nvSpPr>
          <p:spPr>
            <a:xfrm>
              <a:off x="5838840" y="2420640"/>
              <a:ext cx="237708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Rectangle 6"/>
            <p:cNvSpPr/>
            <p:nvPr/>
          </p:nvSpPr>
          <p:spPr>
            <a:xfrm>
              <a:off x="5838840" y="3328920"/>
              <a:ext cx="237708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7"/>
            <p:cNvSpPr/>
            <p:nvPr/>
          </p:nvSpPr>
          <p:spPr>
            <a:xfrm>
              <a:off x="5838840" y="4417920"/>
              <a:ext cx="237708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8"/>
            <p:cNvSpPr/>
            <p:nvPr/>
          </p:nvSpPr>
          <p:spPr>
            <a:xfrm>
              <a:off x="5838840" y="5497560"/>
              <a:ext cx="2377080" cy="2174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11"/>
            <p:cNvSpPr/>
            <p:nvPr/>
          </p:nvSpPr>
          <p:spPr>
            <a:xfrm>
              <a:off x="5715000" y="1857240"/>
              <a:ext cx="2643840" cy="421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Straight Connector 13"/>
            <p:cNvSpPr/>
            <p:nvPr/>
          </p:nvSpPr>
          <p:spPr>
            <a:xfrm>
              <a:off x="5715000" y="2948040"/>
              <a:ext cx="2643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Straight Connector 14"/>
            <p:cNvSpPr/>
            <p:nvPr/>
          </p:nvSpPr>
          <p:spPr>
            <a:xfrm>
              <a:off x="5715000" y="3857400"/>
              <a:ext cx="2643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Straight Connector 15"/>
            <p:cNvSpPr/>
            <p:nvPr/>
          </p:nvSpPr>
          <p:spPr>
            <a:xfrm>
              <a:off x="5726880" y="4967640"/>
              <a:ext cx="2643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0832-55E6-48B0-B648-F7935467E81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summar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061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alog follows C# rules close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ED to edit clas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 are much like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ir members (vars &amp; fns) can all be accessed using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ubli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cce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W makes an ins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 can be based on another on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use constructors to initialize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E82A-4A4E-45A3-8795-6C101A03FEB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971280" y="609120"/>
            <a:ext cx="683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nd of implement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714240" y="1933560"/>
            <a:ext cx="77868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re are MANY other things related to OO that have been implemented but are out of the scope of this presenta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o find more visit Dyalog’s website at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Geneva"/>
                <a:hlinkClick r:id="rId1"/>
              </a:rPr>
              <a:t>www.dyalog.com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and grab the free documenta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CC6C-6FC2-4AEA-8AB5-DD439757426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971280" y="609120"/>
            <a:ext cx="683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nd of implement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3131640" y="2719440"/>
            <a:ext cx="2590920" cy="27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QUES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200" spc="-1" strike="noStrike">
                <a:solidFill>
                  <a:srgbClr val="333333"/>
                </a:solidFill>
                <a:latin typeface="Geneva"/>
              </a:rPr>
              <a:t>?</a:t>
            </a:r>
            <a:endParaRPr b="0" lang="en-US" sz="1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659A-1C3F-4927-83C3-2F1184030FE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hoice of exercis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imple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1" action="ppaction://hlinksldjump"/>
              </a:rPr>
              <a:t>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lex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2" action="ppaction://hlinksldjump"/>
              </a:rPr>
              <a:t>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ars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re formatted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3" action="ppaction://hlinksldjump"/>
              </a:rPr>
              <a:t>for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Graphical objec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lnet clie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10" name="Rectangle 6">
            <a:hlinkClick r:id="rId4" action="ppaction://hlinksldjump"/>
          </p:cNvPr>
          <p:cNvSpPr/>
          <p:nvPr/>
        </p:nvSpPr>
        <p:spPr>
          <a:xfrm>
            <a:off x="6357960" y="5429160"/>
            <a:ext cx="1785960" cy="571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2AB7-296C-463D-9F03-2341818D9AF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eriving from Dyalog GUI class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esides classes you can write classes derived fro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LE servers/control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Net clas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642680"/>
            <a:ext cx="77724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initialized (via []LX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viewed as an objec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CB15-136C-48A3-AA0B-51926EA8211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428840" y="3500280"/>
            <a:ext cx="6357960" cy="26751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8"/>
          <p:cNvSpPr/>
          <p:nvPr/>
        </p:nvSpPr>
        <p:spPr>
          <a:xfrm>
            <a:off x="642960" y="2857680"/>
            <a:ext cx="5929200" cy="5713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C1B6-8DCD-4242-9DE0-2CC7931A2BA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1←⎕new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'form'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('caption' 'zzz')('size'(100 200))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XL←⎕new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'oleclient'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(⊂'classname' 'Excel.application'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←'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resent←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System.DateTime.Now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C2E0-436E-4BAD-B569-88A6D022F66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need to write a class that will create a form, just lik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1←⎕new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'form'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('caption' 'zzz')('size'(100 200))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ut with 2 buttons already setup for SAVE and QUIT so we can do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1←⎕new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myForm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((…)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25B2-33E5-4802-A3B9-D2621EFCA66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130" name="Picture 2" descr=""/>
          <p:cNvPicPr/>
          <p:nvPr/>
        </p:nvPicPr>
        <p:blipFill>
          <a:blip r:embed="rId1"/>
          <a:stretch/>
        </p:blipFill>
        <p:spPr>
          <a:xfrm>
            <a:off x="1390680" y="1657440"/>
            <a:ext cx="6362640" cy="4629240"/>
          </a:xfrm>
          <a:prstGeom prst="rect">
            <a:avLst/>
          </a:prstGeom>
          <a:ln w="0">
            <a:noFill/>
          </a:ln>
        </p:spPr>
      </p:pic>
      <p:sp>
        <p:nvSpPr>
          <p:cNvPr id="1131" name="Oval 6"/>
          <p:cNvSpPr/>
          <p:nvPr/>
        </p:nvSpPr>
        <p:spPr>
          <a:xfrm>
            <a:off x="4010040" y="3857760"/>
            <a:ext cx="1133640" cy="407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F0E2-A53C-4ADB-A557-A95B77D806B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36" name="TextBox 6"/>
          <p:cNvSpPr/>
          <p:nvPr/>
        </p:nvSpPr>
        <p:spPr>
          <a:xfrm>
            <a:off x="627480" y="2000160"/>
            <a:ext cx="76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1←⎕new Dialog(‘pref form' (100 500) ⍬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tretch/>
        </p:blipFill>
        <p:spPr>
          <a:xfrm>
            <a:off x="1714680" y="3071880"/>
            <a:ext cx="57369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5C10-3E00-4A45-B78B-6163E750D40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1"/>
          <a:stretch/>
        </p:blipFill>
        <p:spPr>
          <a:xfrm>
            <a:off x="428760" y="2786040"/>
            <a:ext cx="8288280" cy="2857680"/>
          </a:xfrm>
          <a:prstGeom prst="rect">
            <a:avLst/>
          </a:prstGeom>
          <a:ln w="0">
            <a:noFill/>
          </a:ln>
        </p:spPr>
      </p:pic>
      <p:sp>
        <p:nvSpPr>
          <p:cNvPr id="1143" name="TextBox 8"/>
          <p:cNvSpPr/>
          <p:nvPr/>
        </p:nvSpPr>
        <p:spPr>
          <a:xfrm>
            <a:off x="598320" y="1857240"/>
            <a:ext cx="60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lass creates an edit objec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Oval 9"/>
          <p:cNvSpPr/>
          <p:nvPr/>
        </p:nvSpPr>
        <p:spPr>
          <a:xfrm>
            <a:off x="3795840" y="4021200"/>
            <a:ext cx="500040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F36B-1150-4E7B-855F-20314668A13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49" name="TextBox 6"/>
          <p:cNvSpPr/>
          <p:nvPr/>
        </p:nvSpPr>
        <p:spPr>
          <a:xfrm>
            <a:off x="183960" y="1571760"/>
            <a:ext cx="8866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1←⎕new Dialog('pref form' (200 300) ⍬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1.fn←f1.⎕new EditField ('First name:' '' (10 60) (⍬ 100) ⍬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1.ln←f1.⎕new EditField ('Last name:' '' (38 60) (⍬ 100) ⍬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1.ad←f1.⎕new EditField ('Address:' '' (66 60) (90 230) (⊂'style' 'multi')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1.(fn ln ad).Text←'Jeremy' 'Cricket'('TopFlower' 'last field'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0" name="Picture 2" descr=""/>
          <p:cNvPicPr/>
          <p:nvPr/>
        </p:nvPicPr>
        <p:blipFill>
          <a:blip r:embed="rId1">
            <a:alphaModFix amt="26000"/>
          </a:blip>
          <a:stretch/>
        </p:blipFill>
        <p:spPr>
          <a:xfrm>
            <a:off x="2286000" y="3360600"/>
            <a:ext cx="4714920" cy="348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68E4-2A54-4E31-98D4-632CC23364E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mprovemen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an interf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1" action="ppaction://hlinksldjump"/>
              </a:rPr>
              <a:t>Back to exercise choi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18AE-CB5A-4E6C-80FF-DB779409B76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2840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Complex numbe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0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a class to do complex ma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rational or “normal number” is a decimal number that can be viewed on the line of “real” number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-10                     -5                       0                     </a:t>
            </a:r>
            <a:r>
              <a:rPr b="0" lang="en-GB" sz="2800" spc="-1" strike="noStrike">
                <a:solidFill>
                  <a:srgbClr val="ff0000"/>
                </a:solidFill>
                <a:latin typeface="Geneva"/>
              </a:rPr>
              <a:t>+5.3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            +10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161" name="Group 47"/>
          <p:cNvGrpSpPr/>
          <p:nvPr/>
        </p:nvGrpSpPr>
        <p:grpSpPr>
          <a:xfrm>
            <a:off x="785880" y="4925880"/>
            <a:ext cx="7787160" cy="146160"/>
            <a:chOff x="785880" y="4925880"/>
            <a:chExt cx="7787160" cy="146160"/>
          </a:xfrm>
        </p:grpSpPr>
        <p:cxnSp>
          <p:nvCxnSpPr>
            <p:cNvPr id="1162" name="Straight Arrow Connector 7"/>
            <p:cNvCxnSpPr/>
            <p:nvPr/>
          </p:nvCxnSpPr>
          <p:spPr>
            <a:xfrm>
              <a:off x="785880" y="4999680"/>
              <a:ext cx="77875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1163" name="Straight Connector 10"/>
            <p:cNvSpPr/>
            <p:nvPr/>
          </p:nvSpPr>
          <p:spPr>
            <a:xfrm flipH="1">
              <a:off x="4642920" y="492876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Straight Connector 11"/>
            <p:cNvSpPr/>
            <p:nvPr/>
          </p:nvSpPr>
          <p:spPr>
            <a:xfrm flipH="1">
              <a:off x="500076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Straight Connector 12"/>
            <p:cNvSpPr/>
            <p:nvPr/>
          </p:nvSpPr>
          <p:spPr>
            <a:xfrm flipH="1">
              <a:off x="535572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Straight Connector 13"/>
            <p:cNvSpPr/>
            <p:nvPr/>
          </p:nvSpPr>
          <p:spPr>
            <a:xfrm flipH="1">
              <a:off x="5713560" y="49273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Straight Connector 14"/>
            <p:cNvSpPr/>
            <p:nvPr/>
          </p:nvSpPr>
          <p:spPr>
            <a:xfrm flipH="1">
              <a:off x="607176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Straight Connector 15"/>
            <p:cNvSpPr/>
            <p:nvPr/>
          </p:nvSpPr>
          <p:spPr>
            <a:xfrm flipH="1">
              <a:off x="6429600" y="49273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Straight Connector 16"/>
            <p:cNvSpPr/>
            <p:nvPr/>
          </p:nvSpPr>
          <p:spPr>
            <a:xfrm flipH="1">
              <a:off x="6784560" y="49273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Straight Connector 17"/>
            <p:cNvSpPr/>
            <p:nvPr/>
          </p:nvSpPr>
          <p:spPr>
            <a:xfrm flipH="1">
              <a:off x="7142400" y="492660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Straight Connector 32"/>
            <p:cNvSpPr/>
            <p:nvPr/>
          </p:nvSpPr>
          <p:spPr>
            <a:xfrm flipH="1">
              <a:off x="178596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Straight Connector 33"/>
            <p:cNvSpPr/>
            <p:nvPr/>
          </p:nvSpPr>
          <p:spPr>
            <a:xfrm flipH="1">
              <a:off x="2143800" y="49273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Straight Connector 34"/>
            <p:cNvSpPr/>
            <p:nvPr/>
          </p:nvSpPr>
          <p:spPr>
            <a:xfrm flipH="1">
              <a:off x="2498760" y="49273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Straight Connector 35"/>
            <p:cNvSpPr/>
            <p:nvPr/>
          </p:nvSpPr>
          <p:spPr>
            <a:xfrm flipH="1">
              <a:off x="2856600" y="492660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Straight Connector 36"/>
            <p:cNvSpPr/>
            <p:nvPr/>
          </p:nvSpPr>
          <p:spPr>
            <a:xfrm flipH="1">
              <a:off x="3214800" y="49273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Straight Connector 37"/>
            <p:cNvSpPr/>
            <p:nvPr/>
          </p:nvSpPr>
          <p:spPr>
            <a:xfrm flipH="1">
              <a:off x="3572640" y="492660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Straight Connector 38"/>
            <p:cNvSpPr/>
            <p:nvPr/>
          </p:nvSpPr>
          <p:spPr>
            <a:xfrm flipH="1">
              <a:off x="3927600" y="492660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Straight Connector 39"/>
            <p:cNvSpPr/>
            <p:nvPr/>
          </p:nvSpPr>
          <p:spPr>
            <a:xfrm flipH="1">
              <a:off x="4285440" y="492588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Straight Connector 40"/>
            <p:cNvSpPr/>
            <p:nvPr/>
          </p:nvSpPr>
          <p:spPr>
            <a:xfrm flipH="1">
              <a:off x="142884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Straight Connector 41"/>
            <p:cNvSpPr/>
            <p:nvPr/>
          </p:nvSpPr>
          <p:spPr>
            <a:xfrm flipH="1">
              <a:off x="750132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Straight Connector 42"/>
            <p:cNvSpPr/>
            <p:nvPr/>
          </p:nvSpPr>
          <p:spPr>
            <a:xfrm flipH="1">
              <a:off x="785844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Straight Connector 43"/>
            <p:cNvSpPr/>
            <p:nvPr/>
          </p:nvSpPr>
          <p:spPr>
            <a:xfrm flipH="1">
              <a:off x="821412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Straight Connector 44"/>
            <p:cNvSpPr/>
            <p:nvPr/>
          </p:nvSpPr>
          <p:spPr>
            <a:xfrm flipH="1">
              <a:off x="107136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4" name="Oval 48"/>
          <p:cNvSpPr/>
          <p:nvPr/>
        </p:nvSpPr>
        <p:spPr>
          <a:xfrm>
            <a:off x="6429240" y="4857840"/>
            <a:ext cx="28584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9F92-D9BD-4DFA-BB9D-0D2A37C66F6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24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285480" y="1671120"/>
            <a:ext cx="37861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complex numb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18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s a number in th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18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lex plan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18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2 rational 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18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re used to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18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present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190" name="Group 99"/>
          <p:cNvGrpSpPr/>
          <p:nvPr/>
        </p:nvGrpSpPr>
        <p:grpSpPr>
          <a:xfrm>
            <a:off x="1734120" y="1455480"/>
            <a:ext cx="6338520" cy="5045400"/>
            <a:chOff x="1734120" y="1455480"/>
            <a:chExt cx="6338520" cy="5045400"/>
          </a:xfrm>
        </p:grpSpPr>
        <p:grpSp>
          <p:nvGrpSpPr>
            <p:cNvPr id="1191" name="Group 28"/>
            <p:cNvGrpSpPr/>
            <p:nvPr/>
          </p:nvGrpSpPr>
          <p:grpSpPr>
            <a:xfrm>
              <a:off x="2143080" y="5315400"/>
              <a:ext cx="5929560" cy="142560"/>
              <a:chOff x="2143080" y="5315400"/>
              <a:chExt cx="5929560" cy="142560"/>
            </a:xfrm>
          </p:grpSpPr>
          <p:cxnSp>
            <p:nvCxnSpPr>
              <p:cNvPr id="1192" name="Straight Arrow Connector 29"/>
              <p:cNvCxnSpPr/>
              <p:nvPr/>
            </p:nvCxnSpPr>
            <p:spPr>
              <a:xfrm>
                <a:off x="2143080" y="5387400"/>
                <a:ext cx="592992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  <p:sp>
            <p:nvSpPr>
              <p:cNvPr id="1193" name="Straight Connector 30"/>
              <p:cNvSpPr/>
              <p:nvPr/>
            </p:nvSpPr>
            <p:spPr>
              <a:xfrm flipH="1">
                <a:off x="5079600" y="531828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Straight Connector 31"/>
              <p:cNvSpPr/>
              <p:nvPr/>
            </p:nvSpPr>
            <p:spPr>
              <a:xfrm flipH="1">
                <a:off x="535212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Straight Connector 45"/>
              <p:cNvSpPr/>
              <p:nvPr/>
            </p:nvSpPr>
            <p:spPr>
              <a:xfrm flipH="1">
                <a:off x="562248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Straight Connector 46"/>
              <p:cNvSpPr/>
              <p:nvPr/>
            </p:nvSpPr>
            <p:spPr>
              <a:xfrm flipH="1">
                <a:off x="5895000" y="531684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Straight Connector 47"/>
              <p:cNvSpPr/>
              <p:nvPr/>
            </p:nvSpPr>
            <p:spPr>
              <a:xfrm flipH="1">
                <a:off x="616752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Straight Connector 48"/>
              <p:cNvSpPr/>
              <p:nvPr/>
            </p:nvSpPr>
            <p:spPr>
              <a:xfrm flipH="1">
                <a:off x="6440040" y="531684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Straight Connector 49"/>
              <p:cNvSpPr/>
              <p:nvPr/>
            </p:nvSpPr>
            <p:spPr>
              <a:xfrm flipH="1">
                <a:off x="6710400" y="531684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Straight Connector 50"/>
              <p:cNvSpPr/>
              <p:nvPr/>
            </p:nvSpPr>
            <p:spPr>
              <a:xfrm flipH="1">
                <a:off x="6982920" y="531612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Straight Connector 51"/>
              <p:cNvSpPr/>
              <p:nvPr/>
            </p:nvSpPr>
            <p:spPr>
              <a:xfrm flipH="1">
                <a:off x="290412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Straight Connector 52"/>
              <p:cNvSpPr/>
              <p:nvPr/>
            </p:nvSpPr>
            <p:spPr>
              <a:xfrm flipH="1">
                <a:off x="3176640" y="531684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Straight Connector 53"/>
              <p:cNvSpPr/>
              <p:nvPr/>
            </p:nvSpPr>
            <p:spPr>
              <a:xfrm flipH="1">
                <a:off x="3447000" y="531684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Straight Connector 54"/>
              <p:cNvSpPr/>
              <p:nvPr/>
            </p:nvSpPr>
            <p:spPr>
              <a:xfrm flipH="1">
                <a:off x="3719520" y="531612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Straight Connector 55"/>
              <p:cNvSpPr/>
              <p:nvPr/>
            </p:nvSpPr>
            <p:spPr>
              <a:xfrm flipH="1">
                <a:off x="3992040" y="531684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Straight Connector 56"/>
              <p:cNvSpPr/>
              <p:nvPr/>
            </p:nvSpPr>
            <p:spPr>
              <a:xfrm flipH="1">
                <a:off x="4264560" y="531612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Straight Connector 57"/>
              <p:cNvSpPr/>
              <p:nvPr/>
            </p:nvSpPr>
            <p:spPr>
              <a:xfrm flipH="1">
                <a:off x="4534920" y="531612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Straight Connector 58"/>
              <p:cNvSpPr/>
              <p:nvPr/>
            </p:nvSpPr>
            <p:spPr>
              <a:xfrm flipH="1">
                <a:off x="4807440" y="531540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Straight Connector 59"/>
              <p:cNvSpPr/>
              <p:nvPr/>
            </p:nvSpPr>
            <p:spPr>
              <a:xfrm flipH="1">
                <a:off x="263196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Straight Connector 60"/>
              <p:cNvSpPr/>
              <p:nvPr/>
            </p:nvSpPr>
            <p:spPr>
              <a:xfrm flipH="1">
                <a:off x="725616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Straight Connector 61"/>
              <p:cNvSpPr/>
              <p:nvPr/>
            </p:nvSpPr>
            <p:spPr>
              <a:xfrm flipH="1">
                <a:off x="752796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Straight Connector 62"/>
              <p:cNvSpPr/>
              <p:nvPr/>
            </p:nvSpPr>
            <p:spPr>
              <a:xfrm flipH="1">
                <a:off x="779904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Straight Connector 63"/>
              <p:cNvSpPr/>
              <p:nvPr/>
            </p:nvSpPr>
            <p:spPr>
              <a:xfrm flipH="1">
                <a:off x="236016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4" name="Group 64"/>
            <p:cNvGrpSpPr/>
            <p:nvPr/>
          </p:nvGrpSpPr>
          <p:grpSpPr>
            <a:xfrm>
              <a:off x="4439880" y="1455480"/>
              <a:ext cx="189360" cy="5045400"/>
              <a:chOff x="4439880" y="1455480"/>
              <a:chExt cx="189360" cy="5045400"/>
            </a:xfrm>
          </p:grpSpPr>
          <p:cxnSp>
            <p:nvCxnSpPr>
              <p:cNvPr id="1215" name="Straight Arrow Connector 65"/>
              <p:cNvCxnSpPr/>
              <p:nvPr/>
            </p:nvCxnSpPr>
            <p:spPr>
              <a:xfrm flipV="1">
                <a:off x="4535280" y="1455480"/>
                <a:ext cx="2520" cy="5045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  <p:sp>
            <p:nvSpPr>
              <p:cNvPr id="1216" name="Straight Connector 66"/>
              <p:cNvSpPr/>
              <p:nvPr/>
            </p:nvSpPr>
            <p:spPr>
              <a:xfrm>
                <a:off x="4443840" y="400140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Straight Connector 67"/>
              <p:cNvSpPr/>
              <p:nvPr/>
            </p:nvSpPr>
            <p:spPr>
              <a:xfrm>
                <a:off x="4442760" y="376920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Straight Connector 68"/>
              <p:cNvSpPr/>
              <p:nvPr/>
            </p:nvSpPr>
            <p:spPr>
              <a:xfrm>
                <a:off x="4442760" y="35395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Straight Connector 69"/>
              <p:cNvSpPr/>
              <p:nvPr/>
            </p:nvSpPr>
            <p:spPr>
              <a:xfrm>
                <a:off x="4441680" y="33073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Straight Connector 70"/>
              <p:cNvSpPr/>
              <p:nvPr/>
            </p:nvSpPr>
            <p:spPr>
              <a:xfrm>
                <a:off x="4442760" y="307548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Straight Connector 71"/>
              <p:cNvSpPr/>
              <p:nvPr/>
            </p:nvSpPr>
            <p:spPr>
              <a:xfrm>
                <a:off x="4441680" y="284364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Straight Connector 72"/>
              <p:cNvSpPr/>
              <p:nvPr/>
            </p:nvSpPr>
            <p:spPr>
              <a:xfrm>
                <a:off x="4441680" y="261360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Straight Connector 73"/>
              <p:cNvSpPr/>
              <p:nvPr/>
            </p:nvSpPr>
            <p:spPr>
              <a:xfrm>
                <a:off x="4440600" y="238176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Straight Connector 74"/>
              <p:cNvSpPr/>
              <p:nvPr/>
            </p:nvSpPr>
            <p:spPr>
              <a:xfrm>
                <a:off x="4442760" y="585216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Straight Connector 75"/>
              <p:cNvSpPr/>
              <p:nvPr/>
            </p:nvSpPr>
            <p:spPr>
              <a:xfrm>
                <a:off x="4441680" y="56203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Straight Connector 76"/>
              <p:cNvSpPr/>
              <p:nvPr/>
            </p:nvSpPr>
            <p:spPr>
              <a:xfrm>
                <a:off x="4441680" y="539028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Straight Connector 77"/>
              <p:cNvSpPr/>
              <p:nvPr/>
            </p:nvSpPr>
            <p:spPr>
              <a:xfrm>
                <a:off x="4440600" y="515844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Straight Connector 78"/>
              <p:cNvSpPr/>
              <p:nvPr/>
            </p:nvSpPr>
            <p:spPr>
              <a:xfrm>
                <a:off x="4441680" y="492660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Straight Connector 79"/>
              <p:cNvSpPr/>
              <p:nvPr/>
            </p:nvSpPr>
            <p:spPr>
              <a:xfrm>
                <a:off x="4440600" y="469476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Straight Connector 80"/>
              <p:cNvSpPr/>
              <p:nvPr/>
            </p:nvSpPr>
            <p:spPr>
              <a:xfrm>
                <a:off x="4440600" y="44647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Straight Connector 81"/>
              <p:cNvSpPr/>
              <p:nvPr/>
            </p:nvSpPr>
            <p:spPr>
              <a:xfrm>
                <a:off x="4439880" y="423288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Straight Connector 82"/>
              <p:cNvSpPr/>
              <p:nvPr/>
            </p:nvSpPr>
            <p:spPr>
              <a:xfrm>
                <a:off x="4442760" y="608364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Straight Connector 83"/>
              <p:cNvSpPr/>
              <p:nvPr/>
            </p:nvSpPr>
            <p:spPr>
              <a:xfrm>
                <a:off x="4442760" y="214920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Straight Connector 84"/>
              <p:cNvSpPr/>
              <p:nvPr/>
            </p:nvSpPr>
            <p:spPr>
              <a:xfrm>
                <a:off x="4442760" y="19177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Straight Connector 85"/>
              <p:cNvSpPr/>
              <p:nvPr/>
            </p:nvSpPr>
            <p:spPr>
              <a:xfrm>
                <a:off x="4442760" y="16873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Straight Connector 86"/>
              <p:cNvSpPr/>
              <p:nvPr/>
            </p:nvSpPr>
            <p:spPr>
              <a:xfrm>
                <a:off x="4442760" y="63151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7" name="TextBox 87"/>
            <p:cNvSpPr/>
            <p:nvPr/>
          </p:nvSpPr>
          <p:spPr>
            <a:xfrm>
              <a:off x="1734120" y="5600880"/>
              <a:ext cx="633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-4                   -2                    0                   +2                  +4                  +6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TextBox 88"/>
            <p:cNvSpPr/>
            <p:nvPr/>
          </p:nvSpPr>
          <p:spPr>
            <a:xfrm>
              <a:off x="3931200" y="4314960"/>
              <a:ext cx="38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+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TextBox 89"/>
            <p:cNvSpPr/>
            <p:nvPr/>
          </p:nvSpPr>
          <p:spPr>
            <a:xfrm>
              <a:off x="3971520" y="3386160"/>
              <a:ext cx="38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+4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TextBox 90"/>
            <p:cNvSpPr/>
            <p:nvPr/>
          </p:nvSpPr>
          <p:spPr>
            <a:xfrm>
              <a:off x="3971520" y="2457000"/>
              <a:ext cx="38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+6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Straight Connector 92"/>
            <p:cNvSpPr/>
            <p:nvPr/>
          </p:nvSpPr>
          <p:spPr>
            <a:xfrm flipV="1">
              <a:off x="6164280" y="2814840"/>
              <a:ext cx="1440" cy="292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Straight Connector 94"/>
            <p:cNvSpPr/>
            <p:nvPr/>
          </p:nvSpPr>
          <p:spPr>
            <a:xfrm flipH="1" flipV="1">
              <a:off x="3999960" y="3538800"/>
              <a:ext cx="25714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Oval 97"/>
            <p:cNvSpPr/>
            <p:nvPr/>
          </p:nvSpPr>
          <p:spPr>
            <a:xfrm>
              <a:off x="6019920" y="3405240"/>
              <a:ext cx="285480" cy="285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4" name="TextBox 98"/>
          <p:cNvSpPr/>
          <p:nvPr/>
        </p:nvSpPr>
        <p:spPr>
          <a:xfrm>
            <a:off x="5871600" y="195732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umber 3J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B813-9205-463A-810F-E5BA68D15F9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a class to do complex ma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lass will contain 2 real numbers and 3 methods to perform Add, Multiply and return the Reciprocal of a complex numb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642680"/>
            <a:ext cx="767232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serve as base and be copied into another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3538-002E-4128-AFEB-B21CD6B8A4B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1143000" y="3571920"/>
            <a:ext cx="2071800" cy="25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or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ounded Rectangle 7"/>
          <p:cNvSpPr/>
          <p:nvPr/>
        </p:nvSpPr>
        <p:spPr>
          <a:xfrm>
            <a:off x="6072120" y="3571920"/>
            <a:ext cx="2071800" cy="9288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lesUti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8"/>
          <p:cNvSpPr/>
          <p:nvPr/>
        </p:nvSpPr>
        <p:spPr>
          <a:xfrm>
            <a:off x="3500280" y="3786120"/>
            <a:ext cx="23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COPY  FilesUt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ounded Rectangle 9"/>
          <p:cNvSpPr/>
          <p:nvPr/>
        </p:nvSpPr>
        <p:spPr>
          <a:xfrm>
            <a:off x="6072120" y="3571920"/>
            <a:ext cx="2071800" cy="9288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lesUti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642960" y="2214720"/>
            <a:ext cx="7643880" cy="107136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0.00833 L -0.5382 0.16123 E">
                                      <p:cBhvr>
                                        <p:cTn id="38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67B3-EBF4-4C9C-8106-2BC5A5F7021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a class to do complex ma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methods to perform Add and Multiply will be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in the class) methods and the Reciprocal will be an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tho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DB9A-F8AC-4C5C-ACA0-E09E784C984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lex math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 = 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a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+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b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,  where i = ¯1 * 0.5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gineers use the J notation, like thi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3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j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4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denote the complex number with a real value of 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3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d an imaginary value of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4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8779-6236-410D-A544-CECAB92ABDB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lex math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ddition of 2 complex 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1 + C2 = (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a1+a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 + (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b1+b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 i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BC81-5754-459F-9BB5-AFDF0D20D55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685800" y="1805040"/>
            <a:ext cx="82072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lex math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ultiplication of 2 complex 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a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  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b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x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2          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a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  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b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=(a1×a2) + (b1i × b2i) + (a1×b2i) + (b1i×a2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=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((a1×a2) - (b1 × b2))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+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((a1×b2) + (b1×a2))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270" name="Group 9"/>
          <p:cNvGrpSpPr/>
          <p:nvPr/>
        </p:nvGrpSpPr>
        <p:grpSpPr>
          <a:xfrm>
            <a:off x="2700360" y="3518280"/>
            <a:ext cx="1295280" cy="705240"/>
            <a:chOff x="2700360" y="3518280"/>
            <a:chExt cx="1295280" cy="705240"/>
          </a:xfrm>
        </p:grpSpPr>
        <p:sp>
          <p:nvSpPr>
            <p:cNvPr id="1271" name="AutoShape 5"/>
            <p:cNvSpPr/>
            <p:nvPr/>
          </p:nvSpPr>
          <p:spPr>
            <a:xfrm rot="5400000">
              <a:off x="2541600" y="3730320"/>
              <a:ext cx="565200" cy="247680"/>
            </a:xfrm>
            <a:prstGeom prst="rightArrow">
              <a:avLst>
                <a:gd name="adj1" fmla="val 50000"/>
                <a:gd name="adj2" fmla="val 5704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AutoShape 6"/>
            <p:cNvSpPr/>
            <p:nvPr/>
          </p:nvSpPr>
          <p:spPr>
            <a:xfrm rot="5400000">
              <a:off x="3589200" y="3741480"/>
              <a:ext cx="565200" cy="247680"/>
            </a:xfrm>
            <a:prstGeom prst="rightArrow">
              <a:avLst>
                <a:gd name="adj1" fmla="val 50000"/>
                <a:gd name="adj2" fmla="val 5704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AutoShape 7"/>
            <p:cNvSpPr/>
            <p:nvPr/>
          </p:nvSpPr>
          <p:spPr>
            <a:xfrm rot="2700000">
              <a:off x="3012840" y="3736800"/>
              <a:ext cx="720720" cy="247680"/>
            </a:xfrm>
            <a:prstGeom prst="rightArrow">
              <a:avLst>
                <a:gd name="adj1" fmla="val 50000"/>
                <a:gd name="adj2" fmla="val 7274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AutoShape 8"/>
            <p:cNvSpPr/>
            <p:nvPr/>
          </p:nvSpPr>
          <p:spPr>
            <a:xfrm rot="8100000">
              <a:off x="2963520" y="3756960"/>
              <a:ext cx="720720" cy="247680"/>
            </a:xfrm>
            <a:prstGeom prst="rightArrow">
              <a:avLst>
                <a:gd name="adj1" fmla="val 50000"/>
                <a:gd name="adj2" fmla="val 7274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41F6-CF36-48E1-AB96-10BE625540C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lex math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ciprocal of a complex number is 1÷C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uch that        C × R = 1 = 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+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0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real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=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 ((a1×a2) - (b1 × b2))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=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 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img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 ((a1×b2) + (b1×a2))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i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 0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olvin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Ra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=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  Ca÷((Ca×Ca)-(Cb×Cb)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Rb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 -Cb÷((Ca×Ca)-(Cb×Cb)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01E1-A51D-4AEB-8154-F5D7BA6196F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irst thing to d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)ED ○ complex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285" name="Picture 4" descr=""/>
          <p:cNvPicPr/>
          <p:nvPr/>
        </p:nvPicPr>
        <p:blipFill>
          <a:blip r:embed="rId1"/>
          <a:stretch/>
        </p:blipFill>
        <p:spPr>
          <a:xfrm>
            <a:off x="2195640" y="3362400"/>
            <a:ext cx="439236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55B4-BCEE-4EF8-92B3-478895BC96B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field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291" name="Picture 5" descr=""/>
          <p:cNvPicPr/>
          <p:nvPr/>
        </p:nvPicPr>
        <p:blipFill>
          <a:blip r:embed="rId1"/>
          <a:stretch/>
        </p:blipFill>
        <p:spPr>
          <a:xfrm>
            <a:off x="1979640" y="2844720"/>
            <a:ext cx="4824360" cy="29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7CC4-4569-4CBA-ACF6-B8BD5C7D40C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constructor, it takes 2 numbers as arguments, it merely sets the 2 field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297" name="Picture 6" descr=""/>
          <p:cNvPicPr/>
          <p:nvPr/>
        </p:nvPicPr>
        <p:blipFill>
          <a:blip r:embed="rId1"/>
          <a:stretch/>
        </p:blipFill>
        <p:spPr>
          <a:xfrm>
            <a:off x="2556000" y="2852640"/>
            <a:ext cx="525600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A4A8-C91C-4BD5-9E36-7870C412C89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685800" y="14922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1←⎕NEW complex (3,4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1.re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ease creation of complex number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j←{⎕new complex (⍺ ⍵)}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2←5 j 1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2.im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449F-C34A-427B-8EA3-A619A94737F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85800" y="1563480"/>
            <a:ext cx="7772400" cy="48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yping c1 does not provide useful informa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It would be nice if we could find what the numbers are without having to us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1.(real img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642680"/>
            <a:ext cx="77724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ontains everything needed to run an applic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initialized (via []LX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viewed as an objec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serve as base and be copied into another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modifi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8DCB-0552-41B5-B15B-24B376D279F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642960" y="5572080"/>
            <a:ext cx="4214880" cy="5716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F728-5F1E-404E-8269-56CCEB4DEEB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display form can be improv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use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F to show a different string, e.g. 3J4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1. ⎕DF '3J4'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or whatever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including the setting in the construct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A5B4-2106-445B-980B-0933CABAE01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ssignment does not change the displa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1.img←2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d verify that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⎕←c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has the same display for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properties to change th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2 proper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⎕DF to change the display in the &lt;set&gt; functio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CC19-738C-44EE-A887-347E63980EC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methods, first,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plu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323" name="Picture 6" descr=""/>
          <p:cNvPicPr/>
          <p:nvPr/>
        </p:nvPicPr>
        <p:blipFill>
          <a:blip r:embed="rId1"/>
          <a:stretch/>
        </p:blipFill>
        <p:spPr>
          <a:xfrm>
            <a:off x="2124000" y="2847960"/>
            <a:ext cx="453564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1E9D-FBD0-4178-8BCA-3D7CC193256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plu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s←c1  complex.plus  c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s.real 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ACF2-E303-4307-B962-E35BA500FC1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methods, 2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,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ime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334" name="Picture 4" descr=""/>
          <p:cNvPicPr/>
          <p:nvPr/>
        </p:nvPicPr>
        <p:blipFill>
          <a:blip r:embed="rId1"/>
          <a:stretch/>
        </p:blipFill>
        <p:spPr>
          <a:xfrm>
            <a:off x="1763640" y="2954160"/>
            <a:ext cx="5472360" cy="28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595F-9A24-4692-BBA8-CE2FE62D981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ime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t←c1  complex.times  c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t.real 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C9F5-3D5A-4A5D-92FA-A0F74FBAB2D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methods, 3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r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,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reciprocal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345" name="Picture 5" descr=""/>
          <p:cNvPicPr/>
          <p:nvPr/>
        </p:nvPicPr>
        <p:blipFill>
          <a:blip r:embed="rId1"/>
          <a:stretch/>
        </p:blipFill>
        <p:spPr>
          <a:xfrm>
            <a:off x="1835280" y="3284640"/>
            <a:ext cx="511308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2EA3-A330-496A-B139-28679DE5AA5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it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omplex.plus/4⍴c1 ⍝ if funny display, us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←{⍵.(real  img)}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complex.plus/4⍴c1     ⍝ 12 16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complex.times\3⍴c1   ⍝ 3 4  ¯7 24..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complex.plus/c1 complex.times¨4⍴c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E84A-8957-4914-8312-4F5B2E1C323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it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c1.reciproc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⍝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1 ÷ c1   or   c1 × ÷c1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c1 complex.times c1.reciproc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c2 complex.times c1.reciproc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2.52   0.64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72E4-E632-4CAC-B1A6-CF3391E1F5D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mprovemen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ther functions (magnitude?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ccept a single (real) numb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1" action="ppaction://hlinksldjump"/>
              </a:rPr>
              <a:t>Back to exercise choi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proble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 clashing (using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COP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B196-0D78-4B29-86DE-5956A7E9103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143000" y="3571920"/>
            <a:ext cx="2071800" cy="25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n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n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r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ar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ounded Rectangle 7"/>
          <p:cNvSpPr/>
          <p:nvPr/>
        </p:nvSpPr>
        <p:spPr>
          <a:xfrm>
            <a:off x="6072120" y="3571920"/>
            <a:ext cx="2071800" cy="9288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n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r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3500280" y="3786120"/>
            <a:ext cx="23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COPY  FilesUt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ed Rectangle 9"/>
          <p:cNvSpPr/>
          <p:nvPr/>
        </p:nvSpPr>
        <p:spPr>
          <a:xfrm>
            <a:off x="6072120" y="3571920"/>
            <a:ext cx="2071800" cy="9288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n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ar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2.41962E-006 L -0.54132 0.21582 E">
                                      <p:cBhvr>
                                        <p:cTn id="48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A513-C624-4269-9F46-598FAB54172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0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a class to do simple math with 2 integers representing fract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a Numerator &amp; a Denominat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.:  3 / 7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th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8A67-53E4-4DED-86DE-2981D8E1809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a class to do simple ma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lass will contain 2 integer numbers and 3 methods to perform Add, Multiply and return the Reciprocal of a pair of simple numbers representing a frac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19B8-9C49-4A61-9B88-EA405E24FCC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a class to do simple ma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methods to perform Add and Multiply will be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in the class) methods and the Reciprocal will be an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tho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8A67-7634-4787-BA55-B7F3762EAE2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imple math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1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number will be called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2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number will be called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will be stored in a vector (2 elem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will be two properties to access them individual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93E6-4254-43B1-8D30-3BF591C45EA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6858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imple math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ddition of 2 simple numbers (fractions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1 + S2 = (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n1 x d2 + n2 x d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 , (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d1 x d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ultiplication of 2 simple 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1 x S2 = (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n1 x n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 , (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d1 x d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ciprocal of a simple numb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÷S1 = (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d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 , (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n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4670-1EB3-49DD-9B28-08894A1F0BB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irst thing to d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)ED ○ simp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391" name="Picture 2" descr=""/>
          <p:cNvPicPr/>
          <p:nvPr/>
        </p:nvPicPr>
        <p:blipFill>
          <a:blip r:embed="rId1"/>
          <a:stretch/>
        </p:blipFill>
        <p:spPr>
          <a:xfrm>
            <a:off x="2571840" y="3286080"/>
            <a:ext cx="4071960" cy="22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F977-5E3C-47EA-86B6-360AA8742E2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fiel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397" name="Picture 2" descr=""/>
          <p:cNvPicPr/>
          <p:nvPr/>
        </p:nvPicPr>
        <p:blipFill>
          <a:blip r:embed="rId1"/>
          <a:stretch/>
        </p:blipFill>
        <p:spPr>
          <a:xfrm>
            <a:off x="2500200" y="2857680"/>
            <a:ext cx="443700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A006-C05F-472A-876A-2653C06C83C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constructor, it takes 2 numbers as arguments, it merely sets the fiel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403" name="Picture 2" descr=""/>
          <p:cNvPicPr/>
          <p:nvPr/>
        </p:nvPicPr>
        <p:blipFill>
          <a:blip r:embed="rId1"/>
          <a:stretch/>
        </p:blipFill>
        <p:spPr>
          <a:xfrm>
            <a:off x="2643120" y="2928960"/>
            <a:ext cx="4429080" cy="31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C07B-AFA4-4E5A-AB3F-5D04535FED5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685800" y="14922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t this point the class does not do anythin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‘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Numbers’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is private and cannot be accessed from outsid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Let’s create properties to acces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378F-086B-4DC2-937E-C798BDA11E2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properties, they take 1 number to set a value in the fiel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414" name="Picture 2" descr=""/>
          <p:cNvPicPr/>
          <p:nvPr/>
        </p:nvPicPr>
        <p:blipFill>
          <a:blip r:embed="rId1"/>
          <a:stretch/>
        </p:blipFill>
        <p:spPr>
          <a:xfrm>
            <a:off x="2000160" y="2906640"/>
            <a:ext cx="5072040" cy="3094200"/>
          </a:xfrm>
          <a:prstGeom prst="rect">
            <a:avLst/>
          </a:prstGeom>
          <a:ln w="0">
            <a:noFill/>
          </a:ln>
        </p:spPr>
      </p:pic>
      <p:sp>
        <p:nvSpPr>
          <p:cNvPr id="1415" name="Rectangle 7"/>
          <p:cNvSpPr/>
          <p:nvPr/>
        </p:nvSpPr>
        <p:spPr>
          <a:xfrm>
            <a:off x="4062240" y="3684600"/>
            <a:ext cx="2858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proble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 clashing (using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COP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cannot be stored as a unit on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nly 1 workspace item (variable or function) per component in APL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ed to cleanup when finish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CE84-CC61-4C6D-A321-EEF800B1DAE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4734-F816-4C22-8DCE-B9F4668BFBD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685800" y="14922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1←⎕NEW simple(3,4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1.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ease creation of simple number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←{⎕new simple (⍺ ⍵)}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2←5 s 1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2.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"/>
          <p:cNvSpPr txBox="1"/>
          <p:nvPr/>
        </p:nvSpPr>
        <p:spPr>
          <a:xfrm>
            <a:off x="685800" y="19807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w enter the second property…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2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A063-55F1-4430-8A36-FB8B0E5E80B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6" name="Picture 9" descr=""/>
          <p:cNvPicPr/>
          <p:nvPr/>
        </p:nvPicPr>
        <p:blipFill>
          <a:blip r:embed="rId1"/>
          <a:stretch/>
        </p:blipFill>
        <p:spPr>
          <a:xfrm>
            <a:off x="1500120" y="2786040"/>
            <a:ext cx="614376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AA35-E03B-41AE-B2A1-B1A98FA841A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685800" y="1563480"/>
            <a:ext cx="7772400" cy="48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yping s1 does not provide useful informa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It would be nice if we could find what the numbers are without having to us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1.(N  D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2A64-11C0-4375-A790-CE674C3D9CD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display form can be improv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use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F to show a different string, e.g. 3/4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1. ⎕DF '3/4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including the setting in the construct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DB15-F1AE-4B35-99FA-6B3FB681A29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ssignment does not change the displa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1.N←2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d verify that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⎕←s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has the same display form it had befo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the properties’ code to change th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⎕DF to change the display in the &lt;set&gt; functio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F2F0-9B63-45BA-A54F-4775F46C871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methods, first,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plu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447" name="Picture 8" descr=""/>
          <p:cNvPicPr/>
          <p:nvPr/>
        </p:nvPicPr>
        <p:blipFill>
          <a:blip r:embed="rId1"/>
          <a:stretch/>
        </p:blipFill>
        <p:spPr>
          <a:xfrm>
            <a:off x="2143080" y="2705040"/>
            <a:ext cx="4786200" cy="32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DF13-5694-4287-AF15-0974B228931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plu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s←s1  simple.plus  s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s.N 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9EC7-BF72-4A2F-82D1-5618FC97450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2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nd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ethod,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ime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458" name="Picture 8" descr=""/>
          <p:cNvPicPr/>
          <p:nvPr/>
        </p:nvPicPr>
        <p:blipFill>
          <a:blip r:embed="rId1"/>
          <a:stretch/>
        </p:blipFill>
        <p:spPr>
          <a:xfrm>
            <a:off x="1785960" y="2714760"/>
            <a:ext cx="5500800" cy="325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4975-1661-4A34-87E7-51F481DCFE3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ime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t←s1  simple.times  s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t.N 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5CA6-9634-42C2-BB80-A281758D762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methods, 3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r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,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reciprocal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469" name="Picture 8" descr=""/>
          <p:cNvPicPr/>
          <p:nvPr/>
        </p:nvPicPr>
        <p:blipFill>
          <a:blip r:embed="rId1"/>
          <a:stretch/>
        </p:blipFill>
        <p:spPr>
          <a:xfrm>
            <a:off x="1857240" y="2786040"/>
            <a:ext cx="5429520" cy="321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(solutions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ackag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r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overla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group items (vars &amp; fns) togeth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act as a (static) un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can be stored on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can be copied, like wss, into existing code and dispersed in 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454D-6A42-45E7-A629-91E59EB8D49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2BCE-10DC-46B2-8356-5BE284AF85A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it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imple.plus/4⍴s1 ⍝ if funny display, us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←{⍵.(N ‘/’ D)}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simple.plus/4⍴s1     ⍝ 22/1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simple.times\3⍴s1   ⍝ 11/2 121/4…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simple.plus/s1 simple.times¨4⍴s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416E-99C2-44B5-A129-BCA7EDCB5C8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it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s1.reciproc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⍝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1 ÷ s1   or   s1 × ÷s1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s1 simple.times s1.reciproc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s2 simple.times s1.reciproc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5/66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80E4-3539-4982-9F03-D03087E6EEF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mprovemen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ther functions (square, abs?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ccept a single (real) numb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ake this into a complex number cla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1" action="ppaction://hlinksldjump"/>
              </a:rPr>
              <a:t>Back to exercise choi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C942-8C3B-4D75-A5D7-B032F50E7A5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1"/>
          <p:cNvSpPr>
            <a:spLocks noGrp="1"/>
          </p:cNvSpPr>
          <p:nvPr>
            <p:ph/>
          </p:nvPr>
        </p:nvSpPr>
        <p:spPr>
          <a:xfrm>
            <a:off x="610920" y="1876320"/>
            <a:ext cx="8064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many advantages to using OO languages over procedural languag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e of modific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duced maintenance cos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mod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an speed up development tim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4398-268B-4009-AB9A-176708F132C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8569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O languages make abstraction eas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y encourage architectures with elaborate layers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y can be good when the problem domain is truly complex and demands a lot of abstrac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2D34-EA72-4D0A-A134-E07F5FAFDEE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/>
          </p:nvPr>
        </p:nvSpPr>
        <p:spPr>
          <a:xfrm>
            <a:off x="250560" y="1917360"/>
            <a:ext cx="84582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ll OO languages show some tendency to suck programmers into the trap of excessive layer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bject frameworks and object browsers are not a substitute for good design or document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areful!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3518-36E6-4E34-90FA-F19937CF0C3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4582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oo many layers destroy transparency: It becomes too difficult to see down through them and mentally model what the code is actually doing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 Rules of Simplicity, Clarity, and Transparency can get violated wholesale, and the result is code full of obscure bugs and continuing maintenance problem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areful!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3DAE-F671-43AC-9343-3A0D4283D8B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1"/>
          <p:cNvSpPr>
            <a:spLocks noGrp="1"/>
          </p:cNvSpPr>
          <p:nvPr>
            <p:ph/>
          </p:nvPr>
        </p:nvSpPr>
        <p:spPr>
          <a:xfrm>
            <a:off x="3059280" y="3610080"/>
            <a:ext cx="3457440" cy="89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Buyer beware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areful!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– packa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were only a partial solution to a more general probl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 clashing still happen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ean up was still need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7A17-7DB1-4131-B13A-6DDF046C829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– name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the 80s a Dyalog came up with the concept of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namespa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, probably from other languages like C++ and Java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spaces are like workspaces but nest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B263-CB9B-4A42-A70B-18E0F39E316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9F9F-8EC0-4744-AE5C-FFD00320AE7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000" y="3068640"/>
            <a:ext cx="813420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33"/>
                </a:solidFill>
                <a:latin typeface="Geneva"/>
              </a:rPr>
              <a:t>Object Orientation</a:t>
            </a:r>
            <a:endParaRPr b="0" lang="en-US" sz="4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258920" y="1714680"/>
            <a:ext cx="64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alog V11 was released in 2006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jor features wa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714240" y="16426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OS V1.0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 V1.0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le1,ex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var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le2.ex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n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bc.dw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var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te.tx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unction_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tc.do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tc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lat structure for files and a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4576-E015-42B4-B8E2-CDE3B9898E3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4286160" y="2286000"/>
            <a:ext cx="2286000" cy="300024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642960" y="2286000"/>
            <a:ext cx="2286000" cy="300024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703440" y="1571400"/>
            <a:ext cx="77724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OS V2.0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 V8.0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Dir1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ns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ile2.ext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var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Abc.dws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var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Note.txt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unction_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older2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namespace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Etc.doc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na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subf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subn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ile1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na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ilex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opb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ich.log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objxv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ee (nested) structu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B3CF-FBC1-46D3-9A75-8FB1AEC283D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4357800" y="2143080"/>
            <a:ext cx="2643120" cy="371484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714240" y="2143080"/>
            <a:ext cx="2643480" cy="371484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4429080" y="2193840"/>
            <a:ext cx="1571760" cy="100008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776160" y="2184480"/>
            <a:ext cx="1571760" cy="100008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5286240" y="4357800"/>
            <a:ext cx="1490760" cy="1041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1071720" y="4357800"/>
            <a:ext cx="1490400" cy="107136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4429080" y="3643200"/>
            <a:ext cx="2428920" cy="181296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765000" y="3602160"/>
            <a:ext cx="2021040" cy="187776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99680" y="1500120"/>
            <a:ext cx="83581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ch namespace is similar to a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- It contains functions, variables (including some system variables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- It can contain an entire applic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- It acts as a unit: it can be put as a single item on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- It i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dynami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 it can be moved into to execute code, no need to disperse conten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0582-F773-4EC6-A8E0-94110BFE0AC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85840" y="1690560"/>
            <a:ext cx="885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ch namespace is similar to a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ike a workspace, if you need to tweak one you take a copy and modify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orkspace: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 Namespac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LOAD myApp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 newApp&lt;-[]NS []OR ’myApp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&lt;-3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 newApp.A&lt;-3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SAVE newApp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6269-09C6-4681-9235-832C6FF0070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99680" y="1619280"/>
            <a:ext cx="8286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Reusability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is one of the key concep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rom a template you create a new version possibly modifying it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1 namespace      many possibly different ver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AEDF-7AF9-4B94-890B-14D572CE98C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4" name="Right Arrow 7"/>
          <p:cNvSpPr/>
          <p:nvPr/>
        </p:nvSpPr>
        <p:spPr>
          <a:xfrm>
            <a:off x="3124080" y="4029120"/>
            <a:ext cx="4287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99680" y="1619280"/>
            <a:ext cx="8286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lasse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 are very much like namespace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rom a class you create a new version possibly modifying it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1 class      many possibly different ver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DB96-FF3F-49C5-B2C2-50673FB21DA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0" name="Right Arrow 7"/>
          <p:cNvSpPr/>
          <p:nvPr/>
        </p:nvSpPr>
        <p:spPr>
          <a:xfrm>
            <a:off x="1928880" y="4024440"/>
            <a:ext cx="428400" cy="28548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O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Net is based on namespaces and supports many OO concept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alog APL is based on namespaces and supports many OO concepts.</a:t>
            </a:r>
            <a:br>
              <a:rPr sz="3200"/>
            </a:b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go well hand in hand togeth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4806-435C-4446-8D66-8C2D4593236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27B1-DBCB-403D-9BEB-04ACA30549D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Dyalo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000" y="1588680"/>
            <a:ext cx="8388360" cy="27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is not new! The ability to use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.Net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create classes was already in V10 but it was more difficult to us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51" name="Group 8"/>
          <p:cNvGrpSpPr/>
          <p:nvPr/>
        </p:nvGrpSpPr>
        <p:grpSpPr>
          <a:xfrm>
            <a:off x="250920" y="3200400"/>
            <a:ext cx="8713800" cy="3036960"/>
            <a:chOff x="250920" y="3200400"/>
            <a:chExt cx="8713800" cy="3036960"/>
          </a:xfrm>
        </p:grpSpPr>
        <p:pic>
          <p:nvPicPr>
            <p:cNvPr id="252" name="Picture 4" descr=""/>
            <p:cNvPicPr/>
            <p:nvPr/>
          </p:nvPicPr>
          <p:blipFill>
            <a:blip r:embed="rId1"/>
            <a:stretch/>
          </p:blipFill>
          <p:spPr>
            <a:xfrm>
              <a:off x="250920" y="3200400"/>
              <a:ext cx="2914560" cy="30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6" descr=""/>
            <p:cNvPicPr/>
            <p:nvPr/>
          </p:nvPicPr>
          <p:blipFill>
            <a:blip r:embed="rId2"/>
            <a:stretch/>
          </p:blipFill>
          <p:spPr>
            <a:xfrm>
              <a:off x="3316320" y="3200400"/>
              <a:ext cx="2192400" cy="302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7" descr=""/>
            <p:cNvPicPr/>
            <p:nvPr/>
          </p:nvPicPr>
          <p:blipFill>
            <a:blip r:embed="rId3"/>
            <a:stretch/>
          </p:blipFill>
          <p:spPr>
            <a:xfrm>
              <a:off x="5707080" y="3200400"/>
              <a:ext cx="3257640" cy="3036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E0E0-2F42-4C67-9A86-DA2128627F9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evolution of dat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80978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1749"/>
              </a:spcBef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Elementary data elements (like int) and arrays of them (all the same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78880" indent="-578880">
              <a:spcBef>
                <a:spcPts val="1749"/>
              </a:spcBef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tructures (like {i: int; d: date}), many elementary elements or structures (recursive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78880" indent="-578880">
              <a:spcBef>
                <a:spcPts val="1749"/>
              </a:spcBef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Namespaces (structures whose elements are referred to by name). They include cod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78880" indent="-578880">
              <a:spcBef>
                <a:spcPts val="1749"/>
              </a:spcBef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lasses (namespaces with initializers &amp; cleaners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107B-5DBD-4D2C-9B75-8AAD9953E59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ata in Dyalog APL (DYW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4360" y="2207880"/>
            <a:ext cx="7772400" cy="29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DYW all these objects exis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often simulate one by anoth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ex: a table of names &amp; values can represent a namespace of variabl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W can also store the ⎕OR of a namespac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3277-0BCA-425C-81B1-3294D77A3B2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eneva"/>
              </a:rPr>
              <a:t>This presentation is based on two things: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2600" y="2852640"/>
            <a:ext cx="828684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Geneva"/>
              </a:rPr>
              <a:t>What is Object Orientation programming? </a:t>
            </a:r>
            <a:endParaRPr b="0" lang="en-US" sz="44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1100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Geneva"/>
              </a:rPr>
              <a:t>How do I use it in APL?</a:t>
            </a:r>
            <a:endParaRPr b="0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468360" y="1557360"/>
            <a:ext cx="8136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7EE1-AD44-4533-8C14-A5FEB758EB6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evolution of dat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4360" y="1515600"/>
            <a:ext cx="8278560" cy="13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traditional (procedural) systems, data is separated from co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70" name="Group 24"/>
          <p:cNvGrpSpPr/>
          <p:nvPr/>
        </p:nvGrpSpPr>
        <p:grpSpPr>
          <a:xfrm>
            <a:off x="1116000" y="2492280"/>
            <a:ext cx="6624720" cy="3744720"/>
            <a:chOff x="1116000" y="2492280"/>
            <a:chExt cx="6624720" cy="3744720"/>
          </a:xfrm>
        </p:grpSpPr>
        <p:sp>
          <p:nvSpPr>
            <p:cNvPr id="271" name="Line 11"/>
            <p:cNvSpPr/>
            <p:nvPr/>
          </p:nvSpPr>
          <p:spPr>
            <a:xfrm>
              <a:off x="4322880" y="2492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4"/>
            <p:cNvSpPr/>
            <p:nvPr/>
          </p:nvSpPr>
          <p:spPr>
            <a:xfrm>
              <a:off x="1116000" y="285264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5"/>
            <p:cNvSpPr/>
            <p:nvPr/>
          </p:nvSpPr>
          <p:spPr>
            <a:xfrm>
              <a:off x="1116000" y="400500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6"/>
            <p:cNvSpPr/>
            <p:nvPr/>
          </p:nvSpPr>
          <p:spPr>
            <a:xfrm>
              <a:off x="2484360" y="501300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7"/>
            <p:cNvSpPr/>
            <p:nvPr/>
          </p:nvSpPr>
          <p:spPr>
            <a:xfrm>
              <a:off x="7020000" y="285264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8"/>
            <p:cNvSpPr/>
            <p:nvPr/>
          </p:nvSpPr>
          <p:spPr>
            <a:xfrm>
              <a:off x="3780000" y="2997000"/>
              <a:ext cx="1081080" cy="72072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9"/>
            <p:cNvSpPr/>
            <p:nvPr/>
          </p:nvSpPr>
          <p:spPr>
            <a:xfrm>
              <a:off x="3778200" y="4005000"/>
              <a:ext cx="1081080" cy="72072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0"/>
            <p:cNvSpPr/>
            <p:nvPr/>
          </p:nvSpPr>
          <p:spPr>
            <a:xfrm>
              <a:off x="3780000" y="5013000"/>
              <a:ext cx="1081080" cy="72072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12"/>
            <p:cNvSpPr/>
            <p:nvPr/>
          </p:nvSpPr>
          <p:spPr>
            <a:xfrm>
              <a:off x="4327560" y="5732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3"/>
            <p:cNvSpPr/>
            <p:nvPr/>
          </p:nvSpPr>
          <p:spPr>
            <a:xfrm>
              <a:off x="4327560" y="371592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4"/>
            <p:cNvSpPr/>
            <p:nvPr/>
          </p:nvSpPr>
          <p:spPr>
            <a:xfrm>
              <a:off x="4313160" y="47242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2" name="AutoShape 15"/>
            <p:cNvCxnSpPr>
              <a:stCxn id="272" idx="5"/>
              <a:endCxn id="276" idx="1"/>
            </p:cNvCxnSpPr>
            <p:nvPr/>
          </p:nvCxnSpPr>
          <p:spPr>
            <a:xfrm flipV="1">
              <a:off x="1763280" y="3356640"/>
              <a:ext cx="2017080" cy="3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83" name="AutoShape 16"/>
            <p:cNvCxnSpPr>
              <a:stCxn id="276" idx="3"/>
              <a:endCxn id="275" idx="2"/>
            </p:cNvCxnSpPr>
            <p:nvPr/>
          </p:nvCxnSpPr>
          <p:spPr>
            <a:xfrm>
              <a:off x="4860720" y="3357000"/>
              <a:ext cx="2230920" cy="3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84" name="AutoShape 17"/>
            <p:cNvCxnSpPr>
              <a:stCxn id="273" idx="5"/>
              <a:endCxn id="276" idx="1"/>
            </p:cNvCxnSpPr>
            <p:nvPr/>
          </p:nvCxnSpPr>
          <p:spPr>
            <a:xfrm flipV="1">
              <a:off x="1763280" y="3356640"/>
              <a:ext cx="2017080" cy="1189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AutoShape 18"/>
            <p:cNvCxnSpPr>
              <a:stCxn id="273" idx="5"/>
              <a:endCxn id="277" idx="1"/>
            </p:cNvCxnSpPr>
            <p:nvPr/>
          </p:nvCxnSpPr>
          <p:spPr>
            <a:xfrm flipV="1">
              <a:off x="1763640" y="4364640"/>
              <a:ext cx="2015280" cy="18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AutoShape 19"/>
            <p:cNvCxnSpPr>
              <a:stCxn id="277" idx="3"/>
              <a:endCxn id="275" idx="2"/>
            </p:cNvCxnSpPr>
            <p:nvPr/>
          </p:nvCxnSpPr>
          <p:spPr>
            <a:xfrm flipV="1">
              <a:off x="4859280" y="3393000"/>
              <a:ext cx="2232720" cy="97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AutoShape 20"/>
            <p:cNvCxnSpPr>
              <a:stCxn id="274" idx="5"/>
              <a:endCxn id="278" idx="1"/>
            </p:cNvCxnSpPr>
            <p:nvPr/>
          </p:nvCxnSpPr>
          <p:spPr>
            <a:xfrm flipV="1">
              <a:off x="3132000" y="5372640"/>
              <a:ext cx="648360" cy="18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43A8-E028-48C4-A009-D748D80D3BA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evolution of dat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4360" y="1660320"/>
            <a:ext cx="8278560" cy="13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is the same in traditional APL systems, data is separated from co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93" name="Group 33"/>
          <p:cNvGrpSpPr/>
          <p:nvPr/>
        </p:nvGrpSpPr>
        <p:grpSpPr>
          <a:xfrm>
            <a:off x="1042920" y="3068640"/>
            <a:ext cx="4321080" cy="1944720"/>
            <a:chOff x="1042920" y="3068640"/>
            <a:chExt cx="4321080" cy="1944720"/>
          </a:xfrm>
        </p:grpSpPr>
        <p:pic>
          <p:nvPicPr>
            <p:cNvPr id="294" name="Picture 25" descr=""/>
            <p:cNvPicPr/>
            <p:nvPr/>
          </p:nvPicPr>
          <p:blipFill>
            <a:blip r:embed="rId1"/>
            <a:stretch/>
          </p:blipFill>
          <p:spPr>
            <a:xfrm>
              <a:off x="1042920" y="3068640"/>
              <a:ext cx="432108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Rectangle 26"/>
            <p:cNvSpPr/>
            <p:nvPr/>
          </p:nvSpPr>
          <p:spPr>
            <a:xfrm>
              <a:off x="1090800" y="4057200"/>
              <a:ext cx="75636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27"/>
            <p:cNvSpPr/>
            <p:nvPr/>
          </p:nvSpPr>
          <p:spPr>
            <a:xfrm>
              <a:off x="2432880" y="4411440"/>
              <a:ext cx="75672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28"/>
            <p:cNvSpPr/>
            <p:nvPr/>
          </p:nvSpPr>
          <p:spPr>
            <a:xfrm>
              <a:off x="1090800" y="3705840"/>
              <a:ext cx="75636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29"/>
            <p:cNvSpPr/>
            <p:nvPr/>
          </p:nvSpPr>
          <p:spPr>
            <a:xfrm>
              <a:off x="2584080" y="3711240"/>
              <a:ext cx="75636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30"/>
            <p:cNvSpPr/>
            <p:nvPr/>
          </p:nvSpPr>
          <p:spPr>
            <a:xfrm>
              <a:off x="3489120" y="3708720"/>
              <a:ext cx="75636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31"/>
            <p:cNvSpPr/>
            <p:nvPr/>
          </p:nvSpPr>
          <p:spPr>
            <a:xfrm>
              <a:off x="3785040" y="4057200"/>
              <a:ext cx="75636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32"/>
            <p:cNvSpPr/>
            <p:nvPr/>
          </p:nvSpPr>
          <p:spPr>
            <a:xfrm>
              <a:off x="4387320" y="3703320"/>
              <a:ext cx="75636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51"/>
          <p:cNvGrpSpPr/>
          <p:nvPr/>
        </p:nvGrpSpPr>
        <p:grpSpPr>
          <a:xfrm>
            <a:off x="6299280" y="2421000"/>
            <a:ext cx="2376360" cy="3600000"/>
            <a:chOff x="6299280" y="2421000"/>
            <a:chExt cx="2376360" cy="3600000"/>
          </a:xfrm>
        </p:grpSpPr>
        <p:sp>
          <p:nvSpPr>
            <p:cNvPr id="303" name="Line 52"/>
            <p:cNvSpPr/>
            <p:nvPr/>
          </p:nvSpPr>
          <p:spPr>
            <a:xfrm>
              <a:off x="7449480" y="2421000"/>
              <a:ext cx="0" cy="48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AutoShape 53"/>
            <p:cNvSpPr/>
            <p:nvPr/>
          </p:nvSpPr>
          <p:spPr>
            <a:xfrm>
              <a:off x="6299280" y="2767320"/>
              <a:ext cx="258480" cy="103932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utoShape 54"/>
            <p:cNvSpPr/>
            <p:nvPr/>
          </p:nvSpPr>
          <p:spPr>
            <a:xfrm>
              <a:off x="6299280" y="3875400"/>
              <a:ext cx="258480" cy="103932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55"/>
            <p:cNvSpPr/>
            <p:nvPr/>
          </p:nvSpPr>
          <p:spPr>
            <a:xfrm>
              <a:off x="6789960" y="4844520"/>
              <a:ext cx="258480" cy="103932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56"/>
            <p:cNvSpPr/>
            <p:nvPr/>
          </p:nvSpPr>
          <p:spPr>
            <a:xfrm>
              <a:off x="8417160" y="2767320"/>
              <a:ext cx="258480" cy="103932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57"/>
            <p:cNvSpPr/>
            <p:nvPr/>
          </p:nvSpPr>
          <p:spPr>
            <a:xfrm>
              <a:off x="7254720" y="2905920"/>
              <a:ext cx="387720" cy="69264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58"/>
            <p:cNvSpPr/>
            <p:nvPr/>
          </p:nvSpPr>
          <p:spPr>
            <a:xfrm>
              <a:off x="7254000" y="3875400"/>
              <a:ext cx="387720" cy="69264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59"/>
            <p:cNvSpPr/>
            <p:nvPr/>
          </p:nvSpPr>
          <p:spPr>
            <a:xfrm>
              <a:off x="7254720" y="4844520"/>
              <a:ext cx="387720" cy="69264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60"/>
            <p:cNvSpPr/>
            <p:nvPr/>
          </p:nvSpPr>
          <p:spPr>
            <a:xfrm>
              <a:off x="7451280" y="5536080"/>
              <a:ext cx="0" cy="48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61"/>
            <p:cNvSpPr/>
            <p:nvPr/>
          </p:nvSpPr>
          <p:spPr>
            <a:xfrm>
              <a:off x="7451280" y="3597120"/>
              <a:ext cx="0" cy="27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62"/>
            <p:cNvSpPr/>
            <p:nvPr/>
          </p:nvSpPr>
          <p:spPr>
            <a:xfrm>
              <a:off x="7446240" y="4566960"/>
              <a:ext cx="0" cy="27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4" name="AutoShape 63"/>
            <p:cNvCxnSpPr>
              <a:stCxn id="304" idx="5"/>
              <a:endCxn id="308" idx="1"/>
            </p:cNvCxnSpPr>
            <p:nvPr/>
          </p:nvCxnSpPr>
          <p:spPr>
            <a:xfrm flipV="1">
              <a:off x="6531120" y="3251880"/>
              <a:ext cx="723960" cy="3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15" name="AutoShape 64"/>
            <p:cNvCxnSpPr>
              <a:stCxn id="308" idx="3"/>
              <a:endCxn id="307" idx="2"/>
            </p:cNvCxnSpPr>
            <p:nvPr/>
          </p:nvCxnSpPr>
          <p:spPr>
            <a:xfrm>
              <a:off x="7642800" y="3252240"/>
              <a:ext cx="800640" cy="3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16" name="AutoShape 65"/>
            <p:cNvCxnSpPr>
              <a:stCxn id="305" idx="5"/>
              <a:endCxn id="308" idx="1"/>
            </p:cNvCxnSpPr>
            <p:nvPr/>
          </p:nvCxnSpPr>
          <p:spPr>
            <a:xfrm flipV="1">
              <a:off x="6531120" y="3251880"/>
              <a:ext cx="723960" cy="1143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7" name="AutoShape 66"/>
            <p:cNvCxnSpPr>
              <a:stCxn id="305" idx="5"/>
              <a:endCxn id="309" idx="1"/>
            </p:cNvCxnSpPr>
            <p:nvPr/>
          </p:nvCxnSpPr>
          <p:spPr>
            <a:xfrm flipV="1">
              <a:off x="6531120" y="4221000"/>
              <a:ext cx="723240" cy="17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8" name="AutoShape 67"/>
            <p:cNvCxnSpPr>
              <a:stCxn id="309" idx="3"/>
              <a:endCxn id="307" idx="2"/>
            </p:cNvCxnSpPr>
            <p:nvPr/>
          </p:nvCxnSpPr>
          <p:spPr>
            <a:xfrm flipV="1">
              <a:off x="7642080" y="3287160"/>
              <a:ext cx="801360" cy="934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9" name="AutoShape 68"/>
            <p:cNvCxnSpPr>
              <a:stCxn id="306" idx="5"/>
              <a:endCxn id="310" idx="1"/>
            </p:cNvCxnSpPr>
            <p:nvPr/>
          </p:nvCxnSpPr>
          <p:spPr>
            <a:xfrm flipV="1">
              <a:off x="7021800" y="5190120"/>
              <a:ext cx="232920" cy="17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F7EF-3F24-4669-86DB-6F6A00A099C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evolution of dat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4360" y="1587240"/>
            <a:ext cx="8278560" cy="13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OO systems, data is more tightly coupled with co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25" name="Group 26"/>
          <p:cNvGrpSpPr/>
          <p:nvPr/>
        </p:nvGrpSpPr>
        <p:grpSpPr>
          <a:xfrm>
            <a:off x="1000080" y="3500280"/>
            <a:ext cx="3024360" cy="1656000"/>
            <a:chOff x="1000080" y="3500280"/>
            <a:chExt cx="3024360" cy="1656000"/>
          </a:xfrm>
        </p:grpSpPr>
        <p:sp>
          <p:nvSpPr>
            <p:cNvPr id="326" name="AutoShape 8"/>
            <p:cNvSpPr/>
            <p:nvPr/>
          </p:nvSpPr>
          <p:spPr>
            <a:xfrm>
              <a:off x="1000080" y="3500280"/>
              <a:ext cx="3024360" cy="165600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vat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4"/>
            <p:cNvSpPr/>
            <p:nvPr/>
          </p:nvSpPr>
          <p:spPr>
            <a:xfrm>
              <a:off x="1215720" y="3787560"/>
              <a:ext cx="720720" cy="108144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7"/>
            <p:cNvSpPr/>
            <p:nvPr/>
          </p:nvSpPr>
          <p:spPr>
            <a:xfrm>
              <a:off x="3089520" y="3787560"/>
              <a:ext cx="720720" cy="108144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AutoShape 9"/>
          <p:cNvSpPr/>
          <p:nvPr/>
        </p:nvSpPr>
        <p:spPr>
          <a:xfrm>
            <a:off x="6804000" y="3141720"/>
            <a:ext cx="1081080" cy="72072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27"/>
          <p:cNvSpPr/>
          <p:nvPr/>
        </p:nvSpPr>
        <p:spPr>
          <a:xfrm>
            <a:off x="6804000" y="4043520"/>
            <a:ext cx="1081080" cy="72072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28"/>
          <p:cNvSpPr/>
          <p:nvPr/>
        </p:nvSpPr>
        <p:spPr>
          <a:xfrm>
            <a:off x="6804000" y="4970520"/>
            <a:ext cx="1081080" cy="72072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29"/>
          <p:cNvSpPr/>
          <p:nvPr/>
        </p:nvSpPr>
        <p:spPr>
          <a:xfrm>
            <a:off x="7307280" y="38908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0"/>
          <p:cNvSpPr/>
          <p:nvPr/>
        </p:nvSpPr>
        <p:spPr>
          <a:xfrm>
            <a:off x="7307280" y="4789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31"/>
          <p:cNvSpPr/>
          <p:nvPr/>
        </p:nvSpPr>
        <p:spPr>
          <a:xfrm>
            <a:off x="7307280" y="56912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32"/>
          <p:cNvSpPr/>
          <p:nvPr/>
        </p:nvSpPr>
        <p:spPr>
          <a:xfrm>
            <a:off x="7307280" y="27576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43"/>
          <p:cNvSpPr/>
          <p:nvPr/>
        </p:nvSpPr>
        <p:spPr>
          <a:xfrm>
            <a:off x="3714840" y="4286160"/>
            <a:ext cx="3313080" cy="216000"/>
          </a:xfrm>
          <a:prstGeom prst="leftRightArrow">
            <a:avLst>
              <a:gd name="adj1" fmla="val 50000"/>
              <a:gd name="adj2" fmla="val 305346"/>
            </a:avLst>
          </a:prstGeom>
          <a:solidFill>
            <a:srgbClr val="790082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7"/>
          <p:cNvSpPr/>
          <p:nvPr/>
        </p:nvSpPr>
        <p:spPr>
          <a:xfrm>
            <a:off x="7000920" y="4143240"/>
            <a:ext cx="261720" cy="481320"/>
          </a:xfrm>
          <a:prstGeom prst="flowChartInputOutput">
            <a:avLst/>
          </a:prstGeom>
          <a:solidFill>
            <a:srgbClr val="f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7"/>
          <p:cNvSpPr/>
          <p:nvPr/>
        </p:nvSpPr>
        <p:spPr>
          <a:xfrm>
            <a:off x="7462800" y="4143240"/>
            <a:ext cx="260280" cy="481320"/>
          </a:xfrm>
          <a:prstGeom prst="flowChartInputOutput">
            <a:avLst/>
          </a:prstGeom>
          <a:solidFill>
            <a:srgbClr val="f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9BE5-DB46-4A97-89B3-93C74576D4E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evolution of dat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4360" y="1660320"/>
            <a:ext cx="8278560" cy="13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me thing in OO APL system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44" name="Group 21"/>
          <p:cNvGrpSpPr/>
          <p:nvPr/>
        </p:nvGrpSpPr>
        <p:grpSpPr>
          <a:xfrm>
            <a:off x="1000080" y="3143160"/>
            <a:ext cx="3457800" cy="2008440"/>
            <a:chOff x="1000080" y="3143160"/>
            <a:chExt cx="3457800" cy="2008440"/>
          </a:xfrm>
        </p:grpSpPr>
        <p:sp>
          <p:nvSpPr>
            <p:cNvPr id="345" name="AutoShape 5"/>
            <p:cNvSpPr/>
            <p:nvPr/>
          </p:nvSpPr>
          <p:spPr>
            <a:xfrm>
              <a:off x="1000080" y="3143160"/>
              <a:ext cx="3457800" cy="200844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vat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6"/>
            <p:cNvSpPr/>
            <p:nvPr/>
          </p:nvSpPr>
          <p:spPr>
            <a:xfrm>
              <a:off x="1246680" y="3491640"/>
              <a:ext cx="824040" cy="13114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7"/>
            <p:cNvSpPr/>
            <p:nvPr/>
          </p:nvSpPr>
          <p:spPr>
            <a:xfrm>
              <a:off x="3388680" y="3491640"/>
              <a:ext cx="824040" cy="13114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AutoShape 8"/>
          <p:cNvSpPr/>
          <p:nvPr/>
        </p:nvSpPr>
        <p:spPr>
          <a:xfrm>
            <a:off x="5076720" y="2824200"/>
            <a:ext cx="1081080" cy="72072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3"/>
          <p:cNvSpPr/>
          <p:nvPr/>
        </p:nvSpPr>
        <p:spPr>
          <a:xfrm>
            <a:off x="5076720" y="3726000"/>
            <a:ext cx="1081080" cy="72072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4"/>
          <p:cNvSpPr/>
          <p:nvPr/>
        </p:nvSpPr>
        <p:spPr>
          <a:xfrm>
            <a:off x="5076720" y="4653000"/>
            <a:ext cx="1081080" cy="72072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5"/>
          <p:cNvSpPr/>
          <p:nvPr/>
        </p:nvSpPr>
        <p:spPr>
          <a:xfrm>
            <a:off x="5580000" y="3573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7"/>
          <p:cNvSpPr/>
          <p:nvPr/>
        </p:nvSpPr>
        <p:spPr>
          <a:xfrm>
            <a:off x="5580000" y="537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8"/>
          <p:cNvSpPr/>
          <p:nvPr/>
        </p:nvSpPr>
        <p:spPr>
          <a:xfrm>
            <a:off x="5580000" y="24400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6"/>
          <p:cNvSpPr/>
          <p:nvPr/>
        </p:nvSpPr>
        <p:spPr>
          <a:xfrm>
            <a:off x="5464080" y="4303800"/>
            <a:ext cx="0" cy="11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"/>
          <p:cNvSpPr/>
          <p:nvPr/>
        </p:nvSpPr>
        <p:spPr>
          <a:xfrm>
            <a:off x="5072040" y="3714840"/>
            <a:ext cx="1096920" cy="73656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6"/>
          <p:cNvSpPr/>
          <p:nvPr/>
        </p:nvSpPr>
        <p:spPr>
          <a:xfrm>
            <a:off x="5149800" y="3843360"/>
            <a:ext cx="262080" cy="479520"/>
          </a:xfrm>
          <a:prstGeom prst="flowChartInputOutput">
            <a:avLst/>
          </a:prstGeom>
          <a:solidFill>
            <a:srgbClr val="f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7"/>
          <p:cNvSpPr/>
          <p:nvPr/>
        </p:nvSpPr>
        <p:spPr>
          <a:xfrm>
            <a:off x="5829480" y="3843360"/>
            <a:ext cx="261720" cy="479520"/>
          </a:xfrm>
          <a:prstGeom prst="flowChartInputOutput">
            <a:avLst/>
          </a:prstGeom>
          <a:solidFill>
            <a:srgbClr val="f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traight Connector 28"/>
          <p:cNvSpPr/>
          <p:nvPr/>
        </p:nvSpPr>
        <p:spPr>
          <a:xfrm>
            <a:off x="4456080" y="3147840"/>
            <a:ext cx="615960" cy="56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traight Connector 30"/>
          <p:cNvSpPr/>
          <p:nvPr/>
        </p:nvSpPr>
        <p:spPr>
          <a:xfrm flipV="1">
            <a:off x="4471200" y="4446720"/>
            <a:ext cx="590760" cy="72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5"/>
          <p:cNvSpPr/>
          <p:nvPr/>
        </p:nvSpPr>
        <p:spPr>
          <a:xfrm>
            <a:off x="5572080" y="450072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7291-E91E-4C07-B22E-571C26FE564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WordArt 4"/>
          <p:cNvSpPr txBox="1"/>
          <p:nvPr/>
        </p:nvSpPr>
        <p:spPr>
          <a:xfrm>
            <a:off x="826920" y="2708280"/>
            <a:ext cx="7632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fc20"/>
                    </a:gs>
                    <a:gs pos="100000">
                      <a:srgbClr val="bed81b"/>
                    </a:gs>
                  </a:gsLst>
                  <a:lin ang="5400000"/>
                </a:gradFill>
                <a:latin typeface="Times New Roman"/>
              </a:rPr>
              <a:t>Definitions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fc20"/>
                  </a:gs>
                  <a:gs pos="100000">
                    <a:srgbClr val="bed81b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808200" y="28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24000" y="1069920"/>
            <a:ext cx="8712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Object Oriented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9996-9F1F-4C9E-9210-EBD1CA79295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68360" y="1660320"/>
            <a:ext cx="7989840" cy="68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Object Oriented paradigm is based 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2338560" y="2517840"/>
            <a:ext cx="4465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 &amp; Interfa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anc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ssage pas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FD0C-5CA9-4AA0-8066-5A15CBB035B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8000" y="1750680"/>
            <a:ext cx="835164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1. Class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clas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defines the abstract characteristics of some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object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, akin to a blueprin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t describes a collection of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members (data and code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asses can be nest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BC44-36DF-492A-B41E-E27D49225CA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68000" y="1733040"/>
            <a:ext cx="835164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Class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ex: House blueprint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83" name="Group 11"/>
          <p:cNvGrpSpPr/>
          <p:nvPr/>
        </p:nvGrpSpPr>
        <p:grpSpPr>
          <a:xfrm>
            <a:off x="3203280" y="3860640"/>
            <a:ext cx="3097440" cy="1944720"/>
            <a:chOff x="3203280" y="3860640"/>
            <a:chExt cx="3097440" cy="1944720"/>
          </a:xfrm>
        </p:grpSpPr>
        <p:sp>
          <p:nvSpPr>
            <p:cNvPr id="384" name="Rectangle 4"/>
            <p:cNvSpPr/>
            <p:nvPr/>
          </p:nvSpPr>
          <p:spPr>
            <a:xfrm>
              <a:off x="3564000" y="4581360"/>
              <a:ext cx="2376360" cy="122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5"/>
            <p:cNvSpPr/>
            <p:nvPr/>
          </p:nvSpPr>
          <p:spPr>
            <a:xfrm flipH="1">
              <a:off x="3203280" y="3860640"/>
              <a:ext cx="158436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6"/>
            <p:cNvSpPr/>
            <p:nvPr/>
          </p:nvSpPr>
          <p:spPr>
            <a:xfrm flipH="1" flipV="1">
              <a:off x="4788000" y="3860640"/>
              <a:ext cx="151272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9"/>
            <p:cNvSpPr/>
            <p:nvPr/>
          </p:nvSpPr>
          <p:spPr>
            <a:xfrm>
              <a:off x="3786120" y="5000400"/>
              <a:ext cx="857160" cy="35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0"/>
            <p:cNvSpPr/>
            <p:nvPr/>
          </p:nvSpPr>
          <p:spPr>
            <a:xfrm>
              <a:off x="5143680" y="5143320"/>
              <a:ext cx="3571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6703-5CBE-4D99-BDAB-C01EE47C505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68000" y="1733400"/>
            <a:ext cx="835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Class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clas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3200" spc="-1" strike="noStrike" u="sng">
                <a:solidFill>
                  <a:srgbClr val="333333"/>
                </a:solidFill>
                <a:uFillTx/>
                <a:latin typeface="Geneva"/>
              </a:rPr>
              <a:t>can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implement one or more </a:t>
            </a:r>
            <a:r>
              <a:rPr b="0" i="1" lang="en-US" sz="3200" spc="-1" strike="noStrike">
                <a:solidFill>
                  <a:srgbClr val="000000"/>
                </a:solidFill>
                <a:latin typeface="Geneva"/>
              </a:rPr>
              <a:t>interface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interfac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describes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what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it should do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cla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describe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how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t should be don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a class implements an interface it should do it completely, no partial implementation is allow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44E3-2A2B-455A-9B8B-611B890BC54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000" y="1733040"/>
            <a:ext cx="8351640" cy="27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Interfac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interfac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describes how to communicate with an objec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: electrical system &amp; electrical outle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99" name="Picture 7" descr="C:\Users\Danb\Pictures\outlet.jpg"/>
          <p:cNvPicPr/>
          <p:nvPr/>
        </p:nvPicPr>
        <p:blipFill>
          <a:blip r:embed="rId1"/>
          <a:stretch/>
        </p:blipFill>
        <p:spPr>
          <a:xfrm>
            <a:off x="3049560" y="4043520"/>
            <a:ext cx="2808360" cy="169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88A8-6584-4B00-AE3B-93BAEF495DB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ver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339640" y="2449440"/>
            <a:ext cx="4103640" cy="28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ne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History of OO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711360" indent="-711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ne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Definitions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711360" indent="-711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ne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The APL way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A7BE-887A-48BA-87C6-C6D72FDC5E9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nterfaces -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94920" y="1820520"/>
            <a:ext cx="8064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following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maneuvering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interface describes what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HA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to be done with a machine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ethod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teer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(direction);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// where to go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ethod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ccellerat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(power);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// go faste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ethod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lowDow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(strength); // go slowe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t does NOT specify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HOW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it should be don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D292-CC8D-4F1E-AD37-DC3E9F6095E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7" descr="carcockpit3"/>
          <p:cNvPicPr/>
          <p:nvPr/>
        </p:nvPicPr>
        <p:blipFill>
          <a:blip r:embed="rId1"/>
          <a:stretch/>
        </p:blipFill>
        <p:spPr>
          <a:xfrm>
            <a:off x="5943600" y="1916280"/>
            <a:ext cx="3205080" cy="424944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nterfaces -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81080" y="1371240"/>
            <a:ext cx="82072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ar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bject implements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 maneuve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179280" y="2085840"/>
            <a:ext cx="626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car : maneuver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SteeringWhee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impl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Ste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turn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GasPed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impl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Accellera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push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BreakPed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impl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SlowDow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hit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7EDA-2FCA-4AED-A5C9-D513F41EE3E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5" descr="cockpit2"/>
          <p:cNvPicPr/>
          <p:nvPr/>
        </p:nvPicPr>
        <p:blipFill>
          <a:blip r:embed="rId1"/>
          <a:stretch/>
        </p:blipFill>
        <p:spPr>
          <a:xfrm>
            <a:off x="5722920" y="2060640"/>
            <a:ext cx="3421080" cy="403236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nterfaces -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78920" y="1371240"/>
            <a:ext cx="85330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lane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bject implements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 maneuve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8" name="Text Box 4"/>
          <p:cNvSpPr/>
          <p:nvPr/>
        </p:nvSpPr>
        <p:spPr>
          <a:xfrm>
            <a:off x="250920" y="2157480"/>
            <a:ext cx="5761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la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aneuver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Yok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implement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Ste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move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Hand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implement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Accellera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pp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lap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implement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SlowDow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degree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064D-76CE-469B-8E93-7305E20966E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68360" y="1589040"/>
            <a:ext cx="7989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2. Instanc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ose are tangible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object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created from a specific cla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pon creation any specific action is carried out by th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constructor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code) of the class if some sort of initialization is requir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pon destruction, th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destructor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responsible for cleaning up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8AD5-81EA-4808-90EB-66B4352DDF8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8000" y="1588680"/>
            <a:ext cx="381780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2. Instanc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New House (Blue)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29" name="Group 11" descr=""/>
          <p:cNvPicPr/>
          <p:nvPr/>
        </p:nvPicPr>
        <p:blipFill>
          <a:blip r:embed="rId1"/>
          <a:stretch/>
        </p:blipFill>
        <p:spPr>
          <a:xfrm>
            <a:off x="3054240" y="2981160"/>
            <a:ext cx="3121200" cy="1968840"/>
          </a:xfrm>
          <a:prstGeom prst="rect">
            <a:avLst/>
          </a:prstGeom>
          <a:ln w="0">
            <a:noFill/>
          </a:ln>
        </p:spPr>
      </p:pic>
      <p:sp>
        <p:nvSpPr>
          <p:cNvPr id="430" name="Isosceles Triangle 12"/>
          <p:cNvSpPr/>
          <p:nvPr/>
        </p:nvSpPr>
        <p:spPr>
          <a:xfrm>
            <a:off x="3429000" y="2998800"/>
            <a:ext cx="2428920" cy="716040"/>
          </a:xfrm>
          <a:prstGeom prst="triangle">
            <a:avLst>
              <a:gd name="adj" fmla="val 49574"/>
            </a:avLst>
          </a:prstGeom>
          <a:solidFill>
            <a:srgbClr val="72bfc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3"/>
          <p:cNvSpPr/>
          <p:nvPr/>
        </p:nvSpPr>
        <p:spPr>
          <a:xfrm>
            <a:off x="605520" y="5072040"/>
            <a:ext cx="740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ter the creation of the new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ou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tructor paints it in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03B3-1520-48CF-9DA4-A8674F90DE9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55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94920" y="1660320"/>
            <a:ext cx="8280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3. Member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s is the code and the data of a cla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ode is divided into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Method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functions) and data is divided into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Field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variables)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also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roperti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which are Fields implemented via functions to read/set the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0044-9578-4E02-8708-F3DFBEF52C6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95280" y="158904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Member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se can reside inside the class if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r in th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instance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therwis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: the .Net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cla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ateTim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has a member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Now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hat does not require an instance to be called. e.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ateTime.Now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⍝ straight from the cla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2007/10/21  9:12:04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B776-5809-487E-B9C7-1F6EB8CB446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94920" y="1589040"/>
            <a:ext cx="4824360" cy="12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Shared vs Instanc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3562200" y="2565360"/>
            <a:ext cx="19447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1 S2 S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I1 I2 I3 I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695160" y="2462040"/>
            <a:ext cx="27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ared memb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ain in the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1042920" y="4510080"/>
            <a:ext cx="1944720" cy="1295280"/>
          </a:xfrm>
          <a:prstGeom prst="rect">
            <a:avLst/>
          </a:prstGeom>
          <a:solidFill>
            <a:srgbClr val="8ff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S1 S2 S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1 I2 I3 I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7"/>
          <p:cNvSpPr/>
          <p:nvPr/>
        </p:nvSpPr>
        <p:spPr>
          <a:xfrm>
            <a:off x="3562200" y="4510080"/>
            <a:ext cx="1944720" cy="1295280"/>
          </a:xfrm>
          <a:prstGeom prst="rect">
            <a:avLst/>
          </a:prstGeom>
          <a:solidFill>
            <a:srgbClr val="8ff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S1 S2 S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1 I2 I3 I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8"/>
          <p:cNvSpPr/>
          <p:nvPr/>
        </p:nvSpPr>
        <p:spPr>
          <a:xfrm>
            <a:off x="6083280" y="4510080"/>
            <a:ext cx="1944720" cy="1295280"/>
          </a:xfrm>
          <a:prstGeom prst="rect">
            <a:avLst/>
          </a:prstGeom>
          <a:solidFill>
            <a:srgbClr val="8ff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S1 S2 S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1 I2 I3 I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9"/>
          <p:cNvSpPr/>
          <p:nvPr/>
        </p:nvSpPr>
        <p:spPr>
          <a:xfrm>
            <a:off x="5900040" y="3033720"/>
            <a:ext cx="27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nce membe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created in t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AutoShape 10"/>
          <p:cNvCxnSpPr>
            <a:stCxn id="447" idx="2"/>
            <a:endCxn id="449" idx="0"/>
          </p:cNvCxnSpPr>
          <p:nvPr/>
        </p:nvCxnSpPr>
        <p:spPr>
          <a:xfrm flipH="1">
            <a:off x="2015280" y="3860640"/>
            <a:ext cx="2520360" cy="650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454" name="AutoShape 12"/>
          <p:cNvCxnSpPr>
            <a:stCxn id="447" idx="2"/>
            <a:endCxn id="450" idx="0"/>
          </p:cNvCxnSpPr>
          <p:nvPr/>
        </p:nvCxnSpPr>
        <p:spPr>
          <a:xfrm>
            <a:off x="4535280" y="3860640"/>
            <a:ext cx="1080" cy="650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455" name="AutoShape 13"/>
          <p:cNvCxnSpPr>
            <a:stCxn id="447" idx="2"/>
            <a:endCxn id="451" idx="0"/>
          </p:cNvCxnSpPr>
          <p:nvPr/>
        </p:nvCxnSpPr>
        <p:spPr>
          <a:xfrm>
            <a:off x="4535640" y="3860640"/>
            <a:ext cx="2521440" cy="650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B47A-5804-44FE-A558-330AE589D51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660320"/>
            <a:ext cx="7989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Members: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Method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ose can either reside in the class (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metho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 or in the instance (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metho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also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abstrac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thods (e.g. in interfaces) with no code, only calling syntax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Constructor</a:t>
            </a:r>
            <a:r>
              <a:rPr b="0" i="1" lang="en-GB" sz="3200" spc="-1" strike="noStrike">
                <a:solidFill>
                  <a:srgbClr val="000000"/>
                </a:solidFill>
                <a:latin typeface="Geneva"/>
              </a:rPr>
              <a:t>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d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destructor</a:t>
            </a:r>
            <a:r>
              <a:rPr b="0" i="1" lang="en-GB" sz="3200" spc="-1" strike="noStrike">
                <a:solidFill>
                  <a:srgbClr val="000000"/>
                </a:solidFill>
                <a:latin typeface="Geneva"/>
              </a:rPr>
              <a:t>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re method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18AE-1673-4F5B-BEEA-7FA8E950909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805040"/>
            <a:ext cx="7989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Members: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Field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ose can either reside in the class (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fiel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 or in the instance (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fiel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can also b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read onl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6886-73E1-49F5-8EAD-999EC1B460A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asons: why do this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763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Because Object Orientation is a Valuable Tool of Thought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To be able to Share Tools and Components more Easi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To help us Manage Complexity in all Project Pha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use .Net more easi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776A-A5B8-4B0A-B20A-C923A30936E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12720" y="1660320"/>
            <a:ext cx="8352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Members: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Properti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ose are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Field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mplemented by </a:t>
            </a:r>
            <a:r>
              <a:rPr b="0" i="1" lang="en-GB" sz="3200" spc="-1" strike="noStrike">
                <a:solidFill>
                  <a:srgbClr val="000000"/>
                </a:solidFill>
                <a:latin typeface="Geneva"/>
              </a:rPr>
              <a:t>access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thods, i.e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 </a:t>
            </a:r>
            <a:r>
              <a:rPr b="0" lang="en-GB" sz="2800" spc="-1" strike="noStrike">
                <a:solidFill>
                  <a:srgbClr val="333333"/>
                </a:solidFill>
                <a:latin typeface="APL385 Unicode"/>
              </a:rPr>
              <a:t>PropX←</a:t>
            </a:r>
            <a:r>
              <a:rPr b="0" lang="fr-CA" sz="2800" spc="-1" strike="noStrike">
                <a:solidFill>
                  <a:srgbClr val="333333"/>
                </a:solidFill>
                <a:latin typeface="APL385 Unicode"/>
              </a:rPr>
              <a:t>value </a:t>
            </a:r>
            <a:r>
              <a:rPr b="0" lang="fr-CA" sz="2800" spc="-1" strike="noStrike">
                <a:solidFill>
                  <a:srgbClr val="333333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⍝ </a:t>
            </a:r>
            <a:r>
              <a:rPr b="0" lang="fr-CA" sz="2800" spc="-1" strike="noStrike">
                <a:solidFill>
                  <a:srgbClr val="333333"/>
                </a:solidFill>
                <a:latin typeface="Geneva"/>
              </a:rPr>
              <a:t>is implemented by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33"/>
                </a:solidFill>
                <a:latin typeface="APL385 Unicode"/>
              </a:rPr>
              <a:t> </a:t>
            </a:r>
            <a:r>
              <a:rPr b="0" lang="fr-CA" sz="2800" spc="-1" strike="noStrike">
                <a:solidFill>
                  <a:srgbClr val="333333"/>
                </a:solidFill>
                <a:latin typeface="APL385 Unicode"/>
              </a:rPr>
              <a:t>SET valu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y can either reside in the class (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property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 or in the instance (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property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5C1B-2631-4044-86EF-42BBA6B7C33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9640" y="180504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4. Message passing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s is the (usually asynchronous) sending (often by copy) of a data item to a communication endpoint (process, thread, socket, etc.)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a procedural language (like Dyalog), it corresponds to a call made to a routin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6C23-73A6-4B5A-8A6A-B6CB647160C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66560" y="1589040"/>
            <a:ext cx="839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5. Inheritanc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This is a way to avoid rewriting code by writing general classes and classes that 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derive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from them and 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inherit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their 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members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This helps achieve 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reusability, 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a cornerstone of OO by avoiding to rewrite code and use what already exist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C31A-BC96-491D-87F6-48C146E6C3F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95280" y="17334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We say that a (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derived)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class is </a:t>
            </a:r>
            <a:r>
              <a:rPr b="0" i="1" lang="fr-CA" sz="3200" spc="-1" strike="noStrike">
                <a:solidFill>
                  <a:srgbClr val="99cc00"/>
                </a:solidFill>
                <a:latin typeface="Geneva"/>
              </a:rPr>
              <a:t>based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on another on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33"/>
                </a:solidFill>
                <a:latin typeface="Geneva"/>
              </a:rPr>
              <a:t>All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classes (but one) are derived from another one or from 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System.Object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(the default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10C6-DF74-45B4-ACC9-6469E3C4F71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31280" y="1660320"/>
            <a:ext cx="8388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ased classes (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reusability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lang="en-GB" sz="2800" spc="-1" strike="noStrike">
                <a:solidFill>
                  <a:srgbClr val="00ccff"/>
                </a:solidFill>
                <a:latin typeface="Geneva"/>
              </a:rPr>
              <a:t>clas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an be based on another based class. See </a:t>
            </a:r>
            <a:r>
              <a:rPr b="0" lang="en-GB" sz="2800" spc="-1" strike="noStrike">
                <a:solidFill>
                  <a:srgbClr val="00ccff"/>
                </a:solidFill>
                <a:latin typeface="Geneva"/>
              </a:rPr>
              <a:t>clas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Collie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ased on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 Dog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ased on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 Anima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491" name="Group 24"/>
          <p:cNvGrpSpPr/>
          <p:nvPr/>
        </p:nvGrpSpPr>
        <p:grpSpPr>
          <a:xfrm>
            <a:off x="322200" y="3287880"/>
            <a:ext cx="8353440" cy="2877480"/>
            <a:chOff x="322200" y="3287880"/>
            <a:chExt cx="8353440" cy="2877480"/>
          </a:xfrm>
        </p:grpSpPr>
        <p:sp>
          <p:nvSpPr>
            <p:cNvPr id="492" name="Rectangle 4"/>
            <p:cNvSpPr/>
            <p:nvPr/>
          </p:nvSpPr>
          <p:spPr>
            <a:xfrm>
              <a:off x="827280" y="4366800"/>
              <a:ext cx="158400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nima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5"/>
            <p:cNvSpPr/>
            <p:nvPr/>
          </p:nvSpPr>
          <p:spPr>
            <a:xfrm>
              <a:off x="2914560" y="3574800"/>
              <a:ext cx="158436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og: Anima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6"/>
            <p:cNvSpPr/>
            <p:nvPr/>
          </p:nvSpPr>
          <p:spPr>
            <a:xfrm>
              <a:off x="7091280" y="5157360"/>
              <a:ext cx="1584360" cy="100800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x (Collie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7"/>
            <p:cNvSpPr/>
            <p:nvPr/>
          </p:nvSpPr>
          <p:spPr>
            <a:xfrm>
              <a:off x="2914560" y="4943160"/>
              <a:ext cx="158436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sh: Anima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8"/>
            <p:cNvSpPr/>
            <p:nvPr/>
          </p:nvSpPr>
          <p:spPr>
            <a:xfrm>
              <a:off x="7091280" y="4006440"/>
              <a:ext cx="1584360" cy="100800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do (Collie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13"/>
            <p:cNvSpPr/>
            <p:nvPr/>
          </p:nvSpPr>
          <p:spPr>
            <a:xfrm>
              <a:off x="5002200" y="3287880"/>
              <a:ext cx="194472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reat Dane: Dog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14"/>
            <p:cNvSpPr/>
            <p:nvPr/>
          </p:nvSpPr>
          <p:spPr>
            <a:xfrm>
              <a:off x="5002200" y="4654440"/>
              <a:ext cx="158436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llie: Dog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9" name="AutoShape 15"/>
            <p:cNvCxnSpPr>
              <a:stCxn id="492" idx="3"/>
              <a:endCxn id="493" idx="1"/>
            </p:cNvCxnSpPr>
            <p:nvPr/>
          </p:nvCxnSpPr>
          <p:spPr>
            <a:xfrm flipV="1">
              <a:off x="2411280" y="4079160"/>
              <a:ext cx="504000" cy="79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0" name="AutoShape 16"/>
            <p:cNvCxnSpPr>
              <a:stCxn id="492" idx="3"/>
              <a:endCxn id="495" idx="1"/>
            </p:cNvCxnSpPr>
            <p:nvPr/>
          </p:nvCxnSpPr>
          <p:spPr>
            <a:xfrm>
              <a:off x="2411280" y="4871520"/>
              <a:ext cx="504000" cy="57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1" name="AutoShape 17"/>
            <p:cNvCxnSpPr>
              <a:stCxn id="493" idx="3"/>
              <a:endCxn id="497" idx="1"/>
            </p:cNvCxnSpPr>
            <p:nvPr/>
          </p:nvCxnSpPr>
          <p:spPr>
            <a:xfrm flipV="1">
              <a:off x="4498920" y="3791520"/>
              <a:ext cx="504000" cy="287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2" name="AutoShape 18"/>
            <p:cNvCxnSpPr>
              <a:stCxn id="493" idx="3"/>
              <a:endCxn id="498" idx="1"/>
            </p:cNvCxnSpPr>
            <p:nvPr/>
          </p:nvCxnSpPr>
          <p:spPr>
            <a:xfrm>
              <a:off x="4498920" y="4079520"/>
              <a:ext cx="504000" cy="108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3" name="AutoShape 19"/>
            <p:cNvCxnSpPr>
              <a:stCxn id="498" idx="3"/>
              <a:endCxn id="496" idx="1"/>
            </p:cNvCxnSpPr>
            <p:nvPr/>
          </p:nvCxnSpPr>
          <p:spPr>
            <a:xfrm flipV="1">
              <a:off x="6586560" y="4511160"/>
              <a:ext cx="505440" cy="64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4" name="AutoShape 20"/>
            <p:cNvCxnSpPr>
              <a:stCxn id="498" idx="3"/>
              <a:endCxn id="494" idx="1"/>
            </p:cNvCxnSpPr>
            <p:nvPr/>
          </p:nvCxnSpPr>
          <p:spPr>
            <a:xfrm>
              <a:off x="6586560" y="5158800"/>
              <a:ext cx="505440" cy="503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5" name="Text Box 21"/>
            <p:cNvSpPr/>
            <p:nvPr/>
          </p:nvSpPr>
          <p:spPr>
            <a:xfrm>
              <a:off x="7164720" y="354924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bfd87"/>
                  </a:solidFill>
                  <a:latin typeface="Arial"/>
                </a:rPr>
                <a:t>Instance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22"/>
            <p:cNvSpPr/>
            <p:nvPr/>
          </p:nvSpPr>
          <p:spPr>
            <a:xfrm>
              <a:off x="3193920" y="4546440"/>
              <a:ext cx="108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ccff"/>
                  </a:solidFill>
                  <a:latin typeface="Arial"/>
                </a:rPr>
                <a:t>Classe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3"/>
            <p:cNvSpPr/>
            <p:nvPr/>
          </p:nvSpPr>
          <p:spPr>
            <a:xfrm>
              <a:off x="322200" y="48700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D9DB-F5F7-4976-859D-1AD6ED368FD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24000" y="158904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ultiple inheri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lang="en-GB" sz="3200" spc="-1" strike="noStrike">
                <a:solidFill>
                  <a:srgbClr val="00ccff"/>
                </a:solidFill>
                <a:latin typeface="Geneva"/>
              </a:rPr>
              <a:t>cla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can be based on several other classes Here </a:t>
            </a:r>
            <a:r>
              <a:rPr b="0" lang="en-GB" sz="3200" spc="-1" strike="noStrike">
                <a:solidFill>
                  <a:srgbClr val="00ccff"/>
                </a:solidFill>
                <a:latin typeface="Geneva"/>
              </a:rPr>
              <a:t>class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ule is made out of 2 different class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513" name="Group 21"/>
          <p:cNvGrpSpPr/>
          <p:nvPr/>
        </p:nvGrpSpPr>
        <p:grpSpPr>
          <a:xfrm>
            <a:off x="2771640" y="3429000"/>
            <a:ext cx="3889440" cy="2374920"/>
            <a:chOff x="2771640" y="3429000"/>
            <a:chExt cx="3889440" cy="2374920"/>
          </a:xfrm>
        </p:grpSpPr>
        <p:sp>
          <p:nvSpPr>
            <p:cNvPr id="514" name="Rectangle 9"/>
            <p:cNvSpPr/>
            <p:nvPr/>
          </p:nvSpPr>
          <p:spPr>
            <a:xfrm>
              <a:off x="2771640" y="3429000"/>
              <a:ext cx="158436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ors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0"/>
            <p:cNvSpPr/>
            <p:nvPr/>
          </p:nvSpPr>
          <p:spPr>
            <a:xfrm>
              <a:off x="2771640" y="4795920"/>
              <a:ext cx="158436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onkey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6" name="AutoShape 15"/>
            <p:cNvCxnSpPr>
              <a:stCxn id="515" idx="3"/>
              <a:endCxn id="517" idx="1"/>
            </p:cNvCxnSpPr>
            <p:nvPr/>
          </p:nvCxnSpPr>
          <p:spPr>
            <a:xfrm flipV="1">
              <a:off x="4356000" y="4725720"/>
              <a:ext cx="721440" cy="57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8" name="AutoShape 19"/>
            <p:cNvCxnSpPr>
              <a:stCxn id="514" idx="3"/>
              <a:endCxn id="517" idx="1"/>
            </p:cNvCxnSpPr>
            <p:nvPr/>
          </p:nvCxnSpPr>
          <p:spPr>
            <a:xfrm>
              <a:off x="4356000" y="3933360"/>
              <a:ext cx="721440" cy="793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7" name="Rectangle 20"/>
            <p:cNvSpPr/>
            <p:nvPr/>
          </p:nvSpPr>
          <p:spPr>
            <a:xfrm>
              <a:off x="5076720" y="4221000"/>
              <a:ext cx="158436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ul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B08A-5A92-489A-9C8E-EBA4F72D5ED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04720" y="1660320"/>
            <a:ext cx="8460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mulate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ultiple inheri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lang="en-GB" sz="3200" spc="-1" strike="noStrike">
                <a:solidFill>
                  <a:srgbClr val="00ccff"/>
                </a:solidFill>
                <a:latin typeface="Geneva"/>
              </a:rPr>
              <a:t>cla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can implement several interfaces. Here </a:t>
            </a:r>
            <a:r>
              <a:rPr b="0" lang="en-GB" sz="3200" spc="-1" strike="noStrike">
                <a:solidFill>
                  <a:srgbClr val="00ccff"/>
                </a:solidFill>
                <a:latin typeface="Geneva"/>
              </a:rPr>
              <a:t>class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enguin implements 2 different behaviours (interfaces)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2556000" y="4005360"/>
            <a:ext cx="1584360" cy="1008000"/>
          </a:xfrm>
          <a:prstGeom prst="rect">
            <a:avLst/>
          </a:prstGeom>
          <a:solidFill>
            <a:srgbClr val="dd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swim,egg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2556000" y="5156280"/>
            <a:ext cx="1584360" cy="1008000"/>
          </a:xfrm>
          <a:prstGeom prst="rect">
            <a:avLst/>
          </a:prstGeom>
          <a:solidFill>
            <a:srgbClr val="dd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fly,eggs,si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6" name="AutoShape 7"/>
          <p:cNvCxnSpPr>
            <a:stCxn id="525" idx="3"/>
            <a:endCxn id="527" idx="1"/>
          </p:cNvCxnSpPr>
          <p:nvPr/>
        </p:nvCxnSpPr>
        <p:spPr>
          <a:xfrm flipV="1">
            <a:off x="4140360" y="5086080"/>
            <a:ext cx="72144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8" name="AutoShape 8"/>
          <p:cNvCxnSpPr>
            <a:stCxn id="524" idx="3"/>
            <a:endCxn id="527" idx="1"/>
          </p:cNvCxnSpPr>
          <p:nvPr/>
        </p:nvCxnSpPr>
        <p:spPr>
          <a:xfrm>
            <a:off x="4140360" y="4509720"/>
            <a:ext cx="72144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7" name="Rectangle 9"/>
          <p:cNvSpPr/>
          <p:nvPr/>
        </p:nvSpPr>
        <p:spPr>
          <a:xfrm>
            <a:off x="4861080" y="4365720"/>
            <a:ext cx="215892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ngui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wims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lies no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egg/y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oaks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3781-725D-4C0A-A2FE-EE9F4112386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24000" y="180504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When an </a:t>
            </a:r>
            <a:r>
              <a:rPr b="0" i="1" lang="fr-CA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is created from a class </a:t>
            </a:r>
            <a:r>
              <a:rPr b="0" i="1" lang="fr-CA" sz="3200" spc="-1" strike="noStrike">
                <a:solidFill>
                  <a:srgbClr val="99cc00"/>
                </a:solidFill>
                <a:latin typeface="Geneva"/>
              </a:rPr>
              <a:t>based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on another one it inherits all its members automatical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Members can be redefined but </a:t>
            </a:r>
            <a:r>
              <a:rPr b="0" lang="fr-CA" sz="3200" spc="-1" strike="noStrike" u="sng">
                <a:solidFill>
                  <a:srgbClr val="333333"/>
                </a:solidFill>
                <a:uFillTx/>
                <a:latin typeface="Geneva"/>
              </a:rPr>
              <a:t>subroutines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must be specifically set to </a:t>
            </a:r>
            <a:r>
              <a:rPr b="0" i="1" lang="fr-CA" sz="3200" spc="-1" strike="noStrike">
                <a:solidFill>
                  <a:srgbClr val="99cc00"/>
                </a:solidFill>
                <a:latin typeface="Geneva"/>
              </a:rPr>
              <a:t>override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base class subroutin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ABFB-B633-4E46-8F00-5D1646CC2B8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24000" y="1805040"/>
            <a:ext cx="8640720" cy="24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a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derived</a:t>
            </a: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 class inherits all the base member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900000" y="3355920"/>
            <a:ext cx="172728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6156360" y="3355920"/>
            <a:ext cx="1727280" cy="2160720"/>
          </a:xfrm>
          <a:prstGeom prst="rect">
            <a:avLst/>
          </a:prstGeom>
          <a:solidFill>
            <a:srgbClr val="bbe0e3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2: C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75341E-006 L -0.29254 -0.00023 E">
                                      <p:cBhvr>
                                        <p:cTn id="54" dur="20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3257E-007 L 0.28351 0.00023 E">
                                      <p:cBhvr>
                                        <p:cTn id="56" dur="2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940A-B73F-4520-80AE-E7AC0AEB5AC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24000" y="1805040"/>
            <a:ext cx="8640720" cy="24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a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derived</a:t>
            </a: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 class inherits all the base member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900000" y="3355920"/>
            <a:ext cx="172728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469ff"/>
                </a:solidFill>
                <a:latin typeface="Arial"/>
              </a:rPr>
              <a:t>membe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469ff"/>
                </a:solidFill>
                <a:latin typeface="Arial"/>
              </a:rPr>
              <a:t>member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469ff"/>
                </a:solidFill>
                <a:latin typeface="Arial"/>
              </a:rPr>
              <a:t>member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5"/>
          <p:cNvSpPr/>
          <p:nvPr/>
        </p:nvSpPr>
        <p:spPr>
          <a:xfrm>
            <a:off x="6156360" y="3355920"/>
            <a:ext cx="1727280" cy="2160720"/>
          </a:xfrm>
          <a:prstGeom prst="rect">
            <a:avLst/>
          </a:prstGeom>
          <a:solidFill>
            <a:srgbClr val="bbe0e3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2: C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75341E-006 L -0.29254 -0.00023 E">
                                      <p:cBhvr>
                                        <p:cTn id="62" dur="2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3257E-007 L 0.28351 0.00023 E">
                                      <p:cBhvr>
                                        <p:cTn id="64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7602-BA51-4230-95CD-E7B419C1B3F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Histor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89040"/>
            <a:ext cx="8207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O is not new, it’s been around for a whil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retty much the same story as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50s: concep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60s: 1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mplementation (SIMULA compiler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70s: 1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user base, Smalltalk compil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80s: starts to be used more serious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90s: popularity grows (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≠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) thanks to C++ and Java &amp; the Interne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31D5-2896-4E83-8DBC-7DF88518240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407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Inheritanc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itialization</a:t>
            </a: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 is performed by the </a:t>
            </a:r>
            <a:r>
              <a:rPr b="0" i="1" lang="en-GB" sz="3600" spc="-1" strike="noStrike">
                <a:solidFill>
                  <a:srgbClr val="99cc00"/>
                </a:solidFill>
                <a:latin typeface="Geneva"/>
              </a:rPr>
              <a:t>constructor</a:t>
            </a: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If a class is derived, the </a:t>
            </a:r>
            <a:r>
              <a:rPr b="0" lang="en-GB" sz="3600" spc="-1" strike="noStrike">
                <a:solidFill>
                  <a:srgbClr val="99cc00"/>
                </a:solidFill>
                <a:latin typeface="Geneva"/>
              </a:rPr>
              <a:t>base</a:t>
            </a: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 class' </a:t>
            </a:r>
            <a:r>
              <a:rPr b="0" i="1" lang="en-GB" sz="3600" spc="-1" strike="noStrike">
                <a:solidFill>
                  <a:srgbClr val="99cc00"/>
                </a:solidFill>
                <a:latin typeface="Geneva"/>
              </a:rPr>
              <a:t>constructor</a:t>
            </a: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 will also be called if there is one.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0092-27E9-4F03-A4C8-B161DF2DD30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24000" y="1660680"/>
            <a:ext cx="8640720" cy="32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Some classes may be 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sealed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to prevent other classes from inheriting the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F89F-BE9F-4C0A-B6BE-5F5416FA710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verride concep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1122480" y="4460760"/>
            <a:ext cx="250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A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  A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5376960" y="4437000"/>
            <a:ext cx="250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B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  B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5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6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7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8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9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11"/>
          <p:cNvSpPr/>
          <p:nvPr/>
        </p:nvSpPr>
        <p:spPr>
          <a:xfrm>
            <a:off x="4788000" y="2181240"/>
            <a:ext cx="129672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12"/>
          <p:cNvSpPr/>
          <p:nvPr/>
        </p:nvSpPr>
        <p:spPr>
          <a:xfrm>
            <a:off x="6299280" y="290196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13"/>
          <p:cNvSpPr/>
          <p:nvPr/>
        </p:nvSpPr>
        <p:spPr>
          <a:xfrm>
            <a:off x="5722920" y="31179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14"/>
          <p:cNvSpPr/>
          <p:nvPr/>
        </p:nvSpPr>
        <p:spPr>
          <a:xfrm>
            <a:off x="5435640" y="27576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15"/>
          <p:cNvSpPr/>
          <p:nvPr/>
        </p:nvSpPr>
        <p:spPr>
          <a:xfrm flipH="1">
            <a:off x="5506920" y="34783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6"/>
          <p:cNvSpPr/>
          <p:nvPr/>
        </p:nvSpPr>
        <p:spPr>
          <a:xfrm>
            <a:off x="5435640" y="3478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7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8"/>
          <p:cNvSpPr/>
          <p:nvPr/>
        </p:nvSpPr>
        <p:spPr>
          <a:xfrm>
            <a:off x="5870160" y="14112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9"/>
          <p:cNvSpPr/>
          <p:nvPr/>
        </p:nvSpPr>
        <p:spPr>
          <a:xfrm>
            <a:off x="1042920" y="5013360"/>
            <a:ext cx="93528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20"/>
          <p:cNvSpPr/>
          <p:nvPr/>
        </p:nvSpPr>
        <p:spPr>
          <a:xfrm>
            <a:off x="5292720" y="5013360"/>
            <a:ext cx="93492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B0E5-6F2A-4A38-B747-640321C3DEA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1117440" y="446076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A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A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5365440" y="443700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A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B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5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6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7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8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9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1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2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3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4"/>
          <p:cNvSpPr/>
          <p:nvPr/>
        </p:nvSpPr>
        <p:spPr>
          <a:xfrm>
            <a:off x="5292720" y="202716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M1 in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A’s (on which B is based) M1 is u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15"/>
          <p:cNvSpPr/>
          <p:nvPr/>
        </p:nvSpPr>
        <p:spPr>
          <a:xfrm>
            <a:off x="5651640" y="2962440"/>
            <a:ext cx="129672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6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7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: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18"/>
          <p:cNvSpPr/>
          <p:nvPr/>
        </p:nvSpPr>
        <p:spPr>
          <a:xfrm>
            <a:off x="1042920" y="5013360"/>
            <a:ext cx="93528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19"/>
          <p:cNvSpPr/>
          <p:nvPr/>
        </p:nvSpPr>
        <p:spPr>
          <a:xfrm>
            <a:off x="5292720" y="5013360"/>
            <a:ext cx="93492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ABFB-26DD-4A27-A129-860A2F79F56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5" name="AutoShape 5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6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7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8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9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1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2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3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4"/>
          <p:cNvSpPr/>
          <p:nvPr/>
        </p:nvSpPr>
        <p:spPr>
          <a:xfrm>
            <a:off x="5292720" y="200808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M1 in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A’s (on which B is based) M1 is u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15"/>
          <p:cNvSpPr/>
          <p:nvPr/>
        </p:nvSpPr>
        <p:spPr>
          <a:xfrm>
            <a:off x="5580000" y="2924280"/>
            <a:ext cx="15112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r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6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7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: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8"/>
          <p:cNvSpPr/>
          <p:nvPr/>
        </p:nvSpPr>
        <p:spPr>
          <a:xfrm>
            <a:off x="1117440" y="446076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A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A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9"/>
          <p:cNvSpPr/>
          <p:nvPr/>
        </p:nvSpPr>
        <p:spPr>
          <a:xfrm>
            <a:off x="5365440" y="443700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A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B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20"/>
          <p:cNvSpPr/>
          <p:nvPr/>
        </p:nvSpPr>
        <p:spPr>
          <a:xfrm>
            <a:off x="1042920" y="5013360"/>
            <a:ext cx="93528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21"/>
          <p:cNvSpPr/>
          <p:nvPr/>
        </p:nvSpPr>
        <p:spPr>
          <a:xfrm>
            <a:off x="5292720" y="5013360"/>
            <a:ext cx="93492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2"/>
          <p:cNvSpPr/>
          <p:nvPr/>
        </p:nvSpPr>
        <p:spPr>
          <a:xfrm>
            <a:off x="2055600" y="5589720"/>
            <a:ext cx="39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:M2 does not allow to be overridd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60AC-269F-4E08-9DB5-42B392316E1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22"/>
          <p:cNvSpPr/>
          <p:nvPr/>
        </p:nvSpPr>
        <p:spPr>
          <a:xfrm>
            <a:off x="5580000" y="2924280"/>
            <a:ext cx="15112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r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8" name="AutoShape 6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7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>
              <a:alpha val="3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M2: Overrid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I am A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8"/>
          <p:cNvSpPr/>
          <p:nvPr/>
        </p:nvSpPr>
        <p:spPr>
          <a:xfrm>
            <a:off x="1835280" y="314172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547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1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2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: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3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4"/>
          <p:cNvSpPr/>
          <p:nvPr/>
        </p:nvSpPr>
        <p:spPr>
          <a:xfrm>
            <a:off x="154764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15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5272200" y="202716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M1 in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A’s (on which B is based) M1 is u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17"/>
          <p:cNvSpPr/>
          <p:nvPr/>
        </p:nvSpPr>
        <p:spPr>
          <a:xfrm flipH="1">
            <a:off x="1547280" y="350028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1117440" y="446076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A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A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5365440" y="443700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B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B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20"/>
          <p:cNvSpPr/>
          <p:nvPr/>
        </p:nvSpPr>
        <p:spPr>
          <a:xfrm>
            <a:off x="1042920" y="5013360"/>
            <a:ext cx="93528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21"/>
          <p:cNvSpPr/>
          <p:nvPr/>
        </p:nvSpPr>
        <p:spPr>
          <a:xfrm>
            <a:off x="5292720" y="5013360"/>
            <a:ext cx="93492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23"/>
          <p:cNvSpPr/>
          <p:nvPr/>
        </p:nvSpPr>
        <p:spPr>
          <a:xfrm>
            <a:off x="1481040" y="5589720"/>
            <a:ext cx="634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:M2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o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llow to be overridden AND B wants to override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F9F8-A634-45CC-9BF1-886DB4D6190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6. Encapsul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Hides the underlying functionality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It conceals the exact details of how a particular class works from objects (external or internal) that use its cod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This allows to modify 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the internal implementation of a class without requiring changes to its services (i.e. methods).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F592-5BDD-4967-BB3A-69BA7F984F3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ample: a car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onsider a car: the functionality is hidden, it is encapsulated, you don’t see all the wiring inside, you’re only given specific controls to manipulate the car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55" name="Picture 4" descr="dash-wiring4"/>
          <p:cNvPicPr/>
          <p:nvPr/>
        </p:nvPicPr>
        <p:blipFill>
          <a:blip r:embed="rId1"/>
          <a:stretch/>
        </p:blipFill>
        <p:spPr>
          <a:xfrm>
            <a:off x="2195640" y="3284640"/>
            <a:ext cx="4608360" cy="307332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5" descr="closeddash1"/>
          <p:cNvPicPr/>
          <p:nvPr/>
        </p:nvPicPr>
        <p:blipFill>
          <a:blip r:embed="rId2"/>
          <a:stretch/>
        </p:blipFill>
        <p:spPr>
          <a:xfrm>
            <a:off x="2077920" y="3068640"/>
            <a:ext cx="4799160" cy="351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6BC2-91D4-4D9E-9268-A38270868B5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ncapsulation (access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allow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acce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a member there are various level definit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example, to expose a member you must use some syntax that will declare it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y default,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riv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the nor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334F-2F4E-4EF7-B97D-C596C2DC515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5"/>
          <p:cNvSpPr/>
          <p:nvPr/>
        </p:nvSpPr>
        <p:spPr>
          <a:xfrm>
            <a:off x="1908000" y="4214880"/>
            <a:ext cx="4969080" cy="1950840"/>
          </a:xfrm>
          <a:prstGeom prst="ellipse">
            <a:avLst/>
          </a:prstGeom>
          <a:solidFill>
            <a:srgbClr val="72b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24000" y="1517760"/>
            <a:ext cx="864072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Encapsulation: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privat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riv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mber cannot be seen from anywhere. Methods can only access it from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insid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he cla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sted or derived objects can't see it eith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8" name="Rectangle 4"/>
          <p:cNvSpPr/>
          <p:nvPr/>
        </p:nvSpPr>
        <p:spPr>
          <a:xfrm>
            <a:off x="3348000" y="4581360"/>
            <a:ext cx="2016000" cy="107964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n in t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te ar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6"/>
          <p:cNvSpPr/>
          <p:nvPr/>
        </p:nvSpPr>
        <p:spPr>
          <a:xfrm>
            <a:off x="4572000" y="4724280"/>
            <a:ext cx="647640" cy="287280"/>
          </a:xfrm>
          <a:prstGeom prst="rect">
            <a:avLst/>
          </a:prstGeom>
          <a:solidFill>
            <a:srgbClr val="72bfc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7"/>
          <p:cNvSpPr/>
          <p:nvPr/>
        </p:nvSpPr>
        <p:spPr>
          <a:xfrm>
            <a:off x="4572000" y="5229360"/>
            <a:ext cx="647640" cy="287280"/>
          </a:xfrm>
          <a:prstGeom prst="rect">
            <a:avLst/>
          </a:prstGeom>
          <a:solidFill>
            <a:srgbClr val="72bfc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F032-135C-46B6-864F-49330CA57FC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Another to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bject Orientation is another tool for programmers. Users won’t see any differenc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a way for programmers to simplify their lives by supplying each other with already made objects (almost) ready to us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0641-E62F-4CF6-8918-98B7ECCC578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24000" y="1517760"/>
            <a:ext cx="864072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Encapsulation: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privat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209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alogy names are private in a D-f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09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←{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z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←99 ⋄ b ⍵}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09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     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b←{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z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+⍵}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09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     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 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09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VALUE ERR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09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b[0] b←{z+⍵}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09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      ∧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09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7515-869C-48A9-9451-0300F627549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40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Encapsulation: protected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protect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mber can only be seen from within the instance of from nested or derived object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1" name="Oval 4"/>
          <p:cNvSpPr/>
          <p:nvPr/>
        </p:nvSpPr>
        <p:spPr>
          <a:xfrm>
            <a:off x="1908000" y="4221000"/>
            <a:ext cx="4969080" cy="1872000"/>
          </a:xfrm>
          <a:prstGeom prst="ellipse">
            <a:avLst/>
          </a:prstGeom>
          <a:solidFill>
            <a:srgbClr val="72b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3348000" y="4581360"/>
            <a:ext cx="2016000" cy="107964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n in t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te ar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6"/>
          <p:cNvSpPr/>
          <p:nvPr/>
        </p:nvSpPr>
        <p:spPr>
          <a:xfrm>
            <a:off x="4572000" y="4724280"/>
            <a:ext cx="647640" cy="2872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7"/>
          <p:cNvSpPr/>
          <p:nvPr/>
        </p:nvSpPr>
        <p:spPr>
          <a:xfrm>
            <a:off x="4572000" y="5229360"/>
            <a:ext cx="647640" cy="2872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1590-7771-4BC3-9BDD-D54B128FD43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40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Encapsulation: protected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alogy names are protected in a T-func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     ∇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r←a x;</a:t>
            </a: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z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[1]  </a:t>
            </a: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z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←99 ⋄ r←b x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     ∇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     ∇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r←b x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[1]  r←</a:t>
            </a: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z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+x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     ∇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    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a 2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101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C802-620B-449B-8E34-798FF1C2CEE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6407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Encapsulation: public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mber can be seen from anywhere. All Methods can access it from anywhere whether it is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 shar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r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 instan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5" name="Oval 4"/>
          <p:cNvSpPr/>
          <p:nvPr/>
        </p:nvSpPr>
        <p:spPr>
          <a:xfrm>
            <a:off x="1908000" y="4221000"/>
            <a:ext cx="4969080" cy="18720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5"/>
          <p:cNvSpPr/>
          <p:nvPr/>
        </p:nvSpPr>
        <p:spPr>
          <a:xfrm>
            <a:off x="3348000" y="4581360"/>
            <a:ext cx="2016000" cy="107964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 is se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all t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le ar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6"/>
          <p:cNvSpPr/>
          <p:nvPr/>
        </p:nvSpPr>
        <p:spPr>
          <a:xfrm>
            <a:off x="4572000" y="4724280"/>
            <a:ext cx="647640" cy="2872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7"/>
          <p:cNvSpPr/>
          <p:nvPr/>
        </p:nvSpPr>
        <p:spPr>
          <a:xfrm>
            <a:off x="4572000" y="5229360"/>
            <a:ext cx="647640" cy="2872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BED1-F690-4AB1-A7BC-D3BAE6A4B36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407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Encapsulation: friend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class declared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frie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can see the offerer’s private and public member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4" name="AutoShape 14"/>
          <p:cNvSpPr/>
          <p:nvPr/>
        </p:nvSpPr>
        <p:spPr>
          <a:xfrm>
            <a:off x="5508720" y="4149720"/>
            <a:ext cx="2160360" cy="1727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vate Bp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blic Bp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iend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20"/>
          <p:cNvSpPr/>
          <p:nvPr/>
        </p:nvSpPr>
        <p:spPr>
          <a:xfrm>
            <a:off x="1890360" y="35211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21"/>
          <p:cNvSpPr/>
          <p:nvPr/>
        </p:nvSpPr>
        <p:spPr>
          <a:xfrm>
            <a:off x="5870160" y="35002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utoShape 22"/>
          <p:cNvSpPr/>
          <p:nvPr/>
        </p:nvSpPr>
        <p:spPr>
          <a:xfrm>
            <a:off x="1547640" y="4148280"/>
            <a:ext cx="2160720" cy="936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vate Ap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blic Ap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23"/>
          <p:cNvSpPr/>
          <p:nvPr/>
        </p:nvSpPr>
        <p:spPr>
          <a:xfrm>
            <a:off x="5508720" y="472428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24"/>
          <p:cNvSpPr/>
          <p:nvPr/>
        </p:nvSpPr>
        <p:spPr>
          <a:xfrm flipH="1">
            <a:off x="3595680" y="4508640"/>
            <a:ext cx="2200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25"/>
          <p:cNvSpPr/>
          <p:nvPr/>
        </p:nvSpPr>
        <p:spPr>
          <a:xfrm flipH="1" flipV="1">
            <a:off x="3564000" y="4724280"/>
            <a:ext cx="2233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26"/>
          <p:cNvSpPr/>
          <p:nvPr/>
        </p:nvSpPr>
        <p:spPr>
          <a:xfrm>
            <a:off x="919800" y="5270400"/>
            <a:ext cx="372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re A sees B’s memb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its own memb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582A-4385-4448-940B-19B61766412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24000" y="17334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7. Polymorphism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t is behavior that allows a single definition to be used with different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type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of data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is a way to call various sections of code using the same nam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yped languages can tell the difference by looking at the “signature” of the functions (their number of arguments and their types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7301-3F19-4F43-BCBA-FC33F714A75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24000" y="1442880"/>
            <a:ext cx="8640720" cy="8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Polymorphism exampl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2" name="Text Box 4"/>
          <p:cNvSpPr/>
          <p:nvPr/>
        </p:nvSpPr>
        <p:spPr>
          <a:xfrm>
            <a:off x="539640" y="2284560"/>
            <a:ext cx="3600720" cy="3018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o (integer ar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/ fn called wi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/ an integer ar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t 42 //“Int arg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5"/>
          <p:cNvSpPr/>
          <p:nvPr/>
        </p:nvSpPr>
        <p:spPr>
          <a:xfrm>
            <a:off x="4788000" y="2284560"/>
            <a:ext cx="3600360" cy="3018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o (string ar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/ fn called wi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/ a string ar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t “String arg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7"/>
          <p:cNvSpPr/>
          <p:nvPr/>
        </p:nvSpPr>
        <p:spPr>
          <a:xfrm>
            <a:off x="1621440" y="5430960"/>
            <a:ext cx="580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me function name, different co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FAA4-C56B-4589-8625-49560F79EB0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24000" y="1442880"/>
            <a:ext cx="8640720" cy="8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Polymorphism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0" name="Text Box 6"/>
          <p:cNvSpPr/>
          <p:nvPr/>
        </p:nvSpPr>
        <p:spPr>
          <a:xfrm>
            <a:off x="395280" y="2122560"/>
            <a:ext cx="799308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rogram that accepts multiple defini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said to b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overloaded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sic language example: + is used to add and caten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t 2+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t ‘aaa’+’bbb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aabb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6A37-3493-49FF-940A-F30B63DBA2F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24000" y="1658520"/>
            <a:ext cx="864072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More concept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6" name="Text Box 4"/>
          <p:cNvSpPr/>
          <p:nvPr/>
        </p:nvSpPr>
        <p:spPr>
          <a:xfrm>
            <a:off x="395280" y="2717640"/>
            <a:ext cx="842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are many more concep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ose presented here are the most common on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ample,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ast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not an OO concept but it is often us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390E-87CE-4D56-AF3E-1383760AEFB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OO C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ncepts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 Summar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68000" y="170136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O is based on +-7 key concep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 are blueprin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stances are objects created from clas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contain members (data &amp; code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ir access is restrict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relation between classes is based on inheritance and/or specific acce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What is an object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 object contains </a:t>
            </a:r>
            <a:r>
              <a:rPr b="1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data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 </a:t>
            </a:r>
            <a:r>
              <a:rPr b="0" lang="en-GB" sz="2400" spc="-1" strike="noStrike" u="sng">
                <a:solidFill>
                  <a:srgbClr val="333333"/>
                </a:solidFill>
                <a:uFillTx/>
                <a:latin typeface="Geneva"/>
              </a:rPr>
              <a:t>and </a:t>
            </a:r>
            <a:r>
              <a:rPr b="0" i="1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code to handle 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.g. Name and surname and a function to show them nice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4A53-0744-4FBD-AC8D-105BD2F7C13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8DC8-EA51-4AD3-B21B-2E39095398C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nd of OO basic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131640" y="2719440"/>
            <a:ext cx="2590920" cy="27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QUES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200" spc="-1" strike="noStrike">
                <a:solidFill>
                  <a:srgbClr val="333333"/>
                </a:solidFill>
                <a:latin typeface="Geneva"/>
              </a:rPr>
              <a:t>?</a:t>
            </a:r>
            <a:endParaRPr b="0" lang="en-US" sz="1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59BF-D69E-40B2-B1B9-D68D250495B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WordArt 5"/>
          <p:cNvSpPr txBox="1"/>
          <p:nvPr/>
        </p:nvSpPr>
        <p:spPr>
          <a:xfrm>
            <a:off x="900000" y="1844640"/>
            <a:ext cx="727236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The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Dyalog APL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way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3F20-BA7A-4D30-9302-12FB946F866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061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alog follows C# rules close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extensions to the language have been made in following with the </a:t>
            </a:r>
            <a:r>
              <a:rPr b="1" lang="en-GB" sz="3200" spc="-1" strike="noStrike">
                <a:solidFill>
                  <a:srgbClr val="99cc00"/>
                </a:solidFill>
                <a:latin typeface="Geneva"/>
              </a:rPr>
              <a:t>: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Keyword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scheme introduced in the 90s (All new keywords start with ‘</a:t>
            </a:r>
            <a:r>
              <a:rPr b="1" lang="en-GB" sz="3200" spc="-1" strike="noStrike">
                <a:solidFill>
                  <a:srgbClr val="99cc00"/>
                </a:solidFill>
                <a:latin typeface="Geneva"/>
              </a:rPr>
              <a:t>: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’ 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ome new system functions have been added an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ome new system command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72FC-AE20-452F-89C5-BD67A2765CF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731960"/>
            <a:ext cx="798984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et’s see how Dyalog APL does thi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1" name="Text Box 4"/>
          <p:cNvSpPr/>
          <p:nvPr/>
        </p:nvSpPr>
        <p:spPr>
          <a:xfrm>
            <a:off x="2554200" y="2589120"/>
            <a:ext cx="4681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 and interfa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anc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ssage pas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6725-6406-468F-A4E4-AB1BF9A9A41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1690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class can be defined using the )EDitor as i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)ED ○ MyCla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pon exiting, MyClass will be defined in the current namespace (e.g. #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67" name="Picture 4" descr=""/>
          <p:cNvPicPr/>
          <p:nvPr/>
        </p:nvPicPr>
        <p:blipFill>
          <a:blip r:embed="rId1"/>
          <a:stretch/>
        </p:blipFill>
        <p:spPr>
          <a:xfrm>
            <a:off x="5075280" y="2357280"/>
            <a:ext cx="3313080" cy="28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D5FB-DEFD-445E-A379-4335882C8B5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the workspac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MyCla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ppears as a namespac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NC ‘MyClass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9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)CLAS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MyCla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1270-B6B8-4D06-8F63-515A11A6797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membe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members in a class a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Fiel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 same as a variab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Metho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 same as a func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Propert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 looks and feels like a variable but implemented as a (pair of) func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ll can be either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publi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r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priv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the default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BE32-7972-4977-A31B-FDC2B963199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membe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50560" y="1701720"/>
            <a:ext cx="3313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lass to the right shows a few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field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vars) and their acce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acce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the same for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method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fns) and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properti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783" name="Group 10"/>
          <p:cNvGrpSpPr/>
          <p:nvPr/>
        </p:nvGrpSpPr>
        <p:grpSpPr>
          <a:xfrm>
            <a:off x="3635280" y="1933560"/>
            <a:ext cx="5268960" cy="4232160"/>
            <a:chOff x="3635280" y="1933560"/>
            <a:chExt cx="5268960" cy="4232160"/>
          </a:xfrm>
        </p:grpSpPr>
        <p:pic>
          <p:nvPicPr>
            <p:cNvPr id="784" name="Picture 6" descr=""/>
            <p:cNvPicPr/>
            <p:nvPr/>
          </p:nvPicPr>
          <p:blipFill>
            <a:blip r:embed="rId1"/>
            <a:stretch/>
          </p:blipFill>
          <p:spPr>
            <a:xfrm>
              <a:off x="3635280" y="1933560"/>
              <a:ext cx="5268960" cy="423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Rectangle 7"/>
            <p:cNvSpPr/>
            <p:nvPr/>
          </p:nvSpPr>
          <p:spPr>
            <a:xfrm>
              <a:off x="5419440" y="4319280"/>
              <a:ext cx="792360" cy="82872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8"/>
            <p:cNvSpPr/>
            <p:nvPr/>
          </p:nvSpPr>
          <p:spPr>
            <a:xfrm>
              <a:off x="5448240" y="3878280"/>
              <a:ext cx="180000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9"/>
            <p:cNvSpPr/>
            <p:nvPr/>
          </p:nvSpPr>
          <p:spPr>
            <a:xfrm>
              <a:off x="6211800" y="4929120"/>
              <a:ext cx="71892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8AE9-38F0-47AA-BB17-19A8B47F870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membe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3168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class to the right shows a few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method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(fns) and their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acces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&lt;mon1&gt; is used as a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constructor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. It MUST be public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793" name="Group 9"/>
          <p:cNvGrpSpPr/>
          <p:nvPr/>
        </p:nvGrpSpPr>
        <p:grpSpPr>
          <a:xfrm>
            <a:off x="4459320" y="1557360"/>
            <a:ext cx="4289400" cy="4608360"/>
            <a:chOff x="4459320" y="1557360"/>
            <a:chExt cx="4289400" cy="4608360"/>
          </a:xfrm>
        </p:grpSpPr>
        <p:pic>
          <p:nvPicPr>
            <p:cNvPr id="794" name="Picture 5" descr=""/>
            <p:cNvPicPr/>
            <p:nvPr/>
          </p:nvPicPr>
          <p:blipFill>
            <a:blip r:embed="rId1"/>
            <a:stretch/>
          </p:blipFill>
          <p:spPr>
            <a:xfrm>
              <a:off x="4459320" y="1557360"/>
              <a:ext cx="4289400" cy="46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Rectangle 6"/>
            <p:cNvSpPr/>
            <p:nvPr/>
          </p:nvSpPr>
          <p:spPr>
            <a:xfrm>
              <a:off x="5600880" y="3601800"/>
              <a:ext cx="215892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7"/>
            <p:cNvSpPr/>
            <p:nvPr/>
          </p:nvSpPr>
          <p:spPr>
            <a:xfrm>
              <a:off x="5599080" y="4336920"/>
              <a:ext cx="1944720" cy="21528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8"/>
            <p:cNvSpPr/>
            <p:nvPr/>
          </p:nvSpPr>
          <p:spPr>
            <a:xfrm>
              <a:off x="5599080" y="3420720"/>
              <a:ext cx="1368360" cy="18072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4995-750B-4065-9157-59EF83AEACE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membe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2560" y="1557000"/>
            <a:ext cx="3168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class to the right shows 2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propertie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and their acces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1</a:t>
            </a:r>
            <a:r>
              <a:rPr b="0" lang="en-GB" sz="28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one is private and readonly (it has no </a:t>
            </a:r>
            <a:r>
              <a:rPr b="0" i="1" lang="en-GB" sz="2800" spc="-1" strike="noStrike">
                <a:solidFill>
                  <a:srgbClr val="99cc00"/>
                </a:solidFill>
                <a:latin typeface="Geneva"/>
              </a:rPr>
              <a:t>se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fn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2</a:t>
            </a:r>
            <a:r>
              <a:rPr b="0" lang="en-GB" sz="28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one is public read/writ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803" name="Group 9"/>
          <p:cNvGrpSpPr/>
          <p:nvPr/>
        </p:nvGrpSpPr>
        <p:grpSpPr>
          <a:xfrm>
            <a:off x="4776840" y="1557360"/>
            <a:ext cx="3682800" cy="4608360"/>
            <a:chOff x="4776840" y="1557360"/>
            <a:chExt cx="3682800" cy="4608360"/>
          </a:xfrm>
        </p:grpSpPr>
        <p:pic>
          <p:nvPicPr>
            <p:cNvPr id="804" name="Picture 5" descr=""/>
            <p:cNvPicPr/>
            <p:nvPr/>
          </p:nvPicPr>
          <p:blipFill>
            <a:blip r:embed="rId1"/>
            <a:stretch/>
          </p:blipFill>
          <p:spPr>
            <a:xfrm>
              <a:off x="4776840" y="1557360"/>
              <a:ext cx="3682800" cy="46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5" name="Rectangle 6"/>
            <p:cNvSpPr/>
            <p:nvPr/>
          </p:nvSpPr>
          <p:spPr>
            <a:xfrm>
              <a:off x="5640120" y="2421000"/>
              <a:ext cx="2520720" cy="865080"/>
            </a:xfrm>
            <a:prstGeom prst="rect">
              <a:avLst/>
            </a:prstGeom>
            <a:solidFill>
              <a:srgbClr val="ff0000">
                <a:alpha val="3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7"/>
            <p:cNvSpPr/>
            <p:nvPr/>
          </p:nvSpPr>
          <p:spPr>
            <a:xfrm>
              <a:off x="5640120" y="3429000"/>
              <a:ext cx="2520720" cy="2160360"/>
            </a:xfrm>
            <a:prstGeom prst="rect">
              <a:avLst/>
            </a:prstGeom>
            <a:solidFill>
              <a:srgbClr val="ff0000">
                <a:alpha val="3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8"/>
            <p:cNvSpPr/>
            <p:nvPr/>
          </p:nvSpPr>
          <p:spPr>
            <a:xfrm>
              <a:off x="5713200" y="3573360"/>
              <a:ext cx="115056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name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rom the beginning APL had this kind of notion in the form of the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Namespace = Workspace?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0050-41D0-4A41-B433-BB070E81447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C8BF-74AA-4B5B-A1CC-F960458857B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/>
          </p:nvPr>
        </p:nvSpPr>
        <p:spPr>
          <a:xfrm>
            <a:off x="614160" y="1589040"/>
            <a:ext cx="8134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 are like blueprints: they define how things should b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NEW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is a new system function that creates an object using a class as an instance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atever is in the class will appear in the instance as a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op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, not a refere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stan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DD9D-2539-48FF-BE36-941435C2168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/>
          </p:nvPr>
        </p:nvSpPr>
        <p:spPr>
          <a:xfrm>
            <a:off x="685440" y="1874520"/>
            <a:ext cx="813420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NEW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ccepts a one or two elements argumen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1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ne is the class (not in quotes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2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, if present, is what to start/initialize the instance with. It can only be supplied if the class allow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title"/>
          </p:nvPr>
        </p:nvSpPr>
        <p:spPr>
          <a:xfrm>
            <a:off x="685800" y="566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⎕N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619A-B958-445F-9D82-0E9EE31D056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/>
          </p:nvPr>
        </p:nvSpPr>
        <p:spPr>
          <a:xfrm>
            <a:off x="685440" y="1733400"/>
            <a:ext cx="8134200" cy="43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myInstance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← ⎕NEW 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MyClas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display form includes [brackets] by defaul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myInstanc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#.[MyClass]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t is another type of namespac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⎕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NC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‘myInstance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9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⎕N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5EE5-5750-4A5E-8F30-98762DD0777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/>
          </p:nvPr>
        </p:nvSpPr>
        <p:spPr>
          <a:xfrm>
            <a:off x="685440" y="1733400"/>
            <a:ext cx="8134200" cy="43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F allows to change the default Display Form of a namespac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⎕←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obj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←⎕NEW 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MyClas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#.[MyClass]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obj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.⎕DF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‘OO class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obj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OO clas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⎕DF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4214-7699-4A2D-98AA-9F28C993B29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/>
          </p:nvPr>
        </p:nvSpPr>
        <p:spPr>
          <a:xfrm>
            <a:off x="323640" y="1587240"/>
            <a:ext cx="8134200" cy="17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lasses may require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something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to initialize the instance. Ex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)ED ○ Anima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title"/>
          </p:nvPr>
        </p:nvSpPr>
        <p:spPr>
          <a:xfrm>
            <a:off x="323640" y="58104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constructo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3" name="Text Box 5"/>
          <p:cNvSpPr/>
          <p:nvPr/>
        </p:nvSpPr>
        <p:spPr>
          <a:xfrm>
            <a:off x="166680" y="3506760"/>
            <a:ext cx="4151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re a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nim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u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at least tw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 of le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ounds it mak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4" name="Group 8"/>
          <p:cNvGrpSpPr/>
          <p:nvPr/>
        </p:nvGrpSpPr>
        <p:grpSpPr>
          <a:xfrm>
            <a:off x="4500720" y="2440080"/>
            <a:ext cx="4248000" cy="3652920"/>
            <a:chOff x="4500720" y="2440080"/>
            <a:chExt cx="4248000" cy="3652920"/>
          </a:xfrm>
        </p:grpSpPr>
        <p:pic>
          <p:nvPicPr>
            <p:cNvPr id="835" name="Picture 4" descr=""/>
            <p:cNvPicPr/>
            <p:nvPr/>
          </p:nvPicPr>
          <p:blipFill>
            <a:blip r:embed="rId1"/>
            <a:stretch/>
          </p:blipFill>
          <p:spPr>
            <a:xfrm>
              <a:off x="4500720" y="2440080"/>
              <a:ext cx="4248000" cy="365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Rectangle 6"/>
            <p:cNvSpPr/>
            <p:nvPr/>
          </p:nvSpPr>
          <p:spPr>
            <a:xfrm>
              <a:off x="5651640" y="3616560"/>
              <a:ext cx="2233800" cy="36036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7"/>
            <p:cNvSpPr/>
            <p:nvPr/>
          </p:nvSpPr>
          <p:spPr>
            <a:xfrm>
              <a:off x="5437440" y="4743720"/>
              <a:ext cx="2016000" cy="36036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07B6-4A21-41FA-AA21-D5A9E57C3AE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/>
          </p:nvPr>
        </p:nvSpPr>
        <p:spPr>
          <a:xfrm>
            <a:off x="323640" y="1587240"/>
            <a:ext cx="8134200" cy="17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everal instances can be made up of the same Animal clas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title"/>
          </p:nvPr>
        </p:nvSpPr>
        <p:spPr>
          <a:xfrm>
            <a:off x="323640" y="49356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constructo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43" name="Picture 6" descr=""/>
          <p:cNvPicPr/>
          <p:nvPr/>
        </p:nvPicPr>
        <p:blipFill>
          <a:blip r:embed="rId1"/>
          <a:stretch/>
        </p:blipFill>
        <p:spPr>
          <a:xfrm>
            <a:off x="3429000" y="2135160"/>
            <a:ext cx="5175360" cy="2293920"/>
          </a:xfrm>
          <a:prstGeom prst="rect">
            <a:avLst/>
          </a:prstGeom>
          <a:ln w="0">
            <a:noFill/>
          </a:ln>
        </p:spPr>
      </p:pic>
      <p:sp>
        <p:nvSpPr>
          <p:cNvPr id="844" name="Text Box 7"/>
          <p:cNvSpPr/>
          <p:nvPr/>
        </p:nvSpPr>
        <p:spPr>
          <a:xfrm>
            <a:off x="167040" y="2930400"/>
            <a:ext cx="856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running th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 in a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ace we hav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)o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fish monkey snake tiger Anim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⎕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NC ‘animals’   ⍝ this is a variable holding 4 inst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animals.Nlegs   ⍝ how many legs for each animal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4 0 0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5346-6C58-4532-B6B9-72392865860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79280" y="566640"/>
            <a:ext cx="8856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message passing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APL this merely consists in calling the methods directly either from the instance or from the class if shared, e.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Myclass.sharedFn   arg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myInstance.Fn   args ⍝ args if requir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ED00-6BD3-4359-B151-FB89E738049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95280" y="566640"/>
            <a:ext cx="8569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3516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ased class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lang="en-GB" sz="2800" spc="-1" strike="noStrike">
                <a:solidFill>
                  <a:srgbClr val="00ccff"/>
                </a:solidFill>
                <a:latin typeface="Geneva"/>
              </a:rPr>
              <a:t>clas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an be based on another based class. See </a:t>
            </a:r>
            <a:r>
              <a:rPr b="0" lang="en-GB" sz="2800" spc="-1" strike="noStrike">
                <a:solidFill>
                  <a:srgbClr val="00ccff"/>
                </a:solidFill>
                <a:latin typeface="Geneva"/>
              </a:rPr>
              <a:t>clas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Collie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ased on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 Dog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ased on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 Anima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855" name="Group 21"/>
          <p:cNvGrpSpPr/>
          <p:nvPr/>
        </p:nvGrpSpPr>
        <p:grpSpPr>
          <a:xfrm>
            <a:off x="179280" y="3359160"/>
            <a:ext cx="8353440" cy="2806200"/>
            <a:chOff x="179280" y="3359160"/>
            <a:chExt cx="8353440" cy="2806200"/>
          </a:xfrm>
        </p:grpSpPr>
        <p:sp>
          <p:nvSpPr>
            <p:cNvPr id="856" name="Rectangle 4"/>
            <p:cNvSpPr/>
            <p:nvPr/>
          </p:nvSpPr>
          <p:spPr>
            <a:xfrm>
              <a:off x="684360" y="4366800"/>
              <a:ext cx="158400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nima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Rectangle 5"/>
            <p:cNvSpPr/>
            <p:nvPr/>
          </p:nvSpPr>
          <p:spPr>
            <a:xfrm>
              <a:off x="2771640" y="3574800"/>
              <a:ext cx="158436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og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: Anima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6"/>
            <p:cNvSpPr/>
            <p:nvPr/>
          </p:nvSpPr>
          <p:spPr>
            <a:xfrm>
              <a:off x="6948360" y="5157360"/>
              <a:ext cx="1584360" cy="100800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ex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(Collie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Rectangle 7"/>
            <p:cNvSpPr/>
            <p:nvPr/>
          </p:nvSpPr>
          <p:spPr>
            <a:xfrm>
              <a:off x="2771640" y="4943160"/>
              <a:ext cx="158436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sh: Anima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Rectangle 8"/>
            <p:cNvSpPr/>
            <p:nvPr/>
          </p:nvSpPr>
          <p:spPr>
            <a:xfrm>
              <a:off x="6948360" y="4006440"/>
              <a:ext cx="1584360" cy="100800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do (Collie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Rectangle 10"/>
            <p:cNvSpPr/>
            <p:nvPr/>
          </p:nvSpPr>
          <p:spPr>
            <a:xfrm>
              <a:off x="4859280" y="4727160"/>
              <a:ext cx="158436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ollie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: Dog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2" name="AutoShape 11"/>
            <p:cNvCxnSpPr>
              <a:stCxn id="856" idx="3"/>
              <a:endCxn id="857" idx="1"/>
            </p:cNvCxnSpPr>
            <p:nvPr/>
          </p:nvCxnSpPr>
          <p:spPr>
            <a:xfrm flipV="1">
              <a:off x="2268360" y="4079160"/>
              <a:ext cx="504000" cy="792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3" name="AutoShape 12"/>
            <p:cNvCxnSpPr>
              <a:stCxn id="856" idx="3"/>
              <a:endCxn id="859" idx="1"/>
            </p:cNvCxnSpPr>
            <p:nvPr/>
          </p:nvCxnSpPr>
          <p:spPr>
            <a:xfrm>
              <a:off x="2268360" y="4871520"/>
              <a:ext cx="504000" cy="57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4" name="AutoShape 13"/>
            <p:cNvCxnSpPr>
              <a:stCxn id="857" idx="3"/>
              <a:endCxn id="865" idx="1"/>
            </p:cNvCxnSpPr>
            <p:nvPr/>
          </p:nvCxnSpPr>
          <p:spPr>
            <a:xfrm flipV="1">
              <a:off x="4355640" y="3863520"/>
              <a:ext cx="361080" cy="216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6" name="AutoShape 14"/>
            <p:cNvCxnSpPr>
              <a:stCxn id="857" idx="3"/>
              <a:endCxn id="861" idx="1"/>
            </p:cNvCxnSpPr>
            <p:nvPr/>
          </p:nvCxnSpPr>
          <p:spPr>
            <a:xfrm>
              <a:off x="4356000" y="4079160"/>
              <a:ext cx="504000" cy="1152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7" name="AutoShape 15"/>
            <p:cNvCxnSpPr>
              <a:stCxn id="861" idx="3"/>
              <a:endCxn id="860" idx="1"/>
            </p:cNvCxnSpPr>
            <p:nvPr/>
          </p:nvCxnSpPr>
          <p:spPr>
            <a:xfrm flipV="1">
              <a:off x="6443640" y="4510800"/>
              <a:ext cx="505440" cy="72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8" name="AutoShape 16"/>
            <p:cNvCxnSpPr>
              <a:stCxn id="861" idx="3"/>
              <a:endCxn id="858" idx="1"/>
            </p:cNvCxnSpPr>
            <p:nvPr/>
          </p:nvCxnSpPr>
          <p:spPr>
            <a:xfrm>
              <a:off x="6443640" y="5232240"/>
              <a:ext cx="505440" cy="430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69" name="Text Box 17"/>
            <p:cNvSpPr/>
            <p:nvPr/>
          </p:nvSpPr>
          <p:spPr>
            <a:xfrm>
              <a:off x="7021800" y="354924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bfd87"/>
                  </a:solidFill>
                  <a:latin typeface="Arial"/>
                </a:rPr>
                <a:t>Instance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Text Box 18"/>
            <p:cNvSpPr/>
            <p:nvPr/>
          </p:nvSpPr>
          <p:spPr>
            <a:xfrm>
              <a:off x="3051000" y="4546440"/>
              <a:ext cx="108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ccff"/>
                  </a:solidFill>
                  <a:latin typeface="Arial"/>
                </a:rPr>
                <a:t>Classe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Line 19"/>
            <p:cNvSpPr/>
            <p:nvPr/>
          </p:nvSpPr>
          <p:spPr>
            <a:xfrm>
              <a:off x="179280" y="48700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20"/>
            <p:cNvSpPr/>
            <p:nvPr/>
          </p:nvSpPr>
          <p:spPr>
            <a:xfrm>
              <a:off x="4716360" y="3359160"/>
              <a:ext cx="194472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reat Dane: Dog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B042-A1E4-4C1F-82C0-3D10A74C4A7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/>
          </p:nvPr>
        </p:nvSpPr>
        <p:spPr>
          <a:xfrm>
            <a:off x="323640" y="1803240"/>
            <a:ext cx="8134200" cy="8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marL="1166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Example: a bird’s generic description is ‘plain Bird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116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Birdy←⎕NEW Bir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116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Birdy.Desc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116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plain Bir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title"/>
          </p:nvPr>
        </p:nvSpPr>
        <p:spPr>
          <a:xfrm>
            <a:off x="468360" y="566640"/>
            <a:ext cx="8207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877" name="Group 27"/>
          <p:cNvGrpSpPr/>
          <p:nvPr/>
        </p:nvGrpSpPr>
        <p:grpSpPr>
          <a:xfrm>
            <a:off x="754200" y="4149720"/>
            <a:ext cx="3888720" cy="1008000"/>
            <a:chOff x="754200" y="4149720"/>
            <a:chExt cx="3888720" cy="1008000"/>
          </a:xfrm>
        </p:grpSpPr>
        <p:sp>
          <p:nvSpPr>
            <p:cNvPr id="878" name="Rectangle 4"/>
            <p:cNvSpPr/>
            <p:nvPr/>
          </p:nvSpPr>
          <p:spPr>
            <a:xfrm>
              <a:off x="1114200" y="4149720"/>
              <a:ext cx="158400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ir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9" name="AutoShape 12"/>
            <p:cNvCxnSpPr>
              <a:stCxn id="878" idx="3"/>
              <a:endCxn id="880" idx="1"/>
            </p:cNvCxnSpPr>
            <p:nvPr/>
          </p:nvCxnSpPr>
          <p:spPr>
            <a:xfrm>
              <a:off x="2698560" y="4654080"/>
              <a:ext cx="360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80" name="Rectangle 19"/>
            <p:cNvSpPr/>
            <p:nvPr/>
          </p:nvSpPr>
          <p:spPr>
            <a:xfrm>
              <a:off x="3058920" y="4149720"/>
              <a:ext cx="1584000" cy="100800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irdy (Bird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Line 20"/>
            <p:cNvSpPr/>
            <p:nvPr/>
          </p:nvSpPr>
          <p:spPr>
            <a:xfrm>
              <a:off x="754200" y="4654440"/>
              <a:ext cx="36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2" name="Rectangle 23"/>
          <p:cNvSpPr/>
          <p:nvPr/>
        </p:nvSpPr>
        <p:spPr>
          <a:xfrm>
            <a:off x="324000" y="3573360"/>
            <a:ext cx="1511280" cy="50328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3" name="Group 26"/>
          <p:cNvGrpSpPr/>
          <p:nvPr/>
        </p:nvGrpSpPr>
        <p:grpSpPr>
          <a:xfrm>
            <a:off x="4932360" y="2749680"/>
            <a:ext cx="3887640" cy="2766960"/>
            <a:chOff x="4932360" y="2749680"/>
            <a:chExt cx="3887640" cy="2766960"/>
          </a:xfrm>
        </p:grpSpPr>
        <p:pic>
          <p:nvPicPr>
            <p:cNvPr id="884" name="Picture 22" descr=""/>
            <p:cNvPicPr/>
            <p:nvPr/>
          </p:nvPicPr>
          <p:blipFill>
            <a:blip r:embed="rId1"/>
            <a:stretch/>
          </p:blipFill>
          <p:spPr>
            <a:xfrm>
              <a:off x="4932360" y="2749680"/>
              <a:ext cx="3887640" cy="27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Rectangle 24"/>
            <p:cNvSpPr/>
            <p:nvPr/>
          </p:nvSpPr>
          <p:spPr>
            <a:xfrm>
              <a:off x="6661080" y="4314960"/>
              <a:ext cx="1224000" cy="288720"/>
            </a:xfrm>
            <a:prstGeom prst="rect">
              <a:avLst/>
            </a:prstGeom>
            <a:solidFill>
              <a:srgbClr val="ff00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6" name="Text Box 25"/>
          <p:cNvSpPr/>
          <p:nvPr/>
        </p:nvSpPr>
        <p:spPr>
          <a:xfrm>
            <a:off x="591840" y="5573880"/>
            <a:ext cx="80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Birdy is created, Bird’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construc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call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6063-CE24-48AE-A796-3C0058EAC8B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/>
          </p:nvPr>
        </p:nvSpPr>
        <p:spPr>
          <a:xfrm>
            <a:off x="323640" y="1699920"/>
            <a:ext cx="81342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a base class has a constructor it must be call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ase constructors are called when the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:Implements constructor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statement is reach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several classes are based one on another their constructors’ call are made in the same fash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title"/>
          </p:nvPr>
        </p:nvSpPr>
        <p:spPr>
          <a:xfrm>
            <a:off x="468360" y="637920"/>
            <a:ext cx="8207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02:30:52Z</dcterms:created>
  <dc:creator>DanB</dc:creator>
  <dc:description/>
  <dc:language>en-US</dc:language>
  <cp:lastModifiedBy>danb</cp:lastModifiedBy>
  <dcterms:modified xsi:type="dcterms:W3CDTF">2011-09-02T01:53:25Z</dcterms:modified>
  <cp:revision>614</cp:revision>
  <dc:subject/>
  <dc:title>OO Obj OR pgm</dc:title>
</cp:coreProperties>
</file>