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6FA-18F3-4292-A8FB-3295A323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2CA3-6CBF-444D-B1BD-2240F24E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EE0-007C-4FBA-A9B2-730D1A19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32A1-7178-461A-96C9-18C60E05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B906-73D6-4E1A-A91B-838B0E8C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E6F-88DB-47AE-918B-54011E91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117-07CD-487E-AD98-97BA01E8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DC9-65A9-49C5-A7FD-A771803F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6CD-CAFB-454A-8E13-7762E9E2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F77-8BC5-4B03-A1C4-FFE753E62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257D-578F-4CAB-A6A8-34C0E806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EC4-0846-4A3C-9DC6-7A98190C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15B0-A94D-4F70-A548-1238389B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C7F-EE5B-4C84-B1FD-C1146F16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DB09-5E65-45DE-91FA-C524F1D9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0A4-6ECF-45FD-9F60-C1713020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0DD-91E6-4D93-8D13-F248C47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695-48F9-452A-BE83-E3370050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1AA-3896-4D14-9416-E1B55A79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E8C-FE35-45B4-B8C7-691EC33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A49-AE3A-4674-9939-F8C75E2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F27-8F87-4A88-B1E5-728A4FF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2F5-07AA-45B4-9E8C-851A696B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D31-DD1A-4311-87A2-23E040A7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571-57D9-4903-9D0F-D275E05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642-D585-482D-99DE-DC35E4B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0B2-337D-48BF-8A8B-2E9063D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67A-7058-419A-831D-6DD43853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V1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or a namespace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 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rguments are a string naming the cm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 and the hel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evel 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⊂'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lev↓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r,←⎕av[4],'More help here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Locate’ 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Replace’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2"/>
          <p:cNvCxnSpPr>
            <a:stCxn id="171" idx="1"/>
            <a:endCxn id="170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the Spice commands'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5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241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detailed list of all available commands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+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124000" y="2536920"/>
            <a:ext cx="5256360" cy="3987720"/>
            <a:chOff x="2124000" y="2536920"/>
            <a:chExt cx="5256360" cy="398772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2124000" y="2536920"/>
              <a:ext cx="525636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2152440" y="5877720"/>
              <a:ext cx="330840" cy="309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26600" y="58770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428200" y="2997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fi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4:17Z</dcterms:modified>
  <cp:revision>94</cp:revision>
  <dc:subject/>
  <dc:title>SALT in Dyalog</dc:title>
</cp:coreProperties>
</file>