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B2F7-985A-4308-9C79-3BF8946F19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5E42-54D7-45CC-AD6B-FA089ED06C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Unlocked code 2. e.g. compare versions + other external util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4E54-00EA-4E94-A4C7-23FF6A6F15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ople take for granted []SE without realizing its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7F76-831C-4451-A635-6671848100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)COPY requires some management (like clean up afterwar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EC75-6025-4683-AB16-A308CA5BB6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following is probably known by many people (but not everyone) so we won’t spend much time on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6B00-8A39-4545-A79B-526206D95F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tiin []PATH before saving will includ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F5CA-1277-44CE-B034-A1D4C70D1F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tting []PATH before saving will includ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8699-6CBF-4E24-87CA-D98E21405F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you want APL to load your DSE file at startup time you’ll need to tell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730E-687F-49E4-9A57-502210505C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9B4-183C-4DAA-9107-6409AA96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21F-2F5A-45A6-9287-A996B984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7953AF-D577-443F-B8F0-71D88026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D84CF4-9647-4B46-9120-E5A26B51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26CBC0-F1F8-4041-BBC2-0496F0D9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2C5765-62BA-44C0-A9F4-F9A7E56D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FA13F2-A1E0-4038-A9E3-DBFF644E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77A91B-FA27-40E4-B82B-B3DD8C65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A96B35-A1C2-440D-B793-8525DB68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88E7F1-86CC-4AC0-89CA-F0CC35CE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8545B3-18F2-4A6D-A8BC-4A98C01B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065B8-6646-411A-B41A-A06E5BEA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E46-EEFE-4F7D-B1C1-77980F32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FC453-65B1-43F5-9656-8F72EE87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02C88-E937-49BF-B5A8-DDDB46DD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CCABA-A5CA-4456-B61A-C5159861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71304-7CBB-4A77-8E17-D8635097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EA54A-C329-4323-92BE-DC8B541C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174B0-B699-4E9B-B9C6-555BDF1C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BD39E-EFE2-4B4B-A307-0200D432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B0199-2FC7-43D9-8743-5D7370FC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5D864-64DB-4EF1-9074-9BC75AA3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1F86B-4D99-4854-A301-A6AF579A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201-3506-40F9-AE71-7F67DC5F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D468D-5AEC-465A-BF38-1FE4BCE0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6C610-BCF0-4B6B-ADB7-29FC157E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F9522-3CB5-420D-97C1-2C4DC60B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16ABF-99C4-4984-A230-2D7084FA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5CDF0-5425-43EF-947F-A94BE3B9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41CB9-6284-447E-9840-C330D581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7160D-009C-4D9E-A4C5-3E573D29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79525-880C-467F-BC4B-BB13E9FE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97309-CD79-4344-BA52-E84C5139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4C16C-CB60-4A97-A5B3-6AB1B628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BE21-CE24-4983-A03F-5123ECCD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4674A-771B-40B7-818E-68074EC8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05254-7711-4053-96BD-CE617E53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70AEC-3A23-4F7C-A91C-25F5AB13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C5985-8AFB-42CE-8E64-AD59AE09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C4CA9-2E32-462D-AEE7-539FAF9E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C8179-F8ED-4AE4-968A-41BB82A4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E71C5-AF9E-405F-ABAC-8D052839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CD206-499B-4B5B-B765-28F6361B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8B14C-568C-4CEA-B001-4B02C50B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BAE08-8F04-48EB-B838-8BDFC24C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E515-1DF8-4C63-9100-FEA0E180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F714B-835A-4647-8A81-0139A005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D5810-E4BD-4CEA-A735-049EE6C4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F0714-CAAC-4723-8138-838BC004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32649-F39E-4F5A-88D1-EEC3A20D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0AE7D-3D71-4388-9546-D99B53B9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1457A-F5B3-4075-B783-0284714E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24070-D88A-4964-AFFE-F54B0EB6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2BADA-BB07-41A9-836C-F2146286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7A950-C0C2-4A61-A9DC-4DA93AE9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76C55-870C-458E-A4F8-9074DC4B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3F85-2851-46DE-8EE3-44EFDF08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E77C2-FF3C-4ADC-8C66-A6EF49C3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4283E-A05F-49E3-B72E-3A6B2290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AEA93-8082-466D-8831-705FD04A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05941-FC3F-4AE4-B5B8-ED1FC5F5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0B823-CC5A-4528-A5DD-9E882AC9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3FE5C-9DA6-4AAD-B587-953B6546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AE2A05-FA8B-47C6-95EF-7D84EFC0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476F9-BF4A-46B5-B6B0-836A5E8C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FE063-5243-41F9-A6CD-34F59FDE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C8B49-6C5B-41A2-9247-D16A4114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37F6-A40F-47C6-A551-74027EC1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A8DFD-5613-49A1-A0AE-8AB465C9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AD531-242D-49E8-A15A-D3A11D47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12160-F0CF-41BC-8C1D-24A5C205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30924-C4A7-40E3-8E05-BD1FB462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0188B7-29A3-4253-9437-9E74541C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3AE914-6530-4B86-9E3B-56C94A93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126C0-F216-45E2-8588-FBE126B9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10136-0550-47F6-BE5B-EA5A97C9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CDE34-4FF9-4766-A98C-F7C54247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F274-C5AA-4B03-A0ED-35D6BCEB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E5B2-FF6E-437E-9E56-6AC2BA91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23A9-B9E5-4D3B-ACE8-3A7FBAEC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870-56EB-4320-8B79-AD358ADF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33FA-FD57-46A2-A17A-894371A0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208C-F1BF-4DF2-8528-C4368573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CB65-01A2-46BB-8EE3-B54EA09C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DF31-B7FB-4F94-9F22-5352F4A5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38C6-7756-47BC-82B1-EF044752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919C6-4E03-42ED-B299-18BF5B3F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3D46-6541-4FB3-AFF0-7A893F2D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1EEB-3932-49F3-96C2-7A268F13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0E8ED-80EF-4F22-ABE1-D218987D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D73DC-E000-4834-9D62-F795AC04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FDE-21BC-40B2-BCAA-4981C7A8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3F5DD-F695-415E-8CC1-C9B2D155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91E62-8605-499B-843A-2A46E0EA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90E20-6B25-47E7-A49C-18EF969F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FC50-0534-4DA9-A3FE-A51AD720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FB816-48A9-444B-8165-A04E1F52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C467-6F37-45CA-9542-12A2EE26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F662D-CF0B-4895-B5F7-FFDAFA95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44F36-5B3E-4E10-84A4-8CB3B3E7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633D-5512-4330-87ED-3571D9E1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94859-6E2D-4D82-9152-B140AAE2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362-9F73-4A7B-8100-EEB550F5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EA118-5BB9-44D8-BB29-530FA2DB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E8E01-214F-49C0-A94A-25DD17CC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9B8AC-DBDE-4E6B-81B0-55D4AFEB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1B8E5-C7FA-418C-8070-8EB272A6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A5EF6-0CF6-441E-B313-F1131B60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4716F-7328-4677-82E5-98E36582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71BF8-5C13-49D9-B8BD-A59369AA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009C8-8AD5-4666-93BD-5F435B41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35CB9-60AD-4976-80E3-F5DDBE6B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3A968-7C68-4384-85A0-9B878FE9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41D-259B-4F95-9FD3-5EEEE7C7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AC9AA-D2A4-42D5-AC13-7140AAE8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405C3-9494-4F08-ADE5-8AAA4C9F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94E70-9182-4F71-9805-8A421A8A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9E8DE-9FC0-4CE8-B3F3-0702089E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63507-075D-4663-99CD-8FE5739A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C523D-C334-4B22-B753-868C2250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A3A2B-3EB3-4BFB-8925-C59BB0FE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971FF-52AD-41FE-950C-72A764CF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9274D-1C31-4339-9293-52C5802D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D68AF-C75B-4FD3-9BF9-00AF558F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08CA-5269-49DA-BF62-9F66A097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B099F-ADBD-4CE5-9DCF-39CBB64D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A5A8B-8C27-41E7-9EFF-4A2A7EFE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DC0EC-E371-44B6-9C76-6E2A42AD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43D08-2F30-4A6C-B80C-BA3D86BB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EDB5E-9142-4CCA-8A7F-2C391AF8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EA7EF-C824-48B6-8E0E-040658C9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46291-BC62-4611-AD93-2D2D50FD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BF567-9631-4493-9C4D-F9C42C4C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BBB92-4E03-485F-A1DE-667AC095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14073-DD62-4D15-B889-E33BD341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9B9-6BAB-4E17-8E88-D553979B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C7B10-58D0-42D8-98AF-112CCD9C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54F67-585B-473D-BB3F-DC2ADADB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9F470-364B-4188-9B4D-3B54FEB3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C4A8D-F450-462F-BE25-EAC10E27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13886-543E-4964-BA69-87377959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426FB-3DA4-43D9-9C68-82CEAED4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2087F-90DF-4D61-B44D-380C5DF6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39208-8DAF-40F4-A782-4D1747D1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9C16F-8D0D-4B2D-8003-F00337BE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75117-D98A-4109-AE78-E491500B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441-065E-4467-ACDD-502D7EE9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2DC01-8AC2-4B9D-B656-AAFC35C3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8FBF2-3FF4-4F35-A0C3-A8EA8DA1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C2F89-E2A7-4097-8DA3-D71DF0D0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4BAD3-FF2E-4EBC-8EF5-F04AF3FA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563A5-9F0F-40A2-82B2-6ABC6716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A1966-9172-4AAE-AB80-4287E9D5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4E06C-9E08-44F8-A6A9-FE878D28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45AF2-0310-49A3-87AD-70E8F439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1DFE0-9716-471F-A512-0A1EA042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58402-31F3-4335-88BD-7FAF6EBF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EF5-4AF5-4D96-BD31-25CF8C8C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CC92E-1072-4499-AD86-F633009D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56D91-E142-4581-9F73-18202A3D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D515D-8130-4231-BE41-0A33FA35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458D1-8B95-4540-8E0D-CBC74C72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C5B91-430A-4495-868E-286D0D3F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32FD7-9C4A-411F-A1B5-D76B6737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B17DC-DDFF-419D-8B3E-72328808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FBDB07-F3A6-4F42-80DA-813B70FA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4D07B8-47D0-4A0D-B367-2C69B96D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39DE1E-49DA-45D5-A321-95E88485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DF7C-E62A-49F4-82B8-337CA056F74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02D2-98E5-4136-9CC8-CAD6193EB1F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1E6F-E971-47D9-AA5B-B09255F2C0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635B-DF01-4BB3-8464-E57D8C90D8B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9A69-07F4-4F74-9C2C-613A1727808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EFAC-34C6-4CC6-91DA-1696170519F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2F7A-EC33-4F37-8997-736F180437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1370-2A98-4900-BE6B-D017BE44055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8EC8-FDA4-41FF-9886-8F84BEC23EF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3A68-D31D-4C28-9E3E-E47289D277A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DEE5-C46D-450A-9436-7031B0E297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C332-7AD1-4182-932B-9B70274A695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BD42-B63B-4E22-B359-B5BA0E2EF35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5526-9607-4553-858F-9111913247C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33"/>
                </a:solidFill>
                <a:latin typeface="Geneva"/>
              </a:rPr>
              <a:t>Utilities in </a:t>
            </a:r>
            <a:r>
              <a:rPr b="1" i="1" lang="en-GB" sz="5400" spc="-1" strike="noStrike">
                <a:solidFill>
                  <a:srgbClr val="333333"/>
                </a:solidFill>
                <a:latin typeface="Geneva"/>
              </a:rPr>
              <a:t>Dyalog APL</a:t>
            </a:r>
            <a:endParaRPr b="1" lang="en-US" sz="5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3352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Dan Baronet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Boston 2011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0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496C-E6F7-4EA2-9EBA-89830D0E256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Date Placeholder 6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7" descr="newsnake.png"/>
          <p:cNvPicPr/>
          <p:nvPr/>
        </p:nvPicPr>
        <p:blipFill>
          <a:blip r:embed="rId1"/>
          <a:stretch/>
        </p:blipFill>
        <p:spPr>
          <a:xfrm>
            <a:off x="304920" y="4338720"/>
            <a:ext cx="160020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: using it as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may be convenient enough to store utilities in []SE and use them from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even add some GUI to use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F0DE-63BD-49C5-A74D-C9F6EC5B90D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5381640" cy="30481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"/>
          <p:cNvPicPr/>
          <p:nvPr/>
        </p:nvPicPr>
        <p:blipFill>
          <a:blip r:embed="rId2"/>
          <a:stretch/>
        </p:blipFill>
        <p:spPr>
          <a:xfrm>
            <a:off x="1914480" y="3218040"/>
            <a:ext cx="5375160" cy="3041640"/>
          </a:xfrm>
          <a:prstGeom prst="rect">
            <a:avLst/>
          </a:prstGeom>
          <a:ln w="0">
            <a:noFill/>
          </a:ln>
        </p:spPr>
      </p:pic>
      <p:sp>
        <p:nvSpPr>
          <p:cNvPr id="663" name="Oval 8"/>
          <p:cNvSpPr/>
          <p:nvPr/>
        </p:nvSpPr>
        <p:spPr>
          <a:xfrm>
            <a:off x="6324480" y="3286080"/>
            <a:ext cx="914400" cy="555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9"/>
          <p:cNvSpPr/>
          <p:nvPr/>
        </p:nvSpPr>
        <p:spPr>
          <a:xfrm>
            <a:off x="1828800" y="3478320"/>
            <a:ext cx="914400" cy="555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storing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stores utilities in []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re in namespa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  line Pars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&amp; Spice (UCMD framework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a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r Command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83A3-BC96-4307-8F19-22792F5D239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basically a pair of  functions to read and write APL code outside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e feature of SALT is to hook into the editor to save objects automat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ore functionality and can be used as a version control syst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A9A8-5261-4F13-B3CA-CC9EB2E24C8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uses Unicode text files as storage mediu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xt files can be shared and integrate well with other VC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he base for Spi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35D0-DBE9-4352-B8B4-762684D6626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is the interface between you and your code stored in SALT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allows you to execute your code under your own ru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is the framework of User Command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3F51-121C-4ED6-BB21-93C1BDA903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Commands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CMDS are SALT based functions called thru the ] synta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the basic code resides in a SALTed text file with specific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 “]CAL  12” is entered in the session its main &lt;Run&gt; function is called with arguments ‘CAL’ ‘12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269C-6A6D-4399-BE63-25AB0731EF1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Keyboard Shortcu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trl-Shift-End : highlight to  the end of t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Ctrl-delet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remove highlighted t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trl-Home/End  : go to the beginning/end of the t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Shift-Esc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cancel oper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Spac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(in session): mark current line for re-execution (several can be marked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Keypad -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toggle line numbe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Keypad /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reformat according to configur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Ctrl-Up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   : localize  na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Ctrl-Shift-BS/Enter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 undo/redo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460C-D922-407E-B678-6EA6A8E8F16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amp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&lt;calendar&gt; fun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&lt;time&gt; user comm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yalog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9EA9-F37F-49E5-A0D2-59AD86D3E4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APL Wiki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6240-20CC-4E63-9D0F-514DF1B3DC1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AA75-BAB8-4059-ADD3-0234F11DD9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2"/>
          <a:stretch/>
        </p:blipFill>
        <p:spPr>
          <a:xfrm>
            <a:off x="-11160" y="762120"/>
            <a:ext cx="915516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vs #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2 “work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p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” available at all times when using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[]S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ich holds session (static) 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#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hich is the workspace as such (dynamic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D003-D66A-4118-B28F-F42AD9C0A7E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93B6-4CDB-4ED2-8394-E68657DC072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2" descr=""/>
          <p:cNvPicPr/>
          <p:nvPr/>
        </p:nvPicPr>
        <p:blipFill>
          <a:blip r:embed="rId2"/>
          <a:stretch/>
        </p:blipFill>
        <p:spPr>
          <a:xfrm>
            <a:off x="76320" y="723960"/>
            <a:ext cx="8991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EF2D-09EF-49A5-B2C5-AEEE057989A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3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28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emory lay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7E04-3DCA-4CFC-A18B-35A477173B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1752480" y="2057400"/>
            <a:ext cx="5867640" cy="358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905120" y="2209680"/>
            <a:ext cx="1600200" cy="327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]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lowchart: Direct Access Storage 8"/>
          <p:cNvSpPr/>
          <p:nvPr/>
        </p:nvSpPr>
        <p:spPr>
          <a:xfrm>
            <a:off x="380880" y="3124080"/>
            <a:ext cx="990720" cy="121932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lowchart: Direct Access Storage 9"/>
          <p:cNvSpPr/>
          <p:nvPr/>
        </p:nvSpPr>
        <p:spPr>
          <a:xfrm>
            <a:off x="7924680" y="3048120"/>
            <a:ext cx="990720" cy="12189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0"/>
          <p:cNvSpPr/>
          <p:nvPr/>
        </p:nvSpPr>
        <p:spPr>
          <a:xfrm>
            <a:off x="3657600" y="2209680"/>
            <a:ext cx="3809880" cy="32767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eft-Right Arrow 11"/>
          <p:cNvSpPr/>
          <p:nvPr/>
        </p:nvSpPr>
        <p:spPr>
          <a:xfrm>
            <a:off x="1295280" y="3352680"/>
            <a:ext cx="914400" cy="6858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eft-Right Arrow 12"/>
          <p:cNvSpPr/>
          <p:nvPr/>
        </p:nvSpPr>
        <p:spPr>
          <a:xfrm>
            <a:off x="7118280" y="3352680"/>
            <a:ext cx="990720" cy="76212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viously  []SE was only used in GUI versions to hold session objects (menus, toolbars, statusbars, …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now used to also contain utilities like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94E9-7ABB-4A0C-89CF-B32196F87C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#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# is dynamic, this is where you )LOAD workspaces and )SAVE them fro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write utilities, store them in a .DWS file and )COPY them when need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at’s one way to do it and it’s been done for ag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7CD4-AA26-4B84-8EF6-4195AE7412C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 is static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utilities there and refer to them either using their full path (e.g. []SE.myUtil) or by setting []PATH to ‘[]SE’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other APL offers th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many this is new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71EB-587C-4627-8D63-8FFE078BE9F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loading and sav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 is loaded at start-up ti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modify it it can be saved using the Session/Save menu item: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1440-04E1-4995-86E1-12759FE6C65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502920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410000" cy="243828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loading and sav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wish to use a different name for the session file you can use Save as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55E5-19CD-49E2-A628-5CB37CE1166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2"/>
          <a:stretch/>
        </p:blipFill>
        <p:spPr>
          <a:xfrm>
            <a:off x="2052720" y="2757600"/>
            <a:ext cx="4881600" cy="3443040"/>
          </a:xfrm>
          <a:prstGeom prst="rect">
            <a:avLst/>
          </a:prstGeom>
          <a:ln w="0">
            <a:noFill/>
          </a:ln>
        </p:spPr>
      </p:pic>
      <p:sp>
        <p:nvSpPr>
          <p:cNvPr id="645" name="Oval 9"/>
          <p:cNvSpPr/>
          <p:nvPr/>
        </p:nvSpPr>
        <p:spPr>
          <a:xfrm>
            <a:off x="2819520" y="5002200"/>
            <a:ext cx="121896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loading and sav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76212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want APL to use it automatically you will then need to tell APL which session (.DSE) file to load at start-up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757C-F9EF-4FD9-BB96-A5260BE939E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2057400" y="3505320"/>
            <a:ext cx="4960800" cy="27432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5962680" cy="44193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"/>
          <p:cNvPicPr/>
          <p:nvPr/>
        </p:nvPicPr>
        <p:blipFill>
          <a:blip r:embed="rId3"/>
          <a:stretch/>
        </p:blipFill>
        <p:spPr>
          <a:xfrm>
            <a:off x="1676520" y="1905120"/>
            <a:ext cx="5962680" cy="4419360"/>
          </a:xfrm>
          <a:prstGeom prst="rect">
            <a:avLst/>
          </a:prstGeom>
          <a:ln w="0">
            <a:noFill/>
          </a:ln>
        </p:spPr>
      </p:pic>
      <p:sp>
        <p:nvSpPr>
          <p:cNvPr id="654" name="Oval 11"/>
          <p:cNvSpPr/>
          <p:nvPr/>
        </p:nvSpPr>
        <p:spPr>
          <a:xfrm>
            <a:off x="5943600" y="2057400"/>
            <a:ext cx="1219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4191120" y="5257800"/>
            <a:ext cx="121896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anb</dc:creator>
  <dc:description/>
  <dc:language>en-US</dc:language>
  <cp:lastModifiedBy>danb</cp:lastModifiedBy>
  <dcterms:modified xsi:type="dcterms:W3CDTF">2011-09-30T19:43:05Z</dcterms:modified>
  <cp:revision>1077</cp:revision>
  <dc:subject/>
  <dc:title>DirectX +-=assembler of graphics</dc:title>
</cp:coreProperties>
</file>