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8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47.jpeg" ContentType="image/jpeg"/>
  <Override PartName="/ppt/media/image68.png" ContentType="image/png"/>
  <Override PartName="/ppt/media/image6.wmf" ContentType="image/x-wmf"/>
  <Override PartName="/ppt/media/image83.wmf" ContentType="image/x-wmf"/>
  <Override PartName="/ppt/media/image11.png" ContentType="image/png"/>
  <Override PartName="/ppt/media/image65.wmf" ContentType="image/x-wmf"/>
  <Override PartName="/ppt/media/image66.png" ContentType="image/png"/>
  <Override PartName="/ppt/media/image67.png" ContentType="image/png"/>
  <Override PartName="/ppt/media/image70.png" ContentType="image/png"/>
  <Override PartName="/ppt/media/image69.png" ContentType="image/png"/>
  <Override PartName="/ppt/media/image72.wmf" ContentType="image/x-wmf"/>
  <Override PartName="/ppt/media/image71.png" ContentType="image/png"/>
  <Override PartName="/ppt/media/image74.png" ContentType="image/png"/>
  <Override PartName="/ppt/media/image75.png" ContentType="image/png"/>
  <Override PartName="/ppt/media/image76.wmf" ContentType="image/x-wmf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22.wmf" ContentType="image/x-wmf"/>
  <Override PartName="/ppt/media/image97.png" ContentType="image/png"/>
  <Override PartName="/ppt/media/image60.png" ContentType="image/png"/>
  <Override PartName="/ppt/media/image18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16.png" ContentType="image/png"/>
  <Override PartName="/ppt/media/image73.png" ContentType="image/png"/>
  <Override PartName="/ppt/media/image93.wmf" ContentType="image/x-wmf"/>
  <Override PartName="/ppt/media/image92.png" ContentType="image/png"/>
  <Override PartName="/ppt/media/image88.png" ContentType="image/png"/>
  <Override PartName="/ppt/media/image79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77.png" ContentType="image/png"/>
  <Override PartName="/ppt/media/image29.png" ContentType="image/png"/>
  <Override PartName="/ppt/media/image94.png" ContentType="image/png"/>
  <Override PartName="/ppt/media/image91.png" ContentType="image/png"/>
  <Override PartName="/ppt/media/image26.png" ContentType="image/png"/>
  <Override PartName="/ppt/media/image19.png" ContentType="image/png"/>
  <Override PartName="/ppt/media/image84.png" ContentType="image/png"/>
  <Override PartName="/ppt/media/image89.wmf" ContentType="image/x-wmf"/>
  <Override PartName="/ppt/media/image21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4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80.wmf" ContentType="image/x-wmf"/>
  <Override PartName="/ppt/media/image58.png" ContentType="image/png"/>
  <Override PartName="/ppt/media/image15.wmf" ContentType="image/x-wmf"/>
  <Override PartName="/ppt/media/image3.wmf" ContentType="image/x-wmf"/>
  <Override PartName="/ppt/media/image52.png" ContentType="image/png"/>
  <Override PartName="/ppt/media/image5.wmf" ContentType="image/x-wmf"/>
  <Override PartName="/ppt/media/image27.jpeg" ContentType="image/jpeg"/>
  <Override PartName="/ppt/media/image25.png" ContentType="image/png"/>
  <Override PartName="/ppt/media/image9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807F-986C-4812-8910-2BBC0DE7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E219-AC0A-4549-B960-FFA6F9495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9B20-1DCC-43C1-9FE3-F535DAE8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fference between config and the workspace: the workspace is 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11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441E-56B4-4060-AFFF-187676867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93F3-49B8-416D-8771-D97450A97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D7D8-AE1C-46D4-8BD7-07948C18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26DB-DA49-4D40-ADFA-AB169B5F4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04AD-AC84-458C-B858-2E734B85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20CA-9E09-4EFA-94F3-86BA4282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B84B-BB69-4074-8A5C-0A9588C0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Unix there is no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F7C-B86C-47A2-B756-A7153CBE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C69B-2566-44DF-8C21-40556D93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D739-700F-4A58-B260-380B1913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FB0F-B57D-429F-A88E-429A1418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A387-F818-4E8C-A55B-6D18F525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00B8-73E3-4EAF-99B1-741449EC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lename and the object name can b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DB0D-8ED0-4EEC-B6EF-BFDC29843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5D95-4FB3-4123-89EF-BC116D230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3108-9466-42C1-BD9D-55CE9A99D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00A9-3878-4111-B807-0E12CBE42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A644-377F-4753-9257-FEC6D36B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h the numbered and non numbered files are kept when versionning is in effect. The latest versioned file is the same as the non numbered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43F2-C3BF-41F4-BC82-4D5B16E1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A8C0-FDDC-4133-8187-9814279A9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name] only works under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8E74-F138-4939-89B0-B1C698B9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098-C65D-4092-9848-23F2CCB8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6A7D-CF67-47AB-8FE6-041A5EAE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figures out if it’s the name of a variable only when v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5064-EAF7-46B8-847F-F9EE0709A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81F2-F977-4D46-9C7B-C598493C8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BAF5-72A1-49A0-AE55-83E19FB6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1353-65B3-4C6C-8139-6AF9009AE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0859-FF54-4290-89C1-9845DEECC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 (surrog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0D2F-3FFB-4F73-BDD1-4F92F4E9E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Save does it automatically if  that is the reason to change the format using the –conver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1E9E-0E49-4420-BDAD-7CE2DC71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less specifically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7420-6699-4DE3-8FF7-AA4CC36B3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 you to specify if Spice is 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3A38-D7D3-4B01-B6DE-DEFF27D48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65A6-A6E5-4103-8188-F02C2806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9D98-F5BD-4F48-93BB-EF4AFF750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3325-C298-482E-85B1-ADB8387D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9BF7-B4CB-46B2-A184-0A541971D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F7FC-4B71-49BE-8491-22C0D808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1ADD-4987-4486-B89D-EA3AB1B0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7CB1-9AB7-472C-BBAD-02DEE9C8B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59C-AC4C-48F4-9052-BB2BC21EC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C00E-A504-48EA-81B6-D8F03AF4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D304-DF09-4B7D-A9CC-A6E4213F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691D-FFE1-440D-9563-72943131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DDEC-4042-4590-9A25-E6FE7EC1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most complex ucm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AD4-CCCA-48AC-9442-7A3C3D05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659-DF62-453B-B432-78C614E2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88A-CD50-4CE5-B118-EA824B95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5A4-CF11-44D4-AD86-4D2FDC88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1D1C4-75C8-4C5B-AEF5-FFCF5E4D3C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22655-FA42-4400-88CB-3CF4959F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1424-4C65-4D16-B200-211CD831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7DAAD-0BAA-48A9-AC69-C137C1DF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8306E-8053-46E7-9E40-D95E5B2C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D7180-91A8-46BF-B191-3F0A27F3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96CE1-ED24-4D70-829F-8A887B1A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41F-C01E-43CA-94A0-76CE1B48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3AB51-EDDE-4858-9605-F691F476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03959-7181-44DF-9A33-F0435C55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0A76D-E85B-497E-888B-1AE763CC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8CF66-9F27-4398-89C5-4AC9F2D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CC983-7896-4179-BDAF-B5D14D8A6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99F-EE90-4584-9825-7CF30478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259-9F88-4CE5-B927-0D48DAAE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287-41E0-4C3D-B863-43050AF7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DFC-7F7E-444D-917F-AF274170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A44-551E-4481-89CB-C0276694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045-568F-4DE9-90A3-B81CF34A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F36-FDCF-4D1F-9EFA-B394DF7E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BB5-4903-4CAA-8C7A-D5F1163B7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45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5946-F012-4DE5-A1DC-E93532D05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88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65.wmf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wmf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8679-DA3B-4A8B-AC92-0E6755837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76360" y="5516640"/>
            <a:ext cx="64008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c  v1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4A43-0910-4753-ACC0-B1EB1999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2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B85B-8A1A-45B4-946C-D1D256087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192" name="Oval 7"/>
          <p:cNvSpPr/>
          <p:nvPr/>
        </p:nvSpPr>
        <p:spPr>
          <a:xfrm>
            <a:off x="3400560" y="38577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7829-3CCB-4D68-9821-95EDABADE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F49-5EB6-4FA9-A686-D7593D2E8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sourced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2909400000[1]"/>
          <p:cNvPicPr/>
          <p:nvPr/>
        </p:nvPicPr>
        <p:blipFill>
          <a:blip r:embed="rId2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2"/>
          <p:cNvSpPr/>
          <p:nvPr/>
        </p:nvSpPr>
        <p:spPr>
          <a:xfrm>
            <a:off x="665280" y="3429000"/>
            <a:ext cx="655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3"/>
          <a:stretch/>
        </p:blipFill>
        <p:spPr>
          <a:xfrm>
            <a:off x="2843280" y="3429000"/>
            <a:ext cx="28954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408720" cy="3654360"/>
          </a:xfrm>
          <a:prstGeom prst="rect">
            <a:avLst/>
          </a:prstGeom>
          <a:ln w="0">
            <a:noFill/>
          </a:ln>
        </p:spPr>
      </p:pic>
      <p:sp>
        <p:nvSpPr>
          <p:cNvPr id="2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BB74-4B4B-48E8-BA8D-DB32B61E9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5722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4" name="Picture 4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Oval 10"/>
          <p:cNvSpPr/>
          <p:nvPr/>
        </p:nvSpPr>
        <p:spPr>
          <a:xfrm>
            <a:off x="3151080" y="3274920"/>
            <a:ext cx="34128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556000" y="3500280"/>
            <a:ext cx="752400" cy="2034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936800" y="3490920"/>
            <a:ext cx="547560" cy="223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7C64-E4E1-421E-87B9-1BF2352C2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specific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004760" y="3476520"/>
            <a:ext cx="16225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3203640" y="3284640"/>
            <a:ext cx="934920" cy="215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8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9F8E-D8F1-428D-855B-95B34FCC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relative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37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12"/>
          <p:cNvSpPr/>
          <p:nvPr/>
        </p:nvSpPr>
        <p:spPr>
          <a:xfrm>
            <a:off x="3143160" y="328608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e\te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3214800" y="3286080"/>
            <a:ext cx="934920" cy="2160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1052640" y="3500280"/>
            <a:ext cx="15001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977760" y="35002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000080" y="3500280"/>
            <a:ext cx="3643200" cy="2858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89FE-73C4-40E0-B1D1-357638A50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th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SAL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 [Dyalog]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is the installatio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49" name="Picture 8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9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542C-3C57-4BC9-B60A-669E99B0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 and the installation location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\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12760" y="3860640"/>
            <a:ext cx="65912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917800" y="2800440"/>
            <a:ext cx="273384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250920" y="5464080"/>
            <a:ext cx="842472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1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260" name="Picture 12" descr="MCj02909400000[1]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2792-4A5A-46E6-8093-BEAEA8B72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ting 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67" name="Picture 6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utoShape 7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433404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A37-901C-4A88-86D2-C62A4DD1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fd00252_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objects with a representation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7C9D-D047-467C-B67E-584BF21F2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MCj03080910000[1]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8710-F034-4FD1-ACD1-751678000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47720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3F24-16FF-44A3-9FDD-527A35F5D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53120" y="162864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1835280" y="2414520"/>
            <a:ext cx="561636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736C-58A6-407F-83EE-4CF459356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1"/>
          <a:stretch/>
        </p:blipFill>
        <p:spPr>
          <a:xfrm>
            <a:off x="2224080" y="2060640"/>
            <a:ext cx="5045040" cy="4289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94040" y="2679840"/>
            <a:ext cx="8254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5120-33E2-440A-BE81-7D31BCF7D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you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telescop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8A1A-381D-4E34-A31A-8F35D057E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E177-80D1-49A6-8DA4-D8459996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B799-DAD2-4577-852E-85C2BA0A3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12C5-D2E3-4F6B-939A-B194167DD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use the SALT sett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Setting ’editor  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difier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–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telescop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48F4-59C9-4231-BD7E-9FBEFB567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8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33" name="Picture 4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AutoShape 5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288C-C0BD-4B4E-A1BB-C74BDC765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088414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/[]CR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function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870E-2958-40C3-9D33-FD025B63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4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2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4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347" name="Oval 15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6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9F14-1B09-43E2-95D3-BD7377ECF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all the functions and variables in a namespace are kept in their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54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Rectangle 14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8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58" name="Rounded Rectangle 15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9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ight Arrow 20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1143000" y="3000240"/>
            <a:ext cx="2214720" cy="1000440"/>
            <a:chOff x="1143000" y="3000240"/>
            <a:chExt cx="2214720" cy="1000440"/>
          </a:xfrm>
        </p:grpSpPr>
        <p:sp>
          <p:nvSpPr>
            <p:cNvPr id="364" name="Rounded Rectangle 22"/>
            <p:cNvSpPr/>
            <p:nvPr/>
          </p:nvSpPr>
          <p:spPr>
            <a:xfrm>
              <a:off x="1143000" y="3000240"/>
              <a:ext cx="2214720" cy="1000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3"/>
            <p:cNvSpPr/>
            <p:nvPr/>
          </p:nvSpPr>
          <p:spPr>
            <a:xfrm>
              <a:off x="142848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4"/>
            <p:cNvSpPr/>
            <p:nvPr/>
          </p:nvSpPr>
          <p:spPr>
            <a:xfrm>
              <a:off x="250056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218A-FE5F-4604-A3E4-EF8417972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ring them separately you can use the –disperse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7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2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76" name="Rounded Rectangle 14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5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6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3"/>
          <p:cNvSpPr/>
          <p:nvPr/>
        </p:nvSpPr>
        <p:spPr>
          <a:xfrm>
            <a:off x="4308120" y="4357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elements can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375A-B541-4EEF-9B6C-DD017E29F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bring several files at once using a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89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215040" y="292896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215040" y="357192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3"/>
          <p:cNvSpPr/>
          <p:nvPr/>
        </p:nvSpPr>
        <p:spPr>
          <a:xfrm>
            <a:off x="4268520" y="43578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Load ‘Fn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1D3F-B4DF-4503-A361-D2EA2F39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tings come from the registry and are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cations can be saved back for the next APL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0302-E433-491F-9174-0A0F87440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2"/>
          <a:stretch/>
        </p:blipFill>
        <p:spPr>
          <a:xfrm>
            <a:off x="3346560" y="2852640"/>
            <a:ext cx="5762520" cy="3934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539640" y="292428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 string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00EB-CBCB-40A4-8C88-E3DBDEDF3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 or ‘a_name’ or ‘a_name  followed by a value’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2"/>
          <a:stretch/>
        </p:blipFill>
        <p:spPr>
          <a:xfrm>
            <a:off x="1619280" y="3166920"/>
            <a:ext cx="59770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CBA6-4D9D-49DB-9701-6DA397BAE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_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setting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968C-C2AE-45CD-A13F-CDEFD8A10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setting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3" descr=""/>
          <p:cNvPicPr/>
          <p:nvPr/>
        </p:nvPicPr>
        <p:blipFill>
          <a:blip r:embed="rId1"/>
          <a:stretch/>
        </p:blipFill>
        <p:spPr>
          <a:xfrm>
            <a:off x="2182680" y="411156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B675-9D48-4211-A984-C77A17B8B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434" name="Rectangle 3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7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0"/>
          <p:cNvSpPr/>
          <p:nvPr/>
        </p:nvSpPr>
        <p:spPr>
          <a:xfrm>
            <a:off x="4105440" y="4778280"/>
            <a:ext cx="93636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1E14-F5F6-4071-9EEF-8E3196F06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object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208400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3" descr=""/>
          <p:cNvPicPr/>
          <p:nvPr/>
        </p:nvPicPr>
        <p:blipFill>
          <a:blip r:embed="rId1"/>
          <a:stretch/>
        </p:blipFill>
        <p:spPr>
          <a:xfrm>
            <a:off x="2081160" y="396720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38E-BA30-4B17-9DA8-EB5C0246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0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446" name="Rectangle 11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1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4014720" y="46432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4DCA-A4DC-433F-866B-5511FEBE3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editor temporarily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2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3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4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D50-FFDC-4BA5-9250-A32EB026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MCj03524450000[1]"/>
          <p:cNvPicPr/>
          <p:nvPr/>
        </p:nvPicPr>
        <p:blipFill>
          <a:blip r:embed="rId1"/>
          <a:stretch/>
        </p:blipFill>
        <p:spPr>
          <a:xfrm>
            <a:off x="7494480" y="178596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entire workspace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of using Save to store each function/namespace in the workspace you can use &lt;Snap&gt; to do th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tore everything to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e script per function/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D38B-4513-4626-BF94-0CC072174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can be used on a sub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scrip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bjects starting with the letter ‘U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util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pattern=U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(remaining)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f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3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3444-156D-42FD-9FB5-E8AB5BE53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C9B0-E941-47A2-894B-DABC521D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  <p:sp>
        <p:nvSpPr>
          <p:cNvPr id="476" name="Rounded Rectangle 7"/>
          <p:cNvSpPr/>
          <p:nvPr/>
        </p:nvSpPr>
        <p:spPr>
          <a:xfrm>
            <a:off x="539640" y="1916280"/>
            <a:ext cx="431964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lowchart: Magnetic Disk 12"/>
          <p:cNvSpPr/>
          <p:nvPr/>
        </p:nvSpPr>
        <p:spPr>
          <a:xfrm>
            <a:off x="5435640" y="2060640"/>
            <a:ext cx="2736720" cy="3456000"/>
          </a:xfrm>
          <a:prstGeom prst="flowChartMagneticDisk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ight Arrow 11"/>
          <p:cNvSpPr/>
          <p:nvPr/>
        </p:nvSpPr>
        <p:spPr>
          <a:xfrm>
            <a:off x="2987640" y="2781360"/>
            <a:ext cx="2808360" cy="43164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ight Arrow 13"/>
          <p:cNvSpPr/>
          <p:nvPr/>
        </p:nvSpPr>
        <p:spPr>
          <a:xfrm>
            <a:off x="4284720" y="3789360"/>
            <a:ext cx="1582560" cy="4316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ight Arrow 14"/>
          <p:cNvSpPr/>
          <p:nvPr/>
        </p:nvSpPr>
        <p:spPr>
          <a:xfrm>
            <a:off x="3132000" y="4797360"/>
            <a:ext cx="2808360" cy="432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"/>
          <p:cNvSpPr/>
          <p:nvPr/>
        </p:nvSpPr>
        <p:spPr>
          <a:xfrm>
            <a:off x="2484360" y="3141720"/>
            <a:ext cx="2232000" cy="1727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9"/>
          <p:cNvSpPr/>
          <p:nvPr/>
        </p:nvSpPr>
        <p:spPr>
          <a:xfrm>
            <a:off x="1042920" y="3789360"/>
            <a:ext cx="2376720" cy="1871640"/>
          </a:xfrm>
          <a:prstGeom prst="ellipse">
            <a:avLst/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0"/>
          <p:cNvSpPr/>
          <p:nvPr/>
        </p:nvSpPr>
        <p:spPr>
          <a:xfrm>
            <a:off x="900000" y="2349360"/>
            <a:ext cx="2376720" cy="194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ass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8"/>
          <p:cNvSpPr/>
          <p:nvPr/>
        </p:nvSpPr>
        <p:spPr>
          <a:xfrm>
            <a:off x="5946840" y="278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y/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9"/>
          <p:cNvSpPr/>
          <p:nvPr/>
        </p:nvSpPr>
        <p:spPr>
          <a:xfrm>
            <a:off x="5946120" y="3789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Arial"/>
              </a:rPr>
              <a:t>My/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0"/>
          <p:cNvSpPr/>
          <p:nvPr/>
        </p:nvSpPr>
        <p:spPr>
          <a:xfrm>
            <a:off x="6017400" y="4797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My/f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903B-15F8-4353-A18C-0B02ED65A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remembers what has been saved and won’t save again what hasn’t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remembers where objects have been saved so “Snapping” again will put onl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hang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bjects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0CD9-218E-40CA-BB3E-514C20C3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2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23864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E3F1-29C4-4866-85FF-A260DF77D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4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0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5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5" descr=""/>
          <p:cNvPicPr/>
          <p:nvPr/>
        </p:nvPicPr>
        <p:blipFill>
          <a:blip r:embed="rId5"/>
          <a:stretch/>
        </p:blipFill>
        <p:spPr>
          <a:xfrm>
            <a:off x="5232240" y="4869000"/>
            <a:ext cx="380376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A7C0-20EF-497A-A107-98707E1DB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6" descr=""/>
          <p:cNvPicPr/>
          <p:nvPr/>
        </p:nvPicPr>
        <p:blipFill>
          <a:blip r:embed="rId1"/>
          <a:stretch/>
        </p:blipFill>
        <p:spPr>
          <a:xfrm>
            <a:off x="1906560" y="4076640"/>
            <a:ext cx="5545080" cy="21812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5257800" y="5122800"/>
            <a:ext cx="115236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3967200" y="4960800"/>
            <a:ext cx="68580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B6C7-C5E3-42E1-8F0E-8844CBDE8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Cj03970500000[1]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TF-8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679C-29C7-4CDE-B034-EE197A007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"/>
          <p:cNvPicPr/>
          <p:nvPr/>
        </p:nvPicPr>
        <p:blipFill>
          <a:blip r:embed="rId3"/>
          <a:stretch/>
        </p:blipFill>
        <p:spPr>
          <a:xfrm>
            <a:off x="949320" y="3382920"/>
            <a:ext cx="3403440" cy="28004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8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9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5133960" cy="2962080"/>
          </a:xfrm>
          <a:prstGeom prst="rect">
            <a:avLst/>
          </a:prstGeom>
          <a:ln w="0">
            <a:noFill/>
          </a:ln>
        </p:spPr>
      </p:pic>
      <p:sp>
        <p:nvSpPr>
          <p:cNvPr id="5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C4FB-0215-4233-A28A-2428E067A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4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481320" y="5084640"/>
            <a:ext cx="69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ee all the versions you need to su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2987640" y="3357720"/>
            <a:ext cx="719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971640" y="36450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5882040" y="2205000"/>
            <a:ext cx="25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listed without 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isplay show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727960" y="314172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(using date)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H="1" flipV="1">
            <a:off x="4355640" y="306828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3"/>
          <p:cNvSpPr/>
          <p:nvPr/>
        </p:nvSpPr>
        <p:spPr>
          <a:xfrm flipH="1">
            <a:off x="4355640" y="34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6"/>
          <p:cNvSpPr/>
          <p:nvPr/>
        </p:nvSpPr>
        <p:spPr>
          <a:xfrm>
            <a:off x="8606880" y="580536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7"/>
          <p:cNvSpPr/>
          <p:nvPr/>
        </p:nvSpPr>
        <p:spPr>
          <a:xfrm>
            <a:off x="1766160" y="28717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0591-D873-4B26-9260-B98D524F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2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56" name="Rectangle 2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2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0447-AC60-4FA3-9C31-06F5F1260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use its own code to perform th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or in the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then is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0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64" name="Rectangle 11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3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E4AF-3D3D-4C8F-84DA-A78D6E509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2" descr=""/>
          <p:cNvPicPr/>
          <p:nvPr/>
        </p:nvPicPr>
        <p:blipFill>
          <a:blip r:embed="rId1"/>
          <a:stretch/>
        </p:blipFill>
        <p:spPr>
          <a:xfrm>
            <a:off x="1692360" y="3733920"/>
            <a:ext cx="5790960" cy="20001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rogram available from the net, you can use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et it 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7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9"/>
          <p:cNvSpPr/>
          <p:nvPr/>
        </p:nvSpPr>
        <p:spPr>
          <a:xfrm>
            <a:off x="3635280" y="4552920"/>
            <a:ext cx="3313080" cy="2350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1F7A-AD62-4D47-AD9E-070CE0D71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"/>
          <p:cNvPicPr/>
          <p:nvPr/>
        </p:nvPicPr>
        <p:blipFill>
          <a:blip r:embed="rId1"/>
          <a:stretch/>
        </p:blipFill>
        <p:spPr>
          <a:xfrm>
            <a:off x="1362240" y="2514600"/>
            <a:ext cx="6419520" cy="18288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8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9"/>
          <p:cNvSpPr/>
          <p:nvPr/>
        </p:nvSpPr>
        <p:spPr>
          <a:xfrm>
            <a:off x="4249800" y="3338640"/>
            <a:ext cx="28810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81B-8C11-461E-B090-F5F8D6C0F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0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2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12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E8D1-A0D6-4BE1-A5F5-095D94A4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21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9" name="Rectangle 22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3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24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2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605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Rectangle 6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8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9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14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5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6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7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8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9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0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ACA7-C0D8-48D5-8420-242B7EBB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2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622" name="Rectangle 3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object to be compared is already in the workspace you can u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value to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version swi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SE.SALT.Compare 'script\file    –version=w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6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A2AA-3F0D-4FD5-BDDF-78BE97721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7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5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6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8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319F-A9CE-403A-A62A-5CE975BC8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special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AP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60BA-BBFA-4044-9C44-6D1B0AC7F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If 4 is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5" descr="MCj02904610000[1]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14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643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11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Picture 8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64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FC16-4089-4D9E-9AA6-57821493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MCj02904610000[1]"/>
          <p:cNvPicPr/>
          <p:nvPr/>
        </p:nvPicPr>
        <p:blipFill>
          <a:blip r:embed="rId3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3"/>
          <p:cNvSpPr/>
          <p:nvPr/>
        </p:nvSpPr>
        <p:spPr>
          <a:xfrm>
            <a:off x="1116000" y="3645000"/>
            <a:ext cx="669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4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C32-859E-4BA6-81BB-051F02AE5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1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file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ir objects become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file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62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8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0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53B2-F927-4C81-AB21-D5A0596B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1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73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8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0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2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9A36-FCBE-4170-B2AB-E4AD9CD9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2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when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85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3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399F-C461-421A-ACFE-4A4F9C222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8C60-C5FA-49DC-B0F6-FC24A0BAB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4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702" name="Line 8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9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61EC-296A-4862-B6AC-9E87E886E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MCj02324220000[1]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0BAA-3FF3-48E2-9768-ECF454665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use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with each directory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SALT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"/>
          <p:cNvSpPr/>
          <p:nvPr/>
        </p:nvSpPr>
        <p:spPr>
          <a:xfrm>
            <a:off x="2987640" y="537372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MCj02460450000[1]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0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058160" cy="2271960"/>
          </a:xfrm>
          <a:prstGeom prst="rect">
            <a:avLst/>
          </a:prstGeom>
          <a:ln w="0">
            <a:noFill/>
          </a:ln>
        </p:spPr>
      </p:pic>
      <p:sp>
        <p:nvSpPr>
          <p:cNvPr id="7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ED30-FD51-4D1C-9DBC-98E933DE4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make thi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a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6545160" y="47196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470560" y="468144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MCj02460450000[1]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6A16-C5F1-4697-910C-9217D9997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enabled when V12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isable SALT you can use the configuration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3223810000[1]"/>
          <p:cNvPicPr/>
          <p:nvPr/>
        </p:nvPicPr>
        <p:blipFill>
          <a:blip r:embed="rId1"/>
          <a:stretch/>
        </p:blipFill>
        <p:spPr>
          <a:xfrm>
            <a:off x="4284720" y="3933720"/>
            <a:ext cx="302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A83C-AEA7-416A-AB5A-75FE4F4DD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5" descr="MCDD00072_0000[1]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2379-DE11-4DDC-A25A-44CF0D1D6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736" name="Line 7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738" name="Line 9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0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1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2" descr="MCDD00072_0000[1]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2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  <p:sp>
        <p:nvSpPr>
          <p:cNvPr id="7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B693-24F7-41C7-9826-DC3EEC96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1828800" y="554832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3516480" y="324972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7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3" descr=""/>
          <p:cNvPicPr/>
          <p:nvPr/>
        </p:nvPicPr>
        <p:blipFill>
          <a:blip r:embed="rId3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472-A67E-4755-992D-859965351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8785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file\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Ca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Vi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X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⍝ produce 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7" descr=""/>
          <p:cNvPicPr/>
          <p:nvPr/>
        </p:nvPicPr>
        <p:blipFill>
          <a:blip r:embed="rId1"/>
          <a:stretch/>
        </p:blipFill>
        <p:spPr>
          <a:xfrm>
            <a:off x="4059360" y="441000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3878-2F6C-4FE4-AA66-C3774319A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ile contains a namespace with fns to e.g.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1209-C96B-4AE2-AE3E-5A43F7008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 ⍺←⍵ 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C617-3767-42DE-A83E-43AF9ACFD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a’)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F91E-B5EB-4A8B-8007-9BB107EEA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NSto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StoScript.Convert  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my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4831-A287-41F4-AA7C-818B97EE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WordArt 4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0" name="TextBox 4"/>
          <p:cNvSpPr/>
          <p:nvPr/>
        </p:nvSpPr>
        <p:spPr>
          <a:xfrm>
            <a:off x="761760" y="46530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Rectangle 5" descr=""/>
          <p:cNvPicPr/>
          <p:nvPr/>
        </p:nvPicPr>
        <p:blipFill>
          <a:blip r:embed="rId1"/>
          <a:stretch/>
        </p:blipFill>
        <p:spPr>
          <a:xfrm>
            <a:off x="1322280" y="4260960"/>
            <a:ext cx="7053480" cy="110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2.5E-006 -0.16805 E">
                                      <p:cBhvr>
                                        <p:cTn id="167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F23-A539-42C4-B65E-F52C83437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tility working in conjunction  with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the framework of the User Comm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uses SALT to load code (commands) and execu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lway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00A8-95D5-486C-B6F9-123E6C4E0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962680" cy="4419720"/>
          </a:xfrm>
          <a:prstGeom prst="rect">
            <a:avLst/>
          </a:prstGeom>
          <a:ln w="0">
            <a:noFill/>
          </a:ln>
        </p:spPr>
      </p:pic>
      <p:sp>
        <p:nvSpPr>
          <p:cNvPr id="174" name="Oval 6"/>
          <p:cNvSpPr/>
          <p:nvPr/>
        </p:nvSpPr>
        <p:spPr>
          <a:xfrm>
            <a:off x="1738440" y="27813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9A4D-5B48-4CF2-81C8-3ED8A5B4D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793" name="Oval 7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8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962680" cy="4343400"/>
          </a:xfrm>
          <a:prstGeom prst="rect">
            <a:avLst/>
          </a:prstGeom>
          <a:ln w="0">
            <a:noFill/>
          </a:ln>
        </p:spPr>
      </p:pic>
      <p:sp>
        <p:nvSpPr>
          <p:cNvPr id="7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8E4E-D6DD-4580-BD74-F6D5CBF47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9640" y="144108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6"/>
          <p:cNvSpPr/>
          <p:nvPr/>
        </p:nvSpPr>
        <p:spPr>
          <a:xfrm>
            <a:off x="1619280" y="2952720"/>
            <a:ext cx="11048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966D-DABB-4C6F-A8B1-AF10F13A8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P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806" name="Oval 7"/>
          <p:cNvSpPr/>
          <p:nvPr/>
        </p:nvSpPr>
        <p:spPr>
          <a:xfrm>
            <a:off x="3448080" y="485784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r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commands are called using a right bracket syntax like system commands  which use a right parenthesis syntax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workspac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]load scrip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5189-F94E-48C4-8F4C-AC5DD94A4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9" descr=""/>
          <p:cNvPicPr/>
          <p:nvPr/>
        </p:nvPicPr>
        <p:blipFill>
          <a:blip r:embed="rId1"/>
          <a:stretch/>
        </p:blipFill>
        <p:spPr>
          <a:xfrm>
            <a:off x="882720" y="2421000"/>
            <a:ext cx="7505640" cy="3809880"/>
          </a:xfrm>
          <a:prstGeom prst="rect">
            <a:avLst/>
          </a:prstGeom>
          <a:ln w="0">
            <a:noFill/>
          </a:ln>
        </p:spPr>
      </p:pic>
      <p:sp>
        <p:nvSpPr>
          <p:cNvPr id="8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98D5-415F-4EE7-8E52-F183D2A2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  ]?  in the s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17" name="Oval 8"/>
          <p:cNvSpPr/>
          <p:nvPr/>
        </p:nvSpPr>
        <p:spPr>
          <a:xfrm>
            <a:off x="1306440" y="2997360"/>
            <a:ext cx="38592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AC7B-77AB-49FB-A145-BE91C5EA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ile FIND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es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d\w*g\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are found names starting with ‘d’ and ending with ‘g’ in the files managed by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re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replac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B5DC-01BD-4472-A765-95339852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]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1BE-51E8-499B-8BF2-723289314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nam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D35B-4723-42B7-86EA-A93587F9D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8E70-4671-4633-ADC3-FBAFB02B5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namespace or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calls myfile fn -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C606-E7C1-4D69-A2C9-8957CA4BD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2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39640" y="3357720"/>
          <a:ext cx="8147160" cy="2768400"/>
        </p:xfrm>
        <a:graphic>
          <a:graphicData uri="http://schemas.openxmlformats.org/drawingml/2006/table">
            <a:tbl>
              <a:tblPr/>
              <a:tblGrid>
                <a:gridCol w="1752840"/>
                <a:gridCol w="2320920"/>
                <a:gridCol w="407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451A-2C46-4602-8816-90BF05EF5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6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E68B-DA72-47D7-9510-05F15606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9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10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1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6B0D-D550-4116-8E65-16F9B8904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n a class or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20A5-7C8A-409A-B77C-6FB535300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n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388D-68EC-46BF-AD4E-118BE97A7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commands to compare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fncompare    : compare 2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varcompare  : compare 2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wscompare  : compare 2 work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have similar swit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7DC6-08AF-40AE-9DA4-8C32DD22B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ws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mmand allows you to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l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 text in the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. It can also perform replac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ll details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??ws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739E-4AD4-4828-81C8-6C05FB6E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ripted namespaces and 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D501-BD4A-4AB0-8FC3-7474D5F8B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8:34Z</dcterms:modified>
  <cp:revision>185</cp:revision>
  <dc:subject/>
  <dc:title>SALT in Dyalog</dc:title>
</cp:coreProperties>
</file>