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9B14-FB1F-41BC-846B-AB41A5196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1AEB-A74C-4422-A064-3E6564A86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5E03-5188-49C9-8863-51B18D6B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C827-D5B2-4E52-969B-1C66DB08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701-F62B-4214-BA19-416511A36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 Ex: large file: (3{take}components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-1 2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AB29-7F27-4FA9-826A-A6D89C13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879D-3823-4F8E-8F40-B7B68389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44D1-8C34-4804-968D-D4DBBA94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lso works in the workspace, outsid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4401-FE87-4672-9E17-CDCA1BA1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643B-C3B6-41C9-B0AC-7FB4D7D0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5178-6752-4D8E-8D8A-CE226A83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AC47-C4C9-49E7-BC0B-A1F52B16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3D32-025E-46A7-8E68-21D52333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8FE-3CEF-46B8-A10F-C81CCE4F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3223-7961-41B8-A86E-2D0B9A6FF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9C7-9818-4227-8AC5-C897B9D6A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71C3-FB64-4023-ACE5-0F835AC16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already takes several type editor character: ∇∊-→, now + ○⍟∘; ns can conta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42DB-84E3-453B-AFA2-D1A554EC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6746-B1B2-4E80-A00D-3D639525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228A-D82E-4F20-B162-AB3D14FBE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[]NL-2.1 will NEVER report anything as vars (≠ fields) are NOT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AD59-083F-4CDC-9CD6-499ABDEBB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218C-7172-4B02-9CEE-4F375F6A4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0A02-6924-4664-B2EE-81F0529D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3700-9989-41A3-A589-46F0A28E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3E2-4B83-48FF-B2FF-89EA7FE25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[]NEW there is no need to perform all that sequence of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144D-9C8D-4F56-BAC2-722C2EE6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3C8-42A8-40EC-AF32-E5C653899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B861-8B9A-4783-AD9E-FE86B2449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D71-B8DE-4A0C-9C80-B4DE022B8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B05E-2FF2-4AA5-8C23-7779622F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F610-F681-46EB-A632-04D9EDE0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B2B0-E8C0-4476-9A7E-C17138843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5DC8-0694-49C0-B4F8-4DCB7E04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2857-E92D-4618-9C72-8854D7D4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7A3-03D5-47AA-A380-52859882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1908-FBCF-4066-9DA0-A46B03A12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BF7A-0967-45A1-9E35-4FD66AAA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59E6-09EC-44A0-9341-284E9008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3A65-47B3-4AD2-87CF-E8AE64A8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6539-B27D-49C1-BC0A-224A5E745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535D-BA7C-49D7-AED1-826D35C8A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C97-7904-4C89-A13E-183A2F5A4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B580-F3DB-427A-89D4-ADD830DC8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ED88-6798-4CF7-BEE2-7928CA567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escribes the syntax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1D03-CB73-4861-902D-192E2B0F5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B55B-B779-4006-BC71-97AF971E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691D-E574-446F-9CA8-A11128F59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3852-24E6-43EA-9C0E-4828B7A8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D3E-D3CA-44B9-B273-D4E85C92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classes that include nss are not refixed when the included ns is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89E-02C0-4279-A81D-EA427C21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934E-707E-4383-B1FC-85905063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9B4B-83D1-4464-B587-1A559CD2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with this class is that it is not perform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90CA-C206-4EDD-A009-BA37353A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: see VW thru th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FA1A-08E5-4DB4-A6AB-4B02A006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7497-AC86-45D1-A6BF-2760DA79E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5FB6-D9A6-4C1A-818D-DC5F15A6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9621-FFCE-4750-8051-964BD590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D80-3685-474E-9DCD-FC2EA7B0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would offer to use your "engine" through that interface. User would be free to implement your interface any way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6868-9591-4267-850E-2DEE6010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1C31-87FE-4469-9941-438EA713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74A2-4E1D-475A-B2E5-C90C1CDD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FE0C-90CE-4BC5-9D71-81F1E0417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C0CD-70BD-4813-A6BA-2E960B3C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60B2-C617-4018-ABC1-4A8FF300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C2CF-87FD-4ABD-B409-15C190288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0223-6C7B-4258-B52D-4E306642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934E-E7D5-45F4-985A-F9FA8D6C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BC6-A735-4DC5-8BEC-2ADD3CCD2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1473-9ADC-4406-9850-42B50951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7390-C666-43E6-B51A-F6098052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 and using SALT you can now use a control version system to stor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7F98-8EFE-48F3-8B25-DAF78CF62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1819-A17C-4BC9-AC4F-F11B1E3A7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EC9-7483-48FF-956B-92A320D6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0E9-FDB5-469E-B396-E8C2FB57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CC9-5421-4404-970E-372A76F2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16A-32C6-44A4-9C28-7BEEE3A0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3AF3-3987-4F1C-A50B-2797555E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E3F-CBA6-44B5-A734-663D287E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1522-23DD-4AC5-B175-9E816320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D097-0D50-46F0-922E-90A4DA99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D4A9-2036-4C36-B8DD-0CEC743E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C515-D444-40CC-83F2-A22B190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3D0A-A727-4F0F-9F3E-FEC8769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011-B3FE-4763-A0E2-6AE08DC3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F6F9-679F-44DA-B814-BA469B7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14EE-4BD0-44C1-87FF-53D106E9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BF45-757A-4678-A345-3B9AEDE6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8D5C-43FD-4A72-85D8-A0DE66D6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D5E8-FB56-47FF-A470-A9BD9BF1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DA6-5FC8-4EB5-8177-3992176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946-9354-457F-BFAA-4B40E5D7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6A7-D2FB-4E86-A04A-B44638AF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78C-F205-42B4-A1A4-FFF95F4F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84F-FD84-4C8F-B857-97D57B76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602-FCD5-4FF4-B34F-B844A6F5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46B-5EBE-4816-A064-D5483CF2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7C09-532B-4D97-A7F2-6E75EE8A13E2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FA8B-3805-415C-9DE7-8B977A54C99B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 Dyalog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6000" y="151596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C# they are implemented as a pair of functions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PL the 'name←' case is handled naturally. It is called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 and is the defa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cond case where indexing is made using any object (as opposed to numbers) is also handled easily. This is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array nature of APL introduced a notion of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roperty. This is the third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5724360" y="1844640"/>
            <a:ext cx="3384360" cy="4392720"/>
            <a:chOff x="5724360" y="1844640"/>
            <a:chExt cx="3384360" cy="439272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5724360" y="1844640"/>
              <a:ext cx="3384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7237080" y="3787560"/>
              <a:ext cx="35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472160" y="4230720"/>
              <a:ext cx="2682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6227640" y="3284640"/>
            <a:ext cx="2665440" cy="2232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1515960"/>
            <a:ext cx="6300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a property is set,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retrieved, 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G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rgument is a name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taining the name of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perty (Name) and its valu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NewValue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’ also contains the indices of the property (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property MUST be used with [brackets] and their contents cannot be eli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594400" y="1484280"/>
            <a:ext cx="349560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84720" y="2813040"/>
            <a:ext cx="2808360" cy="256068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et/get function call is made,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ONC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er index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a’ also contains the index to deal with (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may be used with indices.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HAP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unction is used to check and generate indic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1016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43640" y="3141720"/>
            <a:ext cx="2305080" cy="2448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fault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re can be only 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[index]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s the same a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</a:t>
            </a:r>
            <a:r>
              <a:rPr b="1" lang="en-GB" sz="2800" spc="-1" strike="noStrike">
                <a:solidFill>
                  <a:srgbClr val="ff0000"/>
                </a:solidFill>
                <a:latin typeface="Geneva"/>
              </a:rPr>
              <a:t>.defProp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[index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ltiple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several properties are similar the definition statement may include several names separated by commas,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Property P1,P2,P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Get/Set functions’ argument will contain the name in ‘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am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’ (as in arg.N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1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←⎕NEW trigger1 ('Dan' 'Baronet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.FirstName←'Danie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iel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Inheritance: new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used to call base class construc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ASE used to call base class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override/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structors are called when the instance is destroy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C/⎕NL have been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is the same as (⎕NS'').#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mplements, :acce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an be GUI based (ex: :Class F: ‘form’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nclu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7"/>
            <a:endCxn id="17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7"/>
          <p:cNvCxnSpPr>
            <a:stCxn id="170" idx="1"/>
            <a:endCxn id="17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8"/>
          <p:cNvCxnSpPr>
            <a:stCxn id="172" idx="3"/>
            <a:endCxn id="173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: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←⎕new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.surface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6664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6093000" y="141300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732640" y="3500280"/>
            <a:ext cx="31604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implemented Object Orientation (OO)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territory was uncovered when venturing into O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any were answe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slides will explain this in mor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154120" y="5157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154120" y="5157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587240"/>
            <a:ext cx="4680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structo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y are used to clean-up after an instance is destroy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k←⎕new life ‘Kong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ing  Kong  is born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erase k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ong  is dead, long live the king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Interfaces, Classes &amp; some Namespaces (ICN) come in scrip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RC: Just like ⎕NR returns the representation of a function in nested form, ⎕SRC returns the representation of an ICN in nes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X: Just like ⎕FX creates a function, ⎕FIX creates an IC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ED ∘Interf /○Cl/ ⍟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nce classes and instances are a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typ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of namespace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basi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classification is 9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find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sub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-class they need to be enclos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-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APL385 Unicode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APL385 Unicode"/>
              </a:rPr>
              <a:t>NL and 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NC are symmetric such tha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n∊⎕NC ⎕NL 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vn∊⎕NL ⎕NC¨vn  ⍝ vn is a list of nam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77440" y="202068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⎕NC also apply to variables and func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omplete list i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/4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1  Variabl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raditional fn/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S created by ⎕NS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2  Fiel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-fns or –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stance (could be form)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3  Property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erived/Primitive            -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4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Class    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5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terface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6  External/share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         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Class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7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Interface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44360" y="180504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To see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vars or fiel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va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ns or metho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fns/metho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terfac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nt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ev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prop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4920" y="56664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stem command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3792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1800" y="170172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L also includes instance members when used with a negative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.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⎕NL -2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.2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report all fiel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of Namespaces and their ⎕N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wo already existed in V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gular 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 (NOT 9.3!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f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11280" y="709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49636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ault display form of a namespace is its pa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't1.s1' ⎕NS 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#.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.⎕df  '(S1: son of t1)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1760" y="1915920"/>
            <a:ext cx="8327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←t1.s1   ⍝ even if assigned a new nam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 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what does this look like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(S1: son of t1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≡t1.s1   ⍝ it “remembers” its referenc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⍬≡⍴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it is still just a ref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⍴⍕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its display has a length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5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686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t1.s1.v11←’var’ ⍝ If we change the 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t1.s1.⎕fx ‘f1’ ‘...’ ⍝ contents of s1: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,t1.s1.⎕nl 2 3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,abc.⎕nl 2 3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  ⍝ abc will “see” it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NC ’abc’  ‘t1’  ‘t1.s1’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1  9.1  9.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39640" y="4745160"/>
            <a:ext cx="5113440" cy="865080"/>
            <a:chOff x="539640" y="4745160"/>
            <a:chExt cx="5113440" cy="865080"/>
          </a:xfrm>
        </p:grpSpPr>
        <p:sp>
          <p:nvSpPr>
            <p:cNvPr id="294" name="Rectangle 4"/>
            <p:cNvSpPr/>
            <p:nvPr/>
          </p:nvSpPr>
          <p:spPr>
            <a:xfrm>
              <a:off x="4645080" y="4745160"/>
              <a:ext cx="100800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1908000" y="5249880"/>
              <a:ext cx="50328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539640" y="5249880"/>
              <a:ext cx="50328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1835280" y="4745160"/>
              <a:ext cx="79200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1235160" y="524988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3349800" y="4745160"/>
              <a:ext cx="50292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1731960"/>
            <a:ext cx="8821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nadic ⎕CLASS returns the tree of refere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dic ⎕CLASS    casts an instance into another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CLASS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lists classes in the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Implement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identifies what it imple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F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change the display form of a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INTERFACES     lists all interfaces in the curren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3480" y="1528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get a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istinc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py of t1.s1 we need to d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←⎕NS ⎕OR 't1.s1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,abc.⎕NL 2 3 ⍝ everything is </a:t>
            </a:r>
            <a:r>
              <a:rPr b="0" i="1" lang="en-GB" sz="2800" spc="-1" strike="noStrike">
                <a:solidFill>
                  <a:srgbClr val="009999"/>
                </a:solidFill>
                <a:latin typeface="APL385 Unicode"/>
              </a:rPr>
              <a:t>cop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  ⍝ even its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≡t1.s1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  ⍝ but they’re differ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.⎕df ‘I am ABC’    ⋄  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I am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03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25800" y="154152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6086520" y="13971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16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325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←⎕ns 'tx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efault display form of a Form is its path, just like a regular namesp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'F1' ⎕WC 'form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df '&lt;F1 is in great form&gt;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can add items to i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b1’ ⎕wc ‘butt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’ F1.⎕wc ‘edit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’  ‘F1.b1’  ‘F1.e2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2  9.2  9.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have 3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instances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of built-in APL 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e2   F1  ⍝ each with its own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.e2   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47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contains 2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2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‘Capti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form is pretty much like a namespac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can contain variables and functio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v1←’some va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fx ‘f1’ ‘whateve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   ⍝ these are POSITIVE numb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are the items WE have add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60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now contains 4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4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T a form also has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wx←1          ⍝ to be able to se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-2 3  ⍝ include internal ite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erator  ... Caption ...  YRan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Caption’   ⍝ Caption is extern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¯2.6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ew 65 items are the only visibl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he form. They do NOT appear in ⎕nl +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80504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8640" y="1483920"/>
            <a:ext cx="440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4 external objec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77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78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3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388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9"/>
          <p:cNvSpPr/>
          <p:nvPr/>
        </p:nvSpPr>
        <p:spPr>
          <a:xfrm>
            <a:off x="6190200" y="160344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8"/>
          <p:cNvSpPr/>
          <p:nvPr/>
        </p:nvSpPr>
        <p:spPr>
          <a:xfrm>
            <a:off x="460440" y="1482840"/>
            <a:ext cx="4400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69 tot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Accelerator ... Caption ...  Y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185520" y="1595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96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97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40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411" name="Group 2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grpSp>
            <p:nvGrpSpPr>
              <p:cNvPr id="412" name="Group 23"/>
              <p:cNvGrpSpPr/>
              <p:nvPr/>
            </p:nvGrpSpPr>
            <p:grpSpPr>
              <a:xfrm>
                <a:off x="5148360" y="2276640"/>
                <a:ext cx="3527280" cy="3671640"/>
                <a:chOff x="5148360" y="2276640"/>
                <a:chExt cx="3527280" cy="3671640"/>
              </a:xfrm>
            </p:grpSpPr>
            <p:sp>
              <p:nvSpPr>
                <p:cNvPr id="413" name="Rectangle 24"/>
                <p:cNvSpPr/>
                <p:nvPr/>
              </p:nvSpPr>
              <p:spPr>
                <a:xfrm>
                  <a:off x="5148360" y="2276640"/>
                  <a:ext cx="3527280" cy="3671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"/>
                <p:cNvSpPr/>
                <p:nvPr/>
              </p:nvSpPr>
              <p:spPr>
                <a:xfrm>
                  <a:off x="5148360" y="2923920"/>
                  <a:ext cx="35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26"/>
              <p:cNvSpPr/>
              <p:nvPr/>
            </p:nvSpPr>
            <p:spPr>
              <a:xfrm>
                <a:off x="5763960" y="2421000"/>
                <a:ext cx="228996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lt;F1 is in great form&gt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7"/>
              <p:cNvSpPr/>
              <p:nvPr/>
            </p:nvSpPr>
            <p:spPr>
              <a:xfrm>
                <a:off x="5293800" y="3573360"/>
                <a:ext cx="729360" cy="825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6659640" y="299700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9"/>
              <p:cNvSpPr/>
              <p:nvPr/>
            </p:nvSpPr>
            <p:spPr>
              <a:xfrm>
                <a:off x="7814160" y="3429000"/>
                <a:ext cx="502200" cy="45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"/>
                  </a:rPr>
                  <a:t>v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30"/>
              <p:cNvGrpSpPr/>
              <p:nvPr/>
            </p:nvGrpSpPr>
            <p:grpSpPr>
              <a:xfrm>
                <a:off x="5291280" y="2997000"/>
                <a:ext cx="720720" cy="502920"/>
                <a:chOff x="5291280" y="2997000"/>
                <a:chExt cx="720720" cy="502920"/>
              </a:xfrm>
            </p:grpSpPr>
            <p:pic>
              <p:nvPicPr>
                <p:cNvPr id="420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360" y="3058560"/>
                  <a:ext cx="5713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Rectangle 32"/>
                <p:cNvSpPr/>
                <p:nvPr/>
              </p:nvSpPr>
              <p:spPr>
                <a:xfrm>
                  <a:off x="5291280" y="2997000"/>
                  <a:ext cx="720720" cy="50292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3"/>
              <p:cNvGrpSpPr/>
              <p:nvPr/>
            </p:nvGrpSpPr>
            <p:grpSpPr>
              <a:xfrm>
                <a:off x="6875640" y="4653000"/>
                <a:ext cx="1439640" cy="360000"/>
                <a:chOff x="6875640" y="4653000"/>
                <a:chExt cx="1439640" cy="360000"/>
              </a:xfrm>
            </p:grpSpPr>
            <p:pic>
              <p:nvPicPr>
                <p:cNvPr id="423" name="Picture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920" y="4700520"/>
                  <a:ext cx="128520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Rectangle 35"/>
                <p:cNvSpPr/>
                <p:nvPr/>
              </p:nvSpPr>
              <p:spPr>
                <a:xfrm>
                  <a:off x="6875640" y="4653000"/>
                  <a:ext cx="1439640" cy="36000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e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Text Box 36"/>
            <p:cNvSpPr/>
            <p:nvPr/>
          </p:nvSpPr>
          <p:spPr>
            <a:xfrm>
              <a:off x="6110280" y="2995560"/>
              <a:ext cx="108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Accel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Ca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7"/>
            <p:cNvSpPr/>
            <p:nvPr/>
          </p:nvSpPr>
          <p:spPr>
            <a:xfrm>
              <a:off x="7949880" y="292428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H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1"/>
            <p:cNvSpPr/>
            <p:nvPr/>
          </p:nvSpPr>
          <p:spPr>
            <a:xfrm>
              <a:off x="6345000" y="357192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Help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2"/>
            <p:cNvSpPr/>
            <p:nvPr/>
          </p:nvSpPr>
          <p:spPr>
            <a:xfrm>
              <a:off x="5318280" y="49402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i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tep X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3"/>
            <p:cNvSpPr/>
            <p:nvPr/>
          </p:nvSpPr>
          <p:spPr>
            <a:xfrm>
              <a:off x="5302440" y="430200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Picture  Posn  PropList  Range  Re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4"/>
            <p:cNvSpPr/>
            <p:nvPr/>
          </p:nvSpPr>
          <p:spPr>
            <a:xfrm>
              <a:off x="6447600" y="400212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Border  B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5"/>
            <p:cNvSpPr/>
            <p:nvPr/>
          </p:nvSpPr>
          <p:spPr>
            <a:xfrm>
              <a:off x="5215680" y="46083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cceptFiles  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6"/>
            <p:cNvSpPr/>
            <p:nvPr/>
          </p:nvSpPr>
          <p:spPr>
            <a:xfrm>
              <a:off x="7663680" y="3787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Y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5725080" y="40593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VSc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8"/>
            <p:cNvSpPr/>
            <p:nvPr/>
          </p:nvSpPr>
          <p:spPr>
            <a:xfrm>
              <a:off x="7115040" y="3209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9"/>
            <p:cNvSpPr/>
            <p:nvPr/>
          </p:nvSpPr>
          <p:spPr>
            <a:xfrm>
              <a:off x="5234760" y="5370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o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0"/>
            <p:cNvSpPr/>
            <p:nvPr/>
          </p:nvSpPr>
          <p:spPr>
            <a:xfrm>
              <a:off x="5705280" y="55864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MethodList  MinButton  Move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1"/>
            <p:cNvSpPr/>
            <p:nvPr/>
          </p:nvSpPr>
          <p:spPr>
            <a:xfrm>
              <a:off x="6467040" y="508464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CursorObj  Data  De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422360"/>
            <a:ext cx="8147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has 2 types of functions and variabl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174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in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specific to its typ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, those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w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d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NEGATIVE ⎕NL argument ON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POSITIVE ⎕NL argument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- includes both types of elemen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we redefine the form all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bjects disappea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‘F1’⎕wc’form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 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-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446" name="Rectangle 5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7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55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69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80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491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s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ha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∘maneuv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681440" y="2509920"/>
            <a:ext cx="4066920" cy="3727440"/>
            <a:chOff x="4681440" y="2509920"/>
            <a:chExt cx="4066920" cy="37274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4681440" y="2509920"/>
              <a:ext cx="40669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>
              <a:off x="7634160" y="3448080"/>
              <a:ext cx="50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767200" y="5086080"/>
              <a:ext cx="863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338520" y="4356000"/>
              <a:ext cx="1079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0800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720" y="1268280"/>
            <a:ext cx="885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ing we have all types of namespace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s←⎕ns 'v1' 'f1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o←⎕new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'form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in1←⎕new 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ll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←ns,fo,cl1,in1,i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¨all.⎕nl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2   65  1 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80720" y="1268280"/>
            <a:ext cx="843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1 external item to each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2 65 1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ll.X←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3 66 2 3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Inclu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y be because the code to include is comm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ny new system commands &amp;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faces show how it is 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umbered Properties are implemented in a special manner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iggers offer lightweight proper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/⎕NC have been extend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otion of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names is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lusion of common code is pos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is used to create complex numbers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can perform most simple math operations on them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ublic instanc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1 public shared fiel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instanc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share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se perform the basic operations: + - × ÷ *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6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60880" y="213660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5565600" y="350208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65600" y="458136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565600" y="5345280"/>
            <a:ext cx="3240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923240" y="350208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923240" y="458136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923240" y="5345280"/>
            <a:ext cx="88272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6720" y="1515960"/>
            <a:ext cx="82076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26920" y="3349800"/>
            <a:ext cx="2808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26920" y="3957480"/>
            <a:ext cx="2808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constructors 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ne of which is a trigger for when one of the fields is modifi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rt o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.Read ‘key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065560" y="0"/>
            <a:ext cx="425952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ke this →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icrosoft.Net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orms and more via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is possible to create forms using ⎕new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te that the class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name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You can create OLE controls with ⎕new too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system function eXposes Window’s interf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0= do NOT expose anyth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2= use new V11 syntax (e.g. Sheet[3]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x allows to use V10 syntax or the new V11 synta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1 ⍝ use V10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 ActiveWorkbook.Sheets.(Item 1).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3 ⍝ use V11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ActiveWorkbook.Sheets[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Sheet2'].Index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ndardize dialog box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1←⎕NEW Dialog ('Hello World' (50 250) ⍬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For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(a nam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You can do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m←⎕NEW ‘form’ .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2"/>
          <p:cNvGrpSpPr/>
          <p:nvPr/>
        </p:nvGrpSpPr>
        <p:grpSpPr>
          <a:xfrm>
            <a:off x="4832280" y="1865160"/>
            <a:ext cx="4276800" cy="4371840"/>
            <a:chOff x="4832280" y="1865160"/>
            <a:chExt cx="4276800" cy="437184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832280" y="1865160"/>
              <a:ext cx="427680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3"/>
            <p:cNvSpPr/>
            <p:nvPr/>
          </p:nvSpPr>
          <p:spPr>
            <a:xfrm>
              <a:off x="5337000" y="338580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692840" y="338580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337000" y="4457520"/>
              <a:ext cx="324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337000" y="537336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92840" y="4457520"/>
              <a:ext cx="884520" cy="21564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92840" y="537336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7640" y="13712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87520" y="436572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87520" y="497376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utili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re is a lot of utilities out there that can be used in AP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y are found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o be able to use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 with ⎕USING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USING←’System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←⎕new DateTime ⎕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 ⍝ let’s see its display form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2007/10/01 21:47: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c ‘now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nu it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5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Signature statem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 made up o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eneva"/>
              </a:rPr>
              <a:t>:Signatur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...] ] 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rt←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return type. If present it MUST be followed by ←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at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type, if prese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am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name of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g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...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for the other argu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 C#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System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APLClasses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 // the namespace in which our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is fou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static void Main() {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rimitives apl = new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Primitives();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APL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int[] rslt = apl.GenIndices(10)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cal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for (int i=0;i&lt;rslt.Length;i++) Console.WriteLine(rslt[i]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nother APL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←'APLclasses,c:\...\apl.dl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←⎕NEW Primitiv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.GenIndices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 2 3 4 5 6 7 8 9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eb services can be writt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SMX files and ASPX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workspaces “behin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009999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00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9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612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Rectangle 11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615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14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6000" y="1517400"/>
            <a:ext cx="882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ember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mbers ar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variables)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functions)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othe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e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lists the instances of a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creat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ecial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rig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U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sing vs ⎕US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Using X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kin to ⎕USING,←'X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0⍴⊂⍬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amespaces in 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09999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5"/>
          <p:cNvSpPr/>
          <p:nvPr/>
        </p:nvSpPr>
        <p:spPr>
          <a:xfrm>
            <a:off x="322920" y="134136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load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using←'System'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←⎕new DateTime ⎕ts ⍝ assume it is 2007/10/10 19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2←⎕new DateTime (2007 10 16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t1←⎕new TimeSpan (7 2 0 0) ⍝ 7 days, 2 hou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+d3←d1-t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2007/10/03 17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&lt;d2,d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1 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95280" y="17334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95280" y="166032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68360" y="105264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This doesn't mean you have to rewrite everything! But y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ou are now competitive with the other guys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someone tells you "you can't do OO or .Net" you can now say “Yes we can!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4:44:56Z</dcterms:created>
  <dc:creator>DanB</dc:creator>
  <dc:description/>
  <dc:language>en-US</dc:language>
  <cp:lastModifiedBy>danb</cp:lastModifiedBy>
  <dcterms:modified xsi:type="dcterms:W3CDTF">2011-04-11T15:03:44Z</dcterms:modified>
  <cp:revision>46</cp:revision>
  <dc:subject/>
  <dc:title>Slide 1</dc:title>
</cp:coreProperties>
</file>