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 values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cont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lure poi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covery Action     Recovered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1 re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T1 commit   redo T0 redo T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nt consults coordinator or if failed another site for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another site then sends a query status for the transaction pending. Each site consults own log and if final outcome for this transaction found then returned back to recovered particip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avoid recovered participant from stalling restart of DBMS service to local users then store in own log with ready message a list of locks held. Then can re- lock and restart service. When final outcome known then can commit/rollback and resources now available lo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0CCA-B89A-4EBC-AA60-519F15147E73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C875-560E-46E3-801B-13021BEE1293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1E8-8B0F-4DB8-8D2F-9A41B288BC95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A5D-0776-49DF-9C51-24C5E94C653C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995-98B7-4E5B-93A2-157A8E3BB145}" type="slidenum">
              <a:rPr b="0" lang="en-US" sz="12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nsistent because RI is vio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al cannot go from failed back to Active can only Abort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ly Committed  - user enters commit statement to move from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ains in this state whilst DBMS does the commit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system failure e.g. log full then system moves to Fail and onto Ab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user transaction cannot proceed due to some logic error e.g. insert fails due to RI constraint then transaction enters a logical ‘failed’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can only sensible end by Ab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mix of logical and physic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active, commit, abort correspond to SQL comm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active is implicit with respect to ISO SQL Se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it/ rollback automatically starts a new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SO SQL always in a transaction - only difference is whether a 1 SQL statement or N SQL statement transaction. This is determined by the autocommi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llustra - if not in a transaction then autocommit is set t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Interleaving CPU / 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as multiprogramming argument for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fficiency change on system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Same as argument for time sharing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support change on time slice for round r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at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n to illustrate a particular problem using actual dat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required by the general solution to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        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s same value thus no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reads old value; reversed T1 reads new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2 reads new  value; reversed T1 reads 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er effects final value appearing 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D2D0-B4F3-4323-AA48-FF34310249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BE90-D6A0-48CE-9185-2117BC02AB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21FD-0443-4E5C-8A15-CDA1F02437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6707-4A47-48B6-BA65-AF20E3BB4B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7837-74E1-49E9-836D-CBED3876E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9B0F-2A30-4B15-9971-80ADC8BC4E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395E-A87A-474A-8C4F-FBE70C6F90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41DC-E43D-4771-87B0-92FFD898CB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BDCE-9BF9-4925-B95B-71EF69E486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F9C1-12DC-452C-86CD-0AD872E893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5214-0913-4DA5-BA71-AF40D0EDD5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18E6-AF8E-4C57-87F2-98685C0A08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4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600200" indent="-2286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2057400" indent="-228600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ftr" idx="1"/>
          </p:nvPr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CC07-5F7B-4C98-9E7B-FF09916367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3"/>
          </p:nvPr>
        </p:nvSpPr>
        <p:spPr>
          <a:xfrm>
            <a:off x="4190760" y="64771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154-96E6-4299-957D-17B734034BAB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 and SQAP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393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440" y="1412640"/>
            <a:ext cx="8331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racter-st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fixed-length character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 VARYING(N)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 VARYING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variable-length character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charact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it-str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fixed-length bit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 VARYING(N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bit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b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ders Wait for Writ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440" y="1754280"/>
            <a:ext cx="91411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T2                     T3                    T4                    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>
            <a:off x="8381880" y="2224080"/>
            <a:ext cx="0" cy="408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09480" y="2757600"/>
            <a:ext cx="0" cy="180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2286000" y="3290760"/>
            <a:ext cx="0" cy="172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267080" y="542448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>
            <a:off x="6095880" y="6033960"/>
            <a:ext cx="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adlock Dete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builds 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ait-f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graph for all the transactions in pro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adlock exists if the graph contains a cycle. Detection algorithm run frequ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st Update Wait-for graph showing cycle.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3132000" y="533556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 flipH="1">
            <a:off x="3182400" y="6021360"/>
            <a:ext cx="2614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 on databas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8360" y="206028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ers and Writers concurrently accessing the same data item under Two Phase locking will be forced to serialise I.e wait until exclusive access is pos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rs will experience delayed respon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improve performance reduced levels of locking (or consistency of final results) are available. Use with cau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-  From highest to lowest lev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rializable i.e Two Phase Loc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peatable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hantom reads possi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Commit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locks dropped after data has been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n repeatable &amp;  phantom reads possibl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Uncommit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(Lowest Leve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s data that still have write locks in pl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rty read possibl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interactions between T1 and T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rty read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can read uncommitted data from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repeatable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reads data committed by T2 and now sees the new data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hantom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executes a query and discovers new data inserted or changed by committed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440" y="12128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   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ept  dept_id  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1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dept set dept_id = ‘d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ept_id = ‘d1’;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2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;  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39640" y="1268280"/>
            <a:ext cx="236556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"/>
          <p:cNvSpPr/>
          <p:nvPr/>
        </p:nvSpPr>
        <p:spPr>
          <a:xfrm>
            <a:off x="539640" y="184464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5076720" y="1268280"/>
            <a:ext cx="267012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5076720" y="1844640"/>
            <a:ext cx="264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- locking at Read Committed level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26880" y="2278080"/>
            <a:ext cx="870912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s X(emp) 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…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 S(dept)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quire lock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update ……..;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drop lock 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...; 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s X(emp) 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0" y="20178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762120" y="5589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252360" y="2017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e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as NOT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Non Repeatable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"/>
          <p:cNvSpPr/>
          <p:nvPr/>
        </p:nvSpPr>
        <p:spPr>
          <a:xfrm>
            <a:off x="1158840" y="6093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"/>
          <p:cNvSpPr/>
          <p:nvPr/>
        </p:nvSpPr>
        <p:spPr>
          <a:xfrm flipH="1">
            <a:off x="2286000" y="3959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440" y="1757520"/>
            <a:ext cx="91411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tock      pn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um(qty) from st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2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5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Actual 1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Reported 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45007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73105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4503600" y="3598920"/>
            <a:ext cx="5191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9920" y="5198760"/>
            <a:ext cx="36684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3429000" y="1927080"/>
            <a:ext cx="205740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 flipH="1">
            <a:off x="5094000" y="3755880"/>
            <a:ext cx="2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H="1">
            <a:off x="5094000" y="535608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1844640"/>
            <a:ext cx="8096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is a date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(I)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 with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cimal fractions of a secon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F....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 WITH TIME ZON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 tim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ith a time zone adde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HH-MM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For each row acquire lock S(stock) , read value, drop lock S(stoc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1 Allows lock X(stock) to be acquired on previously read row  Completes updates. Drops X(stock) lo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acquires S(stock) and so reads both old and new values causing the probl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4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08000" y="1946160"/>
            <a:ext cx="903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0" y="1828800"/>
            <a:ext cx="9036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stock row pno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stock row pno =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Inconsistent Analysis 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"/>
          <p:cNvSpPr/>
          <p:nvPr/>
        </p:nvSpPr>
        <p:spPr>
          <a:xfrm>
            <a:off x="414036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06360" y="1525680"/>
            <a:ext cx="865836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    acc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    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ccount set balance =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alance from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credit chec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ollba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589120" y="1598760"/>
            <a:ext cx="3051360" cy="99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2604960" y="19810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 at Read Uncommitted Level which effectively means Lock Compatability Matrix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Shared and eXclusive locks changes from No to Y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 Concurrent Writes are still not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0" y="1828800"/>
            <a:ext cx="853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196992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Uncommitted / Dirty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762120" y="60213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 flipH="1">
            <a:off x="2437920" y="327816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granular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able locking provides least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sk Page 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on level. The number of rows locked depends on row size/page size ratio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w locking provides maximum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only used for on line transaction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ighest system cost as requires most lo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ion Locking and Ch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2060640"/>
            <a:ext cx="809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-STAMP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ate, time, fractions of a second and an optiona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ITH TIME ZON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qualifie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-HH-MM-SS-F...F{-HH-MM}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NTERVAL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relative value used to increment or decreme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, TIM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STAM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EAR/MONTH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Y/TIM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- Immediate Update of row data on Dis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440" y="1754280"/>
            <a:ext cx="91425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head Log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100 where p#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0, qty, 200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tock where p# = 2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1, p#,  2,,  qty, 10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ock values( 3, 600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2, p#,, 3, qty,,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commit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Pag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100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 stock valu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2360520" y="5027760"/>
            <a:ext cx="6556320" cy="152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7018200" y="5791320"/>
            <a:ext cx="181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6"/>
          <p:cNvSpPr/>
          <p:nvPr/>
        </p:nvSpPr>
        <p:spPr>
          <a:xfrm flipV="1">
            <a:off x="8542440" y="4871880"/>
            <a:ext cx="36648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8360" y="177300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 Ahead Protocol means BI,AI and other log entries are written 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bef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data row on disk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ransaction ends with a commit no further ac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nded with a rollback then system must apply BI to row data to restore the original values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0" y="1676520"/>
            <a:ext cx="9144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= a - 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 = c - 1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 = b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out log assuming execute in order T0 T1 and show Datab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es assuming Immediate Update of databas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0" y="18288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177336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6"/>
          <p:cNvSpPr/>
          <p:nvPr/>
        </p:nvSpPr>
        <p:spPr>
          <a:xfrm flipV="1">
            <a:off x="8381880" y="28191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080" y="54900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Immediate Update of row data in memory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440" y="1395360"/>
            <a:ext cx="914256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qty *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 Data Buffer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Buff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   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40  8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flush on     commit/page ful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before row    data buffer flush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 Database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 Fi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1913040" y="3119400"/>
            <a:ext cx="366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1913040" y="3652560"/>
            <a:ext cx="36648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5410080" y="2349360"/>
            <a:ext cx="267336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835200" y="2874960"/>
            <a:ext cx="2901600" cy="12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5410080" y="4788000"/>
            <a:ext cx="2826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762120" y="5235480"/>
            <a:ext cx="29779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"/>
          <p:cNvSpPr/>
          <p:nvPr/>
        </p:nvSpPr>
        <p:spPr>
          <a:xfrm>
            <a:off x="6553080" y="35686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1"/>
          <p:cNvSpPr/>
          <p:nvPr/>
        </p:nvSpPr>
        <p:spPr>
          <a:xfrm flipV="1">
            <a:off x="838080" y="4296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3733920" y="42210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g Based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ystem crash loses memory buffer p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changes may not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not yet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committed changes may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already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AL ensures that Log pages are already on disk ( a different disk from the table data!) before row data buffer pages flushed to disk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covery Proces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lo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from the sta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utting all transactions found onto one of the lis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ndo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ansactions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 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o    transaction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back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crash point ‘un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Before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start ‘re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After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0" y="160020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ing the data from the Transaction Log slide show the recovered database values. Assume failure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0" y="242244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"/>
          <p:cNvSpPr/>
          <p:nvPr/>
        </p:nvSpPr>
        <p:spPr>
          <a:xfrm flipV="1">
            <a:off x="3809880" y="35002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"/>
          <p:cNvSpPr/>
          <p:nvPr/>
        </p:nvSpPr>
        <p:spPr>
          <a:xfrm flipV="1">
            <a:off x="6629400" y="3500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608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can be defined as follows: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;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IGHTNUMBER CHAR(5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sing domain definitions makes it easier to see which columns are rel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nging a domain definition one place changes it consistently everywhere it is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 values can be defined for 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straints can be defined for domains (lat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0" y="18288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No entries as no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b 2000 2050 by apply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 as at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6"/>
          <p:cNvSpPr/>
          <p:nvPr/>
        </p:nvSpPr>
        <p:spPr>
          <a:xfrm flipV="1">
            <a:off x="6553080" y="51055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H="1">
            <a:off x="4724280" y="56386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573120" y="2276640"/>
            <a:ext cx="8351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Undo 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950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2050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 flipV="1">
            <a:off x="5925960" y="505944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"/>
          <p:cNvSpPr/>
          <p:nvPr/>
        </p:nvSpPr>
        <p:spPr>
          <a:xfrm flipH="1">
            <a:off x="4097160" y="505944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6"/>
          <p:cNvSpPr/>
          <p:nvPr/>
        </p:nvSpPr>
        <p:spPr>
          <a:xfrm>
            <a:off x="5911920" y="30686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"/>
          <p:cNvSpPr/>
          <p:nvPr/>
        </p:nvSpPr>
        <p:spPr>
          <a:xfrm flipV="1">
            <a:off x="7859880" y="51210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ndo backwards &amp; redo forwards through lo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Text Box 1027"/>
          <p:cNvSpPr/>
          <p:nvPr/>
        </p:nvSpPr>
        <p:spPr>
          <a:xfrm>
            <a:off x="0" y="2112840"/>
            <a:ext cx="896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    20 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ackwards us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wards using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028"/>
          <p:cNvSpPr/>
          <p:nvPr/>
        </p:nvSpPr>
        <p:spPr>
          <a:xfrm flipV="1">
            <a:off x="6477120" y="285732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029"/>
          <p:cNvSpPr/>
          <p:nvPr/>
        </p:nvSpPr>
        <p:spPr>
          <a:xfrm flipV="1">
            <a:off x="6400800" y="39240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30"/>
          <p:cNvSpPr/>
          <p:nvPr/>
        </p:nvSpPr>
        <p:spPr>
          <a:xfrm flipV="1">
            <a:off x="7391520" y="384768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33"/>
          <p:cNvSpPr/>
          <p:nvPr/>
        </p:nvSpPr>
        <p:spPr>
          <a:xfrm flipV="1">
            <a:off x="6400800" y="56005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035"/>
          <p:cNvSpPr/>
          <p:nvPr/>
        </p:nvSpPr>
        <p:spPr>
          <a:xfrm flipV="1">
            <a:off x="7391520" y="560052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037"/>
          <p:cNvSpPr/>
          <p:nvPr/>
        </p:nvSpPr>
        <p:spPr>
          <a:xfrm flipV="1">
            <a:off x="7315200" y="27810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heckpoi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log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modified data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s a log record with list of open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overy takes place from the latest checkpoint record in the lo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uces recovery ti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k C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es database dumps are taken period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lushes all buffers; copies database files; writes out a dump recor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ad latest database dump on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log start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mmediately afte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ump which has been loaded rollforward ‘redoing’ all committed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e E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644040"/>
            <a:ext cx="8713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526760"/>
            <a:ext cx="907272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domains contain the value,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efine a different default value:</a:t>
            </a:r>
            <a:br>
              <a:rPr sz="32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&lt;literal&gt;’;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niladic function’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literal, such as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???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O-VALU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iladic function, such a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SER, CURRENT-USER, SESSION-USER, SYSTEM-USER, CURRENT-DATE, CURRENT-TIME,  CURRENT-TIMESTAM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s defined in a column takes precedence over the abo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4661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is dropped as follow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domain is used in column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causes columns to be defined directly on the underlying data typ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3040" y="1784160"/>
            <a:ext cx="873792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reate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UTHORIZATION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EO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as now been created and is owner by the user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EO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 can now be created and added to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3040" y="1916280"/>
            <a:ext cx="87379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schema is not emp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everything in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9160" y="644040"/>
            <a:ext cx="83948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79400" y="1412640"/>
            <a:ext cx="7680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create a table in th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VARCHAR(25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PORT(AIRPORTCOD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TO-AIRPORTCOD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(AIRPORTCODE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034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9020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CHAR(2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WEEKDAY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#AVAIL-SEATS   SMALLINT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494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atabase models some portion of the real worl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Data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link between user’s view of the world and bits stored in compu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 will concentrate on the Relational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952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71400" y="1483920"/>
            <a:ext cx="894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INTEGE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A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CHAR(4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ECK-IN-STATUS  CHAR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, CUS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DAT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CUS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OMER(CUS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520" y="716040"/>
            <a:ext cx="8539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12560" y="131076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table is referenced by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add a column to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DECIMAL(7,2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f n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specified, the new column will ha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s for all tuples already in the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column from a t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 (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)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column is refere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825048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6080" y="1671120"/>
            <a:ext cx="87375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dataset consisting of 5 tables are available as .csv files or as an exce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Let us get this data int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Get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Next let us create the database using 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First you must create a database in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504360"/>
            <a:ext cx="871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47640" y="1311120"/>
            <a:ext cx="5384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-from-whe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where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rom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uple variab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tring match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dering of ro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t oper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built-in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ested sub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ecursive 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sert, delete, upd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3880" y="64404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select-from-wher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61960" y="3471480"/>
            <a:ext cx="833112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SELEC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lumns of the res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tables to be scanned in the quer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WHERE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ndition on the columns of the tables in 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124000" y="1674720"/>
            <a:ext cx="5562000" cy="1531080"/>
            <a:chOff x="2124000" y="1674720"/>
            <a:chExt cx="5562000" cy="1531080"/>
          </a:xfrm>
        </p:grpSpPr>
        <p:sp>
          <p:nvSpPr>
            <p:cNvPr id="317" name="Rectangle 4"/>
            <p:cNvSpPr/>
            <p:nvPr/>
          </p:nvSpPr>
          <p:spPr>
            <a:xfrm>
              <a:off x="2124000" y="1674720"/>
              <a:ext cx="4555080" cy="146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187000" y="1778400"/>
              <a:ext cx="549900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...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..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 with duplicates remov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all column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raised by 10%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#, PRICE*1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2600" y="627120"/>
            <a:ext cx="8177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where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3520" y="2491920"/>
            <a:ext cx="84661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in FLT-SCHEDULE for flights out of Atlanta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 model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collection of concepts for describing data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bas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schem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description of a particular collection of data, using a given data mod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al model of dat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the most widely used model toda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Main concept: 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basically a table with rows and colum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Every relation has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Geneva"/>
              </a:rPr>
              <a:t>schem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which describes the columns, or field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78822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from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12560" y="2205000"/>
            <a:ext cx="883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WEEKDAY, and FROM-AIRPORTCODE in FLT-WEEKDAY and FLT-SCHEDUL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.FLT#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, 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,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.FLT# =  FLT-SCHEDULE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ot-not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isambiguate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# 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WEEKDA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nd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53880" y="2161800"/>
            <a:ext cx="90424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alia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WEEKDAY, T.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 =  T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re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tuple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53880" y="2449440"/>
            <a:ext cx="904248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’s heritage as a tuple calculus language sh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uple variables are useful when one relation is used “twice” in a que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SCHEDULE S, FLT-SCHEDULE 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PRICE &gt; T.PRIC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T.FLT# = “DL21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2240" y="468000"/>
            <a:ext cx="86821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tring mat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6440" y="2133720"/>
            <a:ext cx="83311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wildcard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arches us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%: matches any substr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_: matches any charac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, 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 =  T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T.AIRLINE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LIK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“%an%”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an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Scandinavian, Lufthansa, PanAm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“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ny string with at least three charact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971640" y="5950080"/>
            <a:ext cx="385200" cy="0"/>
            <a:chOff x="971640" y="5950080"/>
            <a:chExt cx="385200" cy="0"/>
          </a:xfrm>
        </p:grpSpPr>
        <p:sp>
          <p:nvSpPr>
            <p:cNvPr id="334" name="Line 4"/>
            <p:cNvSpPr/>
            <p:nvPr/>
          </p:nvSpPr>
          <p:spPr>
            <a:xfrm>
              <a:off x="97164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>
              <a:off x="1115640" y="5950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127188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160" y="539640"/>
            <a:ext cx="8178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ordering of row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6440" y="2060640"/>
            <a:ext cx="833112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order b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orders the rows in a query result in a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a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 de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e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airline, and price from FLT-SCHEDULE for flights out of Atlanta ordered by ascending airline and descending price: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RDER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8600" y="499680"/>
            <a:ext cx="86817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14240" y="2581200"/>
            <a:ext cx="8429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and FLT# with more than 100 seats in FLT-INSTANCE 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1282680" y="1273320"/>
            <a:ext cx="5582880" cy="1302840"/>
            <a:chOff x="1282680" y="1273320"/>
            <a:chExt cx="5582880" cy="1302840"/>
          </a:xfrm>
        </p:grpSpPr>
        <p:grpSp>
          <p:nvGrpSpPr>
            <p:cNvPr id="342" name="Group 15"/>
            <p:cNvGrpSpPr/>
            <p:nvPr/>
          </p:nvGrpSpPr>
          <p:grpSpPr>
            <a:xfrm>
              <a:off x="1282680" y="1273320"/>
              <a:ext cx="5582880" cy="847080"/>
              <a:chOff x="1282680" y="1273320"/>
              <a:chExt cx="5582880" cy="847080"/>
            </a:xfrm>
          </p:grpSpPr>
          <p:grpSp>
            <p:nvGrpSpPr>
              <p:cNvPr id="343" name="Group 11"/>
              <p:cNvGrpSpPr/>
              <p:nvPr/>
            </p:nvGrpSpPr>
            <p:grpSpPr>
              <a:xfrm>
                <a:off x="3227400" y="1273320"/>
                <a:ext cx="3638160" cy="847080"/>
                <a:chOff x="3227400" y="1273320"/>
                <a:chExt cx="3638160" cy="847080"/>
              </a:xfrm>
            </p:grpSpPr>
            <p:grpSp>
              <p:nvGrpSpPr>
                <p:cNvPr id="344" name="Group 8"/>
                <p:cNvGrpSpPr/>
                <p:nvPr/>
              </p:nvGrpSpPr>
              <p:grpSpPr>
                <a:xfrm>
                  <a:off x="3227400" y="1273320"/>
                  <a:ext cx="3638160" cy="847080"/>
                  <a:chOff x="3227400" y="1273320"/>
                  <a:chExt cx="3638160" cy="847080"/>
                </a:xfrm>
              </p:grpSpPr>
              <p:grpSp>
                <p:nvGrpSpPr>
                  <p:cNvPr id="345" name="Group 6"/>
                  <p:cNvGrpSpPr/>
                  <p:nvPr/>
                </p:nvGrpSpPr>
                <p:grpSpPr>
                  <a:xfrm>
                    <a:off x="3227400" y="1273320"/>
                    <a:ext cx="3638160" cy="847080"/>
                    <a:chOff x="3227400" y="1273320"/>
                    <a:chExt cx="3638160" cy="847080"/>
                  </a:xfrm>
                </p:grpSpPr>
                <p:sp>
                  <p:nvSpPr>
                    <p:cNvPr id="346" name="Oval 4"/>
                    <p:cNvSpPr/>
                    <p:nvPr/>
                  </p:nvSpPr>
                  <p:spPr>
                    <a:xfrm>
                      <a:off x="322740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"/>
                    <p:cNvSpPr/>
                    <p:nvPr/>
                  </p:nvSpPr>
                  <p:spPr>
                    <a:xfrm>
                      <a:off x="461088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Freeform 7"/>
                  <p:cNvSpPr/>
                  <p:nvPr/>
                </p:nvSpPr>
                <p:spPr>
                  <a:xfrm>
                    <a:off x="4581360" y="1365840"/>
                    <a:ext cx="913680" cy="669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Rectangle 9"/>
                <p:cNvSpPr/>
                <p:nvPr/>
              </p:nvSpPr>
              <p:spPr>
                <a:xfrm>
                  <a:off x="5751360" y="14932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0"/>
                <p:cNvSpPr/>
                <p:nvPr/>
              </p:nvSpPr>
              <p:spPr>
                <a:xfrm>
                  <a:off x="3922920" y="15505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4"/>
              <p:cNvGrpSpPr/>
              <p:nvPr/>
            </p:nvGrpSpPr>
            <p:grpSpPr>
              <a:xfrm>
                <a:off x="1282680" y="1493280"/>
                <a:ext cx="1941840" cy="454680"/>
                <a:chOff x="1282680" y="1493280"/>
                <a:chExt cx="1941840" cy="454680"/>
              </a:xfrm>
            </p:grpSpPr>
            <p:graphicFrame>
              <p:nvGraphicFramePr>
                <p:cNvPr id="352" name="Object 12"/>
                <p:cNvGraphicFramePr/>
                <p:nvPr/>
              </p:nvGraphicFramePr>
              <p:xfrm>
                <a:off x="1746000" y="1510920"/>
                <a:ext cx="287640" cy="2854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53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46000" y="1510920"/>
                          <a:ext cx="287640" cy="285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54" name="Rectangle 13"/>
                <p:cNvSpPr/>
                <p:nvPr/>
              </p:nvSpPr>
              <p:spPr>
                <a:xfrm>
                  <a:off x="1282680" y="1493280"/>
                  <a:ext cx="1941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Rectangle 16"/>
            <p:cNvSpPr/>
            <p:nvPr/>
          </p:nvSpPr>
          <p:spPr>
            <a:xfrm>
              <a:off x="4126680" y="2121480"/>
              <a:ext cx="204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union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9520" y="49968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7240" y="2736720"/>
            <a:ext cx="839016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8" name="Group 17"/>
          <p:cNvGrpSpPr/>
          <p:nvPr/>
        </p:nvGrpSpPr>
        <p:grpSpPr>
          <a:xfrm>
            <a:off x="1386000" y="1422360"/>
            <a:ext cx="5583960" cy="1303200"/>
            <a:chOff x="1386000" y="1422360"/>
            <a:chExt cx="5583960" cy="1303200"/>
          </a:xfrm>
        </p:grpSpPr>
        <p:grpSp>
          <p:nvGrpSpPr>
            <p:cNvPr id="359" name="Group 15"/>
            <p:cNvGrpSpPr/>
            <p:nvPr/>
          </p:nvGrpSpPr>
          <p:grpSpPr>
            <a:xfrm>
              <a:off x="1386000" y="1422360"/>
              <a:ext cx="5583960" cy="847440"/>
              <a:chOff x="1386000" y="1422360"/>
              <a:chExt cx="5583960" cy="847440"/>
            </a:xfrm>
          </p:grpSpPr>
          <p:grpSp>
            <p:nvGrpSpPr>
              <p:cNvPr id="360" name="Group 11"/>
              <p:cNvGrpSpPr/>
              <p:nvPr/>
            </p:nvGrpSpPr>
            <p:grpSpPr>
              <a:xfrm>
                <a:off x="3331080" y="1422360"/>
                <a:ext cx="3638880" cy="847440"/>
                <a:chOff x="3331080" y="1422360"/>
                <a:chExt cx="3638880" cy="847440"/>
              </a:xfrm>
            </p:grpSpPr>
            <p:grpSp>
              <p:nvGrpSpPr>
                <p:cNvPr id="361" name="Group 8"/>
                <p:cNvGrpSpPr/>
                <p:nvPr/>
              </p:nvGrpSpPr>
              <p:grpSpPr>
                <a:xfrm>
                  <a:off x="3331080" y="1422360"/>
                  <a:ext cx="3638880" cy="847440"/>
                  <a:chOff x="3331080" y="1422360"/>
                  <a:chExt cx="3638880" cy="847440"/>
                </a:xfrm>
              </p:grpSpPr>
              <p:grpSp>
                <p:nvGrpSpPr>
                  <p:cNvPr id="362" name="Group 6"/>
                  <p:cNvGrpSpPr/>
                  <p:nvPr/>
                </p:nvGrpSpPr>
                <p:grpSpPr>
                  <a:xfrm>
                    <a:off x="3331080" y="1422360"/>
                    <a:ext cx="3638880" cy="847440"/>
                    <a:chOff x="3331080" y="1422360"/>
                    <a:chExt cx="3638880" cy="847440"/>
                  </a:xfrm>
                </p:grpSpPr>
                <p:sp>
                  <p:nvSpPr>
                    <p:cNvPr id="363" name="Oval 4"/>
                    <p:cNvSpPr/>
                    <p:nvPr/>
                  </p:nvSpPr>
                  <p:spPr>
                    <a:xfrm>
                      <a:off x="333108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Oval 5"/>
                    <p:cNvSpPr/>
                    <p:nvPr/>
                  </p:nvSpPr>
                  <p:spPr>
                    <a:xfrm>
                      <a:off x="471456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Freeform 7"/>
                  <p:cNvSpPr/>
                  <p:nvPr/>
                </p:nvSpPr>
                <p:spPr>
                  <a:xfrm>
                    <a:off x="4685040" y="1515240"/>
                    <a:ext cx="91404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Rectangle 9"/>
                <p:cNvSpPr/>
                <p:nvPr/>
              </p:nvSpPr>
              <p:spPr>
                <a:xfrm>
                  <a:off x="585576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10"/>
                <p:cNvSpPr/>
                <p:nvPr/>
              </p:nvSpPr>
              <p:spPr>
                <a:xfrm>
                  <a:off x="402732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14"/>
              <p:cNvGrpSpPr/>
              <p:nvPr/>
            </p:nvGrpSpPr>
            <p:grpSpPr>
              <a:xfrm>
                <a:off x="1386000" y="1642320"/>
                <a:ext cx="1942920" cy="454680"/>
                <a:chOff x="1386000" y="1642320"/>
                <a:chExt cx="1942920" cy="454680"/>
              </a:xfrm>
            </p:grpSpPr>
            <p:graphicFrame>
              <p:nvGraphicFramePr>
                <p:cNvPr id="369" name="Object 12"/>
                <p:cNvGraphicFramePr/>
                <p:nvPr/>
              </p:nvGraphicFramePr>
              <p:xfrm>
                <a:off x="1849320" y="1650600"/>
                <a:ext cx="287640" cy="285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70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49320" y="1650600"/>
                          <a:ext cx="287640" cy="28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71" name="Rectangle 13"/>
                <p:cNvSpPr/>
                <p:nvPr/>
              </p:nvSpPr>
              <p:spPr>
                <a:xfrm>
                  <a:off x="1386000" y="1642320"/>
                  <a:ext cx="1942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16"/>
            <p:cNvSpPr/>
            <p:nvPr/>
          </p:nvSpPr>
          <p:spPr>
            <a:xfrm>
              <a:off x="3926160" y="2270880"/>
              <a:ext cx="255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intersect 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2240" y="499680"/>
            <a:ext cx="868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set oper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4200" y="2733840"/>
            <a:ext cx="8534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except FLT#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preserves duplic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5" name="Group 13"/>
          <p:cNvGrpSpPr/>
          <p:nvPr/>
        </p:nvGrpSpPr>
        <p:grpSpPr>
          <a:xfrm>
            <a:off x="1517760" y="1413000"/>
            <a:ext cx="5381280" cy="1303200"/>
            <a:chOff x="1517760" y="1413000"/>
            <a:chExt cx="5381280" cy="1303200"/>
          </a:xfrm>
        </p:grpSpPr>
        <p:grpSp>
          <p:nvGrpSpPr>
            <p:cNvPr id="376" name="Group 11"/>
            <p:cNvGrpSpPr/>
            <p:nvPr/>
          </p:nvGrpSpPr>
          <p:grpSpPr>
            <a:xfrm>
              <a:off x="1517760" y="1413000"/>
              <a:ext cx="5381280" cy="847440"/>
              <a:chOff x="1517760" y="1413000"/>
              <a:chExt cx="5381280" cy="847440"/>
            </a:xfrm>
          </p:grpSpPr>
          <p:grpSp>
            <p:nvGrpSpPr>
              <p:cNvPr id="377" name="Group 9"/>
              <p:cNvGrpSpPr/>
              <p:nvPr/>
            </p:nvGrpSpPr>
            <p:grpSpPr>
              <a:xfrm>
                <a:off x="3259440" y="1413000"/>
                <a:ext cx="3639600" cy="847440"/>
                <a:chOff x="3259440" y="1413000"/>
                <a:chExt cx="3639600" cy="847440"/>
              </a:xfrm>
            </p:grpSpPr>
            <p:grpSp>
              <p:nvGrpSpPr>
                <p:cNvPr id="378" name="Group 6"/>
                <p:cNvGrpSpPr/>
                <p:nvPr/>
              </p:nvGrpSpPr>
              <p:grpSpPr>
                <a:xfrm>
                  <a:off x="3259440" y="1413000"/>
                  <a:ext cx="3639600" cy="847440"/>
                  <a:chOff x="3259440" y="1413000"/>
                  <a:chExt cx="3639600" cy="847440"/>
                </a:xfrm>
              </p:grpSpPr>
              <p:sp>
                <p:nvSpPr>
                  <p:cNvPr id="379" name="Oval 4"/>
                  <p:cNvSpPr/>
                  <p:nvPr/>
                </p:nvSpPr>
                <p:spPr>
                  <a:xfrm>
                    <a:off x="3259440" y="1413000"/>
                    <a:ext cx="2255760" cy="8474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5"/>
                  <p:cNvSpPr/>
                  <p:nvPr/>
                </p:nvSpPr>
                <p:spPr>
                  <a:xfrm>
                    <a:off x="4643280" y="1413000"/>
                    <a:ext cx="2255760" cy="84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Rectangle 7"/>
                <p:cNvSpPr/>
                <p:nvPr/>
              </p:nvSpPr>
              <p:spPr>
                <a:xfrm>
                  <a:off x="5784480" y="163296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8"/>
                <p:cNvSpPr/>
                <p:nvPr/>
              </p:nvSpPr>
              <p:spPr>
                <a:xfrm>
                  <a:off x="4056840" y="1632960"/>
                  <a:ext cx="419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Rectangle 10"/>
              <p:cNvSpPr/>
              <p:nvPr/>
            </p:nvSpPr>
            <p:spPr>
              <a:xfrm>
                <a:off x="1517760" y="1632960"/>
                <a:ext cx="1536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\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2"/>
            <p:cNvSpPr/>
            <p:nvPr/>
          </p:nvSpPr>
          <p:spPr>
            <a:xfrm>
              <a:off x="4057200" y="2261520"/>
              <a:ext cx="204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minus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82504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23640" y="2204640"/>
            <a:ext cx="9180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s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average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in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ax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flights scheduled for Tuesdays from FLT-WEEKD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 *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WEEKDAY = “TU”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rom FLT-SCHEDUL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90424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06440" y="1958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or scheduled flights out of Atlanta for airlines with more than 5 scheduled flights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AVING COU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&gt;= 5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highest priced flight(s)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0560" y="719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Levels of Abstra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700280"/>
            <a:ext cx="46148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Views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scribe how users see the data.             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Conceptu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fines logical stru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Physic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scribes the files and indexes us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sometimes called the </a:t>
            </a: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ANSI/SPARC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8"/>
          <p:cNvGrpSpPr/>
          <p:nvPr/>
        </p:nvGrpSpPr>
        <p:grpSpPr>
          <a:xfrm>
            <a:off x="5390640" y="2498760"/>
            <a:ext cx="3690360" cy="3279600"/>
            <a:chOff x="5390640" y="2498760"/>
            <a:chExt cx="3690360" cy="3279600"/>
          </a:xfrm>
        </p:grpSpPr>
        <p:sp>
          <p:nvSpPr>
            <p:cNvPr id="175" name="Oval 9"/>
            <p:cNvSpPr/>
            <p:nvPr/>
          </p:nvSpPr>
          <p:spPr>
            <a:xfrm>
              <a:off x="6705720" y="46609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6689880" y="4757760"/>
              <a:ext cx="2880" cy="9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6705720" y="55753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7759800" y="48006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6018840" y="40226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5790600" y="333684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539064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68592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798300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541008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6705720" y="2527200"/>
              <a:ext cx="104112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800100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1"/>
            <p:cNvSpPr/>
            <p:nvPr/>
          </p:nvSpPr>
          <p:spPr>
            <a:xfrm>
              <a:off x="5867280" y="3365640"/>
              <a:ext cx="27939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095880" y="4051440"/>
              <a:ext cx="23367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593100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7226280" y="2895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 flipH="1">
              <a:off x="798804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722628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7226280" y="4419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6833880" y="495288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6503040" y="155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12560" y="23904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t membership: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,  NOT 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irlines from FLT-SCHEDULE where FLT# is in the set of FLT#’s for flights on Tue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000" y="23490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’s for flights on Tuesdays or Thur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ISTINCT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EEKDAY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(“TU”, “TH”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466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6440" y="2304720"/>
            <a:ext cx="833112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 for flights from Atlanta to Chicago with a price that is lower than all flights from Birmingham to Chicag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BIR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2240" y="644040"/>
            <a:ext cx="8537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9840" y="1628640"/>
            <a:ext cx="8534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cross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rtesian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inner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]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join: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only keeps rows that satisfy the join condi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lef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lef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righ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righ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full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both tables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 on-condition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ust be specified for all inner and outer 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qui-join on columns with same name; one column preserv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2600" y="636480"/>
            <a:ext cx="83217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58920" y="1700280"/>
            <a:ext cx="8534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two-leg, one-day trips out of Atlanta; show also a leg-one even if there is no connecting leg-two the same 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LT# LEG-ONE, Y.FLT# LEG-TW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X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LEFT OUTER JO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Y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(X.TO-AIRPORTCODE=Y.FROM-AIRPORTCOD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DATE=Y.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ATIME&lt;Y.DTIME)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682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- recursive queri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5600" y="1742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in SQL2; maybe in SQL3...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reachable airports for multi-leg trips out of Atlanta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I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D, TO-AIRPORTCODE   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CURSI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(D, A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/*initially empty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D, REACHES.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, REAC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A=REACHES.D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0" y="499680"/>
            <a:ext cx="93236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delete, 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120" y="141264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, 11-15-00, “ATL”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3-05-00, ”CHI”, 650, 00351.00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(FLT#,AIRLIN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);   /*default nulls added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sert into FLT-INSTANCE all flights scheduled for Thursday, 9/10/98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(FLT#, DAT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FLT#=D.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WEEKDAY=“TH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904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delete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34680" y="1929960"/>
            <a:ext cx="854532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ncel all flight instances for Delta 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LETE 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=“DELTA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3520" y="499680"/>
            <a:ext cx="879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delete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6080" y="196344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pdate all reservations for customers on DL212 on 9/10/98 to reservations on AA121 on 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AA121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DL212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 - 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618920" y="1598400"/>
            <a:ext cx="5994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ecompi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mpedance mismatc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atabase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ursor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etch ori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exception handl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Geneva"/>
              </a:rPr>
              <a:t>Data Independ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" y="1593720"/>
            <a:ext cx="457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Simple Idea: Applications should be insulated from how data is structured and stor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Log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Phys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5193720" y="2212920"/>
            <a:ext cx="3753360" cy="3809520"/>
            <a:chOff x="5193720" y="2212920"/>
            <a:chExt cx="3753360" cy="3809520"/>
          </a:xfrm>
        </p:grpSpPr>
        <p:sp>
          <p:nvSpPr>
            <p:cNvPr id="199" name="Oval 5"/>
            <p:cNvSpPr/>
            <p:nvPr/>
          </p:nvSpPr>
          <p:spPr>
            <a:xfrm>
              <a:off x="6540120" y="4724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>
              <a:off x="6523560" y="4836960"/>
              <a:ext cx="2880" cy="11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6540120" y="5786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7619040" y="4886640"/>
              <a:ext cx="0" cy="97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5837400" y="39830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5604480" y="318636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1937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65185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784908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21388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6540120" y="2245680"/>
              <a:ext cx="106560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786564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5681880" y="3219840"/>
              <a:ext cx="2859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5915880" y="4016520"/>
              <a:ext cx="2391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574704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>
              <a:off x="7072920" y="2673720"/>
              <a:ext cx="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 flipH="1">
              <a:off x="785268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7072920" y="364752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7072920" y="4444200"/>
              <a:ext cx="0" cy="44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6669720" y="506376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25"/>
          <p:cNvSpPr/>
          <p:nvPr/>
        </p:nvSpPr>
        <p:spPr>
          <a:xfrm rot="20380800">
            <a:off x="4349880" y="3034800"/>
            <a:ext cx="1512720" cy="304920"/>
          </a:xfrm>
          <a:custGeom>
            <a:avLst/>
            <a:gdLst>
              <a:gd name="textAreaLeft" fmla="*/ 189000 w 1512720"/>
              <a:gd name="textAreaRight" fmla="*/ 1323720 w 1512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rot="19727400">
            <a:off x="4350960" y="4146480"/>
            <a:ext cx="1725480" cy="293760"/>
          </a:xfrm>
          <a:custGeom>
            <a:avLst/>
            <a:gdLst>
              <a:gd name="textAreaLeft" fmla="*/ 261360 w 1725480"/>
              <a:gd name="textAreaRight" fmla="*/ 1464120 w 1725480"/>
              <a:gd name="textAreaTop" fmla="*/ 73440 h 293760"/>
              <a:gd name="textAreaBottom" fmla="*/ 2203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0" y="5400"/>
                </a:lnTo>
                <a:lnTo>
                  <a:pt x="15050" y="0"/>
                </a:lnTo>
                <a:lnTo>
                  <a:pt x="21600" y="10800"/>
                </a:lnTo>
                <a:lnTo>
                  <a:pt x="15050" y="21600"/>
                </a:lnTo>
                <a:lnTo>
                  <a:pt x="15050" y="16200"/>
                </a:lnTo>
                <a:lnTo>
                  <a:pt x="0" y="16200"/>
                </a:lnTo>
                <a:lnTo>
                  <a:pt x="32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228600" y="55627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2240" y="539640"/>
            <a:ext cx="88614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-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32880" y="1815840"/>
            <a:ext cx="8331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doesn’t do iteration, recursion, report printing, user interaction, and SQL doesn’t do Window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may be embedded in host languages, like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BOL, FORTRAN, MUMPS, PL/I, PASCAL, ADA, C, C++, JAV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r used from languages like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3880" y="539280"/>
            <a:ext cx="904248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impedance mismatch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6440" y="1628640"/>
            <a:ext cx="83311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is a powerful, set-oriented, declarative langu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queries return sets of r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host languages cannot handle large sets of structured data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ursors resolve the mismatc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m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61960" y="1765080"/>
            <a:ext cx="83311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view is a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virtua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tabl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is defin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wri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&lt;= 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61960" y="2557440"/>
            <a:ext cx="83311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comput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definition is dropp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 [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]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inherit column names of the base tables they are defin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s may be explicitly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 names must be named if inheriting them causes ambigu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may have computed columns, e.g. from applying built-in-functions; these must be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8704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9960" y="15663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se views ar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updat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VG-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AVG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is view is theoretically updatable, bu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annot be updated in SQ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-AND-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*,  D.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FLT# = S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Rectangle 4"/>
          <p:cNvSpPr/>
          <p:nvPr/>
        </p:nvSpPr>
        <p:spPr>
          <a:xfrm rot="3075600">
            <a:off x="5746680" y="1960200"/>
            <a:ext cx="202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H="1">
            <a:off x="5148000" y="1998720"/>
            <a:ext cx="11350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 rot="3087000">
            <a:off x="6258960" y="3022200"/>
            <a:ext cx="172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 flipH="1">
            <a:off x="6070320" y="3233880"/>
            <a:ext cx="42372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 rot="2907600">
            <a:off x="7053840" y="5050800"/>
            <a:ext cx="167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 of tw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H="1">
            <a:off x="6678720" y="5257800"/>
            <a:ext cx="520560" cy="4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9520" y="573120"/>
            <a:ext cx="8755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49240" y="1742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view is </a:t>
            </a:r>
            <a:r>
              <a:rPr b="1" lang="en-US" sz="2000" spc="-1" strike="noStrike">
                <a:solidFill>
                  <a:srgbClr val="333333"/>
                </a:solidFill>
                <a:latin typeface="Geneva"/>
              </a:rPr>
              <a:t>updatable if and only if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any of the keywords JOIN, UNION, INTERSECT, EXCEP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the keyword DISTIN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very column in the view corresponds to a uniquely identifiable base table colum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ROM clause references exactly one table which must be a base table or an updatable view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table referenced in the FROM clause cannot be referenced in the FROM clause of a nested WHERE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GROUP BY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HAVING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updatable means insert, delete, update all o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610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12560" y="1962000"/>
            <a:ext cx="81198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OW-ATL-FARES  /*updatabl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 /*moves row  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 = 00250.00                      /* 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TO-AIRPORTCODE = “BOS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/*creates row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22”, ”DELTA”,           /*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”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R”, 11-15-00, ”CHI”, 13-05-00, 00180.00);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61960" y="1936800"/>
            <a:ext cx="83311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: a conditional expression required not to evaluate to</a:t>
            </a:r>
            <a:r>
              <a:rPr b="0" i="1" lang="en-US" sz="2400" spc="-1" strike="noStrike">
                <a:solidFill>
                  <a:srgbClr val="333333"/>
                </a:solidFill>
                <a:latin typeface="Geneva"/>
              </a:rPr>
              <a:t> fals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cannot be created if it is already viola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is enforced from the point of creation forw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has a uniqu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f a constraint is violated its name is made available to the us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s cannot reference parameters or host variables; they are application independ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type checking is a primitive form of constrai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domai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6080" y="1412640"/>
            <a:ext cx="86360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ssociated with a domain; applies to all columns defined on the doma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WEEKDAY CHAR(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WEEKDAY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IN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 “MO”, “TU”, “WE”, “TH”, “FR”, “SA”, “SU”)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RICE DECIMAL(7,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PRIC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&gt; 00000.00 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# CHAR(5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FLT#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NOT NUL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1520" y="6202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6080" y="1844640"/>
            <a:ext cx="85345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SQL consists of the following par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Definition Language (DD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ractive Data Manipulation Language (Interactive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mbedded Data Manipulation Language (Embedded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Vie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grit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base table, colum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85640" y="1519200"/>
            <a:ext cx="88394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ssociated with a specific base t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VARCHAR(25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TPK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-F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DTIME-ATIM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 &lt; ATIME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1590840"/>
            <a:ext cx="9042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pplies to an arbitrary combination of columns and tabl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onnecting RESERVATIONS for a customer must make sens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CONNECTING-FLIGHTS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(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SCHEDULE FS1 FS2, RESERVATION R1 R2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FLT#=R1.FLT#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2.FLT#=R2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R1.DATE=R2.DAT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TO-AIRPORTCODE=FS2.FROM-AIRPORTCOD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ATIME+ INTERVAL “30” MINUTE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&gt; FS2.DTIME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(not so)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5600" y="1526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all constraints can be specifie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HAR(2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-WEEKDAY-CHEC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(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INSTANCE FI, FLT-WEEKDAY FSD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I.FLT#=FSD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weekday-of(FI.DATE) &lt;&gt; FSD.WEEKDAY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eekday-of: DATE    WEEKD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859280" y="4995720"/>
          <a:ext cx="220680" cy="1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995720"/>
                    <a:ext cx="220680" cy="1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72680" y="138240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omic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nsistent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olated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urable (ACID) transactions are supported b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MMIT and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OLLBACK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OPE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WHILE TRUE DO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EXEC SQL FETCH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FL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NTO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:FLT#, :AIRLINE, :PRICE;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DO YOUR THING WITH THE DATA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END-WHILE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LOS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QUIT: IF SQLCODE &lt; 0 THEN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ROLLBACK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ELSE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OMMIT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07600" y="145548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scretionary Access Control (DAC) is supported by GRANT and REVOK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privileges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 OPTION FOR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 &lt;privilege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 {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STRICT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| 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}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948600" indent="-189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&lt;privileges&gt;: SELECT, INSERT(X), INSERT,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UPDATE(X), UPDATE,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ASCADE: revoke cascades through its subtre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STRICT: revoke succeeds only if there is no subtre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7963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INSERT, DELET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1, U2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PDATE(PRICE)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3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GRANT OPTION FOR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2 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2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 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28560" y="1227240"/>
            <a:ext cx="8336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n INFORMATION_SCHEMA contains the following tables (or rather views) for the CURRENT_USER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INFORMATION-_SCHEMA_CATALOG_NAME: single-row, single-column table with the name of the catalog in which the INFORMATION_SCHEMA reside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SCHEMATA created by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VIEW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S of 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SAG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_CONSTRAINTS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REFERENTIAL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HECK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and 18 others ..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16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tructure of a DB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typical DBMS has a layered architectu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igure does not show the concurrency control and recovery component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ach system has its own varia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book shows a somewhat more detailed version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You will see the “real deal” in PostgreSQ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’s a pretty full-featured examp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ext class: we will start on this stack, bottom up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7"/>
          <p:cNvGrpSpPr/>
          <p:nvPr/>
        </p:nvGrpSpPr>
        <p:grpSpPr>
          <a:xfrm>
            <a:off x="4572000" y="2579760"/>
            <a:ext cx="3276720" cy="4017960"/>
            <a:chOff x="4572000" y="2579760"/>
            <a:chExt cx="3276720" cy="4017960"/>
          </a:xfrm>
        </p:grpSpPr>
        <p:sp>
          <p:nvSpPr>
            <p:cNvPr id="459" name="Rectangle 8"/>
            <p:cNvSpPr/>
            <p:nvPr/>
          </p:nvSpPr>
          <p:spPr>
            <a:xfrm>
              <a:off x="5027400" y="257976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"/>
            <p:cNvSpPr/>
            <p:nvPr/>
          </p:nvSpPr>
          <p:spPr>
            <a:xfrm>
              <a:off x="4948920" y="3409920"/>
              <a:ext cx="252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644000" y="3919320"/>
              <a:ext cx="315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5001480" y="4502160"/>
              <a:ext cx="241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4695120" y="5027400"/>
              <a:ext cx="30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4597560" y="2585880"/>
              <a:ext cx="3222360" cy="287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4572000" y="33494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"/>
            <p:cNvSpPr/>
            <p:nvPr/>
          </p:nvSpPr>
          <p:spPr>
            <a:xfrm>
              <a:off x="4572000" y="3882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4572000" y="43401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7"/>
            <p:cNvSpPr/>
            <p:nvPr/>
          </p:nvSpPr>
          <p:spPr>
            <a:xfrm>
              <a:off x="4572000" y="49496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8"/>
            <p:cNvSpPr/>
            <p:nvPr/>
          </p:nvSpPr>
          <p:spPr>
            <a:xfrm>
              <a:off x="5651640" y="595296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5635800" y="6005520"/>
              <a:ext cx="288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0"/>
            <p:cNvSpPr/>
            <p:nvPr/>
          </p:nvSpPr>
          <p:spPr>
            <a:xfrm>
              <a:off x="6705720" y="6032520"/>
              <a:ext cx="0" cy="51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"/>
            <p:cNvSpPr/>
            <p:nvPr/>
          </p:nvSpPr>
          <p:spPr>
            <a:xfrm>
              <a:off x="5651640" y="648648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5925960" y="6145200"/>
              <a:ext cx="50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3"/>
            <p:cNvSpPr/>
            <p:nvPr/>
          </p:nvSpPr>
          <p:spPr>
            <a:xfrm>
              <a:off x="6095880" y="54831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24"/>
          <p:cNvSpPr/>
          <p:nvPr/>
        </p:nvSpPr>
        <p:spPr>
          <a:xfrm>
            <a:off x="7924680" y="4130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8153280" y="41180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7924680" y="5273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7"/>
          <p:cNvSpPr/>
          <p:nvPr/>
        </p:nvSpPr>
        <p:spPr>
          <a:xfrm>
            <a:off x="6855840" y="620640"/>
            <a:ext cx="189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rc 28"/>
          <p:cNvSpPr/>
          <p:nvPr/>
        </p:nvSpPr>
        <p:spPr>
          <a:xfrm>
            <a:off x="8534520" y="191772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rc 29"/>
          <p:cNvSpPr/>
          <p:nvPr/>
        </p:nvSpPr>
        <p:spPr>
          <a:xfrm>
            <a:off x="8532720" y="336384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0"/>
          <p:cNvSpPr/>
          <p:nvPr/>
        </p:nvSpPr>
        <p:spPr>
          <a:xfrm flipH="1">
            <a:off x="8305560" y="4811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2216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388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Execu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 Serializ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acle multi version concurrency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ash Recove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54"/>
          <p:cNvGrpSpPr/>
          <p:nvPr/>
        </p:nvGrpSpPr>
        <p:grpSpPr>
          <a:xfrm>
            <a:off x="260280" y="895320"/>
            <a:ext cx="8851680" cy="5000760"/>
            <a:chOff x="260280" y="895320"/>
            <a:chExt cx="8851680" cy="5000760"/>
          </a:xfrm>
        </p:grpSpPr>
        <p:sp>
          <p:nvSpPr>
            <p:cNvPr id="225" name="Rectangle 2"/>
            <p:cNvSpPr/>
            <p:nvPr/>
          </p:nvSpPr>
          <p:spPr>
            <a:xfrm>
              <a:off x="325800" y="1954440"/>
              <a:ext cx="86184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376560" y="3357360"/>
              <a:ext cx="23194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76560" y="4093200"/>
              <a:ext cx="41482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376560" y="4796640"/>
              <a:ext cx="729756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376560" y="5511960"/>
              <a:ext cx="618012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376560" y="2652120"/>
              <a:ext cx="191484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325800" y="1619280"/>
              <a:ext cx="2654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60280" y="3082680"/>
              <a:ext cx="245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INS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260280" y="2361600"/>
              <a:ext cx="2654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WEEK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289800" y="3802320"/>
              <a:ext cx="2552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"/>
            <p:cNvSpPr/>
            <p:nvPr/>
          </p:nvSpPr>
          <p:spPr>
            <a:xfrm>
              <a:off x="260280" y="4521960"/>
              <a:ext cx="2755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361800" y="337032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plane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4"/>
            <p:cNvSpPr/>
            <p:nvPr/>
          </p:nvSpPr>
          <p:spPr>
            <a:xfrm>
              <a:off x="260280" y="5170680"/>
              <a:ext cx="2247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5"/>
            <p:cNvSpPr/>
            <p:nvPr/>
          </p:nvSpPr>
          <p:spPr>
            <a:xfrm>
              <a:off x="361800" y="1963800"/>
              <a:ext cx="8750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airline     dtime     from-airportcode      atime     to-airportcode      miles    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>
              <a:off x="361800" y="2649240"/>
              <a:ext cx="336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week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"/>
            <p:cNvSpPr/>
            <p:nvPr/>
          </p:nvSpPr>
          <p:spPr>
            <a:xfrm>
              <a:off x="361800" y="4091760"/>
              <a:ext cx="4381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plane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plane-type        total-#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8"/>
            <p:cNvSpPr/>
            <p:nvPr/>
          </p:nvSpPr>
          <p:spPr>
            <a:xfrm>
              <a:off x="361800" y="479520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cust# 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first     middle      last    phone#     street        city    state     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361800" y="553284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    cus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 seat#     check-in-status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ticket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707364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62607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>
              <a:off x="56512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>
              <a:off x="46353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351792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29080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>
              <a:off x="18921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>
              <a:off x="118080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554940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>
              <a:off x="35179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26035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>
              <a:off x="16891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>
              <a:off x="97776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9"/>
            <p:cNvGrpSpPr/>
            <p:nvPr/>
          </p:nvGrpSpPr>
          <p:grpSpPr>
            <a:xfrm>
              <a:off x="260280" y="895320"/>
              <a:ext cx="8478000" cy="726480"/>
              <a:chOff x="260280" y="895320"/>
              <a:chExt cx="8478000" cy="726480"/>
            </a:xfrm>
          </p:grpSpPr>
          <p:sp>
            <p:nvSpPr>
              <p:cNvPr id="257" name="Rectangle 33"/>
              <p:cNvSpPr/>
              <p:nvPr/>
            </p:nvSpPr>
            <p:spPr>
              <a:xfrm>
                <a:off x="325800" y="1194840"/>
                <a:ext cx="4046400" cy="340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4"/>
              <p:cNvSpPr/>
              <p:nvPr/>
            </p:nvSpPr>
            <p:spPr>
              <a:xfrm>
                <a:off x="260280" y="895320"/>
                <a:ext cx="173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IRPO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35"/>
              <p:cNvSpPr/>
              <p:nvPr/>
            </p:nvSpPr>
            <p:spPr>
              <a:xfrm>
                <a:off x="395280" y="1258560"/>
                <a:ext cx="8343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Geneva"/>
                  </a:rPr>
                  <a:t>airportcod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eneva"/>
                  </a:rPr>
                  <a:t>        name     city     st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6"/>
              <p:cNvSpPr/>
              <p:nvPr/>
            </p:nvSpPr>
            <p:spPr>
              <a:xfrm>
                <a:off x="19936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7"/>
              <p:cNvSpPr/>
              <p:nvPr/>
            </p:nvSpPr>
            <p:spPr>
              <a:xfrm>
                <a:off x="2908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38"/>
              <p:cNvSpPr/>
              <p:nvPr/>
            </p:nvSpPr>
            <p:spPr>
              <a:xfrm>
                <a:off x="3619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Line 40"/>
            <p:cNvSpPr/>
            <p:nvPr/>
          </p:nvSpPr>
          <p:spPr>
            <a:xfrm>
              <a:off x="8254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17398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>
              <a:off x="255240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>
              <a:off x="468612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>
              <a:off x="54986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>
              <a:off x="73274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>
              <a:off x="81406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2713320" y="3357360"/>
              <a:ext cx="17100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>
              <a:off x="875880" y="265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>
              <a:off x="97776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>
              <a:off x="168912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>
              <a:off x="138420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2"/>
            <p:cNvSpPr/>
            <p:nvPr/>
          </p:nvSpPr>
          <p:spPr>
            <a:xfrm>
              <a:off x="290808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2698560" y="3357360"/>
              <a:ext cx="1739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#avail-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"/>
          <p:cNvSpPr/>
          <p:nvPr/>
        </p:nvSpPr>
        <p:spPr>
          <a:xfrm>
            <a:off x="271800" y="165096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T-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557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quence of SQL statements that form a logical unit of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the database from one logically consistent state to another. E.g delete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header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in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I failure now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line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No unmatched  FK’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proper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mic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SQL complete or none are comple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sist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ogrammer responsibi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ultiple transactions execute in isolatio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rabil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uccessful commits survive system failur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 Diagra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3270240" y="15937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603360" y="296532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6089760" y="1746360"/>
            <a:ext cx="1993680" cy="1307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6089760" y="464184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3270240" y="45655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63560" y="3430440"/>
            <a:ext cx="159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446640" y="1677960"/>
            <a:ext cx="1917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all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6156360" y="2135160"/>
            <a:ext cx="1977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3506760" y="49546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6300720" y="4995720"/>
            <a:ext cx="184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2529000" y="2808360"/>
            <a:ext cx="811080" cy="40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2300400" y="4129200"/>
            <a:ext cx="96336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4267080" y="2909880"/>
            <a:ext cx="0" cy="157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24480" y="228600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5424480" y="518148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9"/>
          <p:cNvSpPr/>
          <p:nvPr/>
        </p:nvSpPr>
        <p:spPr>
          <a:xfrm>
            <a:off x="1332000" y="614052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"/>
          <p:cNvSpPr/>
          <p:nvPr/>
        </p:nvSpPr>
        <p:spPr>
          <a:xfrm>
            <a:off x="5338800" y="61405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2484360" y="5924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6348240" y="5924520"/>
            <a:ext cx="20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8360" y="177336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ti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 whilst execut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tially Commit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QL commit statement execution star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ai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ormal execution cannot proce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 to st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llback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un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Transaction stat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8360" y="1699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QL statement starts a transaction that is terminated b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it;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kes all changes  permanent                      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llback;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s all chang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DDL comman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ystem generated rollback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Quitting the session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it at regular interval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will keep your transactions sho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voids wasting system resour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events loss of work if system generated rollback occu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use of rollback to undo user mistak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enefits from concurrent execution of trans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leaving of CPU and I/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different transactions to execute in parall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reases system utilisation and throughp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long  and short running transactions to make progress if not accessing the same data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ternative is to serialise and then the short transactions have long wai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ads and Wri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transaction can be regarded as a sequence of database reads and writ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transactions only conflict when accessing the same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al variables are in separate address space so no confli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utation on local variables only explains how the write value is formed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SQL version 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0" y="17780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grant set current = val;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date grant set current = v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4191120" y="2147760"/>
            <a:ext cx="0" cy="332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 flipV="1">
            <a:off x="4952880" y="6095520"/>
            <a:ext cx="51912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 flipV="1">
            <a:off x="3276720" y="6095520"/>
            <a:ext cx="67140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Read/Writ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3429000" y="5791320"/>
            <a:ext cx="6714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4800600" y="5791320"/>
            <a:ext cx="9000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7835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6000" y="2133360"/>
            <a:ext cx="65023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imitive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2 2500   @t4 27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 flipV="1">
            <a:off x="3200400" y="5866920"/>
            <a:ext cx="97632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4800600" y="5866920"/>
            <a:ext cx="6714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0" y="1525680"/>
            <a:ext cx="91411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440" y="1790640"/>
            <a:ext cx="91411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 2200  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 flipV="1">
            <a:off x="4046400" y="6121440"/>
            <a:ext cx="3668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 flipV="1">
            <a:off x="4732200" y="6121440"/>
            <a:ext cx="51912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chedule is a sequence of reads/writes of a set of concurrent users that preserves the order of the reads/writes of the individual users. E.g. Lost Update(Read/Write)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rial schedule is a schedule where the reads/writes of each users are executed consecutively without any interleaving of different users reads/writes  E.g. Lost Update  Serial Schedule 1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schedu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-36360" y="1700280"/>
            <a:ext cx="914220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U1       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read A                    write A                   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                   write A                    read A        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ffect of reversing the interleaved sequence U1 U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e two read A may be interchanged without effect - rest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the new sequence changes the value read or the value after the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Write B are not conflicting as on differen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914400" y="1995480"/>
            <a:ext cx="0" cy="14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200400" y="207180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5562720" y="199548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7924680" y="1995480"/>
            <a:ext cx="0" cy="119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2209680"/>
            <a:ext cx="96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2529000" y="2209680"/>
            <a:ext cx="13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5043600" y="220968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7253280" y="2209680"/>
            <a:ext cx="12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il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chedule S is conflict serialisable if it is conflict equivalent to a serial schedu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wo schedules are conflict equivalent if one can be transformed into the other by a series of swaps of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non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ing 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440" y="222732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>
            <a:off x="3214800" y="42210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811680" y="37162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14400" y="331632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5805360" y="339264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371600" y="302580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6781680" y="302580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458640" y="5564160"/>
            <a:ext cx="8150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440" y="193824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3214800" y="406548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3811680" y="36100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14400" y="299880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5805360" y="307512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1371600" y="270828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6781680" y="270828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1390680" y="5516640"/>
            <a:ext cx="690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- Requires moving write A passed read A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not allowed as they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1440" y="16016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027"/>
          <p:cNvSpPr/>
          <p:nvPr/>
        </p:nvSpPr>
        <p:spPr>
          <a:xfrm>
            <a:off x="1440" y="16016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28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029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30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31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32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33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34"/>
          <p:cNvSpPr/>
          <p:nvPr/>
        </p:nvSpPr>
        <p:spPr>
          <a:xfrm>
            <a:off x="3505320" y="4876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s as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035"/>
          <p:cNvSpPr/>
          <p:nvPr/>
        </p:nvSpPr>
        <p:spPr>
          <a:xfrm flipV="1">
            <a:off x="685800" y="3200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36"/>
          <p:cNvSpPr/>
          <p:nvPr/>
        </p:nvSpPr>
        <p:spPr>
          <a:xfrm>
            <a:off x="228600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3516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6440" y="1483920"/>
            <a:ext cx="8331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umer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EGER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MALLIN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subsets of the integers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AL, DOUBLE PRECISIO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floating-point and double-precision floating-point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OA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floating-point with at leas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IMAL(P,D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UMERI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wit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 of whic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re to the right of the decimal poi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le schedules via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68360" y="2491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ch transaction must obtain a lock before accessing a data valu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hared lock granted allows read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clusive lock granted allows write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cks are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reques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from and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grante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y the Lock Manager pro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sures that any interleaving of concurrent transactions produces a conflict serialisable schedule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Compatibility Matri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82680" y="1341360"/>
            <a:ext cx="81500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k manager grants lock requests by referen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already granted on dat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reques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ata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e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Yes then lock types are compatible and requested lock is gr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No then requesting transaction is placed into a wait state until the lock holding transaction(s) have completed and returned the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>
            <a:off x="6019920" y="2589120"/>
            <a:ext cx="0" cy="13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3824280" y="3489480"/>
            <a:ext cx="370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igorous Two Phase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owing Phase  =  Active stat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may be request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dropp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rinking Phase  =  Partially committed or  fai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are dropp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ques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locks held until end of transaction signalled by rollback or comm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440" y="1822320"/>
            <a:ext cx="9141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4495680" y="23860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2452680" y="257184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"/>
          <p:cNvSpPr/>
          <p:nvPr/>
        </p:nvSpPr>
        <p:spPr>
          <a:xfrm flipH="1">
            <a:off x="1969920" y="3181320"/>
            <a:ext cx="253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 flipH="1">
            <a:off x="4712760" y="3790800"/>
            <a:ext cx="17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498920" y="432432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2376360" y="508644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"/>
          <p:cNvSpPr/>
          <p:nvPr/>
        </p:nvSpPr>
        <p:spPr>
          <a:xfrm flipH="1">
            <a:off x="4865760" y="569592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1754280" y="5164200"/>
            <a:ext cx="243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4726080" y="577368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2973240" y="27255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4802040" y="42498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78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(continued from previous slid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1440" y="1822320"/>
            <a:ext cx="91411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lock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ed by   programmer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s have been se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419720" y="24526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2376360" y="2637000"/>
            <a:ext cx="1725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4433760" y="416088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"/>
          <p:cNvSpPr/>
          <p:nvPr/>
        </p:nvSpPr>
        <p:spPr>
          <a:xfrm flipH="1">
            <a:off x="4713120" y="324648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82680" y="3125880"/>
            <a:ext cx="3806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ock - System 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 S (A)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4726080" y="42688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mmary of Lock Reques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895480" y="4267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28951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for W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s dead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>
            <a:off x="2362320" y="32004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prevents writers and readers accessing the same data item concurr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 schedule containing conflicting actions cannot occu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allowed schedules are conflict serialisa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starv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rs may not make progress when many Readers are accessing the same data i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ent by not granting further Shared lock requests when an eXclusive request is wait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process waiting requests in FIFO ord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41:08Z</dcterms:created>
  <dc:creator>Leo Mark</dc:creator>
  <dc:description/>
  <dc:language>en-US</dc:language>
  <cp:lastModifiedBy>Gitte Christensen</cp:lastModifiedBy>
  <cp:lastPrinted>2012-10-13T15:41:03Z</cp:lastPrinted>
  <dcterms:modified xsi:type="dcterms:W3CDTF">2012-10-13T15:49:49Z</dcterms:modified>
  <cp:revision>182</cp:revision>
  <dc:subject/>
  <dc:title>SQL powerpoint</dc:title>
</cp:coreProperties>
</file>