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4F91-4097-4930-8E1B-9CF0348E8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D09E-E2D5-4D88-91AA-EFE56CE90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8DE6-968B-42B8-A882-41DF0B36F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7172-C30D-4EBA-A8D7-3D4D98FA7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A876-A4C2-4341-80BB-65EC26CF8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C047-C791-4451-B606-47D0D10DF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A6BA-8017-4540-AA91-8D1135DF2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A0A7-EC76-4E5D-9240-7093E7E0D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9C82-2A6C-4160-A655-7C0B5A5C7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3C34-2CA0-488F-8BBB-46A081F9C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038A-33AB-455A-B94A-E4C4E3625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FCB7-4596-4B6E-A67F-D7D3035C6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42840"/>
            <a:ext cx="9191520" cy="6886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24000" y="5587920"/>
            <a:ext cx="952200" cy="936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" descr=""/>
          <p:cNvPicPr/>
          <p:nvPr/>
        </p:nvPicPr>
        <p:blipFill>
          <a:blip r:embed="rId4"/>
          <a:stretch/>
        </p:blipFill>
        <p:spPr>
          <a:xfrm>
            <a:off x="7164360" y="6421320"/>
            <a:ext cx="1274760" cy="1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566880" y="63374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Geneva"/>
              </a:rPr>
              <a:t>Slide </a:t>
            </a:r>
            <a:fld id="{2275EA67-7B05-403B-A9E4-DFD393451BE3}" type="slidenum">
              <a:rPr b="0" lang="en-GB" sz="1200" spc="-1" strike="noStrike">
                <a:solidFill>
                  <a:srgbClr val="898989"/>
                </a:solidFill>
                <a:latin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47920" cy="3887640"/>
          </a:xfrm>
          <a:prstGeom prst="rect">
            <a:avLst/>
          </a:prstGeom>
          <a:ln w="0">
            <a:noFill/>
          </a:ln>
        </p:spPr>
      </p:pic>
      <p:sp>
        <p:nvSpPr>
          <p:cNvPr id="41" name="Title Placeholder 4"/>
          <p:cNvSpPr/>
          <p:nvPr/>
        </p:nvSpPr>
        <p:spPr>
          <a:xfrm>
            <a:off x="68580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Gitte &amp; 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itle Placeholder 4"/>
          <p:cNvSpPr/>
          <p:nvPr/>
        </p:nvSpPr>
        <p:spPr>
          <a:xfrm>
            <a:off x="652320" y="620640"/>
            <a:ext cx="788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The SharpPlot Chart Wiz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arpPlot, as of v14.0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6025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took over Causeway in 2008 (v12.0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ic’s in charge since 2013 (v14.0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ainPro froz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harpRain for emulation/con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harpPlot on all plat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version 10x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harpPlot Chart Wizar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17416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The visual interpretation of data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" name="Picture 4" descr="rabbit-or-duck.jpg"/>
          <p:cNvPicPr/>
          <p:nvPr/>
        </p:nvPicPr>
        <p:blipFill>
          <a:blip r:embed="rId1"/>
          <a:stretch/>
        </p:blipFill>
        <p:spPr>
          <a:xfrm>
            <a:off x="1928880" y="1643040"/>
            <a:ext cx="53956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The SharpPlot Chart Wizard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6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isually explore workspace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actively experiment chart settin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duce images (many forma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utomate chart generation from similar data (produce APL scrip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Live Demo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07:31:57Z</dcterms:created>
  <dc:creator>Nicolas</dc:creator>
  <dc:description/>
  <dc:language>en-US</dc:language>
  <cp:lastModifiedBy>Nicolas</cp:lastModifiedBy>
  <cp:lastPrinted>2014-08-15T09:52:37Z</cp:lastPrinted>
  <dcterms:modified xsi:type="dcterms:W3CDTF">2014-09-22T20:33:32Z</dcterms:modified>
  <cp:revision>28</cp:revision>
  <dc:subject/>
  <dc:title>Slide 0</dc:title>
</cp:coreProperties>
</file>